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9.png" ContentType="image/png"/>
  <Override PartName="/ppt/media/image8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6967-1A28-4705-93D2-F99623F854A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6596-DC0C-4DDE-A88F-212CED617A6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DAB7-3D04-46FA-98FD-659B9E233FE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B8F-D540-401A-A916-E5EC98E1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43D-A416-4139-B421-284C6E6F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941-B014-47F2-9307-0B8F42BA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0BB-4C0C-42C5-97BE-44E9F4B6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44F1-CEBE-4D90-A33F-8AB5BC03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EA0C-3604-4835-B719-4A50F2CA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CA68-B1B5-4161-A77E-EC8B8EF6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B488-B559-4B73-845B-44F0EE78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AE03-CB80-4259-A02C-4DA518CF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B463-5485-4A58-B9D8-FF4A735A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E344-44BF-46B0-9BDC-8677FF2B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E40-8923-4F7C-B445-B00FA149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1D85-8009-4FF1-BDF3-7B4D1C26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1380-B035-496E-A94A-B6B2291B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FA87-483B-43EF-991E-D176EA5C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495A-8556-4772-A3D4-5EE5DA64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A0B1-B2FF-4AA9-815F-89BC4B0E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0DC-29C8-4266-BE0B-C26CA677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117-675E-45C1-B05D-65A49895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F39-0566-43C7-B035-6E2E9F0E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74F-3AA9-4D39-BF14-5FDC0F1C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8369-2128-427B-980C-05BE9A5D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1C7-0692-45B2-9DAF-9814743A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97E-B0F8-4912-BBC0-D6513B8D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9852-B0EF-4B6D-9913-21BE9C23B0E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CB87-61D7-4DA3-A8F5-70E30FE2CC0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wiat-innaczej.blog.onet.pl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metromsn.gazeta.pl/Lifestyle/1,126513,13600030,Od_lipca_rusza_refundacja_zabiegow_in_vitro__Z_programu.html" TargetMode="External"/><Relationship Id="rId3" Type="http://schemas.openxmlformats.org/officeDocument/2006/relationships/hyperlink" Target="http://metromsn.gazeta.pl/Lifestyle/1,126513,13600030,Od_lipca_rusza_refundacja_zabiegow_in_vitro__Z_programu.html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farmio.com/wady-i-zalety-gmo-wedlug-przeciwnikow-i-zwolennikow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naukawpolsce.pap.pl/aktualnosci/news,393631,o-bakteriach-i-hodowli-in-vitro-podczas-nocy-biologow-w-lublinie.html" TargetMode="External"/><Relationship Id="rId3" Type="http://schemas.openxmlformats.org/officeDocument/2006/relationships/hyperlink" Target="http://www.naukawpolsce.pap.pl/aktualnosci/news,393631,o-bakteriach-i-hodowli-in-vitro-podczas-nocy-biologow-w-lublinie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m.onet.pl/wiedza-swiat/nauka,x5mgf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y nauka dziś nie budzi wątpliwości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lonowanie zwierząt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rgumenty przeciwnikó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ylematy natury moraln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chwianie idei różnorodności gatunkowej przy klonowaniu na dużą skalę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onowanie jest bardzo kosztown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klonowany organizm  ma taki sam wiek genetyczny jak dawc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atność na chorob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Ty jak uważasz? Pomyśl chwilę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6443640" y="260280"/>
            <a:ext cx="1751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lonowanie zwierząt, to trudna kwestia,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udząca wiele wątpliwości,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klonowanie ludzi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Czy to w ogóle jest możliwe…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wody, dla których aktualnie prowadzi się badania nad klonowaniem ludzi, są następując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dzieje na otrzymanie naturalnych implantów (np. skóry) i organów do przeszczepu, które, dzięki temu, że będą identyczne genetyczn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 tkankami chorego, nie będą odrzucane przez system immunologiczn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wadzenie badań nad biochemicznym mechanizmem starze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możliwościami cofania lub zatrzymywania tego proces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wijanie technik sztucznego zapłodnienia – umożliwiające urodzenie dziecka, które posiada geny przynajmniej jednego z rodzic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liwość ponownego urodzenia noworodków, które są zdrowe genetycznie, ale zostały nieodwracalnie uszkodzone na skutek ciężkiego przebiegu ciąży lub porod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krajnymi, ale potencjalnie wykonalnymi celami technik klonowania ludzi s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sowa produkcja klonów, w celu np. tworzenia z nich zastępów tanich żołnierzy albo niewolnik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klonów pozbawionych mózgu w celu używania ich jako „zapasowych ciał”. W razie np. nieuleczalnej choroby albo śmierci na skutek urazu istniałaby możliwość wszczepienia mózgu do organizmu „pustego” klona i dalsze życi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dorosłych klonów w celu pozyskiwania z nich cennych organów do przeszczep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klonów jako forma świadomego sterowania cechami potomstwa - np. zamiast rodzić „niepewne genetycznie” dzieci, można by mieć dziecko-klona – identycznego ze sobą samym lub innym członkiem rodziny, lub „zamówić” sobie dziecko – klona osoby obdarzonej szczególnymi talent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westia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aw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ktualnie w większości krajów wysoko rozwiniętych  zakazano prowadzenia badań nad klonowaniem ludzi w celu ich powielan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wo dopuszcza jednak w mniejszym lub większym stopniu, na bad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 klonowaniem tkanek i embrionów ludzkich w celach medycz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ecenie dla uczni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ięgnij do materiałów do dyskusj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poznaj się z treścią artykułów i zrób notatki. Zastanów się, czy prowadzić nadal badania nad klonowaniem ludzi. Jakie mogą być plusy, jakie zagrożeni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ie jest Twoje zdan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7093080" y="260280"/>
            <a:ext cx="1751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my zmodyfikowane genetycznie (GMO od ang. Genetically Modified Organisms) = organizmy transgeniczne- to organizmy, których geny zostały celowo zmienione przez człowieka. Organizmy te zostały zmienione przy pomocy metod inżynierii genetycznej, w celu uzyskania nowych lub zmiany naturalnych cech fizjologicz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Historia GMO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adania nad genetycznie modyfikowanymi organizmami rozpoczęt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latach 70 ubiegłego wieku. Na dużą skalę zaczęto sprzedaż komercyjną dopiero w roku 1994 w Stanach Zjednoczonych. Dopuszczono wtedy do sprzedaży pomidory, wyprodukowane przez firmę Calgen, z Kalifornii. Ich sprzedaż prowadzona była tylko przez kilka lat, gdyż produkcja okazała się nieopłacalna. Zmniejszono w nich aktywność genu odpowiadającego za proces dojrzewania i mięknięcia pomidora, co pozwoliło na dłuższą przydatność do spożycia, zachowanie lepszego smaku i możliwość sprzedaży w wyższych cena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000" y="14842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prawy GMO znajdują się już w 28 krajach na świecie, ale zdecydowanym liderem w zakresie ich powierzchni są nieprzerwanie Stany Zjednoczone. Poza tymi 28 krajami, 31 państw – w tym Polska – dopuszcza import produktów G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360" y="4581000"/>
            <a:ext cx="404172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Rys.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wiat-innaczej.blog.onet.pl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5508720" y="177336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PŁODNIENIE </a:t>
            </a: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IN VI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toda zapłodnienia, polegająca na doprowadzeniu do połączenia komórki jajowej i plemnik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warunkach laboratoryjnych, poza żeńskim układem rozrodcz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778280" y="2492280"/>
            <a:ext cx="3194280" cy="212580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6"/>
          <p:cNvSpPr/>
          <p:nvPr/>
        </p:nvSpPr>
        <p:spPr>
          <a:xfrm>
            <a:off x="4716360" y="4653000"/>
            <a:ext cx="39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etromsn.gazeta.pl/Lifestyle/1,126513,13600030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Od_lipca_rusza_refundacja_zabiegow_in_vitro__Z_programu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 GMO są dobre, czy zł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w większości trudnych zagadnień znajdziemy wielu zwolenników, a także zagorzałych przeciwników, spierających się na argumen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145" name="pole tekstowe 10"/>
          <p:cNvSpPr/>
          <p:nvPr/>
        </p:nvSpPr>
        <p:spPr>
          <a:xfrm>
            <a:off x="5292720" y="4869000"/>
            <a:ext cx="41752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armio.com/wady-i-zalety-gmo-wedlug-przeciwnikow-i-zwolennikow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wolennicy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twarzanie roślin bardziej odpornych na trudne warunki atmosferyczne- suszę, mróz, zasolenie- co pozwoli na utrzymanie produkcji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nacznie większa odporność na chorob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ększenie plonów, na stosunkowo mniejszej powierzchni ziemi, co powoduje mniejsze koszty upraw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szczędność paliwa, czas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maszyn, w związku ze znacznie mniejszym stosowaniem pestycyd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5003640" y="2852640"/>
            <a:ext cx="3265560" cy="1327320"/>
          </a:xfrm>
          <a:prstGeom prst="rect">
            <a:avLst/>
          </a:prstGeom>
          <a:ln w="0">
            <a:noFill/>
          </a:ln>
        </p:spPr>
      </p:pic>
      <p:sp>
        <p:nvSpPr>
          <p:cNvPr id="149" name="pole tekstowe 5"/>
          <p:cNvSpPr/>
          <p:nvPr/>
        </p:nvSpPr>
        <p:spPr>
          <a:xfrm>
            <a:off x="5003640" y="4221000"/>
            <a:ext cx="414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http://odkrywcy.pl/kat,111404,title,Zwolennicy-GMO-prof-Weglenski,wid,13707963,wiadomosc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wolenn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żywanie mniejszej ilości nawozów, płytsza orka i mniejsze zużycie wody, w związku z tym zmniejszenie erozji gleb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krajach, gdzie brakuje żywności oraz w tych z wysokim zaludnieniem, wzrost plon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polepszenie jakości produktu pomogą likwidować głó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niżenie kosztów produkcji szczepionek- tworzenie roślin zdolnych do produkcji szczepionek, hormonów, bądź innych związków wykorzystywanych w przemyśle farmaceutyczny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kosmetyczny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zmodyfikowanych roślin przeznaczonych do rekultywacji nieużytków poprzemysłowych (na przykład hałd), bądź roślin przeznaczonych do oczyszczania wó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łuższy termin przydatności do spożyci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5148360" y="4221000"/>
            <a:ext cx="2944800" cy="1944720"/>
          </a:xfrm>
          <a:prstGeom prst="rect">
            <a:avLst/>
          </a:prstGeom>
          <a:ln w="0">
            <a:noFill/>
          </a:ln>
        </p:spPr>
      </p:pic>
      <p:sp>
        <p:nvSpPr>
          <p:cNvPr id="154" name="pole tekstowe 6"/>
          <p:cNvSpPr/>
          <p:nvPr/>
        </p:nvSpPr>
        <p:spPr>
          <a:xfrm>
            <a:off x="5148360" y="6308640"/>
            <a:ext cx="399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http://www.twojaeuropa.pl/259/gmo—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-blogoslawienstwo-czy-przeklenstw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wolenn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żywności wzbogaconej o białka, witaminy i inne produkty odżywcz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łatwość masowego przemysłowego uprawiani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ałania dotyczące ochrony środowisk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biopaliw z GM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 zwiększenie bezpieczeństwa energetycznego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ezydium Polskiej Akademii Nauk stoi na stanowisku, ż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GMO zwiększa produkcję pasz       i żywności o lepszych walorach odżywczych i zdrowotnych, zmniejsza energochłonność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i chemizację rolnictwa oraz jest wykorzystywane w produkcji bioleków, bioenergii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i biomateriał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GMO tomato. Genetically modified food concept"/>
          <p:cNvPicPr/>
          <p:nvPr/>
        </p:nvPicPr>
        <p:blipFill>
          <a:blip r:embed="rId1"/>
          <a:stretch/>
        </p:blipFill>
        <p:spPr>
          <a:xfrm>
            <a:off x="6875640" y="4508640"/>
            <a:ext cx="1882440" cy="1800000"/>
          </a:xfrm>
          <a:prstGeom prst="rect">
            <a:avLst/>
          </a:prstGeom>
          <a:ln w="0">
            <a:noFill/>
          </a:ln>
        </p:spPr>
      </p:pic>
      <p:sp>
        <p:nvSpPr>
          <p:cNvPr id="159" name="Prostokąt 6"/>
          <p:cNvSpPr/>
          <p:nvPr/>
        </p:nvSpPr>
        <p:spPr>
          <a:xfrm>
            <a:off x="6804000" y="6021360"/>
            <a:ext cx="20890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7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 http://mw.biz.pl/gmo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eciwn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przestrzenianie się zmodyfikowanych genów na inne rośliny rosnąc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sąsiedztwie, bądź na inne organizmy ży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jście genów odpowiedzialnych za odporność do chwast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powstanie w ten sposób chwastów bardzo mocnych, trudnych do pokonani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yzyko dla owadów zapylających kwiaty roślin zmodyfikowa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osy, pszczoły, trzmiele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bezpieczeństwo związane z przepływem toksyn z roślin do gleb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stworzenie zagrożenia dla żyjących w niej zwierzą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516720" y="4292640"/>
            <a:ext cx="2109600" cy="2141640"/>
          </a:xfrm>
          <a:prstGeom prst="rect">
            <a:avLst/>
          </a:prstGeom>
          <a:ln w="0">
            <a:noFill/>
          </a:ln>
        </p:spPr>
      </p:pic>
      <p:sp>
        <p:nvSpPr>
          <p:cNvPr id="163" name="pole tekstowe 6"/>
          <p:cNvSpPr/>
          <p:nvPr/>
        </p:nvSpPr>
        <p:spPr>
          <a:xfrm>
            <a:off x="6443640" y="6453360"/>
            <a:ext cx="27003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http://ecowawa.pl/index.php/artykuly/id/2/209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eciwn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korzystny wpływ na bioróżnorodność organizm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prawy etyczne stosow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uprawie roślin transgeniczny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liwy negatywny wpływ GMO na zdrowie człowieka, m.in. częstsze występowanie alergi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zależnienie rolników od korporacji biotechnologicznych, będących właścicielami patentów na nasion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etodlagmo.pl/index.php/do-pobrania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5192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eciwn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szłości mogą występować mutacj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ubożenie gatunków rośli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możliwości odwrócenia skutków GM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eny odpornościowe dodawane roślinom, mogą zwiększa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 człowieka odporność na antybioty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003640" y="1898640"/>
            <a:ext cx="2857680" cy="198108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6"/>
          <p:cNvSpPr/>
          <p:nvPr/>
        </p:nvSpPr>
        <p:spPr>
          <a:xfrm>
            <a:off x="5003640" y="3933720"/>
            <a:ext cx="3240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nonx.pl/czy-unia-europejska-czy-rzad-rp-niszczy-polskie-rolnictwo-skazujac-polakow-na-korporacyjneniewolnictwo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ecenie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la uczni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Ty jak sądzisz? Po której stronie się opowiadasz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tanów się, przygotuj swoje argumenty do dyskusji i zapisz je skrótowo w materiałach, które otrzymałeś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Śmiało, wyraź swoje zdanie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7020000" y="189000"/>
            <a:ext cx="1751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praszam do dyskusji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C:\Documents and Settings\Olguś\Ustawienia lokalne\Temporary Internet Files\Content.IE5\EMGI2Y4V\MC900441762[1].png"/>
          <p:cNvPicPr/>
          <p:nvPr/>
        </p:nvPicPr>
        <p:blipFill>
          <a:blip r:embed="rId1"/>
          <a:stretch/>
        </p:blipFill>
        <p:spPr>
          <a:xfrm>
            <a:off x="5796000" y="1268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Olguś\Ustawienia lokalne\Temporary Internet Files\Content.IE5\5WV84BV5\MC900441755[1].png"/>
          <p:cNvPicPr/>
          <p:nvPr/>
        </p:nvPicPr>
        <p:blipFill>
          <a:blip r:embed="rId2"/>
          <a:stretch/>
        </p:blipFill>
        <p:spPr>
          <a:xfrm>
            <a:off x="611280" y="134136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Olguś\Ustawienia lokalne\Temporary Internet Files\Content.IE5\VOURK1VJ\MC900389218[1].wmf"/>
          <p:cNvPicPr/>
          <p:nvPr/>
        </p:nvPicPr>
        <p:blipFill>
          <a:blip r:embed="rId3"/>
          <a:stretch/>
        </p:blipFill>
        <p:spPr>
          <a:xfrm>
            <a:off x="3635280" y="3357720"/>
            <a:ext cx="194472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rochę histo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WI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ukces zapłodnienia in vitro został odniesiony przez Roberta Edwardsa, fizjologa z Cambridge we współpracy z ginekologiem-położnikiem Patrickiem Stepto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lipcu 1978 roku na świat przyszła w Wielkiej Brytanii Louise J. Brown, pierwsze „dziecko z probówki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bert Edwards w 2010 roku otrzymał Nagrodę Nobla w dziedzinie fizjologii i medycyny za to odkryc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LSK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olsce, pierwsze dziecko metodą zapłodnienia  in vitro przyszło na świat 9 lat po pierwszych takich narodzinach na świecie, w 1987 roku w Klinice Ginekologii Akademii Medycznej, w Białymstoku, kierowanej przez prof. Mariana Szamatowicz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westia spor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In vitro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dal pozostaje w naszym kraju kwestią sporną. Po jednej stronie mamy naukowców, którzy swoje poparcie uzasadniają tym, że bezpłodność jest chorobą, a zapłodnienie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in vitro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nic innego jak metoda leczenia, a w opozycji znajduje się Kościół katolicki, dla którego jest to łamanie praw naturalnych i boż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C:\Documents and Settings\Olguś\Pulpit\grafika\2.jpg"/>
          <p:cNvPicPr/>
          <p:nvPr/>
        </p:nvPicPr>
        <p:blipFill>
          <a:blip r:embed="rId1"/>
          <a:stretch/>
        </p:blipFill>
        <p:spPr>
          <a:xfrm>
            <a:off x="5580000" y="3933720"/>
            <a:ext cx="3265560" cy="216540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4"/>
          <p:cNvSpPr/>
          <p:nvPr/>
        </p:nvSpPr>
        <p:spPr>
          <a:xfrm>
            <a:off x="5508720" y="6093000"/>
            <a:ext cx="363528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aukawpolsce.pap.pl/aktualnosci/news,393631,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-bakteriach-i-hodowli-in-vitro-podczas-nocy-biologow-w-lublin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ecenie dla ucznió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raz sięgnij do materiałów do dyskusji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zapoznaj się z argumentami zwolenników oraz przeciwników zapłodnienia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in vitro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zakończeniu wykładu rozpoczniemy dyskusj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6443640" y="260280"/>
            <a:ext cx="1751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LONOWANIE SSAKÓ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836280"/>
            <a:ext cx="8218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onowanie jest to proces prowadzący do powstania klonu, mający na celu wytworzenie potomstwa identycznego pod względem cech i budowy somatycznej, jakie posiada organizm macierzysty. Klon, to organizmu zawierający identyczny lub prawie identyczny materiał genetycz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języku potocznym klonowaniem nazywamy procesu uzyskiwania kopii identycznej, jak orygina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dzisiejszych czasach opanowano metody klonowania wielu gatunków roślin oraz zwierzą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onowanie w przypadku zwierząt zazwyczaj polega na przeniesieniu jądra komórki somatycznej pobranej z klonowanego osobnika, do komórki jajowej pozbawionej jądr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Historia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adania nad klonowaniem zwierząt trwały od początku lat 30 ubiegłego wieku. Pierwszym sklonowanym ssakiem była owca Dolly- 1996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 momentu sklonowania owcy Dolly naukowcy zaczęli zastanawiać się i pracować nad możliwością klonowania ludzi. Rozpoczęto prace. Doniesienia wskazywały, że w 2004r. grupie koreańskich badaczy udało się sklonować ludzki embrion. Okazało się to jednak oszustwem. Istnieje także wiele doniesień o tym, że badania wyszły poza fazę sklonowania embrionu, ale nie ma żadnych oficjalnych informacji, jakoby te dane miały być prawdziw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lonowanie ssaków jest kwestią sporną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wywiązuje się wokół tego tematu szeroka dyskus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871800" cy="2673360"/>
          </a:xfrm>
          <a:prstGeom prst="rect">
            <a:avLst/>
          </a:prstGeom>
          <a:ln w="0">
            <a:noFill/>
          </a:ln>
        </p:spPr>
      </p:pic>
      <p:sp>
        <p:nvSpPr>
          <p:cNvPr id="118" name="pole tekstowe 5"/>
          <p:cNvSpPr/>
          <p:nvPr/>
        </p:nvSpPr>
        <p:spPr>
          <a:xfrm>
            <a:off x="2700360" y="5950080"/>
            <a:ext cx="39592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3 Owca Dol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Ż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.onet.pl/wiedza-swiat/nauka,x5mg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lonowanie zwierząt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rgumenty zwolenników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liwość uzyskania genetycznie zmodyfikowanych narządów zwierzęcych nadających się na przeszczepy dla ludz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worzenie stada hodowlanego z wyselekcjonowanych,  dobrych osobnik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adanie nad możliwością sklonowania już wymarłych gatunków zwierzą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klonowanie zwierząt zagrożonych wyginięcie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onowanie dorosłych osobników z chorobami, podobnymi do ludzki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prowadzenie badań na większą skalę nad wynalezieniem leku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6-14T19:29:01Z</dcterms:modified>
  <cp:revision>29</cp:revision>
  <dc:subject/>
  <dc:title>Slajd 1</dc:title>
</cp:coreProperties>
</file>