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E73F-2FD9-454C-9EE6-B1B9ADEBDB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3262-EAC8-4371-BAC0-3BC935F55A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9FF4-6AED-4F3A-9DF8-4922955E5D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C2D1-9C68-4012-BFEC-DC1B5E8A42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1A54-E57B-4781-9CB7-79302A7991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31B-B538-433B-9E3F-23485F14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059-8072-48F7-9735-AC086B35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C1E-6154-41EA-B6D7-A0697D3B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3A1-FC92-42A4-8EAC-AAB6D7B4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B5BB-3B64-4803-B600-0760F5D9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5B21-4BA3-4F6D-8AB5-4133280B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39E5-494C-4A4F-A53E-B6887FE0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762B-38C6-4354-ABCD-B2D02329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DD7C-102A-40DC-812F-0AB2E1EB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9381-F2C6-4061-92D1-38953769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9F73-05C3-423E-B7A3-FB5E91F9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D4C-306A-4483-9CC0-71C581E5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622B-90E2-446D-BC3F-A948E566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2D0F-F3A9-4571-B03A-24893407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BA7F-F808-4CCE-AFA3-BA30B6CA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3C1B-759C-4F58-9974-F22501ED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80EC-1DD4-4256-B15E-9E64F72E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0B6E9-382A-496E-AED8-1B54DF69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7360-D72B-44D6-8C2E-B694CE2B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DBF5-4E15-400C-87BC-D72568B7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3C6F-9ECB-4CC0-B279-4533E47D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36C8-A348-496D-B214-05D3F18A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E8B-C1F4-4393-B52D-2C3A9C27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6E7B-FC20-40E2-A36F-92252CBE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0363-2400-4E01-8CCC-C1982DE5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302A-6135-4340-8A40-366DB65D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A770D-1930-42E1-8078-FF59EE5E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1FCEF-0C2A-418D-852E-DF8B2BF0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B2EDD-6EED-496A-A1B5-8D3F0A22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9CA06-25F9-486A-9987-161C7CE5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428A-6BF5-46D6-81DF-9705E23C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2D0F-5AD2-4EB7-8D0D-ADCA707F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72D54-48D4-47A2-9D40-222EF746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50F-59F9-425D-8078-82488A80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7C982-76D8-4256-9433-DCFD79C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9E817-BCF8-436C-B3D3-C2F487F5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70735-9882-4284-A968-39EAE547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4BD8-CD44-4135-991C-39E5C5CD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372F-0BB7-45A2-85DA-6F4075DC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4D4A0-F783-414E-B73D-792F004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DCD68-33C7-41A1-8C57-4971F259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5D998-21D6-4226-B305-6AD9E8AB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9CB77-54DE-4AA3-A224-60E173E3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E00C0-73E1-4C83-A71D-760867A9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45C-9701-493D-AC07-B7DFDEF9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3ED3-90B3-4914-BF45-F4FF51DB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9910D-C3F5-4B17-BFC7-E8010E3E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A95E7-184B-409F-8854-E8AED9A5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DDDF5-CD41-4064-B863-A596F0E0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A9617-314D-44BC-830C-A5526836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B5DA2-B557-4EF4-952E-D156EE39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C2498-39EB-4AC9-9E83-24EBFC5E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2A4FE-3E38-4C48-9488-438DC329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6773B-13D9-42C5-B51E-1A0BF320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C5E58-92FF-4062-A00C-597DABFB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FE1-BE6D-4972-A07D-14783CD6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1B4E-5465-4148-8797-DECB5861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C3783-F563-43C7-93B3-D0853A03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25214-5DDF-429B-BC01-01E0FDAC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419B8-0C26-4BAF-AA98-9A203CCB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A4125-3EC4-4395-BB21-095AAD72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A14CD-555C-4AA2-93A0-89A0731F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6D276-0801-416B-944B-4EFD3F85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EDE7-1371-49A3-AD6B-B4F02077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980A7-2FAB-4074-A3EE-26321B50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1C506-FF14-435F-8795-32F361C4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799-4BC9-4E05-AE7C-83F81E70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E4835-0708-4056-9D40-85629801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74B79-4AB7-4CD2-9526-8F11DF0C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A176-A275-4E5F-9DB5-F5F831C6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DC002-62C6-440A-A274-BF005C6B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11E23-F69A-4157-8CE7-938B45B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85FAD-D667-4EEE-A458-75C4DA98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7B620-610D-4D04-9773-35B5B864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9588-A766-4211-B5BC-D55534D1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86FC-2DFE-4C58-ABE2-7985B77D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28F9A-2886-4ED1-A241-8BEDF450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0B6-A6FB-458D-B983-147879B1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4B89E-88CE-4091-8F0E-5ADA9022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0D8F1-A4C0-4D06-B33C-37F146C1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82797-F6BB-4661-978C-FE66296E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1BC96-F478-4ECA-A208-FA04F602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F9AB0-20EF-41DB-99A6-448ED54A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FA8-6336-41C4-8630-9B971B22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BBEC-B0AA-4C7E-9C2B-1485FD77B6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0185-1B43-44D4-8AB5-1C51903ACB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A6B9-5096-42F5-989F-EC2E436DCB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1547-C435-4E6A-BB2B-07FAB52596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7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7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B5C2-2DB3-4DCC-9985-E7E806778F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17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18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6896-132D-4F60-99DA-CC67D198EC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6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3EDC-2641-4AD5-8C6A-E14C45908D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676440" y="1500120"/>
            <a:ext cx="7877160" cy="1535040"/>
          </a:xfrm>
          <a:prstGeom prst="rect">
            <a:avLst/>
          </a:prstGeom>
          <a:ln w="0">
            <a:noFill/>
          </a:ln>
        </p:spPr>
      </p:pic>
      <p:pic>
        <p:nvPicPr>
          <p:cNvPr id="313" name="Title 1" descr=""/>
          <p:cNvPicPr/>
          <p:nvPr/>
        </p:nvPicPr>
        <p:blipFill>
          <a:blip r:embed="rId2"/>
          <a:stretch/>
        </p:blipFill>
        <p:spPr>
          <a:xfrm>
            <a:off x="603360" y="3352680"/>
            <a:ext cx="7785000" cy="1481400"/>
          </a:xfrm>
          <a:prstGeom prst="rect">
            <a:avLst/>
          </a:prstGeom>
          <a:ln w="0">
            <a:noFill/>
          </a:ln>
        </p:spPr>
      </p:pic>
      <p:pic>
        <p:nvPicPr>
          <p:cNvPr id="314" name="Obraz 6" descr="nagłówek_cz_b_poz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315" name="Obraz 7" descr="stopka_cz_b_poz.gif"/>
          <p:cNvPicPr/>
          <p:nvPr/>
        </p:nvPicPr>
        <p:blipFill>
          <a:blip r:embed="rId4"/>
          <a:stretch/>
        </p:blipFill>
        <p:spPr>
          <a:xfrm>
            <a:off x="0" y="6189840"/>
            <a:ext cx="9159840" cy="668160"/>
          </a:xfrm>
          <a:prstGeom prst="rect">
            <a:avLst/>
          </a:prstGeom>
          <a:ln w="0">
            <a:noFill/>
          </a:ln>
        </p:spPr>
      </p:pic>
      <p:sp>
        <p:nvSpPr>
          <p:cNvPr id="316" name="Prostokąt zaokrąglony 11"/>
          <p:cNvSpPr/>
          <p:nvPr/>
        </p:nvSpPr>
        <p:spPr>
          <a:xfrm>
            <a:off x="914400" y="3068640"/>
            <a:ext cx="7343640" cy="647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Title 1" descr=""/>
          <p:cNvPicPr/>
          <p:nvPr/>
        </p:nvPicPr>
        <p:blipFill>
          <a:blip r:embed="rId5"/>
          <a:stretch/>
        </p:blipFill>
        <p:spPr>
          <a:xfrm>
            <a:off x="907920" y="4102200"/>
            <a:ext cx="77853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8" name="Diagram 1" descr=""/>
          <p:cNvPicPr/>
          <p:nvPr/>
        </p:nvPicPr>
        <p:blipFill>
          <a:blip r:embed="rId2"/>
          <a:stretch/>
        </p:blipFill>
        <p:spPr>
          <a:xfrm>
            <a:off x="407880" y="1023840"/>
            <a:ext cx="8401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335640" cy="48625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397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arzec 1919 r.</a:t>
            </a:r>
            <a:br>
              <a:rPr sz="4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rudzień 1919 r.</a:t>
            </a:r>
            <a:br>
              <a:rPr sz="4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1832040" y="1197000"/>
            <a:ext cx="5904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640" y="572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erwiec 1920 r.</a:t>
            </a:r>
            <a:br>
              <a:rPr sz="4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62658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1280" y="5730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ierpień 1920 r.</a:t>
            </a:r>
            <a:br>
              <a:rPr sz="4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64087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33440" y="1878120"/>
            <a:ext cx="7881840" cy="1687320"/>
          </a:xfrm>
          <a:prstGeom prst="rect">
            <a:avLst/>
          </a:prstGeom>
          <a:ln w="0">
            <a:noFill/>
          </a:ln>
        </p:spPr>
      </p:pic>
      <p:pic>
        <p:nvPicPr>
          <p:cNvPr id="352" name="Title 1" descr=""/>
          <p:cNvPicPr/>
          <p:nvPr/>
        </p:nvPicPr>
        <p:blipFill>
          <a:blip r:embed="rId2"/>
          <a:stretch/>
        </p:blipFill>
        <p:spPr>
          <a:xfrm>
            <a:off x="633240" y="-6480"/>
            <a:ext cx="77853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4" name="Diagram 1" descr=""/>
          <p:cNvPicPr/>
          <p:nvPr/>
        </p:nvPicPr>
        <p:blipFill>
          <a:blip r:embed="rId2"/>
          <a:stretch/>
        </p:blipFill>
        <p:spPr>
          <a:xfrm>
            <a:off x="433440" y="1365120"/>
            <a:ext cx="84484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6" name="Diagram 2" descr=""/>
          <p:cNvPicPr/>
          <p:nvPr/>
        </p:nvPicPr>
        <p:blipFill>
          <a:blip r:embed="rId2"/>
          <a:stretch/>
        </p:blipFill>
        <p:spPr>
          <a:xfrm>
            <a:off x="158760" y="981000"/>
            <a:ext cx="8790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8" name="Diagram 2" descr=""/>
          <p:cNvPicPr/>
          <p:nvPr/>
        </p:nvPicPr>
        <p:blipFill>
          <a:blip r:embed="rId2"/>
          <a:stretch/>
        </p:blipFill>
        <p:spPr>
          <a:xfrm>
            <a:off x="901800" y="1262160"/>
            <a:ext cx="736416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23040" cy="4918320"/>
          </a:xfrm>
          <a:prstGeom prst="rect">
            <a:avLst/>
          </a:prstGeom>
          <a:ln w="0">
            <a:noFill/>
          </a:ln>
        </p:spPr>
      </p:pic>
      <p:sp>
        <p:nvSpPr>
          <p:cNvPr id="361" name="Title 1"/>
          <p:cNvSpPr/>
          <p:nvPr/>
        </p:nvSpPr>
        <p:spPr>
          <a:xfrm>
            <a:off x="46836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www.wikipedia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ounded Rectangle 4"/>
          <p:cNvSpPr/>
          <p:nvPr/>
        </p:nvSpPr>
        <p:spPr>
          <a:xfrm>
            <a:off x="395280" y="1268280"/>
            <a:ext cx="7705800" cy="482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19972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2552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biory Polski w latach 1772 – 17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ształtowanie granicy wschodn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jna polsko-ukraiń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jna polsko-bolszew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flikt polsko-lite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raktat ry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anice Polski na wschodz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ytuł 1" descr=""/>
          <p:cNvPicPr/>
          <p:nvPr/>
        </p:nvPicPr>
        <p:blipFill>
          <a:blip r:embed="rId1"/>
          <a:stretch/>
        </p:blipFill>
        <p:spPr>
          <a:xfrm>
            <a:off x="560520" y="328680"/>
            <a:ext cx="8205480" cy="1152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68000" y="1341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rzoza Czesław – Polska w czasach niepodległości i II wojny światow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918-1945), Kraków 200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szko Józef – Historia Polski 1864-1948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hojnowski Andrzej – Koncepcje polityki narodowościowej rządów polski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 latach 1921-1931, Warszawa 197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avies Norman – Boże Igrzysko, Historia Polski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aryś Janusz – Historia Polski 1918-1939, Poznań 199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arlicki Andrzej – Józef Piłsudski 1867-1935, Warszawa 198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opczyński Władysław - Historia polityczna Polski : 1914-1939, Warszaw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roczka Ludwik – Spór o Galicje Wschodnią, Kraków 199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jewski Janusz – Odbudowa Drugiej Rzeczypospolitej 1918-1926, Kraków 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czepański Janusz – Społeczeństwo polskie w walce z najazdem bolszewicki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20 roku, Warszawa-Pułtusk 20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uletyn Instytutu Pamięci Narodowej nr 11-12, IPN Listopad- Grudzień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ytuł 1" descr=""/>
          <p:cNvPicPr/>
          <p:nvPr/>
        </p:nvPicPr>
        <p:blipFill>
          <a:blip r:embed="rId1"/>
          <a:stretch/>
        </p:blipFill>
        <p:spPr>
          <a:xfrm>
            <a:off x="-6480" y="1908000"/>
            <a:ext cx="9156960" cy="1889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1496880" y="1125360"/>
            <a:ext cx="6743880" cy="52848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609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i:Partitions_of_Poland.png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5" name="Diagram 5" descr=""/>
          <p:cNvPicPr/>
          <p:nvPr/>
        </p:nvPicPr>
        <p:blipFill>
          <a:blip r:embed="rId2"/>
          <a:stretch/>
        </p:blipFill>
        <p:spPr>
          <a:xfrm>
            <a:off x="701640" y="1474920"/>
            <a:ext cx="75945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ontent Placeholder 3" descr=""/>
          <p:cNvPicPr/>
          <p:nvPr/>
        </p:nvPicPr>
        <p:blipFill>
          <a:blip r:embed="rId1"/>
          <a:stretch/>
        </p:blipFill>
        <p:spPr>
          <a:xfrm>
            <a:off x="396720" y="1560600"/>
            <a:ext cx="8345520" cy="4651200"/>
          </a:xfrm>
          <a:prstGeom prst="rect">
            <a:avLst/>
          </a:prstGeom>
          <a:ln w="0">
            <a:noFill/>
          </a:ln>
        </p:spPr>
      </p:pic>
      <p:pic>
        <p:nvPicPr>
          <p:cNvPr id="327" name="Title 1" descr=""/>
          <p:cNvPicPr/>
          <p:nvPr/>
        </p:nvPicPr>
        <p:blipFill>
          <a:blip r:embed="rId2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9" name="Diagram 1" descr=""/>
          <p:cNvPicPr/>
          <p:nvPr/>
        </p:nvPicPr>
        <p:blipFill>
          <a:blip r:embed="rId2"/>
          <a:stretch/>
        </p:blipFill>
        <p:spPr>
          <a:xfrm>
            <a:off x="974880" y="1390680"/>
            <a:ext cx="71085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1" name="Diagram 1" descr=""/>
          <p:cNvPicPr/>
          <p:nvPr/>
        </p:nvPicPr>
        <p:blipFill>
          <a:blip r:embed="rId2"/>
          <a:stretch/>
        </p:blipFill>
        <p:spPr>
          <a:xfrm>
            <a:off x="743040" y="1390680"/>
            <a:ext cx="7731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3" name="Diagram 1" descr=""/>
          <p:cNvPicPr/>
          <p:nvPr/>
        </p:nvPicPr>
        <p:blipFill>
          <a:blip r:embed="rId2"/>
          <a:stretch/>
        </p:blipFill>
        <p:spPr>
          <a:xfrm>
            <a:off x="407880" y="2809800"/>
            <a:ext cx="8255160" cy="3865680"/>
          </a:xfrm>
          <a:prstGeom prst="rect">
            <a:avLst/>
          </a:prstGeom>
          <a:ln w="0">
            <a:noFill/>
          </a:ln>
        </p:spPr>
      </p:pic>
      <p:sp>
        <p:nvSpPr>
          <p:cNvPr id="334" name="Prostokąt zaokrąglony 11"/>
          <p:cNvSpPr/>
          <p:nvPr/>
        </p:nvSpPr>
        <p:spPr>
          <a:xfrm>
            <a:off x="468360" y="1268280"/>
            <a:ext cx="8136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reny wschodnie zamieszkiwała ludność etnicznie zróżnicowa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ronami konfliktu był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6" name="Diagram 1" descr=""/>
          <p:cNvPicPr/>
          <p:nvPr/>
        </p:nvPicPr>
        <p:blipFill>
          <a:blip r:embed="rId2"/>
          <a:stretch/>
        </p:blipFill>
        <p:spPr>
          <a:xfrm>
            <a:off x="596880" y="1122480"/>
            <a:ext cx="780408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11:42:20Z</dcterms:created>
  <dc:creator>rena</dc:creator>
  <dc:description/>
  <dc:language>en-US</dc:language>
  <cp:lastModifiedBy>Andrzej</cp:lastModifiedBy>
  <dcterms:modified xsi:type="dcterms:W3CDTF">2013-09-01T18:06:23Z</dcterms:modified>
  <cp:revision>43</cp:revision>
  <dc:subject/>
  <dc:title>WALKI O NIEPODLEGŁOŚĆ POLSKI  W LATACH 1918 - 1921</dc:title>
</cp:coreProperties>
</file>