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F83-2314-46D1-AEE2-5CAF77D62D0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0E3B-B3C6-495A-8D5A-FA2EF39F1D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140-FCCD-4D8A-BF1F-13733C6500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A19-17B0-4F43-960D-BF51FFC66A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C11A-19AF-453D-B05E-851004BBC4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170-5D03-4D5F-8CB0-3C12304155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E2F-811B-4FCD-BCDC-698C94206E9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53B2-E2ED-4140-BA1C-D4A0A342ED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D6E-5C81-4B5B-AFF9-F6A2C37DE5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6E2-0E7E-47B5-B7D6-CA30C638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B74-54E6-4CC2-B501-EE1E73FB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BE4-DF01-4DFC-9ABF-107A06F2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F75-4D6A-457B-AE36-14B98036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EDEB-EA7B-4834-8E1F-E147ABFF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A225-6DAA-43B4-8427-45D5B0BE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BBF3-15A3-4E26-A69C-26CB189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E59-AA16-4F66-B844-589F34B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9EE7-5DCF-4C19-8E05-83C1E27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E23-F790-4ADA-9F21-334D93B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88C-642C-4F2E-B38C-E06D3A03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D76-9E65-42A3-824E-E1182DF4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3BD-E719-493E-A238-6FD25D0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B88F-37DA-47D5-922E-E5DA75B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59CC-FD7B-4A3E-8FA4-E8E24AF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3CF-38AE-4DBA-BF73-272A85C6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C69-2A1C-4725-A9F1-5139B712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71F2-B0CB-474E-91A3-7E0C426B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2B51-7CDB-4FD8-A75F-22729C8E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1EEC-D884-49B6-886A-7A9CEBE7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B9D6-B590-4DA2-B883-3363F30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E806-2E72-47AD-96DA-F983D531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03D-B7B7-4A41-B21E-5FFAF038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3FBB-E6C6-4E52-BC60-05522BF7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4FED-A96C-4D69-A3C6-49B176BC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EE8B-637B-47E9-8975-86E898B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E028-8057-4818-A7E0-56A571E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B8E2-83FB-4012-AA2F-6A6B089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E1FF-A1D4-48EF-B252-9B91C711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1E706-C61A-4D75-AC52-4105363A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6818-FCD1-40CC-8554-A24AF885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89F04-2201-442E-A021-58CEBD6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04CBA-20BA-4CBA-8BCB-7EFB3EE7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895-D02D-46CC-ABF8-34FB936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D87A-12D4-482A-BBF0-AF577A45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6396-8321-45F8-A4F3-F1F97CA8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BF2B-367E-4927-82FB-2189D38C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419D-FDDB-4DB0-8CE7-46E74C3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3280-A2FF-4FA0-B887-5360265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6EAC-63AB-47A5-A4EE-89DC3AA1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7E61-BA66-4D32-99D7-F130462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A065-C0F5-4833-930D-D4DB3D27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7BB8-BE08-4418-8A21-18885852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6D79-75A9-45E9-A4B7-7F274EE3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D82-24C5-4261-B536-EA3CBFB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7F4B-2752-4285-B000-7FABE01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6F8C-D9A7-42A2-AD16-B2C8A9CF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E66B-6573-47EF-8927-AEFD4DC3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4EC6-F0A7-41DB-83C4-4364BF2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1B2AD-65AD-4FA7-B6A4-2C83CFE2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AF8E-EB67-4087-B89A-7BFAE72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8CB7-5193-45FB-9828-2727C8E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7B93-E87E-4C1E-B9A7-E568AD9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F7281-5945-47CF-BDAF-2B9F54B1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58E2-EC16-4E43-BBFE-8ABC0E3D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124-184B-42AF-9FEC-6DD26784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38B7-3B8C-4FBF-8172-7E518452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C108-270B-435A-A83C-226C946F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9642-4F4B-4B32-B4E8-60EDE058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1AF1-BD10-42EB-B226-1AE4A4E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6D51-2198-47EF-A141-A923DD4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028C-E8AF-4239-BD8A-3DB25BE3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74B7-144D-41B9-B8ED-4AA4BAC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7411-46AE-49CC-A6ED-F570CB4A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DCBD-66FE-4963-BF61-23370BD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3619-787B-42F2-B580-0599DEC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48C-CBC7-4F07-AB95-207AD93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0A672-2331-46CE-8E88-839BA55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E9816-E0EE-44C1-8F98-F0461ABE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28FE1-0E9E-47D7-9B4C-1F818F92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44554-4EA1-45C4-8E03-8D059780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3A00-91B8-4529-8617-F7FE1419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9F4C-2653-4C5A-95ED-0BA246E8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0A5C-3054-4F78-891C-9C2A1FD3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7646-CAD6-48A4-BE9D-68B25A6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D723-9C3A-47E3-B7A2-7948006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B1C9-2268-4695-AFF2-9FA9786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687-6212-4BA9-81D2-CEE0EC6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56BED-52C3-456C-9653-F22EDD8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BB11-A4AB-4272-A7CB-0714C2B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2628-FC80-4BC1-A1E6-112C6760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34CD-114F-482D-B8F7-7D93353C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4B6E-4F28-415B-B01C-4794AA9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42E-1922-4D2A-8DCE-19F1E4A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5AF1-F948-4C10-B6E7-3B24E78800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7CA3-7E17-4C4B-9FAE-AAF446FA5B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DE4-F268-46B1-8A5C-CA4F2D198B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1DF7-6DAA-4F71-AF45-A348D52F63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AC8-B0E2-42B5-BF9F-3CAACA8D06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17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8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023-F80E-4434-B7EE-C6E8CCDCBE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6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E34A-2DF1-428C-95D7-85FB8F1510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695160" y="1139760"/>
            <a:ext cx="7875720" cy="153036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682560" y="3133800"/>
            <a:ext cx="7796160" cy="1481040"/>
          </a:xfrm>
          <a:prstGeom prst="rect">
            <a:avLst/>
          </a:prstGeom>
          <a:ln w="0">
            <a:noFill/>
          </a:ln>
        </p:spPr>
      </p:pic>
      <p:pic>
        <p:nvPicPr>
          <p:cNvPr id="314" name="Obraz 6" descr="nagłówek_cz_b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Obraz 7" descr="stopka_cz_b_poz.gif"/>
          <p:cNvPicPr/>
          <p:nvPr/>
        </p:nvPicPr>
        <p:blipFill>
          <a:blip r:embed="rId4"/>
          <a:stretch/>
        </p:blipFill>
        <p:spPr>
          <a:xfrm>
            <a:off x="0" y="6189840"/>
            <a:ext cx="9159840" cy="668160"/>
          </a:xfrm>
          <a:prstGeom prst="rect">
            <a:avLst/>
          </a:prstGeom>
          <a:ln w="0">
            <a:noFill/>
          </a:ln>
        </p:spPr>
      </p:pic>
      <p:sp>
        <p:nvSpPr>
          <p:cNvPr id="316" name="Prostokąt zaokrąglony 11"/>
          <p:cNvSpPr/>
          <p:nvPr/>
        </p:nvSpPr>
        <p:spPr>
          <a:xfrm>
            <a:off x="941400" y="2687760"/>
            <a:ext cx="7343640" cy="64764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5"/>
          <a:stretch/>
        </p:blipFill>
        <p:spPr>
          <a:xfrm>
            <a:off x="2298600" y="4584600"/>
            <a:ext cx="45831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7" name="Diagram 1" descr=""/>
          <p:cNvPicPr/>
          <p:nvPr/>
        </p:nvPicPr>
        <p:blipFill>
          <a:blip r:embed="rId2"/>
          <a:stretch/>
        </p:blipFill>
        <p:spPr>
          <a:xfrm>
            <a:off x="457200" y="974880"/>
            <a:ext cx="82296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8037360" cy="3483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i:Plebiscyt_na_Warmii_i_Mazurach_2.gif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749160" y="268200"/>
            <a:ext cx="794412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zoza Czesław – Polska w czasach niepodległości i II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szko Józef – Historia Polski 1864-1948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owski Andrzej – Koncepcje polityki narodowościowej rządów polski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latach 1921-1931, Warszawa 19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aryś Janusz – Historia Polski 1918-1939, Poznań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rlicki Andrzej – Józef Piłsudski 1867-1935, Warszawa 198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opczyński Władysław - Historia polityczna Polski : 1914-1939, Warsza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roczka Ludwik – Spór o Galicje Wschodnią, Kraków 199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jewski Janusz – Odbudowa Drugiej Rzeczypospolitej 1918-1926, Kraków 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pański Janusz – Społeczeństwo polskie w walce z najazdem bolszewicki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20 roku, Warszawa-Pułtusk 20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letyn Instytutu Pamięci Narodowej nr 11-12, IPN Listopad- Grudzień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18892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3"/>
          <p:cNvSpPr/>
          <p:nvPr/>
        </p:nvSpPr>
        <p:spPr>
          <a:xfrm>
            <a:off x="539640" y="1268280"/>
            <a:ext cx="7272360" cy="446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669960" y="268200"/>
            <a:ext cx="80233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8841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polsko-czechosłowa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 z Czechosłowacj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Miasto Gdań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lebiscyt na Warmii i Mazu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2" name="Diagram 1" descr=""/>
          <p:cNvPicPr/>
          <p:nvPr/>
        </p:nvPicPr>
        <p:blipFill>
          <a:blip r:embed="rId2"/>
          <a:stretch/>
        </p:blipFill>
        <p:spPr>
          <a:xfrm>
            <a:off x="822240" y="1390680"/>
            <a:ext cx="79930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4" name="Diagram 2" descr=""/>
          <p:cNvPicPr/>
          <p:nvPr/>
        </p:nvPicPr>
        <p:blipFill>
          <a:blip r:embed="rId2"/>
          <a:stretch/>
        </p:blipFill>
        <p:spPr>
          <a:xfrm>
            <a:off x="407880" y="1359000"/>
            <a:ext cx="837576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6" name="Diagram 3" descr=""/>
          <p:cNvPicPr/>
          <p:nvPr/>
        </p:nvPicPr>
        <p:blipFill>
          <a:blip r:embed="rId2"/>
          <a:stretch/>
        </p:blipFill>
        <p:spPr>
          <a:xfrm>
            <a:off x="665280" y="1390680"/>
            <a:ext cx="75945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604800" y="1123920"/>
            <a:ext cx="7655040" cy="4897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www.wikipedia.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1" descr=""/>
          <p:cNvPicPr/>
          <p:nvPr/>
        </p:nvPicPr>
        <p:blipFill>
          <a:blip r:embed="rId2"/>
          <a:stretch/>
        </p:blipFill>
        <p:spPr>
          <a:xfrm>
            <a:off x="517680" y="1152360"/>
            <a:ext cx="799776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Diagram 1" descr=""/>
          <p:cNvPicPr/>
          <p:nvPr/>
        </p:nvPicPr>
        <p:blipFill>
          <a:blip r:embed="rId2"/>
          <a:stretch/>
        </p:blipFill>
        <p:spPr>
          <a:xfrm>
            <a:off x="549360" y="1163520"/>
            <a:ext cx="8253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5" name="Diagram 3" descr=""/>
          <p:cNvPicPr/>
          <p:nvPr/>
        </p:nvPicPr>
        <p:blipFill>
          <a:blip r:embed="rId2"/>
          <a:stretch/>
        </p:blipFill>
        <p:spPr>
          <a:xfrm>
            <a:off x="201600" y="1390680"/>
            <a:ext cx="87408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20:09:47Z</dcterms:created>
  <dc:creator>rena</dc:creator>
  <dc:description/>
  <dc:language>en-US</dc:language>
  <cp:lastModifiedBy>Andrzej</cp:lastModifiedBy>
  <dcterms:modified xsi:type="dcterms:W3CDTF">2013-09-01T18:07:02Z</dcterms:modified>
  <cp:revision>17</cp:revision>
  <dc:subject/>
  <dc:title>WALKI O NIEPODLEGŁOŚĆ POLSKI  W LATACH 1918 - 1921</dc:title>
</cp:coreProperties>
</file>