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96A0-644C-4C30-B04F-1298A002B0E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6435-F814-4232-ADB9-0C34E32C1EE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7DAA-8E76-4502-B2C5-92E90918098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AA0B-BE89-4C20-875E-2EEE6870CE2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9560-E923-4A91-BFF9-EE5A58DA49B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CCB2-32C9-4B37-89B7-617CB8170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B11A-6B47-443B-9B0D-34DC6911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D2FA-A0D0-41D8-A595-3C8D5581E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A87A-090D-4DB4-9A75-7625FA00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A77B-6E57-4AF1-9491-C643B1428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5C2F-9078-40E6-983D-06C5357E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9894-272F-45EA-929E-565D763A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D2FA-61F0-47A5-B621-2ECCC0E5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F84E-6E0D-4090-BB6F-D6131CD7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9384-8D56-4FA2-9B4D-FD2D2558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5237-EAEC-4EB3-932E-AB6AD93D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22CB-A845-48D4-95FE-DDC3CD56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73DC-0435-4F3B-834A-68BFF9B1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B932-F9B0-4AE9-86D7-1F846754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2967-178A-4872-8216-8026D23B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0077-B001-44BC-8708-DA984EA10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0958-ADE4-4D2F-8DF3-FB2AF9C72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5B49E-804A-43B0-AD52-329C9985C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4985A-2300-448F-8D46-692CCCA3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987CC-CD94-4E2A-8000-B519AADE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9A0BD-5ABD-4718-8040-6D795F9C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42B3E-4DD6-4DC5-9354-A2CA40A8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0B02-D2ED-4C22-B45C-0176CD22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F26FE-F3F7-403D-9809-58A6CF63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ED1ED-0683-4742-A42C-F5830A7B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73AC2-9372-469D-81A3-C02DB4C5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7DEC2-B3B0-4E17-B991-1AF6C9AB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7D366-DC8C-4D17-AD21-2F100951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B3A5A-02B5-49D8-A54E-D362603D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AB770-548D-473A-AE90-767FDF35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208FD-5DAD-422B-86F8-98C424351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AC512-B91D-4C27-BC76-802A4A6F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D4668-218B-4B86-A035-ADBC572B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F561-168A-406D-9C7E-66D18837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81228-BE32-43D2-A1BE-5DFE25B7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6EED3-E28B-4CBF-B890-728A0CAB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722C2-E4A3-41EF-9448-CD17BC9F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15520-CAF7-4A1D-8E76-9762644E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601D5-095D-4C81-A1A8-3056331A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9F93B-DC3F-4D35-8940-5EA53BE6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CF287-ECBA-495D-BA64-4D35C108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F7AA9-BABE-4E5D-84D1-7B921804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3843B-6A5F-40BA-96F4-549BAF2F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63AE1-5FE5-4E8F-BE4D-93A7AFD0E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556E-DCED-41CE-8BB1-74D49BEC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F6EAE-5858-4CF3-BAE4-94B8A248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01CBC-AAB1-4A02-AA1B-212EC052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A9D54-CC10-428C-AE45-10FC5D5A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AD166-E3A5-475F-A686-B11935DB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8D67A-1E79-4122-964A-FB82E60A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E4031-86E4-48FD-B8BA-ABDE3DDE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26301-8949-41EB-9AC7-ACE8E7A0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C3FC7-3EAF-4866-9504-5D873F18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2CA58-ED1F-410F-B06D-429A414E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93192-F708-4474-BBFD-432245040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295C-95C6-463B-AD48-68084E37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AC219-F26D-49DE-93B0-766D76E7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47211-31E2-4FA6-BAED-BF48B4F57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9D2CF-E8BF-473F-88CD-0E2F1831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A3FEF-2A6F-4E07-B890-F02AEA1B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4111F-2047-4985-8BDE-44FBC008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6D6C5-7796-4249-A210-6056224C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12EAD-82EA-4404-BEC6-61440F97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CF4FC-7479-4CEC-B700-938FCAA0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A1839-2AEF-44B5-A297-B3883C28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E5BBB-C119-40DF-AF81-E2201B7E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ACC4-1A5B-451E-81DA-532336A3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B799C-34FF-46F8-B9F5-FFAC1967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53723-B0CE-4C87-AD31-D3724EF68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2292B-61A3-4859-A34F-9B694536C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20995-2FE5-4926-B549-BD3DDB03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C77F0-50A9-47FF-A591-7A0557C5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4298F-3504-45C6-99C2-261775CE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87F1A-BAED-4C30-950D-FB0076C4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43A18-7178-4AF4-8163-150BB25B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DB27A-50A1-41B3-86C2-BCB7A11C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CEB10-C7AA-441F-B86A-61FD090B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7070-1DCF-43C1-A2A2-0223652D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14217-118B-401D-992D-E5E6302D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3FC1E-BE7E-4338-B364-F3E308F2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1C84B-9B49-4D9E-8826-0226566C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922FF-6286-4243-A3FD-35340321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BB027-3A30-4285-A608-0DB34CACD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324A-A13E-4C5B-8FE6-C704E76C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5B55-9C4D-4BFA-A1DE-03ECF887DE5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4F9B-705E-48F8-877A-BE5FCCB0714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A891-7C95-4DEB-B242-BE48052F879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C04C-1FF6-4035-8B77-3ECFD01415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172" name="Obraz 8" descr="stopka_cz_b_pion.gif"/>
          <p:cNvPicPr/>
          <p:nvPr/>
        </p:nvPicPr>
        <p:blipFill>
          <a:blip r:embed="rId4"/>
          <a:stretch/>
        </p:blipFill>
        <p:spPr>
          <a:xfrm>
            <a:off x="0" y="587700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173" name="Obraz 9" descr="nagłówek_cz_b_pion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2D48-4D94-4915-8B3A-BD499C9946F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217" name="Obraz 8" descr="stopka_cz_b_pion.gif"/>
          <p:cNvPicPr/>
          <p:nvPr/>
        </p:nvPicPr>
        <p:blipFill>
          <a:blip r:embed="rId4"/>
          <a:stretch/>
        </p:blipFill>
        <p:spPr>
          <a:xfrm>
            <a:off x="0" y="587700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218" name="Obraz 9" descr="nagłówek_cz_b_pion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1067-76C4-4F10-9C3C-79AA8212C6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262" name="Obraz 8" descr="stopka_cz_b_pion.gif"/>
          <p:cNvPicPr/>
          <p:nvPr/>
        </p:nvPicPr>
        <p:blipFill>
          <a:blip r:embed="rId4"/>
          <a:stretch/>
        </p:blipFill>
        <p:spPr>
          <a:xfrm>
            <a:off x="0" y="587700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263" name="Obraz 9" descr="nagłówek_cz_b_pion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BE0C-06F7-4F74-B611-C06D590C3FA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676440" y="1500120"/>
            <a:ext cx="7877160" cy="1535040"/>
          </a:xfrm>
          <a:prstGeom prst="rect">
            <a:avLst/>
          </a:prstGeom>
          <a:ln w="0">
            <a:noFill/>
          </a:ln>
        </p:spPr>
      </p:pic>
      <p:pic>
        <p:nvPicPr>
          <p:cNvPr id="313" name="Title 1" descr=""/>
          <p:cNvPicPr/>
          <p:nvPr/>
        </p:nvPicPr>
        <p:blipFill>
          <a:blip r:embed="rId2"/>
          <a:stretch/>
        </p:blipFill>
        <p:spPr>
          <a:xfrm>
            <a:off x="603360" y="3352680"/>
            <a:ext cx="7785000" cy="1481400"/>
          </a:xfrm>
          <a:prstGeom prst="rect">
            <a:avLst/>
          </a:prstGeom>
          <a:ln w="0">
            <a:noFill/>
          </a:ln>
        </p:spPr>
      </p:pic>
      <p:pic>
        <p:nvPicPr>
          <p:cNvPr id="314" name="Obraz 6" descr="nagłówek_cz_b_poz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315" name="Obraz 7" descr="stopka_cz_b_poz.gif"/>
          <p:cNvPicPr/>
          <p:nvPr/>
        </p:nvPicPr>
        <p:blipFill>
          <a:blip r:embed="rId4"/>
          <a:stretch/>
        </p:blipFill>
        <p:spPr>
          <a:xfrm>
            <a:off x="0" y="6189840"/>
            <a:ext cx="9159840" cy="668160"/>
          </a:xfrm>
          <a:prstGeom prst="rect">
            <a:avLst/>
          </a:prstGeom>
          <a:ln w="0">
            <a:noFill/>
          </a:ln>
        </p:spPr>
      </p:pic>
      <p:sp>
        <p:nvSpPr>
          <p:cNvPr id="316" name="Prostokąt zaokrąglony 11"/>
          <p:cNvSpPr/>
          <p:nvPr/>
        </p:nvSpPr>
        <p:spPr>
          <a:xfrm>
            <a:off x="914400" y="3068640"/>
            <a:ext cx="7343640" cy="6476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Title 1" descr=""/>
          <p:cNvPicPr/>
          <p:nvPr/>
        </p:nvPicPr>
        <p:blipFill>
          <a:blip r:embed="rId5"/>
          <a:stretch/>
        </p:blipFill>
        <p:spPr>
          <a:xfrm>
            <a:off x="907920" y="4102200"/>
            <a:ext cx="778536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38" name="Diagram 1" descr=""/>
          <p:cNvPicPr/>
          <p:nvPr/>
        </p:nvPicPr>
        <p:blipFill>
          <a:blip r:embed="rId2"/>
          <a:stretch/>
        </p:blipFill>
        <p:spPr>
          <a:xfrm>
            <a:off x="407880" y="1023840"/>
            <a:ext cx="84013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"/>
          <p:cNvPicPr/>
          <p:nvPr/>
        </p:nvPicPr>
        <p:blipFill>
          <a:blip r:embed="rId2"/>
          <a:stretch/>
        </p:blipFill>
        <p:spPr>
          <a:xfrm>
            <a:off x="1332000" y="1052640"/>
            <a:ext cx="6335640" cy="486252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397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arzec 1919 r.</a:t>
            </a:r>
            <a:br>
              <a:rPr sz="4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http://pl.wikipedia.org/wiki/Wojna_polsko-bolszewic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Grudzień 1919 r.</a:t>
            </a:r>
            <a:br>
              <a:rPr sz="44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Źródło: http://pl.wikipedia.org/wiki/Wojna_polsko-bolszewick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"/>
          <p:cNvPicPr/>
          <p:nvPr/>
        </p:nvPicPr>
        <p:blipFill>
          <a:blip r:embed="rId2"/>
          <a:stretch/>
        </p:blipFill>
        <p:spPr>
          <a:xfrm>
            <a:off x="1832040" y="1197000"/>
            <a:ext cx="59040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55640" y="572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erwiec 1920 r.</a:t>
            </a:r>
            <a:br>
              <a:rPr sz="44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Źródło: http://pl.wikipedia.org/wiki/Wojna_polsko-bolszewick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62658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11280" y="5730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ierpień 1920 r.</a:t>
            </a:r>
            <a:br>
              <a:rPr sz="44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Źródło: http://pl.wikipedia.org/wiki/Wojna_polsko-bolszewick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5" descr=""/>
          <p:cNvPicPr/>
          <p:nvPr/>
        </p:nvPicPr>
        <p:blipFill>
          <a:blip r:embed="rId2"/>
          <a:stretch/>
        </p:blipFill>
        <p:spPr>
          <a:xfrm>
            <a:off x="1116000" y="1052640"/>
            <a:ext cx="640872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433440" y="1878120"/>
            <a:ext cx="7881840" cy="1687320"/>
          </a:xfrm>
          <a:prstGeom prst="rect">
            <a:avLst/>
          </a:prstGeom>
          <a:ln w="0">
            <a:noFill/>
          </a:ln>
        </p:spPr>
      </p:pic>
      <p:pic>
        <p:nvPicPr>
          <p:cNvPr id="352" name="Title 1" descr=""/>
          <p:cNvPicPr/>
          <p:nvPr/>
        </p:nvPicPr>
        <p:blipFill>
          <a:blip r:embed="rId2"/>
          <a:stretch/>
        </p:blipFill>
        <p:spPr>
          <a:xfrm>
            <a:off x="633240" y="-6480"/>
            <a:ext cx="778536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54" name="Diagram 1" descr=""/>
          <p:cNvPicPr/>
          <p:nvPr/>
        </p:nvPicPr>
        <p:blipFill>
          <a:blip r:embed="rId2"/>
          <a:stretch/>
        </p:blipFill>
        <p:spPr>
          <a:xfrm>
            <a:off x="433440" y="1365120"/>
            <a:ext cx="844848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56" name="Diagram 2" descr=""/>
          <p:cNvPicPr/>
          <p:nvPr/>
        </p:nvPicPr>
        <p:blipFill>
          <a:blip r:embed="rId2"/>
          <a:stretch/>
        </p:blipFill>
        <p:spPr>
          <a:xfrm>
            <a:off x="158760" y="981000"/>
            <a:ext cx="87901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58" name="Diagram 2" descr=""/>
          <p:cNvPicPr/>
          <p:nvPr/>
        </p:nvPicPr>
        <p:blipFill>
          <a:blip r:embed="rId2"/>
          <a:stretch/>
        </p:blipFill>
        <p:spPr>
          <a:xfrm>
            <a:off x="901800" y="1262160"/>
            <a:ext cx="736416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6323040" cy="4918320"/>
          </a:xfrm>
          <a:prstGeom prst="rect">
            <a:avLst/>
          </a:prstGeom>
          <a:ln w="0">
            <a:noFill/>
          </a:ln>
        </p:spPr>
      </p:pic>
      <p:sp>
        <p:nvSpPr>
          <p:cNvPr id="361" name="Title 1"/>
          <p:cNvSpPr/>
          <p:nvPr/>
        </p:nvSpPr>
        <p:spPr>
          <a:xfrm>
            <a:off x="46836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www.wikipedia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ounded Rectangle 4"/>
          <p:cNvSpPr/>
          <p:nvPr/>
        </p:nvSpPr>
        <p:spPr>
          <a:xfrm>
            <a:off x="395280" y="1268280"/>
            <a:ext cx="7705800" cy="482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93560" y="268200"/>
            <a:ext cx="8199720" cy="1158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25520" y="15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9280" indent="-449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biory Polski w latach 1772 – 179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9280" indent="-449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ształtowanie granicy wschodni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9280" indent="-449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ojna polsko-ukraińs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9280" indent="-449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ojna polsko-bolszewic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9280" indent="-449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nflikt polsko-lite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9280" indent="-449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raktat ry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9280" indent="-449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ranice Polski na wschodz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9280" indent="-449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9280" indent="-449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ytuł 1" descr=""/>
          <p:cNvPicPr/>
          <p:nvPr/>
        </p:nvPicPr>
        <p:blipFill>
          <a:blip r:embed="rId1"/>
          <a:stretch/>
        </p:blipFill>
        <p:spPr>
          <a:xfrm>
            <a:off x="560520" y="328680"/>
            <a:ext cx="8205480" cy="11523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68000" y="134136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rzoza Czesław – Polska w czasach niepodległości i II wojny światowej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1918-1945), Kraków 200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uszko Józef – Historia Polski 1864-1948, Warszawa 198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hojnowski Andrzej – Koncepcje polityki narodowościowej rządów polski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 latach 1921-1931, Warszawa 197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avies Norman – Boże Igrzysko, Historia Polski, warszawa 198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aryś Janusz – Historia Polski 1918-1939, Poznań 1997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arlicki Andrzej – Józef Piłsudski 1867-1935, Warszawa 1988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opczyński Władysław - Historia polityczna Polski : 1914-1939, Warszaw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99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roczka Ludwik – Spór o Galicje Wschodnią, Kraków 199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ajewski Janusz – Odbudowa Drugiej Rzeczypospolitej 1918-1926, Kraków 199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zczepański Janusz – Społeczeństwo polskie w walce z najazdem bolszewickim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920 roku, Warszawa-Pułtusk 200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iuletyn Instytutu Pamięci Narodowej nr 11-12, IPN Listopad- Grudzień 2008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ytuł 1" descr=""/>
          <p:cNvPicPr/>
          <p:nvPr/>
        </p:nvPicPr>
        <p:blipFill>
          <a:blip r:embed="rId1"/>
          <a:stretch/>
        </p:blipFill>
        <p:spPr>
          <a:xfrm>
            <a:off x="-6480" y="1908000"/>
            <a:ext cx="9156960" cy="188928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"/>
          <p:cNvPicPr/>
          <p:nvPr/>
        </p:nvPicPr>
        <p:blipFill>
          <a:blip r:embed="rId2"/>
          <a:stretch/>
        </p:blipFill>
        <p:spPr>
          <a:xfrm>
            <a:off x="1496880" y="1125360"/>
            <a:ext cx="6743880" cy="528480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609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http://pl.wikipedia.org/wiki/Pliki:Partitions_of_Poland.png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25" name="Diagram 5" descr=""/>
          <p:cNvPicPr/>
          <p:nvPr/>
        </p:nvPicPr>
        <p:blipFill>
          <a:blip r:embed="rId2"/>
          <a:stretch/>
        </p:blipFill>
        <p:spPr>
          <a:xfrm>
            <a:off x="701640" y="1474920"/>
            <a:ext cx="759456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Content Placeholder 3" descr=""/>
          <p:cNvPicPr/>
          <p:nvPr/>
        </p:nvPicPr>
        <p:blipFill>
          <a:blip r:embed="rId1"/>
          <a:stretch/>
        </p:blipFill>
        <p:spPr>
          <a:xfrm>
            <a:off x="396720" y="1560600"/>
            <a:ext cx="8345520" cy="4651200"/>
          </a:xfrm>
          <a:prstGeom prst="rect">
            <a:avLst/>
          </a:prstGeom>
          <a:ln w="0">
            <a:noFill/>
          </a:ln>
        </p:spPr>
      </p:pic>
      <p:pic>
        <p:nvPicPr>
          <p:cNvPr id="327" name="Title 1" descr=""/>
          <p:cNvPicPr/>
          <p:nvPr/>
        </p:nvPicPr>
        <p:blipFill>
          <a:blip r:embed="rId2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29" name="Diagram 1" descr=""/>
          <p:cNvPicPr/>
          <p:nvPr/>
        </p:nvPicPr>
        <p:blipFill>
          <a:blip r:embed="rId2"/>
          <a:stretch/>
        </p:blipFill>
        <p:spPr>
          <a:xfrm>
            <a:off x="974880" y="1390680"/>
            <a:ext cx="71085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31" name="Diagram 1" descr=""/>
          <p:cNvPicPr/>
          <p:nvPr/>
        </p:nvPicPr>
        <p:blipFill>
          <a:blip r:embed="rId2"/>
          <a:stretch/>
        </p:blipFill>
        <p:spPr>
          <a:xfrm>
            <a:off x="743040" y="1390680"/>
            <a:ext cx="7731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33" name="Diagram 1" descr=""/>
          <p:cNvPicPr/>
          <p:nvPr/>
        </p:nvPicPr>
        <p:blipFill>
          <a:blip r:embed="rId2"/>
          <a:stretch/>
        </p:blipFill>
        <p:spPr>
          <a:xfrm>
            <a:off x="407880" y="2809800"/>
            <a:ext cx="8255160" cy="3865680"/>
          </a:xfrm>
          <a:prstGeom prst="rect">
            <a:avLst/>
          </a:prstGeom>
          <a:ln w="0">
            <a:noFill/>
          </a:ln>
        </p:spPr>
      </p:pic>
      <p:sp>
        <p:nvSpPr>
          <p:cNvPr id="334" name="Prostokąt zaokrąglony 11"/>
          <p:cNvSpPr/>
          <p:nvPr/>
        </p:nvSpPr>
        <p:spPr>
          <a:xfrm>
            <a:off x="468360" y="1268280"/>
            <a:ext cx="813600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ereny wschodnie zamieszkiwała ludność etnicznie zróżnicowa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tronami konfliktu był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36" name="Diagram 1" descr=""/>
          <p:cNvPicPr/>
          <p:nvPr/>
        </p:nvPicPr>
        <p:blipFill>
          <a:blip r:embed="rId2"/>
          <a:stretch/>
        </p:blipFill>
        <p:spPr>
          <a:xfrm>
            <a:off x="596880" y="1122480"/>
            <a:ext cx="7804080" cy="53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3T11:42:20Z</dcterms:created>
  <dc:creator>rena</dc:creator>
  <dc:description/>
  <dc:language>en-US</dc:language>
  <cp:lastModifiedBy>Andrzej</cp:lastModifiedBy>
  <dcterms:modified xsi:type="dcterms:W3CDTF">2013-09-01T18:06:23Z</dcterms:modified>
  <cp:revision>43</cp:revision>
  <dc:subject/>
  <dc:title>WALKI O NIEPODLEGŁOŚĆ POLSKI  W LATACH 1918 - 1921</dc:title>
</cp:coreProperties>
</file>