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7DE7-4D55-4369-B371-37B5BF39A0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F906-E161-48B9-8FC0-42FB8D5A56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AB8-653B-4D2D-AE96-2EF90406D8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FF6-C3AF-4170-A10D-A3DCDBE7BF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4692-1330-47AF-BDAB-082ABA4CF5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B8D-2035-421A-8B41-DD46E516DC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7DF0-4A6A-4DCF-A884-D5C0C2C143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EE0-B6C5-4CB5-92BB-7957E06D9C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135-0306-4B40-9984-74DB6A1DB6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1C6-8850-4E75-A74D-36286DF7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3FC-0F5B-4503-A5AB-5C69240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6DC-4151-4848-9B94-23A9FF04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723-D06D-4126-8B5B-5D5F7A00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0D23-C9E1-4907-9EEC-E694021D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A33-A2B7-41DB-9971-8DFF498A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25EF-1C80-43D0-AB22-D1129A8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5F78-3DAC-4236-88A4-282FE33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640B-7088-4090-AD1D-E3950126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D2AF-5606-4980-BBBA-0896E0DA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025F-25D9-4EB5-B60C-3A72EDE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9D9-F6C7-4796-AF68-EE70136B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842C-D5DE-437B-B1CA-16AC861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E7C-7E66-4ED4-A2E0-7F018B8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AAC-9BBB-42DD-A6EA-50F6550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83C0-5C92-4EA9-9AB3-C48D4F84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9A9-B0A5-4F49-A579-3438FC9C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F4B2-42E9-491A-91F5-A4736BFA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7403-C891-4611-BCB1-33892C9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6B73-645F-4425-8401-3F9CA13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2F69-FFBF-44CC-964D-0BF67C7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C000-9E27-4FB8-96C2-5E6B59B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6DA-CA3D-467E-B766-63F12E89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A922-493F-440A-BDE5-CCF6245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E5B7-4365-4702-A9B3-DAAB179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8407-72E9-4084-B655-6413834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17EE-88C5-4DDA-A7AA-0B487A3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ADC2-9C38-4DD7-A2C8-E5F8CDDD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B657-F98F-4D5D-871B-F0D3CAF2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5800-F0FB-420F-A733-4C7A9EFB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29FD-F3A4-4D73-9E1E-C39195A6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5D42-1D8B-4A65-8AF1-1D6A26FA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1E8C6-2A8F-4E4E-AE39-A92418D6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E81-48EC-443E-86F4-D0C7AB8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ABDF-121F-4F11-946E-985BDE7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CED2-EB4B-42A8-BD48-F3C94D3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81CC-0232-4D53-83F8-9B82E6A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B08C-D80D-4E1A-9AED-A6E0226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9BB3-83D3-4CF2-B5D2-FF15AB6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08EC-43F0-4BF3-8D8C-96AB1FF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EEF6-0EF4-4DE0-B159-FCF11EE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6107-8275-4235-98F7-C81AE942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08D4-4F70-42A9-A652-A55AA2DF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F7B4-ED90-411A-A03A-7C268221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4B0-D7F6-4A8D-B366-7F8CCB9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FEAB-882E-44E7-B6A9-99EF9C3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B610-BD0F-40A8-9737-A837C318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BF59-F66E-426B-B2B3-B107EE7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9A33-1F9C-47DA-99FF-359B2E3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CDAC6-2D9A-4BCC-994D-2DACD67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06E51-BBD4-4472-8836-A733F60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24F4-0F92-4531-AB34-DFFCB5F9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3542-5B34-44D1-8131-FC89646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E792-9D5C-47B1-986B-0E067750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462D-6460-4E22-902B-85158D66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366-DA9C-4CC6-BC2F-6A69F1F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F4A7-0748-4023-862E-E676492A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742E9-B328-4972-927E-849B8EB7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97CC9-5EF3-4A1C-BEE9-3ADCCFB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51F9-E270-4D4E-AF4A-1E45BA3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9EC0-B58F-4A1B-BB2D-C8DF244A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C258-9896-4CD0-87F6-217368D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7571-1B6D-455E-B14C-CB1D5EF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B568-86F5-4A51-908E-A1ECF8E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3EA2-835A-4541-BF02-3123BD5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ACD2-02E2-48F4-B728-A07E3F9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F57-4C22-40F2-A5AC-EBA28E0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6E5CA-ACA3-4A5F-9845-983645FF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2CD4-6820-4EB3-A744-D7B82CCB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8F58-EB28-4AF6-8310-74895849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28739-6E35-4C63-B5D7-AEEC49AF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D05B6-809F-4C6A-9674-4757131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9390-7E55-4EFB-B7CA-6F082AF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1424-8C45-4752-B09A-36391AB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2DDB-F8E0-4D3B-A6E0-A5633E3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95846-DBF2-4626-9AF8-F9888C3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5843-0404-4B5E-8A07-31BDB26B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C27-AB09-4467-97FF-30BDBB1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E6EC-4AA7-4C94-911F-EBD4C144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4807-0647-450F-A51D-43CBE53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3C3A1-DE37-4F09-90F2-50A6B60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C6AE-34A8-47A9-BF1B-69E1FBDE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CB43-F34B-4BEA-A416-9EF2871A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6DE-4A35-4551-913E-E96BA5A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095-0EC2-4472-B79C-DE320C62A8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9A8-8F12-43C2-AD4F-027207A53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AA41-D904-4906-A0B4-7BC121CB25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AD60-EDA4-4EF8-936A-6862499FEB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CDB-1978-4CAE-857C-C8BBB9472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50A-68DE-47CC-A5D8-B240E8A0A7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7BE-1482-4049-8BC7-B859E6BD3D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95160" y="1139760"/>
            <a:ext cx="7875720" cy="153036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82560" y="3133800"/>
            <a:ext cx="7796160" cy="148104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41400" y="268776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5"/>
          <a:stretch/>
        </p:blipFill>
        <p:spPr>
          <a:xfrm>
            <a:off x="2298600" y="4584600"/>
            <a:ext cx="45831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7" name="Diagram 1" descr=""/>
          <p:cNvPicPr/>
          <p:nvPr/>
        </p:nvPicPr>
        <p:blipFill>
          <a:blip r:embed="rId2"/>
          <a:stretch/>
        </p:blipFill>
        <p:spPr>
          <a:xfrm>
            <a:off x="457200" y="974880"/>
            <a:ext cx="8229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8037360" cy="3483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lebiscyt_na_Warmii_i_Mazurach_2.gi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749160" y="268200"/>
            <a:ext cx="794412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3"/>
          <p:cNvSpPr/>
          <p:nvPr/>
        </p:nvSpPr>
        <p:spPr>
          <a:xfrm>
            <a:off x="539640" y="1268280"/>
            <a:ext cx="7272360" cy="446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669960" y="268200"/>
            <a:ext cx="80233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8841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polsko-czechosłowa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z Czechosłowac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Miasto Gdań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lebiscyt na Warmii i Mazu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Diagram 1" descr=""/>
          <p:cNvPicPr/>
          <p:nvPr/>
        </p:nvPicPr>
        <p:blipFill>
          <a:blip r:embed="rId2"/>
          <a:stretch/>
        </p:blipFill>
        <p:spPr>
          <a:xfrm>
            <a:off x="822240" y="1390680"/>
            <a:ext cx="79930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4" name="Diagram 2" descr=""/>
          <p:cNvPicPr/>
          <p:nvPr/>
        </p:nvPicPr>
        <p:blipFill>
          <a:blip r:embed="rId2"/>
          <a:stretch/>
        </p:blipFill>
        <p:spPr>
          <a:xfrm>
            <a:off x="407880" y="1359000"/>
            <a:ext cx="837576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6" name="Diagram 3" descr=""/>
          <p:cNvPicPr/>
          <p:nvPr/>
        </p:nvPicPr>
        <p:blipFill>
          <a:blip r:embed="rId2"/>
          <a:stretch/>
        </p:blipFill>
        <p:spPr>
          <a:xfrm>
            <a:off x="665280" y="1390680"/>
            <a:ext cx="75945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604800" y="1123920"/>
            <a:ext cx="7655040" cy="4897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517680" y="1152360"/>
            <a:ext cx="799776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549360" y="1163520"/>
            <a:ext cx="8253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5" name="Diagram 3" descr=""/>
          <p:cNvPicPr/>
          <p:nvPr/>
        </p:nvPicPr>
        <p:blipFill>
          <a:blip r:embed="rId2"/>
          <a:stretch/>
        </p:blipFill>
        <p:spPr>
          <a:xfrm>
            <a:off x="201600" y="1390680"/>
            <a:ext cx="8740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20:09:47Z</dcterms:created>
  <dc:creator>rena</dc:creator>
  <dc:description/>
  <dc:language>en-US</dc:language>
  <cp:lastModifiedBy>Andrzej</cp:lastModifiedBy>
  <dcterms:modified xsi:type="dcterms:W3CDTF">2013-09-01T18:07:02Z</dcterms:modified>
  <cp:revision>17</cp:revision>
  <dc:subject/>
  <dc:title>WALKI O NIEPODLEGŁOŚĆ POLSKI  W LATACH 1918 - 1921</dc:title>
</cp:coreProperties>
</file>