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4.png" ContentType="image/png"/>
  <Override PartName="/ppt/media/image13.png" ContentType="image/png"/>
  <Override PartName="/ppt/media/image8.png" ContentType="image/png"/>
  <Override PartName="/ppt/media/image16.wmf" ContentType="image/x-wmf"/>
  <Override PartName="/ppt/media/image4.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5.jpeg" ContentType="image/jpeg"/>
  <Override PartName="/ppt/media/image2.png" ContentType="image/png"/>
  <Override PartName="/ppt/media/image3.png" ContentType="image/png"/>
  <Override PartName="/ppt/media/image5.png" ContentType="image/png"/>
  <Override PartName="/ppt/media/image10.png" ContentType="image/png"/>
  <Override PartName="/ppt/media/image6.png" ContentType="image/png"/>
  <Override PartName="/ppt/media/image19.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93BD9-006B-42F4-850B-2C3E2FC7E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93ECD-B564-4FAC-929E-95EB4D784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0A260-2623-48CD-A292-16F1EFE50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47B99-A09F-4073-9FB9-F8F91A7F6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298885-6E6A-4B92-87FB-22DE03E41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CA301-95F1-4ED0-8194-BC23C9333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F8A03-2AD0-4E6E-A325-204271829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08409-B231-4817-A5C6-DC7750549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FE285-1939-45F6-91F5-06D927A5B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40B09-D3B2-4860-B1B2-8EFEE9536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E79D7-0367-4ED8-A6BB-778E9E0A1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CD332-E51B-42FF-871E-DDE5B791B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3756B-DF76-4CDD-8F81-3DF94F2CB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146C6-E35C-4AA3-A744-18677C39F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54BA6-F403-4780-842B-D3B040C09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7E55FA-46E9-45B2-9FEC-2D293BFF4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DF1F3F-DB2C-4D0F-A263-7678F074B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8325C-66D4-411A-AA83-964EDB75A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77C63-A3B0-456E-A91F-BD39649E5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EFCF7-734B-488B-B657-3DF7386A1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69628-55C1-4BA1-BCD9-CEF4FBCD7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39BD0-8AB7-499A-8607-91F2B91B4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443E4-DC4B-494B-B982-8DA077B8D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C920C-3570-4192-888E-D48DDBF5C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pic>
        <p:nvPicPr>
          <p:cNvPr id="2" name="Obraz 2" descr="stopka_poz.gif"/>
          <p:cNvPicPr/>
          <p:nvPr/>
        </p:nvPicPr>
        <p:blipFill>
          <a:blip r:embed="rId4"/>
          <a:stretch/>
        </p:blipFill>
        <p:spPr>
          <a:xfrm>
            <a:off x="0" y="5951520"/>
            <a:ext cx="9144000" cy="906480"/>
          </a:xfrm>
          <a:prstGeom prst="rect">
            <a:avLst/>
          </a:prstGeom>
          <a:ln w="0">
            <a:noFill/>
          </a:ln>
        </p:spPr>
      </p:pic>
      <p:pic>
        <p:nvPicPr>
          <p:cNvPr id="3" name="Obraz 9" descr="nagłówek_poz.gif"/>
          <p:cNvPicPr/>
          <p:nvPr/>
        </p:nvPicPr>
        <p:blipFill>
          <a:blip r:embed="rId5"/>
          <a:stretch/>
        </p:blipFill>
        <p:spPr>
          <a:xfrm>
            <a:off x="0" y="0"/>
            <a:ext cx="9144000" cy="1125360"/>
          </a:xfrm>
          <a:prstGeom prst="rect">
            <a:avLst/>
          </a:prstGeom>
          <a:ln w="0">
            <a:noFill/>
          </a:ln>
        </p:spPr>
      </p:pic>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994C-CC7B-4EB9-A2A1-007BC5FB2416}"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 descr=""/>
          <p:cNvPicPr/>
          <p:nvPr/>
        </p:nvPicPr>
        <p:blipFill>
          <a:blip r:embed="rId2"/>
          <a:stretch/>
        </p:blipFill>
        <p:spPr>
          <a:xfrm>
            <a:off x="0" y="5761080"/>
            <a:ext cx="9144000" cy="1123920"/>
          </a:xfrm>
          <a:prstGeom prst="rect">
            <a:avLst/>
          </a:prstGeom>
          <a:ln w="0">
            <a:noFill/>
          </a:ln>
        </p:spPr>
      </p:pic>
      <p:pic>
        <p:nvPicPr>
          <p:cNvPr id="46" name="Picture 2" descr=""/>
          <p:cNvPicPr/>
          <p:nvPr/>
        </p:nvPicPr>
        <p:blipFill>
          <a:blip r:embed="rId3"/>
          <a:stretch/>
        </p:blipFill>
        <p:spPr>
          <a:xfrm>
            <a:off x="-4680" y="0"/>
            <a:ext cx="9144000" cy="1628640"/>
          </a:xfrm>
          <a:prstGeom prst="rect">
            <a:avLst/>
          </a:prstGeom>
          <a:ln w="0">
            <a:noFill/>
          </a:ln>
        </p:spPr>
      </p:pic>
      <p:sp>
        <p:nvSpPr>
          <p:cNvPr id="4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A70A-D84F-47B4-A379-D384B629222D}"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encyklopedia.pwn.pl/" TargetMode="External"/><Relationship Id="rId2" Type="http://schemas.openxmlformats.org/officeDocument/2006/relationships/hyperlink" Target="http://open.agh.edu.pl/mod/resource/view.php?id=481" TargetMode="External"/><Relationship Id="rId3" Type="http://schemas.openxmlformats.org/officeDocument/2006/relationships/hyperlink" Target="http://cke.edu.pl/images/stories/Tablice/tablice_chemia.pdf" TargetMode="External"/><Relationship Id="rId4" Type="http://schemas.openxmlformats.org/officeDocument/2006/relationships/hyperlink" Target="http://upload.wikimedia.org/wikipedia/commons/b/b3/Medeleeff_by_repin.jpg" TargetMode="External"/><Relationship Id="rId5" Type="http://schemas.openxmlformats.org/officeDocument/2006/relationships/hyperlink" Target="http://www.fizyka.umk.pl/~marta_985/prezentacja1/odkrycie_elektronu.html" TargetMode="External"/><Relationship Id="rId6"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1484280"/>
            <a:ext cx="8496000" cy="3960720"/>
          </a:xfrm>
          <a:prstGeom prst="rect">
            <a:avLst/>
          </a:prstGeom>
          <a:noFill/>
          <a:ln w="0">
            <a:noFill/>
          </a:ln>
        </p:spPr>
        <p:txBody>
          <a:bodyPr lIns="92160" rIns="92160" tIns="46080" bIns="46080" anchor="t">
            <a:noAutofit/>
          </a:bodyPr>
          <a:p>
            <a:pPr marL="838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000000"/>
                </a:solidFill>
                <a:uFillTx/>
                <a:latin typeface="Arial"/>
              </a:rPr>
              <a:t>Historyczny rozwój poglądów na budowę materii.</a:t>
            </a:r>
            <a:r>
              <a:rPr b="0" lang="pl-PL" sz="1800" spc="-1" strike="noStrike">
                <a:solidFill>
                  <a:srgbClr val="000000"/>
                </a:solidFill>
                <a:latin typeface="Arial"/>
              </a:rPr>
              <a:t> </a:t>
            </a:r>
            <a:br>
              <a:rPr sz="1800"/>
            </a:br>
            <a:r>
              <a:rPr b="1" lang="pl-PL" sz="1800" spc="-1" strike="noStrike">
                <a:solidFill>
                  <a:srgbClr val="000000"/>
                </a:solidFill>
                <a:latin typeface="Arial"/>
              </a:rPr>
              <a:t>Pojęcie pierwiastka i związku chemicznego. Prace Roberta Boyle’a.</a:t>
            </a:r>
            <a:br>
              <a:rPr sz="1800"/>
            </a:br>
            <a:r>
              <a:rPr b="1" lang="pl-PL" sz="1800" spc="-1" strike="noStrike">
                <a:solidFill>
                  <a:srgbClr val="000000"/>
                </a:solidFill>
                <a:latin typeface="Arial"/>
              </a:rPr>
              <a:t>Teoria atomistyczna  Daltona.</a:t>
            </a:r>
            <a:br>
              <a:rPr sz="1800"/>
            </a:br>
            <a:r>
              <a:rPr b="1" lang="pl-PL" sz="1800" spc="-1" strike="noStrike">
                <a:solidFill>
                  <a:srgbClr val="000000"/>
                </a:solidFill>
                <a:latin typeface="Arial"/>
              </a:rPr>
              <a:t>Dymitr Mendelejew formułuje prawo okresowości.</a:t>
            </a:r>
            <a:br>
              <a:rPr sz="1800"/>
            </a:br>
            <a:r>
              <a:rPr b="1" lang="pl-PL" sz="1800" spc="-1" strike="noStrike">
                <a:solidFill>
                  <a:srgbClr val="000000"/>
                </a:solidFill>
                <a:latin typeface="Arial"/>
              </a:rPr>
              <a:t>Joseph Thomson odkrywa elektron</a:t>
            </a:r>
            <a:br>
              <a:rPr sz="1800"/>
            </a:br>
            <a:r>
              <a:rPr b="1" lang="pl-PL" sz="1800" spc="-1" strike="noStrike">
                <a:solidFill>
                  <a:srgbClr val="000000"/>
                </a:solidFill>
                <a:latin typeface="Arial"/>
              </a:rPr>
              <a:t>Jądrowy model atomu Rutherforda</a:t>
            </a:r>
            <a:br>
              <a:rPr sz="1800"/>
            </a:br>
            <a:r>
              <a:rPr b="1" lang="pl-PL" sz="1800" spc="-1" strike="noStrike">
                <a:solidFill>
                  <a:srgbClr val="000000"/>
                </a:solidFill>
                <a:latin typeface="Arial"/>
              </a:rPr>
              <a:t>Planetarny model atomu Bohra</a:t>
            </a:r>
            <a:br>
              <a:rPr sz="1800"/>
            </a:br>
            <a:r>
              <a:rPr b="1" lang="pl-PL" sz="1800" spc="-1" strike="noStrike">
                <a:solidFill>
                  <a:srgbClr val="000000"/>
                </a:solidFill>
                <a:latin typeface="Arial"/>
              </a:rPr>
              <a:t>Elementy kwantowej teorii budowy mikroświata</a:t>
            </a:r>
            <a:br>
              <a:rPr sz="1800"/>
            </a:br>
            <a:r>
              <a:rPr b="1" lang="pl-PL" sz="1800" spc="-1" strike="noStrike">
                <a:solidFill>
                  <a:srgbClr val="000000"/>
                </a:solidFill>
                <a:latin typeface="Arial"/>
              </a:rPr>
              <a:t>Elementarne cząstki materii. Kwarki.</a:t>
            </a:r>
            <a:r>
              <a:rPr b="0" lang="pl-PL"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1989000"/>
            <a:ext cx="8061120" cy="2664000"/>
          </a:xfrm>
          <a:prstGeom prst="rect">
            <a:avLst/>
          </a:prstGeom>
          <a:noFill/>
          <a:ln w="0">
            <a:noFill/>
          </a:ln>
        </p:spPr>
        <p:txBody>
          <a:bodyPr lIns="92160" rIns="92160" tIns="46080" bIns="46080" anchor="t">
            <a:noAutofit/>
          </a:bodyPr>
          <a:p>
            <a:pPr indent="0" algn="ctr">
              <a:lnSpc>
                <a:spcPct val="1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oria względności. </a:t>
            </a:r>
            <a:br>
              <a:rPr sz="2000"/>
            </a:br>
            <a:r>
              <a:rPr b="1" lang="pl-PL" sz="2000" spc="-1" strike="noStrike">
                <a:solidFill>
                  <a:srgbClr val="000000"/>
                </a:solidFill>
                <a:latin typeface="Arial"/>
              </a:rPr>
              <a:t>Materiał dodatkow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ażda teoria fizyczna, w której występują relacje czasoprzestrzenne, zawiera sobie właściwą zasadę względności, określającą, czy są w tej teorii wyróżnione układy odniesienia, i jakie, oraz jak opisy zjawisk w różnych takich układach są ze sobą powiązane. </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fizyce Arystotelesa występował jeden wyróżniony układ odniesienia, względem którego ciała pozostawione sobie miały osiągać swój „naturalny” stan — spoczynek.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68000" y="1196640"/>
            <a:ext cx="8280360" cy="475308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fizyce Newtona jest wyróżniony nieskończony zbiór układów odniesienia, tzw. układów inercjalnych. Współrzędne punktu (zdarzenia) w dwóch różnych inercjalnych układach odniesienia są ze sobą związane tzw. przekształceniami Galileusza, a czas we wszystkich układach odniesienia upływa tak samo (czas jest absolutny). </a:t>
            </a:r>
            <a:endParaRPr b="0" lang="en-US" sz="1800" spc="-1" strike="noStrike">
              <a:solidFill>
                <a:srgbClr val="000000"/>
              </a:solidFill>
              <a:latin typeface="Calibri"/>
            </a:endParaRPr>
          </a:p>
        </p:txBody>
      </p:sp>
      <p:sp>
        <p:nvSpPr>
          <p:cNvPr id="100" name="Text Box 4"/>
          <p:cNvSpPr/>
          <p:nvPr/>
        </p:nvSpPr>
        <p:spPr>
          <a:xfrm>
            <a:off x="539640" y="3141720"/>
            <a:ext cx="1943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x’ = x – v </a:t>
            </a:r>
            <a:r>
              <a:rPr b="0" lang="pl-PL" sz="1200" spc="-1" strike="noStrike">
                <a:solidFill>
                  <a:srgbClr val="000000"/>
                </a:solidFill>
                <a:latin typeface="Symbol"/>
                <a:ea typeface="Symbol"/>
              </a:rPr>
              <a:t></a:t>
            </a:r>
            <a:r>
              <a:rPr b="0" lang="pl-PL" sz="1200" spc="-1" strike="noStrike">
                <a:solidFill>
                  <a:srgbClr val="000000"/>
                </a:solidFill>
                <a:latin typeface="Arial"/>
              </a:rPr>
              <a:t> </a:t>
            </a:r>
            <a:r>
              <a:rPr b="0" lang="pl-PL" sz="1800" spc="-1" strike="noStrike">
                <a:solidFill>
                  <a:srgbClr val="000000"/>
                </a:solidFill>
                <a:latin typeface="Arial"/>
              </a:rPr>
              <a:t>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y’ = 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 = 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 = t</a:t>
            </a:r>
            <a:endParaRPr b="0" lang="en-US" sz="1800" spc="-1" strike="noStrike">
              <a:solidFill>
                <a:srgbClr val="000000"/>
              </a:solidFill>
              <a:latin typeface="Arial"/>
            </a:endParaRPr>
          </a:p>
        </p:txBody>
      </p:sp>
      <p:sp>
        <p:nvSpPr>
          <p:cNvPr id="101" name="Text Box 5"/>
          <p:cNvSpPr/>
          <p:nvPr/>
        </p:nvSpPr>
        <p:spPr>
          <a:xfrm>
            <a:off x="2771640" y="2997360"/>
            <a:ext cx="554544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bok wzory transformacyjne Galileusza;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ymbolami x’, y’, z’ i t’ oznaczono odpowiednio współrzędne położenia i czasu pewnego zdarzenia w układzie S’ poruszającym się z prędkością </a:t>
            </a:r>
            <a:r>
              <a:rPr b="0" i="1" lang="pl-PL" sz="1800" spc="-1" strike="noStrike">
                <a:solidFill>
                  <a:srgbClr val="000000"/>
                </a:solidFill>
                <a:latin typeface="Arial"/>
              </a:rPr>
              <a:t>v </a:t>
            </a:r>
            <a:r>
              <a:rPr b="0" lang="pl-PL" sz="1800" spc="-1" strike="noStrike">
                <a:solidFill>
                  <a:srgbClr val="000000"/>
                </a:solidFill>
                <a:latin typeface="Arial"/>
              </a:rPr>
              <a:t> względem układu S, w którym zdarzenie ma współrzędne x, y, z i t. S’ porusza się wzglądem S w kierunku x. Osie układów S S’ są równoległ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edług zasady względności fizyki Newtonowskiej żadne zjawisko fizyczne nie powinno wyróżniać jakiegoś układu inercjalnego wobec pozostałych, czyli prawa fizyki Newtonowskiej nie powinny się zmieniać przy przekształceniach Galileusza. Newtonowska zasada względności była zgodna doświadczeniem przez prawie 200 l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250560" y="691920"/>
            <a:ext cx="8351640" cy="5616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eprowadzone doświadczenia (m.in. doświadczenie Michelsona–Morleya) prowadziły do wniosku, że prędkość </a:t>
            </a:r>
            <a:r>
              <a:rPr b="0" i="1" lang="pl-PL" sz="1800" spc="-1" strike="noStrike">
                <a:solidFill>
                  <a:srgbClr val="000000"/>
                </a:solidFill>
                <a:latin typeface="Arial"/>
              </a:rPr>
              <a:t>c</a:t>
            </a:r>
            <a:r>
              <a:rPr b="0" lang="pl-PL" sz="1800" spc="-1" strike="noStrike">
                <a:solidFill>
                  <a:srgbClr val="000000"/>
                </a:solidFill>
                <a:latin typeface="Arial"/>
              </a:rPr>
              <a:t> rozchodzenia się zaburzeń elektromagnetycznych, więc także światła, jest we wszystkich inercjalnych układach taka sama. W 1905r. A. Einstein zaproponował aby przyjąć, że współrzędne i czas są ze sobą związane przekształceniami Lorentza:</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konsekwencji zasadę względności Newtona należy uznać za zasadę przybliżoną, słuszną, gdy prędkość względna układów jest mała w porównaniu z </a:t>
            </a:r>
            <a:r>
              <a:rPr b="0" i="1" lang="pl-PL" sz="1800" spc="-1" strike="noStrike">
                <a:solidFill>
                  <a:srgbClr val="000000"/>
                </a:solidFill>
                <a:latin typeface="Arial"/>
              </a:rPr>
              <a:t>c</a:t>
            </a:r>
            <a:r>
              <a:rPr b="0" lang="pl-PL" sz="1800" spc="-1" strike="noStrike">
                <a:solidFill>
                  <a:srgbClr val="000000"/>
                </a:solidFill>
                <a:latin typeface="Arial"/>
              </a:rPr>
              <a:t>, i przyjąć nową zasadę względności, według której prawa fizyki nie zmieniają się przy przekształceniach Lorentza. Teorię opartą na zasadzie względności Einsteina nazywa się </a:t>
            </a:r>
            <a:r>
              <a:rPr b="1" lang="pl-PL" sz="1800" spc="-1" strike="noStrike">
                <a:solidFill>
                  <a:srgbClr val="000000"/>
                </a:solidFill>
                <a:latin typeface="Arial"/>
              </a:rPr>
              <a:t>szczególną teorią względności</a:t>
            </a:r>
            <a:r>
              <a:rPr b="0" lang="pl-PL" sz="1800" spc="-1" strike="noStrike">
                <a:solidFill>
                  <a:srgbClr val="000000"/>
                </a:solidFill>
                <a:latin typeface="Arial"/>
              </a:rPr>
              <a:t>. </a:t>
            </a:r>
            <a:endParaRPr b="0" lang="en-US" sz="1800" spc="-1" strike="noStrike">
              <a:solidFill>
                <a:srgbClr val="000000"/>
              </a:solidFill>
              <a:latin typeface="Calibri"/>
            </a:endParaRPr>
          </a:p>
        </p:txBody>
      </p:sp>
      <p:sp>
        <p:nvSpPr>
          <p:cNvPr id="104" name="Text Box 3"/>
          <p:cNvSpPr/>
          <p:nvPr/>
        </p:nvSpPr>
        <p:spPr>
          <a:xfrm>
            <a:off x="539640" y="2492280"/>
            <a:ext cx="3888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x’ = (x – v </a:t>
            </a:r>
            <a:r>
              <a:rPr b="0" lang="pl-PL" sz="1200" spc="-1" strike="noStrike">
                <a:solidFill>
                  <a:srgbClr val="000000"/>
                </a:solidFill>
                <a:latin typeface="Symbol"/>
                <a:ea typeface="Symbol"/>
              </a:rPr>
              <a:t></a:t>
            </a:r>
            <a:r>
              <a:rPr b="0" lang="pl-PL" sz="1200" spc="-1" strike="noStrike">
                <a:solidFill>
                  <a:srgbClr val="000000"/>
                </a:solidFill>
                <a:latin typeface="Arial"/>
              </a:rPr>
              <a:t> </a:t>
            </a:r>
            <a:r>
              <a:rPr b="0" lang="pl-PL" sz="1800" spc="-1" strike="noStrike">
                <a:solidFill>
                  <a:srgbClr val="000000"/>
                </a:solidFill>
                <a:latin typeface="Arial"/>
              </a:rPr>
              <a:t>t)/(1 – v</a:t>
            </a:r>
            <a:r>
              <a:rPr b="0" lang="pl-PL" sz="1800" spc="-1" strike="noStrike" baseline="30000">
                <a:solidFill>
                  <a:srgbClr val="000000"/>
                </a:solidFill>
                <a:latin typeface="Arial"/>
              </a:rPr>
              <a:t>2</a:t>
            </a:r>
            <a:r>
              <a:rPr b="0" lang="pl-PL" sz="1800" spc="-1" strike="noStrike">
                <a:solidFill>
                  <a:srgbClr val="000000"/>
                </a:solidFill>
                <a:latin typeface="Arial"/>
              </a:rPr>
              <a:t>/c</a:t>
            </a:r>
            <a:r>
              <a:rPr b="0" lang="pl-PL" sz="1800" spc="-1" strike="noStrike" baseline="30000">
                <a:solidFill>
                  <a:srgbClr val="000000"/>
                </a:solidFill>
                <a:latin typeface="Arial"/>
              </a:rPr>
              <a:t>2</a:t>
            </a:r>
            <a:r>
              <a:rPr b="0" lang="pl-PL" sz="1800" spc="-1" strike="noStrike">
                <a:solidFill>
                  <a:srgbClr val="000000"/>
                </a:solidFill>
                <a:latin typeface="Arial"/>
              </a:rPr>
              <a:t>)</a:t>
            </a:r>
            <a:r>
              <a:rPr b="0" lang="pl-PL" sz="1800" spc="-1" strike="noStrike" baseline="30000">
                <a:solidFill>
                  <a:srgbClr val="000000"/>
                </a:solidFill>
                <a:latin typeface="Arial"/>
              </a:rPr>
              <a:t>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y’ = 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 = 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 = (t - x </a:t>
            </a:r>
            <a:r>
              <a:rPr b="0" lang="pl-PL" sz="1200" spc="-1" strike="noStrike">
                <a:solidFill>
                  <a:srgbClr val="000000"/>
                </a:solidFill>
                <a:latin typeface="Symbol"/>
                <a:ea typeface="Symbol"/>
              </a:rPr>
              <a:t></a:t>
            </a:r>
            <a:r>
              <a:rPr b="0" lang="pl-PL" sz="1800" spc="-1" strike="noStrike">
                <a:solidFill>
                  <a:srgbClr val="000000"/>
                </a:solidFill>
                <a:latin typeface="Arial"/>
              </a:rPr>
              <a:t> v/c</a:t>
            </a:r>
            <a:r>
              <a:rPr b="0" lang="pl-PL" sz="1800" spc="-1" strike="noStrike" baseline="30000">
                <a:solidFill>
                  <a:srgbClr val="000000"/>
                </a:solidFill>
                <a:latin typeface="Arial"/>
              </a:rPr>
              <a:t>2</a:t>
            </a:r>
            <a:r>
              <a:rPr b="0" lang="pl-PL" sz="1800" spc="-1" strike="noStrike">
                <a:solidFill>
                  <a:srgbClr val="000000"/>
                </a:solidFill>
                <a:latin typeface="Arial"/>
              </a:rPr>
              <a:t>)/ </a:t>
            </a:r>
            <a:r>
              <a:rPr b="0" lang="pl-PL" sz="1800" spc="-1" strike="noStrike">
                <a:solidFill>
                  <a:srgbClr val="000000"/>
                </a:solidFill>
                <a:latin typeface="Calibri"/>
              </a:rPr>
              <a:t>)/(1 – v</a:t>
            </a:r>
            <a:r>
              <a:rPr b="0" lang="pl-PL" sz="1800" spc="-1" strike="noStrike" baseline="30000">
                <a:solidFill>
                  <a:srgbClr val="000000"/>
                </a:solidFill>
                <a:latin typeface="Calibri"/>
              </a:rPr>
              <a:t>2</a:t>
            </a:r>
            <a:r>
              <a:rPr b="0" lang="pl-PL" sz="1800" spc="-1" strike="noStrike">
                <a:solidFill>
                  <a:srgbClr val="000000"/>
                </a:solidFill>
                <a:latin typeface="Calibri"/>
              </a:rPr>
              <a:t>/c</a:t>
            </a:r>
            <a:r>
              <a:rPr b="0" lang="pl-PL" sz="1800" spc="-1" strike="noStrike" baseline="30000">
                <a:solidFill>
                  <a:srgbClr val="000000"/>
                </a:solidFill>
                <a:latin typeface="Calibri"/>
              </a:rPr>
              <a:t>2</a:t>
            </a:r>
            <a:r>
              <a:rPr b="0" lang="pl-PL" sz="1800" spc="-1" strike="noStrike">
                <a:solidFill>
                  <a:srgbClr val="000000"/>
                </a:solidFill>
                <a:latin typeface="Calibri"/>
              </a:rPr>
              <a:t>)</a:t>
            </a:r>
            <a:r>
              <a:rPr b="0" lang="pl-PL" sz="1800" spc="-1" strike="noStrike" baseline="30000">
                <a:solidFill>
                  <a:srgbClr val="000000"/>
                </a:solidFill>
                <a:latin typeface="Calibri"/>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68000" y="1628280"/>
            <a:ext cx="8351640" cy="4464360"/>
          </a:xfrm>
          <a:prstGeom prst="rect">
            <a:avLst/>
          </a:prstGeom>
          <a:noFill/>
          <a:ln w="0">
            <a:noFill/>
          </a:ln>
        </p:spPr>
        <p:txBody>
          <a:bodyPr anchor="t">
            <a:normAutofit/>
          </a:bodyPr>
          <a:p>
            <a:pPr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stawowym pojęciem szczególnej teorii względności jest </a:t>
            </a:r>
            <a:r>
              <a:rPr b="1" lang="pl-PL" sz="1800" spc="-1" strike="noStrike">
                <a:solidFill>
                  <a:srgbClr val="000000"/>
                </a:solidFill>
                <a:latin typeface="Arial"/>
              </a:rPr>
              <a:t>zdarzenie.</a:t>
            </a:r>
            <a:r>
              <a:rPr b="0" lang="pl-PL" sz="1800" spc="-1" strike="noStrike">
                <a:solidFill>
                  <a:srgbClr val="000000"/>
                </a:solidFill>
                <a:latin typeface="Arial"/>
              </a:rPr>
              <a:t> Zdarzenie to</a:t>
            </a:r>
            <a:r>
              <a:rPr b="1" lang="pl-PL" sz="1800" spc="-1" strike="noStrike">
                <a:solidFill>
                  <a:srgbClr val="000000"/>
                </a:solidFill>
                <a:latin typeface="Arial"/>
              </a:rPr>
              <a:t> </a:t>
            </a:r>
            <a:r>
              <a:rPr b="0" lang="pl-PL" sz="1800" spc="-1" strike="noStrike">
                <a:solidFill>
                  <a:srgbClr val="000000"/>
                </a:solidFill>
                <a:latin typeface="Arial"/>
              </a:rPr>
              <a:t>matematyczna idealizacja zjawiska fizycznego. W sensie potocznym to idealizacja polegająca na pominięciu jego rozmiarów przestrzennych i okresu trwania. Zbiór zdarzeń stanowi czterowymiarową czasoprzestrzeń. Wszystkie właściwości tego zbioru niezmiennicze względem przekształceń Lorentza stanowią czterowymiarową geometrię czasoprzestrzen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9280" y="476280"/>
            <a:ext cx="8280360" cy="5616720"/>
          </a:xfrm>
          <a:prstGeom prst="rect">
            <a:avLst/>
          </a:prstGeom>
          <a:noFill/>
          <a:ln w="0">
            <a:noFill/>
          </a:ln>
        </p:spPr>
        <p:txBody>
          <a:bodyPr anchor="t">
            <a:normAutofit/>
          </a:bodyPr>
          <a:p>
            <a:pPr indent="0" algn="just">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Einstein sformułował nową (tzw. relatywistyczną) mechanikę, a także termodynamikę i optykę zgodnie z nową zasadą względności; klasyczne wersje tych teorii okazały się teoriami przybliżonymi, słusznymi dla prędkości małych , w porównaniu z prędkością światła c. </a:t>
            </a:r>
            <a:endParaRPr b="0" lang="en-US" sz="1800" spc="-1" strike="noStrike">
              <a:solidFill>
                <a:srgbClr val="000000"/>
              </a:solidFill>
              <a:latin typeface="Calibri"/>
            </a:endParaRPr>
          </a:p>
          <a:p>
            <a:pPr indent="0" algn="just">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śli v</a:t>
            </a:r>
            <a:r>
              <a:rPr b="0" lang="en-US" sz="1800" spc="-1" strike="noStrike">
                <a:solidFill>
                  <a:srgbClr val="000000"/>
                </a:solidFill>
                <a:latin typeface="Arial"/>
                <a:ea typeface="Arial"/>
              </a:rPr>
              <a:t>&lt;&lt;</a:t>
            </a:r>
            <a:r>
              <a:rPr b="0" lang="pl-PL" sz="1800" spc="-1" strike="noStrike">
                <a:solidFill>
                  <a:srgbClr val="000000"/>
                </a:solidFill>
                <a:latin typeface="Arial"/>
                <a:ea typeface="Arial"/>
              </a:rPr>
              <a:t>c wówczas wzory transformacyjne Lorentza przyjmują (w przybliżeniu) postać wzorów transformacyjnych Galileusza; to tzw. </a:t>
            </a:r>
            <a:r>
              <a:rPr b="1" lang="pl-PL" sz="1800" spc="-1" strike="noStrike">
                <a:solidFill>
                  <a:srgbClr val="000000"/>
                </a:solidFill>
                <a:latin typeface="Arial"/>
                <a:ea typeface="Arial"/>
              </a:rPr>
              <a:t>zasada korespondencji</a:t>
            </a:r>
            <a:r>
              <a:rPr b="0" lang="pl-PL" sz="1800" spc="-1" strike="noStrike">
                <a:solidFill>
                  <a:srgbClr val="000000"/>
                </a:solidFill>
                <a:latin typeface="Arial"/>
                <a:ea typeface="Arial"/>
              </a:rPr>
              <a:t>.</a:t>
            </a:r>
            <a:endParaRPr b="0" lang="en-US" sz="1800" spc="-1" strike="noStrike">
              <a:solidFill>
                <a:srgbClr val="000000"/>
              </a:solidFill>
              <a:latin typeface="Calibri"/>
            </a:endParaRPr>
          </a:p>
          <a:p>
            <a:pPr indent="0" algn="just">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czególna teoria względności przewidziała istnienie licznych, nieznanych przedtem zjawisk - wszystkie znalazły potwierdzenie w doświadczeniach. Określiła równoważność pomiędzy masą i energią ciała;</a:t>
            </a:r>
            <a:endParaRPr b="0" lang="en-US" sz="1800" spc="-1" strike="noStrike">
              <a:solidFill>
                <a:srgbClr val="000000"/>
              </a:solidFill>
              <a:latin typeface="Calibri"/>
            </a:endParaRPr>
          </a:p>
          <a:p>
            <a:pPr indent="0" algn="ctr">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E = m </a:t>
            </a:r>
            <a:r>
              <a:rPr b="1" lang="pl-PL" sz="1200" spc="-1" strike="noStrike">
                <a:solidFill>
                  <a:srgbClr val="000000"/>
                </a:solidFill>
                <a:latin typeface="Symbol"/>
                <a:ea typeface="Symbol"/>
              </a:rPr>
              <a:t></a:t>
            </a:r>
            <a:r>
              <a:rPr b="1" lang="pl-PL" sz="1800" spc="-1" strike="noStrike">
                <a:solidFill>
                  <a:srgbClr val="000000"/>
                </a:solidFill>
                <a:latin typeface="Arial"/>
                <a:ea typeface="Arial"/>
              </a:rPr>
              <a:t> c</a:t>
            </a:r>
            <a:r>
              <a:rPr b="1" lang="pl-PL" sz="1800" spc="-1" strike="noStrike" baseline="30000">
                <a:solidFill>
                  <a:srgbClr val="000000"/>
                </a:solidFill>
                <a:latin typeface="Arial"/>
                <a:ea typeface="Arial"/>
              </a:rPr>
              <a:t>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539280" y="476280"/>
            <a:ext cx="8280360" cy="5616720"/>
          </a:xfrm>
          <a:prstGeom prst="rect">
            <a:avLst/>
          </a:prstGeom>
          <a:noFill/>
          <a:ln w="0">
            <a:noFill/>
          </a:ln>
        </p:spPr>
        <p:txBody>
          <a:bodyPr anchor="t">
            <a:normAutofit/>
          </a:bodyPr>
          <a:p>
            <a:pPr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Za najważniejsze jej konsekwencje uznaje się: </a:t>
            </a:r>
            <a:endParaRPr b="0" lang="en-US" sz="1600" spc="-1" strike="noStrike">
              <a:solidFill>
                <a:srgbClr val="000000"/>
              </a:solidFill>
              <a:latin typeface="Calibri"/>
            </a:endParaRPr>
          </a:p>
          <a:p>
            <a:pPr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600" spc="-1" strike="noStrike">
                <a:solidFill>
                  <a:srgbClr val="000000"/>
                </a:solidFill>
                <a:latin typeface="Arial"/>
              </a:rPr>
              <a:t>uzależnienie czasu przebiegu zjawisk fizycznych </a:t>
            </a:r>
            <a:r>
              <a:rPr b="1" lang="pl-PL" sz="1600" spc="-1" strike="noStrike">
                <a:solidFill>
                  <a:srgbClr val="000000"/>
                </a:solidFill>
                <a:latin typeface="Arial"/>
                <a:ea typeface="Arial"/>
              </a:rPr>
              <a:t>∆t’ = ∆t </a:t>
            </a:r>
            <a:r>
              <a:rPr b="1" lang="pl-PL" sz="1600" spc="-1" strike="noStrike">
                <a:solidFill>
                  <a:srgbClr val="000000"/>
                </a:solidFill>
                <a:latin typeface="Symbol"/>
                <a:ea typeface="Symbol"/>
              </a:rPr>
              <a:t></a:t>
            </a:r>
            <a:r>
              <a:rPr b="1" lang="pl-PL" sz="1600" spc="-1" strike="noStrike">
                <a:solidFill>
                  <a:srgbClr val="000000"/>
                </a:solidFill>
                <a:latin typeface="Arial"/>
                <a:ea typeface="Arial"/>
              </a:rPr>
              <a:t> (1 – v</a:t>
            </a:r>
            <a:r>
              <a:rPr b="1" lang="pl-PL" sz="1600" spc="-1" strike="noStrike" baseline="30000">
                <a:solidFill>
                  <a:srgbClr val="000000"/>
                </a:solidFill>
                <a:latin typeface="Arial"/>
                <a:ea typeface="Arial"/>
              </a:rPr>
              <a:t>2</a:t>
            </a:r>
            <a:r>
              <a:rPr b="1" lang="pl-PL" sz="1600" spc="-1" strike="noStrike">
                <a:solidFill>
                  <a:srgbClr val="000000"/>
                </a:solidFill>
                <a:latin typeface="Arial"/>
                <a:ea typeface="Arial"/>
              </a:rPr>
              <a:t>/c</a:t>
            </a:r>
            <a:r>
              <a:rPr b="1" lang="pl-PL" sz="1600" spc="-1" strike="noStrike" baseline="30000">
                <a:solidFill>
                  <a:srgbClr val="000000"/>
                </a:solidFill>
                <a:latin typeface="Arial"/>
                <a:ea typeface="Arial"/>
              </a:rPr>
              <a:t>2</a:t>
            </a:r>
            <a:r>
              <a:rPr b="1" lang="pl-PL" sz="1600" spc="-1" strike="noStrike">
                <a:solidFill>
                  <a:srgbClr val="000000"/>
                </a:solidFill>
                <a:latin typeface="Arial"/>
                <a:ea typeface="Arial"/>
              </a:rPr>
              <a:t>)</a:t>
            </a:r>
            <a:r>
              <a:rPr b="1" lang="pl-PL" sz="1600" spc="-1" strike="noStrike" baseline="30000">
                <a:solidFill>
                  <a:srgbClr val="000000"/>
                </a:solidFill>
                <a:latin typeface="Arial"/>
                <a:ea typeface="Arial"/>
              </a:rPr>
              <a:t>1/2 </a:t>
            </a:r>
            <a:r>
              <a:rPr b="1" lang="pl-PL" sz="1600" spc="-1" strike="noStrike">
                <a:solidFill>
                  <a:srgbClr val="000000"/>
                </a:solidFill>
                <a:latin typeface="Arial"/>
                <a:ea typeface="Arial"/>
              </a:rPr>
              <a:t>,</a:t>
            </a:r>
            <a:endParaRPr b="0" lang="en-US" sz="1600" spc="-1" strike="noStrike">
              <a:solidFill>
                <a:srgbClr val="000000"/>
              </a:solidFill>
              <a:latin typeface="Calibri"/>
            </a:endParaRPr>
          </a:p>
          <a:p>
            <a:pPr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00"/>
                </a:solidFill>
                <a:uFillTx/>
                <a:latin typeface="Arial"/>
              </a:rPr>
              <a:t>gdzie: </a:t>
            </a:r>
            <a:r>
              <a:rPr b="0" lang="pl-PL" sz="1400" spc="-1" strike="noStrike" u="sng">
                <a:solidFill>
                  <a:srgbClr val="000000"/>
                </a:solidFill>
                <a:uFillTx/>
                <a:latin typeface="Arial"/>
                <a:ea typeface="Arial"/>
              </a:rPr>
              <a:t>∆t’ - upływ czasu w układzie S’, ∆t - upływ czasu w układzie S, </a:t>
            </a:r>
            <a:endParaRPr b="0" lang="en-US" sz="1400" spc="-1" strike="noStrike">
              <a:solidFill>
                <a:srgbClr val="000000"/>
              </a:solidFill>
              <a:latin typeface="Calibri"/>
            </a:endParaRPr>
          </a:p>
          <a:p>
            <a:pPr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http://www.walter-fendt.de/ph14pl/timedilation_pl.htm</a:t>
            </a:r>
            <a:endParaRPr b="0" lang="en-US" sz="1800" spc="-1" strike="noStrike">
              <a:solidFill>
                <a:srgbClr val="000000"/>
              </a:solidFill>
              <a:latin typeface="Calibri"/>
            </a:endParaRPr>
          </a:p>
          <a:p>
            <a:pPr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masy cząstek m = m</a:t>
            </a:r>
            <a:r>
              <a:rPr b="1" lang="pl-PL" sz="1600" spc="-1" strike="noStrike" baseline="-25000">
                <a:solidFill>
                  <a:srgbClr val="000000"/>
                </a:solidFill>
                <a:latin typeface="Arial"/>
              </a:rPr>
              <a:t>0</a:t>
            </a:r>
            <a:r>
              <a:rPr b="1" lang="pl-PL" sz="1600" spc="-1" strike="noStrike">
                <a:solidFill>
                  <a:srgbClr val="000000"/>
                </a:solidFill>
                <a:latin typeface="Arial"/>
              </a:rPr>
              <a:t>/</a:t>
            </a:r>
            <a:r>
              <a:rPr b="1" lang="pl-PL" sz="1600" spc="-1" strike="noStrike">
                <a:solidFill>
                  <a:srgbClr val="000000"/>
                </a:solidFill>
                <a:latin typeface="Arial"/>
                <a:ea typeface="Arial"/>
              </a:rPr>
              <a:t>(1 – v</a:t>
            </a:r>
            <a:r>
              <a:rPr b="1" lang="pl-PL" sz="1600" spc="-1" strike="noStrike" baseline="30000">
                <a:solidFill>
                  <a:srgbClr val="000000"/>
                </a:solidFill>
                <a:latin typeface="Arial"/>
                <a:ea typeface="Arial"/>
              </a:rPr>
              <a:t>2</a:t>
            </a:r>
            <a:r>
              <a:rPr b="1" lang="pl-PL" sz="1600" spc="-1" strike="noStrike">
                <a:solidFill>
                  <a:srgbClr val="000000"/>
                </a:solidFill>
                <a:latin typeface="Arial"/>
                <a:ea typeface="Arial"/>
              </a:rPr>
              <a:t>/c</a:t>
            </a:r>
            <a:r>
              <a:rPr b="1" lang="pl-PL" sz="1600" spc="-1" strike="noStrike" baseline="30000">
                <a:solidFill>
                  <a:srgbClr val="000000"/>
                </a:solidFill>
                <a:latin typeface="Arial"/>
                <a:ea typeface="Arial"/>
              </a:rPr>
              <a:t>2</a:t>
            </a:r>
            <a:r>
              <a:rPr b="1" lang="pl-PL" sz="1600" spc="-1" strike="noStrike">
                <a:solidFill>
                  <a:srgbClr val="000000"/>
                </a:solidFill>
                <a:latin typeface="Arial"/>
                <a:ea typeface="Arial"/>
              </a:rPr>
              <a:t>)</a:t>
            </a:r>
            <a:r>
              <a:rPr b="1" lang="pl-PL" sz="1600" spc="-1" strike="noStrike" baseline="30000">
                <a:solidFill>
                  <a:srgbClr val="000000"/>
                </a:solidFill>
                <a:latin typeface="Arial"/>
                <a:ea typeface="Arial"/>
              </a:rPr>
              <a:t>1/2</a:t>
            </a:r>
            <a:r>
              <a:rPr b="1" lang="pl-PL" sz="1600" spc="-1" strike="noStrike" baseline="30000">
                <a:solidFill>
                  <a:srgbClr val="000000"/>
                </a:solidFill>
                <a:latin typeface="Arial"/>
              </a:rPr>
              <a:t> </a:t>
            </a:r>
            <a:r>
              <a:rPr b="1" lang="pl-PL" sz="1600" spc="-1" strike="noStrike">
                <a:solidFill>
                  <a:srgbClr val="000000"/>
                </a:solidFill>
                <a:latin typeface="Arial"/>
              </a:rPr>
              <a:t>, </a:t>
            </a:r>
            <a:endParaRPr b="0" lang="en-US" sz="1600" spc="-1" strike="noStrike">
              <a:solidFill>
                <a:srgbClr val="000000"/>
              </a:solidFill>
              <a:latin typeface="Calibri"/>
            </a:endParaRPr>
          </a:p>
          <a:p>
            <a:pPr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00"/>
                </a:solidFill>
                <a:uFillTx/>
                <a:latin typeface="Arial"/>
              </a:rPr>
              <a:t>gdzie: </a:t>
            </a:r>
            <a:r>
              <a:rPr b="0" lang="pl-PL" sz="1400" spc="-1" strike="noStrike" u="sng">
                <a:solidFill>
                  <a:srgbClr val="000000"/>
                </a:solidFill>
                <a:uFillTx/>
                <a:latin typeface="Arial"/>
                <a:ea typeface="Arial"/>
              </a:rPr>
              <a:t>m – masa relatywistyczna ciała poruszającego się z prędkością V zaś </a:t>
            </a:r>
            <a:r>
              <a:rPr b="0" lang="pl-PL" sz="1400" spc="-1" strike="noStrike" u="sng">
                <a:solidFill>
                  <a:srgbClr val="000000"/>
                </a:solidFill>
                <a:uFillTx/>
                <a:latin typeface="Arial"/>
              </a:rPr>
              <a:t>m</a:t>
            </a:r>
            <a:r>
              <a:rPr b="0" lang="pl-PL" sz="1400" spc="-1" strike="noStrike" u="sng" baseline="-25000">
                <a:solidFill>
                  <a:srgbClr val="000000"/>
                </a:solidFill>
                <a:uFillTx/>
                <a:latin typeface="Arial"/>
              </a:rPr>
              <a:t>0</a:t>
            </a:r>
            <a:r>
              <a:rPr b="0" lang="pl-PL" sz="1400" spc="-1" strike="noStrike" u="sng">
                <a:solidFill>
                  <a:srgbClr val="000000"/>
                </a:solidFill>
                <a:uFillTx/>
                <a:latin typeface="Arial"/>
              </a:rPr>
              <a:t> – masa spoczynkowa ciała (dla v=0)</a:t>
            </a:r>
            <a:endParaRPr b="0" lang="en-US" sz="1400" spc="-1" strike="noStrike">
              <a:solidFill>
                <a:srgbClr val="000000"/>
              </a:solidFill>
              <a:latin typeface="Calibri"/>
            </a:endParaRPr>
          </a:p>
          <a:p>
            <a:pPr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i wielu innych wielkości od stanu ruchu układu, w którym te zjawiska są opisane. </a:t>
            </a:r>
            <a:endParaRPr b="0" lang="en-US" sz="1600" spc="-1" strike="noStrike">
              <a:solidFill>
                <a:srgbClr val="000000"/>
              </a:solidFill>
              <a:latin typeface="Calibri"/>
            </a:endParaRPr>
          </a:p>
          <a:p>
            <a:pPr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Zasada względności Einsteina jest we współczesnej fizyce przyjmowana jako jedno z podstawowych kryteriów metodologicznych, które powinna spełniać każda teoria.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1916 Einstein sformułował </a:t>
            </a:r>
            <a:r>
              <a:rPr b="1" lang="pl-PL" sz="1800" spc="-1" strike="noStrike">
                <a:solidFill>
                  <a:srgbClr val="000000"/>
                </a:solidFill>
                <a:latin typeface="Arial"/>
              </a:rPr>
              <a:t>ogólną</a:t>
            </a:r>
            <a:r>
              <a:rPr b="0" lang="pl-PL" sz="1800" spc="-1" strike="noStrike">
                <a:solidFill>
                  <a:srgbClr val="000000"/>
                </a:solidFill>
                <a:latin typeface="Arial"/>
              </a:rPr>
              <a:t> teorię względności. W teorii tej zjawisko powszechnego ciążenia jest spowodowane wystąpieniem krzywizny czasoprzestrzeni. W ogólnej teorii względności nie ma żadnych wyróżnionych układów odniesienia. Ogólna teoria względności przewiduje poprawki do ruchu ciał i światła w polu grawitacyjnym; zostały one potwierdzone przez doświadczenie. Ogólna teoria względności znalazła duże zastosowanie w astrofizyce i kosmologii. Umożliwia ona m.in. konstruowanie modeli kosmologicznych Wszechświata. Jeden z takich modeli tłumaczy zaobserwowane zjawisko ucieczki odległych galaktyk rozszerzaniem się Wszechświat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is ruchu ciała za pomocą mechaniki klasycznej okazał się nieodpowiedni w wypadku, gdy prędkość ciała zbliża się do prędkości światła. W tym wypadku ograniczenia mechaniki klasycznej zmuszają nas do stosowania mechaniki relatywistycznej. Inne jeszcze ograniczenie pojawia się w mechanice klasycznej, kiedy badamy materię o bardzo małych rozmiarach — w mikroskopowym świecie atomów i jąder oraz w świecie cząstek elementarnych. W tej właśnie dziedzinie mechanika kwantowa odnosi wielkie sukcesy, a jej nowoczesna wersja zwana kwantową teorią pola zastępuje podejście klasyczne. Na pierwsze ślady idei kwantów można natrafić około 1900 roku, kiedy starano się wytłumaczyć zagadkę długości fal w widmie promieniowania emitowanego przez ogrzane ciała stałe. Mimo prób znanych fizyków tego okresu klasyczna teoria nie wystarczała do wyjaśnienia kształtu krzywej mocy promieniowania wysyłanego przez ciało doskonale czarne w funkcji długości fal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95280" y="836640"/>
            <a:ext cx="8353440" cy="5472000"/>
          </a:xfrm>
          <a:prstGeom prst="rect">
            <a:avLst/>
          </a:prstGeom>
          <a:noFill/>
          <a:ln w="0">
            <a:noFill/>
          </a:ln>
        </p:spPr>
        <p:txBody>
          <a:bodyPr anchor="t">
            <a:normAutofit/>
          </a:bodyPr>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Wykaz źródeł, które wykorzystano przy tworzeniu niniejszej prezentacji:</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V. Acosta, C.L.Cowan, B.J. Graham - podstawy fizyki współczesnej, PWN WARSZAWA 1987</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T. Kąkol, Biologia kompendium, Świat książki, Warszawa 2010.</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Biologia encyklopedia szkolna PWN, Warszawa 2002.</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Nason, R.L. Dehaan, Świat biologii, PWRiL, Warszawa 1981 </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Cz. Jura, Encyklopedia biologiczna , Kraków 1998.</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C.A. Villee, Biologia, PWRL ,Warszawa 1990.</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Biologia vademecum maturalne 2011 , Operon, Gdynia 2010</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istoria Powszechna, XVI – XVII w. Zbigniew Wójcik , Warszawa 1995 PWN.</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istoria Powszechna, 1789-1870 – XVII w. Mieczysław Żywczyński , Warszawa 1995 PWN.</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eografia od A do Z, Wyd. KRAM, Warszawa 1997</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Calibri"/>
              </a:rPr>
              <a:t> </a:t>
            </a:r>
            <a:r>
              <a:rPr b="1" lang="pl-PL" sz="1000" spc="-1" strike="noStrike">
                <a:solidFill>
                  <a:srgbClr val="000000"/>
                </a:solidFill>
                <a:latin typeface="Arial"/>
              </a:rPr>
              <a:t>R. K. Borówka, Dzieje ziemi i rozwój życia, wydawnictwo Kurpisz, Poznań 2001</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1"/>
              </a:rPr>
              <a:t>http://encyklopedia.pwn.pl</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2"/>
              </a:rPr>
              <a:t>http://open.agh.edu.pl/mod/resource/view.php?id=481</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3"/>
              </a:rPr>
              <a:t>http://cke.edu.pl/images/stories/Tablice/tablice_chemia.pdf</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4"/>
              </a:rPr>
              <a:t>http://upload.wikimedia.org/wikipedia/commons/b/b3/Medeleeff_by_repin.jpg</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5"/>
              </a:rPr>
              <a:t>http://www.fizyka.umk.pl/~marta_985/prezentacja1/odkrycie_elektronu.html</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miesiecznikchemik.pl/index.php?option=com_content&amp;view=article&amp;id=1240:proust-joseph-louis-&amp;catid=108:kalendarium-chemikow-polskich-i-europejskich&amp;Itemid=168 (dostęp 2013.08.10)</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encyklopedia.pwn.pl (dostęp 2013.08.10)</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interklasa.pl/portal/dokumenty/stw/wzo.htm#tg (dostęp 2013.08.10)</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ncepcja de Broglie'a przypisania elektronowi mającemu pęd p długości fali </a:t>
            </a:r>
            <a:br>
              <a:rPr sz="1800"/>
            </a:br>
            <a:r>
              <a:rPr b="0" lang="el-GR" sz="1800" spc="-1" strike="noStrike">
                <a:solidFill>
                  <a:srgbClr val="000000"/>
                </a:solidFill>
                <a:latin typeface="Arial"/>
                <a:ea typeface="Arial"/>
              </a:rPr>
              <a:t>λ</a:t>
            </a:r>
            <a:r>
              <a:rPr b="0" lang="pl-PL" sz="1800" spc="-1" strike="noStrike">
                <a:solidFill>
                  <a:srgbClr val="000000"/>
                </a:solidFill>
                <a:latin typeface="Arial"/>
                <a:ea typeface="Arial"/>
              </a:rPr>
              <a:t> </a:t>
            </a:r>
            <a:r>
              <a:rPr b="0" lang="pl-PL" sz="1800" spc="-1" strike="noStrike">
                <a:solidFill>
                  <a:srgbClr val="000000"/>
                </a:solidFill>
                <a:latin typeface="Arial"/>
              </a:rPr>
              <a:t>= h/p okazała się bardzo cenna w analizie stanów energetycznych </a:t>
            </a:r>
            <a:br>
              <a:rPr sz="1800"/>
            </a:br>
            <a:r>
              <a:rPr b="0" lang="pl-PL" sz="1800" spc="-1" strike="noStrike">
                <a:solidFill>
                  <a:srgbClr val="000000"/>
                </a:solidFill>
                <a:latin typeface="Arial"/>
              </a:rPr>
              <a:t>i pędowych elektronów w atomach. Pozwoliła ona na sformułowanie zagadnienia w taki sposób, w którym ustalonym stanom energetycznym atomu odpowiadają określone długości fal de Broglie'a elektronów w tym atomie. </a:t>
            </a:r>
            <a:br>
              <a:rPr sz="1800"/>
            </a:br>
            <a:r>
              <a:rPr b="0" lang="pl-PL" sz="1800" spc="-1" strike="noStrike">
                <a:solidFill>
                  <a:srgbClr val="000000"/>
                </a:solidFill>
                <a:latin typeface="Arial"/>
              </a:rPr>
              <a:t>W rozpatrywanych stanach fala elektronowa jest falą „stojącą", jeżeli rozważymy jej rozkład wokół jądra. Później eksperymenty potwierdziły długości fal de Broglie'a dla protonów, neutronów i atomów. Obecnie każdej cząstce </a:t>
            </a:r>
            <a:br>
              <a:rPr sz="1800"/>
            </a:br>
            <a:r>
              <a:rPr b="0" lang="pl-PL" sz="1800" spc="-1" strike="noStrike">
                <a:solidFill>
                  <a:srgbClr val="000000"/>
                </a:solidFill>
                <a:latin typeface="Arial"/>
              </a:rPr>
              <a:t>i obiektowi materialnemu przypisujemy falę de Broglie'a. Dualizm falowo-korpuskularny wykazywany przez cząstki i promieniowanie nie kryje w sobie sprzeczności jak pierwotnie sądzono. Dziś oba sposoby zachowania się uważamy po prostu za przejawy istnienia materi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1927 r. niemiecki fizyk Werner Heisenberg w interesujący sposób uzupełnił pojęcie cząstka-fala. Sformułował on </a:t>
            </a:r>
            <a:r>
              <a:rPr b="0" i="1" lang="pl-PL" sz="1800" spc="-1" strike="noStrike">
                <a:solidFill>
                  <a:srgbClr val="000000"/>
                </a:solidFill>
                <a:latin typeface="Arial"/>
              </a:rPr>
              <a:t>zasadę nieoznaczoności, </a:t>
            </a:r>
            <a:r>
              <a:rPr b="0" lang="pl-PL" sz="1800" spc="-1" strike="noStrike">
                <a:solidFill>
                  <a:srgbClr val="000000"/>
                </a:solidFill>
                <a:latin typeface="Arial"/>
              </a:rPr>
              <a:t>która podaje fundamentalną granicę możliwości jednoczesnego określenia pewnych par zmiennych, takich jak np. położenie i pęd. Zasada ta wywarła znaczny wpływ na nasze pojęcia o pomiarze. Pociąga za sobą nie tylko to, że istnieje granica dokładności pomiaru, ale że im bardziej dokładnie określamy położenie cząstki (x), tym większa jest niepewność pomiaru jej pędu (p) i na odwrót.</a:t>
            </a:r>
            <a:endParaRPr b="0" lang="en-US" sz="1800" spc="-1" strike="noStrike">
              <a:solidFill>
                <a:srgbClr val="000000"/>
              </a:solidFill>
              <a:latin typeface="Calibri"/>
            </a:endParaRPr>
          </a:p>
          <a:p>
            <a:pPr indent="0" algn="ct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p</a:t>
            </a:r>
            <a:r>
              <a:rPr b="0" lang="pl-PL" sz="1800" spc="-1" strike="noStrike">
                <a:solidFill>
                  <a:srgbClr val="000000"/>
                </a:solidFill>
                <a:latin typeface="Symbol"/>
                <a:ea typeface="Symbol"/>
              </a:rPr>
              <a:t></a:t>
            </a:r>
            <a:r>
              <a:rPr b="0" lang="pl-PL" sz="1800" spc="-1" strike="noStrike">
                <a:solidFill>
                  <a:srgbClr val="000000"/>
                </a:solidFill>
                <a:latin typeface="Arial"/>
              </a:rPr>
              <a:t>∆x&gt;h/4</a:t>
            </a:r>
            <a:r>
              <a:rPr b="0" lang="el-GR" sz="1800" spc="-1" strike="noStrike">
                <a:solidFill>
                  <a:srgbClr val="000000"/>
                </a:solidFill>
                <a:latin typeface="Arial"/>
                <a:ea typeface="Arial"/>
              </a:rPr>
              <a:t>π</a:t>
            </a:r>
            <a:endParaRPr b="0" lang="en-US" sz="18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Dzięki temu, że wielkość h = 6,625</a:t>
            </a:r>
            <a:r>
              <a:rPr b="0" lang="pl-PL" sz="1800" spc="-1" strike="noStrike">
                <a:solidFill>
                  <a:srgbClr val="000000"/>
                </a:solidFill>
                <a:latin typeface="Symbol"/>
                <a:ea typeface="Symbol"/>
              </a:rPr>
              <a:t></a:t>
            </a:r>
            <a:r>
              <a:rPr b="0" lang="pl-PL" sz="1800" spc="-1" strike="noStrike">
                <a:solidFill>
                  <a:srgbClr val="000000"/>
                </a:solidFill>
                <a:latin typeface="Arial"/>
              </a:rPr>
              <a:t>10</a:t>
            </a:r>
            <a:r>
              <a:rPr b="0" lang="pl-PL" sz="1800" spc="-1" strike="noStrike" baseline="30000">
                <a:solidFill>
                  <a:srgbClr val="000000"/>
                </a:solidFill>
                <a:latin typeface="Arial"/>
              </a:rPr>
              <a:t>-34</a:t>
            </a:r>
            <a:r>
              <a:rPr b="0" lang="pl-PL" sz="1800" spc="-1" strike="noStrike">
                <a:solidFill>
                  <a:srgbClr val="000000"/>
                </a:solidFill>
                <a:latin typeface="Arial"/>
              </a:rPr>
              <a:t>J</a:t>
            </a:r>
            <a:r>
              <a:rPr b="0" lang="pl-PL" sz="1800" spc="-1" strike="noStrike">
                <a:solidFill>
                  <a:srgbClr val="000000"/>
                </a:solidFill>
                <a:latin typeface="Symbol"/>
                <a:ea typeface="Symbol"/>
              </a:rPr>
              <a:t></a:t>
            </a:r>
            <a:r>
              <a:rPr b="0" lang="pl-PL" sz="1800" spc="-1" strike="noStrike">
                <a:solidFill>
                  <a:srgbClr val="000000"/>
                </a:solidFill>
                <a:latin typeface="Arial"/>
              </a:rPr>
              <a:t>s</a:t>
            </a:r>
            <a:r>
              <a:rPr b="0" i="1" lang="pl-PL" sz="1800" spc="-1" strike="noStrike">
                <a:solidFill>
                  <a:srgbClr val="000000"/>
                </a:solidFill>
                <a:latin typeface="Arial"/>
              </a:rPr>
              <a:t> jest mała, to nieoznaczoność ta nie jest istotna w świecie makroskopowym.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Nieoznaczoność, o której tu mowa, nie ma nic wspólnego z naturalną niepewnością wyniku pomiaru, jaka pojawia się w świecie makroskopowym wskutek oddziaływania między przyrządem pomiarowym a mierzoną wielkością. </a:t>
            </a:r>
            <a:endParaRPr b="0" lang="en-US" sz="18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żeli próbujemy na przykład zmierzyć temperaturę jakiegoś ciała, musimy użyć termometru, a umieszczenie termometru w kontakcie z danym ciałem zmienia temperaturę, którą chcemy zmierzyć.</a:t>
            </a:r>
            <a:endParaRPr b="0" lang="en-US" sz="18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sada nieoznaczoności, która jest prawem natury, nie obala prawa przyczynowości, które przyjmowało się za rzecz oczywistą w świecie makroskopowym. Szczególna teoria względności, o której mówiliśmy, jest mocno oparta na bezwzględnym rozróżnieniu między przyczyną i skutkiem. Lepszą nazwą dla zasady Heisenberga jest nazwa </a:t>
            </a:r>
            <a:r>
              <a:rPr b="0" i="1" lang="pl-PL" sz="1800" spc="-1" strike="noStrike">
                <a:solidFill>
                  <a:srgbClr val="000000"/>
                </a:solidFill>
                <a:latin typeface="Arial"/>
              </a:rPr>
              <a:t>zasada indeterminizmu. </a:t>
            </a:r>
            <a:r>
              <a:rPr b="0" lang="pl-PL" sz="1800" spc="-1" strike="noStrike">
                <a:solidFill>
                  <a:srgbClr val="000000"/>
                </a:solidFill>
                <a:latin typeface="Arial"/>
              </a:rPr>
              <a:t>Pod tym względem mechanika klasyczna Newtona i Galileusza jest </a:t>
            </a:r>
            <a:r>
              <a:rPr b="0" i="1" lang="pl-PL" sz="1800" spc="-1" strike="noStrike">
                <a:solidFill>
                  <a:srgbClr val="000000"/>
                </a:solidFill>
                <a:latin typeface="Arial"/>
              </a:rPr>
              <a:t>deterministyczna. </a:t>
            </a:r>
            <a:r>
              <a:rPr b="0" lang="pl-PL" sz="1800" spc="-1" strike="noStrike">
                <a:solidFill>
                  <a:srgbClr val="000000"/>
                </a:solidFill>
                <a:latin typeface="Arial"/>
              </a:rPr>
              <a:t>(Jeżeli znamy siłę działającą na cząstkę i warunki początkowe — położenie 1 pęd — możemy przewidzieć dalszy ruch cząstki </a:t>
            </a:r>
            <a:br>
              <a:rPr sz="1800"/>
            </a:br>
            <a:r>
              <a:rPr b="0" lang="pl-PL" sz="1800" spc="-1" strike="noStrike">
                <a:solidFill>
                  <a:srgbClr val="000000"/>
                </a:solidFill>
                <a:latin typeface="Arial"/>
              </a:rPr>
              <a:t>z bezwzględną dokładnością). Świat mikroskopowy jest zasadniczo </a:t>
            </a:r>
            <a:r>
              <a:rPr b="0" i="1" lang="pl-PL" sz="1800" spc="-1" strike="noStrike">
                <a:solidFill>
                  <a:srgbClr val="000000"/>
                </a:solidFill>
                <a:latin typeface="Arial"/>
              </a:rPr>
              <a:t>z </a:t>
            </a:r>
            <a:r>
              <a:rPr b="0" lang="pl-PL" sz="1800" spc="-1" strike="noStrike">
                <a:solidFill>
                  <a:srgbClr val="000000"/>
                </a:solidFill>
                <a:latin typeface="Arial"/>
              </a:rPr>
              <a:t>gruntu </a:t>
            </a:r>
            <a:r>
              <a:rPr b="0" i="1" lang="pl-PL" sz="1800" spc="-1" strike="noStrike">
                <a:solidFill>
                  <a:srgbClr val="000000"/>
                </a:solidFill>
                <a:latin typeface="Arial"/>
              </a:rPr>
              <a:t>indeterministyczny. </a:t>
            </a:r>
            <a:r>
              <a:rPr b="0" lang="pl-PL" sz="1800" spc="-1" strike="noStrike">
                <a:solidFill>
                  <a:srgbClr val="000000"/>
                </a:solidFill>
                <a:latin typeface="Arial"/>
              </a:rPr>
              <a:t>Zagadnienie nieoznaczoności jest logiczną konsekwencją dwoistego zachowania materii. </a:t>
            </a:r>
            <a:r>
              <a:rPr b="1" lang="pl-PL" sz="1800" spc="-1" strike="noStrike">
                <a:solidFill>
                  <a:srgbClr val="000000"/>
                </a:solidFill>
                <a:latin typeface="Arial"/>
              </a:rPr>
              <a:t>W tym ujęciu traci sens pojęcie toru jako zbioru punktów odpowiadających położeniom ciała w kolejnych następujących po sobie chwilach ruch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79280" y="189000"/>
            <a:ext cx="8785440" cy="4992480"/>
          </a:xfrm>
          <a:prstGeom prst="rect">
            <a:avLst/>
          </a:prstGeom>
          <a:noFill/>
          <a:ln w="0">
            <a:noFill/>
          </a:ln>
        </p:spPr>
        <p:txBody>
          <a:bodyPr lIns="92160" rIns="92160" tIns="46080" bIns="46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ea typeface="Arial"/>
              </a:rPr>
              <a:t>DNA i jego ułożenie w jądrze komórkowym.</a:t>
            </a:r>
            <a:endParaRPr b="0" lang="en-US" sz="4000" spc="-1" strike="noStrike">
              <a:solidFill>
                <a:srgbClr val="000000"/>
              </a:solidFill>
              <a:latin typeface="Calibri"/>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ole tekstowe 1"/>
          <p:cNvSpPr/>
          <p:nvPr/>
        </p:nvSpPr>
        <p:spPr>
          <a:xfrm>
            <a:off x="324000" y="765000"/>
            <a:ext cx="8351640" cy="341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Tematy opracowano na podstawi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T. Kąkol, Biologia kompendium, Świat książki, Warszawa 201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iologia encyklopedia szkolna PWN, Warszawa 200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A.Nason, R.L. Dehaan, Świat biologii, PWRiL, Warszawa 198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Cz. Jura, Encyklopedia biologiczna , Kraków 199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C.A. Villee, Biologia, PWRL ,Warszawa 199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iologia vademecum maturalne 2011 , Operon, Gdynia 201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ole tekstowe 1"/>
          <p:cNvSpPr/>
          <p:nvPr/>
        </p:nvSpPr>
        <p:spPr>
          <a:xfrm>
            <a:off x="395280" y="333360"/>
            <a:ext cx="828036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000000"/>
                </a:solidFill>
                <a:uFillTx/>
                <a:latin typeface="Arial"/>
              </a:rPr>
              <a:t>BUDOWA I WŁAŚCIWOŚCI KWASÓW NUKLEINOWYCH, STRUKTURA  I ORGANIZACJA CHROMATYN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000000"/>
                </a:solidFill>
                <a:uFillTx/>
                <a:latin typeface="Arial"/>
              </a:rPr>
              <a:t>A) ELEMENTY SKŁADOWE KWASÓW NUKLEINOWYCH –ZASADY AZOTOWE, NUKLEOZYDY I NUKLEOTYD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ząsteczki nazywane kwasami nukleinowymi biorą swoją nazwę od głównego miejsca występowania w komórce – jądra (łac. nucleus). Wyróżnia się dwa rodzaje kwasów nukleinowych – </a:t>
            </a:r>
            <a:r>
              <a:rPr b="0" lang="pl-PL" sz="2400" spc="-1" strike="noStrike" u="sng">
                <a:solidFill>
                  <a:srgbClr val="000000"/>
                </a:solidFill>
                <a:uFillTx/>
                <a:latin typeface="Arial"/>
              </a:rPr>
              <a:t>kwas rybonukleinowy – RNA</a:t>
            </a:r>
            <a:r>
              <a:rPr b="0" lang="pl-PL" sz="2400" spc="-1" strike="noStrike">
                <a:solidFill>
                  <a:srgbClr val="000000"/>
                </a:solidFill>
                <a:latin typeface="Arial"/>
              </a:rPr>
              <a:t> oraz </a:t>
            </a:r>
            <a:r>
              <a:rPr b="1" lang="pl-PL" sz="2400" spc="-1" strike="noStrike" u="sng">
                <a:solidFill>
                  <a:srgbClr val="000000"/>
                </a:solidFill>
                <a:uFillTx/>
                <a:latin typeface="Arial"/>
              </a:rPr>
              <a:t>dezoksyrybonukleinowy – DNA</a:t>
            </a:r>
            <a:r>
              <a:rPr b="1" lang="pl-PL" sz="2400" spc="-1" strike="noStrike">
                <a:solidFill>
                  <a:srgbClr val="000000"/>
                </a:solidFill>
                <a:latin typeface="Arial"/>
              </a:rPr>
              <a:t>.</a:t>
            </a:r>
            <a:r>
              <a:rPr b="0" lang="pl-PL" sz="2400" spc="-1" strike="noStrike">
                <a:solidFill>
                  <a:srgbClr val="000000"/>
                </a:solidFill>
                <a:latin typeface="Arial"/>
              </a:rPr>
              <a:t> DNA występuje w jądrze (również mitochondriach i chloroplastach)  i stanowi magazyn informacji genetycznej. Kwasy nukleinowe są polimerami mniejszych cząsteczek, zwanych nukleotydami. Nukleotyd składa się z nukleozydu, do którego przyłączona jest reszta kwasu fosforowego. Nukleozyd z kolei stanowi połączenie zasady azotowej oraz cukru pięciowęglowego (pentozy). W DNA cukier stanowi deoksyryboz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rostokąt 3"/>
          <p:cNvSpPr/>
          <p:nvPr/>
        </p:nvSpPr>
        <p:spPr>
          <a:xfrm>
            <a:off x="179280" y="4437000"/>
            <a:ext cx="864072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sady azotowe wchodzące w skład kwasu dezoksyrybonukleinowego to pochodne puryny (zasady purynowe) lub pirymidyny (zasady pirymidynowe). Zasady purynowe to </a:t>
            </a:r>
            <a:r>
              <a:rPr b="1" lang="pl-PL" sz="2400" spc="-1" strike="noStrike">
                <a:solidFill>
                  <a:srgbClr val="000000"/>
                </a:solidFill>
                <a:latin typeface="Arial"/>
              </a:rPr>
              <a:t>adenina i guanina</a:t>
            </a:r>
            <a:r>
              <a:rPr b="0" lang="pl-PL" sz="2400" spc="-1" strike="noStrike">
                <a:solidFill>
                  <a:srgbClr val="000000"/>
                </a:solidFill>
                <a:latin typeface="Arial"/>
              </a:rPr>
              <a:t> zaś pirymidynowe – </a:t>
            </a:r>
            <a:r>
              <a:rPr b="1" lang="pl-PL" sz="2400" spc="-1" strike="noStrike">
                <a:solidFill>
                  <a:srgbClr val="000000"/>
                </a:solidFill>
                <a:latin typeface="Arial"/>
              </a:rPr>
              <a:t>cytozyna i tymina. </a:t>
            </a:r>
            <a:endParaRPr b="0" lang="en-US" sz="2400" spc="-1" strike="noStrike">
              <a:solidFill>
                <a:srgbClr val="000000"/>
              </a:solidFill>
              <a:latin typeface="Arial"/>
            </a:endParaRPr>
          </a:p>
        </p:txBody>
      </p:sp>
      <p:graphicFrame>
        <p:nvGraphicFramePr>
          <p:cNvPr id="118" name="Object 23"/>
          <p:cNvGraphicFramePr/>
          <p:nvPr/>
        </p:nvGraphicFramePr>
        <p:xfrm>
          <a:off x="0" y="765000"/>
          <a:ext cx="9045720" cy="3240360"/>
        </p:xfrm>
        <a:graphic>
          <a:graphicData uri="http://schemas.openxmlformats.org/presentationml/2006/ole">
            <p:oleObj r:id="rId1" spid="">
              <p:embed/>
              <p:pic>
                <p:nvPicPr>
                  <p:cNvPr id="119" name="Object 23" descr=""/>
                  <p:cNvPicPr/>
                  <p:nvPr/>
                </p:nvPicPr>
                <p:blipFill>
                  <a:blip r:embed="rId2"/>
                  <a:stretch/>
                </p:blipFill>
                <p:spPr>
                  <a:xfrm>
                    <a:off x="0" y="765000"/>
                    <a:ext cx="9045720" cy="32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ole tekstowe 1"/>
          <p:cNvSpPr/>
          <p:nvPr/>
        </p:nvSpPr>
        <p:spPr>
          <a:xfrm>
            <a:off x="468360" y="33336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szczególne nukleotydy łączą się ze sobą w ten sposób, że reszta kwasu fosforowego jednego nukleotydu łączy się z deoksyrybozą następnego, w ten sposób powstaje jedna z nici DNA.</a:t>
            </a:r>
            <a:endParaRPr b="0" lang="en-US" sz="2400" spc="-1" strike="noStrike">
              <a:solidFill>
                <a:srgbClr val="000000"/>
              </a:solidFill>
              <a:latin typeface="Arial"/>
            </a:endParaRPr>
          </a:p>
        </p:txBody>
      </p:sp>
      <p:pic>
        <p:nvPicPr>
          <p:cNvPr id="121" name="Obraz 2" descr=""/>
          <p:cNvPicPr/>
          <p:nvPr/>
        </p:nvPicPr>
        <p:blipFill>
          <a:blip r:embed="rId1"/>
          <a:stretch/>
        </p:blipFill>
        <p:spPr>
          <a:xfrm>
            <a:off x="2916360" y="1557360"/>
            <a:ext cx="2376360" cy="4824360"/>
          </a:xfrm>
          <a:prstGeom prst="rect">
            <a:avLst/>
          </a:prstGeom>
          <a:ln w="0">
            <a:noFill/>
          </a:ln>
        </p:spPr>
      </p:pic>
      <p:sp>
        <p:nvSpPr>
          <p:cNvPr id="122" name="pole tekstowe 3"/>
          <p:cNvSpPr/>
          <p:nvPr/>
        </p:nvSpPr>
        <p:spPr>
          <a:xfrm>
            <a:off x="5364000" y="2708280"/>
            <a:ext cx="3529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800080"/>
                </a:solidFill>
                <a:uFillTx/>
                <a:latin typeface="Arial"/>
              </a:rPr>
              <a:t>http://www.chemia.dami.pl/wyzsza/rozdzial_XIII/grafika7/nukleotyd14.jp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ole tekstowe 2"/>
          <p:cNvSpPr/>
          <p:nvPr/>
        </p:nvSpPr>
        <p:spPr>
          <a:xfrm>
            <a:off x="324000" y="425520"/>
            <a:ext cx="8569080" cy="630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SADA KOMPLEMENTARNOŚC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sady azotowe cechuje zdolność do łączenia się w pary, przy czym obowiązuje tu ściśle określona reguła: adenina zawsze łączy się z tyminą, a guanina z cytozyną. Cecha ta nazywana jest </a:t>
            </a:r>
            <a:r>
              <a:rPr b="1" lang="pl-PL" sz="3200" spc="-1" strike="noStrike">
                <a:solidFill>
                  <a:srgbClr val="000000"/>
                </a:solidFill>
                <a:latin typeface="Arial"/>
              </a:rPr>
              <a:t>komplementarnością zasad azotowych.</a:t>
            </a:r>
            <a:r>
              <a:rPr b="0" lang="pl-PL" sz="3200" spc="-1" strike="noStrike">
                <a:solidFill>
                  <a:srgbClr val="000000"/>
                </a:solidFill>
                <a:latin typeface="Arial"/>
              </a:rPr>
              <a:t> Jedyną rzeczą różniącą nukleotydy jest zasada azotowa. Gdy odpowiednio blisko znajdą się zasady azotowe to powstaje samoistne wiązanie wodorow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dnym z genialnych badaczy XVIII w. był chemik francuski, Antoine Laurent Lavoisier (1743 - 1794). Genialność tego badacza nie polegała na poszukiwaniu nowych atrakcyjnych związków, lecz na systematycznym śledzeniu przebiegu znanych już reakcji, odtwarzaniu ich i nowoczesnym interpretowaniu uzyskanych wyników. </a:t>
            </a:r>
            <a:r>
              <a:rPr b="0" lang="pl-PL" sz="2000" spc="-1" strike="noStrike">
                <a:solidFill>
                  <a:srgbClr val="000000"/>
                </a:solidFill>
                <a:latin typeface="Calibri"/>
              </a:rPr>
              <a:t>Bardzo głośne były eksperymenty Lavoisiera, w których spalanym materiałem były diamenty. W wyniku tych prób ustalił, że diamenty spalają się w powietrzu, a jedynym produktem spalania był dwutlenek węgla, gdyż ten z wodą wapienną tworzył węglan wapniowy. Diamenty są więc czystym węglem, choć specjalną jego odmianą. Opierając się na wynikach swoich badań </a:t>
            </a:r>
            <a:r>
              <a:rPr b="0" lang="pl-PL" sz="1800" spc="-1" strike="noStrike">
                <a:solidFill>
                  <a:srgbClr val="000000"/>
                </a:solidFill>
                <a:latin typeface="Arial"/>
              </a:rPr>
              <a:t>Lavoisier doszedł do pewnego uogólnienia, które dziś nazywamy </a:t>
            </a:r>
            <a:r>
              <a:rPr b="1" lang="pl-PL" sz="1800" spc="-1" strike="noStrike">
                <a:solidFill>
                  <a:srgbClr val="000000"/>
                </a:solidFill>
                <a:latin typeface="Arial"/>
              </a:rPr>
              <a:t>prawem zachowania masy</a:t>
            </a:r>
            <a:r>
              <a:rPr b="0" lang="pl-PL" sz="1800" spc="-1" strike="noStrike">
                <a:solidFill>
                  <a:srgbClr val="000000"/>
                </a:solidFill>
                <a:latin typeface="Arial"/>
              </a:rPr>
              <a:t>. To jedno </a:t>
            </a:r>
            <a:br>
              <a:rPr sz="1800"/>
            </a:br>
            <a:r>
              <a:rPr b="0" lang="pl-PL" sz="1800" spc="-1" strike="noStrike">
                <a:solidFill>
                  <a:srgbClr val="000000"/>
                </a:solidFill>
                <a:latin typeface="Arial"/>
              </a:rPr>
              <a:t>z podstawowych praw przyrod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94920" y="189000"/>
            <a:ext cx="8209080" cy="1511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Łączenie się zasad azotowych zgodne z zasadą komplementarności</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25" name="Object 17"/>
          <p:cNvGraphicFramePr/>
          <p:nvPr/>
        </p:nvGraphicFramePr>
        <p:xfrm>
          <a:off x="250920" y="2133720"/>
          <a:ext cx="11161440" cy="3456000"/>
        </p:xfrm>
        <a:graphic>
          <a:graphicData uri="http://schemas.openxmlformats.org/presentationml/2006/ole">
            <p:oleObj r:id="rId1" spid="">
              <p:embed/>
              <p:pic>
                <p:nvPicPr>
                  <p:cNvPr id="126" name="Object 17" descr=""/>
                  <p:cNvPicPr/>
                  <p:nvPr/>
                </p:nvPicPr>
                <p:blipFill>
                  <a:blip r:embed="rId2"/>
                  <a:stretch/>
                </p:blipFill>
                <p:spPr>
                  <a:xfrm>
                    <a:off x="250920" y="2133720"/>
                    <a:ext cx="11161440" cy="345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ole tekstowe 1"/>
          <p:cNvSpPr/>
          <p:nvPr/>
        </p:nvSpPr>
        <p:spPr>
          <a:xfrm>
            <a:off x="395280" y="549360"/>
            <a:ext cx="8569440" cy="545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ruga, równoległa nić zbudowana jest z nukleotydów komplementarnych, a więc, jeśli na jednej nici w wybranym miejscu znajduje się nukleotyd adeninowy, to naprzeciwko niego będzie nukleotyd zawierający tyminę i odpowiednio naprzeciw nukleotydu guaninowego znajdzie się nukleotyd zawierający cytozynę. Można więc powiedzieć, że nici na całej swej długości są względem siebie komplementarn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ole tekstowe 1"/>
          <p:cNvSpPr/>
          <p:nvPr/>
        </p:nvSpPr>
        <p:spPr>
          <a:xfrm>
            <a:off x="468360" y="189000"/>
            <a:ext cx="8207280" cy="621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UDOWA  KWASU DN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ałość składa się przeciętnie z kilku - kilkudziesięciu milionów par nukleotydów. Badacze J. D. Watson i F. C. K. Crick wykazali, że DNA posiada strukturę II-rzędową w postaci podwójnej prawoskrętnej helisy. Dwie nici polinukleotydowe występują jako wzajemnie splecione helisy. Obydwie nici okręcają się wokół siebie w prawą stronę, tworząc ostatecznie uformowaną cząsteczkę DN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ole tekstowe 2"/>
          <p:cNvSpPr/>
          <p:nvPr/>
        </p:nvSpPr>
        <p:spPr>
          <a:xfrm>
            <a:off x="395280" y="38412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BUDOWA DNA</a:t>
            </a:r>
            <a:endParaRPr b="0" lang="en-US" sz="2800" spc="-1" strike="noStrike">
              <a:solidFill>
                <a:srgbClr val="000000"/>
              </a:solidFill>
              <a:latin typeface="Arial"/>
            </a:endParaRPr>
          </a:p>
        </p:txBody>
      </p:sp>
      <p:pic>
        <p:nvPicPr>
          <p:cNvPr id="130" name="Obraz 2" descr=""/>
          <p:cNvPicPr/>
          <p:nvPr/>
        </p:nvPicPr>
        <p:blipFill>
          <a:blip r:embed="rId1"/>
          <a:stretch/>
        </p:blipFill>
        <p:spPr>
          <a:xfrm>
            <a:off x="755640" y="1125360"/>
            <a:ext cx="5977080" cy="5183280"/>
          </a:xfrm>
          <a:prstGeom prst="rect">
            <a:avLst/>
          </a:prstGeom>
          <a:ln w="0">
            <a:noFill/>
          </a:ln>
        </p:spPr>
      </p:pic>
      <p:sp>
        <p:nvSpPr>
          <p:cNvPr id="131" name="pole tekstowe 3"/>
          <p:cNvSpPr/>
          <p:nvPr/>
        </p:nvSpPr>
        <p:spPr>
          <a:xfrm>
            <a:off x="0" y="766800"/>
            <a:ext cx="864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800080"/>
                </a:solidFill>
                <a:uFillTx/>
                <a:latin typeface="Arial"/>
              </a:rPr>
              <a:t>http://www.chemia.dami.pl/wyzsza/rozdzial_XIII/grafika7/nukleotyd14.jp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ole tekstowe 2"/>
          <p:cNvSpPr/>
          <p:nvPr/>
        </p:nvSpPr>
        <p:spPr>
          <a:xfrm>
            <a:off x="468360" y="260280"/>
            <a:ext cx="7991280" cy="642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Jądro komórkowe – organellum otoczone błoną obecne we wszystkich komórkach eukariotycznych z wyjątkiem tych, które wtórnie je utraciły w trakcie różnicowania, np. dojrzałe erytrocyty ssaków. Zawiera większość materiału genetycznego w postaci wielu pojedynczych, długich nici DNA związanych z dużą ilością białek, głównie histonowych, które razem tworzą chromosomy.  Geny zlokalizowane w chromosomach stanowią  genom komórki. Funkcją jądra komórkowego jest przechowywanie i powielanie informacji genetycznej (replikacja DNA) oraz przekazywanie informacji genetycznej na RNA (transkrypcja). Sok jądrowy, wypełniający wnętrze jądra, składa się z chromatyny, jąderka i macierzy.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ole tekstowe 1"/>
          <p:cNvSpPr/>
          <p:nvPr/>
        </p:nvSpPr>
        <p:spPr>
          <a:xfrm>
            <a:off x="468360" y="620640"/>
            <a:ext cx="8207280" cy="542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Etapy organizacji DNA:</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Chromatyna</a:t>
            </a:r>
            <a:r>
              <a:rPr b="0" lang="pl-PL" sz="2500" spc="-1" strike="noStrike">
                <a:solidFill>
                  <a:srgbClr val="000000"/>
                </a:solidFill>
                <a:latin typeface="Arial"/>
              </a:rPr>
              <a:t> – ma formę nici złożonych z DNA i białek histonowych. Upakowanie długich cząstek tego kwasu w niewielkiej objętości jądra umożliwiają nukleosomy.</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Nukleosom</a:t>
            </a:r>
            <a:r>
              <a:rPr b="0" lang="pl-PL" sz="2500" spc="-1" strike="noStrike">
                <a:solidFill>
                  <a:srgbClr val="000000"/>
                </a:solidFill>
                <a:latin typeface="Arial"/>
              </a:rPr>
              <a:t> – odcinek DNA zawierający ok. 146 par nukleotydów.</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Fibryla chromatynowa</a:t>
            </a:r>
            <a:r>
              <a:rPr b="0" lang="pl-PL" sz="2500" spc="-1" strike="noStrike">
                <a:solidFill>
                  <a:srgbClr val="000000"/>
                </a:solidFill>
                <a:latin typeface="Arial"/>
              </a:rPr>
              <a:t> – zbiór nukleosomów ułożonych naprzemiennie.</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Solenoid</a:t>
            </a:r>
            <a:r>
              <a:rPr b="0" lang="pl-PL" sz="2500" spc="-1" strike="noStrike">
                <a:solidFill>
                  <a:srgbClr val="000000"/>
                </a:solidFill>
                <a:latin typeface="Arial"/>
              </a:rPr>
              <a:t> – spiralne zwinięcie fibryli chromatynowej.</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Domena</a:t>
            </a:r>
            <a:r>
              <a:rPr b="0" lang="pl-PL" sz="2500" spc="-1" strike="noStrike">
                <a:solidFill>
                  <a:srgbClr val="000000"/>
                </a:solidFill>
                <a:latin typeface="Arial"/>
              </a:rPr>
              <a:t> – pojedyncza pętla solenoidu.</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Chromosom</a:t>
            </a:r>
            <a:r>
              <a:rPr b="0" lang="pl-PL" sz="2500" spc="-1" strike="noStrike">
                <a:solidFill>
                  <a:srgbClr val="000000"/>
                </a:solidFill>
                <a:latin typeface="Arial"/>
              </a:rPr>
              <a:t> – wybarwiająca się struktura zbudowana z silnie skręconej chromatyny, pojawiająca się w komórce w związku z jej podziałem.</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ole tekstowe 1"/>
          <p:cNvSpPr/>
          <p:nvPr/>
        </p:nvSpPr>
        <p:spPr>
          <a:xfrm>
            <a:off x="395280" y="260280"/>
            <a:ext cx="8280360" cy="12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Etapy organizacji DNA rysunek</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5" name="Picture 4" descr=""/>
          <p:cNvPicPr/>
          <p:nvPr/>
        </p:nvPicPr>
        <p:blipFill>
          <a:blip r:embed="rId1"/>
          <a:stretch/>
        </p:blipFill>
        <p:spPr>
          <a:xfrm>
            <a:off x="2195640" y="765000"/>
            <a:ext cx="4335480" cy="5616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ole tekstowe 1"/>
          <p:cNvSpPr/>
          <p:nvPr/>
        </p:nvSpPr>
        <p:spPr>
          <a:xfrm>
            <a:off x="250920" y="692280"/>
            <a:ext cx="8569080" cy="545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REPLIKACJA (POWIELANIE) DN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Przebieg replikacji:</a:t>
            </a:r>
            <a:endParaRPr b="0" lang="en-US" sz="32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limeraza DNA (kompleks enzymatyczny uczestniczący w replikacji) znajduje na nici DNA miejsca inicjacji replikacji. Są to odpowiednie sekwencje nukleotydów rozpoznawane jako miejsca startu. Takich miejsc w obrębie jednej cząsteczki jest wiele, stąd replikacja jednocześnie przebiega w wielu miejscach.</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ole tekstowe 1"/>
          <p:cNvSpPr/>
          <p:nvPr/>
        </p:nvSpPr>
        <p:spPr>
          <a:xfrm>
            <a:off x="324000" y="333360"/>
            <a:ext cx="8424720" cy="623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100" spc="-1" strike="noStrike">
                <a:solidFill>
                  <a:srgbClr val="000000"/>
                </a:solidFill>
                <a:latin typeface="Arial"/>
              </a:rPr>
              <a:t>2. W miejscu inicjacji replikacji następuje rozplecenie podwójnej helisy. Jest to konieczne, gdyż zasady azotowe skierowane są do środka i inaczej nie dałoby się ich odczytać. W miejscu rozplecenia powstają tzw. widełki replikacyjne.</a:t>
            </a:r>
            <a:endParaRPr b="0" lang="en-US" sz="3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100" spc="-1" strike="noStrike">
                <a:solidFill>
                  <a:srgbClr val="000000"/>
                </a:solidFill>
                <a:latin typeface="Arial"/>
              </a:rPr>
              <a:t>3. W widełkach replikacyjnych polimeraza DNA ustawia naprzeciwko każdego nukleotydu nowy komplementarny nukleotyd. Nowe nukleotydy łączą się ze sobą (polimeryzują) i powstaje nowa nić. Analogiczne zjawisko zachodzi na drugiej nici.</a:t>
            </a:r>
            <a:endParaRPr b="0" lang="en-US" sz="3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ole tekstowe 1"/>
          <p:cNvSpPr/>
          <p:nvPr/>
        </p:nvSpPr>
        <p:spPr>
          <a:xfrm>
            <a:off x="324000" y="333360"/>
            <a:ext cx="842472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brane enzymy uczestniczące w replikacji D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olimeraza</a:t>
            </a:r>
            <a:r>
              <a:rPr b="0" lang="pl-PL" sz="2400" spc="-1" strike="noStrike">
                <a:solidFill>
                  <a:srgbClr val="000000"/>
                </a:solidFill>
                <a:latin typeface="Arial"/>
              </a:rPr>
              <a:t> – odpowiada przede wszystkim za komplementarne przyłączenie nukleotydów do nowo powstającej nici oraz skanowanie wyników i naprawianie błędów.</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Helikaza</a:t>
            </a:r>
            <a:r>
              <a:rPr b="0" lang="pl-PL" sz="2400" spc="-1" strike="noStrike">
                <a:solidFill>
                  <a:srgbClr val="000000"/>
                </a:solidFill>
                <a:latin typeface="Arial"/>
              </a:rPr>
              <a:t> – enzym rozrywający wiązania wodorowe między zasadami azotowym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Ligaza</a:t>
            </a:r>
            <a:r>
              <a:rPr b="0" lang="pl-PL" sz="2400" spc="-1" strike="noStrike">
                <a:solidFill>
                  <a:srgbClr val="000000"/>
                </a:solidFill>
                <a:latin typeface="Arial"/>
              </a:rPr>
              <a:t> – enzym katalizujący powstawanie wiązań między fragmentami DN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OUST Joseph Louis (1754 – 1826) </a:t>
            </a:r>
            <a:r>
              <a:rPr b="0" lang="pl-PL" sz="1800" spc="-1" strike="noStrike">
                <a:solidFill>
                  <a:srgbClr val="000000"/>
                </a:solidFill>
                <a:latin typeface="Arial"/>
              </a:rPr>
              <a:t>259 lat temu przyszedł na świat jeden z wybitnych chemików francuskich </a:t>
            </a:r>
            <a:r>
              <a:rPr b="0" i="1" lang="pl-PL" sz="1800" spc="-1" strike="noStrike">
                <a:solidFill>
                  <a:srgbClr val="000000"/>
                </a:solidFill>
                <a:latin typeface="Arial"/>
              </a:rPr>
              <a:t>Joseph Louis Proust</a:t>
            </a:r>
            <a:r>
              <a:rPr b="0" lang="pl-PL" sz="1800" spc="-1" strike="noStrike">
                <a:solidFill>
                  <a:srgbClr val="000000"/>
                </a:solidFill>
                <a:latin typeface="Arial"/>
              </a:rPr>
              <a:t>. Urodził się dnia 26 września 1754 r. w historycznym mieście Angers, położonym w północno-zachodniej Francji, stolicy hrabstwa Andegawenii, dawnej osadzie celtyckiej, a później rzymskiej. Dla Polaków miasto znane także z faktu, że po klęsce wrześniowej 1939 r. mieściła się tam pierwsza siedziba Polskiego Rządu na Uchodźstwie (do czerwca 1940 r.).</a:t>
            </a:r>
            <a:endParaRPr b="0" lang="en-US" sz="18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Obraz 1" descr=""/>
          <p:cNvPicPr/>
          <p:nvPr/>
        </p:nvPicPr>
        <p:blipFill>
          <a:blip r:embed="rId1"/>
          <a:stretch/>
        </p:blipFill>
        <p:spPr>
          <a:xfrm>
            <a:off x="684360" y="692280"/>
            <a:ext cx="3816360" cy="5616360"/>
          </a:xfrm>
          <a:prstGeom prst="rect">
            <a:avLst/>
          </a:prstGeom>
          <a:ln w="0">
            <a:noFill/>
          </a:ln>
        </p:spPr>
      </p:pic>
      <p:sp>
        <p:nvSpPr>
          <p:cNvPr id="140" name="pole tekstowe 2"/>
          <p:cNvSpPr/>
          <p:nvPr/>
        </p:nvSpPr>
        <p:spPr>
          <a:xfrm>
            <a:off x="4643280" y="1700280"/>
            <a:ext cx="4321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800080"/>
                </a:solidFill>
                <a:latin typeface="Arial"/>
              </a:rPr>
              <a:t>http://www.gendnademk.republika.pl/str%203%20DNA%20dobre.ht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ole tekstowe 3"/>
          <p:cNvSpPr/>
          <p:nvPr/>
        </p:nvSpPr>
        <p:spPr>
          <a:xfrm>
            <a:off x="1908000" y="260280"/>
            <a:ext cx="5256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REPLIKAC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ole tekstowe 1"/>
          <p:cNvSpPr/>
          <p:nvPr/>
        </p:nvSpPr>
        <p:spPr>
          <a:xfrm>
            <a:off x="324000" y="765000"/>
            <a:ext cx="835164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Ekstrakcja (izolacja) DNA z cebuli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Materiał dodatkow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Ekstrakcja - prosta i bardzo szybka metoda wytrącania kwasów nukleinowych pozwalająca na zobaczenie ich gołym okiem. Ekstrakcja DNA jest techniką pozwalającą oddzielić DNA z komórek czy tkanek. DNA jest podstawą dziedziczności, inaczej mówiąc nośnikiem informacji genetycznej, tworzy genom istot żywych i w procesie rozmnażania przekazuje go w całości lub częściow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ole tekstowe 1"/>
          <p:cNvSpPr/>
          <p:nvPr/>
        </p:nvSpPr>
        <p:spPr>
          <a:xfrm>
            <a:off x="468360" y="487440"/>
            <a:ext cx="8280360" cy="603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Doświadczenie - Izolacja DNA z cebul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Materiał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pół cebul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łyżeczka soli kuchennej (najlepiej niejodowanej)</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kilka mililitrów spirytusu (stężenie &gt;95% etanol) lub izopropanolu (najlepiej zamrożonego lub przynajmniej z lod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kropla płynu do mycia naczy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moździer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mały leje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filtr do kawy, ręcznik papierowy lub chusteczka higienicz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wykałaczka lub cienki drewniany patycze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wo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naczynia: szklanka lub słoik, mała szklanka lub mały słoiczek, probówka lub wysoki i wąski kielisze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ló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nó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deska do krojen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miseczka lub mały garnek, łyżeczk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szmatka lnia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tłuczek lub młote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ole tekstowe 1"/>
          <p:cNvSpPr/>
          <p:nvPr/>
        </p:nvSpPr>
        <p:spPr>
          <a:xfrm>
            <a:off x="468360" y="363600"/>
            <a:ext cx="8351640" cy="509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Wykonani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 </a:t>
            </a:r>
            <a:r>
              <a:rPr b="1" lang="pl-PL" sz="3200" spc="-1" strike="noStrike">
                <a:solidFill>
                  <a:srgbClr val="000000"/>
                </a:solidFill>
                <a:latin typeface="Arial"/>
              </a:rPr>
              <a:t>Przygotowani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1. Rozpuść jedną łyżeczkę soli kuchennej w ok. 100 ml wody (trochę mniej niż pół szklanki).</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ilka kostek lodu zawiń w lnianą szmatkę, rozbij je młotkiem na drobne kawałki i wsyp do miseczki lub małego garnuszk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ole tekstowe 1"/>
          <p:cNvSpPr/>
          <p:nvPr/>
        </p:nvSpPr>
        <p:spPr>
          <a:xfrm>
            <a:off x="395280" y="260280"/>
            <a:ext cx="8497800" cy="646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Arial"/>
              </a:rPr>
              <a:t>Procedura:</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Arial"/>
              </a:rPr>
              <a:t> </a:t>
            </a:r>
            <a:r>
              <a:rPr b="0" lang="pl-PL" sz="1900" spc="-1" strike="noStrike">
                <a:solidFill>
                  <a:srgbClr val="000000"/>
                </a:solidFill>
                <a:latin typeface="Arial"/>
              </a:rPr>
              <a:t>Z połówki cebuli wykrój kawałek o objętości mniej więcej 3 cm</a:t>
            </a:r>
            <a:r>
              <a:rPr b="0" lang="pl-PL" sz="1900" spc="-1" strike="noStrike" baseline="30000">
                <a:solidFill>
                  <a:srgbClr val="000000"/>
                </a:solidFill>
                <a:latin typeface="Arial"/>
              </a:rPr>
              <a:t>3</a:t>
            </a:r>
            <a:r>
              <a:rPr b="0" lang="pl-PL" sz="1900" spc="-1" strike="noStrike">
                <a:solidFill>
                  <a:srgbClr val="000000"/>
                </a:solidFill>
                <a:latin typeface="Arial"/>
              </a:rPr>
              <a:t> – najlepiej z części wewnętrznej, ale nie z trzonu, z którego wyrastają korzenie. Poszatkuj go jak najdrobniej, włóż do moździerza, wlej dwie łyżeczki wody z solą i utrzyj na gładką masę. Uzyskaną masę przenieś do małej szklanki, dolej do niej wody z solą, aby objętość zwiększyła się dwu, trzykrotnie, dodaj dużą kroplę płynu do mycia naczyń i delikatnie pomieszaj. Włóż szklankę do miski z lodem, tak aby lód sięgał do poziomu płynu. Mieszając co pewien czas, odczekaj 5 minut. Po chwili mieszanina zacznie być lepka, co można sprawdzić, zanurzając w niej wykałaczkę lub drewniany patyczek. Probówkę umieść w słoiku lub na statywie i włóż do niej lejek. Wnętrze lejka wyłóż filtrem i zwilż go wodą. Mieszaninę wyjętą z lodu przelej do lejka i poczekaj, aż w probówce zbierze się przesącz (wystarczy, żeby płyn miał 4–5 cm wysokości). Usuń lejek, lekko przechyl probówkę i bardzo ostrożnie nalej po ściance trochę zmrożonego spirytusu – tyle, żeby utworzył słup o podobnej wysokości, co słup przesączu. Odstaw probówkę na 2–3 minuty. Spirytus pozostanie na górze, a na styku faz będzie można zaobserwować wytrącanie się DNA. Możesz przechylić probówkę i delikatnie obracać ją wokół osi pionowej. DNA tworzy małe, białe kłaczki o nitkowatej strukturze. Można je nawet nawinąć na wykałaczkę lub patyczek i wyjąć z roztworu. Po wysuszeniu DNA jest niewidoczny. Znakomicie rozpuszcza się w wodzie.</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ole tekstowe 1"/>
          <p:cNvSpPr/>
          <p:nvPr/>
        </p:nvSpPr>
        <p:spPr>
          <a:xfrm>
            <a:off x="395280" y="765000"/>
            <a:ext cx="82803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3. Wytłumaczeni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W komórkach żywych organizmów znajduje się jądro komórkowe, a w nim kwasy nukleinowe, DNA i RNA. Kwasy te różnią się od siebie w sensie chemicznym obecnością jednego tlenu w cukrze (rybozie), który wchodzi w ich skład (w DNA ryboza pozbawiona jest tlenu i nosi nazwę deoksyrybozy – stąd bierze się D w skrócie DNA). Choć kwasy są podobne chemicznie, pełnią w komórce inne role. Zastosowana w doświadczeniu metoda izolacji opiera się na cechach chemicznych tych związków, dlatego za jej pomocą izoluje się zarówno DNA, jak i RNA. Dla uproszczenia procedurę określa się jednak mianem izolacji DNA. Kwasy nukleinowe można wyizolować dość łatwo metodą przypominającą procedury używane w laboratoriac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ole tekstowe 1"/>
          <p:cNvSpPr/>
          <p:nvPr/>
        </p:nvSpPr>
        <p:spPr>
          <a:xfrm>
            <a:off x="324000" y="476280"/>
            <a:ext cx="8424720" cy="640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to wytłumaczenie jej etapó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 Rozcieranie tkanek: tkanki muszą zostać pofragmentowane na komórki, a komórki muszą popękać, żeby wydobyć z nich DNA. Intensywne oddziaływanie mechaniczne jest znakomitą metodą rozbijania tkanek na pojedyncze komórki. Jest to szczególnie ważne w przypadku komórek roślinnych, które otoczone są grubą ścianą komórkową – mechaniczne oddziaływanie narusza jej strukturę.</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 Dodatek detergentu powoduje, że rozpadają się błony komórkowe (złożone z lipidów, które mają charakter tłuszczowy), a wnętrze komórki wydostaje się do roztworu (liza komórki, mieszanina „ciągnie się”).</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3. Po uwolnieniu wnętrza komórek DNA narażony jest na degradację (rozkład na składniki budulcowe) i fragmentację. Niska temperatura hamuje aktywność białek (enzymów) degradujących DNA, a obecność soli powoduje wytrącanie tych białek z roztwor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4. Na filtrze zostają wszystkie niepotrzebne elementy tkanek – duża ilość DNA znajduje się w przesącz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5. DNA jest kwasem, którego reszty naładowane są ujemnie. Dzięki temu jony Na+ z soli kuchennej otaczają cząsteczki DNA. Przy wysokim stężeniu soli w obecności etanolu (alkoholu) DNA zmienia swoją przestrzenną strukturę i tworzy agregaty (duże, nieuporządkowane kompleksy) – wytrąca się. Dzięki temu jest widoczny jako długie nitki. Proces jest szczególnie wydajny jeżeli etanol jest bardzo zim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ole tekstowe 1"/>
          <p:cNvSpPr/>
          <p:nvPr/>
        </p:nvSpPr>
        <p:spPr>
          <a:xfrm>
            <a:off x="250920" y="692280"/>
            <a:ext cx="849780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WAGA – DŁUGIE NITKI TO NIE POJEDYNCZE CZĄSTECZKI DNA! SĄ ONE ZBYT MAŁE, ŻEBY JE ZOBACZYĆ BEZ BARDZO SILNEGO MIKROSKOP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NA jest związkiem, w którego strukturze zapisana jest informacja genetyczna. Cząsteczki RNA służą do odczytywania tej informacji. W DNA zapisane są informacje o budowie wszystkich białek komórkowych (takie fragmenty DNA nazywa się genami). Geny to jednak jedynie niewielka część DNA (np. w komórkach ssaków stanowią tylko 3%). Reszta sekwencji służy do regulacji procesu odczytywania informacji, nadaje DNA strukturę, odpowiada za powielanie materiału genetycznego i przekazywanie go do komórek potomnych i pełni wiele innych funkcji. Kwasy nukleinowe regulują wszelkie procesy życiowe komórek, a co za tym idzie – całych tkanek i organizmów.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Alternatyw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 izolacji DNA można użyć innych roślin, np. ziaren pszenicy, truskawek, kiwi. Kiwi wyjątkowo dobrze nadaje się do tego celu, ponieważ w jego soku znajduje się enzym trawiący białka, także takie, które mogą degradować DNA w trakcie izolacji. Zamiast moździerza można użyć blendera, czyli miksera z szybko obracającym się ostrzem. Niektórzy polecają inkubację mieszaniny w gorącej wodzie (ok. 65 ºC) przed umieszczeniem jej w lodzi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ole tekstowe 1"/>
          <p:cNvSpPr/>
          <p:nvPr/>
        </p:nvSpPr>
        <p:spPr>
          <a:xfrm>
            <a:off x="468360" y="692280"/>
            <a:ext cx="8424720" cy="393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ILM PREZENTUJĄCY DOŚWIADCZENIE EKSTRAKCJI DNA Z CEBUL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800080"/>
                </a:solidFill>
                <a:latin typeface="Arial"/>
              </a:rPr>
              <a:t>http://www.youtube.com/watch?v=2Hrp39a_BKw</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ole tekstowe 1"/>
          <p:cNvSpPr/>
          <p:nvPr/>
        </p:nvSpPr>
        <p:spPr>
          <a:xfrm>
            <a:off x="468360" y="765000"/>
            <a:ext cx="8351640" cy="60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ANALIZA BADAŃ NAD DNA W CZASIE 140 L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Zagadnienie dodatkow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Mówiąc o badaniach nad DNA mamy na myśli badania w dziedzinie genetyk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Genetyka </a:t>
            </a:r>
            <a:r>
              <a:rPr b="0" lang="pl-PL" sz="2800" spc="-1" strike="noStrike">
                <a:solidFill>
                  <a:srgbClr val="000000"/>
                </a:solidFill>
                <a:latin typeface="Arial"/>
              </a:rPr>
              <a:t>– (gr. genesis czyli pochodzenia) jest nauką zajmującą się zjawiskiem dziedziczności i zmienności organizmów na podstawie informacji genetycznej.</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rekursorem prac w dziedzinie genetyki był zakonnik z Moraw Jan Grzegorz Mendel, który w 1886 roku opisał dwa prawa rządzące zjawiskiem dziedziczenia cech.</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ole tekstowe 1"/>
          <p:cNvSpPr/>
          <p:nvPr/>
        </p:nvSpPr>
        <p:spPr>
          <a:xfrm>
            <a:off x="324000" y="765000"/>
            <a:ext cx="849600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ształcił się na Uniwersytecie w Paryżu, był uczniem również słynnego chemika francuskiego </a:t>
            </a:r>
            <a:r>
              <a:rPr b="0" i="1" lang="pl-PL" sz="1800" spc="-1" strike="noStrike">
                <a:solidFill>
                  <a:srgbClr val="000000"/>
                </a:solidFill>
                <a:latin typeface="Arial"/>
              </a:rPr>
              <a:t>G.F. Rouelle’go</a:t>
            </a:r>
            <a:r>
              <a:rPr b="0" lang="pl-PL" sz="1800" spc="-1" strike="noStrike">
                <a:solidFill>
                  <a:srgbClr val="000000"/>
                </a:solidFill>
                <a:latin typeface="Arial"/>
              </a:rPr>
              <a:t>, którego innym, równie sławnym uczniem okazał się </a:t>
            </a:r>
            <a:r>
              <a:rPr b="0" i="1" lang="pl-PL" sz="1800" spc="-1" strike="noStrike">
                <a:solidFill>
                  <a:srgbClr val="000000"/>
                </a:solidFill>
                <a:latin typeface="Arial"/>
              </a:rPr>
              <a:t>Antoine Lavoisier</a:t>
            </a:r>
            <a:r>
              <a:rPr b="0" lang="pl-PL" sz="1800" spc="-1" strike="noStrike">
                <a:solidFill>
                  <a:srgbClr val="000000"/>
                </a:solidFill>
                <a:latin typeface="Arial"/>
              </a:rPr>
              <a:t> (1743-1794). </a:t>
            </a:r>
            <a:r>
              <a:rPr b="0" i="1" lang="pl-PL" sz="1800" spc="-1" strike="noStrike">
                <a:solidFill>
                  <a:srgbClr val="000000"/>
                </a:solidFill>
                <a:latin typeface="Arial"/>
              </a:rPr>
              <a:t>Proust</a:t>
            </a:r>
            <a:r>
              <a:rPr b="0" lang="pl-PL" sz="1800" spc="-1" strike="noStrike">
                <a:solidFill>
                  <a:srgbClr val="000000"/>
                </a:solidFill>
                <a:latin typeface="Arial"/>
              </a:rPr>
              <a:t> ukończył studia w 1777 r. i podjął na krótko obowiązki naczelnego farmaceuty w paryskim szpitalu Salpetriere Hospital. Jeszcze w tym samym roku wyjechał do Hiszpanii, gdzie przez 31 lat nauczał chemii w szkołach i na uczelniach w Segowii, Salamance i Madrycie. W trakcie pobytu w Segovii, pracując w Szkole Artylerii, zajmował się m.in. badaniem materiałów wybuchowych. W stolicy Hiszpanii, poza nauczaniem chemii, był przez 7 lat Dyrektorem Laboratorium Królewskiego mającego wówczas opinię najlepiej wyposażonego w Europie. W 1808 r. wraca do Francji, pracuje przez 9 dalszych lat w Craon, a stąd wraca do pracy w rodzinnym Angers. </a:t>
            </a:r>
            <a:br>
              <a:rPr sz="1800"/>
            </a:br>
            <a:r>
              <a:rPr b="0" lang="pl-PL" sz="1800" spc="-1" strike="noStrike">
                <a:solidFill>
                  <a:srgbClr val="000000"/>
                </a:solidFill>
                <a:latin typeface="Arial"/>
              </a:rPr>
              <a:t>Jeszcze będąc w Hiszpanii prowadził badania, uwieńczeniem których było m.in. odkrycie i sformułowanie w 1797 r. tzw. Prawa stosunków stałych (inaczej prawa stałości składu), zwanego często imieniem odkrywcy, które mówiło, że stosunek mas pierwiastków lub składników w związku chemicznym jest zawsze jednakowy </a:t>
            </a:r>
            <a:br>
              <a:rPr sz="1800"/>
            </a:br>
            <a:r>
              <a:rPr b="0" lang="pl-PL" sz="1800" spc="-1" strike="noStrike">
                <a:solidFill>
                  <a:srgbClr val="000000"/>
                </a:solidFill>
                <a:latin typeface="Arial"/>
              </a:rPr>
              <a:t>i nie zależy od sposobu jego utworzenia. Nowoodkryte prawo było przez długie lata (1801-1808) kwestionowane przez równie słynnego, a może nawet bardziej </a:t>
            </a:r>
            <a:br>
              <a:rPr sz="1800"/>
            </a:br>
            <a:r>
              <a:rPr b="0" lang="pl-PL" sz="1800" spc="-1" strike="noStrike">
                <a:solidFill>
                  <a:srgbClr val="000000"/>
                </a:solidFill>
                <a:latin typeface="Arial"/>
              </a:rPr>
              <a:t>w tych czasach renomowanego chemika, </a:t>
            </a:r>
            <a:r>
              <a:rPr b="0" i="1" lang="pl-PL" sz="1800" spc="-1" strike="noStrike">
                <a:solidFill>
                  <a:srgbClr val="000000"/>
                </a:solidFill>
                <a:latin typeface="Arial"/>
              </a:rPr>
              <a:t>Claude’a Louisa Bertholleta</a:t>
            </a:r>
            <a:r>
              <a:rPr b="0" lang="pl-PL" sz="1800" spc="-1" strike="noStrike">
                <a:solidFill>
                  <a:srgbClr val="000000"/>
                </a:solidFill>
                <a:latin typeface="Arial"/>
              </a:rPr>
              <a:t> (1748–1822).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ole tekstowe 1"/>
          <p:cNvSpPr/>
          <p:nvPr/>
        </p:nvSpPr>
        <p:spPr>
          <a:xfrm>
            <a:off x="395280" y="907920"/>
            <a:ext cx="8209080" cy="496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1905 roku </a:t>
            </a:r>
            <a:r>
              <a:rPr b="1" lang="pl-PL" sz="3200" spc="-1" strike="noStrike">
                <a:solidFill>
                  <a:srgbClr val="000000"/>
                </a:solidFill>
                <a:latin typeface="Arial"/>
              </a:rPr>
              <a:t>William Bateson</a:t>
            </a:r>
            <a:r>
              <a:rPr b="0" lang="pl-PL" sz="3200" spc="-1" strike="noStrike">
                <a:solidFill>
                  <a:srgbClr val="000000"/>
                </a:solidFill>
                <a:latin typeface="Arial"/>
              </a:rPr>
              <a:t> proponuje słowo genetyka odpowiadające nauce związanej z dziedziczeniem cech.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ięć lat później </a:t>
            </a:r>
            <a:r>
              <a:rPr b="1" lang="pl-PL" sz="3200" spc="-1" strike="noStrike">
                <a:solidFill>
                  <a:srgbClr val="000000"/>
                </a:solidFill>
                <a:latin typeface="Arial"/>
              </a:rPr>
              <a:t>Thomas Morgan</a:t>
            </a:r>
            <a:r>
              <a:rPr b="0" lang="pl-PL" sz="3200" spc="-1" strike="noStrike">
                <a:solidFill>
                  <a:srgbClr val="000000"/>
                </a:solidFill>
                <a:latin typeface="Arial"/>
              </a:rPr>
              <a:t> ogłasza teorię dziedziczności opartą na chromosomach.</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1928 roku Frederick Griffith przeprowadził doświadczenie dowodzące zjawisko transformacji wśród bakterii.</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ole tekstowe 1"/>
          <p:cNvSpPr/>
          <p:nvPr/>
        </p:nvSpPr>
        <p:spPr>
          <a:xfrm>
            <a:off x="250920" y="404640"/>
            <a:ext cx="864216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uży przełom w pracach nad dziedziczeniem miał miejsce w 1931 roku, w którym </a:t>
            </a:r>
            <a:r>
              <a:rPr b="1" lang="pl-PL" sz="2800" spc="-1" strike="noStrike">
                <a:solidFill>
                  <a:srgbClr val="000000"/>
                </a:solidFill>
                <a:latin typeface="Arial"/>
              </a:rPr>
              <a:t>Joachim Hammerling</a:t>
            </a:r>
            <a:r>
              <a:rPr b="0" lang="pl-PL" sz="2800" spc="-1" strike="noStrike">
                <a:solidFill>
                  <a:srgbClr val="000000"/>
                </a:solidFill>
                <a:latin typeface="Arial"/>
              </a:rPr>
              <a:t> przeprowadza doświadczenie wskazujące jądro komórki jako ośrodek zawierający materiał dziedziczny.</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Jego doświadczenie składało się z trzech faz i materiałem doświadczalnym był glon  Acetabularia, którego budowa przypominała parasol. Glony te cechuje istnienie dwóch rodzajów szczytów: gładkiego i wrębnego.</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aza I doświadczenia polegała na odcięciu glonowi szczytu gładkiego i jego odtworzenie z podstawy zawierającej jądro komórkow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ole tekstowe 1"/>
          <p:cNvSpPr/>
          <p:nvPr/>
        </p:nvSpPr>
        <p:spPr>
          <a:xfrm>
            <a:off x="468360" y="765000"/>
            <a:ext cx="828036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aza II polegała na odcięciu glonowi szczytu gładkiego, usunięciu jądra z jego podstawy i wstawieniu w to miejsce jądra glonu o szczycie wrębnym. Glon odtworzył szczyt, ale nie był on gładki lecz wrębny.</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aza III polegała, podobnie jak w dwóch poprzednich fazach, na odcięciu glonowi szczytu gładkigo i wstawienie do jego podstawy jądra dodatkowego z glonu o szczycie wrębnym. Po pewnym czasie glon odtworzył szczyt pośredn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ole tekstowe 1"/>
          <p:cNvSpPr/>
          <p:nvPr/>
        </p:nvSpPr>
        <p:spPr>
          <a:xfrm>
            <a:off x="324000" y="476280"/>
            <a:ext cx="849600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 1928 roku Frederick Griffith przeprowadza na szczurach, z użyciem bakterii dwoinki zapalenia płuc, doświadczenie wykazujące, że DNA jest nośnikiem informacji genetycznej.</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woinka zapalenia płuc występuje w dwóch odmianach zjadliwej – chorobotwórczej i niezjadliwej – niechorobotwórczej. Naukowiec dysponował dwiema powyższymi odmianami.</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oświadczenie składało się z czterech faz:</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aza I – aplikacja zdrowym okazom szczurów zjadliwej odmiany dwoinki zapalenia płuc. Szczur zachorował po pewnym czas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ole tekstowe 1"/>
          <p:cNvSpPr/>
          <p:nvPr/>
        </p:nvSpPr>
        <p:spPr>
          <a:xfrm>
            <a:off x="468360" y="333360"/>
            <a:ext cx="842472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aza II – aplikacja zdrowemu szczurowi niezjadliwej odmiany bakterii. Szczur nie wykazywał oznak choroby.</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aza III - aplikacja zdrowemu szczurowi zjadliwej, aczkolwiek zabitej odmiany bakterii. Szczur nie wykazywał oznak choroby.</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aza IV – jednoczesna aplikacja zdrowemu szczurowi zjadliwej i niezjadliwej odmiany bakterii. Szczur zachorował.</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yniki tego doświadczenia pośrednio świadczyły, że DNA jest czynnikiem odpowiadającym za dziedziczen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ole tekstowe 1"/>
          <p:cNvSpPr/>
          <p:nvPr/>
        </p:nvSpPr>
        <p:spPr>
          <a:xfrm>
            <a:off x="324000" y="301680"/>
            <a:ext cx="8424720" cy="6492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roblem ten ostatecznie rozwiał w 1944 </a:t>
            </a:r>
            <a:r>
              <a:rPr b="1" lang="pl-PL" sz="2800" spc="-1" strike="noStrike">
                <a:solidFill>
                  <a:srgbClr val="000000"/>
                </a:solidFill>
                <a:latin typeface="Arial"/>
              </a:rPr>
              <a:t>Oswald Theodore  Avery, </a:t>
            </a:r>
            <a:r>
              <a:rPr b="0" lang="pl-PL" sz="2800" spc="-1" strike="noStrike">
                <a:solidFill>
                  <a:srgbClr val="000000"/>
                </a:solidFill>
                <a:latin typeface="Arial"/>
              </a:rPr>
              <a:t>który wraz ze swymi współpracownikami powtarzał kilkakrotnie fazę IV doświadczenia Gryffitha. Zmieniał przy tym za każdym razem konkretną grupę związków organicznych.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 1953 </a:t>
            </a:r>
            <a:r>
              <a:rPr b="1" lang="pl-PL" sz="2800" spc="-1" strike="noStrike">
                <a:solidFill>
                  <a:srgbClr val="000000"/>
                </a:solidFill>
                <a:latin typeface="Arial"/>
              </a:rPr>
              <a:t>James Watson i Francis Crick  </a:t>
            </a:r>
            <a:r>
              <a:rPr b="0" lang="pl-PL" sz="2800" spc="-1" strike="noStrike">
                <a:solidFill>
                  <a:srgbClr val="000000"/>
                </a:solidFill>
                <a:latin typeface="Arial"/>
              </a:rPr>
              <a:t>określają strukturę przestrzenną DN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 1977 r. </a:t>
            </a:r>
            <a:r>
              <a:rPr b="1" lang="pl-PL" sz="2800" spc="-1" strike="noStrike">
                <a:solidFill>
                  <a:srgbClr val="000000"/>
                </a:solidFill>
                <a:latin typeface="Arial"/>
              </a:rPr>
              <a:t>Frederick Sanger</a:t>
            </a:r>
            <a:r>
              <a:rPr b="0" lang="pl-PL" sz="2800" spc="-1" strike="noStrike">
                <a:solidFill>
                  <a:srgbClr val="000000"/>
                </a:solidFill>
                <a:latin typeface="Arial"/>
              </a:rPr>
              <a:t> opracował technologię pozwalającą odczytywać sekwencję nukleotydów DN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Rok 2003 przyniósł ogłoszenie sekwencji 99% genomu człowieka, określanych jako Human Genome Project.</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58560" y="1773360"/>
            <a:ext cx="8461080" cy="3355920"/>
          </a:xfrm>
          <a:prstGeom prst="rect">
            <a:avLst/>
          </a:prstGeom>
          <a:noFill/>
          <a:ln w="0">
            <a:noFill/>
          </a:ln>
        </p:spPr>
        <p:txBody>
          <a:bodyPr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Odkrycia geograficzne.</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395280" y="476280"/>
            <a:ext cx="8497800" cy="668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TAROŻYTNOŚĆ</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uż od starożytności można mówić o odkryciach geograficznych. Pierwsze z nich dotyczą Egipcjan i Greków. W 2300 r. p.n.e. Egipcjanin Harkhuf, dotarł do obecnego Sudanu. W roku 600 p.n.e.– flota fenicka – na polecenie faraona Necho II opływa w 3 lata Afrykę. W 330 r. p.n.e. – Pyteasz z Masalii, Grek, opłynął Europę, a w 327 r. p.n.e.– Aleksander Macedoński dotarł przez Persję do Indii.</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258920" y="549360"/>
            <a:ext cx="6400800" cy="1079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ŚREDNIOWIECZE</a:t>
            </a:r>
            <a:endParaRPr b="0" lang="en-US" sz="3200" spc="-1" strike="noStrike">
              <a:solidFill>
                <a:srgbClr val="000000"/>
              </a:solidFill>
              <a:latin typeface="Calibri"/>
            </a:endParaRPr>
          </a:p>
        </p:txBody>
      </p:sp>
      <p:sp>
        <p:nvSpPr>
          <p:cNvPr id="160" name="Prostokąt 3"/>
          <p:cNvSpPr/>
          <p:nvPr/>
        </p:nvSpPr>
        <p:spPr>
          <a:xfrm>
            <a:off x="179280" y="1557360"/>
            <a:ext cx="8640720" cy="5212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Średniowiecze było epoką, w której również chęć odkrywania nowych lądów doprowadziła do ekspansji Islandii, Grenlandii. Zdobyto również  Chiny oraz Archipelag Azory.</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unktem zwrotnym było dotarcie Bartolomeu Diaza w 1488 r. do Przylądka Dobrej Nadziei. Datą umowną zakończenia średniowiecza jest 1492 r., w którym Krzysztof Kolumb odkrywa Amerykę licząc, że dotarł od Indii.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95280" y="404640"/>
            <a:ext cx="864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NOWOŻYTNOŚĆ</a:t>
            </a:r>
            <a:endParaRPr b="0" lang="en-US" sz="3600" spc="-1" strike="noStrike">
              <a:solidFill>
                <a:srgbClr val="000000"/>
              </a:solidFill>
              <a:latin typeface="Arial"/>
            </a:endParaRPr>
          </a:p>
        </p:txBody>
      </p:sp>
      <p:sp>
        <p:nvSpPr>
          <p:cNvPr id="162" name="pole tekstowe 2"/>
          <p:cNvSpPr/>
          <p:nvPr/>
        </p:nvSpPr>
        <p:spPr>
          <a:xfrm>
            <a:off x="684360" y="907920"/>
            <a:ext cx="7704000" cy="643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to epoka historyczna, w której dokonano największych odkryć geograficznych.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yczynami ich były:</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poważne problemy gospodarcze Europy u progu ery nowożytnej,</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chęć poznania nowych lądów,</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dotarcie drogą morską do Indii,</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rozwój handlu luksusowymi towarami, </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ominięcie kupców arabskich – tym samym obniżenie kosztów.</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ole tekstowe 1"/>
          <p:cNvSpPr/>
          <p:nvPr/>
        </p:nvSpPr>
        <p:spPr>
          <a:xfrm>
            <a:off x="324000" y="692280"/>
            <a:ext cx="8569080" cy="330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utor przez długie lata bronił swej tezy wykonując, na jej potwierdzenie, szereg analiz wielu związków chemicznych, zwłaszcza nieorganicznych. Szczególnie wiele czasu i pracy poświęcił związkowi węglanowi miedzi, który otrzymywany </a:t>
            </a:r>
            <a:br>
              <a:rPr sz="1800"/>
            </a:br>
            <a:r>
              <a:rPr b="0" lang="pl-PL" sz="1800" spc="-1" strike="noStrike">
                <a:solidFill>
                  <a:srgbClr val="000000"/>
                </a:solidFill>
                <a:latin typeface="Arial"/>
              </a:rPr>
              <a:t>z różnych źródeł i na różnych drogach, wykazywał niezmienny skład ilościowy. Ostatecznie ówczesna nauka europejska przyznała rację </a:t>
            </a:r>
            <a:r>
              <a:rPr b="0" i="1" lang="pl-PL" sz="1800" spc="-1" strike="noStrike">
                <a:solidFill>
                  <a:srgbClr val="000000"/>
                </a:solidFill>
                <a:latin typeface="Arial"/>
              </a:rPr>
              <a:t>Proustowi</a:t>
            </a:r>
            <a:r>
              <a:rPr b="0" lang="pl-PL" sz="1800" spc="-1" strike="noStrike">
                <a:solidFill>
                  <a:srgbClr val="000000"/>
                </a:solidFill>
                <a:latin typeface="Arial"/>
              </a:rPr>
              <a:t> – w dużym stopniu przyczynił się do tego autorytet szwedzkiego chemika </a:t>
            </a:r>
            <a:r>
              <a:rPr b="0" i="1" lang="pl-PL" sz="1800" spc="-1" strike="noStrike">
                <a:solidFill>
                  <a:srgbClr val="000000"/>
                </a:solidFill>
                <a:latin typeface="Arial"/>
              </a:rPr>
              <a:t>Berzeliusa</a:t>
            </a:r>
            <a:r>
              <a:rPr b="0" lang="pl-PL" sz="1800" spc="-1" strike="noStrike">
                <a:solidFill>
                  <a:srgbClr val="000000"/>
                </a:solidFill>
                <a:latin typeface="Arial"/>
              </a:rPr>
              <a:t> (1779-1848). Prace i osiągnięcia </a:t>
            </a:r>
            <a:r>
              <a:rPr b="0" i="1" lang="pl-PL" sz="1800" spc="-1" strike="noStrike">
                <a:solidFill>
                  <a:srgbClr val="000000"/>
                </a:solidFill>
                <a:latin typeface="Arial"/>
              </a:rPr>
              <a:t>Prousta</a:t>
            </a:r>
            <a:r>
              <a:rPr b="0" lang="pl-PL" sz="1800" spc="-1" strike="noStrike">
                <a:solidFill>
                  <a:srgbClr val="000000"/>
                </a:solidFill>
                <a:latin typeface="Arial"/>
              </a:rPr>
              <a:t> zainspirowały sformułowanie w 1805 r. przez </a:t>
            </a:r>
            <a:r>
              <a:rPr b="0" i="1" lang="pl-PL" sz="1800" spc="-1" strike="noStrike">
                <a:solidFill>
                  <a:srgbClr val="000000"/>
                </a:solidFill>
                <a:latin typeface="Arial"/>
              </a:rPr>
              <a:t>Daltona</a:t>
            </a:r>
            <a:r>
              <a:rPr b="0" lang="pl-PL" sz="1800" spc="-1" strike="noStrike">
                <a:solidFill>
                  <a:srgbClr val="000000"/>
                </a:solidFill>
                <a:latin typeface="Arial"/>
              </a:rPr>
              <a:t> (1766-1844) słynnego prawa o stosunkach wielokrotnych </a:t>
            </a:r>
            <a:br>
              <a:rPr sz="1800"/>
            </a:br>
            <a:r>
              <a:rPr b="0" lang="pl-PL" sz="1800" spc="-1" strike="noStrike">
                <a:solidFill>
                  <a:srgbClr val="000000"/>
                </a:solidFill>
                <a:latin typeface="Arial"/>
              </a:rPr>
              <a:t>w tworzonych związkach chemicznyc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94920" y="549000"/>
            <a:ext cx="8209080" cy="56163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Za największych odkrywców uważa się: </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Krzysztofa Kolumba – który odkrył Amerykę myśląc, że dotarł do Indii.</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merigo Vespucciego – który zbadał i opisał ląd Ameryki od Wenezueli do Brazylii.</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Vasco da Gamma – odkrywcę Indii, który płynął wokół brzegów Afryki.</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Ferdynanda Magellana, który na okręcie Victoria odbył podróż uznawaną za podróż dookoła  świata. Magellan zginął w czasie tej podróży, natomiast jego załoga kontynuowała rejs zakończony sukcesem.</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11280" y="259920"/>
            <a:ext cx="8208720" cy="7923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apa odkryć geograficznych XV – XVI wiek.</a:t>
            </a: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5" name="Picture 5" descr=""/>
          <p:cNvPicPr/>
          <p:nvPr/>
        </p:nvPicPr>
        <p:blipFill>
          <a:blip r:embed="rId1"/>
          <a:stretch/>
        </p:blipFill>
        <p:spPr>
          <a:xfrm>
            <a:off x="547560" y="692280"/>
            <a:ext cx="7912080" cy="5761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440" y="260280"/>
            <a:ext cx="8134200" cy="6408720"/>
          </a:xfrm>
          <a:prstGeom prst="rect">
            <a:avLst/>
          </a:prstGeom>
          <a:noFill/>
          <a:ln w="0">
            <a:noFill/>
          </a:ln>
        </p:spPr>
        <p: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SPÓŁCZESNOŚĆ</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Za współczesne odkrycia geograficzne uznać można: </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0" lang="pl-PL" sz="2800" spc="-1" strike="noStrike">
                <a:solidFill>
                  <a:srgbClr val="000000"/>
                </a:solidFill>
                <a:latin typeface="Calibri"/>
              </a:rPr>
              <a:t>zdobycie miejsc trudno dostępnych dla człowieka, w tym najwyższej góry globu –Mount Everest zdobytej po raz pierwszy przez Edmunda Hillarego i Tenzinga Norgaya 29. 05.1953 roku,</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0" lang="pl-PL" sz="2800" spc="-1" strike="noStrike">
                <a:solidFill>
                  <a:srgbClr val="000000"/>
                </a:solidFill>
                <a:latin typeface="Calibri"/>
              </a:rPr>
              <a:t>dotarcie do kół podbiegunowych – </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Północnego przez Roberta Pearyego 16.04.1909r. </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Południowego przez Roalda Amundsena 14.04.191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68000" y="549360"/>
            <a:ext cx="8209080" cy="5688000"/>
          </a:xfrm>
          <a:prstGeom prst="rect">
            <a:avLst/>
          </a:prstGeom>
          <a:noFill/>
          <a:ln w="0">
            <a:noFill/>
          </a:ln>
        </p:spPr>
        <p:txBody>
          <a:bodyPr lIns="92160" rIns="92160" tIns="46080" bIns="4608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Calibri"/>
              </a:rPr>
              <a:t>Znaczenie odkryć geograficznych</a:t>
            </a:r>
            <a:endParaRPr b="0" lang="en-US" sz="40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ielkie odkrycia geograficzne otworzyły nowy okres w dziejach ludzkości. Zapoczątkowały one ekspansję kolonialną Europejczyków do bogatych krajów Wschodu i Zachodu. Początkowo tylko Hiszpania i Portugalia podjęły ryzyko związane z tymi wyprawami. Później dołączyły jeszcze : Francja, Anglia i Holandia. </a:t>
            </a: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ubTitle"/>
          </p:nvPr>
        </p:nvSpPr>
        <p:spPr>
          <a:xfrm>
            <a:off x="324000" y="333000"/>
            <a:ext cx="8424720" cy="6048360"/>
          </a:xfrm>
          <a:prstGeom prst="rect">
            <a:avLst/>
          </a:prstGeom>
          <a:noFill/>
          <a:ln w="0">
            <a:noFill/>
          </a:ln>
        </p:spPr>
        <p:txBody>
          <a:bodyPr lIns="92160" rIns="92160" tIns="46080" bIns="4608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dkrycia geograficzna miały ogromny wpływ na życie gospodarcze, społeczne i polityczne świata.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 skutków gospodarczych należy zaliczyć: </a:t>
            </a:r>
            <a:br>
              <a:rPr sz="3200"/>
            </a:br>
            <a:r>
              <a:rPr b="0" lang="pl-PL" sz="3200" spc="-1" strike="noStrike">
                <a:solidFill>
                  <a:srgbClr val="000000"/>
                </a:solidFill>
                <a:latin typeface="Calibri"/>
              </a:rPr>
              <a:t>nowe uprawy i plantacje,</a:t>
            </a:r>
            <a:br>
              <a:rPr sz="3200"/>
            </a:br>
            <a:r>
              <a:rPr b="0" lang="pl-PL" sz="3200" spc="-1" strike="noStrike">
                <a:solidFill>
                  <a:srgbClr val="000000"/>
                </a:solidFill>
                <a:latin typeface="Calibri"/>
              </a:rPr>
              <a:t>rozwój techniki morskiej,</a:t>
            </a:r>
            <a:br>
              <a:rPr sz="3200"/>
            </a:br>
            <a:r>
              <a:rPr b="0" lang="pl-PL" sz="3200" spc="-1" strike="noStrike">
                <a:solidFill>
                  <a:srgbClr val="000000"/>
                </a:solidFill>
                <a:latin typeface="Calibri"/>
              </a:rPr>
              <a:t>zwiększenie liczby kupców,</a:t>
            </a:r>
            <a:br>
              <a:rPr sz="3200"/>
            </a:br>
            <a:r>
              <a:rPr b="0" lang="pl-PL" sz="3200" spc="-1" strike="noStrike">
                <a:solidFill>
                  <a:srgbClr val="000000"/>
                </a:solidFill>
                <a:latin typeface="Calibri"/>
              </a:rPr>
              <a:t>nowe rynki zbytu,</a:t>
            </a:r>
            <a:br>
              <a:rPr sz="3200"/>
            </a:br>
            <a:r>
              <a:rPr b="0" lang="pl-PL" sz="3200" spc="-1" strike="noStrike">
                <a:solidFill>
                  <a:srgbClr val="000000"/>
                </a:solidFill>
                <a:latin typeface="Calibri"/>
              </a:rPr>
              <a:t>spadek cen towarów,</a:t>
            </a:r>
            <a:br>
              <a:rPr sz="3200"/>
            </a:br>
            <a:r>
              <a:rPr b="0" lang="pl-PL" sz="3200" spc="-1" strike="noStrike">
                <a:solidFill>
                  <a:srgbClr val="000000"/>
                </a:solidFill>
                <a:latin typeface="Calibri"/>
              </a:rPr>
              <a:t>eksploatacja nowych lądów - nowe źródła dochod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24000" y="549360"/>
            <a:ext cx="8424720" cy="5472000"/>
          </a:xfrm>
          <a:prstGeom prst="rect">
            <a:avLst/>
          </a:prstGeom>
          <a:noFill/>
          <a:ln w="0">
            <a:noFill/>
          </a:ln>
        </p:spPr>
        <p:txBody>
          <a:bodyPr lIns="92160" rIns="92160" tIns="46080" bIns="4608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 skutków społecznych zaliczymy:</a:t>
            </a:r>
            <a:endParaRPr b="0" lang="en-US" sz="3200" spc="-1" strike="noStrike">
              <a:solidFill>
                <a:srgbClr val="000000"/>
              </a:solidFill>
              <a:latin typeface="Calibri"/>
            </a:endParaRPr>
          </a:p>
          <a:p>
            <a:pPr lvl="1" marL="522360" indent="-65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wój oświaty,</a:t>
            </a:r>
            <a:endParaRPr b="0" lang="en-US" sz="3200" spc="-1" strike="noStrike">
              <a:solidFill>
                <a:srgbClr val="000000"/>
              </a:solidFill>
              <a:latin typeface="Calibri"/>
            </a:endParaRPr>
          </a:p>
          <a:p>
            <a:pPr lvl="1" marL="522360" indent="-65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miana świadomości mieszkańców Europy,</a:t>
            </a:r>
            <a:endParaRPr b="0" lang="en-US" sz="3200" spc="-1" strike="noStrike">
              <a:solidFill>
                <a:srgbClr val="000000"/>
              </a:solidFill>
              <a:latin typeface="Calibri"/>
            </a:endParaRPr>
          </a:p>
          <a:p>
            <a:pPr lvl="1" marL="522360" indent="-65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dkrycie, że Ziemia jest większa niż przypuszczano,</a:t>
            </a:r>
            <a:endParaRPr b="0" lang="en-US" sz="3200" spc="-1" strike="noStrike">
              <a:solidFill>
                <a:srgbClr val="000000"/>
              </a:solidFill>
              <a:latin typeface="Calibri"/>
            </a:endParaRPr>
          </a:p>
          <a:p>
            <a:pPr lvl="1" marL="522360" indent="-65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twierdzenie tezy, że Ziemia jest kulista,</a:t>
            </a:r>
            <a:endParaRPr b="0" lang="en-US" sz="3200" spc="-1" strike="noStrike">
              <a:solidFill>
                <a:srgbClr val="000000"/>
              </a:solidFill>
              <a:latin typeface="Calibri"/>
            </a:endParaRPr>
          </a:p>
          <a:p>
            <a:pPr lvl="1" marL="522360" indent="-65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owe sposoby nawigacj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3"/>
          <p:cNvSpPr/>
          <p:nvPr/>
        </p:nvSpPr>
        <p:spPr>
          <a:xfrm>
            <a:off x="3276720" y="2924280"/>
            <a:ext cx="194292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
          <p:cNvSpPr/>
          <p:nvPr/>
        </p:nvSpPr>
        <p:spPr>
          <a:xfrm>
            <a:off x="324000" y="692280"/>
            <a:ext cx="8424720" cy="620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o skutków politycznych zaliczymy:</a:t>
            </a: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niszczenie starych kultur Majów, Azteków i Inków,</a:t>
            </a: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rywalizacja morska i lądowa,</a:t>
            </a: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większenie się liczby piratów,</a:t>
            </a: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słabienie pozycji państw nad Morzem Czarnym,</a:t>
            </a: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przywożenie wielkich ilości złota i srebra, dzięki czemu wytapiano więcej monet,</a:t>
            </a: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rozwój niewolnictwa,</a:t>
            </a: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akładanie nowych kolonii.</a:t>
            </a:r>
            <a:endParaRPr b="0" lang="en-US" sz="32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79280" y="189000"/>
            <a:ext cx="8785440" cy="4992480"/>
          </a:xfrm>
          <a:prstGeom prst="rect">
            <a:avLst/>
          </a:prstGeom>
          <a:noFill/>
          <a:ln w="0">
            <a:noFill/>
          </a:ln>
        </p:spPr>
        <p:txBody>
          <a:bodyPr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Teoria płyt litosfery.</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Wulkanizm i trzęsienia ziemi.</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3"/>
          <p:cNvSpPr/>
          <p:nvPr/>
        </p:nvSpPr>
        <p:spPr>
          <a:xfrm>
            <a:off x="395280" y="476280"/>
            <a:ext cx="8497800" cy="754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ys historyczny.</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Teoria płyt litosfery powstała w latach 60-tych XX wieku i jest rozwinięciem teorii Wegenera z 1912 r.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Litosfera jest podzielona pęknięciami na szereg </a:t>
            </a:r>
            <a:r>
              <a:rPr b="1" lang="pl-PL" sz="2400" spc="-1" strike="noStrike">
                <a:solidFill>
                  <a:srgbClr val="000000"/>
                </a:solidFill>
                <a:latin typeface="Arial"/>
              </a:rPr>
              <a:t>płyt litosfery, </a:t>
            </a:r>
            <a:r>
              <a:rPr b="0" lang="pl-PL" sz="2400" spc="-1" strike="noStrike">
                <a:solidFill>
                  <a:srgbClr val="000000"/>
                </a:solidFill>
                <a:latin typeface="Arial"/>
              </a:rPr>
              <a:t>które nazywamy </a:t>
            </a:r>
            <a:r>
              <a:rPr b="1" lang="pl-PL" sz="2400" spc="-1" strike="noStrike">
                <a:solidFill>
                  <a:srgbClr val="000000"/>
                </a:solidFill>
                <a:latin typeface="Arial"/>
              </a:rPr>
              <a:t>krami. </a:t>
            </a:r>
            <a:r>
              <a:rPr b="0" lang="pl-PL" sz="2400" spc="-1" strike="noStrike">
                <a:solidFill>
                  <a:srgbClr val="000000"/>
                </a:solidFill>
                <a:latin typeface="Arial"/>
              </a:rPr>
              <a:t>Płyty są ogromnych rozmiarów i mogą być płytami morskimi, lądowymi lub lądowo-morskimi. Wyróżnia się osiem płyt głównych:</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afrykańską,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północnoamerykańską,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południowoamerykańską,</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euroazjatycką,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pacyficzną,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antarktyczną,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indoaustralijską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Nazca,   oraz  szereg mniejszych, tzw. mikropły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ole tekstowe 1"/>
          <p:cNvSpPr/>
          <p:nvPr/>
        </p:nvSpPr>
        <p:spPr>
          <a:xfrm>
            <a:off x="468360" y="333360"/>
            <a:ext cx="813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apa płyt tektonicznych.</a:t>
            </a:r>
            <a:endParaRPr b="0" lang="en-US" sz="3200" spc="-1" strike="noStrike">
              <a:solidFill>
                <a:srgbClr val="000000"/>
              </a:solidFill>
              <a:latin typeface="Arial"/>
            </a:endParaRPr>
          </a:p>
        </p:txBody>
      </p:sp>
      <p:pic>
        <p:nvPicPr>
          <p:cNvPr id="175" name="Picture 4" descr="http://www.wiking.edu.pl/upload/geografia/images/swiat_plyty_litosfery.gif"/>
          <p:cNvPicPr/>
          <p:nvPr/>
        </p:nvPicPr>
        <p:blipFill>
          <a:blip r:embed="rId1"/>
          <a:stretch/>
        </p:blipFill>
        <p:spPr>
          <a:xfrm>
            <a:off x="900000" y="907920"/>
            <a:ext cx="7559640" cy="4840560"/>
          </a:xfrm>
          <a:prstGeom prst="rect">
            <a:avLst/>
          </a:prstGeom>
          <a:ln w="0">
            <a:noFill/>
          </a:ln>
        </p:spPr>
      </p:pic>
      <p:sp>
        <p:nvSpPr>
          <p:cNvPr id="176" name="Prostokąt 3"/>
          <p:cNvSpPr/>
          <p:nvPr/>
        </p:nvSpPr>
        <p:spPr>
          <a:xfrm>
            <a:off x="611280" y="5867280"/>
            <a:ext cx="799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800080"/>
                </a:solidFill>
                <a:latin typeface="Arial"/>
              </a:rPr>
              <a:t>http://www.wiking.edu.pl/upload/geografia/images/swiat_plyty_litosfery.gi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ole tekstowe 1"/>
          <p:cNvSpPr/>
          <p:nvPr/>
        </p:nvSpPr>
        <p:spPr>
          <a:xfrm>
            <a:off x="250920" y="836640"/>
            <a:ext cx="8569080" cy="4315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Joseph Louis Proust</a:t>
            </a:r>
            <a:r>
              <a:rPr b="0" lang="pl-PL" sz="1800" spc="-1" strike="noStrike">
                <a:solidFill>
                  <a:srgbClr val="000000"/>
                </a:solidFill>
                <a:latin typeface="Arial"/>
              </a:rPr>
              <a:t>, poza odkryciem słynnego prawa, przeprowadził szereg potwierdzających je eksperymentów, szczególnie w zakresie tworzenia i budowy związków metali z tlenem i siarką. Odkrył również wiele rzadziej występujących wodorotlenków metali. Interesował się również chemią spożywczą. Udowodnił istnienie wielu rodzajów cukrów prostych i złożonych. W 1802 r. z soku winogronowego wyodrębnił cukier gronowy – glukozę. Odkrył i zbadał ester gliceryny – lecytynę.  </a:t>
            </a:r>
            <a:endParaRPr b="0" lang="en-US" sz="18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go twórczy wkład w rozwój europejskiej i światowej wiedzy chemicznej uhonorowany został m.in. poprzez przyznanie mu zaszczytnego tytułu członka Francuskiej Akademii Nauk w Paryżu.</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ole tekstowe 1"/>
          <p:cNvSpPr/>
          <p:nvPr/>
        </p:nvSpPr>
        <p:spPr>
          <a:xfrm>
            <a:off x="395280" y="333360"/>
            <a:ext cx="8353440" cy="579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Prądy konwekcyjne (związane z przemieszczaniem się ciepłych i zimnych mas magmy) odpowiedzialne są za poziome ruchy tych płyt po astenosferze (może dojść do rozsuwania bądź zsuwania się płyt). Ogrzana magma w głębi wznosi się do góry i w górnej warstwie astenosfery rozpływa się równolegle do podstawy litosfery, gdzie ulega ochłodzeniu i ponownie wstępuje w głąb. W miejscu, gdzie magma pionowo dociera do podstawy litosfery, następuje jej pękanie i powstają szczeliny zwane </a:t>
            </a:r>
            <a:r>
              <a:rPr b="1" lang="pl-PL" sz="2200" spc="-1" strike="noStrike">
                <a:solidFill>
                  <a:srgbClr val="000000"/>
                </a:solidFill>
                <a:latin typeface="Arial"/>
              </a:rPr>
              <a:t>ryftami. </a:t>
            </a:r>
            <a:r>
              <a:rPr b="0" lang="pl-PL" sz="2200" spc="-1" strike="noStrike">
                <a:solidFill>
                  <a:srgbClr val="000000"/>
                </a:solidFill>
                <a:latin typeface="Arial"/>
              </a:rPr>
              <a:t>W ten sposób oddzielone od siebie płyty poruszają się po astenosferze w różnych kierunkach, a w miejscu rozerwania wypływa magma tworząc nowy fragment skorupy oceanicznej. W obrębie oceanów w tym miejscu tworzą się </a:t>
            </a:r>
            <a:r>
              <a:rPr b="1" lang="pl-PL" sz="2200" spc="-1" strike="noStrike">
                <a:solidFill>
                  <a:srgbClr val="000000"/>
                </a:solidFill>
                <a:latin typeface="Arial"/>
              </a:rPr>
              <a:t>grzbiety śródoceaniczne, </a:t>
            </a:r>
            <a:r>
              <a:rPr b="0" lang="pl-PL" sz="2200" spc="-1" strike="noStrike">
                <a:solidFill>
                  <a:srgbClr val="000000"/>
                </a:solidFill>
                <a:latin typeface="Arial"/>
              </a:rPr>
              <a:t>w obrębie których znajdują się ryfty.</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Proces tworzenia się nowej litosfery organicznej , będący wynikiem rozsuwania się płyt na zewnątrz, wskutek ciągłego wydobywania się z płaszcza ziemi lawy bazaltowej nosi nazwę </a:t>
            </a:r>
            <a:r>
              <a:rPr b="1" lang="pl-PL" sz="2200" spc="-1" strike="noStrike">
                <a:solidFill>
                  <a:srgbClr val="000000"/>
                </a:solidFill>
                <a:latin typeface="Arial"/>
              </a:rPr>
              <a:t>spredingu (speadingu).</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2556000" y="189000"/>
            <a:ext cx="4124160" cy="5605200"/>
          </a:xfrm>
          <a:prstGeom prst="rect">
            <a:avLst/>
          </a:prstGeom>
          <a:ln w="0">
            <a:noFill/>
          </a:ln>
        </p:spPr>
      </p:pic>
      <p:sp>
        <p:nvSpPr>
          <p:cNvPr id="179" name="pole tekstowe 3"/>
          <p:cNvSpPr/>
          <p:nvPr/>
        </p:nvSpPr>
        <p:spPr>
          <a:xfrm>
            <a:off x="826920" y="5661000"/>
            <a:ext cx="741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uwanie się pły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D. Makowska, ZIEMIA, WSiP, Warszawa 19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rostokąt 3"/>
          <p:cNvSpPr/>
          <p:nvPr/>
        </p:nvSpPr>
        <p:spPr>
          <a:xfrm>
            <a:off x="250920" y="487440"/>
            <a:ext cx="864072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artość szerokości na jaką rozsuwają się płyty może być różna - od kilku do kilkunastu centymetrów w ciągu roku.</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zdłuż ryftów powstająca litosfera oceaniczna złożona jes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 bazaltów, których wiek wzrasta wraz z oddalaniem się od miejsca ich wypływu.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zsuwające się płyty mogą napierać na siebie (zsuwanie się płyt), co doprowadzić może do ruchów górotwórczych — fałdowań lub jedna z nich będzie się podsuwać pod drugą w tzw. strefie subdukcji. Strefa ta odznacza się silną sejsmiką i wulkanizmem.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Istnieje możliwość określenia biegunów magnetycznych ziemskich  na podstawie ułożenia niektórych minerałów w lawie,  znajdujących się na dnie oceanu, układających się zgodnie z liniami ziemskiego pola magnetyczneg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ole tekstowe 2"/>
          <p:cNvSpPr/>
          <p:nvPr/>
        </p:nvSpPr>
        <p:spPr>
          <a:xfrm>
            <a:off x="395280" y="620640"/>
            <a:ext cx="84978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Na skutek zbliżania się dwóch płyt powstają:</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rowy oceaniczne (geosynkliny),</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młode góry fałdowe,</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zjawiska wulkaniczne,</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zjawiska plutoniczne,</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trzęsienia ziemi,</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łuki wys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ole tekstowe 2"/>
          <p:cNvSpPr/>
          <p:nvPr/>
        </p:nvSpPr>
        <p:spPr>
          <a:xfrm>
            <a:off x="324000" y="363600"/>
            <a:ext cx="8424720" cy="642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PROCESY WULKANICZNE</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a:rPr>
              <a:t>Lawa</a:t>
            </a:r>
            <a:r>
              <a:rPr b="0" lang="pl-PL" sz="2600" spc="-1" strike="noStrike">
                <a:solidFill>
                  <a:srgbClr val="000000"/>
                </a:solidFill>
                <a:latin typeface="Arial"/>
              </a:rPr>
              <a:t> – to wydostająca się z powierzchni ziemi magma. Składnikami lawy są tlenki krzemu, glinu, krzemiany, glinokrzemiany i gazy. Temperatura wydostającej się lawy może wynosić 1100 —1400°C.</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a:rPr>
              <a:t>Rodzaje lawy:</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lawa kwaśna - bogata w krzemionkę, posiada dużą lepkość i dlatego płynie powoli, nie szybciej niż kilka kilometrów na godzinę .Tworzy jasne skały jak ryolity czy porfiry. </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lawa zasadowa -  jest uboższa w krzemionkę, ma małą lepkość, płynie szybko, do kilkunastu lub kilkudziesięciu kilometrów na godzinę, tworząc długie potoki lub pokrywy lawowe o ogromnej powierzchni.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Wydostająca się lawa tworzy stożki zwane wulkanami.</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94920" y="476280"/>
            <a:ext cx="8209080" cy="561672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ole tekstowe 2"/>
          <p:cNvSpPr/>
          <p:nvPr/>
        </p:nvSpPr>
        <p:spPr>
          <a:xfrm>
            <a:off x="3004200" y="260280"/>
            <a:ext cx="3640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Budowa wulkanu</a:t>
            </a:r>
            <a:endParaRPr b="0" lang="en-US" sz="3600" spc="-1" strike="noStrike">
              <a:solidFill>
                <a:srgbClr val="000000"/>
              </a:solidFill>
              <a:latin typeface="Arial"/>
            </a:endParaRPr>
          </a:p>
        </p:txBody>
      </p:sp>
      <p:graphicFrame>
        <p:nvGraphicFramePr>
          <p:cNvPr id="185" name="Object 4"/>
          <p:cNvGraphicFramePr/>
          <p:nvPr/>
        </p:nvGraphicFramePr>
        <p:xfrm>
          <a:off x="1187280" y="836640"/>
          <a:ext cx="6337440" cy="5740200"/>
        </p:xfrm>
        <a:graphic>
          <a:graphicData uri="http://schemas.openxmlformats.org/presentationml/2006/ole">
            <p:oleObj r:id="rId1" spid="">
              <p:embed/>
              <p:pic>
                <p:nvPicPr>
                  <p:cNvPr id="186" name="Object 4" descr=""/>
                  <p:cNvPicPr/>
                  <p:nvPr/>
                </p:nvPicPr>
                <p:blipFill>
                  <a:blip r:embed="rId2"/>
                  <a:stretch/>
                </p:blipFill>
                <p:spPr>
                  <a:xfrm>
                    <a:off x="1187280" y="836640"/>
                    <a:ext cx="6337440" cy="574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ole tekstowe 1"/>
          <p:cNvSpPr/>
          <p:nvPr/>
        </p:nvSpPr>
        <p:spPr>
          <a:xfrm>
            <a:off x="468360" y="765000"/>
            <a:ext cx="8207280" cy="405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Poza lawą produktami erupcji wulkanicznych są również gazy i utwory piroklastyczne. Najczęściej wydostającymi się gazami są: para wodna, tlenek i dwutlenek węgla, fluor, chlor, wodór, siarkowodór, azot i metan.</a:t>
            </a:r>
            <a:r>
              <a:rPr b="1" lang="pl-PL" sz="2600" spc="-1" strike="noStrike">
                <a:solidFill>
                  <a:srgbClr val="000000"/>
                </a:solidFill>
                <a:latin typeface="Arial"/>
              </a:rPr>
              <a:t> Utworami piroklastycznymi </a:t>
            </a:r>
            <a:r>
              <a:rPr b="0" lang="pl-PL" sz="2600" spc="-1" strike="noStrike">
                <a:solidFill>
                  <a:srgbClr val="000000"/>
                </a:solidFill>
                <a:latin typeface="Arial"/>
              </a:rPr>
              <a:t>są: fragmenty lawy rozpylone w powietrzu, a następnie zastygłe w locie lub na ziemi, fragmenty skał wyrwanych z komina wulkanicznego lub krateru. Największe z nich nazywane są bombami wulkanicznymi, mniejsze niewielkie kamyki to lapil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ole tekstowe 1"/>
          <p:cNvSpPr/>
          <p:nvPr/>
        </p:nvSpPr>
        <p:spPr>
          <a:xfrm>
            <a:off x="468360" y="692280"/>
            <a:ext cx="8351640" cy="4053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RODZAJE WULKANÓW</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W zależności od wydostającej się lawy wyróżniamy wulkany:</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stożkowe – lawa kwaśna,</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tarczowe – lawa zasadowa.</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W zależności od aktywności wulkanów wyróżniamy wulkany:</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czynne (o częstych erupcjach),</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drzemiące (o rzadkich erupcjach),</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wygasłe (działalność wulkaniczna już się zakończył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ole tekstowe 1"/>
          <p:cNvSpPr/>
          <p:nvPr/>
        </p:nvSpPr>
        <p:spPr>
          <a:xfrm>
            <a:off x="539640" y="692280"/>
            <a:ext cx="8064720" cy="167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Rozmieszczenie wulkanów jest związane z krawędziami płyt litosfery (strefy subdukcji) oraz ze strefą grzbietów śródoceanicznych. Około 80% wulkanów występuje właśnie w strefach subdukcj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ole tekstowe 1"/>
          <p:cNvSpPr/>
          <p:nvPr/>
        </p:nvSpPr>
        <p:spPr>
          <a:xfrm>
            <a:off x="611280" y="765000"/>
            <a:ext cx="7632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ozmieszczenie wulkanów na Ziem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91" name="Object 3"/>
          <p:cNvGraphicFramePr/>
          <p:nvPr/>
        </p:nvGraphicFramePr>
        <p:xfrm>
          <a:off x="684360" y="1303200"/>
          <a:ext cx="7775280" cy="7493040"/>
        </p:xfrm>
        <a:graphic>
          <a:graphicData uri="http://schemas.openxmlformats.org/presentationml/2006/ole">
            <p:oleObj r:id="rId1" spid="">
              <p:embed/>
              <p:pic>
                <p:nvPicPr>
                  <p:cNvPr id="192" name="Object 3" descr=""/>
                  <p:cNvPicPr/>
                  <p:nvPr/>
                </p:nvPicPr>
                <p:blipFill>
                  <a:blip r:embed="rId2"/>
                  <a:stretch/>
                </p:blipFill>
                <p:spPr>
                  <a:xfrm>
                    <a:off x="684360" y="1303200"/>
                    <a:ext cx="7775280" cy="749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68000" y="836280"/>
            <a:ext cx="8280360" cy="525636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 twórcę pierwszej pełnej </a:t>
            </a:r>
            <a:r>
              <a:rPr b="1" lang="pl-PL" sz="1800" spc="-1" strike="noStrike">
                <a:solidFill>
                  <a:srgbClr val="000000"/>
                </a:solidFill>
                <a:latin typeface="Arial"/>
              </a:rPr>
              <a:t>koncepcji atomistycznej</a:t>
            </a:r>
            <a:r>
              <a:rPr b="0" lang="pl-PL" sz="1800" spc="-1" strike="noStrike">
                <a:solidFill>
                  <a:srgbClr val="000000"/>
                </a:solidFill>
                <a:latin typeface="Arial"/>
              </a:rPr>
              <a:t> bazującej na wynikach doświadczeń i zdolnej do przewidywań uchodzi angielski uczony John Dalton (1766 – 1844). Angielski fizyk i chemik o wszechstronnych zainteresowaniach, profesor uniwersytetu w Oksfordzie.</a:t>
            </a:r>
            <a:endParaRPr b="0" lang="en-US" sz="18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jąc właściwości gazów Dalton zauważył, że najlepiej można je wyjaśnić zakładając, że gazy zbudowane są z bardzo małych cząsteczek, które poruszają się w pustej przestrzeni. Dalton uznał, że atom jest podstawową jednostką pierwiastka chemicznego. </a:t>
            </a:r>
            <a:endParaRPr b="0" lang="en-US" sz="18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ezpośrednio istnienia atomu w czasach Daltona nikt nie potrafił udowodnić. Jednak w wyniku jego prac, które stanowiły ukoronowanie badań i rozważań wielu poprzedników, koncepcja atomistyczna stała się trudna do obalenia. Potrafiła w przejrzysty sposób wytłumaczyć wiele zjawisk w sposób jakościowy, a co ważniejsze koncepcja ta w wielu przypadkach (prawa gazowe) prowadziła do wniosków sprawdzalnych ilościow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ole tekstowe 1"/>
          <p:cNvSpPr/>
          <p:nvPr/>
        </p:nvSpPr>
        <p:spPr>
          <a:xfrm>
            <a:off x="468360" y="692280"/>
            <a:ext cx="8064360" cy="365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Na obszarach wulkanicznych spotykane są również gorące źródła - </a:t>
            </a:r>
            <a:r>
              <a:rPr b="1" lang="pl-PL" sz="2600" spc="-1" strike="noStrike">
                <a:solidFill>
                  <a:srgbClr val="000000"/>
                </a:solidFill>
                <a:latin typeface="Arial"/>
              </a:rPr>
              <a:t>termy, </a:t>
            </a:r>
            <a:r>
              <a:rPr b="0" lang="pl-PL" sz="2600" spc="-1" strike="noStrike">
                <a:solidFill>
                  <a:srgbClr val="000000"/>
                </a:solidFill>
                <a:latin typeface="Arial"/>
              </a:rPr>
              <a:t>które zawierają wiele rozpuszczonych w wodzie soli, które mogą się wytrącać w ich pobliżu tworząc </a:t>
            </a:r>
            <a:r>
              <a:rPr b="1" lang="pl-PL" sz="2600" spc="-1" strike="noStrike">
                <a:solidFill>
                  <a:srgbClr val="000000"/>
                </a:solidFill>
                <a:latin typeface="Arial"/>
              </a:rPr>
              <a:t>nawary. </a:t>
            </a:r>
            <a:r>
              <a:rPr b="0" lang="pl-PL" sz="2600" spc="-1" strike="noStrike">
                <a:solidFill>
                  <a:srgbClr val="000000"/>
                </a:solidFill>
                <a:latin typeface="Arial"/>
              </a:rPr>
              <a:t>Szczególną ich odmianą są </a:t>
            </a:r>
            <a:r>
              <a:rPr b="1" lang="pl-PL" sz="2600" spc="-1" strike="noStrike">
                <a:solidFill>
                  <a:srgbClr val="000000"/>
                </a:solidFill>
                <a:latin typeface="Arial"/>
              </a:rPr>
              <a:t>gejzery, </a:t>
            </a:r>
            <a:r>
              <a:rPr b="0" lang="pl-PL" sz="2600" spc="-1" strike="noStrike">
                <a:solidFill>
                  <a:srgbClr val="000000"/>
                </a:solidFill>
                <a:latin typeface="Arial"/>
              </a:rPr>
              <a:t>wyrzucające regularnie gorącą wodę.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Kolejny slajd prezentuje film – wybuchy wybranych wulkanó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ole tekstowe 1"/>
          <p:cNvSpPr/>
          <p:nvPr/>
        </p:nvSpPr>
        <p:spPr>
          <a:xfrm>
            <a:off x="755640" y="549360"/>
            <a:ext cx="7416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ilm – wybuch wulkanu</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ole tekstowe 2"/>
          <p:cNvSpPr/>
          <p:nvPr/>
        </p:nvSpPr>
        <p:spPr>
          <a:xfrm>
            <a:off x="250920" y="1989000"/>
            <a:ext cx="835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800080"/>
                </a:solidFill>
                <a:latin typeface="Arial"/>
              </a:rPr>
              <a:t>http://www.youtube.com/watch?feature=player_detailpage&amp;v=ljwXPnkfu5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ole tekstowe 1"/>
          <p:cNvSpPr/>
          <p:nvPr/>
        </p:nvSpPr>
        <p:spPr>
          <a:xfrm>
            <a:off x="395280" y="260280"/>
            <a:ext cx="8280360" cy="580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Trzęsienia ziemi</a:t>
            </a:r>
            <a:r>
              <a:rPr b="0" lang="pl-PL" sz="2500" spc="-1" strike="noStrike">
                <a:solidFill>
                  <a:srgbClr val="000000"/>
                </a:solidFill>
                <a:latin typeface="Arial"/>
              </a:rPr>
              <a:t> są to drgania skorupy ziemskiej, ich przyczyną jest rozchodzenie się fal sprężystych z głębszych sfer Ziemi.</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Z trzęsieniami Ziemi związane są nazwy: </a:t>
            </a:r>
            <a:endParaRPr b="0" lang="en-US" sz="2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 </a:t>
            </a:r>
            <a:r>
              <a:rPr b="1" lang="pl-PL" sz="2500" spc="-1" strike="noStrike">
                <a:solidFill>
                  <a:srgbClr val="000000"/>
                </a:solidFill>
                <a:latin typeface="Arial"/>
              </a:rPr>
              <a:t>hipocentrum</a:t>
            </a:r>
            <a:r>
              <a:rPr b="0" lang="pl-PL" sz="2500" spc="-1" strike="noStrike">
                <a:solidFill>
                  <a:srgbClr val="000000"/>
                </a:solidFill>
                <a:latin typeface="Arial"/>
              </a:rPr>
              <a:t> – ognisko – miejsce, w którym tworzy się fala,</a:t>
            </a:r>
            <a:endParaRPr b="0" lang="en-US" sz="2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 </a:t>
            </a:r>
            <a:r>
              <a:rPr b="1" lang="pl-PL" sz="2500" spc="-1" strike="noStrike">
                <a:solidFill>
                  <a:srgbClr val="000000"/>
                </a:solidFill>
                <a:latin typeface="Arial"/>
              </a:rPr>
              <a:t>epicentrum</a:t>
            </a:r>
            <a:r>
              <a:rPr b="0" lang="pl-PL" sz="2500" spc="-1" strike="noStrike">
                <a:solidFill>
                  <a:srgbClr val="000000"/>
                </a:solidFill>
                <a:latin typeface="Arial"/>
              </a:rPr>
              <a:t> – miejsce na Ziemi, do którego fala dotrze najszybciej. </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Najczęściej spotykane są płytkie trzęsienia Ziemi, których hipocentrum znajduje się na głębokości nawet 2 - 3 km. Podmorskim trzęsieniom Ziemi towarzyszą fale nazywane </a:t>
            </a:r>
            <a:r>
              <a:rPr b="1" lang="pl-PL" sz="2500" spc="-1" strike="noStrike">
                <a:solidFill>
                  <a:srgbClr val="000000"/>
                </a:solidFill>
                <a:latin typeface="Arial"/>
              </a:rPr>
              <a:t>tsunami </a:t>
            </a:r>
            <a:r>
              <a:rPr b="0" lang="pl-PL" sz="2500" spc="-1" strike="noStrike">
                <a:solidFill>
                  <a:srgbClr val="000000"/>
                </a:solidFill>
                <a:latin typeface="Arial"/>
              </a:rPr>
              <a:t>(o wysokości do 40 m), które rozchodzą się we wszystkich kierunkach z ogromną prędkością (nawet 900 km/h), powodujące ogromne zniszczenia na wybrzeżach.</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ole tekstowe 1"/>
          <p:cNvSpPr/>
          <p:nvPr/>
        </p:nvSpPr>
        <p:spPr>
          <a:xfrm>
            <a:off x="468360" y="333360"/>
            <a:ext cx="8207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Siłę trzęsień Ziemi określa się przy pomocy skali Richter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98" name="Object 2"/>
          <p:cNvGraphicFramePr/>
          <p:nvPr/>
        </p:nvGraphicFramePr>
        <p:xfrm>
          <a:off x="971640" y="765000"/>
          <a:ext cx="8324640" cy="5616720"/>
        </p:xfrm>
        <a:graphic>
          <a:graphicData uri="http://schemas.openxmlformats.org/presentationml/2006/ole">
            <p:oleObj r:id="rId1" spid="">
              <p:embed/>
              <p:pic>
                <p:nvPicPr>
                  <p:cNvPr id="199" name="Object 2" descr=""/>
                  <p:cNvPicPr/>
                  <p:nvPr/>
                </p:nvPicPr>
                <p:blipFill>
                  <a:blip r:embed="rId2"/>
                  <a:stretch/>
                </p:blipFill>
                <p:spPr>
                  <a:xfrm>
                    <a:off x="971640" y="765000"/>
                    <a:ext cx="832464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Przerażające skutki trzęsienia ziemi w Japonii"/>
          <p:cNvPicPr/>
          <p:nvPr/>
        </p:nvPicPr>
        <p:blipFill>
          <a:blip r:embed="rId1"/>
          <a:stretch/>
        </p:blipFill>
        <p:spPr>
          <a:xfrm>
            <a:off x="395280" y="907920"/>
            <a:ext cx="8255160" cy="4537080"/>
          </a:xfrm>
          <a:prstGeom prst="rect">
            <a:avLst/>
          </a:prstGeom>
          <a:ln w="0">
            <a:noFill/>
          </a:ln>
        </p:spPr>
      </p:pic>
      <p:sp>
        <p:nvSpPr>
          <p:cNvPr id="201" name="pole tekstowe 2"/>
          <p:cNvSpPr/>
          <p:nvPr/>
        </p:nvSpPr>
        <p:spPr>
          <a:xfrm>
            <a:off x="755640" y="5589720"/>
            <a:ext cx="7561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kutki trzęsienia Ziemi w Japonii – 12.03.201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http://www.nto.pl/apps/pbcs.dll/article?AID=/20110312/KRAJSWIAT/53861847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ole tekstowe 1"/>
          <p:cNvSpPr/>
          <p:nvPr/>
        </p:nvSpPr>
        <p:spPr>
          <a:xfrm>
            <a:off x="395280" y="692280"/>
            <a:ext cx="8353440" cy="524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Ze względu na częstotliwość występowania trzęsień Ziemi obszary Ziemi dzielimy na sejsmiczne, pensejsmiczne i asejsmiczne.</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a:rPr>
              <a:t>Obszary sejsmiczne </a:t>
            </a:r>
            <a:r>
              <a:rPr b="0" lang="pl-PL" sz="2600" spc="-1" strike="noStrike">
                <a:solidFill>
                  <a:srgbClr val="000000"/>
                </a:solidFill>
                <a:latin typeface="Arial"/>
              </a:rPr>
              <a:t>charakteryzują się dużą częstotliwością silnych trzęsień Ziemi. </a:t>
            </a:r>
            <a:r>
              <a:rPr b="1" lang="pl-PL" sz="2600" spc="-1" strike="noStrike">
                <a:solidFill>
                  <a:srgbClr val="000000"/>
                </a:solidFill>
                <a:latin typeface="Arial"/>
              </a:rPr>
              <a:t>Obszary pensejsmiczne </a:t>
            </a:r>
            <a:r>
              <a:rPr b="0" lang="pl-PL" sz="2600" spc="-1" strike="noStrike">
                <a:solidFill>
                  <a:srgbClr val="000000"/>
                </a:solidFill>
                <a:latin typeface="Arial"/>
              </a:rPr>
              <a:t>są to obszary, na których trzęsienia występują sporadycznie lub często, ale są bardzo słabe. </a:t>
            </a:r>
            <a:r>
              <a:rPr b="1" lang="pl-PL" sz="2600" spc="-1" strike="noStrike">
                <a:solidFill>
                  <a:srgbClr val="000000"/>
                </a:solidFill>
                <a:latin typeface="Arial"/>
              </a:rPr>
              <a:t>Obszary asejsmiczne </a:t>
            </a:r>
            <a:r>
              <a:rPr b="0" lang="pl-PL" sz="2600" spc="-1" strike="noStrike">
                <a:solidFill>
                  <a:srgbClr val="000000"/>
                </a:solidFill>
                <a:latin typeface="Arial"/>
              </a:rPr>
              <a:t>są pozbawione trzęsień Ziemi i są to stare platformy kontynentalne i dna oceaniczne z wyjątkiem strefy grzbietów i rowów.</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Poniższy rysunek przedstawia obszary występowania trzęsień  Ziemi.</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3" name="Object 1"/>
          <p:cNvGraphicFramePr/>
          <p:nvPr/>
        </p:nvGraphicFramePr>
        <p:xfrm>
          <a:off x="539640" y="549360"/>
          <a:ext cx="8064720" cy="5580000"/>
        </p:xfrm>
        <a:graphic>
          <a:graphicData uri="http://schemas.openxmlformats.org/presentationml/2006/ole">
            <p:oleObj r:id="rId1" spid="">
              <p:embed/>
              <p:pic>
                <p:nvPicPr>
                  <p:cNvPr id="204" name="Object 1" descr=""/>
                  <p:cNvPicPr/>
                  <p:nvPr/>
                </p:nvPicPr>
                <p:blipFill>
                  <a:blip r:embed="rId2"/>
                  <a:stretch/>
                </p:blipFill>
                <p:spPr>
                  <a:xfrm>
                    <a:off x="539640" y="549360"/>
                    <a:ext cx="8064720" cy="558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ole tekstowe 1"/>
          <p:cNvSpPr/>
          <p:nvPr/>
        </p:nvSpPr>
        <p:spPr>
          <a:xfrm>
            <a:off x="324000" y="981000"/>
            <a:ext cx="8351640" cy="2073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Skutki trzęsień Ziemi:</a:t>
            </a:r>
            <a:endParaRPr b="0" lang="en-US" sz="2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straty materialne – zniszczenie terenów, budynków, upraw.</a:t>
            </a:r>
            <a:endParaRPr b="0" lang="en-US" sz="2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ginie bardzo dużo ludzi, szczególnie na obszarach gęsto zaludniony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68000" y="836280"/>
            <a:ext cx="8280360" cy="5256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alton jako podstawowe założenia swojej teorii przyjął, że:</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materia złożona jest z kulistych, bardzo małych i dlatego niewidzialnych atomów,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wszystkie atomy danego pierwiastka mają taką samą masę i właściwości,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każdy pierwiastek zbudowany jest z charakterystycznych dla siebie atomów,  których masa jest inna dla każdego pierwiastka,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atomy są niezniszczalne i niepodzielne w związku z czym nie ulegają zamianom w trakcie reakcji chemicznych, prowadzących tylko do zmian w ich wzajemnego położenia i sposobu wiązania,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cząsteczki związków chemicznych zabudowane są ze skończonej, niewielkiej liczby atomów pierwiastków.</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Ministerstwo Edukacji Narodowej i Sportu</cp:lastModifiedBy>
  <dcterms:modified xsi:type="dcterms:W3CDTF">2013-09-17T20:50:48Z</dcterms:modified>
  <cp:revision>70</cp:revision>
  <dc:subject/>
  <dc:title>KORPUSKULARNO-FALOWA NATURA ŚWIATŁA</dc:title>
</cp:coreProperties>
</file>