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93.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85.xml.rels" ContentType="application/vnd.openxmlformats-package.relationships+xml"/>
  <Override PartName="/ppt/notesSlides/_rels/notesSlide7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0.wmf" ContentType="image/x-wmf"/>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5B49-0D15-4BAC-9F14-8EF666EAAA0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A2D7-9B5B-4192-A1C2-CC226CBA7D8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B293-A92B-4EB9-91A9-9937F45292D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C2AB-21C4-4EC4-AB25-4B973863B0F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A6E4-1615-49BD-95FC-8F37844348B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D09E-8591-4462-BC07-D84FDFC8FC0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17EC-7B23-4EA4-9181-B7BC2EA0A47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EE73-85CE-4762-AB43-0583272FAC7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7770-0519-4521-8F92-D84BBCA8944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1B8B-0B5D-4BD3-A3FD-0527318F2FE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D186-2DA4-4544-B046-83171557AE3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4A1E-04F3-4D40-9246-1AD06578952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E5E4-EF11-4F0C-ABF1-6F6699A2D3C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0AC0-041E-4ECC-AC51-873F0CD4596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09E1-9747-44A7-ADDC-6AFD1C438FF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3285-7E57-49C0-AAF3-52B24D582D9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9DA9-421F-4EFB-8C5A-2CB3985BF3F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3061-E6A8-4690-AFD2-3296EA8F496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20C4-4930-4699-AB4F-2FC7DB50087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8639-272C-4ECD-AF89-4D3ED035976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748F-9BA6-45E4-B6E2-1C0B0583819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9AD4-6BE5-4D1B-8D75-F87B39C11CE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4F07-CC85-406E-A6C8-97FB66BC348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418B-99E3-42E2-BA37-8FEA8EF17DC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765B-085A-4D3A-B95F-964AF705EE8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03D8-32E3-46F4-A1E5-80F3B7768F6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D22D-F0FF-4493-B5D5-A4B2F0E2FF0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E7F8-B465-47F8-87B4-8FBBC9BA6E2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1624-85B3-45F8-AD0D-3EDB8DC1958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BB95-2730-433D-A0F5-DE0220F6186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364C-D42D-4973-A6BB-8D68BE4C59E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F75A-CFA4-41E0-BA81-1587839B58F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0039-918A-4B93-A051-DA34592C31D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19C7-0A4C-4F23-953D-9C3E6E6EA47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75A3-689B-40AB-9753-5CF32EDDD4B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8848-9447-4E71-87CF-F6D7EF5C98D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6BD2-ECD9-46FC-8188-8A3DA74E047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5B8E-CEB2-4DCB-B180-207B371FD4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475B-98A0-4808-B2D7-D2A518631CA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052F-D2A5-469E-ACD6-0A3A6BC2596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CC85-7693-4DB6-A234-9F3324C7A94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8EAF-23F4-40BE-8801-FB14367DF87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D198-AFED-4B59-BC6F-F0D257B03DD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4EC0-B362-44D3-990E-319F1F370CE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8BBA-2E21-4FF5-89F4-1FC46E0C093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C3F6-6A88-497C-B5C0-BFDA040FBF6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40AD-71D5-4BA4-84F2-4BBAA46CF1B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8C78-884A-458F-B631-F9692181307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BC77-E8B3-4984-9F4B-483D58498F2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55E1-213B-46E6-A5D5-2B251920EDE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E86A-2D36-4DA5-B60F-B6B684924F3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8F1A-830F-4C9E-AB48-F24C37D7A2F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A3DE-E739-4ACC-A761-E96EBBDCDAD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6556-BB07-4FD2-99A7-73323E167B9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5148-67A7-4AE0-959C-7B4B717A86D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729D-4B14-4C10-B33D-80305C9FE16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1834-AE63-4278-A5DB-55B4D4B6663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4F5B-D21C-4A7B-AA38-2913D08A66E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08F9-3D77-4A02-B5C4-A23244B8416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31E3-12B3-410A-ACCD-2E75924ACBC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95C2-5974-45AC-B5F4-85EC2C56EED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0F4D-D858-46CA-A247-D78F37D7289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F645-BA2F-4F60-9A8E-8229F474CA2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BE62-8DB9-4950-A4C0-1D548BC2DE5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FAC1-74BD-4038-88EA-3898CA666B3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9CC3-6F5E-4F12-AF48-3877F17C337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3D55-C002-46B9-B75C-F91157F9E20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A54C-A400-474A-86D7-800992275A6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B1BD-13C3-457C-96A1-DF16E15CB35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2F8E-E92F-4F96-A433-19B39146256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13E2-3D29-4E0F-841F-CF00FFFF43B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2E06-E25B-45F6-A94E-D713A9EDF31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5C50-E291-4DE7-A337-FF8B4ED02C7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75A6-FE38-4AEC-A7B1-3C4BF43849E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AD9B-2BC0-4C5C-8BC9-1B14A5DAFE1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7033-32C9-44BD-97F4-70347BC072D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9DDB-F098-4B22-A108-8F0F110095B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53224-F38B-4F0D-9242-84F3B2D4A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0056C-9163-4EBD-AD72-3BEDA3A95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03788-95E5-43BA-883D-D7B680CE9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65C64-B661-4AAA-B785-BCD23072D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E93AA-D4B2-4FFB-9395-5B5FBD340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28271-0D92-488E-A36E-ED0C80844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445A1-C8E7-4154-8220-D6CCF710F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02691-9BA2-437C-AA4F-3976A148F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75506-CD23-40B9-BB3D-0C9F38B5E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C2BF8-8C6B-42D9-8A11-C63CECEFC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5379A-87D5-440F-8B55-E8B110C16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2A40-4023-43DF-92A3-4878293B1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27D8-B498-4F81-867C-A1AC3EEFA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51B27-8215-457C-94F5-E166E5507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4A33D-860F-459B-B54A-F5C25B9E0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1721C-792C-4C05-92AE-D28ADCC9A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09FCF-0A8A-4F77-B43A-3A26E6BEC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AF4F-39BF-4002-B500-019DE27A6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1FF41-BDD5-4F6E-B2E3-36AE83A4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21344-EA41-4A85-9360-400C4C93E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80A2A-A0A5-4C37-9D90-9EBB88CF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45E1A-2BAF-44EC-836C-275B77893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B0855-FECC-46DB-8197-8ED923D60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F7D8-9E26-4FB3-AF32-5A85EA9BE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B971-1C20-4D09-A245-F512C085CAA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93D9-63D2-422A-AA76-53FC6EAB522E}"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opernicus.torun.pl/nauka/astronomia/3/" TargetMode="External"/><Relationship Id="rId2" Type="http://schemas.openxmlformats.org/officeDocument/2006/relationships/hyperlink" Target="http://encyklopedia.pwn.pl/haslo.php?id=494667" TargetMode="External"/><Relationship Id="rId3" Type="http://schemas.openxmlformats.org/officeDocument/2006/relationships/hyperlink" Target="http://copernicus.torun.pl/nauka/astronomia/6/" TargetMode="External"/><Relationship Id="rId4" Type="http://schemas.openxmlformats.org/officeDocument/2006/relationships/hyperlink" Target="http://encyklopedia.pwn.pl/" TargetMode="External"/><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989000"/>
            <a:ext cx="8132760" cy="3384720"/>
          </a:xfrm>
          <a:prstGeom prst="rect">
            <a:avLst/>
          </a:prstGeom>
          <a:noFill/>
          <a:ln w="0">
            <a:noFill/>
          </a:ln>
        </p:spPr>
        <p:txBody>
          <a:bodyPr lIns="92160" rIns="92160" tIns="46080" bIns="46080" anchor="t">
            <a:noAutofit/>
          </a:bodyPr>
          <a:p>
            <a:pPr marL="762120" indent="0">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glądy na budowę Wszechświata;</a:t>
            </a:r>
            <a:br>
              <a:rPr sz="2400"/>
            </a:br>
            <a:r>
              <a:rPr b="1" lang="pl-PL" sz="2000" spc="-1" strike="noStrike">
                <a:solidFill>
                  <a:srgbClr val="000000"/>
                </a:solidFill>
                <a:latin typeface="Arial"/>
              </a:rPr>
              <a:t>Hierarchiczna budowa Wszechświata.</a:t>
            </a:r>
            <a:br>
              <a:rPr sz="2000"/>
            </a:br>
            <a:r>
              <a:rPr b="1" lang="pl-PL" sz="2000" spc="-1" strike="noStrike">
                <a:solidFill>
                  <a:srgbClr val="000000"/>
                </a:solidFill>
                <a:latin typeface="Arial"/>
              </a:rPr>
              <a:t>Jednostki odległości we Wszechświecie.</a:t>
            </a:r>
            <a:br>
              <a:rPr sz="2000"/>
            </a:br>
            <a:r>
              <a:rPr b="1" lang="pl-PL" sz="2000" spc="-1" strike="noStrike">
                <a:solidFill>
                  <a:srgbClr val="000000"/>
                </a:solidFill>
                <a:latin typeface="Arial"/>
              </a:rPr>
              <a:t>Kształt i wymiary Ziemi (pomiar Eratostenesa).</a:t>
            </a:r>
            <a:br>
              <a:rPr sz="2000"/>
            </a:br>
            <a:r>
              <a:rPr b="1" lang="pl-PL" sz="2000" spc="-1" strike="noStrike">
                <a:solidFill>
                  <a:srgbClr val="000000"/>
                </a:solidFill>
                <a:latin typeface="Arial"/>
              </a:rPr>
              <a:t>Średniowieczna alchemia.</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edług Arystotelesa sferyczny kosmos zamknięty wirującą powłoką gwiazd był całym wszechświatem istniejącym wiecznie. Tymczasem zwolennicy Platona przyjmowali, że kosmos został stworzony, stoicy zaś uznawali obecność przestrzeni, w której kosmos pozostawał zawieszony. Dla atomistów obserwowany kosmos był przypadkowym (i przemijającym) układem atomów w nieskończonym wszechświecie, którego istotę stanowiła próżnia oraz wędrujące poprzez nią niezniszczalne i niepodzielne drobinki materi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bardziej radykalne odejście od modelu kosmosu geocentrycznego </a:t>
            </a:r>
            <a:br>
              <a:rPr sz="2000"/>
            </a:br>
            <a:r>
              <a:rPr b="0" lang="pl-PL" sz="2000" spc="-1" strike="noStrike">
                <a:solidFill>
                  <a:srgbClr val="000000"/>
                </a:solidFill>
                <a:latin typeface="Arial"/>
              </a:rPr>
              <a:t>z fizyką Arystotelesa zaproponował Arystarch z Samos (ok. 310–230 p.n.e.), stwierdzając, że obserwowane zjawiska astronomiczne można wytłumaczyć na gruncie systemu heliocentrycznego. Propozycja ta nie zyskała jednak uznania wśród filozofów przyrod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bardziej wyrafinowany sposób zespolenia geocentrycznej astronomii matematycznej z kosmosem arystotelesowskim opracował Klaudiusz Ptolemeusz z Aleksandrii (II w. n.e.). W swym astronomicznym dziele Almagest przedstawił on kompletny system modeli geometrycznych, zbudowanych z kół – dużych deferentów i mniejszych epicykli – unoszących planety. Natomiast fizyczny obraz kosmosu wyłożył Ptolemeusz w Założeniach [teorii] planet. W opisanym tam modelu każda z planet poruszała się w sferycznej powłoce, na tyle grubej, by mieścił się w niej epicykl; przy czym dolna granica powłoki bardziej zewnętrznej planety była jednocześnie górną granicą powłoki planety bliższej Ziem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981000"/>
            <a:ext cx="8229600" cy="514512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 sprawą Ptolemeusza utrwalił się także na długo porządek planet w rosnącej odległości od Ziemi: Księżyc, Merkury, Wenus, Słońce, Mars, Jowisz i Saturn. Aby jednak ocalić dokładność przewidywań ruchów planet w swoim systemie, Ptolemeusz wprowadził pewne nowe rozwiązanie: środek epicyklu nie poruszał się po deferencie ze stałą prędkością względem jego środka, lecz względem ekwantu – punktu, który leżał po przeciwnej stronie środka deferentu w stosunku do Ziemi. Było to istotne odstępstwo od arystotelesowskiej teorii ruchu w świecie eteryczny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jw_5"/>
          <p:cNvPicPr/>
          <p:nvPr/>
        </p:nvPicPr>
        <p:blipFill>
          <a:blip r:embed="rId1"/>
          <a:stretch/>
        </p:blipFill>
        <p:spPr>
          <a:xfrm>
            <a:off x="1908000" y="765000"/>
            <a:ext cx="4121280" cy="4176720"/>
          </a:xfrm>
          <a:prstGeom prst="rect">
            <a:avLst/>
          </a:prstGeom>
          <a:ln w="0">
            <a:noFill/>
          </a:ln>
        </p:spPr>
      </p:pic>
      <p:sp>
        <p:nvSpPr>
          <p:cNvPr id="110" name="Text Box 5"/>
          <p:cNvSpPr/>
          <p:nvPr/>
        </p:nvSpPr>
        <p:spPr>
          <a:xfrm>
            <a:off x="179280" y="5157720"/>
            <a:ext cx="864072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erent (okrąg centralnie położony w jasnym pierścieniu) o środku w </a:t>
            </a:r>
            <a:r>
              <a:rPr b="0" i="1" lang="pl-PL" sz="1200" spc="-1" strike="noStrike">
                <a:solidFill>
                  <a:srgbClr val="000000"/>
                </a:solidFill>
                <a:latin typeface="Arial"/>
              </a:rPr>
              <a:t>c[entrum] deferentis</a:t>
            </a:r>
            <a:r>
              <a:rPr b="0" lang="pl-PL" sz="1200" spc="-1" strike="noStrike">
                <a:solidFill>
                  <a:srgbClr val="000000"/>
                </a:solidFill>
                <a:latin typeface="Arial"/>
              </a:rPr>
              <a:t> unosi epicykl (u góry). Nad środkiem deferentu znajduje się ekwant, a pod środkiem deferentu – środek świata, zajmowany przez Ziemię.</a:t>
            </a:r>
            <a:br>
              <a:rPr sz="1200"/>
            </a:br>
            <a:r>
              <a:rPr b="0" lang="pl-PL" sz="1200" spc="-1" strike="noStrike">
                <a:solidFill>
                  <a:srgbClr val="000000"/>
                </a:solidFill>
                <a:latin typeface="Arial"/>
              </a:rPr>
              <a:t>G. Peurbach, </a:t>
            </a:r>
            <a:r>
              <a:rPr b="0" i="1" lang="pl-PL" sz="1200" spc="-1" strike="noStrike">
                <a:solidFill>
                  <a:srgbClr val="000000"/>
                </a:solidFill>
                <a:latin typeface="Arial"/>
              </a:rPr>
              <a:t>Theoricae novae planetarum</a:t>
            </a:r>
            <a:r>
              <a:rPr b="0" lang="pl-PL" sz="1200" spc="-1" strike="noStrike">
                <a:solidFill>
                  <a:srgbClr val="000000"/>
                </a:solidFill>
                <a:latin typeface="Arial"/>
              </a:rPr>
              <a:t>, Norymberga, ok. 1474, f. 6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981000"/>
            <a:ext cx="8229600" cy="514512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późnym antyku wiedza o wszechświecie uległa zubożeniu w porównaniu z osiągnięciami Ptolemeusza. W następnych wiekach niewiele prac napisanych na Zachodzie nawiązywało bezpośrednio do jego traktatów. Dzięki rzymskiemu pisarzowi Marcjanusowi Kapelli (ok. 365–440) zachowała się informacja o pomyśle Heraklejdesa z Pontu (IV w. p.n.e.), który przypuszczał, że Merkury i Wenus krążą wokół Słońca i dopiero z nim – dokoła Ziemi. Inny rzymski pisarz, Makrobiusz (IV/V w.), napisał komentarz do </a:t>
            </a:r>
            <a:r>
              <a:rPr b="0" i="1" lang="pl-PL" sz="2000" spc="-1" strike="noStrike">
                <a:solidFill>
                  <a:srgbClr val="000000"/>
                </a:solidFill>
                <a:latin typeface="Arial"/>
              </a:rPr>
              <a:t>Snu Scypiona</a:t>
            </a:r>
            <a:r>
              <a:rPr b="0" lang="pl-PL" sz="2000" spc="-1" strike="noStrike">
                <a:solidFill>
                  <a:srgbClr val="000000"/>
                </a:solidFill>
                <a:latin typeface="Arial"/>
              </a:rPr>
              <a:t> Cycerona, zawierający popularny wykład kosmologii sfer planetarnyc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Średniowieczni uczeni – z krajów islamu i łacińskiej Europy – zasymilowali astronomię Ptolemeusza. Jednocześnie podejmowali próby przywrócenia idealnej współśrodkowości ruchów ciał niebieskich. Wśród autorów najważniejszych prac uczonych islamu, które zawierały krytykę mechanizmu ekwantu w systemie Ptolemeusza i przedstawiały rozwiązania zastępcze, należy wymienić: Ibn al-Haytama (965–ok. 1040) z Kairu, Ibn Rusda (Awerroes; 1126–1198) z mauretańskiej Andaluzji, Al-Bitrugiego (Alpetragius, XII w.), również Andaluzyjczyka, Nasira ad-Din at-Tusiego (XII w.) z Maragi i Ibn as-Satira (XIV w.) z Damaszk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rodzenie nauki o wszechświecie w średniowiecznej Europie Zachodniej wiązało się z przyswajaniem od XII w. arabskich przekładów autorów greckich (również Ptolemeusza) i oryginalnych dzieł uczonych islamu. Wydane około 1474 r. dzieło Georga Peurbacha (1423–1461) „</a:t>
            </a:r>
            <a:r>
              <a:rPr b="0" i="1" lang="pl-PL" sz="2000" spc="-1" strike="noStrike">
                <a:solidFill>
                  <a:srgbClr val="000000"/>
                </a:solidFill>
                <a:latin typeface="Arial"/>
              </a:rPr>
              <a:t>Nowe teorie planet” </a:t>
            </a:r>
            <a:r>
              <a:rPr b="0" lang="pl-PL" sz="2000" spc="-1" strike="noStrike">
                <a:solidFill>
                  <a:srgbClr val="000000"/>
                </a:solidFill>
                <a:latin typeface="Arial"/>
              </a:rPr>
              <a:t>zawierało nie tylko skrót astronomii Ptolemeusza i jego arabskich krytyków, lecz także szczegółowy opis kosmologicznych modeli astronoma z Aleksandrii w postaci materialnych sfer. Podręcznik Peurbacha był wielokrotnie wznawiany aż po XVII 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907920"/>
            <a:ext cx="8002440" cy="6048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Mikołaj Kopernik - teoria heliocentryczna</a:t>
            </a:r>
            <a:endParaRPr b="0" lang="en-US" sz="2000" spc="-1" strike="noStrike">
              <a:solidFill>
                <a:srgbClr val="000000"/>
              </a:solidFill>
              <a:latin typeface="Calibri"/>
            </a:endParaRPr>
          </a:p>
        </p:txBody>
      </p:sp>
      <p:pic>
        <p:nvPicPr>
          <p:cNvPr id="115" name="Picture 3" descr="uklad heliocentryczny"/>
          <p:cNvPicPr/>
          <p:nvPr/>
        </p:nvPicPr>
        <p:blipFill>
          <a:blip r:embed="rId1"/>
          <a:stretch/>
        </p:blipFill>
        <p:spPr>
          <a:xfrm>
            <a:off x="1692360" y="1773360"/>
            <a:ext cx="5400720" cy="3921120"/>
          </a:xfrm>
          <a:prstGeom prst="rect">
            <a:avLst/>
          </a:prstGeom>
          <a:ln w="0">
            <a:noFill/>
          </a:ln>
        </p:spPr>
      </p:pic>
      <p:sp>
        <p:nvSpPr>
          <p:cNvPr id="116" name="Text Box 4"/>
          <p:cNvSpPr/>
          <p:nvPr/>
        </p:nvSpPr>
        <p:spPr>
          <a:xfrm>
            <a:off x="1692360" y="5661000"/>
            <a:ext cx="532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klad heliocentrycz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ace Kopernika nad teorią heliocentryczną poprzedziło dostrzeżenie przez niego dwóch zasadniczych trudności w uznawanych w jego czasach przez astronomów, filozofów oraz teologów różnych wersjach teorii geocentrycznych.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Pierwszą trudnością była niezgodność ze zjawiskami astronomicznymi różnych wersji teorii sfer współśrodkowych.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Drugą była konstrukcja ekwantu w teorii Ptolemeusza. Konstrukcja ta była bowiem niezgodna z aksjomatem starożytnej greckiej astronomii </a:t>
            </a:r>
            <a:br>
              <a:rPr sz="1800"/>
            </a:br>
            <a:r>
              <a:rPr b="1" lang="pl-PL" sz="1800" spc="-1" strike="noStrike">
                <a:solidFill>
                  <a:srgbClr val="000000"/>
                </a:solidFill>
                <a:latin typeface="Arial"/>
              </a:rPr>
              <a:t>i kosmologii (fizyki niebieskiej), tj. zasadą jednostajności ruchów kołowych, odniesionych do fizycznego centrum. </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1267920"/>
            <a:ext cx="8280360" cy="4464360"/>
          </a:xfrm>
          <a:prstGeom prst="rect">
            <a:avLst/>
          </a:prstGeom>
          <a:noFill/>
          <a:ln w="0">
            <a:noFill/>
          </a:ln>
        </p:spPr>
        <p:txBody>
          <a:bodyPr anchor="t">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ykaz źródeł, które wykorzystano przy tworzeniu niniejszej prezentacji</a:t>
            </a:r>
            <a:r>
              <a:rPr b="0" lang="pl-PL" sz="1000" spc="-1" strike="noStrike">
                <a:solidFill>
                  <a:srgbClr val="000000"/>
                </a:solidFill>
                <a:latin typeface="Arial"/>
              </a:rPr>
              <a:t>:</a:t>
            </a:r>
            <a:endParaRPr b="0" lang="en-US" sz="1000" spc="-1" strike="noStrike">
              <a:solidFill>
                <a:srgbClr val="000000"/>
              </a:solidFill>
              <a:latin typeface="Calibri"/>
            </a:endParaRPr>
          </a:p>
          <a:p>
            <a:pPr indent="0">
              <a:lnSpc>
                <a:spcPct val="1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Filipowicz B. – „CHEMIA I ŻYCIE”  Państwowe Wydawnictwo „Wiedza Powszechna”, Warszawa 1981</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łodarczyk J. - </a:t>
            </a:r>
            <a:r>
              <a:rPr b="1" i="1" lang="pl-PL" sz="1000" spc="-1" strike="noStrike">
                <a:solidFill>
                  <a:srgbClr val="000000"/>
                </a:solidFill>
                <a:latin typeface="Arial"/>
              </a:rPr>
              <a:t>„Przedkopernikańskie poglądy kosmologiczne”</a:t>
            </a:r>
            <a:r>
              <a:rPr b="1" lang="pl-PL" sz="1000" spc="-1" strike="noStrike">
                <a:solidFill>
                  <a:srgbClr val="000000"/>
                </a:solidFill>
                <a:latin typeface="Arial"/>
              </a:rPr>
              <a:t> Instytut Historii Nauki PAN</a:t>
            </a:r>
            <a:r>
              <a:rPr b="0" lang="pl-PL" sz="1000" spc="-1" strike="noStrike">
                <a:solidFill>
                  <a:srgbClr val="000000"/>
                </a:solidFill>
                <a:latin typeface="Arial"/>
              </a:rPr>
              <a:t> </a:t>
            </a:r>
            <a:r>
              <a:rPr b="0" lang="pl-PL" sz="1000" spc="-1" strike="noStrike" u="sng">
                <a:solidFill>
                  <a:srgbClr val="0000ff"/>
                </a:solidFill>
                <a:uFillTx/>
                <a:latin typeface="Arial"/>
                <a:hlinkClick r:id="rId1"/>
              </a:rPr>
              <a:t>http://copernicus.torun.pl/nauka/astronomia/3/</a:t>
            </a:r>
            <a:r>
              <a:rPr b="1" lang="pl-PL" sz="1000" spc="-1" strike="noStrike">
                <a:solidFill>
                  <a:srgbClr val="000000"/>
                </a:solidFill>
                <a:latin typeface="Arial"/>
              </a:rPr>
              <a:t>  (dostęp 2013.08.10) </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2"/>
              </a:rPr>
              <a:t>http://encyklopedia.pwn.pl/haslo.php?id=494667</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3"/>
              </a:rPr>
              <a:t>http://copernicus.torun.pl/nauka/astronomia/6/</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4"/>
              </a:rPr>
              <a:t>http://encyklopedia.pwn.p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http://www.pgi.gov.pl/images/stories/kopalnia_wiedzy/meteoryty/uklad_sloneczny_maks.jpg </a:t>
            </a:r>
            <a:r>
              <a:rPr b="1" lang="pl-PL" sz="1000" spc="-1" strike="noStrike">
                <a:solidFill>
                  <a:srgbClr val="000000"/>
                </a:solidFill>
                <a:latin typeface="Arial"/>
              </a:rPr>
              <a:t>(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http://encyklopedia.pwn.pl/haslo/4019653/renesans.html </a:t>
            </a:r>
            <a:r>
              <a:rPr b="1" lang="pl-PL" sz="1000" spc="-1" strike="noStrike">
                <a:solidFill>
                  <a:srgbClr val="000000"/>
                </a:solidFill>
                <a:latin typeface="Arial"/>
              </a:rPr>
              <a:t>(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mmkoszalin.eu/artykul/zdjecie-jan-matejko-alchemik-sedziwoj-i-zygmunt-iii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y URL:</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astro.uni.wroc.pl/ludzie/mrozek/popularyzacja/110517_odleglosci.pdf (dostęp 2013.08.10) </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v=UYsdNsTe4Cc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v=GGIFdLwMDhg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walter-fendt.de/ph14pl/keplerlaw1_pl.htm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feature=player_detailpage&amp;v=DtvrxYrZ8Ak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ernik przedstawił pierwszą wersję swojej teorii w pracy, która zachowała się pod tytułem Nicolai Copernici de hypothesibus motuum coelestium a se constitutis commentariolus (Mikołaja Kopernika komentarzyk o hipotezach ruchów niebieskich; w przekładzie na język polski: Zarys podstaw astronomii), rozpowszechnianej za jego życia tylko w odpisach i napisanej najprawdopodobniej około 1507–1508 r.</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budowaną wersję swojej teorii Kopernik przedstawił w dziele, które zachowało się pod tytułem De revolutionibus orbium coelestium (O obrotach sfer niebieskich). Prace nad jego spisywaniem rozpoczęły się nie później niż w 1515–1516 r., a zakończyły się w czerwcu 1542 r. Wydano je zaś drukiem w Norymberdze w 1543 r. Autograf tego dzieła przechowuje Biblioteka Jagiellońska</a:t>
            </a:r>
            <a:r>
              <a:rPr b="0" lang="pl-PL" sz="2000" spc="-1" strike="noStrike">
                <a:solidFill>
                  <a:srgbClr val="000000"/>
                </a:solidFill>
                <a:latin typeface="Calibri"/>
              </a:rPr>
              <a:t> w Krakowie.</a:t>
            </a:r>
            <a:r>
              <a:rPr b="0" lang="pl-PL" sz="2000" spc="-1" strike="noStrike">
                <a:solidFill>
                  <a:srgbClr val="000000"/>
                </a:solidFill>
                <a:latin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warstwie kosmologicznej teoria Kopernika radykalnie negowała powszechnie uznawane w starożytności, średniowieczu i renesansie teorie geostatyczne i geocentryczne. Postulowała bowiem ruchomość Ziemi i bezruch Słońca. W centrum Wszechświata nie znajdowała się już Ziemia.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warstwie matematyczno-empirycznej teoria Kopernika została tak pomyślana, by była zgodna w sensie obserwacyjnym z wersją teorii Ptolemeusza przedstawioną w Tablicach alfonsyńskich z wyjątkiem niektórych zjawisk, takich jak paralaksa gwiezdna czy precesj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Galileusz</a:t>
            </a:r>
            <a:r>
              <a:rPr b="1" lang="pl-PL" sz="1800" spc="-1" strike="noStrike">
                <a:solidFill>
                  <a:srgbClr val="000000"/>
                </a:solidFill>
                <a:latin typeface="Arial"/>
              </a:rPr>
              <a:t>;</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alileo Galilei </a:t>
            </a:r>
            <a:r>
              <a:rPr b="0" lang="pl-PL" sz="1800" spc="-1" strike="noStrike">
                <a:solidFill>
                  <a:srgbClr val="000000"/>
                </a:solidFill>
                <a:latin typeface="Arial"/>
              </a:rPr>
              <a:t>(1564 - 1642), włoski fizyk, astronom i filozof; </a:t>
            </a:r>
            <a:br>
              <a:rPr sz="1800"/>
            </a:br>
            <a:r>
              <a:rPr b="0" lang="pl-PL" sz="1800" spc="-1" strike="noStrike">
                <a:solidFill>
                  <a:srgbClr val="000000"/>
                </a:solidFill>
                <a:latin typeface="Arial"/>
              </a:rPr>
              <a:t>twórca podstaw eksperymentalno-matematycznych metod badawczych </a:t>
            </a:r>
            <a:br>
              <a:rPr sz="1800"/>
            </a:br>
            <a:r>
              <a:rPr b="0" lang="pl-PL" sz="1800" spc="-1" strike="noStrike">
                <a:solidFill>
                  <a:srgbClr val="000000"/>
                </a:solidFill>
                <a:latin typeface="Arial"/>
              </a:rPr>
              <a:t>w przyrodoznawstwie. Szczególnie duże znaczenie miały obserwacje astronomiczne Galileusza przeprowadzane za pomocą zbudowanej przez niego w 1609r. lunety (pierwsze zastosowanie lunety do obserwacji astronomicznej); odkrył góry na Księżcu, cztery satelity Jowisza, fazy Wenus, plamy słoneczne oraz stwierdził obrót Słońca dookoła osi i inn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alileusz</a:t>
            </a:r>
            <a:r>
              <a:rPr b="0" lang="pl-PL" sz="1800" spc="-1" strike="noStrike">
                <a:solidFill>
                  <a:srgbClr val="000000"/>
                </a:solidFill>
                <a:latin typeface="Arial"/>
              </a:rPr>
              <a:t> był zwolennikiem idei Mikołaja Kopernika.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616 r. w wyniku przeprowadzonego przez inkwizycję dochodzenia został wezwany do Rzymu i zobowiązany do zaniechania głoszenia zasad heliocentryzmu jako sprzecznych z kosmologią biblijną, postanowienie to nie zostało jednak formalnie ogłoszone; w 1632 r. wydał Dialogo... sopra i due massimi sistemi del mondo... (wydanie polskie Dialog o dwóch najważniejszych układach świata — ptolemeuszowym i kopernikowym), co — mimo przychylności papieża Urbana VIII — naraziło go na ponowny proces przed trybunałem inkwizycji (1633). Zmuszony do publicznego odwołania swych poglądów (według XVIII-wiecznej legendy miał wówczas wyrzec słynne słowa: </a:t>
            </a:r>
            <a:r>
              <a:rPr b="1" i="1" lang="pl-PL" sz="1800" spc="-1" strike="noStrike">
                <a:solidFill>
                  <a:srgbClr val="000000"/>
                </a:solidFill>
                <a:latin typeface="Arial"/>
              </a:rPr>
              <a:t>e pur si muove‘ </a:t>
            </a:r>
            <a:r>
              <a:rPr b="0" i="1" lang="pl-PL" sz="1800" spc="-1" strike="noStrike">
                <a:solidFill>
                  <a:srgbClr val="000000"/>
                </a:solidFill>
                <a:latin typeface="Arial"/>
              </a:rPr>
              <a:t>a</a:t>
            </a:r>
            <a:r>
              <a:rPr b="0" lang="pl-PL" sz="1800" spc="-1" strike="noStrike">
                <a:solidFill>
                  <a:srgbClr val="000000"/>
                </a:solidFill>
                <a:latin typeface="Arial"/>
              </a:rPr>
              <a:t> jednak się kręci),</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alileusz był zdecydowanym zwolennikiem nauki opartej na doświadczeniu, jednocześnie odcinał się od skrajnego empiryzmu i głosił, że samo nagromadzenie faktów nie stanowi jeszcze nauki; właściwym zadaniem nauki jest, według niego, ustalenie prawidłowości, następstwa i współwystępowania zdarzeń za pomocą rozumowania opartego na eksperymencie. </a:t>
            </a: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dkrycia astronomiczne Galileusza miały epokowe znaczenie — były ważnym wkładem do zwycięstwa idei Kopernika i umożliwiły dalszy rozwój astronomii obserwacyjnej (choć sam Galileusz w wielu przypadkach nie zgadzał się </a:t>
            </a:r>
            <a:br>
              <a:rPr sz="1800"/>
            </a:br>
            <a:r>
              <a:rPr b="0" lang="pl-PL" sz="1800" spc="-1" strike="noStrike">
                <a:solidFill>
                  <a:srgbClr val="000000"/>
                </a:solidFill>
                <a:latin typeface="Arial"/>
              </a:rPr>
              <a:t>z nowymi poglądami, np. nie zaakceptował odkrycia eliptycznych orbit planet przez J. Keple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6840" y="1599840"/>
            <a:ext cx="8218440" cy="319716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alileusz próbował uzgodnić swoje poglądy fizyczne i kosmologiczne </a:t>
            </a:r>
            <a:br>
              <a:rPr sz="1800"/>
            </a:br>
            <a:r>
              <a:rPr b="0" lang="pl-PL" sz="1800" spc="-1" strike="noStrike">
                <a:solidFill>
                  <a:srgbClr val="000000"/>
                </a:solidFill>
                <a:latin typeface="Arial"/>
              </a:rPr>
              <a:t>z biblijną wizją świata; twierdził, iż Biblia wskazuje drogę do zbawienia, nauki przyrodnicze zaś opisują m.in. ruch ciał niebieskich; te dwa źródła poznania mają więc odmienne zadania; nie mogą zatem pozostawać ze sobą w sprzeczności. </a:t>
            </a: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Arial"/>
              </a:rPr>
              <a:t>Współcześnie sprawa Galileusza stała się przedmiotem badań specjalnej komisji teologów, historyków i przyrodników, powołanej w1979 r. przez papieża Jana Pawła II. W 1993 r. papież oficjalnie przyznał, że potępiając Galileusza Kościół popełnił błą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edług współczesnych teorii, Układ Słoneczny powstał ok. 4,5 miliarda lat temu z obłoku materii protosłonecznej. Prawdopodobnie, w wyniku wybuchu znajdującej się w jego pobliżu gwiazdy supernowej, został zapoczątkowany proces grawitacyjnego zapadania się obłoku połączony z równoczesnym wzbogacaniem w najcięższe pierwiastki. W miarę kurczenia się obłok przyjął kształt wirującego dysku, w którego środku uformowało się Słońce, a obiegające je cząstki pyłu, w wyniku wzajemnych zderzeń, sklejały się stopniowo ze sobą, tworząc coraz większe twory; wśród nich część stała się zarodkami planetarnymi; wskutek wzajemnych oddziaływań grawitacyjnych zarodki te łączyły się tworząc — w ciągu paruset milionów lat — planety. Mniejsze twory przetrwały w postaci planetoid, komet i meteoroidów.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9280" y="1599840"/>
            <a:ext cx="7993080" cy="348444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kład Słoneczny</a:t>
            </a:r>
            <a:r>
              <a:rPr b="0" lang="pl-PL" sz="1800" spc="-1" strike="noStrike">
                <a:solidFill>
                  <a:srgbClr val="000000"/>
                </a:solidFill>
                <a:latin typeface="Arial"/>
              </a:rPr>
              <a:t> to Słońce wraz z otaczającą je i związaną z nim grawitacyjnie materią w postaci planet z ich księżycami, planetoid, komet </a:t>
            </a:r>
            <a:br>
              <a:rPr sz="1800"/>
            </a:br>
            <a:r>
              <a:rPr b="0" lang="pl-PL" sz="1800" spc="-1" strike="noStrike">
                <a:solidFill>
                  <a:srgbClr val="000000"/>
                </a:solidFill>
                <a:latin typeface="Arial"/>
              </a:rPr>
              <a:t>i meteoroidów, a także pyłu i gazu wypełniających przestrzeń międzyplanetarną. Obiekty Układu Słonecznego są powiązane siłami wzajemnych oddziaływań, z których najsilniejsze jest grawitacyjne oddziaływanie Słońca. Ciałem centralnym, skupiającym prawie całą (99,87%) masę Układu Słonecznego jest Słońce, obiegane przez 8 planet.</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Object 4"/>
          <p:cNvGraphicFramePr/>
          <p:nvPr/>
        </p:nvGraphicFramePr>
        <p:xfrm>
          <a:off x="1047600" y="1409760"/>
          <a:ext cx="5810400" cy="3855960"/>
        </p:xfrm>
        <a:graphic>
          <a:graphicData uri="http://schemas.openxmlformats.org/presentationml/2006/ole">
            <p:oleObj progId="Word.Document.12" r:id="rId1" spid="">
              <p:embed/>
              <p:pic>
                <p:nvPicPr>
                  <p:cNvPr id="127" name="Object 4" descr=""/>
                  <p:cNvPicPr/>
                  <p:nvPr/>
                </p:nvPicPr>
                <p:blipFill>
                  <a:blip r:embed="rId2"/>
                  <a:stretch/>
                </p:blipFill>
                <p:spPr>
                  <a:xfrm>
                    <a:off x="1047600" y="1409760"/>
                    <a:ext cx="5810400" cy="38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uklad_sloneczny_maks"/>
          <p:cNvPicPr/>
          <p:nvPr/>
        </p:nvPicPr>
        <p:blipFill>
          <a:blip r:embed="rId1"/>
          <a:stretch/>
        </p:blipFill>
        <p:spPr>
          <a:xfrm>
            <a:off x="826920" y="1125360"/>
            <a:ext cx="7740720" cy="48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Jednostki odległości we Wszechświeci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jednostka astronomiczna</a:t>
            </a:r>
            <a:r>
              <a:rPr b="0" lang="pl-PL" sz="2000" spc="-1" strike="noStrike">
                <a:solidFill>
                  <a:srgbClr val="000000"/>
                </a:solidFill>
                <a:latin typeface="Arial"/>
              </a:rPr>
              <a:t> [AU], za jednostkę astronomiczną przyjęto średnią odległość Ziemi od Słońca.Jest stosowana w astronomii, głównie do wyrażania odległości w Układzie Słonecznym i wzajemnych odległości gwiazd podwójnych;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rok świetlny</a:t>
            </a:r>
            <a:r>
              <a:rPr b="0" lang="pl-PL" sz="2000" spc="-1" strike="noStrike">
                <a:solidFill>
                  <a:srgbClr val="000000"/>
                </a:solidFill>
                <a:latin typeface="Arial"/>
              </a:rPr>
              <a:t>, jednostka długości stosowana w astronomii — odległość, jaką przebywa światło w próżni w ciągu 1 roku;</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arsek</a:t>
            </a:r>
            <a:r>
              <a:rPr b="0" lang="pl-PL" sz="2000" spc="-1" strike="noStrike">
                <a:solidFill>
                  <a:srgbClr val="000000"/>
                </a:solidFill>
                <a:latin typeface="Arial"/>
              </a:rPr>
              <a:t> [pc] (dawniej ps), </a:t>
            </a:r>
            <a:r>
              <a:rPr b="0" i="1" lang="pl-PL" sz="2000" spc="-1" strike="noStrike">
                <a:solidFill>
                  <a:srgbClr val="000000"/>
                </a:solidFill>
                <a:latin typeface="Arial"/>
              </a:rPr>
              <a:t>astr. </a:t>
            </a:r>
            <a:r>
              <a:rPr b="0" lang="pl-PL" sz="2000" spc="-1" strike="noStrike">
                <a:solidFill>
                  <a:srgbClr val="000000"/>
                </a:solidFill>
                <a:latin typeface="Arial"/>
              </a:rPr>
              <a:t>jednostka długości stosowana w astronomii, legalna, nienależąca do układu SI;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AU = 149 600 000 km.</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rok świetlny = 9,4605 · 10</a:t>
            </a:r>
            <a:r>
              <a:rPr b="1" lang="pl-PL" sz="2000" spc="-1" strike="noStrike" baseline="30000">
                <a:solidFill>
                  <a:srgbClr val="000000"/>
                </a:solidFill>
                <a:latin typeface="Arial"/>
              </a:rPr>
              <a:t>12</a:t>
            </a:r>
            <a:r>
              <a:rPr b="1" lang="pl-PL" sz="2000" spc="-1" strike="noStrike">
                <a:solidFill>
                  <a:srgbClr val="000000"/>
                </a:solidFill>
                <a:latin typeface="Arial"/>
              </a:rPr>
              <a:t> km = 6,324 · 10</a:t>
            </a:r>
            <a:r>
              <a:rPr b="1" lang="pl-PL" sz="2000" spc="-1" strike="noStrike" baseline="30000">
                <a:solidFill>
                  <a:srgbClr val="000000"/>
                </a:solidFill>
                <a:latin typeface="Arial"/>
              </a:rPr>
              <a:t>4</a:t>
            </a:r>
            <a:r>
              <a:rPr b="1" lang="pl-PL" sz="2000" spc="-1" strike="noStrike">
                <a:solidFill>
                  <a:srgbClr val="000000"/>
                </a:solidFill>
                <a:latin typeface="Arial"/>
              </a:rPr>
              <a:t> AU = 0,3066 pc.</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pc = 206 265 AU = 3,0857 · 10</a:t>
            </a:r>
            <a:r>
              <a:rPr b="1" lang="pl-PL" sz="2000" spc="-1" strike="noStrike" baseline="30000">
                <a:solidFill>
                  <a:srgbClr val="000000"/>
                </a:solidFill>
                <a:latin typeface="Arial"/>
              </a:rPr>
              <a:t>16</a:t>
            </a:r>
            <a:r>
              <a:rPr b="1" lang="pl-PL" sz="2000" spc="-1" strike="noStrike">
                <a:solidFill>
                  <a:srgbClr val="000000"/>
                </a:solidFill>
                <a:latin typeface="Arial"/>
              </a:rPr>
              <a:t> m = 3,26 lat świetlnych.</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900000" y="1052640"/>
            <a:ext cx="7201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Zadanie domowe;</a:t>
            </a:r>
            <a:r>
              <a:rPr b="0" lang="pl-PL"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grupach trzyosobowych wykonaj dowolną techniką model przestrzenny ilustrujący Układ Słonecz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907560"/>
            <a:ext cx="8207280" cy="4969080"/>
          </a:xfrm>
          <a:prstGeom prst="rect">
            <a:avLst/>
          </a:prstGeom>
          <a:noFill/>
          <a:ln w="0">
            <a:noFill/>
          </a:ln>
        </p:spPr>
        <p:txBody>
          <a:bodyPr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awo powszechnego ciążenia sformułowane w 1687r. przez Newtona głosi, iż każde dwa ciała materialne we Wszechświecie przyciągają się z siłą </a:t>
            </a:r>
            <a:r>
              <a:rPr b="0" i="1" lang="pl-PL" sz="1600" spc="-1" strike="noStrike">
                <a:solidFill>
                  <a:srgbClr val="000000"/>
                </a:solidFill>
                <a:latin typeface="Arial"/>
              </a:rPr>
              <a:t>F</a:t>
            </a:r>
            <a:r>
              <a:rPr b="0" lang="pl-PL" sz="1600" spc="-1" strike="noStrike">
                <a:solidFill>
                  <a:srgbClr val="000000"/>
                </a:solidFill>
                <a:latin typeface="Arial"/>
              </a:rPr>
              <a:t> proporcjonalną do iloczynu ich mas </a:t>
            </a:r>
            <a:r>
              <a:rPr b="0" i="1" lang="pl-PL" sz="1600" spc="-1" strike="noStrike">
                <a:solidFill>
                  <a:srgbClr val="000000"/>
                </a:solidFill>
                <a:latin typeface="Arial"/>
              </a:rPr>
              <a:t>m</a:t>
            </a:r>
            <a:r>
              <a:rPr b="0" lang="pl-PL" sz="1600" spc="-1" strike="noStrike" baseline="-25000">
                <a:solidFill>
                  <a:srgbClr val="000000"/>
                </a:solidFill>
                <a:latin typeface="Arial"/>
              </a:rPr>
              <a:t>1</a:t>
            </a:r>
            <a:r>
              <a:rPr b="0" lang="pl-PL" sz="1600" spc="-1" strike="noStrike">
                <a:solidFill>
                  <a:srgbClr val="000000"/>
                </a:solidFill>
                <a:latin typeface="Arial"/>
              </a:rPr>
              <a:t> i </a:t>
            </a:r>
            <a:r>
              <a:rPr b="0" i="1" lang="pl-PL" sz="1600" spc="-1" strike="noStrike">
                <a:solidFill>
                  <a:srgbClr val="000000"/>
                </a:solidFill>
                <a:latin typeface="Arial"/>
              </a:rPr>
              <a:t>m</a:t>
            </a:r>
            <a:r>
              <a:rPr b="0" lang="pl-PL" sz="1600" spc="-1" strike="noStrike" baseline="-25000">
                <a:solidFill>
                  <a:srgbClr val="000000"/>
                </a:solidFill>
                <a:latin typeface="Arial"/>
              </a:rPr>
              <a:t>2</a:t>
            </a:r>
            <a:r>
              <a:rPr b="0" lang="pl-PL" sz="1600" spc="-1" strike="noStrike">
                <a:solidFill>
                  <a:srgbClr val="000000"/>
                </a:solidFill>
                <a:latin typeface="Arial"/>
              </a:rPr>
              <a:t>, a odwrotnie proporcjonalną do kwadratu odległości </a:t>
            </a:r>
            <a:r>
              <a:rPr b="0" i="1" lang="pl-PL" sz="1600" spc="-1" strike="noStrike">
                <a:solidFill>
                  <a:srgbClr val="000000"/>
                </a:solidFill>
                <a:latin typeface="Arial"/>
              </a:rPr>
              <a:t>r</a:t>
            </a:r>
            <a:r>
              <a:rPr b="0" lang="pl-PL" sz="1600" spc="-1" strike="noStrike">
                <a:solidFill>
                  <a:srgbClr val="000000"/>
                </a:solidFill>
                <a:latin typeface="Arial"/>
              </a:rPr>
              <a:t> między nimi; </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F</a:t>
            </a:r>
            <a:r>
              <a:rPr b="1" lang="pl-PL" sz="1600" spc="-1" strike="noStrike">
                <a:solidFill>
                  <a:srgbClr val="000000"/>
                </a:solidFill>
                <a:latin typeface="Arial"/>
              </a:rPr>
              <a:t> = </a:t>
            </a:r>
            <a:r>
              <a:rPr b="1" i="1" lang="pl-PL" sz="1600" spc="-1" strike="noStrike">
                <a:solidFill>
                  <a:srgbClr val="000000"/>
                </a:solidFill>
                <a:latin typeface="Arial"/>
              </a:rPr>
              <a:t>Gm</a:t>
            </a:r>
            <a:r>
              <a:rPr b="1" lang="pl-PL" sz="1600" spc="-1" strike="noStrike" baseline="-25000">
                <a:solidFill>
                  <a:srgbClr val="000000"/>
                </a:solidFill>
                <a:latin typeface="Arial"/>
              </a:rPr>
              <a:t>1</a:t>
            </a:r>
            <a:r>
              <a:rPr b="1" i="1" lang="pl-PL" sz="1600" spc="-1" strike="noStrike">
                <a:solidFill>
                  <a:srgbClr val="000000"/>
                </a:solidFill>
                <a:latin typeface="Arial"/>
              </a:rPr>
              <a:t>m</a:t>
            </a:r>
            <a:r>
              <a:rPr b="1" i="1" lang="pl-PL" sz="1600" spc="-1" strike="noStrike" baseline="-25000">
                <a:solidFill>
                  <a:srgbClr val="000000"/>
                </a:solidFill>
                <a:latin typeface="Arial"/>
              </a:rPr>
              <a:t>2</a:t>
            </a:r>
            <a:r>
              <a:rPr b="1" lang="pl-PL" sz="1600" spc="-1" strike="noStrike">
                <a:solidFill>
                  <a:srgbClr val="000000"/>
                </a:solidFill>
                <a:latin typeface="Arial"/>
              </a:rPr>
              <a:t>/</a:t>
            </a:r>
            <a:r>
              <a:rPr b="1" i="1" lang="pl-PL" sz="1600" spc="-1" strike="noStrike">
                <a:solidFill>
                  <a:srgbClr val="000000"/>
                </a:solidFill>
                <a:latin typeface="Arial"/>
              </a:rPr>
              <a:t>r</a:t>
            </a:r>
            <a:r>
              <a:rPr b="1" lang="pl-PL" sz="1600" spc="-1" strike="noStrike" baseline="30000">
                <a:solidFill>
                  <a:srgbClr val="000000"/>
                </a:solidFill>
                <a:latin typeface="Arial"/>
              </a:rPr>
              <a:t>2</a:t>
            </a:r>
            <a:r>
              <a:rPr b="0" lang="pl-PL" sz="1600" spc="-1" strike="noStrike">
                <a:solidFill>
                  <a:srgbClr val="000000"/>
                </a:solidFill>
                <a:latin typeface="Arial"/>
              </a:rPr>
              <a:t> (</a:t>
            </a:r>
            <a:r>
              <a:rPr b="0" i="1" lang="pl-PL" sz="1600" spc="-1" strike="noStrike">
                <a:solidFill>
                  <a:srgbClr val="000000"/>
                </a:solidFill>
                <a:latin typeface="Arial"/>
              </a:rPr>
              <a:t>G</a:t>
            </a:r>
            <a:r>
              <a:rPr b="0" lang="pl-PL" sz="1600" spc="-1" strike="noStrike">
                <a:solidFill>
                  <a:srgbClr val="000000"/>
                </a:solidFill>
                <a:latin typeface="Arial"/>
              </a:rPr>
              <a:t> — stała grawitacji);</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ir Isaac Newton, angielski fizyk, matematyk i astronom to jeden z najwybitniejszych uczonych wszystkich czasów. Prace Newtona dotyczyły prawie wszystkich działów fizyki. W najważniejszym dziele, </a:t>
            </a:r>
            <a:r>
              <a:rPr b="0" i="1" lang="pl-PL" sz="1600" spc="-1" strike="noStrike">
                <a:solidFill>
                  <a:srgbClr val="000000"/>
                </a:solidFill>
                <a:latin typeface="Arial"/>
              </a:rPr>
              <a:t>Philosophiae naturalis principia mathematica</a:t>
            </a:r>
            <a:r>
              <a:rPr b="0" lang="pl-PL" sz="1600" spc="-1" strike="noStrike">
                <a:solidFill>
                  <a:srgbClr val="000000"/>
                </a:solidFill>
                <a:latin typeface="Arial"/>
              </a:rPr>
              <a:t> (1687r.), rozwinął naukę o przestrzeni, czasie, masach i siłach, podając ogólny schemat rozwiązywania konkretnych problemów mechaniki, fizyki i astronomii. Sformułował trzy prawa dynamiki (zasady dynamiki) oraz prawo powszechnego ciążenia. Na ich podstawie opracował m.in. teorię ruchu planet, uzasadnił prawa Keplera, wyjaśnił zjawisko precesji oraz zjawisko przypływu i odpływu. </a:t>
            </a:r>
            <a:endParaRPr b="0" lang="en-US" sz="1600" spc="-1" strike="noStrike">
              <a:solidFill>
                <a:srgbClr val="000000"/>
              </a:solidFill>
              <a:latin typeface="Calibri"/>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latach 1669–1701 Newton był profesorem uniwersytetu w Cambridge. Od 1672r.  członkiem Towarzystwa Królewskiego w Londynie (od 1703r. prezesem), od 1699r. członkiem francuskiej Akademii Nauk. Od 1699r. dyrektorem mennicy królewskiej. W 1705r. otrzymał szlachectwo. </a:t>
            </a:r>
            <a:endParaRPr b="0" lang="en-US" sz="12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000" y="692280"/>
            <a:ext cx="8218440" cy="543384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iemiecki astronom </a:t>
            </a:r>
            <a:r>
              <a:rPr b="0" lang="pl-PL" sz="2000" spc="-1" strike="noStrike">
                <a:solidFill>
                  <a:srgbClr val="000000"/>
                </a:solidFill>
                <a:latin typeface="Arial"/>
              </a:rPr>
              <a:t>Johannes</a:t>
            </a:r>
            <a:r>
              <a:rPr b="1" lang="pl-PL" sz="2000" spc="-1" strike="noStrike">
                <a:solidFill>
                  <a:srgbClr val="000000"/>
                </a:solidFill>
                <a:latin typeface="Arial"/>
              </a:rPr>
              <a:t> </a:t>
            </a:r>
            <a:r>
              <a:rPr b="0" lang="pl-PL" sz="2000" spc="-1" strike="noStrike">
                <a:solidFill>
                  <a:srgbClr val="000000"/>
                </a:solidFill>
                <a:latin typeface="Arial"/>
              </a:rPr>
              <a:t>Kepler (1571 - 1630) sformułował </a:t>
            </a:r>
            <a:r>
              <a:rPr b="1" lang="pl-PL" sz="2000" spc="-1" strike="noStrike">
                <a:solidFill>
                  <a:srgbClr val="000000"/>
                </a:solidFill>
                <a:latin typeface="Arial"/>
              </a:rPr>
              <a:t>trzy prawa ruchu planet wokół Słońca </a:t>
            </a:r>
            <a:r>
              <a:rPr b="0" lang="pl-PL" sz="2000" spc="-1" strike="noStrike">
                <a:solidFill>
                  <a:srgbClr val="000000"/>
                </a:solidFill>
                <a:latin typeface="Arial"/>
              </a:rPr>
              <a:t>(1619):</a:t>
            </a:r>
            <a:r>
              <a:rPr b="1" lang="pl-PL" sz="2000" spc="-1" strike="noStrike">
                <a:solidFill>
                  <a:srgbClr val="000000"/>
                </a:solidFill>
                <a:latin typeface="Arial"/>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 prawo Keplera: ruch każdej planety odbywa się po elipsie, zaś Słońce znajduje się w jednym z jej ognisk,</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I prawo Keplera: promień wodzący planety zakreśla w równych odstępach czasu równe pola (tzw. prawo pól),</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II prawo Keplera: kwadraty okresów obiegów planet dookoła Słońca są wprost proporcjonalne do sześcianów ich średnich odległości od Słońca.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Johannes</a:t>
            </a:r>
            <a:r>
              <a:rPr b="1" lang="pl-PL" sz="2000" spc="-1" strike="noStrike">
                <a:solidFill>
                  <a:srgbClr val="000000"/>
                </a:solidFill>
                <a:latin typeface="Arial"/>
              </a:rPr>
              <a:t> </a:t>
            </a:r>
            <a:r>
              <a:rPr b="0" lang="pl-PL" sz="2000" spc="-1" strike="noStrike">
                <a:solidFill>
                  <a:srgbClr val="000000"/>
                </a:solidFill>
                <a:latin typeface="Arial"/>
              </a:rPr>
              <a:t>Kepler uczył astronomii i matematyki w Grazu.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W czasie studiów w Tybindze zapoznał się z pracami M. Kopernika </a:t>
            </a:r>
            <a:br>
              <a:rPr sz="2000"/>
            </a:br>
            <a:r>
              <a:rPr b="1" lang="pl-PL" sz="2000" spc="-1" strike="noStrike">
                <a:solidFill>
                  <a:srgbClr val="000000"/>
                </a:solidFill>
                <a:latin typeface="Arial"/>
              </a:rPr>
              <a:t>i stał się ich gorącym propagator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II prawo Keplera"/>
          <p:cNvPicPr/>
          <p:nvPr/>
        </p:nvPicPr>
        <p:blipFill>
          <a:blip r:embed="rId1"/>
          <a:stretch/>
        </p:blipFill>
        <p:spPr>
          <a:xfrm>
            <a:off x="1042920" y="620640"/>
            <a:ext cx="6726240" cy="4822920"/>
          </a:xfrm>
          <a:prstGeom prst="rect">
            <a:avLst/>
          </a:prstGeom>
          <a:ln w="0">
            <a:noFill/>
          </a:ln>
        </p:spPr>
      </p:pic>
      <p:sp>
        <p:nvSpPr>
          <p:cNvPr id="133" name="Text Box 4"/>
          <p:cNvSpPr/>
          <p:nvPr/>
        </p:nvSpPr>
        <p:spPr>
          <a:xfrm>
            <a:off x="250920" y="537372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Ilustracja II prawa Keplera; łuki </a:t>
            </a:r>
            <a:r>
              <a:rPr b="0" i="1" lang="pl-PL" sz="1600" spc="-1" strike="noStrike">
                <a:solidFill>
                  <a:srgbClr val="000000"/>
                </a:solidFill>
                <a:latin typeface="Arial"/>
              </a:rPr>
              <a:t>AB</a:t>
            </a:r>
            <a:r>
              <a:rPr b="0" lang="pl-PL" sz="1600" spc="-1" strike="noStrike">
                <a:solidFill>
                  <a:srgbClr val="000000"/>
                </a:solidFill>
                <a:latin typeface="Arial"/>
              </a:rPr>
              <a:t>, </a:t>
            </a:r>
            <a:r>
              <a:rPr b="0" i="1" lang="pl-PL" sz="1600" spc="-1" strike="noStrike">
                <a:solidFill>
                  <a:srgbClr val="000000"/>
                </a:solidFill>
                <a:latin typeface="Arial"/>
              </a:rPr>
              <a:t>CD</a:t>
            </a:r>
            <a:r>
              <a:rPr b="0" lang="pl-PL" sz="1600" spc="-1" strike="noStrike">
                <a:solidFill>
                  <a:srgbClr val="000000"/>
                </a:solidFill>
                <a:latin typeface="Arial"/>
              </a:rPr>
              <a:t>, </a:t>
            </a:r>
            <a:r>
              <a:rPr b="0" i="1" lang="pl-PL" sz="1600" spc="-1" strike="noStrike">
                <a:solidFill>
                  <a:srgbClr val="000000"/>
                </a:solidFill>
                <a:latin typeface="Arial"/>
              </a:rPr>
              <a:t>EF</a:t>
            </a:r>
            <a:r>
              <a:rPr b="0" lang="pl-PL" sz="1600" spc="-1" strike="noStrike">
                <a:solidFill>
                  <a:srgbClr val="000000"/>
                </a:solidFill>
                <a:latin typeface="Arial"/>
              </a:rPr>
              <a:t> są zakreślane w jednakowych odstępach czasu</a:t>
            </a: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611280" y="335772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ttp://www.walter-fendt.de/ph14pl/keplerlaw1_pl.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Kepler's Laws Voice_(ALLConverter).wmv" descr=""/>
          <p:cNvPicPr/>
          <p:nvPr/>
        </p:nvPicPr>
        <p:blipFill>
          <a:blip r:embed="rId1"/>
          <a:stretch/>
        </p:blipFill>
        <p:spPr>
          <a:xfrm>
            <a:off x="1523880" y="914400"/>
            <a:ext cx="6096240" cy="4572000"/>
          </a:xfrm>
          <a:prstGeom prst="rect">
            <a:avLst/>
          </a:prstGeom>
          <a:ln w="0">
            <a:noFill/>
          </a:ln>
        </p:spPr>
      </p:pic>
      <p:sp>
        <p:nvSpPr>
          <p:cNvPr id="136" name="Text Box 5"/>
          <p:cNvSpPr/>
          <p:nvPr/>
        </p:nvSpPr>
        <p:spPr>
          <a:xfrm>
            <a:off x="1547640" y="5734080"/>
            <a:ext cx="60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liknij, aby uruchomić fi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5"/>
                    </p:tgtEl>
                  </p:cond>
                </p:stCondLst>
                <p:childTnLst>
                  <p:par>
                    <p:cTn id="3" fill="hold">
                      <p:stCondLst>
                        <p:cond evt="onClick">
                          <p:tgtEl>
                            <p:spTgt spid="13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8000" y="1052280"/>
            <a:ext cx="8351640" cy="3600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stała w XV w. teoria Kopernika może być zarówno świadectwem wysokiego poziomu niektórych nauk ścisłych w okresie dominacji scholastyki i arystotelizmu, jak i wyrazem narastających w tym czasie we Włoszech tendencji neoplatońskich i pitagorejskich, które, poza względami czysto teoretycznymi i obliczeniowymi, skłaniały Kopernika do przyjęcia stanowiska heliocentrycznego.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gólnofilozoficzne znaczenie teorii kopernikańskiej wzrosło dzięki </a:t>
            </a:r>
            <a:br>
              <a:rPr sz="1800"/>
            </a:br>
            <a:r>
              <a:rPr b="0" lang="pl-PL" sz="1800" spc="-1" strike="noStrike">
                <a:solidFill>
                  <a:srgbClr val="000000"/>
                </a:solidFill>
                <a:latin typeface="Arial"/>
              </a:rPr>
              <a:t>J. Keplerowi i Galileuszowi. Poglądy G. Bruna nadały teorii Kopernika wymowę antydogmatyczną i antykościelną: Ziemia i człowiek nie tylko przestali zajmować centralne miejsce we wszechświecie, ale (w związku z koncepcją nieskończonej liczby światów) utracili swój wyjątkowy charakte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699920"/>
            <a:ext cx="8496000" cy="309708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 kopernikański stanowił zamknięcie epoki średniowiecza w nauce, natomiast wyprowadzone zeń (przez badaczy XVII-wiecznych) konsekwencje przyczyniły się do utrwalenia nowych wzorców metodologicznych. </a:t>
            </a:r>
            <a:endParaRPr b="0" lang="en-US" sz="18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ziałalność naukowa Galileusza, ugruntowująca zastosowanie eksperymentu i matematyki w fizyce, choć pozostawała w pewnych związkach z teoriami Arystotelesa, torowała drogę fizyce I. Newtona i wpłynęła w istotny sposób na utrwalenie się nowożytnego podejścia do nauk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by dojść do współczesnej wiedzy chemicznej i biochemicznej, tysiące ludzi przez tysiące lat poświęcało swe siły, a często i życie, dla poznania właściwości otaczających ciał, ich wzajemnego oddziaływania, łączenia się, </a:t>
            </a:r>
            <a:br>
              <a:rPr sz="1800"/>
            </a:br>
            <a:r>
              <a:rPr b="0" lang="pl-PL" sz="1800" spc="-1" strike="noStrike">
                <a:solidFill>
                  <a:srgbClr val="000000"/>
                </a:solidFill>
                <a:latin typeface="Arial"/>
              </a:rPr>
              <a:t>ich rozpadu. Przekazywali uzyskane wiadomości swoim następcom, tak jak </a:t>
            </a:r>
            <a:br>
              <a:rPr sz="1800"/>
            </a:br>
            <a:r>
              <a:rPr b="0" lang="pl-PL" sz="1800" spc="-1" strike="noStrike">
                <a:solidFill>
                  <a:srgbClr val="000000"/>
                </a:solidFill>
                <a:latin typeface="Arial"/>
              </a:rPr>
              <a:t>w sztafecie z rąk do rąk podawana jest pałeczka. Na tych przekazywanych wiadomościach opierają się nasze dzisiejsze pogląd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68000" y="2060640"/>
            <a:ext cx="8351640" cy="273672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st wiele innych wywodów i legend dotyczących pochodzenia słowa „chemia". Grecy słowem </a:t>
            </a:r>
            <a:r>
              <a:rPr b="0" i="1" lang="pl-PL" sz="1800" spc="-1" strike="noStrike">
                <a:solidFill>
                  <a:srgbClr val="000000"/>
                </a:solidFill>
                <a:latin typeface="Arial"/>
              </a:rPr>
              <a:t>chymeia </a:t>
            </a:r>
            <a:r>
              <a:rPr b="0" lang="pl-PL" sz="1800" spc="-1" strike="noStrike">
                <a:solidFill>
                  <a:srgbClr val="000000"/>
                </a:solidFill>
                <a:latin typeface="Arial"/>
              </a:rPr>
              <a:t>określali metody przetwarzania metali. Inni dowodzą, </a:t>
            </a:r>
            <a:br>
              <a:rPr sz="1800"/>
            </a:br>
            <a:r>
              <a:rPr b="0" lang="pl-PL" sz="1800" spc="-1" strike="noStrike">
                <a:solidFill>
                  <a:srgbClr val="000000"/>
                </a:solidFill>
                <a:latin typeface="Arial"/>
              </a:rPr>
              <a:t>że słowo </a:t>
            </a:r>
            <a:r>
              <a:rPr b="0" i="1" lang="pl-PL" sz="1800" spc="-1" strike="noStrike">
                <a:solidFill>
                  <a:srgbClr val="000000"/>
                </a:solidFill>
                <a:latin typeface="Arial"/>
              </a:rPr>
              <a:t>khemeia </a:t>
            </a:r>
            <a:r>
              <a:rPr b="0" lang="pl-PL" sz="1800" spc="-1" strike="noStrike">
                <a:solidFill>
                  <a:srgbClr val="000000"/>
                </a:solidFill>
                <a:latin typeface="Arial"/>
              </a:rPr>
              <a:t>pochodzi od greckiego </a:t>
            </a:r>
            <a:r>
              <a:rPr b="0" i="1" lang="pl-PL" sz="1800" spc="-1" strike="noStrike">
                <a:solidFill>
                  <a:srgbClr val="000000"/>
                </a:solidFill>
                <a:latin typeface="Arial"/>
              </a:rPr>
              <a:t>khumos - </a:t>
            </a:r>
            <a:r>
              <a:rPr b="0" lang="pl-PL" sz="1800" spc="-1" strike="noStrike">
                <a:solidFill>
                  <a:srgbClr val="000000"/>
                </a:solidFill>
                <a:latin typeface="Arial"/>
              </a:rPr>
              <a:t>sok rośIinny, a zarazem sztuka uzyskiwania „cudownych" płynów. Po raz pierwszy terminu „chymia” użył w swych pismach działający w IV w. n.e w Aleksandrii Zosimos z Panopol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6840" y="1844640"/>
            <a:ext cx="8218440" cy="29527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k. 240 p.n.e. </a:t>
            </a:r>
            <a:r>
              <a:rPr b="1" lang="pl-PL" sz="2000" spc="-1" strike="noStrike">
                <a:solidFill>
                  <a:srgbClr val="000000"/>
                </a:solidFill>
                <a:latin typeface="Arial"/>
              </a:rPr>
              <a:t>Eratostenes z Cyreny</a:t>
            </a:r>
            <a:r>
              <a:rPr b="0" lang="pl-PL" sz="2000" spc="-1" strike="noStrike">
                <a:solidFill>
                  <a:srgbClr val="000000"/>
                </a:solidFill>
                <a:latin typeface="Arial"/>
              </a:rPr>
              <a:t> (Grecja) dokonał pomiaru długości południka ziemskiego.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łączony film (hiperłącze) ilustruje sposób w jaki tego dokonał:</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atosthenes' measurement of the Earth's circumference</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68000" y="1268280"/>
            <a:ext cx="8351640" cy="288144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ne z legend wyprowadzają źródłosłów słowa chemia od legendarnego Chama, jednego z synów Noego. Cham jakoby wykradł z arki tablice, na których były wyryte przepisy przeprowadzania sztuk tajemnych. Tablice te prawdopodobnie miały być przeniesione później do Egiptu. Ten mit hebrajskiego pochodzenia słowa chemia można by może przypisać temu, że wielu Żydów zamieszkiwało </a:t>
            </a:r>
            <a:br>
              <a:rPr sz="1800"/>
            </a:br>
            <a:r>
              <a:rPr b="0" lang="pl-PL" sz="1800" spc="-1" strike="noStrike">
                <a:solidFill>
                  <a:srgbClr val="000000"/>
                </a:solidFill>
                <a:latin typeface="Arial"/>
              </a:rPr>
              <a:t>w Egipcie i pozwalano im uprawiać magię i sztuki tajemne, zastrzegane tam głównie dla klanu kapłanów egipski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773000"/>
            <a:ext cx="8280360" cy="3168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zięki zresztą powiązaniu chemii z kultem i obrzędami religijnymi możemy dziś oceniać rozwój tej wiedzy w ówczesnym Egipcie. Tak np. mumifikacja, balsamowanie zwłok, tak dobrze zachowanych przez tysiące nawet lat, wymagało sporej dozy wiadomości z dziedziny chemii. Bogowie Thot i Anubis byli zarazem opiekunami obrzędu konserwowania i chowania zmarłych, jak </a:t>
            </a:r>
            <a:br>
              <a:rPr sz="1800"/>
            </a:br>
            <a:r>
              <a:rPr b="0" lang="pl-PL" sz="1800" spc="-1" strike="noStrike">
                <a:solidFill>
                  <a:srgbClr val="000000"/>
                </a:solidFill>
                <a:latin typeface="Arial"/>
              </a:rPr>
              <a:t>i patronami chem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 E. Fierz-Dawid w swej książce </a:t>
            </a:r>
            <a:r>
              <a:rPr b="0" i="1" lang="pl-PL" sz="1800" spc="-1" strike="noStrike">
                <a:solidFill>
                  <a:srgbClr val="000000"/>
                </a:solidFill>
                <a:latin typeface="Arial"/>
              </a:rPr>
              <a:t>Historia rozwoju chemii </a:t>
            </a:r>
            <a:r>
              <a:rPr b="0" lang="pl-PL" sz="1800" spc="-1" strike="noStrike">
                <a:solidFill>
                  <a:srgbClr val="000000"/>
                </a:solidFill>
                <a:latin typeface="Arial"/>
              </a:rPr>
              <a:t>tak pisze: „Czerń była symbolem zmarłego Ozyrysa, a idea ożywiania czerni związana była </a:t>
            </a:r>
            <a:br>
              <a:rPr sz="1800"/>
            </a:br>
            <a:r>
              <a:rPr b="0" lang="pl-PL" sz="1800" spc="-1" strike="noStrike">
                <a:solidFill>
                  <a:srgbClr val="000000"/>
                </a:solidFill>
                <a:latin typeface="Arial"/>
              </a:rPr>
              <a:t>z ideą jego zmartwychwstania. Przemiana czarnego preparatu w srebro lub złoto oznaczała jednocześnie przywrócenie życia bogu. Wierzono, że do przemiany potrzebna jest woda Ozyrysa, ta sama, którą kiedyś Izys ożywiła jego zwłoki, i którą on podaje w podziemiach zmarłym, by ich przywrócić do życia. Celem adeptów chemii było odnalezienie tej cudownej wody, aby z jej pomocą móc dokonać sztuk chemicznych". Motyw „cudownej" lub „boskiej wody" przewija się w alchemii (poszukiwanie kamienia filozoficznego </a:t>
            </a:r>
            <a:br>
              <a:rPr sz="1800"/>
            </a:br>
            <a:r>
              <a:rPr b="0" lang="pl-PL" sz="1800" spc="-1" strike="noStrike">
                <a:solidFill>
                  <a:srgbClr val="000000"/>
                </a:solidFill>
                <a:latin typeface="Arial"/>
              </a:rPr>
              <a:t>i możliwość przemiany ołowiu w złoto i srebr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1197000"/>
            <a:ext cx="8207280" cy="468000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odróżnieniu od mitycznego podejścia do chemii starożytnego Egiptu chemia Greków opierała się w pewnej mierze na obserwacji, śledzeniu procesów toczących się w przyrodzie, choć i tu nietrudno dopatrzeć się filozoficzno-mistycznych aspektów. W podejściu Greków dominują jednak poglądy, </a:t>
            </a:r>
            <a:br>
              <a:rPr sz="1800"/>
            </a:br>
            <a:r>
              <a:rPr b="0" lang="pl-PL" sz="1800" spc="-1" strike="noStrike">
                <a:solidFill>
                  <a:srgbClr val="000000"/>
                </a:solidFill>
                <a:latin typeface="Arial"/>
              </a:rPr>
              <a:t>że wszelka materia zbudowana jest z jednej pramaterii bądź z kilku żywiołów lub elementów, które według Platona są tylko modyfikacjami pramaterii. Tales z Miletu już na 600 lat p.n.e. dowodził, że cały nasz świat był zbudowany </a:t>
            </a:r>
            <a:br>
              <a:rPr sz="1800"/>
            </a:br>
            <a:r>
              <a:rPr b="0" lang="pl-PL" sz="1800" spc="-1" strike="noStrike">
                <a:solidFill>
                  <a:srgbClr val="000000"/>
                </a:solidFill>
                <a:latin typeface="Arial"/>
              </a:rPr>
              <a:t>z jednego praelementu, z materii pierwotnej, którą była woda. Zdaniem Platona, ogrzewając wodę, można ją rozcieńczyć, a nawet zamienić </a:t>
            </a:r>
            <a:br>
              <a:rPr sz="1800"/>
            </a:br>
            <a:r>
              <a:rPr b="0" lang="pl-PL" sz="1800" spc="-1" strike="noStrike">
                <a:solidFill>
                  <a:srgbClr val="000000"/>
                </a:solidFill>
                <a:latin typeface="Arial"/>
              </a:rPr>
              <a:t>w powietrze, zaś oziębiając można zagęścić i przekształcić ją w lód, a w głębi ziemi nawet w minerał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ilkadziesiąt lat później Anaksymenes, również z Miletu, za pramaterię uważał powietrze. Nieco później Heraklit z Efezu za podstawową materię przyjmuje ogień, z racji stale zmieniającego się jego kształtu i barwy.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nową teorią, bliższą współczesnym poglądom, wystąpił Empedokles </a:t>
            </a:r>
            <a:br>
              <a:rPr sz="1800"/>
            </a:br>
            <a:r>
              <a:rPr b="0" lang="pl-PL" sz="1800" spc="-1" strike="noStrike">
                <a:solidFill>
                  <a:srgbClr val="000000"/>
                </a:solidFill>
                <a:latin typeface="Arial"/>
              </a:rPr>
              <a:t>z Agrygentu, żyjący w latach 483 - 424 p.n.e. Wysunął on koncepcję, </a:t>
            </a:r>
            <a:br>
              <a:rPr sz="1800"/>
            </a:br>
            <a:r>
              <a:rPr b="0" lang="pl-PL" sz="1800" spc="-1" strike="noStrike">
                <a:solidFill>
                  <a:srgbClr val="000000"/>
                </a:solidFill>
                <a:latin typeface="Arial"/>
              </a:rPr>
              <a:t>że różnorodność substancji spotykanych na Ziemi zawdzięczamy łączeniu według pewnych proporcji i rozdzielaniu się czterech elementów: ziemi, wody, powietrza i ognia. Są one jakby odpowiednikiem trzech stanów skupienia materii: stanu stałego, płynnego i</a:t>
            </a:r>
            <a:r>
              <a:rPr b="1" lang="pl-PL" sz="1800" spc="-1" strike="noStrike">
                <a:solidFill>
                  <a:srgbClr val="000000"/>
                </a:solidFill>
                <a:latin typeface="Arial"/>
              </a:rPr>
              <a:t> </a:t>
            </a:r>
            <a:r>
              <a:rPr b="0" lang="pl-PL" sz="1800" spc="-1" strike="noStrike">
                <a:solidFill>
                  <a:srgbClr val="000000"/>
                </a:solidFill>
                <a:latin typeface="Arial"/>
              </a:rPr>
              <a:t>gazowe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orię Epedoklesa poparł i rozszerzył jeden z największych filozofów greckich Arystoteles (384 - 322 p.n.e.). Według niego, różne substancje powstają przez łączenie się elementów w pewnych proporcjach, możliwość łączenia się jest jednak ograniczona właściwościami poszczególnych składników. Tak np. mokra i zimna woda może łączyć się z zimną ziemią, nie łączy się jednak z gorącym i suchym ogniem. Podobnie gorące i mokre powietrze może łączyć się z mokrą wodą, lecz nie łączy się z suchą i zimną ziemią.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utorytet, jakim cieszył się Arystoteles, sugestywność jego wywodów </a:t>
            </a:r>
            <a:br>
              <a:rPr sz="1800"/>
            </a:br>
            <a:r>
              <a:rPr b="0" lang="pl-PL" sz="1800" spc="-1" strike="noStrike">
                <a:solidFill>
                  <a:srgbClr val="000000"/>
                </a:solidFill>
                <a:latin typeface="Arial"/>
              </a:rPr>
              <a:t>i argumentacja na temat budowy materii spowodowały, że jego koncepcje przetrwały całe średniowiecze, a nawet czasy odrodzenia. Wpłynęło to fatalnie na rozwój chemii - postęp był ledwie dostrzegalny. Prace chemików polegały głównie na powtarzaniu dawnych rozważań </a:t>
            </a:r>
            <a:r>
              <a:rPr b="0" i="1" lang="pl-PL" sz="1800" spc="-1" strike="noStrike">
                <a:solidFill>
                  <a:srgbClr val="000000"/>
                </a:solidFill>
                <a:latin typeface="Arial"/>
              </a:rPr>
              <a:t>z </a:t>
            </a:r>
            <a:r>
              <a:rPr b="0" lang="pl-PL" sz="1800" spc="-1" strike="noStrike">
                <a:solidFill>
                  <a:srgbClr val="000000"/>
                </a:solidFill>
                <a:latin typeface="Arial"/>
              </a:rPr>
              <a:t>powoływaniem się na autorytet dawnych mistrzów, a szczególnie na Arystotelesa. Coraz szersze natomiast kręgi zataczała alchemia, wiedza w pewnej mierze oparta już na obserwacji przyrody I na przeprowadzanych próbach laboratoryjny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907560"/>
            <a:ext cx="8281800" cy="230508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lchemia [arab. </a:t>
            </a:r>
            <a:r>
              <a:rPr b="0" i="1" lang="pl-PL" sz="1800" spc="-1" strike="noStrike">
                <a:solidFill>
                  <a:srgbClr val="000000"/>
                </a:solidFill>
                <a:latin typeface="Arial"/>
              </a:rPr>
              <a:t>al-kimyā</a:t>
            </a:r>
            <a:r>
              <a:rPr b="0" lang="pl-PL" sz="1800" spc="-1" strike="noStrike">
                <a:solidFill>
                  <a:srgbClr val="000000"/>
                </a:solidFill>
                <a:latin typeface="Arial"/>
              </a:rPr>
              <a:t> ‘kamień filozoficzny’, ‘alchemia’] to filozofia przyrody tłumacząca mistycznymi rozumowaniami obserwowane w przyrodzie przemiany, które miały prowadzić do uszlachetnienia materii nieożywionej </a:t>
            </a:r>
            <a:br>
              <a:rPr sz="1800"/>
            </a:br>
            <a:r>
              <a:rPr b="0" lang="pl-PL" sz="1800" spc="-1" strike="noStrike">
                <a:solidFill>
                  <a:srgbClr val="000000"/>
                </a:solidFill>
                <a:latin typeface="Arial"/>
              </a:rPr>
              <a:t>i ożywionej. Początki alchemii sięgają starożytnej Grecji, rozwinęli ją Arabowie w okresie od VI do XI w.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dnym z najsłynniejszych alchemików arabskich był Ibn Sina, na Zachodzie nazywany Awicenną. Żył i działał w latach 980—1037, na terenie dzisiejszego Tadżykistanu. O Awicennie jeden z jego biografów podaje, że Arystotelesa przeczytał ze czterdzieści razy. Zainteresowania jego były bardzo szerokie. Pisał o logice, etyce, astronomii, fizyce, mineralogii i medycynie. Większość swych poglądów przedstawił Awicenna w głębokim dziele filozoficznym pt. Księga uzdrowień. Praca ta odegrała dużą rolę w rozwoju kultury </a:t>
            </a:r>
            <a:br>
              <a:rPr sz="1800"/>
            </a:br>
            <a:r>
              <a:rPr b="0" lang="pl-PL" sz="1800" spc="-1" strike="noStrike">
                <a:solidFill>
                  <a:srgbClr val="000000"/>
                </a:solidFill>
                <a:latin typeface="Arial"/>
              </a:rPr>
              <a:t>i cywilizacji światowej i była dosłownie ceniona na wagę złota. Za rękopis Księgi uzdrowień jeden z możnowładców Indii zapłacił w XIV w, 100 kg zło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wicenna sceptycznie jednak odnosił się do możliwości przemiany jakiegokolwiek metalu w złoto i wbrew poglądom ówczesnych alchemików wątpił, aby kiedykolwiek znaleziono metodę otrzymywania tego cennego metalu. Był natomiast Awicenna niewątpliwie najsławniejszym lekarzem owych czasów. Wszelkie zagadnienia dotyczące lecznictwa opisał w Kanonie medycyny. Ze 150 jego rozpraw Kanon przyniósł mu najwięcej uznania i popularności. Była to skarbnica ówczesnej wiedzy z zakresu anatomii, fizjologii, chirurgii i innych pokrewnych dziedzin. Po Avicennie arabska chemia i alchemia zaczynają chylić się do upadk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rzedkopernikańskie poglądy kosmologiczne:</a:t>
            </a:r>
            <a:endParaRPr b="0" lang="en-US" sz="2000" spc="-1" strike="noStrike">
              <a:solidFill>
                <a:srgbClr val="000000"/>
              </a:solidFill>
              <a:latin typeface="Calibri"/>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dawniejsze poglądy na budowę wszechświata wywodziły się z mitów genezyjskich i wiązały się z ubóstwieniem ciał niebieskich. W starożytnych kulturach Egiptu i Mezopotamii koncepcje na temat konstrukcji świata, ukształtowane około XXX w. p.n.e., były w zasadzie rozłączne z osiągnięciami astronomiczny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ciekania alchemiczne były częściowo oparte na próbach doświadczalnych, mających na celu otrzymanie kamienia filozoficznego oraz tzw. eliksiru życia.</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łabą stroną alchemii były nierealne cele, które jej przyświecały: </a:t>
            </a:r>
            <a:endParaRPr b="0" lang="en-US" sz="1800" spc="-1" strike="noStrike">
              <a:solidFill>
                <a:srgbClr val="000000"/>
              </a:solidFill>
              <a:latin typeface="Calibri"/>
            </a:endParaRPr>
          </a:p>
          <a:p>
            <a:pPr algn="just">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róby znalezienia bądź otrzymania panaceum, czyli skutecznej substancji na wszelkie dolegliwości, </a:t>
            </a:r>
            <a:endParaRPr b="0" lang="en-US" sz="1800" spc="-1" strike="noStrike">
              <a:solidFill>
                <a:srgbClr val="000000"/>
              </a:solidFill>
              <a:latin typeface="Calibri"/>
            </a:endParaRPr>
          </a:p>
          <a:p>
            <a:pPr algn="just">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oszukiwania sposobu otrzymywania złota z metali nieszlachetnych.</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lchemicy otrzymali niektóre substancje chemiczne, jak kwasy mineralne (azotowy, siarkowy, solny), wodę królewską, związki rtęci, fosfor, antymon, bizmut i ars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68000" y="1196640"/>
            <a:ext cx="8280360" cy="3384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etknięcie się krzyżowców ze światem arabskim spowodowało penetrację, przenikanie kultury w tej liczbie i poglądów chemicznych do krajów zachodniej Europy. Zaczęto tłumaczyć dzieła arabskich uczonych z języka arabskiego na łacinę. Alchemicy znali również wiele czynności chemicznych, takich jak: destylacja, sublimacja, strącanie osadu itp. Często dla ich oznaczenia posługiwano się hieroglifami egipskimi. Czynności te i inne określano też symbolami, którymi były rysunki zwierząt np. ptaków, gadó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360" y="476280"/>
            <a:ext cx="8207280" cy="201600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bitnym polskim alchemikiem był Michał Sędziwój. Matejko w znanym obrazie </a:t>
            </a:r>
            <a:r>
              <a:rPr b="0" i="1" lang="pl-PL" sz="1800" spc="-1" strike="noStrike">
                <a:solidFill>
                  <a:srgbClr val="000000"/>
                </a:solidFill>
                <a:latin typeface="Arial"/>
              </a:rPr>
              <a:t>Zygmunt III i Sędziwój</a:t>
            </a:r>
            <a:r>
              <a:rPr b="0" lang="pl-PL" sz="1800" spc="-1" strike="noStrike">
                <a:solidFill>
                  <a:srgbClr val="000000"/>
                </a:solidFill>
                <a:latin typeface="Arial"/>
              </a:rPr>
              <a:t> upamiętnił scenę wytwarzania złota przez Sędziwoja w obecności króla Zygmunta Wazy. Sędziwój jest autorem wielu alchemicznych prac. W swoich pismach dowodzi m.in., że </a:t>
            </a:r>
            <a:r>
              <a:rPr b="0" i="1" lang="pl-PL" sz="1800" spc="-1" strike="noStrike">
                <a:solidFill>
                  <a:srgbClr val="000000"/>
                </a:solidFill>
                <a:latin typeface="Arial"/>
              </a:rPr>
              <a:t>człowiek żyje z powietrza, w którym jest ukryty pokarm życia (tlen), który my rosą w nocy, a za dnia wodą zwiemy rozrzedzoną. </a:t>
            </a:r>
            <a:endParaRPr b="0" lang="en-US" sz="1800" spc="-1" strike="noStrike">
              <a:solidFill>
                <a:srgbClr val="000000"/>
              </a:solidFill>
              <a:latin typeface="Calibri"/>
            </a:endParaRPr>
          </a:p>
        </p:txBody>
      </p:sp>
      <p:pic>
        <p:nvPicPr>
          <p:cNvPr id="154" name="Picture 3" descr="kopia_alchemik_sedziwoj_matejko"/>
          <p:cNvPicPr/>
          <p:nvPr/>
        </p:nvPicPr>
        <p:blipFill>
          <a:blip r:embed="rId1"/>
          <a:stretch/>
        </p:blipFill>
        <p:spPr>
          <a:xfrm>
            <a:off x="1835280" y="2781360"/>
            <a:ext cx="4724280" cy="2666880"/>
          </a:xfrm>
          <a:prstGeom prst="rect">
            <a:avLst/>
          </a:prstGeom>
          <a:ln w="0">
            <a:noFill/>
          </a:ln>
        </p:spPr>
      </p:pic>
      <p:sp>
        <p:nvSpPr>
          <p:cNvPr id="155" name="Text Box 4"/>
          <p:cNvSpPr/>
          <p:nvPr/>
        </p:nvSpPr>
        <p:spPr>
          <a:xfrm>
            <a:off x="1835280" y="5661000"/>
            <a:ext cx="47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n Matejko: "Alchemik Sędziwój i Zygmunt III"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68360" y="1197000"/>
            <a:ext cx="8207280" cy="468000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XVI w. zrodził się nowy prąd - jatrochemia. Jego twórcą był przyrodnik niemiecki Paracelsus, który uważał, iż głównym zadaniem jatrochemików jest otrzymywanie leków, wtedy do lecznictwa wprowadzono związki chemiczne (np. związki arsenu, rtęc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1197000"/>
            <a:ext cx="8207280" cy="496872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czątki chemii jako samodzielnej dyscypliny naukowej przypadają na drugą połowę XVII w. Datą przełomową był rok 1661, kiedy R. Boyle opublikował dzieło </a:t>
            </a:r>
            <a:r>
              <a:rPr b="0" i="1" lang="pl-PL" sz="1800" spc="-1" strike="noStrike">
                <a:solidFill>
                  <a:srgbClr val="000000"/>
                </a:solidFill>
                <a:latin typeface="Arial"/>
              </a:rPr>
              <a:t>The Sceptical Chymist</a:t>
            </a:r>
            <a:r>
              <a:rPr b="0" lang="pl-PL" sz="1800" spc="-1" strike="noStrike">
                <a:solidFill>
                  <a:srgbClr val="000000"/>
                </a:solidFill>
                <a:latin typeface="Arial"/>
              </a:rPr>
              <a:t>, w którym określił pierwiastki chemiczne jako trwałe, proste substancje niedające się rozłożyć na składniki.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r Robert Boyle (1627 – 1691), Londyn, angielski chemik, fizyk i filozof. Współtwórca nowoczesnej chemii; podał m.in. definicję </a:t>
            </a:r>
            <a:r>
              <a:rPr b="1" lang="pl-PL" sz="1800" spc="-1" strike="noStrike">
                <a:solidFill>
                  <a:srgbClr val="000000"/>
                </a:solidFill>
                <a:latin typeface="Arial"/>
              </a:rPr>
              <a:t>pierwiastka chemicznego</a:t>
            </a:r>
            <a:r>
              <a:rPr b="0" lang="pl-PL" sz="1800" spc="-1" strike="noStrike">
                <a:solidFill>
                  <a:srgbClr val="000000"/>
                </a:solidFill>
                <a:latin typeface="Arial"/>
              </a:rPr>
              <a:t>, rozwinął jakościową analizę chemiczną, badał zależność między ciśnieniem a objętością gazu (prawo Boyle’a i Mariotte’a). Był współzałożycielem Towarzystwa Królewskiego w Londynie.</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ace Boyle'a cieszyły się wielkim uznaniem, a szczególnie jego </a:t>
            </a:r>
            <a:r>
              <a:rPr b="0" i="1" lang="pl-PL" sz="1800" spc="-1" strike="noStrike">
                <a:solidFill>
                  <a:srgbClr val="000000"/>
                </a:solidFill>
                <a:latin typeface="Arial"/>
              </a:rPr>
              <a:t>Sceptical Chymist</a:t>
            </a:r>
            <a:r>
              <a:rPr b="0" lang="pl-PL" sz="1800" spc="-1" strike="noStrike">
                <a:solidFill>
                  <a:srgbClr val="000000"/>
                </a:solidFill>
                <a:latin typeface="Arial"/>
              </a:rPr>
              <a:t> tłumaczono na język łaciński i inne języki, a przytaczane argumenty pobudzały do prowadzenia prac eksperymentalnych. Rodziła się nowa chemia, oparta na doświadczeniu i, co warto podkreślić, kierująca się w dużej mierze matematyczną interpretacją i skrupulatnymi obliczeniam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twórcę pierwszej pełnej </a:t>
            </a:r>
            <a:r>
              <a:rPr b="1" lang="pl-PL" sz="1800" spc="-1" strike="noStrike">
                <a:solidFill>
                  <a:srgbClr val="000000"/>
                </a:solidFill>
                <a:latin typeface="Arial"/>
              </a:rPr>
              <a:t>koncepcji atomistycznej</a:t>
            </a:r>
            <a:r>
              <a:rPr b="0" lang="pl-PL" sz="1800" spc="-1" strike="noStrike">
                <a:solidFill>
                  <a:srgbClr val="000000"/>
                </a:solidFill>
                <a:latin typeface="Arial"/>
              </a:rPr>
              <a:t> bazującej na wynikach doświadczeń i zdolnej do przewidywań uchodzi angielski uczony John Dalton (1766 – 1844). Angielski fizyk i chemik o wszechstronnych zainteresowaniach, profesor uniwersytetu w Oksfordzie.</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jąc właściwości gazów Dalton zauważył, że najlepiej można je wyjaśnić zakładając, że gazy zbudowane są z bardzo małych cząsteczek, które poruszają się w pustej przestrzeni. Dalton uznał, że atom jest podstawową jednostką pierwiastka chemicznego.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pośrednio istnienia atomu w czasach Daltona nikt nie potrafił udowodnić. Jednak w wyniku jego prac, które stanowiły ukoronowanie badań i rozważań wielu poprzedników, koncepcja atomistyczna stała się trudna do obalenia. Potrafiła w przejrzysty sposób wytłumaczyć wiele zjawisk w sposób jakościowy, a co ważniejsze koncepcja ta w wielu przypadkach (prawa gazowe) prowadziła do wniosków sprawdzalnych ilościow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alton jako podstawowe założenia swojej teorii przyjął, ż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teria złożona jest z kulistych, bardzo małych i dlatego niewidzialnych atomów,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szystkie atomy danego pierwiastka mają taką samą masę i właściwości,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każdy pierwiastek zbudowany jest z charakterystycznych dla siebie atomów,  których masa jest inna dla każdego pierwiastk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tomy są niezniszczalne i niepodzielne w związku z czym nie ulegają zamianom w trakcie reakcji chemicznych, prowadzących tylko do zmian w ich wzajemnego położenia i sposobu wiązani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cząsteczki związków chemicznych zabudowane są ze skończonej, niewielkiej liczby atomów pierwiastków.</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szeregowania, według wzrastających mas atomowych pierwiastków dokonało równocześnie dwóch badaczy, jednym z nich był niemiecki chemik Lothar Meyer (1830 - 1895), profesor z Karlsruhe, drugim - mineralog i chemik rosyjski Dmitrij Iwanowicz Mendelejew (1834 - 1907) z Petersburga.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oszukiwaniu prawidłowości Mendelejew na oddzielnych kartkach odnotowywał najważniejsze właściwości każdego z 63 znanych mu wówczas pierwiastków, a następnie układał kartki według wzrastających mas atomowych przyjmując masę atomową wodoru równą 1. Okazało się, że ze wzrostem masy atomowej pierwiastki zatracały charakter metaliczny, lecz któryś </a:t>
            </a:r>
            <a:r>
              <a:rPr b="0" i="1" lang="pl-PL" sz="1800" spc="-1" strike="noStrike">
                <a:solidFill>
                  <a:srgbClr val="000000"/>
                </a:solidFill>
                <a:latin typeface="Arial"/>
              </a:rPr>
              <a:t>z </a:t>
            </a:r>
            <a:r>
              <a:rPr b="0" lang="pl-PL" sz="1800" spc="-1" strike="noStrike">
                <a:solidFill>
                  <a:srgbClr val="000000"/>
                </a:solidFill>
                <a:latin typeface="Arial"/>
              </a:rPr>
              <a:t>kolei wykazywał właściwości metali, aby w następnych znów charakter metaliczny zaznaczał się coraz słabiej.</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2626920" y="5660640"/>
            <a:ext cx="3600360" cy="360360"/>
          </a:xfrm>
          <a:prstGeom prst="rect">
            <a:avLst/>
          </a:prstGeom>
          <a:noFill/>
          <a:ln w="0">
            <a:noFill/>
          </a:ln>
        </p:spPr>
        <p:txBody>
          <a:bodyPr anchor="t">
            <a:normAutofit/>
          </a:bodyPr>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mitrij I Mendelejew,</a:t>
            </a:r>
            <a:endParaRPr b="0" lang="en-US" sz="1600" spc="-1" strike="noStrike">
              <a:solidFill>
                <a:srgbClr val="000000"/>
              </a:solidFill>
              <a:latin typeface="Calibri"/>
            </a:endParaRPr>
          </a:p>
        </p:txBody>
      </p:sp>
      <p:pic>
        <p:nvPicPr>
          <p:cNvPr id="162" name="Picture 3" descr="Medeleeff_by_repin"/>
          <p:cNvPicPr/>
          <p:nvPr/>
        </p:nvPicPr>
        <p:blipFill>
          <a:blip r:embed="rId1"/>
          <a:stretch/>
        </p:blipFill>
        <p:spPr>
          <a:xfrm>
            <a:off x="2627280" y="765000"/>
            <a:ext cx="3589200" cy="4464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95280" y="691920"/>
            <a:ext cx="8353440" cy="5329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szeregowanie Mendelejewa, który nazwał je układem okresowym pierwiastków, miało trochę usterek, luk i niejasności. Mendelejew był jednak dość pewny słuszności swoich wniosków. Luki, zaznaczone znakiem ,,?", wypełniał hipotetycznymi pierwiastkami, o których istnieniu nie wątpił, a nawet przewidywał dla nich odpowiednie właściwości. Tak np. brakujące pierwiastki pomiędzy Al i In oraz pomiędzy Si i Sn, które nazywał ekaglinem z masą atomową 68 i ekakrzemem z masą atomową 70, oraz ekabor z masą atomową 75 rzeczywiście zostały w kilka lat później odkryte i posiadały z grubsza przewidywane przez Mendelejewa właściwości. Były to pierwiastki: gal,</a:t>
            </a:r>
            <a:br>
              <a:rPr sz="1800"/>
            </a:br>
            <a:r>
              <a:rPr b="0" lang="pl-PL" sz="1800" spc="-1" strike="noStrike">
                <a:solidFill>
                  <a:srgbClr val="000000"/>
                </a:solidFill>
                <a:latin typeface="Arial"/>
              </a:rPr>
              <a:t>skand i german. Układ okresowy, mimo usterek, był dużym osiągnięciem, dał bowiem ogólny przegląd wszystkich pierwiastków, chociaż poszczególne z nich znacznie różnią się między sobą. Można już było, na podstawie układu i przez analogię, przewidywać właściwości nawet nie odkrytych jeszcze pierwiastków, </a:t>
            </a:r>
            <a:br>
              <a:rPr sz="1800"/>
            </a:br>
            <a:r>
              <a:rPr b="0" lang="pl-PL" sz="1800" spc="-1" strike="noStrike">
                <a:solidFill>
                  <a:srgbClr val="000000"/>
                </a:solidFill>
                <a:latin typeface="Arial"/>
              </a:rPr>
              <a:t>a także ich związków. Układ wykluczał przypadkowość w badaniach. </a:t>
            </a:r>
            <a:br>
              <a:rPr sz="1800"/>
            </a:br>
            <a:r>
              <a:rPr b="0" lang="pl-PL" sz="1800" spc="-1" strike="noStrike">
                <a:solidFill>
                  <a:srgbClr val="000000"/>
                </a:solidFill>
                <a:latin typeface="Arial"/>
              </a:rPr>
              <a:t>W poszukiwaniach pozostałych pierwiastków zaczęła przyświecać przewodnia myśl. Wkrótce odkryto prawie wszystkie z 92 naturalnych pierwiastków występujących w przyrodzie, w tym lantanowce i aktynow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360" y="1196640"/>
            <a:ext cx="8207280" cy="40323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 VI w. p.n.e. w starożytnej Grecji pojawiło się wiele spekulatywnych teorii kosmologicznych, próbujących wyjaśnić fizyczną naturę świata i ciał niebieskich. Autorami tych koncepcji, koncentrujących się na wskazaniu arche, materialnej przyczyny leżącej u podstaw obserwowanej rzeczywistości, byli m.in. Tales z Miletu (ok. 625–ok. 547 p.n.e.), Anaksymander (ok. 610–ok. 545 p.n.e.) i Pitagoras (ok. 572–ok. 497 p.n.e.), któremu przypuszczalnie zawdzięczamy termin “kosmos”, oznaczający racjonalny porządek we wszechświeci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1196640"/>
            <a:ext cx="8207280" cy="266364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838 roku Michael Faraday przepuścił prąd elektryczny przez szklaną rurę, zawierającą rozrzedzone powietrze. W czasie tego doświadczenia zauważono dziwny łuk świetlny, który rozciągał się od anody (elektrody dodatniej) prawie do katody (elektrody ujemnej). Jedynym miejscem, w którym nie zaobserwowano świecenia, był obszar tuż przed katodą (tak zwana ciemnia Faradaya). Zjawisko owego świecenia nazwano zjawiskiem promieni katodowych, które emitowane są z katody w kierunku anody. </a:t>
            </a:r>
            <a:endParaRPr b="0" lang="en-US" sz="1800" spc="-1" strike="noStrike">
              <a:solidFill>
                <a:srgbClr val="000000"/>
              </a:solidFill>
              <a:latin typeface="Calibri"/>
            </a:endParaRPr>
          </a:p>
        </p:txBody>
      </p:sp>
      <p:pic>
        <p:nvPicPr>
          <p:cNvPr id="165" name="Picture 5" descr="rozdz2b"/>
          <p:cNvPicPr/>
          <p:nvPr/>
        </p:nvPicPr>
        <p:blipFill>
          <a:blip r:embed="rId1"/>
          <a:stretch/>
        </p:blipFill>
        <p:spPr>
          <a:xfrm>
            <a:off x="2268360" y="4149720"/>
            <a:ext cx="3819600" cy="1724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95280" y="620640"/>
            <a:ext cx="8569440" cy="540072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ez długi czas uważano, że albo świecenie w rurze powodują jakieś cząsteczki, albo promienie katodowe mają naturę falową. W 1896 roku wątpliwości te rozwiał Joseph John Thomson w oparciu o swój eksperyment, w którym wykorzystał rurę z rozrzedzonym gazem służącą do wytwarzania promieni katodowych. Zrobił w anodzie niewielki otwór, dzięki któremu część promieni katodowych, uformowanych w wąską wiązkę, wychodziła poza obszar elektrod. Przechodziła przez długą rurę próżniową i padała na fluorescencyjny ekran, który umieszczony był na jej końcu. Na ekranie, w miejscu padania wiązki, powstawała świecąca plamka. Ponadto w rurze próżniowej umieszczone zostały dwie metalowe płyty, podłączone do baterii, między którymi wytwarzane było napięcie elektryczne. Wiązka promieni katodowych przebiegała pomiędzy płytami tak, że kierunek pola był do niej prostopadły. Po wytworzeniu pola elektrycznego okazało się, że wiązka ulega ugięciu (jej obraz na ekranie zmieniał swoje położenie), co było dowodem na to, że promienie katodowe składają się z cząstek, które obdarzone są ładunkiem elektrycznym. Kierunek ugięcia wiązki wskazywał na to, że cząstki obdarzone są ładunkiem ujemny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ąstki, wchodzące w skład wiązki, nazwano elektronami. Thomson stwierdził także, iż elektrony są składnikami wszystkich atomów, a promienie katodowe to elektrony, które oddzieliły się od atomów. W czasach Thomsona wiadome było, że atomy nie są naładowane elektrycznie, zatem muszą zawierać dodatni ładunek elektryczny, który równoważy ujemny ładunek elektronów. Thomson zaproponował, że dodatni ładunek atomu jest rozłożony równomiernie w całej objętości atomu, a elektrony drgają wokół ściśle określonych położeń (model takiego atomu nazwany został modelem „ciasta z rodzynkam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oczątku XX wieku Rutherford zasugerował, że elektrony krążą wokół jądra po orbitach, w taki sam sposób, jak planety wokół Słońca. W 1911 r. profesor Ernst Rutherford (1877-1937) (który, nawiasem mówiąc, był studentem Thomsona) i dwóch jego studentów, Hans Geiger i Ernest Marsden, wykonali szereg eksperymentów. W wyniku tych słynnych doświadczeń zarzucono ideę modelu atomu — „ciastka z rodzynkami" — na rzecz obecnie ogólnie przyjętego modelu atomu. W modelu tym zakłada się, że atom składa się z bardzo małego jądra (o rozmiarach rzędu 10</a:t>
            </a:r>
            <a:r>
              <a:rPr b="0" lang="pl-PL" sz="1800" spc="-1" strike="noStrike" baseline="30000">
                <a:solidFill>
                  <a:srgbClr val="000000"/>
                </a:solidFill>
                <a:latin typeface="Arial"/>
              </a:rPr>
              <a:t>-14</a:t>
            </a:r>
            <a:r>
              <a:rPr b="0" lang="pl-PL" sz="1800" spc="-1" strike="noStrike">
                <a:solidFill>
                  <a:srgbClr val="000000"/>
                </a:solidFill>
                <a:latin typeface="Arial"/>
              </a:rPr>
              <a:t> m), w którym skoncentrowany jest cały ładunek dodatni i większa część masy atomu (o rozmiarach rzędu 10</a:t>
            </a:r>
            <a:r>
              <a:rPr b="0" lang="pl-PL" sz="1800" spc="-1" strike="noStrike" baseline="30000">
                <a:solidFill>
                  <a:srgbClr val="000000"/>
                </a:solidFill>
                <a:latin typeface="Arial"/>
              </a:rPr>
              <a:t>-10</a:t>
            </a:r>
            <a:r>
              <a:rPr b="0" lang="pl-PL" sz="1800" spc="-1" strike="noStrike">
                <a:solidFill>
                  <a:srgbClr val="000000"/>
                </a:solidFill>
                <a:latin typeface="Arial"/>
              </a:rPr>
              <a:t> m), oraz z chmury ujemnie naładowanych elektronów otaczającej to jądro. Koncepcja ta budziła wiele kontrowersji, gdyż prawa fizyki, jakie wówczas znano, nie dopuszczały możliwości istnienia takiego atomu. Krążące ładunki elektryczne powinny wypromieniowywać energię i w ułamku sekundy spadać wzdłuż spiralnego toru na jądr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a:t>
            </a:r>
            <a:r>
              <a:rPr b="0" i="1" lang="pl-PL" sz="1800" spc="-1" strike="noStrike">
                <a:solidFill>
                  <a:srgbClr val="000000"/>
                </a:solidFill>
                <a:latin typeface="Arial"/>
              </a:rPr>
              <a:t>Była to najbardziej niewiarygodna rzecz, jaka mi się kiedykolwiek w życiu przydarzyła. Było to niemal tak niewiarygodne jak to, że wystrzelony do kartki papieru 15-calowy pocisk wróci i uderzy strzelającego”.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Ernest Rutherford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Background to Modern Science, 1940.</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ytat ten jest komentarzem Rutherforda dotyczącym wyników doświadczenia nad rozpraszaniem cząstek alfa na jądrach złota. Przeprowadzona przez Rutherforda analiza przyczyn niezwykłego rozpraszania doprowadziła go do „odkrycia" jądra atomu. Wkrótce potem Bohr zaproponował model „nowoczesnego" atomu. Równanie Schr</a:t>
            </a:r>
            <a:r>
              <a:rPr b="0" lang="en-US" sz="1800" spc="-1" strike="noStrike">
                <a:solidFill>
                  <a:srgbClr val="000000"/>
                </a:solidFill>
                <a:latin typeface="Arial"/>
                <a:ea typeface="Arial"/>
              </a:rPr>
              <a:t>ö</a:t>
            </a:r>
            <a:r>
              <a:rPr b="0" lang="pl-PL" sz="1800" spc="-1" strike="noStrike">
                <a:solidFill>
                  <a:srgbClr val="000000"/>
                </a:solidFill>
                <a:latin typeface="Arial"/>
              </a:rPr>
              <a:t>dingera i mechanika kwantowa udoskonaliły model atomu do tej postaci, jaką posługujemy się obecn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rozdz2c"/>
          <p:cNvPicPr/>
          <p:nvPr/>
        </p:nvPicPr>
        <p:blipFill>
          <a:blip r:embed="rId1"/>
          <a:stretch/>
        </p:blipFill>
        <p:spPr>
          <a:xfrm>
            <a:off x="1547640" y="1413000"/>
            <a:ext cx="1981440" cy="1962000"/>
          </a:xfrm>
          <a:prstGeom prst="rect">
            <a:avLst/>
          </a:prstGeom>
          <a:ln w="0">
            <a:noFill/>
          </a:ln>
        </p:spPr>
      </p:pic>
      <p:pic>
        <p:nvPicPr>
          <p:cNvPr id="171" name="Picture 6" descr="rozdz2d"/>
          <p:cNvPicPr/>
          <p:nvPr/>
        </p:nvPicPr>
        <p:blipFill>
          <a:blip r:embed="rId2"/>
          <a:stretch/>
        </p:blipFill>
        <p:spPr>
          <a:xfrm>
            <a:off x="4572000" y="1341360"/>
            <a:ext cx="2314440" cy="1943280"/>
          </a:xfrm>
          <a:prstGeom prst="rect">
            <a:avLst/>
          </a:prstGeom>
          <a:ln w="0">
            <a:noFill/>
          </a:ln>
        </p:spPr>
      </p:pic>
      <p:sp>
        <p:nvSpPr>
          <p:cNvPr id="172" name="Text Box 7"/>
          <p:cNvSpPr/>
          <p:nvPr/>
        </p:nvSpPr>
        <p:spPr>
          <a:xfrm>
            <a:off x="1332000" y="3789360"/>
            <a:ext cx="57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Model atomu Thomsona i model atomu Rutherforda.</a:t>
            </a: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wiązanie tego problemu polegało na skwantowaniu energii elektronów w atomach, które zaproponowane zostało przez Nielsa Bohra. Postulował on, że elektrony w atomach mogą mieć tylko pewne ściśle określone wartości energii. Elektrony zamiast wypromieniowywać energię w sposób ciągły i posuwać się spiralnie w głąb atomu, mogą przeskakiwać z jednego stanu energetycznego na inny, emitując lub pochłaniając tyle energii, żeby jej całkowita ilość miała zawsze stałą wartość. Dopóki elektron znajduje się na orbicie, energia nie jest wypromieniowywana, ale jeżeli przechodzi on ze stanu o wyższej energii, do stanu o niższej energii, to emituje energię. Skwantowano nie tylko energię, ale także moment pędu elektronu, krążącego po orbicie. Kwantowanie to polegało na ograniczeniu dopuszczalnych wartości momentu pędu do całkowitych wielokrotności stałej Plancka . Stwierdzono, że elektron ma własny, wewnętrzny moment pędu (spin) o wartości 1/2 .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odel atomu Bohra został zastąpiony bardziej doskonałymi kwantowymi modelami Heisenberga, Schrodingera, Diraca i innych. Stanowił on pierwsze zadowalające wyjaśnienie struktury atom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39280" y="2276640"/>
            <a:ext cx="8207640" cy="1800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niżej adres URL do apletu „Teoria budowy atomu wodoru wg Bohra”:</a:t>
            </a:r>
            <a:endParaRPr b="0" lang="en-US" sz="2000" spc="-1" strike="noStrike">
              <a:solidFill>
                <a:srgbClr val="000000"/>
              </a:solidFill>
              <a:latin typeface="Calibri"/>
            </a:endParaRPr>
          </a:p>
          <a:p>
            <a:pPr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www.walter-fendt.de/ph14pl/bohrh_pl.ht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ruchu ciała za pomocą mechaniki klasycznej okazał się nieodpowiedni w wypadku, gdy prędkość ciała zbliża się do prędkości światła. W tym wypadku ograniczenia mechaniki klasycznej zmuszają nas do stosowania mechaniki relatywistycznej. Inne jeszcze ograniczenie pojawia się w mechanice klasycznej, kiedy badamy materię o bardzo małych rozmiarach — w mikroskopowym świecie atomów i jąder oraz w świecie cząstek elementarnych. W tej właśnie dziedzinie mechanika kwantowa odnosi wielkie sukcesy, a jej nowoczesna wersja zwana kwantową teorią pola zastępuje podejście klasyczne. Na pierwsze ślady idei kwantów można natrafić około 1900 roku, kiedy starano się wytłumaczyć zagadkę długości fal w widmie promieniowania emitowanego przez ogrzane ciała stałe. Mimo prób znanych fizyków tego okresu klasyczna teoria nie wystarczała do wyjaśnienia kształtu krzywej mocy promieniowania wysyłanego przez ciało doskonale czarne w funkcji długości fal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68360" y="1196640"/>
            <a:ext cx="8207280" cy="40323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latonowi (ok. 427–374 p.n.e.) przypisuje się sformułowanie programu, który utrwalił sferyczny model kosmosu. Miał on bowiem zażądać, by obserwowane zachowanie planet było opisywane tylko za pomocą ruchów kołowych i jednostajnych. Pierwszy spójne rozwiązanie tego problemu podał Eudoksos z Knidos (ok. 400–ok. 347 p.n.e.), konstruując model świata w postaci współśrodkowych sfer. W modelu tym każda planeta była unoszona przez jedną lub kilka sfer, wirujących ze stałą prędkością wokół Ziemi, która tkwiła w miejscu ich wspólnego środka. Sfery obracały się wokół osi mających różne bieguny i były ze sobą połączone, tak że ruch sfery zewnętrznej przenosił się na sferę wewnętrzn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cepcja de Broglie'a przypisania elektronowi mającemu pęd p długości fali </a:t>
            </a:r>
            <a:br>
              <a:rPr sz="1800"/>
            </a:br>
            <a:r>
              <a:rPr b="0" lang="el-GR" sz="1800" spc="-1" strike="noStrike">
                <a:solidFill>
                  <a:srgbClr val="000000"/>
                </a:solidFill>
                <a:latin typeface="Arial"/>
                <a:ea typeface="Arial"/>
              </a:rPr>
              <a:t>λ</a:t>
            </a:r>
            <a:r>
              <a:rPr b="0" lang="pl-PL" sz="1800" spc="-1" strike="noStrike">
                <a:solidFill>
                  <a:srgbClr val="000000"/>
                </a:solidFill>
                <a:latin typeface="Arial"/>
                <a:ea typeface="Arial"/>
              </a:rPr>
              <a:t> </a:t>
            </a:r>
            <a:r>
              <a:rPr b="0" lang="pl-PL" sz="1800" spc="-1" strike="noStrike">
                <a:solidFill>
                  <a:srgbClr val="000000"/>
                </a:solidFill>
                <a:latin typeface="Arial"/>
              </a:rPr>
              <a:t>= h/p okazała się bardzo cenna w analizie stanów energetycznych </a:t>
            </a:r>
            <a:br>
              <a:rPr sz="1800"/>
            </a:br>
            <a:r>
              <a:rPr b="0" lang="pl-PL" sz="1800" spc="-1" strike="noStrike">
                <a:solidFill>
                  <a:srgbClr val="000000"/>
                </a:solidFill>
                <a:latin typeface="Arial"/>
              </a:rPr>
              <a:t>i pędowych elektronów w atomach. Pozwoliła ona na sformułowanie zagadnienia w taki sposób, w którym ustalonym stanom energetycznym atomu odpowiadają określone długości fal de Broglie'a elektronów w tym atomie. </a:t>
            </a:r>
            <a:br>
              <a:rPr sz="1800"/>
            </a:br>
            <a:r>
              <a:rPr b="0" lang="pl-PL" sz="1800" spc="-1" strike="noStrike">
                <a:solidFill>
                  <a:srgbClr val="000000"/>
                </a:solidFill>
                <a:latin typeface="Arial"/>
              </a:rPr>
              <a:t>W rozpatrywanych stanach fala elektronowa jest falą „stojącą", jeżeli rozważymy jej rozkład wokół jądra. Później eksperymenty potwierdziły długości fal de Broglie'a dla protonów, neutronów i atomów. Obecnie każdej cząstce </a:t>
            </a:r>
            <a:br>
              <a:rPr sz="1800"/>
            </a:br>
            <a:r>
              <a:rPr b="0" lang="pl-PL" sz="1800" spc="-1" strike="noStrike">
                <a:solidFill>
                  <a:srgbClr val="000000"/>
                </a:solidFill>
                <a:latin typeface="Arial"/>
              </a:rPr>
              <a:t>i obiektowi materialnemu przypisujemy falę de Broglie'a. Dualizm falowo-korpuskularny wykazywany przez cząstki i promieniowanie nie kryje w sobie sprzeczności jak pierwotnie sądzono. Dziś oba sposoby zachowania się uważamy po prostu za przejawy istnienia materi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ąstki elementarne - </a:t>
            </a:r>
            <a:r>
              <a:rPr b="0" lang="pl-PL" sz="3200" spc="-1" strike="noStrike">
                <a:solidFill>
                  <a:srgbClr val="000000"/>
                </a:solidFill>
                <a:latin typeface="Calibri"/>
              </a:rPr>
              <a:t>obiekty, których istnienie i wzajemne oddziaływanie pozwala wyjaśnić formy występowania i zachowania się materi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rwszą odkrytą cząstką elementarną był elektron (J.J. Thomson, 1897). Do 1932 jedynymi znanymi cząstkami elementarnymi, oprócz elektronu, były foton i proton. Od 1932, kiedy został odkryty neutron (J. Chadwick) i pozyton (C.D. Anderson), datuje się szybki rozwój badań nad cząstkami elementarnymi, </a:t>
            </a:r>
            <a:br>
              <a:rPr sz="1800"/>
            </a:br>
            <a:r>
              <a:rPr b="0" lang="pl-PL" sz="1800" spc="-1" strike="noStrike">
                <a:solidFill>
                  <a:srgbClr val="000000"/>
                </a:solidFill>
                <a:latin typeface="Arial"/>
              </a:rPr>
              <a:t>a w jego następstwie — odkrycie mezonów, hiperonów, neutrin i wielu antycząstek.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ista cząstek i oddziaływań uważanych za elementarne zmienia się w miarę postępu wiedzy o strukturze i organizacji materii. Obecnie do cząstek elementarnych zalicza się: leptony, kwarki oraz bozony pośredniczące w oddziaływaniach; cząstki te traktuje się jako obiekty nie mające struktury wewnętrznej (</a:t>
            </a:r>
            <a:r>
              <a:rPr b="1" lang="pl-PL" sz="1800" spc="-1" strike="noStrike">
                <a:solidFill>
                  <a:srgbClr val="000000"/>
                </a:solidFill>
                <a:latin typeface="Arial"/>
              </a:rPr>
              <a:t>cząstki fundamentalne</a:t>
            </a:r>
            <a:r>
              <a:rPr b="0" lang="pl-PL" sz="1800" spc="-1" strike="noStrike">
                <a:solidFill>
                  <a:srgbClr val="000000"/>
                </a:solidFill>
                <a:latin typeface="Arial"/>
              </a:rPr>
              <a:t>). W szerszym znaczeniu cząstkami elementarnymi nazywa się, ze względów historycznych, również hadrony (m.in. proton, neutron, mezony, hiperony) — cząstek takich jest kilkaset. Każdej cząstce odpowiada antycząstka o takiej samej masie i czasie życia, a różniąca się od niej znakiem ładunku elektrycznego i innych addytywnych liczb kwantowych.</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warki</a:t>
            </a:r>
            <a:r>
              <a:rPr b="0" lang="pl-PL" sz="1800" spc="-1" strike="noStrike">
                <a:solidFill>
                  <a:srgbClr val="000000"/>
                </a:solidFill>
                <a:latin typeface="Arial"/>
              </a:rPr>
              <a:t> - cząstki elementarne, składniki protonów, neutronów i in. Hadronów. Spośród nich trzy kwarki mają ładunek elektryczny równy -1/3 i trzy kwarki +2/3 ładunku elementarnego. Oddziaływania między kwarkami mogą występować dlatego, że są one obdarzone pewną właściwością zwaną umownie kolorem. Kolor jest odpowiednikiem ładunku elektrycznego w oddziaływaniach elektromagnetycznych(nazwa umowna) i przyjmuje trzy wartości (kolor każdego kwarku może być czerwony, zielony, niebieski). Antykwarkom przypisuje się antykolor (mogą być antyczerwone, antyzielone, antyniebieskie).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ie stwierdzono występowania swobodnych kwarkó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zakresie energii dostępnej obecnie badaniom, oddziaływania cząstek elementarnych dzieli się na: grawitacyjne, elektromagnetyczne, słabe (oddziaływania elektromagnetyczne i słabe są opisywane w ramach jednolitej teorii, jako oddziaływania elektrosłabe) i silne. Oddziaływania grawitacyjne i elektromagnetyczne mają zasięg nieskończony; są to tzw. </a:t>
            </a:r>
            <a:r>
              <a:rPr b="1" lang="pl-PL" sz="1800" spc="-1" strike="noStrike">
                <a:solidFill>
                  <a:srgbClr val="000000"/>
                </a:solidFill>
                <a:latin typeface="Arial"/>
              </a:rPr>
              <a:t>oddziaływania długozasięgowe</a:t>
            </a:r>
            <a:r>
              <a:rPr b="0" lang="pl-PL" sz="1800" spc="-1" strike="noStrike">
                <a:solidFill>
                  <a:srgbClr val="000000"/>
                </a:solidFill>
                <a:latin typeface="Arial"/>
              </a:rPr>
              <a:t>. Oddziaływania słabe i silne należą do </a:t>
            </a:r>
            <a:r>
              <a:rPr b="1" lang="pl-PL" sz="1800" spc="-1" strike="noStrike">
                <a:solidFill>
                  <a:srgbClr val="000000"/>
                </a:solidFill>
                <a:latin typeface="Arial"/>
              </a:rPr>
              <a:t>oddziaływań krótkozasięgowych</a:t>
            </a:r>
            <a:r>
              <a:rPr b="0" lang="pl-PL" sz="1800" spc="-1" strike="noStrike">
                <a:solidFill>
                  <a:srgbClr val="000000"/>
                </a:solidFill>
                <a:latin typeface="Arial"/>
              </a:rPr>
              <a:t>, o zasięgu odpowiednio rzędu 10</a:t>
            </a:r>
            <a:r>
              <a:rPr b="0" lang="pl-PL" sz="1800" spc="-1" strike="noStrike" baseline="30000">
                <a:solidFill>
                  <a:srgbClr val="000000"/>
                </a:solidFill>
                <a:latin typeface="Arial"/>
              </a:rPr>
              <a:t>–18</a:t>
            </a:r>
            <a:r>
              <a:rPr b="0" lang="pl-PL" sz="1800" spc="-1" strike="noStrike">
                <a:solidFill>
                  <a:srgbClr val="000000"/>
                </a:solidFill>
                <a:latin typeface="Arial"/>
              </a:rPr>
              <a:t> m i 10</a:t>
            </a:r>
            <a:r>
              <a:rPr b="0" lang="pl-PL" sz="1800" spc="-1" strike="noStrike" baseline="30000">
                <a:solidFill>
                  <a:srgbClr val="000000"/>
                </a:solidFill>
                <a:latin typeface="Arial"/>
              </a:rPr>
              <a:t>–15</a:t>
            </a:r>
            <a:r>
              <a:rPr b="0" lang="pl-PL" sz="1800" spc="-1" strike="noStrike">
                <a:solidFill>
                  <a:srgbClr val="000000"/>
                </a:solidFill>
                <a:latin typeface="Arial"/>
              </a:rPr>
              <a:t> m. </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Źródłem informacji o cząstkach elementarnych jest badanie zderzeń cząstek elementarnych przy wysokich energia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Powstanie życia na Ziemi.</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Ewolucjonizm.</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Aktualizm geograficzny.</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Antropopresja.</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ole tekstowe 1"/>
          <p:cNvSpPr/>
          <p:nvPr/>
        </p:nvSpPr>
        <p:spPr>
          <a:xfrm>
            <a:off x="539640" y="134136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WOLUCJONIZ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wolucja </a:t>
            </a:r>
            <a:r>
              <a:rPr b="0" lang="pl-PL" sz="2800" spc="-1" strike="noStrike">
                <a:solidFill>
                  <a:srgbClr val="000000"/>
                </a:solidFill>
                <a:latin typeface="Arial"/>
              </a:rPr>
              <a:t>to historyczny proces polegający na zmianach, jakim podlegały organizmy od momentu powstania życia na różnych poziomach organizacji żywej materi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rostokąt 3"/>
          <p:cNvSpPr/>
          <p:nvPr/>
        </p:nvSpPr>
        <p:spPr>
          <a:xfrm>
            <a:off x="179280" y="531720"/>
            <a:ext cx="8640720" cy="626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a:rPr>
              <a:t>Jednymi z pierwszych teorii powstania życia na Ziemi były kreacjonizm, katastrofizm i panspermia.</a:t>
            </a: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Arial"/>
              </a:rPr>
              <a:t>KREACJONIZM</a:t>
            </a:r>
            <a:r>
              <a:rPr b="0" lang="pl-PL" sz="2700" spc="-1" strike="noStrike">
                <a:solidFill>
                  <a:srgbClr val="000000"/>
                </a:solidFill>
                <a:latin typeface="Arial"/>
              </a:rPr>
              <a:t> - [łac.] 1) pogląd głoszący, że Bóg stworzył świat z niczego (creatio ex nihilo) i podtrzymuje go w istnieniu, przeciwstawny starożytnym teoriom przyjmującym odwieczność świata; w teologii chrześcijańskiej dominujący od czasów świętego Augustyna i zmodyfikowany w tomizmie i neotomizmie; 2) pogląd głoszący, że Bóg stwarza każdorazowo duszę ludzką w chwili powstania ludzkiej istoty, przeciwstawny starożytnym teoriom przyjmującym preegzystencję i wędrówkę dusz, oraz tradukcjonizmowi, wg którego człowiek przekazuje potomstwu duszę wraz z ciałem.</a:t>
            </a: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ole tekstowe 1"/>
          <p:cNvSpPr/>
          <p:nvPr/>
        </p:nvSpPr>
        <p:spPr>
          <a:xfrm>
            <a:off x="468360" y="907920"/>
            <a:ext cx="82072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ATASTROFIZM</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ryginalną koncepcję, godzącą świadectwa paleontologiczne (skamieniałości organizmów) z ideą kreacjonizmu, stworzył francuski anatom G. Cuvier (XVIII/XIX w.). Jego teoria zakładała występowanie w dziejach Ziemi wielu katastrof niosących zagładę życia organicznego, które po każdej z nich odradzało się w nowej, przeważnie doskonalszej formie.</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jw_4"/>
          <p:cNvPicPr/>
          <p:nvPr/>
        </p:nvPicPr>
        <p:blipFill>
          <a:blip r:embed="rId1"/>
          <a:stretch/>
        </p:blipFill>
        <p:spPr>
          <a:xfrm>
            <a:off x="1547640" y="1189080"/>
            <a:ext cx="6037560" cy="4040280"/>
          </a:xfrm>
          <a:prstGeom prst="rect">
            <a:avLst/>
          </a:prstGeom>
          <a:ln w="0">
            <a:noFill/>
          </a:ln>
        </p:spPr>
      </p:pic>
      <p:sp>
        <p:nvSpPr>
          <p:cNvPr id="103" name="Text Box 4"/>
          <p:cNvSpPr/>
          <p:nvPr/>
        </p:nvSpPr>
        <p:spPr>
          <a:xfrm>
            <a:off x="1547640" y="5445000"/>
            <a:ext cx="60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mos sferyczny. Rękopis z XIV 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le tekstowe 2"/>
          <p:cNvSpPr/>
          <p:nvPr/>
        </p:nvSpPr>
        <p:spPr>
          <a:xfrm>
            <a:off x="684360" y="836640"/>
            <a:ext cx="7704000" cy="533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ANSPERMIA - hipoteza postawiona przez </a:t>
            </a:r>
            <a:br>
              <a:rPr sz="2800"/>
            </a:br>
            <a:r>
              <a:rPr b="0" lang="pl-PL" sz="2800" spc="-1" strike="noStrike">
                <a:solidFill>
                  <a:srgbClr val="000000"/>
                </a:solidFill>
                <a:latin typeface="Arial"/>
              </a:rPr>
              <a:t>S. Arrheniusa mówiąca o tym, że życie na Ziemi jest pochodzenia kosmicznego i dostało się tu przez znajdujące się w kosmosie przetrwalniki bakterii, np. za pośrednictwem meteoroidu, planetoidy lub komet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oniższy film przedstawia powstanie życia na Ziemi zgodnie z teorią panspermi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http://www.youtube.com/watch?v=AgeuRukfZ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Literatura, opracowno na podstaw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Filozofia leksykon PWN Warszawa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94920" y="549000"/>
            <a:ext cx="8209080" cy="5616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Ewolucjonizm c.d. – metoda projektu.</a:t>
            </a: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czniowie zostają podzieleni na 7 grup. Każda </a:t>
            </a:r>
            <a:br>
              <a:rPr sz="2800"/>
            </a:br>
            <a:r>
              <a:rPr b="0" lang="pl-PL" sz="2800" spc="-1" strike="noStrike">
                <a:solidFill>
                  <a:srgbClr val="000000"/>
                </a:solidFill>
                <a:latin typeface="Calibri"/>
              </a:rPr>
              <a:t>z nich otrzymuje po jednym tekście źródłowym.</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daniem każdej grupy jest przygotowanie i krótka prezentacja (ok. 5 min.) teorii przedstawionej </a:t>
            </a:r>
            <a:br>
              <a:rPr sz="2800"/>
            </a:br>
            <a:r>
              <a:rPr b="0" lang="pl-PL" sz="2800" spc="-1" strike="noStrike">
                <a:solidFill>
                  <a:srgbClr val="000000"/>
                </a:solidFill>
                <a:latin typeface="Calibri"/>
              </a:rPr>
              <a:t>w tekście, ponadto  odpowiedzenie na pytanie: Czy opisana teoria jest zgodna z rzeczywistością?</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ole tekstowe 1"/>
          <p:cNvSpPr/>
          <p:nvPr/>
        </p:nvSpPr>
        <p:spPr>
          <a:xfrm>
            <a:off x="324000" y="241200"/>
            <a:ext cx="8569080" cy="542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ktualizm geograficzny (geologiczny).</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pracowano na podstawie: R. K. Borówka, Dzieje ziemi i rozwój życia, wydawnictwo Kurpisz, Poznań 2001</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iemal do końca XVIII w., wbrew wielu obserwacjom geologicznym, znaczna część uczonych chrześcijańskich traktowała Ziemię jako twór niezmienny, ostatecznie uformowany podczas aktu stworzenia. Biblijny opis potopu, którego domniemane ślady spotykano powszechnie (np. skamieniałości), potwierdzały, jak sądzono ten pogląd.</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średniowieczu między innymi Albert Wielki podważał tą teorię dzięki własnym obserwacjom i pracom innych uczonych np. Arystotelesa.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ole tekstowe 1"/>
          <p:cNvSpPr/>
          <p:nvPr/>
        </p:nvSpPr>
        <p:spPr>
          <a:xfrm>
            <a:off x="468360" y="189000"/>
            <a:ext cx="8207280" cy="630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dobny pogląd na te sprawy wyrażał Leonardo da Vinci.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Jednym z najważniejszych osób mających wkład w poznanie ewolucji jest jednak </a:t>
            </a:r>
            <a:r>
              <a:rPr b="1" lang="pl-PL" sz="2600" spc="-1" strike="noStrike">
                <a:solidFill>
                  <a:srgbClr val="000000"/>
                </a:solidFill>
                <a:latin typeface="Arial"/>
              </a:rPr>
              <a:t>Nicolaus Steno </a:t>
            </a:r>
            <a:r>
              <a:rPr b="0" lang="pl-PL" sz="2600" spc="-1" strike="noStrike">
                <a:solidFill>
                  <a:srgbClr val="000000"/>
                </a:solidFill>
                <a:latin typeface="Arial"/>
              </a:rPr>
              <a:t>(XVII w.), który założył, że historię naszej planety można odtworzyć na podstawie warstw skalnych. Wyróżnił on 6 etapów ewolucji, które jednak nie wytrzymały próby czasu. Współczesne podejście do rozwoju naszej planety, akceptujące jej stałą ewolucję zgodną z podstawowymi prawami natury, narodziło się na gruncie kultury europejskiej stosunkowo niedawno. Pozostawił jednak podstawową i powszechnie stosowaną metodę analizy dziejów Ziemi, znaną dzisiaj pod nazwą </a:t>
            </a:r>
            <a:r>
              <a:rPr b="1" lang="pl-PL" sz="2600" spc="-1" strike="noStrike">
                <a:solidFill>
                  <a:srgbClr val="000000"/>
                </a:solidFill>
                <a:latin typeface="Arial"/>
              </a:rPr>
              <a:t>metody stratygraficznej.</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ole tekstowe 2"/>
          <p:cNvSpPr/>
          <p:nvPr/>
        </p:nvSpPr>
        <p:spPr>
          <a:xfrm>
            <a:off x="324000" y="692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opiero </a:t>
            </a:r>
            <a:r>
              <a:rPr b="1" lang="pl-PL" sz="2800" spc="-1" strike="noStrike">
                <a:solidFill>
                  <a:srgbClr val="000000"/>
                </a:solidFill>
                <a:latin typeface="Arial"/>
              </a:rPr>
              <a:t>Jerzy Buffon </a:t>
            </a:r>
            <a:r>
              <a:rPr b="0" lang="pl-PL" sz="2800" spc="-1" strike="noStrike">
                <a:solidFill>
                  <a:srgbClr val="000000"/>
                </a:solidFill>
                <a:latin typeface="Arial"/>
              </a:rPr>
              <a:t>(XVIII w.) a po nim </a:t>
            </a:r>
            <a:r>
              <a:rPr b="1" lang="pl-PL" sz="2800" spc="-1" strike="noStrike">
                <a:solidFill>
                  <a:srgbClr val="000000"/>
                </a:solidFill>
                <a:latin typeface="Arial"/>
              </a:rPr>
              <a:t>George Cuvier </a:t>
            </a:r>
            <a:r>
              <a:rPr b="0" lang="pl-PL" sz="2800" spc="-1" strike="noStrike">
                <a:solidFill>
                  <a:srgbClr val="000000"/>
                </a:solidFill>
                <a:latin typeface="Arial"/>
              </a:rPr>
              <a:t>(XVIII w.) zwrócili uwagę, że znajdowane w różnych skałach i osadach skamieniałości zwierząt świadczą o istnieniu w dziejach Ziemi kilku epok, podczas których rozwijały się zupełnie inne organizmy. Sądzili, że każda z tych epok kończyła się katastrofą, po której życie odradzało się ponownie, ale już w nieco innej formie. Ponieważ ich teoria oparta była na katastrofach nazwano ich NEPTUNISTAMI od boga wody Neptun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ole tekstowe 1"/>
          <p:cNvSpPr/>
          <p:nvPr/>
        </p:nvSpPr>
        <p:spPr>
          <a:xfrm>
            <a:off x="324000" y="473040"/>
            <a:ext cx="856908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a:rPr>
              <a:t>Bardziej wyważony pogląd reprezentował </a:t>
            </a:r>
            <a:r>
              <a:rPr b="1" lang="pl-PL" sz="2700" spc="-1" strike="noStrike">
                <a:solidFill>
                  <a:srgbClr val="000000"/>
                </a:solidFill>
                <a:latin typeface="Arial"/>
              </a:rPr>
              <a:t>James Hutton</a:t>
            </a:r>
            <a:r>
              <a:rPr b="0" lang="pl-PL" sz="2700" spc="-1" strike="noStrike">
                <a:solidFill>
                  <a:srgbClr val="000000"/>
                </a:solidFill>
                <a:latin typeface="Arial"/>
              </a:rPr>
              <a:t>. Jego zdaniem głównym procesem prowadzącym do rozwoju skorupy ziemskiej były zjawiska wulkaniczne oraz inne siły wewnętrzne. Nie negował jednak roli innych procesów. Zauważył ponadto, że podobne procesy, które kształtowały Ziemię przed wiekami są możliwe do zaobserwowania również dziś. Dlatego uznaje się go za promotora sformułowania </a:t>
            </a:r>
            <a:r>
              <a:rPr b="1" lang="pl-PL" sz="2700" spc="-1" strike="noStrike">
                <a:solidFill>
                  <a:srgbClr val="000000"/>
                </a:solidFill>
                <a:latin typeface="Arial"/>
              </a:rPr>
              <a:t>idei aktualizmu </a:t>
            </a:r>
            <a:r>
              <a:rPr b="0" lang="pl-PL" sz="2700" spc="-1" strike="noStrike">
                <a:solidFill>
                  <a:srgbClr val="000000"/>
                </a:solidFill>
                <a:latin typeface="Arial"/>
              </a:rPr>
              <a:t>(zwanej inaczej </a:t>
            </a:r>
            <a:r>
              <a:rPr b="1" lang="pl-PL" sz="2700" spc="-1" strike="noStrike">
                <a:solidFill>
                  <a:srgbClr val="000000"/>
                </a:solidFill>
                <a:latin typeface="Arial"/>
              </a:rPr>
              <a:t>uniformitarianizmem</a:t>
            </a:r>
            <a:r>
              <a:rPr b="0" lang="pl-PL" sz="2700" spc="-1" strike="noStrike">
                <a:solidFill>
                  <a:srgbClr val="000000"/>
                </a:solidFill>
                <a:latin typeface="Arial"/>
              </a:rPr>
              <a:t>), której myślą przewodnią jest twierdzenie, że </a:t>
            </a:r>
            <a:r>
              <a:rPr b="1" lang="pl-PL" sz="2700" spc="-1" strike="noStrike">
                <a:solidFill>
                  <a:srgbClr val="000000"/>
                </a:solidFill>
                <a:latin typeface="Arial"/>
              </a:rPr>
              <a:t>teraźniejszość jest kluczem do poznania</a:t>
            </a:r>
            <a:r>
              <a:rPr b="1" i="1" lang="pl-PL" sz="2700" spc="-1" strike="noStrike">
                <a:solidFill>
                  <a:srgbClr val="000000"/>
                </a:solidFill>
                <a:latin typeface="Arial"/>
              </a:rPr>
              <a:t> </a:t>
            </a:r>
            <a:r>
              <a:rPr b="1" lang="pl-PL" sz="2700" spc="-1" strike="noStrike">
                <a:solidFill>
                  <a:srgbClr val="000000"/>
                </a:solidFill>
                <a:latin typeface="Arial"/>
              </a:rPr>
              <a:t>przeszłości. </a:t>
            </a:r>
            <a:r>
              <a:rPr b="0" lang="pl-PL" sz="2700" spc="-1" strike="noStrike">
                <a:solidFill>
                  <a:srgbClr val="000000"/>
                </a:solidFill>
                <a:latin typeface="Arial"/>
              </a:rPr>
              <a:t>Pogląd ten nie wykluczał katastrof, które mogły mieć miejsce w kształtowaniu procesów geologicznyc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ole tekstowe 1"/>
          <p:cNvSpPr/>
          <p:nvPr/>
        </p:nvSpPr>
        <p:spPr>
          <a:xfrm>
            <a:off x="468360" y="620640"/>
            <a:ext cx="8207280" cy="54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Zdecydowanym przeciwnikiem stosowania jakichkolwiek zdarzeń katastrofalnych w wyjaśnianiu historii rozwoju naszej planety był </a:t>
            </a:r>
            <a:r>
              <a:rPr b="1" lang="pl-PL" sz="2500" spc="-1" strike="noStrike">
                <a:solidFill>
                  <a:srgbClr val="000000"/>
                </a:solidFill>
                <a:latin typeface="Arial"/>
              </a:rPr>
              <a:t>Charles Lyell</a:t>
            </a:r>
            <a:r>
              <a:rPr b="0" lang="pl-PL" sz="2500" spc="-1" strike="noStrike">
                <a:solidFill>
                  <a:srgbClr val="000000"/>
                </a:solidFill>
                <a:latin typeface="Arial"/>
              </a:rPr>
              <a:t>. Akceptował on aktualistyczne idee Huttona, lecz był przekonany, że natężenie poszczególnych procesów geologicznych było niezmienne w czasie i charakteryzowało się taką samą prędkością, z jaką przebiegają one współcześnie. Lyell zakładał więc nie tylko słuszną zasadę niezmienności naturalnych praw przyrody, ale także trudną dzisiaj do zaakceptowania regułę niezmienności tempa rozwoju Ziemi. Wykluczał nawet chwilowe i lokalne katastrofy lub załamania warunków środowiskowych, w efekcie których następowałoby przyspieszenie lub opóźnienie prędkości procesów zmieniających oblicze świat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ole tekstowe 1"/>
          <p:cNvSpPr/>
          <p:nvPr/>
        </p:nvSpPr>
        <p:spPr>
          <a:xfrm>
            <a:off x="395280" y="476280"/>
            <a:ext cx="8280360" cy="659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Dzisiaj  wiadomo, że w czasie długich dziejów Ziemi, zmieniało się nie tylko tempo różnorodnych procesów geologicznych, ale także</a:t>
            </a:r>
            <a:r>
              <a:rPr b="0" i="1" lang="pl-PL" sz="2500" spc="-1" strike="noStrike">
                <a:solidFill>
                  <a:srgbClr val="000000"/>
                </a:solidFill>
                <a:latin typeface="Arial"/>
              </a:rPr>
              <a:t> </a:t>
            </a:r>
            <a:r>
              <a:rPr b="0" lang="pl-PL" sz="2500" spc="-1" strike="noStrike">
                <a:solidFill>
                  <a:srgbClr val="000000"/>
                </a:solidFill>
                <a:latin typeface="Arial"/>
              </a:rPr>
              <a:t>sam ich charakter. Przykładem tego może być zjawisko wietrzenia skał, które z całą pewnością przebiegało inaczej niż dziś. Również zmienny jest skład chemiczny atmosfery. Odznaczała się innym składem chemicznym. Przybliżone odpowiedniki zachodzących procesów można jedynie szukać na innych planetach, charakteryzujących się warunkami zbliżonymi do tych, jakie wcześniej panowały na Ziemi. Nie można pominąć w tym wszystkim wpływu ewolucji układu Ziemia – Księżyc, co miało wpływ na ruch obrotowy Ziemi. Powstanie życia biologicznego na Ziemi miało bardzo duży wpływ na zachodzące zmiany, co można było obserwować np. w wodach morskich.</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ole tekstowe 1"/>
          <p:cNvSpPr/>
          <p:nvPr/>
        </p:nvSpPr>
        <p:spPr>
          <a:xfrm>
            <a:off x="250920" y="404640"/>
            <a:ext cx="8569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ANTROPOPRESJ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pływ człowieka na środowisk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 początku istnienia ludzkości człowiek oddziaływał na przyrodę. Człowiek pierwotny silnie uzależniony był od jej kaprysów. Z czasem, kiedy jego rozwój był coraz większy, kaprysy te miały mniejsze znaczenie. Opanowanie rozniecania ognia, oswojenie dzikich zwierząt i zajęcie się uprawami spowodowało większy wpływ na środowisko natural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ole tekstowe 1"/>
          <p:cNvSpPr/>
          <p:nvPr/>
        </p:nvSpPr>
        <p:spPr>
          <a:xfrm>
            <a:off x="324000" y="692280"/>
            <a:ext cx="8424720" cy="557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a:rPr>
              <a:t>Proces ten nie przebiegał jednorodnie na powierzchni całej kuli ziemskiej. Obok wysoko zorganizowanych społeczności krajów Europy czy Ameryki Północnej egzystują plemiona żyjące na etapie wspólnoty pierwotnej (nieliczne szczepy indiańskie Ameryki Południowej) lub też ludy Afryki i Australii żyjące ze zbieractwa i myślistwa. Ich wpływ na środowisko, w jakim żyją, nadal pozostaje nieznaczny. Wszystkie elementy środowiska podlegają temu oddziaływaniu.</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odel Eudoksosa przyjął ostatecznie Arystoteles (384–322 p.n.e.), jeszcze bardziej go rozbudowując: liczba sfer z pierwotnych 26 wzrosła do 55. Arystoteles usprawiedliwił taką konstrukcję kosmosu fizyką pięciu pierwiatków: w świecie podksiężycowym wszystko było zbudowane z ziemi, wody, powietrza i ognia, podlegając nieustannym procesom powstawania i ginięcia; natomiast obszar rozpoczynający się od sfery Księżyca i ciągnący się przez sfery pozostałych planet aż po sferę gwiazd tworzył piąty element, eter, którego własnością był wieczny ruch kołowy i jednostajny. Odtąd </a:t>
            </a:r>
            <a:r>
              <a:rPr b="1" lang="pl-PL" sz="2000" spc="-1" strike="noStrike">
                <a:solidFill>
                  <a:srgbClr val="000000"/>
                </a:solidFill>
                <a:latin typeface="Arial"/>
              </a:rPr>
              <a:t>zracjonalizowany sferyczny kosmos z fizyką Arystotelesa stał się kosmologicznym paradygmatem, który został skutecznie odrzucony dopiero przez Kopernika</a:t>
            </a:r>
            <a:r>
              <a:rPr b="0" lang="pl-PL" sz="2000" spc="-1" strike="noStrike">
                <a:solidFill>
                  <a:srgbClr val="000000"/>
                </a:solidFill>
                <a:latin typeface="Arial"/>
              </a:rPr>
              <a:t>, choć próby modyfikacji kosmologii Arystotelesa pojawiały się wcześniej.</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ole tekstowe 1"/>
          <p:cNvSpPr/>
          <p:nvPr/>
        </p:nvSpPr>
        <p:spPr>
          <a:xfrm>
            <a:off x="324000" y="333360"/>
            <a:ext cx="8424720" cy="5744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ym z podstawowych oddziaływań człowieka na środowisko jest jego wpływ na klim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bjawia się to poprzez:</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stworzenie własnego mikroklimatu,</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specyficzne warunki klimatyczne dużych miast,</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wyższą temperaturę dużych miast, która jest następstwem intensywnego nagrzewania się budynków mieszkalnych, asfaltu czy bruku, jak również ograniczonej przez ciasną zabudowę wentylacji,</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uwalnianie dużych ilości ciepła do atmosfery w zimie – w sezonie grzewczym,</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pojawienie się smogu nad miastami,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zwiększenie ilości odpadów poprzez uwalnianie dużych ilości pyłów do atmosfery,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zwiększenie zawartości związków siarki i azotu w atmosferze, czego konsekwencją jest pojawienie się kwaśnych deszcz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ole tekstowe 1"/>
          <p:cNvSpPr/>
          <p:nvPr/>
        </p:nvSpPr>
        <p:spPr>
          <a:xfrm>
            <a:off x="324000" y="765000"/>
            <a:ext cx="8351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zemiany w biosferze objawiają się poprzez:</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niszczenie, bądź ograniczenie zasięgów niektórych gatunków roślin i zwierzą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wprowadzanie roślin uprawnych w miejsce występujących naturalnie,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jawienie się nowych, nieznanych rośl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ole tekstowe 1"/>
          <p:cNvSpPr/>
          <p:nvPr/>
        </p:nvSpPr>
        <p:spPr>
          <a:xfrm>
            <a:off x="468360" y="692280"/>
            <a:ext cx="82803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ziałalność człowieka ma wpływ na ukształtowanie powierzchni Ziemi. Jej przykładem jes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uprawa tarasowa na terenach górski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wstawanie zapadlisk na terenach górniczych,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regulacja linii brzegowej mórz, która wpływa na powstanie nowych terenów uprawny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regulacja koryt rzeczny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budowa oczyszczalni ścieków w celu odzyskania deficytowego towaru jakim jest wo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ole tekstowe 1"/>
          <p:cNvSpPr/>
          <p:nvPr/>
        </p:nvSpPr>
        <p:spPr>
          <a:xfrm>
            <a:off x="468360" y="363600"/>
            <a:ext cx="8351640" cy="649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ajważniejsze formy działalności gospodarczej t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rolnictw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przemysł.</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acjonalne gospodarowanie środowiskiem oznacza wprowadzenie w życie zasady „po pierwsze nie szkodzić".</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Kilka przykładów negatywnego oddziaływania człowieka na środowisk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wycinanie lasów Amazonii,</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budowa zbiornika na Nilu.</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ZADANIE: </a:t>
            </a:r>
            <a:r>
              <a:rPr b="0" lang="pl-PL" sz="2800" spc="-1" strike="noStrike">
                <a:solidFill>
                  <a:srgbClr val="000000"/>
                </a:solidFill>
                <a:latin typeface="Arial"/>
              </a:rPr>
              <a:t>Przez jakie działania człowiek mógłby naprawić szkody, jakie wyrządził naturz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oem</cp:lastModifiedBy>
  <dcterms:modified xsi:type="dcterms:W3CDTF">2014-01-28T17:48:48Z</dcterms:modified>
  <cp:revision>78</cp:revision>
  <dc:subject/>
  <dc:title>KORPUSKULARNO-FALOWA NATURA ŚWIATŁA</dc:title>
</cp:coreProperties>
</file>