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wmf" ContentType="image/x-wmf"/>
  <Override PartName="/ppt/media/image8.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BC475-F77A-406D-AC1F-9D9C3ACCE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4A278-463A-40D0-AC78-772FD55D9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2A74B-F8D8-447F-BABF-DED422320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C71AD-FD6E-439A-8FDE-9999F3375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4D5EF-C6DD-4D6A-986C-2B5D97453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ED2BD-7E7E-400C-BC31-5F4D6A1A9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E32A6-9928-4921-A9FC-5B2433167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FF33B-0F4F-429C-A3FE-7972A0F71E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7F7B3-63F3-41E6-8F02-D1A328465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9DC7A-D6DF-44E9-8FD7-6B12DAE69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D7422-7133-415A-B17C-F93919FDF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A738F-434A-4624-810B-38C22EB64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A773F-59F9-419A-8693-FA786B517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2F289-FEEF-46A2-963F-4260DD666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6841F-3E25-4948-9118-E281D23B1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20A2E-4912-4695-9A44-A49A7DA5B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BE310-6F74-4630-BC3F-D5898EE4A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78AD9-6D37-4018-95F4-2679D5F62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E2F85-6C55-4907-8C69-F9E244236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ADE72-C669-4B5F-AB85-35175C92C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5715A-20B0-4F4C-BBA8-442038C44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E42C6-DC4A-470C-9602-932378BBD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54487-7607-4421-8118-4D6019593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3DF6-CBFF-44F3-819D-CCF440E50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A653-C62F-4E11-9FB9-DDF1F55004F4}"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037F-1B8E-42C4-8749-9E99486B91DF}"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5280" y="1483920"/>
            <a:ext cx="7488360" cy="3600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Wpływ pola magnetycznego na przewodnik </a:t>
            </a:r>
            <a:br>
              <a:rPr sz="2800"/>
            </a:br>
            <a:r>
              <a:rPr b="1" lang="pl-PL" sz="2800" spc="-1" strike="noStrike">
                <a:solidFill>
                  <a:srgbClr val="000000"/>
                </a:solidFill>
                <a:latin typeface="Arial"/>
              </a:rPr>
              <a:t>z prądem – silnik elektryczny. </a:t>
            </a:r>
            <a:br>
              <a:rPr sz="2800"/>
            </a:br>
            <a:r>
              <a:rPr b="1" lang="pl-PL" sz="2800" spc="-1" strike="noStrike">
                <a:solidFill>
                  <a:srgbClr val="000000"/>
                </a:solidFill>
                <a:latin typeface="Arial"/>
              </a:rPr>
              <a:t>Czym różni się telefon od telegrafu? Doświadczenie Hertza i jego rola </a:t>
            </a:r>
            <a:br>
              <a:rPr sz="2800"/>
            </a:br>
            <a:r>
              <a:rPr b="1" lang="pl-PL" sz="2800" spc="-1" strike="noStrike">
                <a:solidFill>
                  <a:srgbClr val="000000"/>
                </a:solidFill>
                <a:latin typeface="Arial"/>
              </a:rPr>
              <a:t>w powstaniu radia. </a:t>
            </a:r>
            <a:br>
              <a:rPr sz="2800"/>
            </a:br>
            <a:r>
              <a:rPr b="1" lang="pl-PL" sz="2800" spc="-1" strike="noStrike">
                <a:solidFill>
                  <a:srgbClr val="000000"/>
                </a:solidFill>
                <a:latin typeface="Arial"/>
              </a:rPr>
              <a:t>Wykonujemy odbiornik fal długich </a:t>
            </a:r>
            <a:br>
              <a:rPr sz="2800"/>
            </a:br>
            <a:r>
              <a:rPr b="1" lang="pl-PL" sz="2800" spc="-1" strike="noStrike">
                <a:solidFill>
                  <a:srgbClr val="000000"/>
                </a:solidFill>
                <a:latin typeface="Arial"/>
              </a:rPr>
              <a:t>wg załączonego schematu.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68360" y="549360"/>
            <a:ext cx="835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395280" y="549360"/>
            <a:ext cx="864072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4"/>
          <p:cNvSpPr/>
          <p:nvPr/>
        </p:nvSpPr>
        <p:spPr>
          <a:xfrm>
            <a:off x="611280" y="836640"/>
            <a:ext cx="8208720" cy="4673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4. Mikrofony bezprzewodowe</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ą z opcji są mikrofony bezprzewodowe. Dochodzą tutaj dodatkowe aspekty nie spotykane przy stosowaniu połączeń kablowych. Otóż systemy te pracują w oparciu </a:t>
            </a:r>
            <a:br>
              <a:rPr sz="2400"/>
            </a:br>
            <a:r>
              <a:rPr b="0" lang="pl-PL" sz="2400" spc="-1" strike="noStrike">
                <a:solidFill>
                  <a:srgbClr val="000000"/>
                </a:solidFill>
                <a:latin typeface="Arial"/>
              </a:rPr>
              <a:t>o transmisję radiową sygnałów w paśmie niekoncesjonowanym, tzn. że przy zachowaniu ograniczeń na moc sygnałów radiowych, nie musimy nigdzie zgłaszać, że chcemy prowadzić transmisję radiową. I to właśnie niesie ze sobą zasadnicze kłopoty, czyli zakłócenia. </a:t>
            </a:r>
            <a:br>
              <a:rPr sz="2400"/>
            </a:br>
            <a:r>
              <a:rPr b="0" lang="pl-PL" sz="2400" spc="-1" strike="noStrike">
                <a:solidFill>
                  <a:srgbClr val="000000"/>
                </a:solidFill>
                <a:latin typeface="Arial"/>
              </a:rPr>
              <a:t>Nie są to zakłócenia typu szum, ale innego typu transmisja radiowa prowadzona, w tym samym paśmie na obszarze sąsiadującym, np. CB ra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468360" y="333360"/>
            <a:ext cx="8351640" cy="612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elegraf Morse'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elegraf Morse'a wydaje się dzisiaj staromodnym, prymitywnym urządzeniem, którego miejsce dawno już znalazło się w lamusie historii. W dziejach rozwoju komunikacji wynalazek ten odegrał jednak rolę trudną do przecenienia. Był on bowiem pierwszym urządzeniem technicznym pozwalającym w sposób efektywny przekazywać informacje na dużą odległość w bardzo krótkim czasi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sada działania telegrafu Morse'a była bardzo prosta. Urządzenie składało się z dwóch aparatów, połączonych drutem elektrycznym. Nadawca, naciskając </a:t>
            </a:r>
            <a:br>
              <a:rPr sz="1800"/>
            </a:br>
            <a:r>
              <a:rPr b="0" lang="pl-PL" sz="1800" spc="-1" strike="noStrike">
                <a:solidFill>
                  <a:srgbClr val="000000"/>
                </a:solidFill>
                <a:latin typeface="Arial"/>
              </a:rPr>
              <a:t>i puszczając przycisk, zamykał lub otwierał obwód elektryczny, powodując przepływ lub brak przepływu prądu. W aparacie odbiorczym znajdował się elektromagnes, nad którym z kolei znajduje się przesuwająca się taśma, a nad nią przyciągany przez ów elektromagnes pisak. Naciśnięcie przycisku </a:t>
            </a:r>
            <a:br>
              <a:rPr sz="1800"/>
            </a:br>
            <a:r>
              <a:rPr b="0" lang="pl-PL" sz="1800" spc="-1" strike="noStrike">
                <a:solidFill>
                  <a:srgbClr val="000000"/>
                </a:solidFill>
                <a:latin typeface="Arial"/>
              </a:rPr>
              <a:t>w aparacie nadawczym powodowało, że na taśmie aparatu odbiorczego pojawiała się kropka (gdy przycisk był naciśnięty krótko) lub kreska (gdy był naciśnięty dłuż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posób komunikowani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ak jednak można było w ten sposób przekazywać normalne słowa czy zdania? Otóż, sposób na to był bardzo prosty. Należało po prostu "zaszyfrować" poszczególne litery i cyfry tak, by odpowiadały im takie czy inne kombinacje kropek i kresek, pojawiających się na taśmie aparatu odbiorczego. W ten właśnie sposób powstał opracowany przez wynalazcę telegrafu w 1840r. Alfabet Morse'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549360"/>
            <a:ext cx="8351640" cy="550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ierwsze pomysł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ówiąc o telegrafie Morse'a warto jednak podkreślić, że Samuel Morse nie był pierwszym człowiekiem, który wpadł na pomysł przekazywania informacji za pomocą impulsów elektrycznych przesyłanych przewodami. Pierwszy projekt telegrafu elektrycznego pojawił się zaskakująco wcześnie -bo już w 1753 r. 17 lutego tegoż roku na łamach brytyjskiej gazety "Scots Monitor" opublikowany został projekt urządzenia telekomunikacyjnego pomysłu niejakiego Ch. Morrisona. Urządzenie to miało przekazywać każdy znak przez osobny, jemu tylko właściwy przewód. Na takiej właśnie zasadzie oparty został telegraf elektryczny, zbudowany w latach 1809-10 przez T. von Soemmeringa z Monachium (55 drutów).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grudniu 1795 r. Don Francisco Salvá z Akademii Nauk w Barcelonie zaprezentował pierwszą napowietrzną linię telegrafu elektrycznego. Linia ta miała długość 1 km i biegła </a:t>
            </a:r>
            <a:br>
              <a:rPr sz="1600"/>
            </a:br>
            <a:r>
              <a:rPr b="0" lang="pl-PL" sz="1600" spc="-1" strike="noStrike">
                <a:solidFill>
                  <a:srgbClr val="000000"/>
                </a:solidFill>
                <a:latin typeface="Arial"/>
              </a:rPr>
              <a:t>z Barcelony do Fort Atarazan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Alternatyw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onkurencyjnym wobec telegrafu Morse'a wynalazkiem był tzw. telegraf igiełkowy (wskazówkowy). W telegrafie tym, którego pierwowzór skonstruował w 1822 r. rosyjski dyplomata P. Szyling, poszczególnym literom i cyfrom odpowiadały odpowiednie wychylenia igiełek (wskazówek) pod wpływem pola magnetycznego wytwarzanego przez przesyłane impulsy prądu. Telegraf ten okazał się na tyle sprawnym urządzeniem, </a:t>
            </a:r>
            <a:br>
              <a:rPr sz="1600"/>
            </a:br>
            <a:r>
              <a:rPr b="0" lang="pl-PL" sz="1600" spc="-1" strike="noStrike">
                <a:solidFill>
                  <a:srgbClr val="000000"/>
                </a:solidFill>
                <a:latin typeface="Arial"/>
              </a:rPr>
              <a:t>że w 1836 r. jego wynalazca połączył nim petersburski Pałac Zimowy i Ministerstwo Komunikacji. W planach była również budowa telegrafu igiełkowego na linii Kronsztad-Peterhoff, nie doszła ona jednak do skutku z powodu śmierci autora projekt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68360" y="549360"/>
            <a:ext cx="8351640" cy="54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wycięski wari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nalazek Morse'a nie od razu wyparł takie rozwiązania, jak telegraf igiełkowy czy telegraf z dużą ilością drutów. Władze Stanów Zjednoczonych dopiero w 1843 r. przyznały Morse'owi fundusze na budowę próbnej linii Waszyngton - Baltimore, którą otwarto 24 maja 1844 r. Wkrótce potem telegraf Morse'a rozpowszechnił się bardzo szybko </a:t>
            </a:r>
            <a:br>
              <a:rPr sz="2400"/>
            </a:br>
            <a:r>
              <a:rPr b="0" lang="pl-PL" sz="2400" spc="-1" strike="noStrike">
                <a:solidFill>
                  <a:srgbClr val="000000"/>
                </a:solidFill>
                <a:latin typeface="Arial"/>
              </a:rPr>
              <a:t>i stopniowo wyparł inne urządzenia. Już w 1845 r. linie telegrafu pojawiły się we Francji, w roku następnym </a:t>
            </a:r>
            <a:br>
              <a:rPr sz="2400"/>
            </a:br>
            <a:r>
              <a:rPr b="0" lang="pl-PL" sz="2400" spc="-1" strike="noStrike">
                <a:solidFill>
                  <a:srgbClr val="000000"/>
                </a:solidFill>
                <a:latin typeface="Arial"/>
              </a:rPr>
              <a:t>w Austrii i w Belgii, w 1853 r. w Rosji,a najpóźniej- bo w roku 1879 - pojawił się telegraf Morse'a w Chinac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468360" y="549360"/>
            <a:ext cx="8351640" cy="554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ELEFO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l-PL" sz="1800" spc="-1" strike="noStrike">
                <a:solidFill>
                  <a:srgbClr val="000000"/>
                </a:solidFill>
                <a:latin typeface="Arial"/>
              </a:rPr>
              <a:t>Telefon (gr. tele= "zdalny" + gr. phoné ="głos") - urządzenie pozwalające na dwustronne przesyłanie głosu na odległość pomiędzy dwoma lub większą liczbą aparatów. Głównymi częściami aparatu telefonicznego są: mikrofon przetwarzający dźwięki na sygnały elektryczne, słuchawka (lub głośnik) przetwarzająca sygnały elektryczne na dźwięki (mikrofon i słuchawka tworzą zwykle zespół o wspólnej obudowie zwanej mikrotelefonem, a potocznie także słuchawką), tarcza numerowa (lub klawiatura) wytwarzająca impulsy wybiórcze, przetwornik akustyczny lub optyczny przywołujący abonenta.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nalazcą telefonu jest Antonio Meucci. Powszechnie jednak uważa się, </a:t>
            </a:r>
            <a:br>
              <a:rPr sz="1800"/>
            </a:br>
            <a:r>
              <a:rPr b="0" lang="pl-PL" sz="1800" spc="-1" strike="noStrike">
                <a:solidFill>
                  <a:srgbClr val="000000"/>
                </a:solidFill>
                <a:latin typeface="Arial"/>
              </a:rPr>
              <a:t>że telefon wynalazł Alexander Graham Bell, który w 1876 roku uzyskał na niego paten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dzaje telefonów: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elefon stacjonarn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elefon komórkowy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elefon satelitarny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468360" y="549360"/>
            <a:ext cx="8351640" cy="526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Historia Telefon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1876 roku Alexander Graham Bell wynalazł urządzenie umożliwiające rozmowę na odległość, które w historii zostanie zapamiętane jako "telefon". Inwestorzy początkowo niepewnie patrzyli na możliwość zarobienia na tym odkryciu. Bell, jeszcze przed opatentowaniem tego urządzenia, oferował go firmie Western Union. Było to bodajże najgorsze posunięcie w jej dziejach - po trzech latach firma ta - w obawie przed konkurencją dla swego telegrafu - zawarła z wynalazcą ugodę, której wartość wzrosła wkrótce dwudziestokrotnie. W 1878 roku wydano w New Haven pierwszą książkę telefoniczną - zawierała ona 50 nazwisk. Dwa lata później otwarto pierwszą budkę telefoniczną, obsługiwaną przez kasjera. Dziewięć lat później opatentowano płatny telefon, działający dopiero po wrzuceniu monety. Pierwsze w pełni automatyczne budki telefoniczne uruchomiono w Paryżu w 1913 roku. W 1923 roku wprowadzono obrotowe tarcze, a w 1963 stworzono pierwszy aparat z przyciskami. W międzyczasie, w 1946 roku przeprowadzono pierwszą rozmowę telefoniczną z samochodu do samochodu, a w 1956 roku stworzono telefonię komórkową. W 1976 roku we Włoszech wprowadzono pierwsze karty telefoniczne.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ajbardziej gwałtowny rozwój telefonii nastąpił w Stanach Zjednoczonych. W 1882 roku było tam 240 tysięcy aparatów telefonicznych, a w 1907 - 6 milionów. Do dnia dzisiejszego sieci telefoniczne oplatają cały świat, a niemalże każdy mieszkaniec kuli ziemskiej ma dostęp do telefon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468360" y="333360"/>
            <a:ext cx="8351640" cy="607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Historia telefonii komórkowej</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W 1956 roku firma Ericsson wprowadziła na rynek telefon bezprzewodowy o wadze </a:t>
            </a:r>
            <a:br>
              <a:rPr sz="1500"/>
            </a:br>
            <a:r>
              <a:rPr b="0" lang="pl-PL" sz="1500" spc="-1" strike="noStrike">
                <a:solidFill>
                  <a:srgbClr val="000000"/>
                </a:solidFill>
                <a:latin typeface="Arial"/>
              </a:rPr>
              <a:t>40 kilogramów i wielkości walizki. Ceny sprzęty były zawrotne - za tę "komórkę" trzeba było zapłacić równowartość porządnego samochodu. Nikt wówczas nie wróżył tak zawrotnej kariery telefonii komórkowej. Dzisiaj blisko połowa Polaków posiada telefony komórkowe. Pomimo tego, że historia telefonii komórkowej sięga jedynie ostatniego półwiecza, pierwsze wynalazki, które umożliwiły jej powstanie datuje się na XIX wiek. Mowa tu głównie o aparacie telefonicznym Aleksandra Grahama Bella. Dzięki niemu zaczęły powstawać pierwsze sieci telekomunikacyjne. Jednak ludzie potrzebowali czegoś więcej - potrzebna była komunikacja bezprzewodowa, tak by mieć możliwość kontaktu z innymi niemalże z dowolnego zakątka kuli ziemskiej. Umożliwiono przesyłanie sygnału telefonicznego drogą radiową, dzięki pojedynczym nadajnikom, a później całym ich sieciom. Jednak to nie wystarczało - należało umożliwić klientom indywidualnym korzystanie z telefonu w dowolnym miejscu i czasie. To wymagało kolejnych postępów technologicznych, zmian infrastruktury i wielu innych rzeczy. Umożliwił to właśnie aparat Ericssona. Powstanie pierwszych - jeszcze analogowych - sieci komórkowych spełniło te wymagania. Nie zapewniały one świetnej jakości dźwięku, były bardzo wrażliwe na ukształtowanie terenu... i drogie. Operowały one w paśmie częstotliwości 450 MHz. Pierwszą taką siecią w Polsce był Centertel. Wraz z wzrostem wymagań klientów, zaczęto wprowadzać telefonię komórkową drugiej generacji (2G). Tym razem opartą o sieci transmisyjne GSM 900/1800 MHz. Jakość dźwięku znacznie się podniosła, możliwe stało się przesyłanie danych teleinformatycznych, oraz korzystanie z multimediów (wysyłanie fotografii, filmów...). Właśnie znane nam sieci Era, Plus, Idea i Heyah operują w tym paśmie. Przyszłością sieci komórkowych z pewnością są sieci trzeciej generacji, oparte o UMTS. Dzięki nim możliwe stanie się przesyłanie w czasie rzeczywistym sygnałów wideo, prowadzenie telekonferencji. Ocenia się, że właśnie ten typ sieci zdominuje rynek transmisji danych. Pierwsze sieci 3G zostały już uruchomione w Japonii. W Polsce prowadzone są pierwsze próby techniczne.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468360" y="549360"/>
            <a:ext cx="8351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elefonia trzeciej generacji – UM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niwersalny System Komunikacji Ruchomej UMTS (ang.Universal Mobile Telecommunications System) oznacza system komunikacji ruchomej </a:t>
            </a:r>
            <a:br>
              <a:rPr sz="1800"/>
            </a:br>
            <a:r>
              <a:rPr b="0" lang="pl-PL" sz="1800" spc="-1" strike="noStrike">
                <a:solidFill>
                  <a:srgbClr val="000000"/>
                </a:solidFill>
                <a:latin typeface="Arial"/>
              </a:rPr>
              <a:t>i bezprzewodowej trzeciej generacji, umożliwiający w szczególności realizację nowatorskich usług multimedialnych w skali wykraczającej poza możliwości systemów drugiej generacji (GSM) oraz zdolny do połączenia możliwości korzystania z komponentów naziemnych i satelitarnych o globalnym zasięgu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znacza to połączenie funkcji i infrastruktury dotychczasowych systemów naziemnych (komórkowych, przywoławczych, dyspozytorskich, itd.) oraz satelitarnych w jeden spójny system umożliwiający transmisję nie tylko głosu, ale również przekazu multimedialnego, czyli jednoczesnej transmisji głosu, danych </a:t>
            </a:r>
            <a:br>
              <a:rPr sz="1800"/>
            </a:br>
            <a:r>
              <a:rPr b="0" lang="pl-PL" sz="1800" spc="-1" strike="noStrike">
                <a:solidFill>
                  <a:srgbClr val="000000"/>
                </a:solidFill>
                <a:latin typeface="Arial"/>
              </a:rPr>
              <a:t>i obrazu przesyłanej z dużymi prędkościami w czasie rzeczywistym. System UMTS otwiera przed producentami sprzętu i oprogramowania możliwość stworzenia całkowicie nowatorskich usług, co stanowi fenomen tego system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68360" y="549360"/>
            <a:ext cx="8351640" cy="46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elefonia 3G rozszerza możliwości komunikacji znacznie poza te, które oferuje nam telefonia GSM. Zastosowania UM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ystem nawigacj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chrona osobist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ystem lokalizacj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ystem informacji o zagrożeniac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ystem informacji dla pageró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zeta elektroniczna, książka elektroniczna, tele-zakup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ideo na żądanie, interaktywna telewizj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uzyka na żądanie, karaoke na żądani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ideo baz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erwis informacyj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aza danych, poczta e-mai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ideo konferencj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efon mobilny, wideo telefon;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Japonii telefonia 3G działa już od 1.X.2001 - są to tzw. usługi FOMA, uruchomienie pierwszych europejskich sieci nastąpiło w 2002 roku - pierwsze </a:t>
            </a:r>
            <a:br>
              <a:rPr sz="1800"/>
            </a:br>
            <a:r>
              <a:rPr b="0" lang="pl-PL" sz="1800" spc="-1" strike="noStrike">
                <a:solidFill>
                  <a:srgbClr val="000000"/>
                </a:solidFill>
                <a:latin typeface="Arial"/>
              </a:rPr>
              <a:t>w Austrii. W Polsce od 2004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39640" y="476280"/>
            <a:ext cx="8425080" cy="1650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d Morse'a – stworzony w 1832 przez Samuela Morse'a i Alfreda Vaila sposób reprezentacji alfabetu, cyfr i znaków specjalnych za pomocą dźwięków, błysków światła, impulsów elektrycznych lub znaków popularnie zwanych kreską i kropką. Wszystkie znaki reprezentowane są przez kilkuelementowe serie sygnałów – krótkich (kropek) i długich (kresek). Kreska powinna trwać co najmniej tyle czasu, co trzy kropki. Odstęp pomiędzy elementami znaku powinien trwać jedną kropkę. Odstęp pomiędzy poszczególnymi znakami – jedną kreskę. Odstęp pomiędzy grupami znaków – trzy kreski. </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Źródło: </a:t>
            </a:r>
            <a:r>
              <a:rPr b="0" lang="pl-PL" sz="1200" spc="-1" strike="noStrike">
                <a:solidFill>
                  <a:srgbClr val="0000ff"/>
                </a:solidFill>
                <a:latin typeface="Arial"/>
              </a:rPr>
              <a:t>https://sites.google.com/site/jastrzebieczantoria/szyfry/mors</a:t>
            </a:r>
            <a:endParaRPr b="0" lang="en-US" sz="1200" spc="-1" strike="noStrike">
              <a:solidFill>
                <a:srgbClr val="000000"/>
              </a:solidFill>
              <a:latin typeface="Arial"/>
            </a:endParaRPr>
          </a:p>
        </p:txBody>
      </p:sp>
      <p:pic>
        <p:nvPicPr>
          <p:cNvPr id="114" name="Picture 3" descr="alf mors 1"/>
          <p:cNvPicPr/>
          <p:nvPr/>
        </p:nvPicPr>
        <p:blipFill>
          <a:blip r:embed="rId1"/>
          <a:stretch/>
        </p:blipFill>
        <p:spPr>
          <a:xfrm>
            <a:off x="1835280" y="2492280"/>
            <a:ext cx="3960720" cy="358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5"/>
          <p:cNvSpPr/>
          <p:nvPr/>
        </p:nvSpPr>
        <p:spPr>
          <a:xfrm>
            <a:off x="539640" y="765000"/>
            <a:ext cx="8209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iła elektrodynamiczna</a:t>
            </a:r>
            <a:r>
              <a:rPr b="0" lang="pl-PL" sz="1800" spc="-1" strike="noStrike">
                <a:solidFill>
                  <a:srgbClr val="000000"/>
                </a:solidFill>
                <a:latin typeface="Arial"/>
              </a:rPr>
              <a:t> – </a:t>
            </a:r>
            <a:r>
              <a:rPr b="1" lang="pl-PL" sz="1800" spc="-1" strike="noStrike">
                <a:solidFill>
                  <a:srgbClr val="000000"/>
                </a:solidFill>
                <a:latin typeface="Arial"/>
              </a:rPr>
              <a:t>F = BILsinα</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dzie: B – wartość wektora indukcji pola magnetycznego w obszarze przewodnika, I- natężenie prądu płynącego w przewodniku, L – długość przewodnika (zwrot tego wektora określa płynący w przewodniku prąd) , α- kąt pomiędzy wektorami L i B. Wektor siły leży w płaszczyźnie prostopadłej do płaszczyzny wyznaczonej przez wektory L i B, a jego zwrot określa reguła śruby prawoskrętnej.</a:t>
            </a:r>
            <a:endParaRPr b="0" lang="en-US" sz="1800" spc="-1" strike="noStrike">
              <a:solidFill>
                <a:srgbClr val="000000"/>
              </a:solidFill>
              <a:latin typeface="Arial"/>
            </a:endParaRPr>
          </a:p>
        </p:txBody>
      </p:sp>
      <p:graphicFrame>
        <p:nvGraphicFramePr>
          <p:cNvPr id="90" name="Object 4"/>
          <p:cNvGraphicFramePr/>
          <p:nvPr/>
        </p:nvGraphicFramePr>
        <p:xfrm>
          <a:off x="1476360" y="3002040"/>
          <a:ext cx="5472000" cy="3855960"/>
        </p:xfrm>
        <a:graphic>
          <a:graphicData uri="http://schemas.openxmlformats.org/presentationml/2006/ole">
            <p:oleObj progId="Word.Document.12" r:id="rId1" spid="">
              <p:embed/>
              <p:pic>
                <p:nvPicPr>
                  <p:cNvPr id="91" name="Object 4" descr=""/>
                  <p:cNvPicPr/>
                  <p:nvPr/>
                </p:nvPicPr>
                <p:blipFill>
                  <a:blip r:embed="rId2"/>
                  <a:stretch/>
                </p:blipFill>
                <p:spPr>
                  <a:xfrm>
                    <a:off x="1476360" y="3002040"/>
                    <a:ext cx="5472000" cy="385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539640" y="620640"/>
            <a:ext cx="8496360" cy="1159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oto pomoc w odkodowaniu - zaczynamy w kropce u góry. od każdej kropki odchodzą dwie linie - kropkowana i kreskowana. Trzeba podążać za tym typem linii, który odpowiada kropce lub kresce w zakodowanej literze, np. *--*: w lewo kropkowaną, dochodzimy do "e", w prawo kreskowaną, dochodzimy do "a", znów w prawo - "w" i w lewo - "p".</a:t>
            </a:r>
            <a:br>
              <a:rPr sz="1400"/>
            </a:br>
            <a:r>
              <a:rPr b="0" lang="pl-PL" sz="1400" spc="-1" strike="noStrike">
                <a:solidFill>
                  <a:srgbClr val="000000"/>
                </a:solidFill>
                <a:latin typeface="Arial"/>
              </a:rPr>
              <a:t> </a:t>
            </a:r>
            <a:r>
              <a:rPr b="0" lang="pl-PL" sz="1200" spc="-1" strike="noStrike">
                <a:solidFill>
                  <a:srgbClr val="000000"/>
                </a:solidFill>
                <a:latin typeface="Arial"/>
              </a:rPr>
              <a:t>Źródło: </a:t>
            </a:r>
            <a:r>
              <a:rPr b="0" lang="pl-PL" sz="1200" spc="-1" strike="noStrike">
                <a:solidFill>
                  <a:srgbClr val="0000ff"/>
                </a:solidFill>
                <a:latin typeface="Arial"/>
              </a:rPr>
              <a:t>https://sites.google.com/site/jastrzebieczantoria/szyfry/mors</a:t>
            </a:r>
            <a:endParaRPr b="0" lang="en-US" sz="1200" spc="-1" strike="noStrike">
              <a:solidFill>
                <a:srgbClr val="000000"/>
              </a:solidFill>
              <a:latin typeface="Arial"/>
            </a:endParaRPr>
          </a:p>
        </p:txBody>
      </p:sp>
      <p:pic>
        <p:nvPicPr>
          <p:cNvPr id="116" name="Picture 3" descr="800px-Morse_code_tree3"/>
          <p:cNvPicPr/>
          <p:nvPr/>
        </p:nvPicPr>
        <p:blipFill>
          <a:blip r:embed="rId1"/>
          <a:stretch/>
        </p:blipFill>
        <p:spPr>
          <a:xfrm>
            <a:off x="762120" y="2205000"/>
            <a:ext cx="7619760" cy="24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684360" y="765000"/>
            <a:ext cx="79912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ADANIE:</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Stosując kodowanie alfabetem Morse’a zapisz swoje imię.</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p.: jacek; </a:t>
            </a:r>
            <a:r>
              <a:rPr b="0" lang="pl-PL" sz="2400" spc="-1" strike="noStrike">
                <a:solidFill>
                  <a:srgbClr val="000000"/>
                </a:solidFill>
                <a:latin typeface="Symbol"/>
                <a:ea typeface="Symbol"/>
              </a:rPr>
              <a:t></a:t>
            </a:r>
            <a:r>
              <a:rPr b="0" lang="pl-PL" sz="2400" spc="-1" strike="noStrike">
                <a:solidFill>
                  <a:srgbClr val="000000"/>
                </a:solidFill>
                <a:latin typeface="Arial"/>
              </a:rPr>
              <a:t> – – –  </a:t>
            </a:r>
            <a:r>
              <a:rPr b="0" lang="pl-PL" sz="2400" spc="-1" strike="noStrike">
                <a:solidFill>
                  <a:srgbClr val="000000"/>
                </a:solidFill>
                <a:latin typeface="Symbol"/>
                <a:ea typeface="Symbol"/>
              </a:rPr>
              <a:t></a:t>
            </a:r>
            <a:r>
              <a:rPr b="0" lang="pl-PL" sz="2400" spc="-1" strike="noStrike">
                <a:solidFill>
                  <a:srgbClr val="000000"/>
                </a:solidFill>
                <a:latin typeface="Arial"/>
              </a:rPr>
              <a:t> –  – </a:t>
            </a:r>
            <a:r>
              <a:rPr b="0" lang="pl-PL" sz="2400" spc="-1" strike="noStrike">
                <a:solidFill>
                  <a:srgbClr val="000000"/>
                </a:solidFill>
                <a:latin typeface="Symbol"/>
                <a:ea typeface="Symbol"/>
              </a:rPr>
              <a:t></a:t>
            </a:r>
            <a:r>
              <a:rPr b="0" lang="pl-PL" sz="2400" spc="-1" strike="noStrike">
                <a:solidFill>
                  <a:srgbClr val="000000"/>
                </a:solidFill>
                <a:latin typeface="Arial"/>
              </a:rPr>
              <a:t> – </a:t>
            </a:r>
            <a:r>
              <a:rPr b="0" lang="pl-PL" sz="2400" spc="-1" strike="noStrike">
                <a:solidFill>
                  <a:srgbClr val="000000"/>
                </a:solidFill>
                <a:latin typeface="Symbol"/>
                <a:ea typeface="Symbol"/>
              </a:rPr>
              <a:t></a:t>
            </a:r>
            <a:r>
              <a:rPr b="0" lang="pl-PL" sz="2400" spc="-1" strike="noStrike">
                <a:solidFill>
                  <a:srgbClr val="000000"/>
                </a:solidFill>
                <a:latin typeface="Arial"/>
              </a:rPr>
              <a:t>  </a:t>
            </a:r>
            <a:r>
              <a:rPr b="0" lang="pl-PL" sz="2400" spc="-1" strike="noStrike">
                <a:solidFill>
                  <a:srgbClr val="000000"/>
                </a:solidFill>
                <a:latin typeface="Symbol"/>
                <a:ea typeface="Symbol"/>
              </a:rPr>
              <a:t></a:t>
            </a:r>
            <a:r>
              <a:rPr b="0" lang="pl-PL" sz="2400" spc="-1" strike="noStrike">
                <a:solidFill>
                  <a:srgbClr val="000000"/>
                </a:solidFill>
                <a:latin typeface="Arial"/>
              </a:rPr>
              <a:t>  – </a:t>
            </a:r>
            <a:r>
              <a:rPr b="0" lang="pl-PL" sz="2400" spc="-1" strike="noStrike">
                <a:solidFill>
                  <a:srgbClr val="000000"/>
                </a:solidFill>
                <a:latin typeface="Symbol"/>
                <a:ea typeface="Symbol"/>
              </a:rPr>
              <a:t></a:t>
            </a:r>
            <a:r>
              <a:rPr b="0" lang="pl-PL" sz="2400" spc="-1" strike="noStrike">
                <a:solidFill>
                  <a:srgbClr val="000000"/>
                </a:solidFill>
                <a:latin typeface="Arial"/>
              </a:rPr>
              <a: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468360" y="1052640"/>
            <a:ext cx="8064360" cy="3591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Rezonans – </a:t>
            </a:r>
            <a:r>
              <a:rPr b="0" lang="pl-PL" sz="2400" spc="-1" strike="noStrike">
                <a:solidFill>
                  <a:srgbClr val="000000"/>
                </a:solidFill>
                <a:latin typeface="Arial"/>
              </a:rPr>
              <a:t>zjawisko polegające na wzmocnieniu amplitudy drgań w sytuacji, gdy częstotliwość impulsów wymuszających jest zbliżona do częstotliwość drgań własnych układu (swobodnych).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kres drgań w obwodzie RLC:</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2</a:t>
            </a:r>
            <a:r>
              <a:rPr b="1" lang="el-GR" sz="2400" spc="-1" strike="noStrike">
                <a:solidFill>
                  <a:srgbClr val="000000"/>
                </a:solidFill>
                <a:latin typeface="Arial"/>
              </a:rPr>
              <a:t>π</a:t>
            </a:r>
            <a:r>
              <a:rPr b="1" lang="pl-PL" sz="2400" spc="-1" strike="noStrike">
                <a:solidFill>
                  <a:srgbClr val="000000"/>
                </a:solidFill>
                <a:latin typeface="Arial"/>
              </a:rPr>
              <a:t>(LC)</a:t>
            </a:r>
            <a:r>
              <a:rPr b="1" lang="pl-PL" sz="2400" spc="-1" strike="noStrike" baseline="30000">
                <a:solidFill>
                  <a:srgbClr val="000000"/>
                </a:solidFill>
                <a:latin typeface="Arial"/>
              </a:rPr>
              <a:t>1/2</a:t>
            </a:r>
            <a:r>
              <a:rPr b="0" lang="pl-PL" sz="2400" spc="-1" strike="noStrike">
                <a:solidFill>
                  <a:srgbClr val="000000"/>
                </a:solidFill>
                <a:latin typeface="Arial"/>
              </a:rPr>
              <a:t>, </a:t>
            </a: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gdzie L – indukcyjność obwodu, C – pojemność </a:t>
            </a:r>
            <a:br>
              <a:rPr sz="2400"/>
            </a:br>
            <a:r>
              <a:rPr b="0" lang="pl-PL" sz="2400" spc="-1" strike="noStrike">
                <a:solidFill>
                  <a:srgbClr val="000000"/>
                </a:solidFill>
                <a:latin typeface="Arial"/>
              </a:rPr>
              <a:t>w obwodz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468360" y="1052640"/>
            <a:ext cx="80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 Box 3"/>
          <p:cNvSpPr/>
          <p:nvPr/>
        </p:nvSpPr>
        <p:spPr>
          <a:xfrm>
            <a:off x="468360" y="620640"/>
            <a:ext cx="8496360" cy="12708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udujemy prosty odbiornik radiowy fal długich.</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zbędne elementy: dioda półprzewodnikowa, kondensatory o stałej i zmiennej pojemności (np. ze starego radioodbiornika), kilka metrów drutu np. ze starej cewki aby nawinąć około 80-200 zwojów drutu na tekturową rurkę (np. po zużytym papierowym ręczniku) reszta posłuży do wykonania kilkumetrowej anteny i uziemienia, słuchawka i lutownica. Elementy należy połączyć według poniższego schematu: </a:t>
            </a:r>
            <a:endParaRPr b="0" lang="en-US" sz="1400" spc="-1" strike="noStrike">
              <a:solidFill>
                <a:srgbClr val="000000"/>
              </a:solidFill>
              <a:latin typeface="Arial"/>
            </a:endParaRPr>
          </a:p>
        </p:txBody>
      </p:sp>
      <p:graphicFrame>
        <p:nvGraphicFramePr>
          <p:cNvPr id="121" name="Object 5"/>
          <p:cNvGraphicFramePr/>
          <p:nvPr/>
        </p:nvGraphicFramePr>
        <p:xfrm>
          <a:off x="1692360" y="2205000"/>
          <a:ext cx="5756040" cy="3430800"/>
        </p:xfrm>
        <a:graphic>
          <a:graphicData uri="http://schemas.openxmlformats.org/presentationml/2006/ole">
            <p:oleObj progId="Word.Document.12" r:id="rId1" spid="">
              <p:embed/>
              <p:pic>
                <p:nvPicPr>
                  <p:cNvPr id="122" name="Object 5" descr=""/>
                  <p:cNvPicPr/>
                  <p:nvPr/>
                </p:nvPicPr>
                <p:blipFill>
                  <a:blip r:embed="rId2"/>
                  <a:stretch/>
                </p:blipFill>
                <p:spPr>
                  <a:xfrm>
                    <a:off x="1692360" y="2205000"/>
                    <a:ext cx="5756040" cy="343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260280"/>
            <a:ext cx="8291520" cy="5865840"/>
          </a:xfrm>
          <a:prstGeom prst="rect">
            <a:avLst/>
          </a:prstGeom>
          <a:noFill/>
          <a:ln w="0">
            <a:noFill/>
          </a:ln>
        </p:spPr>
        <p:txBody>
          <a:bodyPr anchor="t">
            <a:norm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Doświadczenie Hertza (na deser) </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modyfikowana wersja artykułu opublikowanego na łamach czasopisma Foton, Nr 80, str. 66, wiosna 2003. Aktualizacja: Andrzej Krzysztofowicz</a:t>
            </a:r>
            <a:endParaRPr b="0" lang="en-US" sz="12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H. R. Hertz w swoich poszukiwaniach "fal Maxwella" w 1887 r. używał jako nadajnika cewki Ruhmkorffa, anten o różnych kształtach zaś przeskok iskry obserwował pod mikroskopem. Doświadczenie to można łatwo powtórzyć używając piezoelektrycznego zapalacza do gazu i małej neonówki (np. ze wskaźnika napięcia sieciowego. Do zapalacza, po zdjęciu metalowego kapturka, należy podłączyć antenę nadajnika - dwie igły, druty do robót ręcznych lub kawałki miedzianego przewodu (np. grubego drutu transformatorowego).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dbiornik - to dwa identyczne druty, połączone przez neonówkę, umieszczone równolegle, w odległości 5-30 cm od nadajnika (dłuższe druty pozwalają na większą odległość między nadajnikiem a odbiornikiem). Druty muszą być izolowane od podłoża, np. leżeć na fajansowym półmisku (stół nie jest dobrym izolatorem) lub wisieć rozpięte na dwóch sznurkach. Naciskanie zapalacza powoduje zapalenie się neonówki. Ognik w neonówce jest intensywniejszy, jeśli między drutami nadajnika przeskakuje iskra (należy dobrać odpowiednio przerwę w nadajniku). Aby udowodnić, że zjawisko nie jest spowodowane przepływem jakiś ukrytych prądów (np. po powierzchni talerza) warto pokazać, że ognik pojawia się również bez iskry w nadajniku - w trakcie samego ładowania się drutów nadajnika (bez iskry) lub w czasie ich rozładowania (po zbliżeniu naładowanych drutów tak, aby przeskoczyła iskra). Jest to dowód tezy Maxwella - zmieniające się pola elektryczne (w tym przypadku szybko powstające lub zanikające pola elektrostatyczne wokół drutów nadajnika) powoduje powstanie fali elektromagnetycznej.</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24" name="Obraz 2" descr="Zmodyfikowana zapalniczka piezoelektryczna (Fot. D. Pliszka)"/>
          <p:cNvPicPr/>
          <p:nvPr/>
        </p:nvPicPr>
        <p:blipFill>
          <a:blip r:embed="rId1"/>
          <a:stretch/>
        </p:blipFill>
        <p:spPr>
          <a:xfrm>
            <a:off x="3492360" y="2565360"/>
            <a:ext cx="1905120" cy="1181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549000"/>
            <a:ext cx="8291520" cy="5576760"/>
          </a:xfrm>
          <a:prstGeom prst="rect">
            <a:avLst/>
          </a:prstGeom>
          <a:noFill/>
          <a:ln w="0">
            <a:noFill/>
          </a:ln>
        </p:spPr>
        <p:txBody>
          <a:bodyPr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mo zjawisko piezoelektryczne polega na tym, że przy ściskaniu lub rozciąganiu niektórych materiałów na ich krawędziach pojawiają się ładunki elektryczne. Do tych materiałów, które zaliczamy do klasy kryształów, należą np.: kwarc, turmalin, sól Seignette'a, blenda cynkowa, ferroelektryki, czy też tytanian baru BaTiO3 stosowany jako dielektryk w kondensatorach elektrycznych. Prądy w zjawisku piezoelektrycznym są niewielkie, ale napięcia rzędu 10 kV - przesuwanie gołą ręką naładowanych drutów kończy się niemiłym wstrząsem. Zapalanie się neonówki świadczy o powstawaniu napięcia </a:t>
            </a:r>
            <a:br>
              <a:rPr sz="1800"/>
            </a:br>
            <a:r>
              <a:rPr b="0" lang="pl-PL" sz="1800" spc="-1" strike="noStrike">
                <a:solidFill>
                  <a:srgbClr val="000000"/>
                </a:solidFill>
                <a:latin typeface="Arial"/>
              </a:rPr>
              <a:t>w odbiorniku rzędu 100 V. Naładowane druty nadajnika leżące np. na stole </a:t>
            </a:r>
            <a:br>
              <a:rPr sz="1800"/>
            </a:br>
            <a:r>
              <a:rPr b="0" lang="pl-PL" sz="1800" spc="-1" strike="noStrike">
                <a:solidFill>
                  <a:srgbClr val="000000"/>
                </a:solidFill>
                <a:latin typeface="Arial"/>
              </a:rPr>
              <a:t>po obiedzie (a przed deserem), przyciągają okruchy. Piezoelektryczny zapalacz do gazu można wykorzystać też do demonstracji zjawisk elektrostatycznych jak np. ilustracji prawa Coulomba. Kryształy piezoelektryczne znajdują szerokie zastosowanie w technice i urządzeniach pomiarowych, w których </a:t>
            </a:r>
            <a:br>
              <a:rPr sz="1800"/>
            </a:br>
            <a:r>
              <a:rPr b="0" lang="pl-PL" sz="1800" spc="-1" strike="noStrike">
                <a:solidFill>
                  <a:srgbClr val="000000"/>
                </a:solidFill>
                <a:latin typeface="Arial"/>
              </a:rPr>
              <a:t>są wykorzystywane jako elementy przetwarzające impulsy mechaniczne </a:t>
            </a:r>
            <a:br>
              <a:rPr sz="1800"/>
            </a:br>
            <a:r>
              <a:rPr b="0" lang="pl-PL" sz="1800" spc="-1" strike="noStrike">
                <a:solidFill>
                  <a:srgbClr val="000000"/>
                </a:solidFill>
                <a:latin typeface="Arial"/>
              </a:rPr>
              <a:t>w elektryczne i odwrotnie.</a:t>
            </a:r>
            <a:endParaRPr b="0" lang="en-US" sz="1800" spc="-1" strike="noStrike">
              <a:solidFill>
                <a:srgbClr val="000000"/>
              </a:solidFill>
              <a:latin typeface="Calibri"/>
            </a:endParaRPr>
          </a:p>
        </p:txBody>
      </p:sp>
      <p:pic>
        <p:nvPicPr>
          <p:cNvPr id="126" name="Obraz 3" descr="Doświadczenie Hertza (Fot. IF PAP Słupsk)"/>
          <p:cNvPicPr/>
          <p:nvPr/>
        </p:nvPicPr>
        <p:blipFill>
          <a:blip r:embed="rId1"/>
          <a:stretch/>
        </p:blipFill>
        <p:spPr>
          <a:xfrm>
            <a:off x="3132000" y="333360"/>
            <a:ext cx="2857680" cy="213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Następny slajd przedstawia zasadę działania prostego silnika prądu stałego. </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aplecie można ustawić częstotliwość (ilość obrotów na sekundę). Ponadto można nanieść kierunek obrotów, linie pola magnetycznego </a:t>
            </a:r>
            <a:br>
              <a:rPr sz="2800"/>
            </a:br>
            <a:r>
              <a:rPr b="0" lang="pl-PL" sz="2800" spc="-1" strike="noStrike">
                <a:solidFill>
                  <a:srgbClr val="000000"/>
                </a:solidFill>
                <a:latin typeface="Arial"/>
              </a:rPr>
              <a:t>i wektory sił elektrodynamicznych działających na ramię ramki.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68000" y="2781000"/>
            <a:ext cx="8218440" cy="1036440"/>
          </a:xfrm>
          <a:prstGeom prst="rect">
            <a:avLst/>
          </a:prstGeom>
          <a:noFill/>
          <a:ln w="0">
            <a:noFill/>
          </a:ln>
        </p:spPr>
        <p:txBody>
          <a:bodyPr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pplet;</a:t>
            </a:r>
            <a:r>
              <a:rPr b="0" lang="pl-PL" sz="2400" spc="-1" strike="noStrike" u="sng">
                <a:solidFill>
                  <a:srgbClr val="000000"/>
                </a:solidFill>
                <a:uFillTx/>
                <a:latin typeface="Arial"/>
              </a:rPr>
              <a:t> </a:t>
            </a:r>
            <a:r>
              <a:rPr b="0" lang="pl-PL" sz="2400" spc="-1" strike="noStrike">
                <a:solidFill>
                  <a:srgbClr val="000000"/>
                </a:solidFill>
                <a:latin typeface="Arial"/>
              </a:rPr>
              <a:t>www.walter-fendt.de/ph14pl/electricmotor_pl.htm</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468360" y="2276640"/>
            <a:ext cx="813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ak zbudować w warunkach domowych prosty silnik prądu stałeg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2"/>
          <p:cNvSpPr/>
          <p:nvPr/>
        </p:nvSpPr>
        <p:spPr>
          <a:xfrm>
            <a:off x="468360" y="549360"/>
            <a:ext cx="8351640" cy="5700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Budowa i zasada działania mikrofonu, telefonu i telegrafu Mors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pracowano na podstawie: http://www.estradowiec.pl/index.php?option=com_content&amp;task=view&amp;id=38&amp;Itemid=6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www.cematfiz.republika.pl/te5.htm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MIKROF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ikrofon (MIC - skrótowe określenie na mikrofon, a zwykle w sprzęcie oznaczenie wejścia mikrofonowego) jest to urządzenie, które służy do przetwarzania fal dźwiękowych w impulsy elektryczne. Podczas  przetwarzania otrzymuje się z mikrofonu przebieg elektryczny tzn. sygnał foniczny w postaci siły elektromotorycznej E, napięcia wyjściowego U oraz natężenia prądu J odpowiadającego przebiegowi akustycznem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e względu na sposób przetwarzania drgań membrany w sygnał foniczny mikrofony dzielimy 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ęglowe </a:t>
            </a:r>
            <a:br>
              <a:rPr sz="1800"/>
            </a:br>
            <a:r>
              <a:rPr b="0" lang="pl-PL" sz="1800" spc="-1" strike="noStrike">
                <a:solidFill>
                  <a:srgbClr val="000000"/>
                </a:solidFill>
                <a:latin typeface="Arial"/>
              </a:rPr>
              <a:t>• piezoelektryczne </a:t>
            </a:r>
            <a:br>
              <a:rPr sz="1800"/>
            </a:br>
            <a:r>
              <a:rPr b="0" lang="pl-PL" sz="1800" spc="-1" strike="noStrike">
                <a:solidFill>
                  <a:srgbClr val="000000"/>
                </a:solidFill>
                <a:latin typeface="Arial"/>
              </a:rPr>
              <a:t>• magnetoelektryczne (dynamiczne) </a:t>
            </a:r>
            <a:br>
              <a:rPr sz="1800"/>
            </a:br>
            <a:r>
              <a:rPr b="0" lang="pl-PL" sz="1800" spc="-1" strike="noStrike">
                <a:solidFill>
                  <a:srgbClr val="000000"/>
                </a:solidFill>
                <a:latin typeface="Arial"/>
              </a:rPr>
              <a:t>• pojemnościowe (elektrostatyczne) </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468360" y="333360"/>
            <a:ext cx="8351640" cy="602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Przykładowe mikrofon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1. Mikrofon dynamiczny (magnetoelektryczny)</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a:t>
            </a:r>
            <a:r>
              <a:rPr b="0" lang="pl-PL" sz="1600" spc="-1" strike="noStrike">
                <a:solidFill>
                  <a:srgbClr val="000000"/>
                </a:solidFill>
                <a:latin typeface="Arial"/>
              </a:rPr>
              <a:t>ikrofon dynamiczny to jedno z wielu niezastąpionych urządzeń zarówno </a:t>
            </a:r>
            <a:br>
              <a:rPr sz="1600"/>
            </a:br>
            <a:r>
              <a:rPr b="0" lang="pl-PL" sz="1600" spc="-1" strike="noStrike">
                <a:solidFill>
                  <a:srgbClr val="000000"/>
                </a:solidFill>
                <a:latin typeface="Arial"/>
              </a:rPr>
              <a:t>na estradzie, studio czy wszelakiego rodzaju miejscach gdzie trzeba coś powiedzieć, zaśpiewać, zagrać. Nie tylko charakterystyka brzmieniowa, ale i stabilna budowa a przez to odporność a uszkodzenia powodują, że mikrofony tego typu znajdują często zastosowanie na scenie. Stosuje się je wszędzie: zarówno na scenie do nagłaśniania instrumentów oraz wokali jak i w studio do nagłaśniania instrumentów dętych </a:t>
            </a:r>
            <a:br>
              <a:rPr sz="1600"/>
            </a:br>
            <a:r>
              <a:rPr b="0" lang="pl-PL" sz="1600" spc="-1" strike="noStrike">
                <a:solidFill>
                  <a:srgbClr val="000000"/>
                </a:solidFill>
                <a:latin typeface="Arial"/>
              </a:rPr>
              <a:t>i perkusyjnych, wzmacniaczy gitarowych i basowych oraz szczególnie dynamicznych linii wokalnych. Mikrofony dynamiczne (poza mikrofonami dedykowanymi wyłącznie do instrumentów) posiadają systemy chroniące przed niepożądanymi dźwiękami np. głoski wybuchowe (b, p, d, 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udowa mikrofonu dynamicznego wygląda następująco: Każdy taki mikrofon zbudowany jest z membrany (cienka powłoka drgająca pod wpływem fal dźwiękowych, lub zmiany strumienia magnetycznego (np. w głośniku czy mikrofonie) służąca do przekazywania </a:t>
            </a:r>
            <a:br>
              <a:rPr sz="1600"/>
            </a:br>
            <a:r>
              <a:rPr b="0" lang="pl-PL" sz="1600" spc="-1" strike="noStrike">
                <a:solidFill>
                  <a:srgbClr val="000000"/>
                </a:solidFill>
                <a:latin typeface="Arial"/>
              </a:rPr>
              <a:t>i odbierania dźwięków), do której jest przymocowana cewka (zwoje drutu miedzianego </a:t>
            </a:r>
            <a:br>
              <a:rPr sz="1600"/>
            </a:br>
            <a:r>
              <a:rPr b="0" lang="pl-PL" sz="1600" spc="-1" strike="noStrike">
                <a:solidFill>
                  <a:srgbClr val="000000"/>
                </a:solidFill>
                <a:latin typeface="Arial"/>
              </a:rPr>
              <a:t>o bardzo małej średnicy). Drążąc dalej cewka umieszczona jest w specjalnym miejscu (wycięciu) wykonanej w materiale ferromagnetycznym ( popularnym materiałem jest silny magnes noedymowy). Cała zasada działania mikrofonu opiera się na prawie Faraday’a (fala akustyczna powoduje wibrowanie membrany, a ponieważ do membrany przymocowana jest cewka to i ona wibruje). Według prawa Faraday’a jeżeli przewód (tutaj zwoje drutu) porusza się w polu magnetycznym (tutaj wytwarzane przez magnes) to zaczyna w nim płynąć prąd. Więc prąd płynący w nim jest proporcjonalny do fali akustycznej, np. głosu mówcy czy śpiewu wokalis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468360" y="549360"/>
            <a:ext cx="8351640" cy="4243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mikrofonu dynamicznego</a:t>
            </a:r>
            <a:br>
              <a:rPr sz="1800"/>
            </a:br>
            <a:r>
              <a:rPr b="1" lang="pl-PL" sz="1800" spc="-1" strike="noStrike">
                <a:solidFill>
                  <a:srgbClr val="000000"/>
                </a:solidFill>
                <a:latin typeface="Arial"/>
              </a:rPr>
              <a:t> </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ewnątrz mikrofonu dynamicznego (magnetoelektrycznego), pomiędzy biegunami magnesu stałego, znajduje się cewka przymocowana do membrany. Fale dźwiękowe, wprawiając membranę w drgania, powodują poruszanie się cewki w polu magnesu i indukują w niej prąd.</a:t>
            </a:r>
            <a:endParaRPr b="0" lang="en-US" sz="1800" spc="-1" strike="noStrike">
              <a:solidFill>
                <a:srgbClr val="000000"/>
              </a:solidFill>
              <a:latin typeface="Arial"/>
            </a:endParaRPr>
          </a:p>
        </p:txBody>
      </p:sp>
      <p:graphicFrame>
        <p:nvGraphicFramePr>
          <p:cNvPr id="98" name="Object 4"/>
          <p:cNvGraphicFramePr/>
          <p:nvPr/>
        </p:nvGraphicFramePr>
        <p:xfrm>
          <a:off x="1258920" y="1628640"/>
          <a:ext cx="5756400" cy="1838520"/>
        </p:xfrm>
        <a:graphic>
          <a:graphicData uri="http://schemas.openxmlformats.org/presentationml/2006/ole">
            <p:oleObj progId="Word.Document.12" r:id="rId1" spid="">
              <p:embed/>
              <p:pic>
                <p:nvPicPr>
                  <p:cNvPr id="99" name="Object 4" descr=""/>
                  <p:cNvPicPr/>
                  <p:nvPr/>
                </p:nvPicPr>
                <p:blipFill>
                  <a:blip r:embed="rId2"/>
                  <a:stretch/>
                </p:blipFill>
                <p:spPr>
                  <a:xfrm>
                    <a:off x="1258920" y="1628640"/>
                    <a:ext cx="575640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468360" y="549360"/>
            <a:ext cx="835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3"/>
          <p:cNvSpPr/>
          <p:nvPr/>
        </p:nvSpPr>
        <p:spPr>
          <a:xfrm>
            <a:off x="324000" y="404640"/>
            <a:ext cx="8569080" cy="584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2. Mikrofon pojemnościowe (kondensatorow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l-PL" sz="1600" spc="-1" strike="noStrike">
                <a:solidFill>
                  <a:srgbClr val="000000"/>
                </a:solidFill>
                <a:latin typeface="Arial"/>
              </a:rPr>
              <a:t>Mikrofony pojemnościowe stosuje się je głównie w studiach nagrań, szczególnie do nagrywania linii wokalnych jak i instrumentów akustycznych. Wykorzystuje się też je na estradzie nagłaśniając np. chór. Są to urządzenia dużo czulsze niż mikrofony dynamiczne, zbierają zatem więcej detali, których nie są w stanie zarejestrować mikrofony dynamiczne. Szczególnie dobrze tego typu mikrofony rejestrują górną część średniego i wysokie pasmo, nic więc dziwnego, że doskonale rejestrują ludzki głos a także znajdują zastosowanie </a:t>
            </a:r>
            <a:br>
              <a:rPr sz="1600"/>
            </a:br>
            <a:r>
              <a:rPr b="0" lang="pl-PL" sz="1600" spc="-1" strike="noStrike">
                <a:solidFill>
                  <a:srgbClr val="000000"/>
                </a:solidFill>
                <a:latin typeface="Arial"/>
              </a:rPr>
              <a:t>w nagrywaniu instrumentów akustycznyc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ikrofon pojemnościowy jest zbudowany z membrany, która stanowi okładzinę kondensatora. Druga okładzina jest na stałe zamocowana. Aby mikrofon zadziałał musimy naładować ten kondensator ładunkiem elektrycznym. Fala akustyczna powodująca wibrację membrany powoduje zmiany (cykliczne) odległości między okładzinami, a to z kolei powoduje zmiany pojemności tegoż kondensatora. Zmiany pojemności przy stałym ładunku powodują zmiany napięcia na kondensatorze, a więc znów sygnał elektryczny jest proporcjonalny do fali akustyczne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pl-PL" sz="1800" spc="-1" strike="noStrike">
                <a:solidFill>
                  <a:srgbClr val="000000"/>
                </a:solidFill>
                <a:latin typeface="Arial"/>
              </a:rPr>
              <a:t>Budowa mikrofonu pojemnościow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Jednym z rodzajów mikrofonów pojemnościowych są mikrofony lampowe, za pomocą których zarejestrować możemy bardzo ciepłe brzmienie. Konstrukcja mikrofonów kondensatorowych nie jest odporna na uszkodzenia jak w przypadku mikrofonów dynamicznych. Są to bardzo czułe urządzeni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Agnieszka</cp:lastModifiedBy>
  <dcterms:modified xsi:type="dcterms:W3CDTF">2013-09-17T11:25:26Z</dcterms:modified>
  <cp:revision>60</cp:revision>
  <dc:subject/>
  <dc:title>KORPUSKULARNO-FALOWA NATURA ŚWIATŁA</dc:title>
</cp:coreProperties>
</file>