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E2C-FAB3-42B9-9A5D-839A236896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B151-ECEC-44B5-A72E-0D8C51BE6EB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FC3E-7E01-46CE-929D-F53B3909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7A6-746C-476F-AFA8-04E8AEB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0BF-6EC0-49FF-9BBD-3A06B421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D5D-04E6-4289-9956-EAC5457D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F9C-D839-41AF-94A3-5DEFF38E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492-6F9C-4221-B967-4E7494EA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891-6A64-4409-9923-CCA4131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0C7-E962-4AA6-BCF1-7DCA54DB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7BB4-CEC7-4EE7-8478-D0E50ED2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B797-8B0C-4941-BBB2-5824A97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432-FA85-4252-87EE-48B75F9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6EB-52DF-440F-8760-2217110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8005-776D-469F-86C0-D83573A609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ieplozziemi.pl/Odnawialne&#378;r&#243;d&#322;aenergii/Energiawiatrowa.aspx?CategoryId=19" TargetMode="External"/><Relationship Id="rId2" Type="http://schemas.openxmlformats.org/officeDocument/2006/relationships/hyperlink" Target="http://www.cieplozziemi.pl/Odnawialne&#378;r&#243;d&#322;aenergii/Energiageotermalna.aspx?CategoryId=12" TargetMode="External"/><Relationship Id="rId3" Type="http://schemas.openxmlformats.org/officeDocument/2006/relationships/hyperlink" Target="http://ulicaekologiczna.pl/recykling/pieluchy-do-recyklingu/" TargetMode="External"/><Relationship Id="rId4" Type="http://schemas.openxmlformats.org/officeDocument/2006/relationships/hyperlink" Target="http://ulicaekologiczna.pl/technologie/domowe-zrodlo-energii/" TargetMode="External"/><Relationship Id="rId5" Type="http://schemas.openxmlformats.org/officeDocument/2006/relationships/hyperlink" Target="http://ulicaekologiczna.pl/technologie/caly-swiat-oszczedza-energie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1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handoh.com/new/portfolio/bugplu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licaekologiczna.pl/technologie/wikicells-jadalne-opakowania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hyperlink" Target="http://mojaproteza.wordpress.com/2012/11/18/inteligentna-stopa-bioniczna-pro-prio-foot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http://nextgenlog.blogspot.com/2012/07/mems-six-axis-mems-sets-new-sizepower.html" TargetMode="External"/><Relationship Id="rId7" Type="http://schemas.openxmlformats.org/officeDocument/2006/relationships/hyperlink" Target="http://www.invensense.com/mems/gyro/mpu6500.html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hyperlink" Target="http://www.caranddriver.com/photos-11q1/381364/2009-honda-fcx-clarity-powertrain-cutaway-photo-381461" TargetMode="External"/><Relationship Id="rId9" Type="http://schemas.openxmlformats.org/officeDocument/2006/relationships/hyperlink" Target="http://www.caranddriver.com/photos-11q1/381364/2009-honda-fcx-clarity-powertrain-cutaway-photo-381461" TargetMode="External"/><Relationship Id="rId10" Type="http://schemas.openxmlformats.org/officeDocument/2006/relationships/hyperlink" Target="http://automobiles.honda.com/fcx-clarity/" TargetMode="External"/><Relationship Id="rId11" Type="http://schemas.openxmlformats.org/officeDocument/2006/relationships/hyperlink" Target="http://www.green-cars.pl/wiadomosc_silniki_wodorowe__21.html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gadzetomania.pl/2011/06/22/ultraszybka-kolej-magnetyczna-powstanie-w-japonii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ojaproteza.wordpress.com/2012/11/18/inteligentna-stopa-bioniczna-pro-prio-foot/" TargetMode="External"/><Relationship Id="rId2" Type="http://schemas.openxmlformats.org/officeDocument/2006/relationships/hyperlink" Target="http://mojaproteza.wordpress.com/2012/11/18/inteligentna-stopa-bioniczna-pro-prio-foot/" TargetMode="External"/><Relationship Id="rId3" Type="http://schemas.openxmlformats.org/officeDocument/2006/relationships/hyperlink" Target="http://mojaproteza.wordpress.com/2012/11/18/inteligentna-stopa-bioniczna-pro-prio-foot/" TargetMode="External"/><Relationship Id="rId4" Type="http://schemas.openxmlformats.org/officeDocument/2006/relationships/hyperlink" Target="http://mojaproteza.wordpress.com/2012/11/18/inteligentna-stopa-bioniczna-pro-prio-foot/" TargetMode="External"/><Relationship Id="rId5" Type="http://schemas.openxmlformats.org/officeDocument/2006/relationships/hyperlink" Target="http://nextgenlog.blogspot.com/2012/07/mems-six-axis-mems-sets-new-sizepower.html" TargetMode="External"/><Relationship Id="rId6" Type="http://schemas.openxmlformats.org/officeDocument/2006/relationships/hyperlink" Target="http://www.invensense.com/mems/gyro/mpu6500.html" TargetMode="External"/><Relationship Id="rId7" Type="http://schemas.openxmlformats.org/officeDocument/2006/relationships/hyperlink" Target="http://www.invensense.com/mems/gyro/mpu6500.html" TargetMode="External"/><Relationship Id="rId8" Type="http://schemas.openxmlformats.org/officeDocument/2006/relationships/hyperlink" Target="http://www.invensense.com/mems/gyro/mpu6500.html" TargetMode="External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mojaproteza.wordpress.com/2012/11/18/inteligentna-stopa-bioniczna-pro-prio-foot/" TargetMode="External"/><Relationship Id="rId2" Type="http://schemas.openxmlformats.org/officeDocument/2006/relationships/hyperlink" Target="http://nextgenlog.blogspot.com/2012/07/mems-six-axis-mems-sets-new-sizepower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hyperlink" Target="http://pl.wikipedia.org/wiki/Technopolis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98989"/>
                </a:solidFill>
                <a:latin typeface="Calibri"/>
              </a:rPr>
              <a:t>Rodzaje, czynniki lokalizacji, wpływ na środowisko i gospodarkę światow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awrobel\Desktop\Oferty\Akotowicz - geografia\zdjęcia\robot.jpg"/>
          <p:cNvPicPr/>
          <p:nvPr/>
        </p:nvPicPr>
        <p:blipFill>
          <a:blip r:embed="rId3"/>
          <a:srcRect l="13023" t="0" r="0" b="0"/>
          <a:stretch/>
        </p:blipFill>
        <p:spPr>
          <a:xfrm>
            <a:off x="0" y="907920"/>
            <a:ext cx="3130560" cy="352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339640" y="1915920"/>
            <a:ext cx="6551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pływ przemysłu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800" spc="-1" strike="noStrike">
                <a:solidFill>
                  <a:srgbClr val="ffc000"/>
                </a:solidFill>
                <a:latin typeface="Calibri"/>
              </a:rPr>
              <a:t>HIGH</a:t>
            </a:r>
            <a:r>
              <a:rPr b="1" lang="pl-PL" sz="4800" spc="-1" strike="noStrike">
                <a:solidFill>
                  <a:srgbClr val="000000"/>
                </a:solidFill>
                <a:latin typeface="Calibri"/>
              </a:rPr>
              <a:t>-TECH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 nasze ży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1640" y="2133720"/>
            <a:ext cx="432108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lektory słone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ia wiatrowa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1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lektrownie atom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ia geotermalna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2"/>
              </a:rPr>
              <a:t>3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cykling odpadów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3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omowe źródło energii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4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ooszczędne domy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5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Obraz 4" descr="nagłówek_poz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7"/>
          <a:stretch/>
        </p:blipFill>
        <p:spPr>
          <a:xfrm>
            <a:off x="539640" y="1413000"/>
            <a:ext cx="3452760" cy="5163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pływ na środowisko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raz 2" descr="stopka_poz.gif"/>
          <p:cNvPicPr/>
          <p:nvPr/>
        </p:nvPicPr>
        <p:blipFill>
          <a:blip r:embed="rId8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pływ na środowisko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BugPlug</a:t>
            </a:r>
            <a:r>
              <a:rPr b="1" lang="pl-PL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1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mały stworek, który zarządz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rządzeniami elektrycznym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mieszkaniu. Jego czułk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posażone są w czujniki ruchu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tóre wykrywając naszą nieobecność w pomieszczeni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łączają wszystkie urządzenia elektryczne. Takie urządzen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zwala dbać o środowisko i zaoszczędzić na rachunka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 prą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Obraz 2" descr="stopka_poz.gif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8" name="Obraz 4" descr="nagłówek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09" name="Obraz 8" descr="bug plug.jpg"/>
          <p:cNvPicPr/>
          <p:nvPr/>
        </p:nvPicPr>
        <p:blipFill>
          <a:blip r:embed="rId4"/>
          <a:stretch/>
        </p:blipFill>
        <p:spPr>
          <a:xfrm>
            <a:off x="6948360" y="1916280"/>
            <a:ext cx="2195640" cy="4271760"/>
          </a:xfrm>
          <a:prstGeom prst="rect">
            <a:avLst/>
          </a:prstGeom>
          <a:ln w="0">
            <a:noFill/>
          </a:ln>
        </p:spPr>
      </p:pic>
      <p:pic>
        <p:nvPicPr>
          <p:cNvPr id="110" name="Obraz 9" descr="bugplug.jpeg"/>
          <p:cNvPicPr/>
          <p:nvPr/>
        </p:nvPicPr>
        <p:blipFill>
          <a:blip r:embed="rId5"/>
          <a:stretch/>
        </p:blipFill>
        <p:spPr>
          <a:xfrm>
            <a:off x="4022640" y="1916280"/>
            <a:ext cx="287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Wpływ na środowisko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1844280"/>
            <a:ext cx="856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ikiCells - jadalne opakowania </a:t>
            </a:r>
            <a:r>
              <a:rPr b="1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1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ukowcy z Harvardu pracują nad jadalnymi butelkami, których smak będz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aki sam jak ich zawartoś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 tej pory udało się wytworzy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embranę o smaku pomarańczowy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midorowym i winogronow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adalny materiał powsta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biodegradowalnego polimer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ub plastiku i cząstek produktó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żywieniowych. Strukturą przypomina skorupkę jaj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Obraz 2" descr="stopka_poz.gif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14" name="Obraz 4" descr="nagłówek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15" name="Obraz 5" descr="jadalne opakowanie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4572000" y="2565360"/>
            <a:ext cx="44276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Ossur_Proprio_Foot"/>
          <p:cNvPicPr/>
          <p:nvPr/>
        </p:nvPicPr>
        <p:blipFill>
          <a:blip r:embed="rId1"/>
          <a:stretch/>
        </p:blipFill>
        <p:spPr>
          <a:xfrm>
            <a:off x="714240" y="1928880"/>
            <a:ext cx="3714840" cy="3673440"/>
          </a:xfrm>
          <a:prstGeom prst="rect">
            <a:avLst/>
          </a:prstGeom>
          <a:ln w="0">
            <a:noFill/>
          </a:ln>
        </p:spPr>
      </p:pic>
      <p:pic>
        <p:nvPicPr>
          <p:cNvPr id="117" name="Obraz 4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18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jnowsze osiągnięcia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4429080" y="2071800"/>
            <a:ext cx="3857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Inteligentna stopa bioniczna – proteza no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to elektroniczna stopa protetyczna z włókna węgloweg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siłownikiem sterowanym mikroprocesorami zasilanymi zewnętrzną baterią. Użytkownik zwolniony jest z nieustannego kontrolowania ustawienia stopy względem podłoża, gdyż robi to za niego sama proteza.”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4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4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22" name="Obraz 2" descr="stopka_poz.gif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jnowsze osiągnięcia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H:\KPW\Materiały\Grafiki\handset-collection.png"/>
          <p:cNvPicPr/>
          <p:nvPr/>
        </p:nvPicPr>
        <p:blipFill>
          <a:blip r:embed="rId3"/>
          <a:stretch/>
        </p:blipFill>
        <p:spPr>
          <a:xfrm>
            <a:off x="642960" y="1981080"/>
            <a:ext cx="2462040" cy="180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:\KPW\Materiały\Grafiki\tablet-collection.png"/>
          <p:cNvPicPr/>
          <p:nvPr/>
        </p:nvPicPr>
        <p:blipFill>
          <a:blip r:embed="rId4"/>
          <a:stretch/>
        </p:blipFill>
        <p:spPr>
          <a:xfrm>
            <a:off x="5477040" y="2000160"/>
            <a:ext cx="2952720" cy="18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H:\KPW\Materiały\Grafiki\mpu-6500-small sizes.png"/>
          <p:cNvPicPr/>
          <p:nvPr/>
        </p:nvPicPr>
        <p:blipFill>
          <a:blip r:embed="rId5"/>
          <a:stretch/>
        </p:blipFill>
        <p:spPr>
          <a:xfrm>
            <a:off x="3357720" y="2214720"/>
            <a:ext cx="2092320" cy="1981080"/>
          </a:xfrm>
          <a:prstGeom prst="rect">
            <a:avLst/>
          </a:prstGeom>
          <a:ln w="0">
            <a:noFill/>
          </a:ln>
        </p:spPr>
      </p:pic>
      <p:sp>
        <p:nvSpPr>
          <p:cNvPr id="127" name="Left Arrow 10"/>
          <p:cNvSpPr/>
          <p:nvPr/>
        </p:nvSpPr>
        <p:spPr>
          <a:xfrm>
            <a:off x="3214800" y="2786040"/>
            <a:ext cx="428400" cy="285840"/>
          </a:xfrm>
          <a:prstGeom prst="leftArrow">
            <a:avLst>
              <a:gd name="adj1" fmla="val 50000"/>
              <a:gd name="adj2" fmla="val 4995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Arrow 11"/>
          <p:cNvSpPr/>
          <p:nvPr/>
        </p:nvSpPr>
        <p:spPr>
          <a:xfrm rot="10800000">
            <a:off x="4928760" y="2786040"/>
            <a:ext cx="42876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714240" y="3786120"/>
            <a:ext cx="7715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Układy elektromechaniczne w skali mik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siejsze smartfony i tablety posiadają w swojej budowie przynajmniej dwa mikroukłady elektromechaniczne – czujnik przyspieszenia służący do śledzenia ruchu w grach i rozpoznawania gestów oraz mikrożyroskop  do rozpoznawania pozycji ekranu (pion/poziom). Wszystko to zamknięte w jednym chipie o wymiarach 3mm x 3mm x 0,9mm.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6"/>
              </a:rPr>
              <a:t>10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7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H:\KPW\Materiały\Grafiki\df4888a75_bmw_hydrogen_7.jpg"/>
          <p:cNvPicPr/>
          <p:nvPr/>
        </p:nvPicPr>
        <p:blipFill>
          <a:blip r:embed="rId1"/>
          <a:srcRect l="1116" t="4405" r="1754" b="5288"/>
          <a:stretch/>
        </p:blipFill>
        <p:spPr>
          <a:xfrm>
            <a:off x="312840" y="1571760"/>
            <a:ext cx="3863880" cy="2643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:\KPW\Materiały\Grafiki\2009-honda-fcx-clarity-powertrain-cutaway-photo-381461-s-1280x782.jpg"/>
          <p:cNvPicPr/>
          <p:nvPr/>
        </p:nvPicPr>
        <p:blipFill>
          <a:blip r:embed="rId2"/>
          <a:stretch/>
        </p:blipFill>
        <p:spPr>
          <a:xfrm>
            <a:off x="5072040" y="1857240"/>
            <a:ext cx="3689280" cy="2254320"/>
          </a:xfrm>
          <a:prstGeom prst="rect">
            <a:avLst/>
          </a:prstGeom>
          <a:ln w="0">
            <a:noFill/>
          </a:ln>
        </p:spPr>
      </p:pic>
      <p:pic>
        <p:nvPicPr>
          <p:cNvPr id="132" name="Obraz 4" descr="nagłówek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33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jnowsze osiągnięcia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http://www.bmw.com/com/en/_common/shared/img/id_moduls.png"/>
          <p:cNvPicPr/>
          <p:nvPr/>
        </p:nvPicPr>
        <p:blipFill>
          <a:blip r:embed="rId5"/>
          <a:srcRect l="56164" t="8950" r="11338" b="33174"/>
          <a:stretch/>
        </p:blipFill>
        <p:spPr>
          <a:xfrm>
            <a:off x="3286080" y="2000160"/>
            <a:ext cx="57960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http://automobiles.honda.com/images/_controls/global-header/honda-logo-off.gif"/>
          <p:cNvPicPr/>
          <p:nvPr/>
        </p:nvPicPr>
        <p:blipFill>
          <a:blip r:embed="rId6"/>
          <a:stretch/>
        </p:blipFill>
        <p:spPr>
          <a:xfrm>
            <a:off x="5214960" y="2071800"/>
            <a:ext cx="695160" cy="4856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11" descr=""/>
          <p:cNvPicPr/>
          <p:nvPr/>
        </p:nvPicPr>
        <p:blipFill>
          <a:blip r:embed="rId7"/>
          <a:stretch/>
        </p:blipFill>
        <p:spPr>
          <a:xfrm>
            <a:off x="3859200" y="1932120"/>
            <a:ext cx="1554120" cy="11397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12"/>
          <p:cNvSpPr/>
          <p:nvPr/>
        </p:nvSpPr>
        <p:spPr>
          <a:xfrm>
            <a:off x="714240" y="3786120"/>
            <a:ext cx="7715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Napęd wodorowy w przemyśle samochodow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odór jest jednym z najbardziej ekologicznych paliw alternatywnych, gdyż w procesie utleniania  powstaje jedynie para wodna i ciepł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e być paliwem dla silnika spalinowego (BMW Hydrogen 7) lub jako składnik procesu utleniania,  w wyniku którego powstaje energia elektryczna do zasilania silnika  elektrycznego (Honda FCX Clarity).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8"/>
              </a:rPr>
              <a:t>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9"/>
              </a:rPr>
              <a:t>12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10"/>
              </a:rPr>
              <a:t>13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11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Obraz 4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50920" y="1773000"/>
            <a:ext cx="4968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apońska kolej elektromagnetyczna </a:t>
            </a:r>
            <a:r>
              <a:rPr b="1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2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jważniejsze miasta Japonii do 2027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zostaną połączone siecią lewitujących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pociągów pędzących z nieprawdopodobn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prędkością, nawet 500 km/h. Kolej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magnetyczna to rozwiązanie, które pozwal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stworzyć </a:t>
            </a: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najszybsze połączenia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 kolejow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 świecie. Pociąg, zamiast jeździć po torach,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Calibri"/>
              </a:rPr>
              <a:t>unosi się dzięki elektromagnesom</a:t>
            </a: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, któr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znacznie ograniczają tarcie i pozwalają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na rozwijanie większych prędkości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jnowsze osiągnięcia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az 5" descr="Kolej.jpg"/>
          <p:cNvPicPr/>
          <p:nvPr/>
        </p:nvPicPr>
        <p:blipFill>
          <a:blip r:embed="rId4"/>
          <a:srcRect l="0" t="0" r="12945" b="0"/>
          <a:stretch/>
        </p:blipFill>
        <p:spPr>
          <a:xfrm>
            <a:off x="4788000" y="2133720"/>
            <a:ext cx="435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Obraz 4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awrobel\Downloads\zdjęcia\łamigłówka.jpg"/>
          <p:cNvPicPr/>
          <p:nvPr/>
        </p:nvPicPr>
        <p:blipFill>
          <a:blip r:embed="rId2"/>
          <a:srcRect l="6511" t="21541" r="4216" b="16537"/>
          <a:stretch/>
        </p:blipFill>
        <p:spPr>
          <a:xfrm rot="18711000">
            <a:off x="-475200" y="2553120"/>
            <a:ext cx="5335560" cy="246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3634920" y="220464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emysł wysokich technolo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igh-te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chnopol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lina krzemo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orn glo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raz 4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50" name="Obraz 2" descr="stopka_poz.gif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8400" y="2071800"/>
            <a:ext cx="8218440" cy="37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l.wikipedia.org/wiki/Technopol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cieplozziemi.pl/Odnawialne%C5%BAr%C3%B3d%C5%82aenergii/Energiawiatrowa.aspx?CategoryId=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ieplozziemi.pl/Odnawialne%C5%BAr%C3%B3d%C5%82aenergii/Energiageotermalna.aspx?CategoryId=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ulicaekologiczna.pl/recykling/pieluchy-do-recyklingu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ulicaekologiczna.pl/technologie/domowe-zrodlo-energii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licaekologiczna.pl/technologie/caly-swiat-oszczedza-energi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ahandoh.com/new/portfolio/bugplug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ulicaekologiczna.pl/technologie/wikicells-jadalne-opakowania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az 2" descr="stopka_poz.gif"/>
          <p:cNvPicPr/>
          <p:nvPr/>
        </p:nvPicPr>
        <p:blipFill>
          <a:blip r:embed="rId9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55" name="Obraz 4" descr="nagłówek_poz.gif"/>
          <p:cNvPicPr/>
          <p:nvPr/>
        </p:nvPicPr>
        <p:blipFill>
          <a:blip r:embed="rId10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Users\awrobel\Desktop\Oferty\Akotowicz - geografia\zdjęcia\spinacz.jpg"/>
          <p:cNvPicPr/>
          <p:nvPr/>
        </p:nvPicPr>
        <p:blipFill>
          <a:blip r:embed="rId2"/>
          <a:srcRect l="23147" t="0" r="0" b="0"/>
          <a:stretch/>
        </p:blipFill>
        <p:spPr>
          <a:xfrm>
            <a:off x="0" y="1268280"/>
            <a:ext cx="2633760" cy="5145120"/>
          </a:xfrm>
          <a:prstGeom prst="rect">
            <a:avLst/>
          </a:prstGeom>
          <a:ln w="0">
            <a:noFill/>
          </a:ln>
        </p:spPr>
      </p:pic>
      <p:pic>
        <p:nvPicPr>
          <p:cNvPr id="57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158560" y="2133720"/>
            <a:ext cx="6985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rzemysł high-tech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Nazewnictwo i nomenkla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echy przemysłu high-t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zynniki lokaliza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dzaje przemysłu high-te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ykładowe ośrod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pływa na środowis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jnowsze osiągnię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Bibliografia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. C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94920" y="1773360"/>
            <a:ext cx="82184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ojaproteza.wordpress.com/2012/11/18/inteligentna-stopa-bioniczna-pro-prio-foot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nextgenlog.blogspot.com/2012/07/mems-six-axis-mems-sets-new-sizepower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invensense.com/mems/gyro/mpu650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caranddriver.com/photos-11q1/381364/2009-honda-fcx-clarity-powertrain-cutaway-photo-38146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automobiles.honda.com/fcx-clarity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www.green-cars.pl/wiadomosc_silniki_wodorowe__21.htm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ttp://gadzetomania.pl/2011/06/22/ultraszybka-kolej-magnetyczna-powstanie-w-japon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jęcia http://sxc.hu/  oraz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www.photo-dictionary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59" name="Obraz 4" descr="nagłówek_poz.gif"/>
          <p:cNvPicPr/>
          <p:nvPr/>
        </p:nvPicPr>
        <p:blipFill>
          <a:blip r:embed="rId4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C:\Users\awrobel\Desktop\Oferty\Akotowicz - geografia\zdjęcia\dmuchawiec.jpg"/>
          <p:cNvPicPr/>
          <p:nvPr/>
        </p:nvPicPr>
        <p:blipFill>
          <a:blip r:embed="rId2"/>
          <a:srcRect l="0" t="0" r="16441" b="0"/>
          <a:stretch/>
        </p:blipFill>
        <p:spPr>
          <a:xfrm>
            <a:off x="4059360" y="1571760"/>
            <a:ext cx="5084640" cy="4564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Przemysł high-tech. </a:t>
            </a:r>
            <a:br>
              <a:rPr sz="40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zewnictwo i nomenklatu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1280" y="2421000"/>
            <a:ext cx="81468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literaturze/ publikacjach zagrani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igh-tech lub High-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 Pols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mysł wysokich technologii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awansowanych technologii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j technologii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arty na nowych technologi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mysł high-tech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280" y="2276280"/>
            <a:ext cx="8147160" cy="36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g Komisji Europejskiej to przedsiębiorstwa wysoko innowacyjne, intensywnie działające w obszarze badań i rozwoju wykorzystujące kompleksową technologię produk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g GUS-u to dziedziny i wyroby odznaczające się wysoką intensywnością badawczo-rozwojową, wysokim poziomem innowacyjności, krótkim cyklem życia wyrobów i procesów, zapotrzebowaniem na wysoko wykwalifikowaną kadrę, dużymi nakładami kapitałowymi, wysokim ryzykiem inwestycyjnym, ścisłą współpracą naukowo-badawcz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70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2184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mysł high-tech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Cec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awrobel\Desktop\Oferty\Akotowicz - geografia\zdjęcia\skarbonka.jpg"/>
          <p:cNvPicPr/>
          <p:nvPr/>
        </p:nvPicPr>
        <p:blipFill>
          <a:blip r:embed="rId3"/>
          <a:srcRect l="0" t="0" r="11563" b="0"/>
          <a:stretch/>
        </p:blipFill>
        <p:spPr>
          <a:xfrm>
            <a:off x="5435640" y="2060640"/>
            <a:ext cx="3708360" cy="4275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8000" y="2204640"/>
            <a:ext cx="8218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mpleksowa technologia produkc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 poziom innowacyjnośc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nie w obszarze badań i rozwo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rótkie cykle życia produktów/ proces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a kapitałochłonnoś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bardzo wysokie koszty badań naukowyc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o wykwalifikowana kadra pracownicz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ska materiałochłonność/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 wymaga rozbudowanego zaplecza dot. bazy surowcowej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okie ryzyko inwestycyj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wrobel\Desktop\Oferty\Akotowicz - geografia\zdjęcia\thumb thak.jpg"/>
          <p:cNvPicPr/>
          <p:nvPr/>
        </p:nvPicPr>
        <p:blipFill>
          <a:blip r:embed="rId1">
            <a:lum contrast="20000"/>
          </a:blip>
          <a:srcRect l="0" t="0" r="10529" b="0"/>
          <a:stretch/>
        </p:blipFill>
        <p:spPr>
          <a:xfrm>
            <a:off x="0" y="549360"/>
            <a:ext cx="3780000" cy="5715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887280" y="2060280"/>
            <a:ext cx="5256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specjalizowana kad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plecze naukow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uniwersytety, placówki naukowe i badawc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apita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ąsiedztwo firm z pokrewnych bran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frastruktura komunikacyj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drowe środowisk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trakcyjny krajobraz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arunkujący efektywnoś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raz 2" descr="stopka_poz.gif"/>
          <p:cNvPicPr/>
          <p:nvPr/>
        </p:nvPicPr>
        <p:blipFill>
          <a:blip r:embed="rId2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nniki lokaliz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5" descr="nagłówek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3851280" y="2349000"/>
            <a:ext cx="396072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hemi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Farmaceuty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edyczny i biotechnologi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lektroniczn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Elektrotechni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Lotniczy i kosmicz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ecyzyjny i zbrojeniow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n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awrobel\Desktop\Oferty\Akotowicz - geografia\zdjęcia\papilarne.jpg"/>
          <p:cNvPicPr/>
          <p:nvPr/>
        </p:nvPicPr>
        <p:blipFill>
          <a:blip r:embed="rId2"/>
          <a:srcRect l="0" t="0" r="10142" b="0"/>
          <a:stretch/>
        </p:blipFill>
        <p:spPr>
          <a:xfrm>
            <a:off x="755640" y="1557360"/>
            <a:ext cx="3059280" cy="470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Rodzaje przemysłu high-te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awrobel\Desktop\Oferty\Akotowicz - geografia\zdjęcia\orange.jpg"/>
          <p:cNvPicPr/>
          <p:nvPr/>
        </p:nvPicPr>
        <p:blipFill>
          <a:blip r:embed="rId2"/>
          <a:srcRect l="0" t="0" r="14523" b="0"/>
          <a:stretch/>
        </p:blipFill>
        <p:spPr>
          <a:xfrm>
            <a:off x="4067280" y="1341360"/>
            <a:ext cx="5076720" cy="4452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8000" y="1773000"/>
            <a:ext cx="8218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licon Valley – Dolina Krzemowa (Kalifornia - U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licon Glen (Edynburg - Szkoc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ute 128 (Boston - U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nge C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un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okolice Los Angeles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- U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ophia Antipolis (Nicea - Franc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licon Prairies (Teksas - US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owy Jork, Chica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ilicon Geor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aryż, Londy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aipei, Toky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nne </a:t>
            </a:r>
            <a:r>
              <a:rPr b="0" lang="pl-PL" sz="2000" spc="-1" strike="noStrike" u="sng" baseline="30000">
                <a:solidFill>
                  <a:srgbClr val="0000ff"/>
                </a:solidFill>
                <a:uFillTx/>
                <a:latin typeface="Calibri"/>
                <a:hlinkClick r:id="rId3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942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kładowe ośrod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:\KPW\Materiały\Grafiki\Mapa.jpg"/>
          <p:cNvPicPr/>
          <p:nvPr/>
        </p:nvPicPr>
        <p:blipFill>
          <a:blip r:embed="rId1"/>
          <a:stretch/>
        </p:blipFill>
        <p:spPr>
          <a:xfrm>
            <a:off x="928800" y="1571760"/>
            <a:ext cx="7105680" cy="4830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942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ykładowe ośrod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99" name="Obraz 2" descr="stopka_poz.gif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Windows-Benutzer</cp:lastModifiedBy>
  <dcterms:modified xsi:type="dcterms:W3CDTF">2013-08-10T19:51:36Z</dcterms:modified>
  <cp:revision>177</cp:revision>
  <dc:subject/>
  <dc:title>Slajd 1</dc:title>
</cp:coreProperties>
</file>