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AF6F-62AE-4235-9A31-AD8F09B3D71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479D-7D69-46B6-A1CE-BF4C7424DB9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9ED2-99DA-406A-9C54-66152977C4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511D8-1144-4AB1-89DA-38D9B6040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67FC6-7722-4FC3-8AF5-203C09B62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CE192-E665-4516-9826-CFC86822C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8A4FC-7A5A-4808-B67D-241262BDC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C7969-382B-4771-BA4A-5D78B48CD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31EB4-6ADC-4A1D-A2F2-CBE0EDE36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24EA8-30B6-4E8A-8FDA-BB204C6B1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205B3-5E0C-4138-8A1D-71ADFA73D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CCBBF-A73D-4D5C-BE6C-14CB115ED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30572-2AFE-4D48-B972-BC457CF61C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6C06-8032-4F0F-A578-45930076A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CEA2B-D069-479C-B93B-C140B164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629A4-6A22-45AE-A083-08BE4FA61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46A53-1191-4121-B35E-71EBCA265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05408-A80E-4155-A050-9AC6646E0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809CC-76EB-4286-AD54-614B65C7D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90D82-AB10-4A6D-BB2D-7497867BB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C98A-9A0C-40D4-A777-BA9A4C28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2BC9D-EB72-4253-A76C-75BDE2AA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6B353-6A5F-492F-830B-A88BDEA3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EBCA-FF2A-445A-9F29-C2CE479B3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6E20C-D80E-41B3-92BA-2A6C41DF6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73AA3-3ABF-4AEC-B68C-F8FEDEBE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3B353-A813-47C8-B8D2-6967B7D78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6776-BFE7-429A-B1D9-B8342D98C0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A4B5-A505-40DF-9EED-7936FF14A3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Mechanizm efektu cieplarnianego</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omieniowanie cieplne stanowi strumień energii w postaci fal elektromagnetycznych emitowanych przez każde ciało które posiada temperaturę większą od zera bezwzględnego (zero Kelwinów). Prawo Wiena mówi, że im wyższa temperatura ciała, tym wypromieniuje ono fale elektromagnetyczne o  mniejszej długoś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hanizm efektu cieplarnianego</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łońce</a:t>
            </a:r>
            <a:r>
              <a:rPr b="0" lang="pl-PL" sz="2400" spc="-1" strike="noStrike">
                <a:solidFill>
                  <a:srgbClr val="000000"/>
                </a:solidFill>
                <a:latin typeface="Calibri"/>
              </a:rPr>
              <a:t> emituje promieniowanie elektromagnetyczne, którego widmo przypomina widmo promieniowania ciała doskonale czarnego o temperaturze 5780K.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Ziemia</a:t>
            </a:r>
            <a:r>
              <a:rPr b="0" lang="pl-PL" sz="2400" spc="-1" strike="noStrike">
                <a:solidFill>
                  <a:srgbClr val="000000"/>
                </a:solidFill>
                <a:latin typeface="Calibri"/>
              </a:rPr>
              <a:t> również emituje promieniowanie cieplne którego promieniowanie ma rozkład zbliżony do promieniowania ciała doskonale czarnego w temperaturze 287K.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onieważ temperatura Słońca i Ziemi znacznie się różnią, więc wypromieniowują energię cieplną w postaci fal elektromagnetycznych o różnych długościach.  Zgodnie z prawem Wiena maksymalne natężenie promieniowania Słońce osiąga dla fal o długości 0,5mm, natomiast Ziemia promieniuje falami o szczytowym natężeniu w punkcie 10m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259920"/>
            <a:ext cx="8229600" cy="59770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iemia wraz z jej atmosferą znajduje się w przestrzeni kosmicznej będącej próżnią.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ymiana energii cieplnej Ziemi z jej otoczeniem odbywa się głównie poprzez promieniowanie fal elektromagnetycznych.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jistotniejszymi składnikami </a:t>
            </a:r>
            <a:r>
              <a:rPr b="1" lang="en-US" sz="3200" spc="-1" strike="noStrike">
                <a:solidFill>
                  <a:srgbClr val="000000"/>
                </a:solidFill>
                <a:latin typeface="Calibri"/>
              </a:rPr>
              <a:t>bilansu energetycznego Ziemi</a:t>
            </a:r>
            <a:r>
              <a:rPr b="0" lang="en-US" sz="3200" spc="-1" strike="noStrike">
                <a:solidFill>
                  <a:srgbClr val="000000"/>
                </a:solidFill>
                <a:latin typeface="Calibri"/>
              </a:rPr>
              <a:t> są docierające do niej </a:t>
            </a:r>
            <a:r>
              <a:rPr b="0" lang="en-US" sz="3200" spc="-1" strike="noStrike">
                <a:solidFill>
                  <a:srgbClr val="ff0000"/>
                </a:solidFill>
                <a:latin typeface="Calibri"/>
              </a:rPr>
              <a:t>promieniowanie słoneczne</a:t>
            </a:r>
            <a:r>
              <a:rPr b="0" lang="en-US" sz="3200" spc="-1" strike="noStrike">
                <a:solidFill>
                  <a:srgbClr val="000000"/>
                </a:solidFill>
                <a:latin typeface="Calibri"/>
              </a:rPr>
              <a:t> oraz </a:t>
            </a:r>
            <a:r>
              <a:rPr b="0" lang="en-US" sz="3200" spc="-1" strike="noStrike">
                <a:solidFill>
                  <a:srgbClr val="0000ff"/>
                </a:solidFill>
                <a:latin typeface="Calibri"/>
              </a:rPr>
              <a:t>energia cieplna wysyłana przez Ziemię</a:t>
            </a:r>
            <a:r>
              <a:rPr b="0" lang="en-US" sz="3200" spc="-1" strike="noStrike">
                <a:solidFill>
                  <a:srgbClr val="000000"/>
                </a:solidFill>
                <a:latin typeface="Calibri"/>
              </a:rPr>
              <a:t> w przestrzeń kosmiczną.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68360" y="259920"/>
            <a:ext cx="8229600" cy="6048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Zasada równowagi termicznej</a:t>
            </a:r>
            <a:r>
              <a:rPr b="0" lang="en-US" sz="2800" spc="-1" strike="noStrike">
                <a:solidFill>
                  <a:srgbClr val="000000"/>
                </a:solidFill>
                <a:latin typeface="Calibri"/>
              </a:rPr>
              <a:t> każdej planety polega na tym, że jeśli stała jest ilość energii docierającej do niej, wówczas ustala się jej średnia temperatura, co oznacza, że </a:t>
            </a:r>
            <a:r>
              <a:rPr b="1" lang="en-US" sz="2800" spc="-1" strike="noStrike">
                <a:solidFill>
                  <a:srgbClr val="000000"/>
                </a:solidFill>
                <a:latin typeface="Calibri"/>
              </a:rPr>
              <a:t>suma energii pobieranej jest równa energii oddawanej przez tą planetę</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 takiej sytuacji średnia temperatura planety nie zmienia się. </a:t>
            </a: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 przypadku, gdy zwiększy się ilość energii docierającej do powierzchni planety lub zmniejszy ilość oddawanej, wówczas bilans energetyczny planety jest dodatni, czego skutkiem jest </a:t>
            </a:r>
            <a:r>
              <a:rPr b="1" lang="en-US" sz="2800" spc="-1" strike="noStrike">
                <a:solidFill>
                  <a:srgbClr val="000000"/>
                </a:solidFill>
                <a:latin typeface="Calibri"/>
              </a:rPr>
              <a:t>wzrost średniej temperatury planety</a:t>
            </a:r>
            <a:r>
              <a:rPr b="0" lang="en-US" sz="2800" spc="-1" strike="noStrike">
                <a:solidFill>
                  <a:srgbClr val="000000"/>
                </a:solidFill>
                <a:latin typeface="Calibri"/>
              </a:rPr>
              <a:t>. Wówczas planeta dąży do osiągnięcia stanu równowagi odpowiadającemu aktualnym warunkom poprzez wzrost średniej temperatu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Zobaczmy, co wpływa na bilans energetyczny Ziemi</a:t>
            </a:r>
            <a:endParaRPr b="0" lang="en-US" sz="4000" spc="-1" strike="noStrike">
              <a:solidFill>
                <a:srgbClr val="000000"/>
              </a:solidFill>
              <a:latin typeface="Calibri"/>
            </a:endParaRPr>
          </a:p>
        </p:txBody>
      </p:sp>
      <p:pic>
        <p:nvPicPr>
          <p:cNvPr id="124" name="Symbol zastępczy tekstu 2" descr=""/>
          <p:cNvPicPr/>
          <p:nvPr/>
        </p:nvPicPr>
        <p:blipFill>
          <a:blip r:embed="rId1"/>
          <a:stretch/>
        </p:blipFill>
        <p:spPr>
          <a:xfrm>
            <a:off x="2340000" y="1413000"/>
            <a:ext cx="4487760" cy="4525920"/>
          </a:xfrm>
          <a:prstGeom prst="rect">
            <a:avLst/>
          </a:prstGeom>
          <a:ln w="0">
            <a:noFill/>
          </a:ln>
        </p:spPr>
      </p:pic>
      <p:sp>
        <p:nvSpPr>
          <p:cNvPr id="125" name=""/>
          <p:cNvSpPr/>
          <p:nvPr/>
        </p:nvSpPr>
        <p:spPr>
          <a:xfrm>
            <a:off x="395280" y="5950080"/>
            <a:ext cx="828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ea typeface="Arial"/>
              </a:rPr>
              <a:t>Autor: Robert A.Rhode, źródło:  http://pl.wikipedia.org/wiki/Plik:595px-Atmospheric_TransmissionPL.p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jpierw przyjrzyjmy się, jaki rodzaj promieniowania dociera do Ziemi. Czerwony fragment wykresu pokazuje, że promieniowanie słoneczne to głównie podczerwień i światło widzialne. Jest to zgodne z prawem Wiena, ponieważ temperatura Słońca jest wysoka, zatem jego promieniowanie ma wysoką częstotliwość.</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obaczmy zatem, jakim rodzajem promieniowania promieniuje powierzchnia Ziemi. Ponieważ jej powierzchnia jest nieporównywalnie mniejsza od temperatury Słońca, zatem i fale promieniowania są znacznie dłuższe. Ziemia promieniuje falami w zakresie podczerwieni. Ze względu na to, że temperatura powierzchni Ziemi jest różna w różnych miejscach, na wykresie widzimy trzy linie. Środkowa wskazuje na średnią temperaturę, pozostałe na wartości graniczne.</a:t>
            </a:r>
            <a:endParaRPr b="0" lang="en-US" sz="1800" spc="-1" strike="noStrike">
              <a:solidFill>
                <a:srgbClr val="000000"/>
              </a:solidFill>
              <a:latin typeface="Calibri"/>
            </a:endParaRPr>
          </a:p>
        </p:txBody>
      </p:sp>
      <p:pic>
        <p:nvPicPr>
          <p:cNvPr id="128" name="" descr=""/>
          <p:cNvPicPr/>
          <p:nvPr/>
        </p:nvPicPr>
        <p:blipFill>
          <a:blip r:embed="rId1"/>
          <a:stretch/>
        </p:blipFill>
        <p:spPr>
          <a:xfrm>
            <a:off x="971640" y="260280"/>
            <a:ext cx="7273800" cy="275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ójrzmy dalej. Większość promieniowania słonecznego dociera do Ziemi. Widzimy, że jedynie część widma w zakresie promieniowania UV jest rozpraszana przez atmosferę (odpowiedzialna za to jest warstwa ozonu).</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dzimy także, że promieniowanie Ziemi o największej długości fali jest rozpraszane w atmosferze, czyli nie wydostaje się przez nią na zewnątrz.</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eżeli do Ziemi dociera więcej promieniowania niż ją opuszcza, to oznacza, że bilans energetyczny Ziemi jest dodatni. Na Ziemi jest po prostu cieplej.</a:t>
            </a:r>
            <a:endParaRPr b="0" lang="en-US" sz="2000" spc="-1" strike="noStrike">
              <a:solidFill>
                <a:srgbClr val="000000"/>
              </a:solidFill>
              <a:latin typeface="Calibri"/>
            </a:endParaRPr>
          </a:p>
        </p:txBody>
      </p:sp>
      <p:pic>
        <p:nvPicPr>
          <p:cNvPr id="131" name="" descr=""/>
          <p:cNvPicPr/>
          <p:nvPr/>
        </p:nvPicPr>
        <p:blipFill>
          <a:blip r:embed="rId1"/>
          <a:stretch/>
        </p:blipFill>
        <p:spPr>
          <a:xfrm>
            <a:off x="1835280" y="189000"/>
            <a:ext cx="5343480" cy="3066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en wykres pokazuje, które gazy są odpowiedzialne na rozpraszanie promieniowania ziemskiego. Spróbujcie sami odczytać to z wykresu. Te gazy obecne w atmosferze nazywamy gazami cieplarnianymi. Dzięki nim nie całe ciepło emitowane przez Ziemię ucieka w kosmos.</a:t>
            </a:r>
            <a:endParaRPr b="0" lang="en-US" sz="2000" spc="-1" strike="noStrike">
              <a:solidFill>
                <a:srgbClr val="000000"/>
              </a:solidFill>
              <a:latin typeface="Calibri"/>
            </a:endParaRPr>
          </a:p>
        </p:txBody>
      </p:sp>
      <p:pic>
        <p:nvPicPr>
          <p:cNvPr id="134" name="" descr=""/>
          <p:cNvPicPr/>
          <p:nvPr/>
        </p:nvPicPr>
        <p:blipFill>
          <a:blip r:embed="rId1"/>
          <a:stretch/>
        </p:blipFill>
        <p:spPr>
          <a:xfrm>
            <a:off x="1619280" y="189000"/>
            <a:ext cx="5562720" cy="4962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 prezentacji</a:t>
            </a:r>
            <a:endParaRPr b="0" lang="en-US" sz="4400" spc="-1" strike="noStrike">
              <a:solidFill>
                <a:srgbClr val="000000"/>
              </a:solidFill>
              <a:latin typeface="Calibri"/>
            </a:endParaRPr>
          </a:p>
        </p:txBody>
      </p:sp>
      <p:sp>
        <p:nvSpPr>
          <p:cNvPr id="98"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Co to jest efekt cieplarniany</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lhelm Wien i jego prawo promieniowania</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echanizm efektu cieplarnianeg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 to jest efekt cieplarniany?</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żdy z Was słyszał o efekcie cieplarnianym. Temat ten pojawia się często w negatywnym kontekście, przedstawiając efekt cieplarniany jako zagrożenie. Mało kto zdaje sobie jednak sprawę, że jest to </a:t>
            </a:r>
            <a:r>
              <a:rPr b="1" lang="en-US" sz="3200" spc="-1" strike="noStrike">
                <a:solidFill>
                  <a:srgbClr val="000000"/>
                </a:solidFill>
                <a:latin typeface="Calibri"/>
              </a:rPr>
              <a:t>zjawisko naturalne</a:t>
            </a:r>
            <a:r>
              <a:rPr b="0" lang="en-US" sz="3200" spc="-1" strike="noStrike">
                <a:solidFill>
                  <a:srgbClr val="000000"/>
                </a:solidFill>
                <a:latin typeface="Calibri"/>
              </a:rPr>
              <a:t>. Niebezpieczne jest jedynie tempo jego wzrostu, które od czasów rewolucji przemysłowej nienaturalnie przyspieszył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dyby nie efekt cieplarniany, to średnia temperatura na powierzchni Ziemi wynosiłaby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a:t>
            </a:r>
            <a:r>
              <a:rPr b="0" lang="en-US" sz="3200" spc="-1" strike="noStrike" baseline="30000">
                <a:solidFill>
                  <a:srgbClr val="000000"/>
                </a:solidFill>
                <a:latin typeface="Calibri"/>
              </a:rPr>
              <a:t>o</a:t>
            </a:r>
            <a:r>
              <a:rPr b="0" lang="en-US" sz="3200" spc="-1" strike="noStrike">
                <a:solidFill>
                  <a:srgbClr val="000000"/>
                </a:solidFill>
                <a:latin typeface="Calibri"/>
              </a:rPr>
              <a:t>C, skutecznie uniemożliwiając rozwój wszelakiej formy życia. Ponieważ jednak ciepło wypromieniowywane przez Ziemię jest zatrzymywane w atmosferze przez warstwę tzw. gazów szklarniowych, to temperatura ta wynosi około 15</a:t>
            </a:r>
            <a:r>
              <a:rPr b="0" lang="en-US" sz="3200" spc="-1" strike="noStrike" baseline="30000">
                <a:solidFill>
                  <a:srgbClr val="000000"/>
                </a:solidFill>
                <a:latin typeface="Calibri"/>
              </a:rPr>
              <a:t>o</a:t>
            </a:r>
            <a:r>
              <a:rPr b="0" lang="en-US" sz="3200" spc="-1" strike="noStrike">
                <a:solidFill>
                  <a:srgbClr val="000000"/>
                </a:solidFill>
                <a:latin typeface="Calibri"/>
              </a:rPr>
              <a:t>C.</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648320" y="333000"/>
            <a:ext cx="4038480" cy="6048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kazuje się jednak, że tempo wzrostu temperatury jest zbyt szybkie, co powoduje zmiany klimatu, takie jak topnienie lodowców w obszarach ich występowania oraz susze i klęski głodu na terenach okołorównikowych.</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laczego temperatura wzrasta?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ość gazów cieplarnianych, szczególnie CO2, wzrasta zbyt szybko, co spowodowane jest między innymi działalnością człowieka.</a:t>
            </a:r>
            <a:endParaRPr b="0" lang="en-US" sz="2400" spc="-1" strike="noStrike">
              <a:solidFill>
                <a:srgbClr val="000000"/>
              </a:solidFill>
              <a:latin typeface="Calibri"/>
            </a:endParaRPr>
          </a:p>
        </p:txBody>
      </p:sp>
      <p:pic>
        <p:nvPicPr>
          <p:cNvPr id="105" name="" descr=""/>
          <p:cNvPicPr/>
          <p:nvPr/>
        </p:nvPicPr>
        <p:blipFill>
          <a:blip r:embed="rId1"/>
          <a:stretch/>
        </p:blipFill>
        <p:spPr>
          <a:xfrm>
            <a:off x="468360" y="333360"/>
            <a:ext cx="3960720" cy="2639880"/>
          </a:xfrm>
          <a:prstGeom prst="rect">
            <a:avLst/>
          </a:prstGeom>
          <a:ln w="0">
            <a:noFill/>
          </a:ln>
        </p:spPr>
      </p:pic>
      <p:pic>
        <p:nvPicPr>
          <p:cNvPr id="106" name="Symbol zastępczy tekstu 2" descr=""/>
          <p:cNvPicPr/>
          <p:nvPr/>
        </p:nvPicPr>
        <p:blipFill>
          <a:blip r:embed="rId2"/>
          <a:stretch/>
        </p:blipFill>
        <p:spPr>
          <a:xfrm>
            <a:off x="468360" y="3409920"/>
            <a:ext cx="3959280" cy="263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Calibri"/>
              </a:rPr>
              <a:t>Wilhelm Wien i jego prawo promieniowania</a:t>
            </a:r>
            <a:endParaRPr b="0" lang="en-US" sz="4000" spc="-1" strike="noStrike">
              <a:solidFill>
                <a:srgbClr val="000000"/>
              </a:solidFill>
              <a:latin typeface="Calibri"/>
            </a:endParaRPr>
          </a:p>
        </p:txBody>
      </p:sp>
      <p:sp>
        <p:nvSpPr>
          <p:cNvPr id="10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ilhelm Wien, (1864 - 1928) niemiecki fizyk. Badał odchylenia promieniowania kanalikowego w polu magnetycznym i elektrycznym, wyznaczył stosunek ładunku do masy cząstki tego promieniowania. W 1893 wyznaczył wzór opisujący rozkład energii emitowanej przez ciało doskonale czarne, oraz sformułował prawa opisujące własności promieniowania cieplnego. W 1911 otrzymał nagrodę Nobla  z fizyki za odkrycia w zakresie analizy widmowej.</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323640" y="333000"/>
            <a:ext cx="8569080" cy="5792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ierwsze prawo Wiena, tzw. prawo przesunięć Wiena, określa zmianę położenia widma natężenia promieniowania cieplnego przy zmianie temperatury. Mówi ono, że iloczyn długości fali światła odpowiadającej maksymalnemu natężeniu promieniowania cieplnego ciała doskonale czarnego znajdującego się w określonej temperaturze bezwzględnej i tej temperatury jest stały, co można zapisać następującym wzorem:</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400" spc="-1" strike="noStrike">
                <a:solidFill>
                  <a:srgbClr val="000000"/>
                </a:solidFill>
                <a:latin typeface="Calibri"/>
              </a:rPr>
              <a:t>λmax*T=const</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Gdzie :</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onst</a:t>
            </a:r>
            <a:r>
              <a:rPr b="0" lang="pl-PL" sz="2400" spc="-1" strike="noStrike">
                <a:solidFill>
                  <a:srgbClr val="000000"/>
                </a:solidFill>
                <a:latin typeface="Calibri"/>
              </a:rPr>
              <a:t>  - jest to stała Wiena wynosząca 2,898*10-3 [m*K]</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λmax</a:t>
            </a:r>
            <a:r>
              <a:rPr b="0" lang="pl-PL" sz="2400" spc="-1" strike="noStrike">
                <a:solidFill>
                  <a:srgbClr val="000000"/>
                </a:solidFill>
                <a:latin typeface="Calibri"/>
              </a:rPr>
              <a:t>  - długość fali o maksymalnym natężeniu promieniowania [m]</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T</a:t>
            </a:r>
            <a:r>
              <a:rPr b="0" lang="pl-PL" sz="2400" spc="-1" strike="noStrike">
                <a:solidFill>
                  <a:srgbClr val="000000"/>
                </a:solidFill>
                <a:latin typeface="Calibri"/>
              </a:rPr>
              <a:t> – temperatura ciała doskonale czarnego [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rawo Wiena tłumaczy zmianę barwy świecącego ciała w coraz wyższych temperaturach od ciemnoczerwonej, przez żółtą, białą do białoniebieskiej. Znajduje ono zastosowanie przy badaniu temperatur gwiazd, przy założeniu, że promieniują one tak jak ciało doskonale czarne, co jest bliskie prawd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iało doskonale czarne</a:t>
            </a:r>
            <a:r>
              <a:rPr b="0" lang="en-US" sz="3200" spc="-1" strike="noStrike">
                <a:solidFill>
                  <a:srgbClr val="000000"/>
                </a:solidFill>
                <a:latin typeface="Calibri"/>
              </a:rPr>
              <a:t>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ało którego współczynnik absorpcji czyli pochłaniania promieniowania elektromagnetycznego wynosi jeden. Oznacza to, że niezależnie od temperatury i widma padającego promieniowania pochłania je w całości. Ciało doskonale czarne jest to pojęcie stanowiące pewną idealizację, uproszczenie. Ciało takie nie występuje w przyrodzie, ale jako pojęcie stosowane jest w teorii promieniowan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4-14T20:17:31Z</dcterms:modified>
  <cp:revision>17</cp:revision>
  <dc:subject/>
  <dc:title>Slajd 1</dc:title>
</cp:coreProperties>
</file>