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1DFE-6E3B-465F-8300-9BB4AB92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BDC0-788F-471F-BC96-DD9587A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35B3-6ABB-4503-B6DA-9AA7A1B2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1FE-16E6-4A02-AC95-9CD100DA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16EB-96ED-40FB-B9F5-3333083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7D44-EE67-4BD5-B852-38E0BF14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814F-7D32-40B7-8901-8ED6F2F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F310-98A2-49D5-BF49-43F6B66C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2DBD-D19B-47A6-9C28-EC62B65A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1CBE-C9E7-460C-9090-A864A450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4FF5-72C1-4EDD-AECF-B15C2901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A7C-6E2E-4AE5-9A18-250F75E8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D1E16-773D-493A-8711-6E3734F4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67B1-0F56-47B6-89AA-6029546A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5D11-CF28-4B30-A5BA-DF715414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35BC-176B-48F8-A4F9-852C6932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B96-5D5D-46D9-B9E6-83E05D7F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DB91A-F8BA-4C38-9253-4667425BB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08AB5-94B0-4F1E-A02E-DA8B32208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34A9-2BF6-46EB-AE0D-EA8437BD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5EF7-E685-4C25-A11C-3D227F2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D289D-62F8-4241-9423-414690B5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AFE-944A-435F-A7DB-B26AB513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4A9C4-216F-400F-A674-83C46444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BC15-AB24-4CA8-B0DB-7905EF57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F8617-9C4F-4A4B-9D55-9D252F09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5A6F-542D-4606-9DE7-BA25986F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27650-E899-48FA-9A33-B979622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5783F-54D9-47DE-BE24-1A07B566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E3A4-2FF1-4891-B4C9-5BE762BD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86E-02BE-4C20-BE2A-3E5A0431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9FF0-899C-488F-8E33-865CF73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DFD-9F51-4FC5-9B59-764BDD33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874-D406-4D62-B5B0-CB8F882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1F5-26E6-4AA0-93FA-58C9809B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FD52-4BBD-4F9A-80CF-F100A14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071-461F-4456-8F5D-D2FBB4CB881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A11A-5A09-49A1-B3AD-F28074C904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6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87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7654-51D4-465E-A50E-D3811D81F7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  <a:ea typeface="Arial"/>
              </a:rPr>
              <a:t>Równoważność masy i energ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560" y="3141360"/>
            <a:ext cx="677700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Reakcje syntezy jąder atomowych – energia słonecz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96000" y="692280"/>
            <a:ext cx="3168720" cy="547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ykl CNO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3*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γ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3*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 + e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+ v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γ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5*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+ γ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5*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e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+ v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raz na tysiąc reakcji zachodzi</a:t>
            </a:r>
            <a:br>
              <a:rPr sz="16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+ γ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 + γ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+ e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+ v</a:t>
            </a:r>
            <a:br>
              <a:rPr sz="20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 + p 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</a:t>
            </a:r>
            <a:br>
              <a:rPr sz="2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źródło;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http://pl.wikipedia.org/wiki/Plik:CNO_Cycle.sv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6" descr="CNOok1"/>
          <p:cNvPicPr/>
          <p:nvPr/>
        </p:nvPicPr>
        <p:blipFill>
          <a:blip r:embed="rId1"/>
          <a:stretch/>
        </p:blipFill>
        <p:spPr>
          <a:xfrm>
            <a:off x="684360" y="105264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50920" y="2852640"/>
            <a:ext cx="4932360" cy="7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udowa bomby wodorowej</a:t>
            </a:r>
            <a:br>
              <a:rPr sz="2400"/>
            </a:br>
            <a:br>
              <a:rPr sz="10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źródło; http://odkrywcy.pl/mid,1004294,material.html?smg4sticaid=6101f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Obraz 1" descr="http://get-2.wpapi.wp.pl/a,65495707,f,70692888/1108111773528861279693788073_pres.jpg"/>
          <p:cNvPicPr/>
          <p:nvPr/>
        </p:nvPicPr>
        <p:blipFill>
          <a:blip r:embed="rId1"/>
          <a:stretch/>
        </p:blipFill>
        <p:spPr>
          <a:xfrm>
            <a:off x="468360" y="907920"/>
            <a:ext cx="316224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udowa bomby wodorowej; etapy jej wybuchu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źródło;</a:t>
            </a:r>
            <a:r>
              <a:rPr b="1" lang="pl-PL" sz="900" spc="-1" strike="noStrike">
                <a:solidFill>
                  <a:srgbClr val="000000"/>
                </a:solidFill>
                <a:latin typeface="Arial"/>
              </a:rPr>
              <a:t> http://www.google.pl/url?sa=i&amp;source=images&amp;cd=&amp;cad=rja&amp;docid=hJeu0Hos4cqwoM&amp;tbnid=Adie9Ipj2vLOvM:&amp;ved=0CAgQjRwwADgQ&amp;url=http%3A%2F%2Fwww.elektrownieatomowe.info%2F16_fakty%2F48_Teoria_elektrownia_jadrowa_Teoria_elektrownia_atomowa%2F8087_XI_ENERGIA_TERMOJADROWA.html&amp;ei=aCAqUc5vysmEB9-pgegP&amp;psig=AFQjCNEXymDbG84SAKPgsVT-ctg4XVERSA&amp;ust=136180170405142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irc_mi" descr="http://zasoby.ekologia.pl/artykuly/16/48/8087/max/max21.jpg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Film przedstawia pierwszy sowiecki  test bomby termojądrowej.</a:t>
            </a:r>
            <a:br>
              <a:rPr sz="1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Źródło; http://www.youtube.com/watch?v=TWKHfNVZW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erwszy sowiecki test bomby wodorowej_(ALLConverter).wmv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40480" cy="43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332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978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 wybuchu bomby wodorowej…</a:t>
            </a:r>
            <a:br>
              <a:rPr sz="2400"/>
            </a:b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źródło; http://www.google.pl/url?sa=i&amp;source=images&amp;cd=&amp;cad=rja&amp;docid=D9k4D3cSerY7cM&amp;tbnid=7okNdbofn9zHPM:&amp;ved=0CAgQjRwwAA&amp;url=http%3A%2F%2Fposwiecenietonajwyzszaformamilosci.blog.onet.pl%2F2011%2F03%2F20%2Fpolska-jest-maryi%2F&amp;ei=vSAqUbCNC5S4hAeTtIH4Dg&amp;psig=AFQjCNGGeM6HfOBU4X2akFrWFq45Pg6Xag&amp;ust=1361801789219450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irc_mi" descr="http://www.wbitka.pl/files/movies/6/thumb.jpg"/>
          <p:cNvPicPr/>
          <p:nvPr/>
        </p:nvPicPr>
        <p:blipFill>
          <a:blip r:embed="rId1"/>
          <a:stretch/>
        </p:blipFill>
        <p:spPr>
          <a:xfrm>
            <a:off x="826920" y="1773360"/>
            <a:ext cx="73454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052280"/>
            <a:ext cx="43927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ądro atomowe: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293480" y="3192120"/>
            <a:ext cx="677700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- liczba masowa (liczba nukleonów w jądrze łączna liczba protonów i neutronów w jądr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 – liczba atomowa (liczba protonów w jądr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Obraz 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508720" y="1052640"/>
            <a:ext cx="9126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68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niżej zależności opisujące deficyt masy i energię wiązania jąder atomowych o liczbie atomowej Z i liczbie masowej 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 = (A-Z)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+ Z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– M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dzi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 - deficyt mas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– liczba masowa (liczba nukleonów w jądrze, łączna liczba protonów i neutronów w jądrz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 – liczba atomowa (liczba protonów w jądrze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masa neutron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masa protonu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energia wiązania jądra atomowego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 – prędkość światła w próżn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masa jądra atomowe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5640" cy="18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hemiczne prawo zachowania masy”;</a:t>
            </a:r>
            <a:br>
              <a:rPr sz="2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sa substratów „przed” i „po” ich syntezie jest taka sam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ww"/>
          <p:cNvPicPr/>
          <p:nvPr/>
        </p:nvPicPr>
        <p:blipFill>
          <a:blip r:embed="rId1"/>
          <a:stretch/>
        </p:blipFill>
        <p:spPr>
          <a:xfrm>
            <a:off x="1332000" y="1785960"/>
            <a:ext cx="65055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5280" cy="12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latywistyczne prawo zachowania masy” - równoważność masy i energii, niedobór masy;</a:t>
            </a:r>
            <a:br>
              <a:rPr sz="2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masa swobodnych nukleonów przed utworzeniem jądra jest większa od masy powstałego z nich jądra.</a:t>
            </a:r>
            <a:r>
              <a:rPr b="1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www"/>
          <p:cNvPicPr/>
          <p:nvPr/>
        </p:nvPicPr>
        <p:blipFill>
          <a:blip r:embed="rId1"/>
          <a:stretch/>
        </p:blipFill>
        <p:spPr>
          <a:xfrm>
            <a:off x="1476360" y="1844640"/>
            <a:ext cx="650556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kres przedstawia zależność energii wiązania na jeden nukleon,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d liczby nukleonów w jądrze atomowym i często jest nazywan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„Najważniejszą Krzywą Wszechświata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najważniejsza krzywa Wszechswiata"/>
          <p:cNvPicPr/>
          <p:nvPr/>
        </p:nvPicPr>
        <p:blipFill>
          <a:blip r:embed="rId1"/>
          <a:stretch/>
        </p:blipFill>
        <p:spPr>
          <a:xfrm>
            <a:off x="1042920" y="1413000"/>
            <a:ext cx="6410520" cy="424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4000" y="5805360"/>
            <a:ext cx="842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Reakcje nukleosyntezy lub rozszczepienia jąder atomowych, w wyniku których energia wiązania na nukleon </a:t>
            </a:r>
            <a:r>
              <a:rPr b="0" lang="pl-PL" sz="1400" spc="-1" strike="noStrike" u="sng">
                <a:solidFill>
                  <a:srgbClr val="ffff00"/>
                </a:solidFill>
                <a:uFillTx/>
                <a:latin typeface="Arial"/>
              </a:rPr>
              <a:t>wzrasta</a:t>
            </a: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 są </a:t>
            </a:r>
            <a:r>
              <a:rPr b="0" lang="pl-PL" sz="1400" spc="-1" strike="noStrike" u="sng">
                <a:solidFill>
                  <a:srgbClr val="ffff00"/>
                </a:solidFill>
                <a:uFillTx/>
                <a:latin typeface="Arial"/>
              </a:rPr>
              <a:t>egzoenergetyczne</a:t>
            </a: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, zaś te, w wyniku których </a:t>
            </a:r>
            <a:r>
              <a:rPr b="0" lang="pl-PL" sz="1400" spc="-1" strike="noStrike" u="sng">
                <a:solidFill>
                  <a:srgbClr val="ffff00"/>
                </a:solidFill>
                <a:uFillTx/>
                <a:latin typeface="Arial"/>
              </a:rPr>
              <a:t>maleje</a:t>
            </a: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 są </a:t>
            </a:r>
            <a:r>
              <a:rPr b="0" lang="pl-PL" sz="1400" spc="-1" strike="noStrike" u="sng">
                <a:solidFill>
                  <a:srgbClr val="ffff00"/>
                </a:solidFill>
                <a:uFillTx/>
                <a:latin typeface="Arial"/>
              </a:rPr>
              <a:t>endoenergetyczne</a:t>
            </a:r>
            <a:r>
              <a:rPr b="0" lang="pl-PL" sz="1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Źródło; http://pl.wikipedia.org/wiki/Plik:Binding_energy_curve_-_common_isotopes-pl.svg</a:t>
            </a: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92144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Pierwszą z zachodzących reakcji jest tzw. cykl p-p (proton – proton). </a:t>
            </a:r>
            <a:br>
              <a:rPr sz="2000"/>
            </a:b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Ten cykl zachodzi głównie w przedziale temperatur 10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&lt;T&lt;1,4 x 10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.</a:t>
            </a:r>
            <a:r>
              <a:rPr b="1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W wyniku fuzji (połączenia, syntezy) dwóch jąder wodo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 (dwóch protonów) powstaje jądro deute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, pozyton e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i neutrino </a:t>
            </a:r>
            <a:r>
              <a:rPr b="1" i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 + e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br>
              <a:rPr sz="2000"/>
            </a:b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Następnie jądro deute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 łączy się z jądrem wodo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 tworząc jądro helu </a:t>
            </a:r>
            <a:r>
              <a:rPr b="1" i="1" lang="pl-PL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He. Dodatkowo zostaje wypromieniowany kwant gamma: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pl-PL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 koniec w reakcji fuzji dwóch jąder hel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e powstaje jądro hel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e i dwa jądra wodo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:</a:t>
            </a:r>
            <a:br>
              <a:rPr sz="1200"/>
            </a:br>
            <a:br>
              <a:rPr sz="12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 + </a:t>
            </a:r>
            <a:r>
              <a:rPr b="1" lang="pl-PL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2000"/>
            </a:br>
            <a:br>
              <a:rPr sz="20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W wyniku każdego z przedstawionych  cyklów z czterech jąder wodoru powstaje jedno jądro helu i dwa neutrina. Energia uwalniana w tych reakcjach wynosi 26,74 MeV</a:t>
            </a: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4836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W przedziale temperatur 1,4x10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 &lt; T &lt; 2,3x10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 dominującą jest reakcja syntezy helu 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He z helem 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He.</a:t>
            </a:r>
            <a:br>
              <a:rPr sz="2000"/>
            </a:b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 W jej wyniku wytworzone zostaje jądro berylu 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Be i kwant promieniowania gamma: </a:t>
            </a:r>
            <a:br>
              <a:rPr sz="2000"/>
            </a:br>
            <a:br>
              <a:rPr sz="20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ietrwałe jądro beryl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e szybko wychwytuje elektron i tworzy się jądro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, neutrino i uwolniony zostaje kwant promieniowania gamma: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 + e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br>
              <a:rPr sz="2400"/>
            </a:br>
            <a:r>
              <a:rPr b="1" lang="pl-PL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Następnie w wyniku reakcji lit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Li i jądra wodor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 powstają dwa jądra hel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He:</a:t>
            </a:r>
            <a:br>
              <a:rPr sz="14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 +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9200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Dla temperatur T &gt; 2,3x10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K dochodzi do fuzji wodoru i berylu w wyniku której powstaje jądro </a:t>
            </a:r>
            <a:r>
              <a:rPr b="1" lang="pl-PL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B i kwant promieniowania gamma: </a:t>
            </a:r>
            <a:br>
              <a:rPr sz="2000"/>
            </a:b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 +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Jądro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 rozpada się na jądro berylu </a:t>
            </a:r>
            <a:r>
              <a:rPr b="1" lang="pl-PL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Be, pozyton i neutrino:</a:t>
            </a:r>
            <a:br>
              <a:rPr sz="1200"/>
            </a:br>
            <a:br>
              <a:rPr sz="1200"/>
            </a:br>
            <a:r>
              <a:rPr b="1" i="1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 + e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br>
              <a:rPr sz="2400"/>
            </a:br>
            <a:br>
              <a:rPr sz="1400"/>
            </a:b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a wzbudzone jądro berylu rozpada się na dwa jądra helu:</a:t>
            </a:r>
            <a:br>
              <a:rPr sz="1200"/>
            </a:br>
            <a:br>
              <a:rPr sz="1200"/>
            </a:br>
            <a:r>
              <a:rPr b="1" i="1" lang="pl-PL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 + </a:t>
            </a:r>
            <a:r>
              <a:rPr b="1" lang="pl-PL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8:09:11Z</dcterms:modified>
  <cp:revision>58</cp:revision>
  <dc:subject/>
  <dc:title>KORPUSKULARNO-FALOWA NATURA ŚWIATŁA</dc:title>
</cp:coreProperties>
</file>