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4.png" ContentType="image/png"/>
  <Override PartName="/ppt/media/image16.jpeg" ContentType="image/jpeg"/>
  <Override PartName="/ppt/media/image15.wmf" ContentType="image/x-wmf"/>
  <Override PartName="/ppt/media/image14.png" ContentType="image/png"/>
  <Override PartName="/ppt/media/image9.png" ContentType="image/png"/>
  <Override PartName="/ppt/media/image1.png" ContentType="image/png"/>
  <Override PartName="/ppt/media/image17.jpeg" ContentType="image/jpeg"/>
  <Override PartName="/ppt/media/image3.png" ContentType="image/png"/>
  <Override PartName="/ppt/media/image5.png" ContentType="image/png"/>
  <Override PartName="/ppt/media/image6.png" ContentType="image/png"/>
  <Override PartName="/ppt/media/image7.jpeg" ContentType="image/jpeg"/>
  <Override PartName="/ppt/media/image11.png" ContentType="image/png"/>
  <Override PartName="/ppt/media/image10.wmf" ContentType="image/x-wmf"/>
  <Override PartName="/ppt/media/image2.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D3161-4EFD-41E4-946E-0AF7EAEF7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4225D-F58B-4857-847D-2BFD4AF9F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139EA-2EE7-47E8-B7C9-A80A5662F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56EEA-88B1-48F9-8FB6-A07E49574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A5417F-7C47-4AC1-A36C-621CD8032C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47223-BF71-4381-892A-5DD28DB6D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E975AF-4989-47E8-9CD2-3C7636E82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07547-0EE1-4F21-B966-C6ED83712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9A098-F1F8-4B64-9286-5FEF780F2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FF70D-7D6E-42FE-8832-A26BD8872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E6664-CA69-4F71-BCC9-A071494D1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96D4B-6EA6-467E-B8AE-95E0790C2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95C36-6D0C-423F-8C74-F2C96C903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F22F5-08A9-4EE5-8863-7AF35554B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7B572-425A-42E3-B3C0-9E7AF75BC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7AFA5-3A86-4C19-9467-6E0574544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EC2469-6F5C-497D-8B20-A8C97A401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E16C31-EFFA-4A5B-9D77-5CAFCD2CC0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22100-19D0-4C87-9E1A-8FB1CB6FB6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B95540-5E11-4C09-AE4C-360F16E2B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092A6D-5E9F-4DB5-A6E1-9ECE83865B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7B8BF-28F4-43FA-BF0B-F61171436A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9EEFA-DA74-4355-9217-3A84E19E0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AA26A1-41E2-42DC-95D0-EA86A2F34F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978346-6578-4BF0-B39F-410358904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D797E-D814-425D-94F5-9DC3908CD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C1AE6-EE77-42AF-B46A-B9ECD0F7D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434EE-0483-451F-B927-F83DF021D6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368409-8645-4353-AEE0-1FA07791BA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5C94EF-46EA-4A72-8DB9-5184C62A16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ED1B0-4FE8-464B-A8B7-B533CE605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96F6E-9062-425E-9C74-16F0C8C37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27714-53E4-4845-BC10-02385C1AB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E1280-26AC-4D7E-8287-CB773DB9D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B3482-C23C-45A1-BA2F-8123D0FDD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5A453-6B57-4368-919E-EE8B5A744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69C7-AFB6-4EF0-9EB4-A42021CF7360}"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761080"/>
            <a:ext cx="9144000" cy="1123920"/>
          </a:xfrm>
          <a:prstGeom prst="rect">
            <a:avLst/>
          </a:prstGeom>
          <a:ln w="0">
            <a:noFill/>
          </a:ln>
        </p:spPr>
      </p:pic>
      <p:pic>
        <p:nvPicPr>
          <p:cNvPr id="42" name="Picture 2" descr=""/>
          <p:cNvPicPr/>
          <p:nvPr/>
        </p:nvPicPr>
        <p:blipFill>
          <a:blip r:embed="rId3"/>
          <a:stretch/>
        </p:blipFill>
        <p:spPr>
          <a:xfrm>
            <a:off x="-4680" y="0"/>
            <a:ext cx="9144000" cy="1628640"/>
          </a:xfrm>
          <a:prstGeom prst="rect">
            <a:avLst/>
          </a:prstGeom>
          <a:ln w="0">
            <a:noFill/>
          </a:ln>
        </p:spPr>
      </p:pic>
      <p:sp>
        <p:nvSpPr>
          <p:cNvPr id="4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FC29-46F7-48CF-8539-52CAAB781D2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2"/>
          <a:stretch/>
        </p:blipFill>
        <p:spPr>
          <a:xfrm>
            <a:off x="0" y="5979960"/>
            <a:ext cx="9144000" cy="905040"/>
          </a:xfrm>
          <a:prstGeom prst="rect">
            <a:avLst/>
          </a:prstGeom>
          <a:ln w="0">
            <a:noFill/>
          </a:ln>
        </p:spPr>
      </p:pic>
      <p:pic>
        <p:nvPicPr>
          <p:cNvPr id="85" name="Picture 2" descr=""/>
          <p:cNvPicPr/>
          <p:nvPr/>
        </p:nvPicPr>
        <p:blipFill>
          <a:blip r:embed="rId3"/>
          <a:stretch/>
        </p:blipFill>
        <p:spPr>
          <a:xfrm>
            <a:off x="0" y="-27000"/>
            <a:ext cx="9144000" cy="1123920"/>
          </a:xfrm>
          <a:prstGeom prst="rect">
            <a:avLst/>
          </a:prstGeom>
          <a:ln w="0">
            <a:noFill/>
          </a:ln>
        </p:spPr>
      </p:pic>
      <p:pic>
        <p:nvPicPr>
          <p:cNvPr id="86" name="Obraz 2" descr="stopka_poz.gif"/>
          <p:cNvPicPr/>
          <p:nvPr/>
        </p:nvPicPr>
        <p:blipFill>
          <a:blip r:embed="rId4"/>
          <a:stretch/>
        </p:blipFill>
        <p:spPr>
          <a:xfrm>
            <a:off x="0" y="5951520"/>
            <a:ext cx="9144000" cy="906480"/>
          </a:xfrm>
          <a:prstGeom prst="rect">
            <a:avLst/>
          </a:prstGeom>
          <a:ln w="0">
            <a:noFill/>
          </a:ln>
        </p:spPr>
      </p:pic>
      <p:pic>
        <p:nvPicPr>
          <p:cNvPr id="87" name="Obraz 9" descr="nagłówek_poz.gif"/>
          <p:cNvPicPr/>
          <p:nvPr/>
        </p:nvPicPr>
        <p:blipFill>
          <a:blip r:embed="rId5"/>
          <a:stretch/>
        </p:blipFill>
        <p:spPr>
          <a:xfrm>
            <a:off x="0" y="0"/>
            <a:ext cx="9144000" cy="112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EB21-7021-46B8-8F4D-EEA70883056E}" type="slidenum">
              <a:rPr b="0" lang="pl-P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Prezentacja poświęcona termografii, holografii, rentgenografii oraz analizie widmowej.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250920" y="189000"/>
            <a:ext cx="8713800" cy="344052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Ta część prezentacji została przygotowana w oparciu o publikację: „</a:t>
            </a:r>
            <a:r>
              <a:rPr b="1" i="1" lang="pl-PL" sz="1200" spc="-1" strike="noStrike">
                <a:solidFill>
                  <a:srgbClr val="000000"/>
                </a:solidFill>
                <a:latin typeface="Arial"/>
              </a:rPr>
              <a:t>Zaczęło się od lasera” - </a:t>
            </a:r>
            <a:r>
              <a:rPr b="1" lang="pl-PL" sz="1200" spc="-1" strike="noStrike">
                <a:solidFill>
                  <a:srgbClr val="000000"/>
                </a:solidFill>
                <a:latin typeface="Arial"/>
              </a:rPr>
              <a:t>Zdzisława Kazimierczuka</a:t>
            </a:r>
            <a:endParaRPr b="0" lang="en-US" sz="1200" spc="-1" strike="noStrike">
              <a:solidFill>
                <a:srgbClr val="ffff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a:t>
            </a:r>
            <a:r>
              <a:rPr b="1" lang="pl-PL" sz="1200" spc="-1" strike="noStrike">
                <a:solidFill>
                  <a:srgbClr val="000000"/>
                </a:solidFill>
                <a:latin typeface="Arial"/>
              </a:rPr>
              <a:t>Nasza Księgarnia”  Warszawa 1985, ISBN 83-10-08692-X</a:t>
            </a:r>
            <a:endParaRPr b="0" lang="en-US" sz="1200" spc="-1" strike="noStrike">
              <a:solidFill>
                <a:srgbClr val="ffff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Holografia</a:t>
            </a:r>
            <a:r>
              <a:rPr b="0" lang="pl-PL" sz="1800" spc="-1" strike="noStrike">
                <a:solidFill>
                  <a:srgbClr val="000000"/>
                </a:solidFill>
                <a:latin typeface="Arial"/>
              </a:rPr>
              <a:t> (od greckich słów: holos </a:t>
            </a:r>
            <a:r>
              <a:rPr b="0" i="1" lang="pl-PL" sz="1800" spc="-1" strike="noStrike">
                <a:solidFill>
                  <a:srgbClr val="000000"/>
                </a:solidFill>
                <a:latin typeface="Arial"/>
              </a:rPr>
              <a:t>- </a:t>
            </a:r>
            <a:r>
              <a:rPr b="0" lang="pl-PL" sz="1800" spc="-1" strike="noStrike">
                <a:solidFill>
                  <a:srgbClr val="000000"/>
                </a:solidFill>
                <a:latin typeface="Arial"/>
              </a:rPr>
              <a:t>cały i grafo - piszę): to taki sposób zapisu obrazu przedmiotu, by patrząc na ten zapis obserwator widział przedmiot dokładnie takim, jakim by go oglądał bezpośrednio, na własne oczy. Zapisu tego dokonuje się na ogół na kliszy fotograficznej. Kliszę z zapisem holograficznym nazywamy hologramem. Na samym hologramie właściwie nic nie widać (plątaninę drobnych kresek i prążków dostrzec można tylko z bliska, i to przy dużym powiększeniu - rys. poniżej). Dopiero patrząc poprzez hologram w głąb, widać wyraźnie utrwalony na nim obiekt. Wygląda on tak, jakby w rzeczywistości, stał gdzieś dalej za kliszą, jakby w hologramie zamknięto realny fragment przestrzeni, a my przez ten hologram, zaglądamy do zaklętej w nim rzeczywistości.</a:t>
            </a:r>
            <a:endParaRPr b="0" lang="en-US" sz="1800" spc="-1" strike="noStrike">
              <a:solidFill>
                <a:srgbClr val="ffff00"/>
              </a:solidFill>
              <a:latin typeface="Arial"/>
            </a:endParaRPr>
          </a:p>
        </p:txBody>
      </p:sp>
      <p:pic>
        <p:nvPicPr>
          <p:cNvPr id="142" name="Picture 3" descr=""/>
          <p:cNvPicPr/>
          <p:nvPr/>
        </p:nvPicPr>
        <p:blipFill>
          <a:blip r:embed="rId1"/>
          <a:srcRect l="3647" t="4591" r="5492" b="6175"/>
          <a:stretch/>
        </p:blipFill>
        <p:spPr>
          <a:xfrm>
            <a:off x="2484360" y="3716280"/>
            <a:ext cx="3598920" cy="259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Object 39"/>
          <p:cNvGraphicFramePr/>
          <p:nvPr/>
        </p:nvGraphicFramePr>
        <p:xfrm>
          <a:off x="684360" y="1868400"/>
          <a:ext cx="7920000" cy="4224600"/>
        </p:xfrm>
        <a:graphic>
          <a:graphicData uri="http://schemas.openxmlformats.org/presentationml/2006/ole">
            <p:oleObj progId="Word.Document.12" r:id="rId1" spid="">
              <p:embed/>
              <p:pic>
                <p:nvPicPr>
                  <p:cNvPr id="144" name="Object 39" descr=""/>
                  <p:cNvPicPr/>
                  <p:nvPr/>
                </p:nvPicPr>
                <p:blipFill>
                  <a:blip r:embed="rId2"/>
                  <a:stretch/>
                </p:blipFill>
                <p:spPr>
                  <a:xfrm>
                    <a:off x="684360" y="1868400"/>
                    <a:ext cx="7920000" cy="4224600"/>
                  </a:xfrm>
                  <a:prstGeom prst="rect">
                    <a:avLst/>
                  </a:prstGeom>
                  <a:ln w="0">
                    <a:noFill/>
                  </a:ln>
                </p:spPr>
              </p:pic>
            </p:oleObj>
          </a:graphicData>
        </a:graphic>
      </p:graphicFrame>
      <p:sp>
        <p:nvSpPr>
          <p:cNvPr id="145" name="Text Box 40"/>
          <p:cNvSpPr/>
          <p:nvPr/>
        </p:nvSpPr>
        <p:spPr>
          <a:xfrm>
            <a:off x="468360" y="404640"/>
            <a:ext cx="849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ższy rysunek przedstawia jeden ze sposobów zapisu hologramu za pomocą wiązki światła rozproszonej na przedmiocie, interferującej z wiązką odniesienia odbitą od zwierciadła.</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3"/>
          <p:cNvSpPr/>
          <p:nvPr/>
        </p:nvSpPr>
        <p:spPr>
          <a:xfrm>
            <a:off x="250920" y="692280"/>
            <a:ext cx="8642160" cy="542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000000"/>
                </a:solidFill>
                <a:latin typeface="Arial"/>
              </a:rPr>
              <a:t>Aby uzyskać przestrzenny obraz przedmiotu, trzeba zarejestrować nie tylko rozkład natężenia fal świetlnych biegnących od tego przedmiotu, ale również ich kształt ich powierzchni. I właśnie dlatego natura wyposażyła nas w dwoje oczu, a w fotografii stereoskopowej konieczne są dwa aparaty fotograficzne jednocześnie. W tych przypadkach rejestrując rozkład natężenia fali świetlnej z dwóch nieco różnych kierunków notujemy porównawczo kształt powierzchni falowych z tych kierunków. Fotografia stereoskopowa pozwala nam obejrzeć obiekt tylko z tego kierunku, z którego został sfotografowany. Ażeby umożliwić obejrzenie obiektu ze wszystkich stron, trzeba by wykonać nieskończenie wiele zdjęć z nieco różnych kierunków. Praktycznie jest to zadanie niewykonalne.</a:t>
            </a:r>
            <a:endParaRPr b="0" lang="en-US" sz="25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ole tekstowe 1"/>
          <p:cNvSpPr/>
          <p:nvPr/>
        </p:nvSpPr>
        <p:spPr>
          <a:xfrm>
            <a:off x="324000" y="836640"/>
            <a:ext cx="8569080" cy="59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rzeba więc było poszukać zupełnie innych sposobów jednoczesnej rejestracji pełnego rozkładu natężenia fali świetlnej biegnącej od przedmiotu (tzw. fala przedmiotowa) oraz jak najwierniejszego zapisu kształtu tej fali. Hologram wykorzystuje w tym celu interferencję przedmiotowej fali świetlnej z inną wzorcową falą świetlną. Otrzymany w ten sposób zapis, dzięki dyfrakcji i interferencji światła, pozwala w pełni zrekonstruować (odtworzyć) falę przedmiotową. </a:t>
            </a:r>
            <a:endParaRPr b="0" lang="en-US" sz="3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231840" y="281160"/>
            <a:ext cx="85881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9" name="Text Box 3"/>
          <p:cNvSpPr/>
          <p:nvPr/>
        </p:nvSpPr>
        <p:spPr>
          <a:xfrm>
            <a:off x="108000" y="549360"/>
            <a:ext cx="8856720" cy="499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rPr>
              <a:t>Analiza widmowa:</a:t>
            </a:r>
            <a:endParaRPr b="0" lang="en-US" sz="2400" spc="-1" strike="noStrike">
              <a:solidFill>
                <a:srgbClr val="ffff00"/>
              </a:solidFill>
              <a:latin typeface="Arial"/>
            </a:endParaRPr>
          </a:p>
          <a:p>
            <a:pPr algn="just">
              <a:lnSpc>
                <a:spcPct val="105000"/>
              </a:lnSpc>
              <a:spcBef>
                <a:spcPts val="1463"/>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możliwia wykrycie obecności i określenie procentowej zawartości pierwiastka lub związku chemicznego w badanej substancji, na podstawie widma promieniowania elektromagnetycznego emisyjnego lub absorpcyjnego.</a:t>
            </a:r>
            <a:endParaRPr b="0" lang="en-US" sz="1800" spc="-1" strike="noStrike">
              <a:solidFill>
                <a:srgbClr val="ffff00"/>
              </a:solidFill>
              <a:latin typeface="Arial"/>
            </a:endParaRPr>
          </a:p>
          <a:p>
            <a:pPr algn="just">
              <a:lnSpc>
                <a:spcPct val="105000"/>
              </a:lnSpc>
              <a:spcBef>
                <a:spcPts val="1463"/>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Urządzeniem służącym do obserwacji widm jest spektroskop (schemat poniżej), którego głównym elementem może być pryzmat lub siatka dyfrakcyjna.</a:t>
            </a:r>
            <a:endParaRPr b="0" lang="en-US" sz="1800" spc="-1" strike="noStrike">
              <a:solidFill>
                <a:srgbClr val="ffff00"/>
              </a:solidFill>
              <a:latin typeface="Arial"/>
            </a:endParaRPr>
          </a:p>
          <a:p>
            <a:pPr algn="just">
              <a:lnSpc>
                <a:spcPct val="105000"/>
              </a:lnSpc>
              <a:spcBef>
                <a:spcPts val="1463"/>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pracowano na podstawie: http://www.if.pw.edu.pl/~labfiz1p/cmsimple2_4/1instrukcje_pdf/29.pdf</a:t>
            </a:r>
            <a:endParaRPr b="0" lang="en-US" sz="1200" spc="-1" strike="noStrike">
              <a:solidFill>
                <a:srgbClr val="ffff00"/>
              </a:solidFill>
              <a:latin typeface="Arial"/>
            </a:endParaRPr>
          </a:p>
        </p:txBody>
      </p:sp>
      <p:pic>
        <p:nvPicPr>
          <p:cNvPr id="150" name="Picture 4" descr=""/>
          <p:cNvPicPr/>
          <p:nvPr/>
        </p:nvPicPr>
        <p:blipFill>
          <a:blip r:embed="rId1"/>
          <a:stretch/>
        </p:blipFill>
        <p:spPr>
          <a:xfrm>
            <a:off x="2556000" y="3141720"/>
            <a:ext cx="3554280" cy="94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231840" y="281160"/>
            <a:ext cx="85881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2" name="Text Box 3"/>
          <p:cNvSpPr/>
          <p:nvPr/>
        </p:nvSpPr>
        <p:spPr>
          <a:xfrm>
            <a:off x="250920" y="189000"/>
            <a:ext cx="86421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idmo emisyjne (poniżej; widmo ciągłe i pasmowe) </a:t>
            </a:r>
            <a:r>
              <a:rPr b="0" lang="pl-PL" sz="1800" spc="-1" strike="noStrike">
                <a:solidFill>
                  <a:srgbClr val="000000"/>
                </a:solidFill>
                <a:latin typeface="Arial"/>
              </a:rPr>
              <a:t>powstaje w wyniku emisji promieniowania elektromagnetycznego wysyłanego przez wzbudzone atomy.</a:t>
            </a:r>
            <a:endParaRPr b="0" lang="en-US" sz="18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idmo absorpcyjne (poniżej) </a:t>
            </a:r>
            <a:r>
              <a:rPr b="0" lang="pl-PL" sz="1800" spc="-1" strike="noStrike">
                <a:solidFill>
                  <a:srgbClr val="000000"/>
                </a:solidFill>
                <a:latin typeface="Arial"/>
              </a:rPr>
              <a:t>powstaje w wyniku pochłonięcia fotonów o określonej energii podczas  ich przejścia przez ośrodek.</a:t>
            </a:r>
            <a:endParaRPr b="0" lang="en-US" sz="1800" spc="-1" strike="noStrike">
              <a:solidFill>
                <a:srgbClr val="ffff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graphicFrame>
        <p:nvGraphicFramePr>
          <p:cNvPr id="153" name="Object 5"/>
          <p:cNvGraphicFramePr/>
          <p:nvPr/>
        </p:nvGraphicFramePr>
        <p:xfrm>
          <a:off x="2268360" y="3573360"/>
          <a:ext cx="3456000" cy="882720"/>
        </p:xfrm>
        <a:graphic>
          <a:graphicData uri="http://schemas.openxmlformats.org/presentationml/2006/ole">
            <p:oleObj r:id="rId1" spid="">
              <p:embed/>
              <p:pic>
                <p:nvPicPr>
                  <p:cNvPr id="154" name="Object 5" descr=""/>
                  <p:cNvPicPr/>
                  <p:nvPr/>
                </p:nvPicPr>
                <p:blipFill>
                  <a:blip r:embed="rId2"/>
                  <a:stretch/>
                </p:blipFill>
                <p:spPr>
                  <a:xfrm>
                    <a:off x="2268360" y="3573360"/>
                    <a:ext cx="3456000" cy="882720"/>
                  </a:xfrm>
                  <a:prstGeom prst="rect">
                    <a:avLst/>
                  </a:prstGeom>
                  <a:ln w="0">
                    <a:noFill/>
                  </a:ln>
                </p:spPr>
              </p:pic>
            </p:oleObj>
          </a:graphicData>
        </a:graphic>
      </p:graphicFrame>
      <p:pic>
        <p:nvPicPr>
          <p:cNvPr id="155" name="Picture 9" descr="Widmo emisyjne ciągłe"/>
          <p:cNvPicPr/>
          <p:nvPr/>
        </p:nvPicPr>
        <p:blipFill>
          <a:blip r:embed="rId3"/>
          <a:stretch/>
        </p:blipFill>
        <p:spPr>
          <a:xfrm>
            <a:off x="2050920" y="981000"/>
            <a:ext cx="3961080" cy="297000"/>
          </a:xfrm>
          <a:prstGeom prst="rect">
            <a:avLst/>
          </a:prstGeom>
          <a:ln w="0">
            <a:noFill/>
          </a:ln>
        </p:spPr>
      </p:pic>
      <p:pic>
        <p:nvPicPr>
          <p:cNvPr id="156" name="Picture 11" descr="File0120"/>
          <p:cNvPicPr/>
          <p:nvPr/>
        </p:nvPicPr>
        <p:blipFill>
          <a:blip r:embed="rId4"/>
          <a:srcRect l="9254" t="32303" r="3085" b="32303"/>
          <a:stretch/>
        </p:blipFill>
        <p:spPr>
          <a:xfrm>
            <a:off x="2050920" y="1484280"/>
            <a:ext cx="3961080" cy="36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231840" y="281160"/>
            <a:ext cx="85881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8" name="Text Box 3"/>
          <p:cNvSpPr/>
          <p:nvPr/>
        </p:nvSpPr>
        <p:spPr>
          <a:xfrm>
            <a:off x="250920" y="907920"/>
            <a:ext cx="8569080" cy="52088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dentyfikacja składu chemicznego substancji za pomocą analizy widmowej, stosowana min. w kryminalistyce do identyfikacji składu chemicznego próbek. Analiza widmowa stosowana min. w kryminalistyce została wykorzystana w fabule filmu CSI – Kryminalne zagadki.</a:t>
            </a: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e</a:t>
            </a:r>
            <a:endParaRPr b="0" lang="en-US" sz="1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Źródło: arkusz maturalny, poziom podstawowy, 2005 r.</a:t>
            </a: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rys. 1. przedstawiono linie spektralne w widmie absorpcyjnym odległej gwiazdy otrzymane za pomocą spektrografu siatkowego. Poniżej na rys. 2. zamieszczono widma emisyjne charakterystyczne dla wybranych atomów.</a:t>
            </a: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analizie widma gwiazdy i widm emisyjnych atomów stwierdzono, że w składzie chemicznym gwiazdy występują atomy wodoru i helu. Wyjaśnij, na czym polega analiza widmowa i dlaczego można było zapisać taki wniosek.</a:t>
            </a:r>
            <a:endParaRPr b="0" lang="en-US" sz="1400" spc="-1" strike="noStrike">
              <a:solidFill>
                <a:srgbClr val="ffff00"/>
              </a:solidFill>
              <a:latin typeface="Arial"/>
            </a:endParaRPr>
          </a:p>
        </p:txBody>
      </p:sp>
      <p:pic>
        <p:nvPicPr>
          <p:cNvPr id="159" name="Obraz 1" descr=""/>
          <p:cNvPicPr/>
          <p:nvPr/>
        </p:nvPicPr>
        <p:blipFill>
          <a:blip r:embed="rId1"/>
          <a:stretch/>
        </p:blipFill>
        <p:spPr>
          <a:xfrm>
            <a:off x="1835280" y="2852640"/>
            <a:ext cx="482436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31840" y="281160"/>
            <a:ext cx="85881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61" name="Text Box 4"/>
          <p:cNvSpPr/>
          <p:nvPr/>
        </p:nvSpPr>
        <p:spPr>
          <a:xfrm>
            <a:off x="395280" y="1628640"/>
            <a:ext cx="8136000" cy="33591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Doświadczenie</a:t>
            </a:r>
            <a:endParaRPr b="0" lang="en-US" sz="3200" spc="-1" strike="noStrike">
              <a:solidFill>
                <a:srgbClr val="ffff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bserwacja widma świecących kryształów soli kuchennej NaCl.</a:t>
            </a:r>
            <a:endParaRPr b="0" lang="en-US" sz="1800" spc="-1" strike="noStrike">
              <a:solidFill>
                <a:srgbClr val="ffff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Doświadczenie należy przeprowadzić wg schematu:</a:t>
            </a:r>
            <a:endParaRPr b="0" lang="en-US" sz="1800" spc="-1" strike="noStrike">
              <a:solidFill>
                <a:srgbClr val="ffff00"/>
              </a:solidFill>
              <a:latin typeface="Arial"/>
            </a:endParaRPr>
          </a:p>
          <a:p>
            <a:pPr marL="343080" indent="-343080" algn="ctr">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łomieniu świecy lub palnika gazowego utrzymywać niewielką ilość soli kuchennej. </a:t>
            </a:r>
            <a:endParaRPr b="0" lang="en-US" sz="1800" spc="-1" strike="noStrike">
              <a:solidFill>
                <a:srgbClr val="ffff00"/>
              </a:solidFill>
              <a:latin typeface="Arial"/>
            </a:endParaRPr>
          </a:p>
          <a:p>
            <a:pPr marL="343080" indent="-343080" algn="ctr">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płomień z NaCl skierować spektroskop szkolny.</a:t>
            </a:r>
            <a:endParaRPr b="0" lang="en-US" sz="1800" spc="-1" strike="noStrike">
              <a:solidFill>
                <a:srgbClr val="ffff00"/>
              </a:solidFill>
              <a:latin typeface="Arial"/>
            </a:endParaRPr>
          </a:p>
          <a:p>
            <a:pPr marL="343080" indent="-343080" algn="ctr">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bserwacje i wnioski zapisać w zeszycie.</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231840" y="281160"/>
            <a:ext cx="858816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63" name="Text Box 4"/>
          <p:cNvSpPr/>
          <p:nvPr/>
        </p:nvSpPr>
        <p:spPr>
          <a:xfrm>
            <a:off x="395280" y="981000"/>
            <a:ext cx="842472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ższe zdjęcia przedstawiają widmo ciągłe płomienia świecy z wyraźnie widocznymi żółtymi liniami sodu*. Zdjęcia wykonano z użyciem szkolnego spektroskopu i aparatu cyfrowego</a:t>
            </a: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 są to dwie bardzo blisko leżące linie (tzw. „dublet”)</a:t>
            </a:r>
            <a:endParaRPr b="0" lang="en-US" sz="1800" spc="-1" strike="noStrike">
              <a:solidFill>
                <a:srgbClr val="ffff00"/>
              </a:solidFill>
              <a:latin typeface="Arial"/>
            </a:endParaRPr>
          </a:p>
        </p:txBody>
      </p:sp>
      <p:pic>
        <p:nvPicPr>
          <p:cNvPr id="164" name="Picture 5" descr="DSCN6894"/>
          <p:cNvPicPr/>
          <p:nvPr/>
        </p:nvPicPr>
        <p:blipFill>
          <a:blip r:embed="rId1"/>
          <a:stretch/>
        </p:blipFill>
        <p:spPr>
          <a:xfrm>
            <a:off x="4500720" y="2637000"/>
            <a:ext cx="3816360" cy="2862000"/>
          </a:xfrm>
          <a:prstGeom prst="rect">
            <a:avLst/>
          </a:prstGeom>
          <a:ln w="0">
            <a:noFill/>
          </a:ln>
        </p:spPr>
      </p:pic>
      <p:pic>
        <p:nvPicPr>
          <p:cNvPr id="165" name="Picture 6" descr="DSCN6899"/>
          <p:cNvPicPr/>
          <p:nvPr/>
        </p:nvPicPr>
        <p:blipFill>
          <a:blip r:embed="rId2"/>
          <a:stretch/>
        </p:blipFill>
        <p:spPr>
          <a:xfrm>
            <a:off x="684360" y="2637000"/>
            <a:ext cx="3816360" cy="286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395280" y="1844640"/>
            <a:ext cx="828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1" name="Text Box 3"/>
          <p:cNvSpPr/>
          <p:nvPr/>
        </p:nvSpPr>
        <p:spPr>
          <a:xfrm>
            <a:off x="179280" y="1844640"/>
            <a:ext cx="8785440" cy="211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rPr>
              <a:t>Ocena dzieł sztuki</a:t>
            </a:r>
            <a:r>
              <a:rPr b="1" lang="pl-PL" sz="2400" spc="-1" strike="noStrike">
                <a:solidFill>
                  <a:srgbClr val="000000"/>
                </a:solidFill>
                <a:latin typeface="Arial"/>
              </a:rPr>
              <a:t> - termoluminescencja i rentgenografia.</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pracowano na podstawie:</a:t>
            </a:r>
            <a:endParaRPr b="0" lang="en-US" sz="12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www.muzeum.krakow.pl/Roznicowa-rentgenografia-cyfrowa-do-monitorowania-impregnacji-drewna.1236.0.html</a:t>
            </a:r>
            <a:endParaRPr b="0" lang="en-US" sz="1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thermo.p.lodz.pl/iubilaeum/files/J.Perkowski,B.Więcek.pdf</a:t>
            </a:r>
            <a:endParaRPr b="0" lang="en-US" sz="1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Inżynieria Biomedyczna- Księga współczesnej wiedzy tajemnej w wersji przystępnej i przyjemnej.</a:t>
            </a:r>
            <a:r>
              <a:rPr b="0" lang="pl-PL" sz="1200" spc="-1" strike="noStrike">
                <a:solidFill>
                  <a:srgbClr val="000000"/>
                </a:solidFill>
                <a:latin typeface="Arial"/>
              </a:rPr>
              <a:t> </a:t>
            </a:r>
            <a:endParaRPr b="0" lang="en-US" sz="12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d redakcją naukową Ryszarda Tadeusiewicza</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250920" y="1197000"/>
            <a:ext cx="864216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awniej badania obiektów zabytkowych ograniczały się do oglądu widocznych na powierzchni zmian i subiektywnej ich oceny. Rozwój fizyki i chemii pozwolił na opracowanie różnego typu metod analitycznych dających odpowiedz co do składu, struktury i rozkładu przestrzennego materiałów z których jest on wykonany.</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obecnej chwili konserwator zabytków i badacz dzieł sztuki dysponuje całym arsenałem tradycyjnych i nowoczesnych metod. Są wśród nich analizy chemiczne, fizyczne i fizykochemiczne. Od klasycznego chemicznego określania składu do wysoce specjalistycznych analiz mikrośladowych wymagających bardzo drogiej aparatury. Jednak cały czas trwają badania nad opracowaniem dokładnych </a:t>
            </a:r>
            <a:br>
              <a:rPr sz="1800"/>
            </a:br>
            <a:r>
              <a:rPr b="0" lang="pl-PL" sz="1800" spc="-1" strike="noStrike">
                <a:solidFill>
                  <a:srgbClr val="000000"/>
                </a:solidFill>
                <a:latin typeface="Arial"/>
              </a:rPr>
              <a:t>i nieniszczących metod badania dzieł sztuki. Chodzi o to by do analizy nie trzeba było pobierać jakichkolwiek próbek z badanego obiektu lub by jej ilość była minimalna. </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50920" y="692280"/>
            <a:ext cx="87138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Arial"/>
              </a:rPr>
              <a:t>Rentgenografia</a:t>
            </a:r>
            <a:r>
              <a:rPr b="0" lang="pl-PL" sz="1800" spc="-1" strike="noStrike">
                <a:solidFill>
                  <a:srgbClr val="000000"/>
                </a:solidFill>
                <a:latin typeface="Arial"/>
              </a:rPr>
              <a:t> jest ogólnie dostępną i powszechnie wykorzystywaną metodą obrazowania struktury drewnianych dzieł sztuki, która była jak dotąd uważana za nieskuteczną w wykrywaniu niewielkich ilości substancji organicznych w niejednorodnej strukturze drewna. Powodem tego jest podobny współczynnik pochłaniania promieniowania rentgenowskiego przez drewno i impregnat, co przy dążeniu konserwatorów do wprowadzania niewielkich ilości impregnatu do struktury drewna skutkuje niewielkim kontrastem otrzymywanych obrazów.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ytuacja ta uległa zmianie od momentu wprowadzenia na rynek wysokoczułych cyfrowych detektorów promieniowania rentgenowskiego o odpowiednio wysokiej rozdzielczości przestrzennej. Opracowana metoda została skutecznie zastosowana do monitoringu procesu impregnacji rzeczywistych obiektów z kolekcji Muzeum. Przeprowadzone testy wykazały, że warstwa polichromii zawierająca znaczne ilości bieli ołowiowej redukuje czułość metody i ogranicza możliwości precyzyjnego wyznaczania rozkładów substancji impregnującej. </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24000" y="981000"/>
            <a:ext cx="86058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Arial"/>
              </a:rPr>
              <a:t>Metody rentgenowskie:</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jwiększe osiągnięcia na obecną chwilę odnotowuje technika rentgenowska, </a:t>
            </a:r>
            <a:br>
              <a:rPr sz="1800"/>
            </a:br>
            <a:r>
              <a:rPr b="0" lang="pl-PL" sz="1800" spc="-1" strike="noStrike">
                <a:solidFill>
                  <a:srgbClr val="000000"/>
                </a:solidFill>
                <a:latin typeface="Arial"/>
              </a:rPr>
              <a:t>a zwłaszcza jej najnowsza modyfikacja tomografia komputerowa. Metoda ta pozwala bardzo dokładnie wniknąć w strukturę dzieła sztuki i zbadać poszczególne jego warstwy. Trzeba pamiętać jednak o jej wadach. Promieniowanie jonizujące (jakim jest promieniowanie rentgenowskie) powoduje zmiany chemiczne i fizyczne </a:t>
            </a:r>
            <a:br>
              <a:rPr sz="1800"/>
            </a:br>
            <a:r>
              <a:rPr b="0" lang="pl-PL" sz="1800" spc="-1" strike="noStrike">
                <a:solidFill>
                  <a:srgbClr val="000000"/>
                </a:solidFill>
                <a:latin typeface="Arial"/>
              </a:rPr>
              <a:t>w prześwietlanym materiale i choć w trakcie pojedynczej analizy stosowane dawki promieniowania są niewielkie dzięki czemu zmiany są praktycznie niezauważalne to jednak częste stosowanie tej techniki lub długotrwałe analizy mogą doprowadzić do niekorzystnych zmian w materiale dzieła sztuki. Problemem jest też koszt aparatury i analizy oraz konieczność przestrzegania rygorystycznych zasad bezpieczeństwa pracy.</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341360"/>
            <a:ext cx="8496000" cy="3803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stosowanie technik rentgenowskich w badaniu dzieł sztuki jest bardzo szerokie. Tomografia komputerowa jest metodą cyfrowej obróbki sygnału, czyli jego przetworzeniem w celu uzyskania obrazu badanego obiektu. W ramach tomografii występują: rentgenowska tomografia komputerowa, tomografia komputerowa rezonansu magnetycznego oraz tomografia komputerowa wykorzystująca fale dźwiękowe. Rentgenowska tomografia komputerowa jest metodą badania radiologicznego odznaczająca się bardzo dużą rozdzielczością. Pozwala uzyskiwać obrazy przekrojów poprzecznych ciał o odmiennych właściwościach występujących w badanym obiekcie. W metodzie tej wiązka promieni rentgenowskich, których źródło obraca się wokół badanego obiektu przenika przezeń. Promieniowanie, które nie zostało całkowicie pochłonięte zostaje zarejestrowane przez detektory znajdujące się na pierścieniu otaczającym obiekt.</a:t>
            </a: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250920" y="1197000"/>
            <a:ext cx="864216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Arial"/>
              </a:rPr>
              <a:t>Pojęcie termografii</a:t>
            </a:r>
            <a:r>
              <a:rPr b="0" lang="pl-PL" sz="1800" spc="-1" strike="noStrike">
                <a:solidFill>
                  <a:srgbClr val="000000"/>
                </a:solidFill>
                <a:latin typeface="Arial"/>
              </a:rPr>
              <a:t> obejmuje zazwyczaj proces rejestracji i przetwarzania obrazów cyfrowych zwanych termogramami, pozyskanych dla zakresu promieniowania podczerwonego w celu otrzymania informacji o rozkładzie temperatury na powierzchni badanego obiektu lub zbioru obiektów tworzących tak zwaną scenę. Pojęcie to może także obejmować analizę oraz wyciąganie wniosków na podstawie zarejestrowanych i zazwyczaj przetworzonych komputerowo termogramów.</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la porównania, przez termowizję rozumie się często jedynie na bieżąco prowadzoną wizualną analizę sceny w zakresie bliskiej podczerwieni, bez wyznaczania wartości temperatury. W praktyce zdarza się często, że termowizja </a:t>
            </a:r>
            <a:br>
              <a:rPr sz="1800"/>
            </a:br>
            <a:r>
              <a:rPr b="0" lang="pl-PL" sz="1800" spc="-1" strike="noStrike">
                <a:solidFill>
                  <a:srgbClr val="000000"/>
                </a:solidFill>
                <a:latin typeface="Arial"/>
              </a:rPr>
              <a:t>i termografia traktowane są jako pojęcia równoważne. </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250920" y="260280"/>
            <a:ext cx="8642160" cy="53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 nieinwazyjnych metod badania dzieł sztuki należy metoda termowizyjna wykorzystująca promieniowanie podczerwone (nie powodujące jonizacji). Na razie uzyskiwane efekty nie zapewniają tak dobrych wyników jak techniki rentgenowskie. Termowizja to metoda pomiaru natężenia promieniowana podczerwonego </a:t>
            </a:r>
            <a:br>
              <a:rPr sz="1800"/>
            </a:br>
            <a:r>
              <a:rPr b="0" lang="pl-PL" sz="1800" spc="-1" strike="noStrike">
                <a:solidFill>
                  <a:srgbClr val="000000"/>
                </a:solidFill>
                <a:latin typeface="Arial"/>
              </a:rPr>
              <a:t>w różnych zakresach długości fal. Promieniowanie zależy od temperatury badanego obiektu, co oznacza, że w sposób pośredni termowizja może być wykorzystywana do oceny stanu cieplnego badanej struktury, w tym do określenia wartości temperatury. Duży wpływ na pomiar termowizyjny ma stan badanej powierzchni, w tym głównie jej chropowatość. W technikach termowizyjnych niezbędna jest znajomość emisyjności badanego obiektu, której wartość określa zdolność badanej powierzchni do emisji promieniowania przy uwzględnieniu stanu powierzchni (chropowatości), rodzaju materiału z jakiego jest wykonana, oraz długości fali promieniowania w jakim działa aparatura termowizyjna. Im większa wartość współczynnika emisyjności, tym więcej energii emituje badany obiekt i tym bardziej kontrastowy jest obraz termowizyjny. W konsekwencji do kamery dociera więcej informacji, która może być wykorzystana w badaniach konserwacyjnych. Pierwsze udokumentowane badania termowizyjne dotoczyły wykrywania przemurowań, identyfikacji wątku ceglanego pod tynkiem oraz prób poszukiwań malowideł ukrytych pod zewnętrzną warstwa tynku. </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99" descr=""/>
          <p:cNvPicPr/>
          <p:nvPr/>
        </p:nvPicPr>
        <p:blipFill>
          <a:blip r:embed="rId1"/>
          <a:stretch/>
        </p:blipFill>
        <p:spPr>
          <a:xfrm>
            <a:off x="684360" y="549360"/>
            <a:ext cx="3456000" cy="3036960"/>
          </a:xfrm>
          <a:prstGeom prst="rect">
            <a:avLst/>
          </a:prstGeom>
          <a:ln w="0">
            <a:noFill/>
          </a:ln>
        </p:spPr>
      </p:pic>
      <p:pic>
        <p:nvPicPr>
          <p:cNvPr id="139" name="Picture 500" descr=""/>
          <p:cNvPicPr/>
          <p:nvPr/>
        </p:nvPicPr>
        <p:blipFill>
          <a:blip r:embed="rId2"/>
          <a:stretch/>
        </p:blipFill>
        <p:spPr>
          <a:xfrm>
            <a:off x="4572000" y="549360"/>
            <a:ext cx="3529080" cy="3047760"/>
          </a:xfrm>
          <a:prstGeom prst="rect">
            <a:avLst/>
          </a:prstGeom>
          <a:ln w="0">
            <a:noFill/>
          </a:ln>
        </p:spPr>
      </p:pic>
      <p:sp>
        <p:nvSpPr>
          <p:cNvPr id="140" name="Text Box 501"/>
          <p:cNvSpPr/>
          <p:nvPr/>
        </p:nvSpPr>
        <p:spPr>
          <a:xfrm>
            <a:off x="324000" y="4221000"/>
            <a:ext cx="849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ściół NMP w Malborku, przemurowanie z okresu średniowiecza zarejestrowane kamerą termowizyjną</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Agnieszka</cp:lastModifiedBy>
  <dcterms:modified xsi:type="dcterms:W3CDTF">2013-09-17T19:10:46Z</dcterms:modified>
  <cp:revision>95</cp:revision>
  <dc:subject/>
  <dc:title>KORPUSKULARNO-FALOWA NATURA ŚWIATŁA</dc:title>
</cp:coreProperties>
</file>