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4E230-9CE5-4D75-AAA8-2B779124A042}"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5915-B67D-4A5B-BAA5-D9816E29E26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72495-B427-4917-8C05-55E235892D9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E4E5-98BE-4BF5-AA07-CC04CD867D7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9236-A0DB-47FC-BC8A-7EB8C0186C9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1F926-70CC-4ABA-9E2F-B35035C8E3D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EE0B2-DCBA-40DD-8F09-109141FD453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78826-D77F-4E25-8D9F-0E3EBF2A0D9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8DFDF-484D-41FC-BB19-BDD65FC0C8C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D077-9EF8-47FD-BE8A-F7C00933632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4CF69-3AA5-467C-85A0-9895F85C38E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90C1-4F7D-4501-B345-C620F76C4FF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5D97E-4DEE-4335-8464-D03310A1A34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CAF9-A578-4E9B-B0F0-0A0E6C02847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1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2C7EF-B5B5-4F0F-BD23-A81575B17A5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FC60-CA57-45A2-B35E-2A0832E4AA0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C7B0-A6BC-40DF-9BE1-3BC3DB207B4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8AA4-C51F-441B-A16B-2687F7162B4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6AF2-5ECD-4FE4-B2EA-9F73F5D5CC3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D8F5-9A88-49E8-A66E-BC27F6C9E45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A36CD-8CA4-4A2C-973A-5DE5A04B8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F4EAC-9A2F-40DE-BE18-6AE620D4C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FF64C-73C1-4343-BFFD-4162931C9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6AA63-5D97-433C-B8F0-B73BD34D3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D6E468-4124-4B32-9287-F064364B5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10668-FBC6-47ED-8507-E251D6B34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9119E-CDE7-4BC4-AC41-7F1C0D9F1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55C17-9561-454C-8136-B9E188FFA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97F6E-B507-4741-882C-80245F9D0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A5EF82-4899-47DE-A0EF-9C36344D6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6F9C8-96F4-4B18-8B2E-6B73CFDD8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8240F-A909-48DC-9337-505E13730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09526-5FE7-4AD2-B3A5-14F20B96B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E530E-77D4-4765-B0F9-2BE17BA5C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30536-70E6-42D1-9910-7DC3AEE12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99DC3C-8F91-4A96-B9B6-60B8D5158B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8FD20E-C571-417A-A7EF-297E6C6C3D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B2F20-0C99-4CD2-B6B0-A52323943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7BD8C-6968-44E2-9E06-F704CCA46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62ECD-DBBC-4F19-BBDB-4908218F1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024F7-2B3C-4947-A0FA-459AC8B38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CB432-EA56-4D13-9E4B-242F8E2F5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CFA00-8A5D-42C4-A335-59F5D46FD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1853B-34DF-4367-A152-B6CBFA71E0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3A781-9030-4CEF-A4BC-CA42C3F6B1C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F03D-B47F-4384-B183-A9112F82619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000" y="1557000"/>
            <a:ext cx="784836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000000"/>
                </a:solidFill>
                <a:latin typeface="Calibri"/>
              </a:rPr>
              <a:t>Proch czarny i bezdymny</a:t>
            </a:r>
            <a:br>
              <a:rPr sz="4800"/>
            </a:br>
            <a:br>
              <a:rPr sz="3600"/>
            </a:br>
            <a:r>
              <a:rPr b="1" lang="pl-PL" sz="3600" spc="-1" strike="noStrike">
                <a:solidFill>
                  <a:srgbClr val="000000"/>
                </a:solidFill>
                <a:latin typeface="Calibri"/>
              </a:rPr>
              <a:t>Alfred Nobel i jego dynamit</a:t>
            </a:r>
            <a:r>
              <a:rPr b="0" lang="pl-PL" sz="4000" spc="-1" strike="noStrike">
                <a:solidFill>
                  <a:srgbClr val="000000"/>
                </a:solidFill>
                <a:latin typeface="Calibri"/>
              </a:rPr>
              <a:t> </a:t>
            </a:r>
            <a:endParaRPr b="0" lang="en-US" sz="4000" spc="-1" strike="noStrike">
              <a:solidFill>
                <a:srgbClr val="000000"/>
              </a:solidFill>
              <a:latin typeface="Calibri"/>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odtytuł 2"/>
          <p:cNvSpPr/>
          <p:nvPr/>
        </p:nvSpPr>
        <p:spPr>
          <a:xfrm>
            <a:off x="1116000" y="378936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gr inż. Magdalena Ku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alety prochu bezdymnego</a:t>
            </a: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ła ilość stałych produktów spalania, co powoduje mniejszą ilość dymu oraz mniejszy problem z osadem powstałym w lufie broni oraz komorze spalania. </a:t>
            </a:r>
            <a:endParaRPr b="0" lang="en-US" sz="2000" spc="-1" strike="noStrike">
              <a:solidFill>
                <a:srgbClr val="000000"/>
              </a:solidFill>
              <a:latin typeface="Calibri"/>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ża ilość spalin gazowych (tzw. gazów prochowych), co zwiększa dynamikę pocisku – pocisk jest wypychany z lufy przez spaliny.</a:t>
            </a:r>
            <a:endParaRPr b="0" lang="en-US" sz="2000" spc="-1" strike="noStrike">
              <a:solidFill>
                <a:srgbClr val="000000"/>
              </a:solidFill>
              <a:latin typeface="Calibri"/>
            </a:endParaRPr>
          </a:p>
          <a:p>
            <a:pPr marL="3430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ększa odporność na przypadkowy zapłon – proch bezdymny trudniej się zapala niż proch czarny, co zwiększa bezpieczeństwo jego produkcji i przechowywania. </a:t>
            </a:r>
            <a:endParaRPr b="0" lang="en-US" sz="2000" spc="-1" strike="noStrike">
              <a:solidFill>
                <a:srgbClr val="000000"/>
              </a:solidFill>
              <a:latin typeface="Calibri"/>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h na polu walki</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80000"/>
              </a:lnSpc>
              <a:spcBef>
                <a:spcPts val="499"/>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 wynalezieniu prochu czarnego w Chinach pierwotnie znajdował on zastosowanie wyłącznie do celów niemilitarnych przy produkcji fajerwerków. </a:t>
            </a:r>
            <a:endParaRPr b="0" lang="en-US" sz="2000" spc="-1" strike="noStrike">
              <a:solidFill>
                <a:srgbClr val="000000"/>
              </a:solidFill>
              <a:latin typeface="Calibri"/>
            </a:endParaRPr>
          </a:p>
          <a:p>
            <a:pPr indent="0" algn="just">
              <a:lnSpc>
                <a:spcPct val="80000"/>
              </a:lnSpc>
              <a:spcBef>
                <a:spcPts val="249"/>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ierwsze zastosowanie militarne stanowiły prymitywne miny czy granaty i bomby, najczęściej wyrzucane ręcznie w stronę przeciwnika. </a:t>
            </a:r>
            <a:endParaRPr b="0" lang="en-US" sz="2000" spc="-1" strike="noStrike">
              <a:solidFill>
                <a:srgbClr val="000000"/>
              </a:solidFill>
              <a:latin typeface="Calibri"/>
            </a:endParaRPr>
          </a:p>
          <a:p>
            <a:pPr indent="0" algn="just">
              <a:lnSpc>
                <a:spcPct val="80000"/>
              </a:lnSpc>
              <a:spcBef>
                <a:spcPts val="249"/>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koło X wieku w Chinach pojawia się tzw. lanca ognista, w której pojemnik z prochem oraz niewielkimi odłamkami kamieni czy ceramiki umieszczany był na długim kiju. Jego podpalenie raziło przeciwnika kilkumetrowym ogniem oraz w/w odłamkami.</a:t>
            </a:r>
            <a:endParaRPr b="0" lang="en-US" sz="2000" spc="-1" strike="noStrike">
              <a:solidFill>
                <a:srgbClr val="000000"/>
              </a:solidFill>
              <a:latin typeface="Calibri"/>
            </a:endParaRPr>
          </a:p>
          <a:p>
            <a:pPr indent="0" algn="just">
              <a:lnSpc>
                <a:spcPct val="80000"/>
              </a:lnSpc>
              <a:spcBef>
                <a:spcPts val="249"/>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ontynuacją lanc ognistych było opracowanie prototypu działa około XIII wieku.  </a:t>
            </a:r>
            <a:endParaRPr b="0" lang="en-US" sz="2000" spc="-1" strike="noStrike">
              <a:solidFill>
                <a:srgbClr val="000000"/>
              </a:solidFill>
              <a:latin typeface="Calibri"/>
            </a:endParaRPr>
          </a:p>
          <a:p>
            <a:pPr indent="0" algn="just">
              <a:lnSpc>
                <a:spcPct val="80000"/>
              </a:lnSpc>
              <a:spcBef>
                <a:spcPts val="249"/>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kolejnych wiekach dopracowano skład chemiczny prochu czarnego (proporcje), oraz zaczęto stosować pociski o średnicy dopasowanej do średnicy luf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ziała</a:t>
            </a: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 kolejnych etapach zwiększono wytrzymałość luf oraz zaczęto stosować lufy metalowe, co umożliwiło zwiększenie ich gładkości oraz wyrównanie przekroju lufy na całej jej długości. Taka broń była w stanie miotać pociski  na znaczną odległość.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 XVI wieku działa nabrały znaczenia bojowego, tzn. od tego momentu możemy mówić, że ich zastosowanie oraz ilość zaczęły decydować o losach bitew i wojen.</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gólna istota działania broni palnej nie zmieniła się do dziś. Pocisk wystrzeliwany jest z lufy przez gazy prochowe powstałe w wyniku gwałtownego spalania prochu.</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1" name="Picture 4" descr="MC900230682[1]"/>
          <p:cNvPicPr/>
          <p:nvPr/>
        </p:nvPicPr>
        <p:blipFill>
          <a:blip r:embed="rId1"/>
          <a:stretch/>
        </p:blipFill>
        <p:spPr>
          <a:xfrm>
            <a:off x="5175360" y="4508640"/>
            <a:ext cx="3357360" cy="1652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roń ręczna</a:t>
            </a: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Ze względu na dużą wagę i rozmiar broni prochowej, ręczną broń tego typu zaczęto stosować później niż działa. Pierwsze strzelby pojawiły się w XV wieku – charakteryzowały się one niewielką skutecznością i celnością. Dopiero XVII wieczne muszkiety stały się ważnym elementem żołnierskiego uzbrojenia.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 XIX wieku opracowane zostały nowe rodzaje prochu – w tym proch nitrocelulozowy (bezdymny) oraz wynaleziony został karabin wielostrzałowy na pociski.  Od tego czasu proch i jego pochodne stały się  podstawą uzbrojenie stosowanego podczas prowadzenia działań wojennych.</a:t>
            </a:r>
            <a:endParaRPr b="0" lang="en-US" sz="2000" spc="-1" strike="noStrike">
              <a:solidFill>
                <a:srgbClr val="000000"/>
              </a:solidFill>
              <a:latin typeface="Calibri"/>
            </a:endParaRPr>
          </a:p>
        </p:txBody>
      </p:sp>
      <p:pic>
        <p:nvPicPr>
          <p:cNvPr id="124" name="Picture 5" descr="MC900230929[1]"/>
          <p:cNvPicPr/>
          <p:nvPr/>
        </p:nvPicPr>
        <p:blipFill>
          <a:blip r:embed="rId1"/>
          <a:stretch/>
        </p:blipFill>
        <p:spPr>
          <a:xfrm>
            <a:off x="5219640" y="4221000"/>
            <a:ext cx="3301920" cy="185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Calibri"/>
              </a:rPr>
              <a:t>Zastosowanie niemilitarne </a:t>
            </a: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za zastosowaniami militarnymi, proch stosowany był od wieków również w kopalniach do wysadzania skał oraz podczas budowy kanałów i tuneli.</a:t>
            </a:r>
            <a:endParaRPr b="0" lang="en-US" sz="2000" spc="-1" strike="noStrike">
              <a:solidFill>
                <a:srgbClr val="000000"/>
              </a:solidFill>
              <a:latin typeface="Calibri"/>
            </a:endParaRPr>
          </a:p>
        </p:txBody>
      </p:sp>
      <p:pic>
        <p:nvPicPr>
          <p:cNvPr id="127" name="Picture 9" descr="MC900286871[1]"/>
          <p:cNvPicPr/>
          <p:nvPr/>
        </p:nvPicPr>
        <p:blipFill>
          <a:blip r:embed="rId1"/>
          <a:stretch/>
        </p:blipFill>
        <p:spPr>
          <a:xfrm>
            <a:off x="6443640" y="2421000"/>
            <a:ext cx="2097000" cy="2160360"/>
          </a:xfrm>
          <a:prstGeom prst="rect">
            <a:avLst/>
          </a:prstGeom>
          <a:ln w="0">
            <a:noFill/>
          </a:ln>
        </p:spPr>
      </p:pic>
      <p:sp>
        <p:nvSpPr>
          <p:cNvPr id="128" name="Rectangle 10"/>
          <p:cNvSpPr/>
          <p:nvPr/>
        </p:nvSpPr>
        <p:spPr>
          <a:xfrm>
            <a:off x="468360" y="2536920"/>
            <a:ext cx="5832360" cy="34844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Calibri"/>
              </a:rPr>
              <a:t>Ciekawostka:</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Calibri"/>
              </a:rPr>
              <a:t>Uczeni od wieków interesowali się pomysłem wykorzystania energii uwalnianej z prochu podczas jego spalania. Już w 1673r. Christiaan Huygens opracował teoretyczny model tzw. maszyny prochowej – model silnika spalinowego napędzanego prochem. Mimo że nigdy nie udało mu się zbudować maszyny, jej model stał się przyczynkiem późniejszej maszyny parowej.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fred Nobel</a:t>
            </a:r>
            <a:endParaRPr b="0" lang="en-US" sz="4400" spc="-1" strike="noStrike">
              <a:solidFill>
                <a:srgbClr val="000000"/>
              </a:solidFill>
              <a:latin typeface="Calibri"/>
            </a:endParaRPr>
          </a:p>
        </p:txBody>
      </p:sp>
      <p:pic>
        <p:nvPicPr>
          <p:cNvPr id="130" name="Picture 4" descr=""/>
          <p:cNvPicPr/>
          <p:nvPr/>
        </p:nvPicPr>
        <p:blipFill>
          <a:blip r:embed="rId1"/>
          <a:stretch/>
        </p:blipFill>
        <p:spPr>
          <a:xfrm>
            <a:off x="6877080" y="1700280"/>
            <a:ext cx="1809720" cy="2400120"/>
          </a:xfrm>
          <a:prstGeom prst="rect">
            <a:avLst/>
          </a:prstGeom>
          <a:ln w="0">
            <a:noFill/>
          </a:ln>
        </p:spPr>
      </p:pic>
      <p:sp>
        <p:nvSpPr>
          <p:cNvPr id="131" name="Rectangle 7"/>
          <p:cNvSpPr/>
          <p:nvPr/>
        </p:nvSpPr>
        <p:spPr>
          <a:xfrm>
            <a:off x="457200" y="1671480"/>
            <a:ext cx="6346800" cy="24051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lfred Nobel (1833 – 1896). Ojciec Alfreda, Immanuel, był inżynierem i wynalazcą. W swojej pracy prowadził badania nad wykorzystaniem materiałów wybuchowych. Immanuelowi bardzo zależało na edukacji swoich dzieci, które w przyszłości miały przejąć rodzinny interes, toteż młody Alfred studiował inżynierię chemiczną na najlepszych, jak na ówczesne czasy, uczelniach świata. W Paryżu spotkał Ascanio Sobrero – wynalazcę nitrogliceryny.</a:t>
            </a:r>
            <a:endParaRPr b="0" lang="en-US" sz="2000" spc="-1" strike="noStrike">
              <a:solidFill>
                <a:srgbClr val="000000"/>
              </a:solidFill>
              <a:latin typeface="Calibri"/>
            </a:endParaRPr>
          </a:p>
          <a:p>
            <a:pPr algn="just">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500" spc="-1" strike="noStrike">
                <a:solidFill>
                  <a:srgbClr val="000000"/>
                </a:solidFill>
                <a:latin typeface="Calibri"/>
              </a:rPr>
              <a:t>.</a:t>
            </a:r>
            <a:endParaRPr b="0" lang="en-US" sz="500" spc="-1" strike="noStrike">
              <a:solidFill>
                <a:srgbClr val="000000"/>
              </a:solidFill>
              <a:latin typeface="Calibri"/>
            </a:endParaRPr>
          </a:p>
        </p:txBody>
      </p:sp>
      <p:sp>
        <p:nvSpPr>
          <p:cNvPr id="132" name="Rectangle 8"/>
          <p:cNvSpPr/>
          <p:nvPr/>
        </p:nvSpPr>
        <p:spPr>
          <a:xfrm>
            <a:off x="457200" y="4076640"/>
            <a:ext cx="8229600" cy="22608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o zakończonych studiach Alfred Nobel pracował wraz z ojcem i bratem nad możliwościami wykorzystania tej niebezpiecznej substancji wybuchowej. Nie zniechęciła go nawet śmierć brata, który zginął w wyniku niekontrolowanego jej wybuchu. </a:t>
            </a:r>
            <a:endParaRPr b="0" lang="en-US" sz="2000" spc="-1" strike="noStrike">
              <a:solidFill>
                <a:srgbClr val="000000"/>
              </a:solidFill>
              <a:latin typeface="Calibri"/>
            </a:endParaRPr>
          </a:p>
          <a:p>
            <a:pPr algn="just">
              <a:lnSpc>
                <a:spcPct val="90000"/>
              </a:lnSpc>
              <a:spcBef>
                <a:spcPts val="249"/>
              </a:spcBef>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90000"/>
              </a:lnSpc>
              <a:spcBef>
                <a:spcPts val="499"/>
              </a:spcBef>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zełomowym etapem w pracy Alfreda Nobla było wynalezienie dynamitu. Wynalazek ten opatentował w 1867r. (Nazwę dynamit zaczerpnął z języka greckiego, gdzie oznacza moc).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ynamit</a:t>
            </a: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liceryna jest substancją wybuchową o znacznie większej mocy od wszystkich znanych w XIX wieku środków wybuchowych. Niestety jest niezwykle wrażliwa na wszelkie bodźce zewnętrzne – wybucha pod wpływem lekkiego wstrząsu, ogrzania, iskry czy uderzenia.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ynamit jako materiał wybuchowy składa się z 75% nitrogliceryny oraz 25% ziemi okrzemkowej. Wynalazek był w pewnym sensie dziełem przypadku, gdyż ziemia okrzemkowa stosowana była jako uszczelnienie naczyń w których przechowywano roztwór nitrogliceryny.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Ziemia okrzemkowa nasączona nitrogliceryną ma konsystencję plasteliny, którą można swobodnie formować oraz dodatkowo jest odporna na przypadkowy wybuch – odporna na wstrząs i uderzenie. Ze względu na powyższe cechy, dynamit musiał być dodatkowo wyposażony w spłonkę oraz lont pozwalające na jego kontrolowaną i bezpieczną detonację na odległość. </a:t>
            </a:r>
            <a:endParaRPr b="0" lang="en-US" sz="2000" spc="-1" strike="noStrike">
              <a:solidFill>
                <a:srgbClr val="000000"/>
              </a:solidFill>
              <a:latin typeface="Calibri"/>
            </a:endParaRPr>
          </a:p>
        </p:txBody>
      </p:sp>
      <p:pic>
        <p:nvPicPr>
          <p:cNvPr id="135" name="Picture 4" descr="MC900371034[1]"/>
          <p:cNvPicPr/>
          <p:nvPr/>
        </p:nvPicPr>
        <p:blipFill>
          <a:blip r:embed="rId1"/>
          <a:stretch/>
        </p:blipFill>
        <p:spPr>
          <a:xfrm>
            <a:off x="7236000" y="189000"/>
            <a:ext cx="1271520" cy="141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zwój dynamitu</a:t>
            </a:r>
            <a:endParaRPr b="0" lang="en-US" sz="4400" spc="-1" strike="noStrike">
              <a:solidFill>
                <a:srgbClr val="000000"/>
              </a:solidFill>
              <a:latin typeface="Calibri"/>
            </a:endParaRPr>
          </a:p>
        </p:txBody>
      </p:sp>
      <p:sp>
        <p:nvSpPr>
          <p:cNvPr id="137" name="PlaceHolder 2"/>
          <p:cNvSpPr>
            <a:spLocks noGrp="1"/>
          </p:cNvSpPr>
          <p:nvPr>
            <p:ph/>
          </p:nvPr>
        </p:nvSpPr>
        <p:spPr>
          <a:xfrm>
            <a:off x="457200" y="1599840"/>
            <a:ext cx="8229600" cy="485316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ynalazek Alfreda Nobla w szybkim czasie zyskał ogromną popularność ze względu na możliwość bezpiecznego zastosowania przy kruszeniu skał w kopalnictwie oraz budownictwie specjalnym (tunele, kanały).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ecnie skład i budowa dynamitu różnią się od pierwotnego patentu. Przyczynił się do tego już sam Nobel, który przez całe życie udoskonalał swój wynalazek. Oprócz podstawowych składników, dynamit wzbogacany jest między innymi nitrocelulozą oraz azotanem amonu – również substancjami wybuchowymi.</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ynalazca dynamitu odziedziczył po swoim ojcu zmysł do prowadzenia interesów. Osobiście zajmował się produkcją dynamitu na skalę przemysłową. Pod koniec życia Alfred Nobel był właścicielem ponad 90 fabryk i laboratoriów zajmujących się produkcją oraz udoskonalaniem dynamitu.</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bel, pomimo potężnego majątku i licznych interesów, nigdy nie porzucił pracy naukowej, badawczej. Jako wynalazca w ciągu swojego życia zarejestrował w sumie 355 patentów. </a:t>
            </a:r>
            <a:endParaRPr b="0" lang="en-US" sz="2000" spc="-1" strike="noStrike">
              <a:solidFill>
                <a:srgbClr val="000000"/>
              </a:solidFill>
              <a:latin typeface="Calibri"/>
            </a:endParaRPr>
          </a:p>
        </p:txBody>
      </p:sp>
      <p:pic>
        <p:nvPicPr>
          <p:cNvPr id="138" name="Picture 6" descr="MC900239023[1]"/>
          <p:cNvPicPr/>
          <p:nvPr/>
        </p:nvPicPr>
        <p:blipFill>
          <a:blip r:embed="rId1"/>
          <a:stretch/>
        </p:blipFill>
        <p:spPr>
          <a:xfrm>
            <a:off x="6732720" y="333360"/>
            <a:ext cx="1858680" cy="1208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groda Nobla</a:t>
            </a: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lfred Nobel zmarł na atak serca 10 grudnia 1896r. Po śmierci otworzono jego testament w którym polecił, aby cała jego fortuna została ulokowana w bezpiecznych inwestycjach, a procent z nich co roku został rozdzielany w formie nagród dla osób, które w poprzedzającym roku „przyniosły ludzkości największe korzyści”. Nobel polecił, aby nagroda jego imienia przyznawana była w następujących dziedzinach: fizyki, chemii, medycyny, literatury i pokoju. Wykonawcą swego testamentu ustanowił Szwedzką Akademię Nauk. Ze względu na liczne sprzeciwy i procesy niektórych członków rodziny Nobla – domagających się spadku po swym krewniaku dla siebie, Fundacja Alfreda Nobla rozpoczęła działalność w czerwcu 1900r.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Majątek Alfreda Nobla w chwili jego śmierci wart był około 31,5 mln koron szwedzkich, czyli w przeliczeniu na dzisiejsze pieniądze około 800 milionów złotych. Wysokość nagrody w 2012 roku wyniosła w sumie 8 mln koron szwedzkich czyli po około 3 800 tys. złotych na dyscyplinę. </a:t>
            </a:r>
            <a:endParaRPr b="0" lang="en-US" sz="2000" spc="-1" strike="noStrike">
              <a:solidFill>
                <a:srgbClr val="000000"/>
              </a:solidFill>
              <a:latin typeface="Calibri"/>
            </a:endParaRPr>
          </a:p>
        </p:txBody>
      </p:sp>
      <p:pic>
        <p:nvPicPr>
          <p:cNvPr id="141" name="Picture 4" descr="MC900359613[1]"/>
          <p:cNvPicPr/>
          <p:nvPr/>
        </p:nvPicPr>
        <p:blipFill>
          <a:blip r:embed="rId1"/>
          <a:stretch/>
        </p:blipFill>
        <p:spPr>
          <a:xfrm>
            <a:off x="6838920" y="189000"/>
            <a:ext cx="1693800" cy="1549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184428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Calibri"/>
              </a:rPr>
              <a:t>Dziękuję za uwagę</a:t>
            </a:r>
            <a:endParaRPr b="0" lang="en-US" sz="4900" spc="-1" strike="noStrike">
              <a:solidFill>
                <a:srgbClr val="000000"/>
              </a:solidFill>
              <a:latin typeface="Calibri"/>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h czarny</a:t>
            </a: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8229600" cy="478152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h czarny odkryty został w Chinach. Data jego odkrycia nie jest pewna, szacuje się że miało to miejsce około VII do IX wieku. Do końca XVIII wieku proch czarny był jedyną znaną substancją wybuchową.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ierwsze podania na temat prochu umieszczone zostały w tekstach chińskich alchemików. Stanowią one ostrzeżenie, aby nie mieszać składników prochu ze sobą gdyż może to spowodować wybuch.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piero około XI wieku zaczęto wykorzystywać proch czarny do celów militarnych oraz do produkcji fajerwerków. W Europie proch zaczął się pojawiać prawdopodobnie około XIII wieku.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ecnie proch czarny jest rzadko stosowany, wyparty został miedzy innymi przez proch bezdymny. Stosuje się go głównie jako dodatek do fajerwerków.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h czarny jest mieszaniną sproszkowanego węgla drzewnego (15%), siarki (10%) oraz azotanu potasu (75%). Proporcje podano wagowo. Azotan potasu czyli tzw. saletra indyjska występuje w przyrodzie w postaci minerału.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alanie prochu czarnego</a:t>
            </a: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zybliżony zapis reakcji spalania prochu czarnego:</a:t>
            </a:r>
            <a:endParaRPr b="0" lang="en-US" sz="20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libri"/>
              </a:rPr>
              <a:t>10 KNO</a:t>
            </a:r>
            <a:r>
              <a:rPr b="0" lang="pl-PL" sz="2400" spc="-1" strike="noStrike" baseline="-25000">
                <a:solidFill>
                  <a:srgbClr val="000000"/>
                </a:solidFill>
                <a:latin typeface="Calibri"/>
              </a:rPr>
              <a:t>3</a:t>
            </a:r>
            <a:r>
              <a:rPr b="0" lang="pl-PL" sz="2400" spc="-1" strike="noStrike">
                <a:solidFill>
                  <a:srgbClr val="000000"/>
                </a:solidFill>
                <a:latin typeface="Calibri"/>
              </a:rPr>
              <a:t> + 3 S + 8 C → 2 K</a:t>
            </a:r>
            <a:r>
              <a:rPr b="0" lang="pl-PL" sz="2400" spc="-1" strike="noStrike" baseline="-25000">
                <a:solidFill>
                  <a:srgbClr val="000000"/>
                </a:solidFill>
                <a:latin typeface="Calibri"/>
              </a:rPr>
              <a:t>2</a:t>
            </a:r>
            <a:r>
              <a:rPr b="0" lang="pl-PL" sz="2400" spc="-1" strike="noStrike">
                <a:solidFill>
                  <a:srgbClr val="000000"/>
                </a:solidFill>
                <a:latin typeface="Calibri"/>
              </a:rPr>
              <a:t>CO</a:t>
            </a:r>
            <a:r>
              <a:rPr b="0" lang="pl-PL" sz="2400" spc="-1" strike="noStrike" baseline="-25000">
                <a:solidFill>
                  <a:srgbClr val="000000"/>
                </a:solidFill>
                <a:latin typeface="Calibri"/>
              </a:rPr>
              <a:t>3</a:t>
            </a:r>
            <a:r>
              <a:rPr b="0" lang="pl-PL" sz="2400" spc="-1" strike="noStrike">
                <a:solidFill>
                  <a:srgbClr val="000000"/>
                </a:solidFill>
                <a:latin typeface="Calibri"/>
              </a:rPr>
              <a:t> </a:t>
            </a:r>
            <a:r>
              <a:rPr b="0" lang="en-US" sz="2400" spc="-1" strike="noStrike">
                <a:solidFill>
                  <a:srgbClr val="000000"/>
                </a:solidFill>
                <a:latin typeface="Calibri"/>
              </a:rPr>
              <a:t>+ 3 K</a:t>
            </a:r>
            <a:r>
              <a:rPr b="0" lang="en-US" sz="2400" spc="-1" strike="noStrike" baseline="-25000">
                <a:solidFill>
                  <a:srgbClr val="000000"/>
                </a:solidFill>
                <a:latin typeface="Calibri"/>
              </a:rPr>
              <a:t>2</a:t>
            </a:r>
            <a:r>
              <a:rPr b="0" lang="en-US" sz="2400" spc="-1" strike="noStrike">
                <a:solidFill>
                  <a:srgbClr val="000000"/>
                </a:solidFill>
                <a:latin typeface="Calibri"/>
              </a:rPr>
              <a:t>SO</a:t>
            </a:r>
            <a:r>
              <a:rPr b="0" lang="en-US" sz="2400" spc="-1" strike="noStrike" baseline="-25000">
                <a:solidFill>
                  <a:srgbClr val="000000"/>
                </a:solidFill>
                <a:latin typeface="Calibri"/>
              </a:rPr>
              <a:t>4</a:t>
            </a:r>
            <a:r>
              <a:rPr b="0" lang="en-US" sz="2400" spc="-1" strike="noStrike">
                <a:solidFill>
                  <a:srgbClr val="000000"/>
                </a:solidFill>
                <a:latin typeface="Calibri"/>
              </a:rPr>
              <a:t> + 6 CO</a:t>
            </a:r>
            <a:r>
              <a:rPr b="0" lang="en-US" sz="2400" spc="-1" strike="noStrike" baseline="-25000">
                <a:solidFill>
                  <a:srgbClr val="000000"/>
                </a:solidFill>
                <a:latin typeface="Calibri"/>
              </a:rPr>
              <a:t>2</a:t>
            </a:r>
            <a:r>
              <a:rPr b="0" lang="en-US" sz="2400" spc="-1" strike="noStrike">
                <a:solidFill>
                  <a:srgbClr val="000000"/>
                </a:solidFill>
                <a:latin typeface="Calibri"/>
              </a:rPr>
              <a:t>↑ + 5 N</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iadomo jednak, że zapis ten stanowi jedynie pewne przybliżenie, gdyż oprócz powyższych (węglan potasu + siarczan (VI) potasu + dwutlenek węgla + azot) w efekcie spalania prochu czarnego wydzielanych jest jeszcze kilka innych  substancji. Najogólniej szacuje się, że wynikiem jego spalania jest około 56% produktów stałych, 43% produktów gazowych oraz około 1% wody. Duże ilości dymu wydzielane podczas wybuchu prochu czarnego są efektem rozpylenia w powietrzu stałych produktów spalani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h bezdymny</a:t>
            </a: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Określenie proch bezdymny odnosi się do całej grupy substancji wybuchowych, których wspólną cecha jest to, że w wyniku ich spalania (wybuchu) wytwarzane są wyłącznie lub głównie produkty gazowe takie jak azot, wodór, tlenek i dwutlenek węgla czy para wodna. Dzięki takiemu spalaniu, procesowi nie towarzyszy duża ilość dymu oraz osadów.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o grupy tej należą między innymi proch nitrocelulozowy, kordyt, balistyt i proch bezbłyskowy. Na szczególną uwagę zasługuje proch nitrocelulozowy, ponieważ to on obecnie stosowany jest w broni palnej zamiast prochu czarnego. </a:t>
            </a:r>
            <a:endParaRPr b="0" lang="en-US" sz="2000" spc="-1" strike="noStrike">
              <a:solidFill>
                <a:srgbClr val="000000"/>
              </a:solidFill>
              <a:latin typeface="Calibri"/>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och nitrocelulozowy, zwany prochem szarym lub białym, wynaleziony został we Francji w 1886r przez Paula Vieille. Proch szary powstaje poprzez zmieszanie dwóch postaci nitrocelulozy tj. kolodium i bawełny strzelniczej w eterze i alkoholu.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ybuch prochu</a:t>
            </a: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równo proch czarny jak i bezdymny w wolnej przestrzeni spala się gwałtownie, ale nie wybucha. Dopiero w zamkniętej przestrzeni proces spalania powoduje powstanie tzw. fali uderzeniowej rozchodzącej się z bardzo dużą prędkością. Fala uderzeniowa trafiająca na przeszkodę np. w postaci ścianki naboju powoduje jej rozerwanie, a tym samym efekt wybuchu. Fala ta tworzona jest w znacznej mierze przez gazy będące efektem spalania prochu oraz na skutek wydzielanej w tym procesie energii.</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równo proch czarny jak i bezdymny występują w formie granulatu. Granulat otrzymuje się poprzez sprasowanie sproszkowanej postaci prochu, a następnie odpowiednie łamanie i kruszenie wypraski na granulat. Forma granulatu polepsza jego spalanie oraz zwiększa energię wybuchu poprzez zwiększenie gęstości prochu.</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metry prochu</a:t>
            </a: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równując właściwości wybuchowe prochu należy wziąć pod uwagę przede wszystkim trzy parametry:</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Energia wybuchu</a:t>
            </a:r>
            <a:r>
              <a:rPr b="0" lang="pl-PL" sz="2000" spc="-1" strike="noStrike">
                <a:solidFill>
                  <a:srgbClr val="000000"/>
                </a:solidFill>
                <a:latin typeface="Calibri"/>
              </a:rPr>
              <a:t> – właściwie energia spalania. Jest to ilość energii wyprodukowana w wyniku spalenia lub wybuchu jednego kilograma materiału. Wyrażona w MJ/kg. </a:t>
            </a:r>
            <a:endParaRPr b="0" lang="en-US" sz="2000" spc="-1" strike="noStrike">
              <a:solidFill>
                <a:srgbClr val="000000"/>
              </a:solidFill>
              <a:latin typeface="Calibri"/>
            </a:endParaRPr>
          </a:p>
          <a:p>
            <a:pPr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ędkość detonacji</a:t>
            </a:r>
            <a:r>
              <a:rPr b="0" lang="pl-PL" sz="2000" spc="-1" strike="noStrike">
                <a:solidFill>
                  <a:srgbClr val="000000"/>
                </a:solidFill>
                <a:latin typeface="Calibri"/>
              </a:rPr>
              <a:t> – prędkość rozchodzenia się fali uderzeniowej, czyli gwałtownego wzrostu ciśnienia gazu, powstałego w wyniku wybuchu. Wyrażona w m/s. </a:t>
            </a:r>
            <a:endParaRPr b="0" lang="en-US" sz="2000" spc="-1" strike="noStrike">
              <a:solidFill>
                <a:srgbClr val="000000"/>
              </a:solidFill>
              <a:latin typeface="Calibri"/>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Objętość gazów</a:t>
            </a:r>
            <a:r>
              <a:rPr b="0" lang="pl-PL" sz="2000" spc="-1" strike="noStrike">
                <a:solidFill>
                  <a:srgbClr val="000000"/>
                </a:solidFill>
                <a:latin typeface="Calibri"/>
              </a:rPr>
              <a:t> – objętościowa ilość gazów powstałych w wyniku spalania lub wybuchu jednego kilograma materiału. Wyrażona w dm</a:t>
            </a:r>
            <a:r>
              <a:rPr b="0" lang="pl-PL" sz="2000" spc="-1" strike="noStrike" baseline="30000">
                <a:solidFill>
                  <a:srgbClr val="000000"/>
                </a:solidFill>
                <a:latin typeface="Calibri"/>
              </a:rPr>
              <a:t>3</a:t>
            </a:r>
            <a:r>
              <a:rPr b="0" lang="pl-PL" sz="2000" spc="-1" strike="noStrike">
                <a:solidFill>
                  <a:srgbClr val="000000"/>
                </a:solidFill>
                <a:latin typeface="Calibri"/>
              </a:rPr>
              <a:t>/kg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łaściwości prochu</a:t>
            </a:r>
            <a:endParaRPr b="0" lang="en-US" sz="4400" spc="-1" strike="noStrike">
              <a:solidFill>
                <a:srgbClr val="000000"/>
              </a:solidFill>
              <a:latin typeface="Calibri"/>
            </a:endParaRPr>
          </a:p>
        </p:txBody>
      </p:sp>
      <p:graphicFrame>
        <p:nvGraphicFramePr>
          <p:cNvPr id="109" name=""/>
          <p:cNvGraphicFramePr/>
          <p:nvPr/>
        </p:nvGraphicFramePr>
        <p:xfrm>
          <a:off x="900000" y="1628640"/>
          <a:ext cx="7344000" cy="2125800"/>
        </p:xfrm>
        <a:graphic>
          <a:graphicData uri="http://schemas.openxmlformats.org/drawingml/2006/table">
            <a:tbl>
              <a:tblPr/>
              <a:tblGrid>
                <a:gridCol w="2743200"/>
                <a:gridCol w="2297160"/>
                <a:gridCol w="230364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Materiał     Parametr</a:t>
                      </a:r>
                      <a:endParaRPr b="0" lang="en-US" sz="18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roch czarny</a:t>
                      </a:r>
                      <a:endParaRPr b="0" lang="en-US" sz="18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roch nitrocelulozowy (bezdymny)</a:t>
                      </a:r>
                      <a:endParaRPr b="0" lang="en-US" sz="18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nergia wybuchu    [MJ/kg]</a:t>
                      </a:r>
                      <a:endParaRPr b="0" lang="en-US" sz="18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2,8</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4,0</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rędkość detonacji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s]</a:t>
                      </a:r>
                      <a:endParaRPr b="0" lang="en-US" sz="1800" spc="-1" strike="noStrike">
                        <a:solidFill>
                          <a:srgbClr val="000000"/>
                        </a:solidFill>
                        <a:latin typeface="Calibri"/>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400</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7200</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bjętość gazów    [dm</a:t>
                      </a:r>
                      <a:r>
                        <a:rPr b="0" lang="en-US" sz="1800" spc="-1" strike="noStrike" baseline="30000">
                          <a:solidFill>
                            <a:srgbClr val="000000"/>
                          </a:solidFill>
                          <a:latin typeface="Calibri"/>
                          <a:ea typeface="Arial"/>
                        </a:rPr>
                        <a:t>3</a:t>
                      </a:r>
                      <a:r>
                        <a:rPr b="0" lang="en-US" sz="1800" spc="-1" strike="noStrike">
                          <a:solidFill>
                            <a:srgbClr val="000000"/>
                          </a:solidFill>
                          <a:latin typeface="Calibri"/>
                          <a:ea typeface="Arial"/>
                        </a:rPr>
                        <a:t>/kg]</a:t>
                      </a:r>
                      <a:endParaRPr b="0" lang="en-US" sz="1800" spc="-1" strike="noStrike">
                        <a:solidFill>
                          <a:srgbClr val="000000"/>
                        </a:solidFill>
                        <a:latin typeface="Calibri"/>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280</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765</a:t>
                      </a:r>
                      <a:endParaRPr b="0" lang="en-US" sz="2000" spc="-1" strike="noStrike">
                        <a:solidFill>
                          <a:srgbClr val="000000"/>
                        </a:solidFill>
                        <a:latin typeface="Calibri"/>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Rectangle 66"/>
          <p:cNvSpPr/>
          <p:nvPr/>
        </p:nvSpPr>
        <p:spPr>
          <a:xfrm>
            <a:off x="468360" y="3429000"/>
            <a:ext cx="8229600" cy="1728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b. </a:t>
            </a:r>
            <a:r>
              <a:rPr b="0" lang="en-US" sz="2000" spc="-1" strike="noStrike">
                <a:solidFill>
                  <a:srgbClr val="000000"/>
                </a:solidFill>
                <a:latin typeface="Calibri"/>
              </a:rPr>
              <a:t>	</a:t>
            </a:r>
            <a:r>
              <a:rPr b="0" lang="en-US" sz="2000" spc="-1" strike="noStrike">
                <a:solidFill>
                  <a:srgbClr val="000000"/>
                </a:solidFill>
                <a:latin typeface="Calibri"/>
              </a:rPr>
              <a:t>Zestawienie podstawowych parametrów prochu czarnego i </a:t>
            </a:r>
            <a:r>
              <a:rPr b="0" lang="en-US" sz="2000" spc="-1" strike="noStrike">
                <a:solidFill>
                  <a:srgbClr val="000000"/>
                </a:solidFill>
                <a:latin typeface="Calibri"/>
              </a:rPr>
              <a:t>	</a:t>
            </a:r>
            <a:r>
              <a:rPr b="0" lang="en-US" sz="2000" spc="-1" strike="noStrike">
                <a:solidFill>
                  <a:srgbClr val="000000"/>
                </a:solidFill>
                <a:latin typeface="Calibri"/>
              </a:rPr>
              <a:t>bezdymnego.</a:t>
            </a:r>
            <a:endParaRPr b="0" lang="en-US" sz="2000" spc="-1" strike="noStrike">
              <a:solidFill>
                <a:srgbClr val="000000"/>
              </a:solidFill>
              <a:latin typeface="Calibri"/>
            </a:endParaRPr>
          </a:p>
          <a:p>
            <a:pPr algn="just">
              <a:lnSpc>
                <a:spcPct val="90000"/>
              </a:lnSpc>
              <a:spcBef>
                <a:spcPts val="249"/>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90000"/>
              </a:lnSpc>
              <a:spcBef>
                <a:spcPts val="499"/>
              </a:spcBef>
              <a:tabLst>
                <a:tab algn="l" pos="0"/>
                <a:tab algn="l" pos="10778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k wynika z powyższego zestawienia, proch bezdymny posiada znacznie lepsze właściwości wybuchow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alety prochu czarnego</a:t>
            </a: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żliwość długiego przechowywania – przy zapewnieniu odpowiednich warunków.</a:t>
            </a:r>
            <a:endParaRPr b="0" lang="en-US" sz="2000" spc="-1" strike="noStrike">
              <a:solidFill>
                <a:srgbClr val="000000"/>
              </a:solidFill>
              <a:latin typeface="Calibri"/>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ża łatwość zapłonu powoduje, że nie jest wymagane stosowanie specjalnych systemów inicjujących zapłon. </a:t>
            </a:r>
            <a:endParaRPr b="0" lang="en-US" sz="2000" spc="-1" strike="noStrike">
              <a:solidFill>
                <a:srgbClr val="000000"/>
              </a:solidFill>
              <a:latin typeface="Calibri"/>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dporność na temperaturę otoczenia – proces spalania jest identyczny przy wysokich jak i przy niskich temperaturach.</a:t>
            </a:r>
            <a:endParaRPr b="0" lang="en-US" sz="2000" spc="-1" strike="noStrike">
              <a:solidFill>
                <a:srgbClr val="000000"/>
              </a:solidFill>
              <a:latin typeface="Calibri"/>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dy prochu czarnego</a:t>
            </a: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ażliwość na wilgoć – raz zawilgocony traci właściwości nawet po wysuszeniu.</a:t>
            </a:r>
            <a:endParaRPr b="0" lang="en-US" sz="2000" spc="-1" strike="noStrike">
              <a:solidFill>
                <a:srgbClr val="000000"/>
              </a:solidFill>
              <a:latin typeface="Calibri"/>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kuje dużą ilość spalin stałych, która przy wystrzale tworzy chmurę dymu zasłaniającą cel.</a:t>
            </a:r>
            <a:endParaRPr b="0" lang="en-US" sz="2000" spc="-1" strike="noStrike">
              <a:solidFill>
                <a:srgbClr val="000000"/>
              </a:solidFill>
              <a:latin typeface="Calibri"/>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dczas wystrzału w lufie broni powstaje spora ilość osadów pogarszających parametry kolejnych wystrzałów. </a:t>
            </a:r>
            <a:endParaRPr b="0" lang="en-US" sz="2000" spc="-1" strike="noStrike">
              <a:solidFill>
                <a:srgbClr val="000000"/>
              </a:solidFill>
              <a:latin typeface="Calibri"/>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ża wrażliwość nie tylko na iskrę czy otwarty ogień, ale również na uderzenie i tarcie. </a:t>
            </a:r>
            <a:endParaRPr b="0" lang="en-US" sz="2000" spc="-1" strike="noStrike">
              <a:solidFill>
                <a:srgbClr val="000000"/>
              </a:solidFill>
              <a:latin typeface="Calibri"/>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Madzia</cp:lastModifiedBy>
  <dcterms:modified xsi:type="dcterms:W3CDTF">2013-08-24T15:18:48Z</dcterms:modified>
  <cp:revision>25</cp:revision>
  <dc:subject/>
  <dc:title>Slajd 1</dc:title>
</cp:coreProperties>
</file>