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FDEB-2920-456A-B8AC-7082C67E1A50}"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5D5E-F8AC-43C5-ADBE-D0AA324B5D7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72E9-D0E7-4EB0-9188-F713ED8197B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1B96F-DF1F-41FD-8632-E7BA1D168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B7741-3FBF-4245-95C9-E0575C494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F36FC-22C4-442F-B493-5416429ED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F7777-AF26-441B-AA7E-121C6B91F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48FD9A-AC0F-4302-9251-459A054C3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4AB5A-1673-4DEA-A763-95F5D314D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F11FB-58BA-4CCA-83D5-8113A4FE0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90434-EA90-466D-BE07-01A614E9D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EBBDF-93CA-4BDE-9148-AFB133473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446FF-1A6B-4B58-A587-442143C40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916BC-1B57-497D-80A0-957463F83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82467-C6AB-4EAC-A3C4-EBFA585C3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084AB-376D-4B1A-92DC-DF09362F6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A0F79-6325-4FA0-82BB-DAB8E0504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3F587-AF54-4605-B0DF-C933749BA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775704-2BE9-456B-92D4-3598A21C03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5F14D0-B1C8-4241-87C9-D64D3A321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072AE-59C9-4F39-B962-DCE16CC42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7B98A-B687-4314-A982-8293B6928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25D72-E6E5-4806-A335-09BDC4799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3F38B-0FF0-4293-AD76-D95332C8B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63312-BB72-495E-90E2-706ABE257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F80BD-AFBD-4537-B53B-6A832A8D5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3573F-0F8D-440C-A8B0-926232912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3" descr=""/>
          <p:cNvPicPr/>
          <p:nvPr/>
        </p:nvPicPr>
        <p:blipFill>
          <a:blip r:embed="rId3"/>
          <a:stretch/>
        </p:blipFill>
        <p:spPr>
          <a:xfrm>
            <a:off x="0" y="5979960"/>
            <a:ext cx="9144000" cy="905040"/>
          </a:xfrm>
          <a:prstGeom prst="rect">
            <a:avLst/>
          </a:prstGeom>
          <a:ln w="0">
            <a:noFill/>
          </a:ln>
        </p:spPr>
      </p:pic>
      <p:pic>
        <p:nvPicPr>
          <p:cNvPr id="1" name="Picture 2" descr=""/>
          <p:cNvPicPr/>
          <p:nvPr/>
        </p:nvPicPr>
        <p:blipFill>
          <a:blip r:embed="rId4"/>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DE5E-C9C4-4E01-9962-41C0FDD325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 name="Picture 3" descr=""/>
          <p:cNvPicPr/>
          <p:nvPr/>
        </p:nvPicPr>
        <p:blipFill>
          <a:blip r:embed="rId3"/>
          <a:stretch/>
        </p:blipFill>
        <p:spPr>
          <a:xfrm>
            <a:off x="0" y="5979960"/>
            <a:ext cx="9144000" cy="905040"/>
          </a:xfrm>
          <a:prstGeom prst="rect">
            <a:avLst/>
          </a:prstGeom>
          <a:ln w="0">
            <a:noFill/>
          </a:ln>
        </p:spPr>
      </p:pic>
      <p:pic>
        <p:nvPicPr>
          <p:cNvPr id="44" name="Picture 2" descr=""/>
          <p:cNvPicPr/>
          <p:nvPr/>
        </p:nvPicPr>
        <p:blipFill>
          <a:blip r:embed="rId4"/>
          <a:stretch/>
        </p:blipFill>
        <p:spPr>
          <a:xfrm>
            <a:off x="0" y="-27000"/>
            <a:ext cx="9144000" cy="1123920"/>
          </a:xfrm>
          <a:prstGeom prst="rect">
            <a:avLst/>
          </a:prstGeom>
          <a:ln w="0">
            <a:noFill/>
          </a:ln>
        </p:spPr>
      </p:pic>
      <p:pic>
        <p:nvPicPr>
          <p:cNvPr id="45" name="Obraz 2" descr="stopka_poz.gif"/>
          <p:cNvPicPr/>
          <p:nvPr/>
        </p:nvPicPr>
        <p:blipFill>
          <a:blip r:embed="rId5"/>
          <a:stretch/>
        </p:blipFill>
        <p:spPr>
          <a:xfrm>
            <a:off x="0" y="5951520"/>
            <a:ext cx="9144000" cy="906480"/>
          </a:xfrm>
          <a:prstGeom prst="rect">
            <a:avLst/>
          </a:prstGeom>
          <a:ln w="0">
            <a:noFill/>
          </a:ln>
        </p:spPr>
      </p:pic>
      <p:pic>
        <p:nvPicPr>
          <p:cNvPr id="46" name="Obraz 9" descr="nagłówek_poz.gif"/>
          <p:cNvPicPr/>
          <p:nvPr/>
        </p:nvPicPr>
        <p:blipFill>
          <a:blip r:embed="rId6"/>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59D3-47E2-4EFD-9428-81F92CAFDB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6000" y="1591920"/>
            <a:ext cx="795636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pier wczoraj i dziś</a:t>
            </a:r>
            <a:endParaRPr b="0" lang="en-US" sz="4400" spc="-1" strike="noStrike">
              <a:solidFill>
                <a:srgbClr val="000000"/>
              </a:solidFill>
              <a:latin typeface="Calibri"/>
            </a:endParaRPr>
          </a:p>
        </p:txBody>
      </p:sp>
      <p:sp>
        <p:nvSpPr>
          <p:cNvPr id="96"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898989"/>
                </a:solidFill>
                <a:latin typeface="Calibri"/>
              </a:rPr>
              <a:t>mgr inż. Magdalena Ku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ruk</a:t>
            </a: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emal równocześnie z pojawieniem się papieru pojawiły się techniki łatwiejszego i szybszego nanoszenia nań treści.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jogólniej druk polega na odbiciu pewnego obrazu z przygotowanej formy za pomocą farby drukarskiej. Technika umożliwiała wykorzystywanie jednej formy do wykonania wielu odbitek. Początkowo stosowana była do wykonywania symboli, zdobień i pojedynczych znaków, później całych tekstów.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Z VIII w. pochodzi najstarszy tekst drukowany – buddyjski zwój z zaklęciami. Całość tekstu odbijana była z jednej drzeworytniczej formy. </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zwój druku</a:t>
            </a: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6130800" cy="452592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XV wieku rozpowszechniło się w Europie stosowanie tzw. ruchomej czcionki. Najogólniej metoda ta polegała na składaniu tekstu z pojedynczych liter.</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1455 r. Niemiec, Jan Gutenberg, wydrukował pierwsze egzemplarze Biblii. Była to pierwsza w Europie książka w całości drukowana. Od tego momentu rozpoczyna się „epoka książek” upowszechniając dostęp do słowa pisanego, a więc do wiedzy.</a:t>
            </a:r>
            <a:endParaRPr b="0" lang="en-US" sz="2000" spc="-1" strike="noStrike">
              <a:solidFill>
                <a:srgbClr val="000000"/>
              </a:solidFill>
              <a:latin typeface="Calibri"/>
            </a:endParaRPr>
          </a:p>
        </p:txBody>
      </p:sp>
      <p:pic>
        <p:nvPicPr>
          <p:cNvPr id="122" name="" descr=""/>
          <p:cNvPicPr/>
          <p:nvPr/>
        </p:nvPicPr>
        <p:blipFill>
          <a:blip r:embed="rId2"/>
          <a:stretch/>
        </p:blipFill>
        <p:spPr>
          <a:xfrm>
            <a:off x="6588000" y="1878120"/>
            <a:ext cx="1987560" cy="2271600"/>
          </a:xfrm>
          <a:prstGeom prst="rect">
            <a:avLst/>
          </a:prstGeom>
          <a:ln w="0">
            <a:noFill/>
          </a:ln>
        </p:spPr>
      </p:pic>
      <p:sp>
        <p:nvSpPr>
          <p:cNvPr id="123" name=""/>
          <p:cNvSpPr/>
          <p:nvPr/>
        </p:nvSpPr>
        <p:spPr>
          <a:xfrm>
            <a:off x="468360" y="4437000"/>
            <a:ext cx="8207280" cy="576360"/>
          </a:xfrm>
          <a:prstGeom prst="rect">
            <a:avLst/>
          </a:prstGeom>
          <a:noFill/>
          <a:ln w="0">
            <a:noFill/>
          </a:ln>
        </p:spPr>
        <p:style>
          <a:lnRef idx="0"/>
          <a:fillRef idx="0"/>
          <a:effectRef idx="0"/>
          <a:fontRef idx="minor"/>
        </p:style>
        <p:txBody>
          <a:bodyPr lIns="90000" rIns="90000" tIns="46800" bIns="46800" anchor="t">
            <a:normAutofit fontScale="83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tenberg był również wynalazcą prasy drukarskiej, czyli pierwszej maszyny drukarskiej.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spółczesna produkcja papieru</a:t>
            </a:r>
            <a:endParaRPr b="0" lang="en-US" sz="4400" spc="-1" strike="noStrike">
              <a:solidFill>
                <a:srgbClr val="000000"/>
              </a:solidFill>
              <a:latin typeface="Calibri"/>
            </a:endParaRPr>
          </a:p>
        </p:txBody>
      </p:sp>
      <p:sp>
        <p:nvSpPr>
          <p:cNvPr id="125"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Ze względu na stale rosnące zapotrzebowanie na papier oraz wymagania związane z jakością, współczesne maszyny papiernicze są ciągle udoskonalane. Szerokość obecnie produkowanej wstęgi papieru sięga 10 metrów a prędkość 2 000 m/min. Rozwój elektroniki doprowadził do automatyzacji procesu produkcyjnego oraz pełnej jego kontroli, co z kolei przekłada się na jakość obecnie produkowanego papieru.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ugim niezwykle ważnym aspektem współczesnej produkcji papieru są względy ekologiczne. Pod koniec lat 80-tych XX wieku za sprawą ekologów zaprzestano stosowania silnie trującego chloru w procesie wybielania celulozy, głównego obecnie składnika masy papierowej. Stan lasów zmusił również producentów do wykorzystywania jako surowca gorszej jakości drewna, odpadów drzewnych oraz papieru pochodzącego z recyklingu.</a:t>
            </a:r>
            <a:endParaRPr b="0" lang="en-US" sz="20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żym problemem w procesie produkcji papieru jest ogromne zużycie wody. Obecnie dąży się do maksymalnego zmniejszenia ilości potrzebnej w procesie wody oraz do jej wielokrotnego oczyszczania i powtórnego wykorzystywania.     </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dział papieru</a:t>
            </a: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Ze względu na gramaturę papieru, czyli masę papieru przypadającą na arkusz powierzchni 1m</a:t>
            </a:r>
            <a:r>
              <a:rPr b="0" lang="en-US" sz="2000" spc="-1" strike="noStrike" baseline="30000">
                <a:solidFill>
                  <a:srgbClr val="000000"/>
                </a:solidFill>
                <a:latin typeface="Calibri"/>
              </a:rPr>
              <a:t>2</a:t>
            </a:r>
            <a:r>
              <a:rPr b="0" lang="en-US" sz="2000" spc="-1" strike="noStrike">
                <a:solidFill>
                  <a:srgbClr val="000000"/>
                </a:solidFill>
                <a:latin typeface="Calibri"/>
              </a:rPr>
              <a:t>, dzielimy go na cztery podstawowe grupy: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bułka – do 28 g/m² </a:t>
            </a:r>
            <a:endParaRPr b="0" lang="en-US" sz="2000" spc="-1" strike="noStrike">
              <a:solidFill>
                <a:srgbClr val="000000"/>
              </a:solidFill>
              <a:latin typeface="Calibri"/>
            </a:endParaRPr>
          </a:p>
          <a:p>
            <a:pPr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pier – 28-160 g/m² </a:t>
            </a:r>
            <a:endParaRPr b="0" lang="en-US" sz="2000" spc="-1" strike="noStrike">
              <a:solidFill>
                <a:srgbClr val="000000"/>
              </a:solidFill>
              <a:latin typeface="Calibri"/>
            </a:endParaRPr>
          </a:p>
          <a:p>
            <a:pPr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arton – 160-315 g/m² </a:t>
            </a:r>
            <a:endParaRPr b="0" lang="en-US" sz="2000" spc="-1" strike="noStrike">
              <a:solidFill>
                <a:srgbClr val="000000"/>
              </a:solidFill>
              <a:latin typeface="Calibri"/>
            </a:endParaRPr>
          </a:p>
          <a:p>
            <a:pPr indent="35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ktura – powyżej 315 g/m² </a:t>
            </a: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datkową grupę stanowi bibuła, charakteryzująca się wysoką chłonnością ciecz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yroby papiernicze</a:t>
            </a: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yroby papiernicze możemy podzielić na cztery zasadnicze grupy:</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tykuły biurow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akowani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tykuły techniczne, przemysłow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tykuły gospodarstwa domowego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zed wynalezieniem papieru</a:t>
            </a: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d tysięcy lat ludzie poszukiwali materiału</a:t>
            </a:r>
            <a:r>
              <a:rPr b="0" lang="en-US" sz="2000" spc="-1" strike="noStrike">
                <a:solidFill>
                  <a:srgbClr val="000000"/>
                </a:solidFill>
                <a:latin typeface="Arial"/>
              </a:rPr>
              <a:t>,</a:t>
            </a:r>
            <a:r>
              <a:rPr b="0" lang="en-US" sz="2000" spc="-1" strike="noStrike">
                <a:solidFill>
                  <a:srgbClr val="000000"/>
                </a:solidFill>
                <a:latin typeface="Calibri"/>
              </a:rPr>
              <a:t> na którym można by przechowywać i przekazywać informacje. Na początku były to bardzo proste nośniki, takie jak drewno czy kamień. Dowodem tego są zachowane do dziś malowidła naskalne.</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olejny etap w historii ludzkości to stosowanie różnego rodzaju tablic i tabliczek – wpierw kamiennych i drewnianych, następnie również tabliczek glinianych i woskowych.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zukiwania coraz lepszych form – łatwiejszych w przechowywaniu i w transporcie, o mniejszych gabarytach, tańszych w wytworzeniu i łatwiejszych do zapisania doprowadziły do wynalezienia papirusu i pergaminu</a:t>
            </a:r>
            <a:r>
              <a:rPr b="0" lang="en-US" sz="2000" spc="-1" strike="noStrike">
                <a:solidFill>
                  <a:srgbClr val="000000"/>
                </a:solidFill>
                <a:latin typeface="Arial"/>
              </a:rPr>
              <a:t>,</a:t>
            </a:r>
            <a:r>
              <a:rPr b="0" lang="en-US" sz="2000" spc="-1" strike="noStrike">
                <a:solidFill>
                  <a:srgbClr val="000000"/>
                </a:solidFill>
                <a:latin typeface="Calibri"/>
              </a:rPr>
              <a:t> będących bezpośrednimi poprzednikami papieru.</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ergamin</a:t>
            </a:r>
            <a:r>
              <a:rPr b="0" lang="en-US" sz="2000" spc="-1" strike="noStrike">
                <a:solidFill>
                  <a:srgbClr val="000000"/>
                </a:solidFill>
                <a:latin typeface="Calibri"/>
              </a:rPr>
              <a:t> to wyprawiona w odpowiedni sposób skóra zwierząt. </a:t>
            </a:r>
            <a:r>
              <a:rPr b="1" lang="en-US" sz="2000" spc="-1" strike="noStrike">
                <a:solidFill>
                  <a:srgbClr val="000000"/>
                </a:solidFill>
                <a:latin typeface="Calibri"/>
              </a:rPr>
              <a:t>Papirus</a:t>
            </a:r>
            <a:r>
              <a:rPr b="0" lang="en-US" sz="2000" spc="-1" strike="noStrike">
                <a:solidFill>
                  <a:srgbClr val="000000"/>
                </a:solidFill>
                <a:latin typeface="Calibri"/>
              </a:rPr>
              <a:t> z kolei jest materiałem pochodzenia roślinnego. Wytwarza się go poprzez sprasowanie ze sobą a następnie sklejenie włókien tzw. trzciny papirusowej.</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ynalezienie papieru</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olebką papieru są Chiny. Według chińskich</a:t>
            </a:r>
            <a:r>
              <a:rPr b="0" lang="pl-PL" sz="2000" spc="-1" strike="noStrike">
                <a:solidFill>
                  <a:srgbClr val="000000"/>
                </a:solidFill>
                <a:latin typeface="Arial"/>
              </a:rPr>
              <a:t> </a:t>
            </a:r>
            <a:r>
              <a:rPr b="0" lang="pl-PL" sz="2000" spc="-1" strike="noStrike">
                <a:solidFill>
                  <a:srgbClr val="000000"/>
                </a:solidFill>
                <a:latin typeface="Calibri"/>
              </a:rPr>
              <a:t>kronik papier wynalazł cesarski urzędnik Cai Lun około 105 roku n. e.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adania archeologiczne wskazują jednak, że papier znany był w Chinach na długo przed narodzeniem Chrystusa, a sam Cai Lun wynalazł jedynie metodę masowej produkcji papieru. Jego papier nadawał się świetnie do celów piśmienniczych, a ze względu na zastosowane surowce był stosunkowo niedrogi i łatwy w  produkcji.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cześniejszy papier był złej jakości, dopiero wynalazek Cai Luna spopularyzował zastosowanie papieru, dlatego często przyjmuje się, iż historia papieru jako materiału piśmienniczego rozpoczyna się od tego wydarzenia.      </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pier czerpany</a:t>
            </a: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ynalazek Cai Luna polegał na opracowaniu sposobu produkcji papieru czerpanego</a:t>
            </a:r>
            <a:r>
              <a:rPr b="0" lang="pl-PL" sz="2400" spc="-1" strike="noStrike">
                <a:solidFill>
                  <a:srgbClr val="000000"/>
                </a:solidFill>
                <a:latin typeface="Calibri"/>
              </a:rPr>
              <a:t>. </a:t>
            </a:r>
            <a:endParaRPr b="0" lang="en-US" sz="24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ierwszy papier czerpany produkowany był z włókien łyka morwy oraz włókien konopi. Do wyżej wymienionych dodawano również stare sieci rybackie czy inne zużyte materiały. Wszystkie składniki zalewano wodą i gotowano, a następnie dokładnie ubijano w kamiennym moździerzu. Tak przygotowaną papkę rozcieńczano wodą. Kolejnym etapem produkcji było czerpanie. Polegało ono na zanurzeniu sita w mocno rozcieńczonej masie papierowej. Na sicie, poprzez równomierne potrząsanie, osadzały się cząstki stałe zawiesiny. Po wyciągnięciu z wody i wstępnym „odkapaniu”, masę zdejmowano z sita i prasowano, a następnie suszono na słońcu. Końcowym etapem produkcji papieru czerpanego było jego wygładzanie odpowiednimi kamieniami</a:t>
            </a:r>
            <a:r>
              <a:rPr b="0" lang="pl-PL" sz="2400" spc="-1" strike="noStrike">
                <a:solidFill>
                  <a:srgbClr val="000000"/>
                </a:solidFill>
                <a:latin typeface="Calibri"/>
              </a:rPr>
              <a:t>. </a:t>
            </a:r>
            <a:endParaRPr b="0" lang="en-US" sz="24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pier czerpany</a:t>
            </a:r>
            <a:endParaRPr b="0" lang="en-US" sz="4400" spc="-1" strike="noStrike">
              <a:solidFill>
                <a:srgbClr val="000000"/>
              </a:solidFill>
              <a:latin typeface="Calibri"/>
            </a:endParaRPr>
          </a:p>
        </p:txBody>
      </p:sp>
      <p:sp>
        <p:nvSpPr>
          <p:cNvPr id="104" name="PlaceHolder 2"/>
          <p:cNvSpPr>
            <a:spLocks noGrp="1"/>
          </p:cNvSpPr>
          <p:nvPr>
            <p:ph/>
          </p:nvPr>
        </p:nvSpPr>
        <p:spPr>
          <a:xfrm>
            <a:off x="457200" y="1599840"/>
            <a:ext cx="4835520" cy="247644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jwiększą zaletą produkcji papieru czerpanego było to, że poprzez ubijanie w wodzie i gotowanie możliwe było ponowne wykorzystanie starych materiałów, co pozwalało na oszczędność podstawowych surowców. Można powiedzieć, że już wtedy znano recykling i wiedziano, że się opłaca! </a:t>
            </a:r>
            <a:endParaRPr b="0" lang="en-US" sz="2000" spc="-1" strike="noStrike">
              <a:solidFill>
                <a:srgbClr val="000000"/>
              </a:solidFill>
              <a:latin typeface="Calibri"/>
            </a:endParaRPr>
          </a:p>
        </p:txBody>
      </p:sp>
      <p:pic>
        <p:nvPicPr>
          <p:cNvPr id="105" name="" descr=""/>
          <p:cNvPicPr/>
          <p:nvPr/>
        </p:nvPicPr>
        <p:blipFill>
          <a:blip r:embed="rId2"/>
          <a:stretch/>
        </p:blipFill>
        <p:spPr>
          <a:xfrm>
            <a:off x="5680080" y="1192320"/>
            <a:ext cx="3224160" cy="4684680"/>
          </a:xfrm>
          <a:prstGeom prst="rect">
            <a:avLst/>
          </a:prstGeom>
          <a:ln w="38160">
            <a:solidFill>
              <a:srgbClr val="ffcc00"/>
            </a:solidFill>
            <a:miter/>
          </a:ln>
        </p:spPr>
      </p:pic>
      <p:sp>
        <p:nvSpPr>
          <p:cNvPr id="106" name=""/>
          <p:cNvSpPr/>
          <p:nvPr/>
        </p:nvSpPr>
        <p:spPr>
          <a:xfrm>
            <a:off x="684360" y="5661000"/>
            <a:ext cx="4724280" cy="3405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ys. Chińska metoda produkcji papier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ia Papieru</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ińska metoda produkcji papieru objęta  była ściśle strzeżoną tajemnicą. Chińczykom udało się ustrzec sekretu produkcji papieru przez wiele wieków. </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piero w roku 751 Arabowie podczas wojny z Chinami wzięli do niewoli wielu papierników i zmusili ich do wyjawienia tajników produkcji papieru. </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kcja papieru bardzo szybko rozpowszechniła się w całym, wówczas bardzo rozległym, państwie arabskim, skąd za sprawą kontaktów handlowych trafił niemal do całej Europy. </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tychczas powszechnie stosowanym w Europie materiałem piśmienniczym był drogi pergamin. Rozpowszechnienie papieru miało kluczowy wpływ na rozwój szkolnictwa, kultury oraz nauki</a:t>
            </a:r>
            <a:r>
              <a:rPr b="0" lang="en-US" sz="2400" spc="-1" strike="noStrike">
                <a:solidFill>
                  <a:srgbClr val="000000"/>
                </a:solidFill>
                <a:latin typeface="Calibri"/>
              </a:rPr>
              <a:t>.</a:t>
            </a:r>
            <a:endParaRPr b="0" lang="en-US" sz="24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nak wodny</a:t>
            </a:r>
            <a:endParaRPr b="0" lang="en-US" sz="4400" spc="-1" strike="noStrike">
              <a:solidFill>
                <a:srgbClr val="000000"/>
              </a:solidFill>
              <a:latin typeface="Calibri"/>
            </a:endParaRPr>
          </a:p>
        </p:txBody>
      </p:sp>
      <p:sp>
        <p:nvSpPr>
          <p:cNvPr id="110" name=""/>
          <p:cNvSpPr/>
          <p:nvPr/>
        </p:nvSpPr>
        <p:spPr>
          <a:xfrm>
            <a:off x="395280" y="1614600"/>
            <a:ext cx="5977080" cy="10688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zwój europejskich papierni przyniósł pojawienie się znaku wodnego. Pierwotnie był to prosty znak firmowy identyfikujący daną papiernię lub mistrza, stanowił więc niejako symbol cechowy. </a:t>
            </a:r>
            <a:endParaRPr b="0" lang="en-US" sz="2000" spc="-1" strike="noStrike">
              <a:solidFill>
                <a:srgbClr val="000000"/>
              </a:solidFill>
              <a:latin typeface="Calibri"/>
            </a:endParaRPr>
          </a:p>
        </p:txBody>
      </p:sp>
      <p:sp>
        <p:nvSpPr>
          <p:cNvPr id="111" name="PlaceHolder 2"/>
          <p:cNvSpPr>
            <a:spLocks noGrp="1"/>
          </p:cNvSpPr>
          <p:nvPr>
            <p:ph/>
          </p:nvPr>
        </p:nvSpPr>
        <p:spPr>
          <a:xfrm>
            <a:off x="394920" y="2708280"/>
            <a:ext cx="5977080" cy="201600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5289480"/>
                <a:tab algn="l" pos="5486400"/>
                <a:tab algn="l" pos="6400800"/>
                <a:tab algn="l" pos="7315200"/>
                <a:tab algn="l" pos="8229600"/>
                <a:tab algn="l" pos="9144000"/>
                <a:tab algn="l" pos="10058400"/>
              </a:tabLst>
            </a:pPr>
            <a:r>
              <a:rPr b="0" lang="en-US" sz="2000" spc="-1" strike="noStrike">
                <a:solidFill>
                  <a:srgbClr val="000000"/>
                </a:solidFill>
                <a:latin typeface="Calibri"/>
              </a:rPr>
              <a:t>Pierwsze znaki wodne pojawiły się we włoskich papierniach w XIII w. Wykonywane były poprzez przymocowanie do sita czerpiącego papier linearnych     </a:t>
            </a:r>
            <a:r>
              <a:rPr b="0" lang="en-US" sz="100" spc="-1" strike="noStrike">
                <a:solidFill>
                  <a:srgbClr val="000000"/>
                </a:solidFill>
                <a:latin typeface="Calibri"/>
              </a:rPr>
              <a:t>,</a:t>
            </a:r>
            <a:r>
              <a:rPr b="0" lang="en-US" sz="2000" spc="-1" strike="noStrike">
                <a:solidFill>
                  <a:srgbClr val="000000"/>
                </a:solidFill>
                <a:latin typeface="Calibri"/>
              </a:rPr>
              <a:t> </a:t>
            </a:r>
            <a:endParaRPr b="0" lang="en-US" sz="2000" spc="-1" strike="noStrike">
              <a:solidFill>
                <a:srgbClr val="000000"/>
              </a:solidFill>
              <a:latin typeface="Calibri"/>
            </a:endParaRPr>
          </a:p>
          <a:p>
            <a:pPr indent="0" algn="just">
              <a:lnSpc>
                <a:spcPct val="80000"/>
              </a:lnSpc>
              <a:spcBef>
                <a:spcPts val="201"/>
              </a:spcBef>
              <a:buNone/>
              <a:tabLst>
                <a:tab algn="l" pos="0"/>
                <a:tab algn="l" pos="528948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80000"/>
              </a:lnSpc>
              <a:spcBef>
                <a:spcPts val="499"/>
              </a:spcBef>
              <a:buNone/>
              <a:tabLst>
                <a:tab algn="l" pos="0"/>
                <a:tab algn="l" pos="528948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80000"/>
              </a:lnSpc>
              <a:spcBef>
                <a:spcPts val="201"/>
              </a:spcBef>
              <a:buNone/>
              <a:tabLst>
                <a:tab algn="l" pos="0"/>
                <a:tab algn="l" pos="528948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80000"/>
              </a:lnSpc>
              <a:spcBef>
                <a:spcPts val="499"/>
              </a:spcBef>
              <a:buNone/>
              <a:tabLst>
                <a:tab algn="l" pos="0"/>
                <a:tab algn="l" pos="528948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112" name="" descr=""/>
          <p:cNvPicPr/>
          <p:nvPr/>
        </p:nvPicPr>
        <p:blipFill>
          <a:blip r:embed="rId2"/>
          <a:stretch/>
        </p:blipFill>
        <p:spPr>
          <a:xfrm>
            <a:off x="6372360" y="1747800"/>
            <a:ext cx="2016000" cy="1681200"/>
          </a:xfrm>
          <a:prstGeom prst="rect">
            <a:avLst/>
          </a:prstGeom>
          <a:ln w="38160">
            <a:solidFill>
              <a:srgbClr val="ffcc00"/>
            </a:solidFill>
            <a:miter/>
          </a:ln>
        </p:spPr>
      </p:pic>
      <p:sp>
        <p:nvSpPr>
          <p:cNvPr id="113" name=""/>
          <p:cNvSpPr/>
          <p:nvPr/>
        </p:nvSpPr>
        <p:spPr>
          <a:xfrm>
            <a:off x="395280" y="3448080"/>
            <a:ext cx="820908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Arial"/>
              </a:rPr>
              <a:t>symboli zrobionych z cienkiego drutu lub blaszki. Powodowało to, </a:t>
            </a:r>
            <a:r>
              <a:rPr b="0" lang="pl-PL" sz="1800" spc="-1" strike="noStrike">
                <a:solidFill>
                  <a:srgbClr val="000000"/>
                </a:solidFill>
                <a:latin typeface="Calibri"/>
                <a:ea typeface="Arial"/>
              </a:rPr>
              <a:t>ż</a:t>
            </a:r>
            <a:r>
              <a:rPr b="0" lang="pl-PL" sz="2000" spc="-1" strike="noStrike">
                <a:solidFill>
                  <a:srgbClr val="000000"/>
                </a:solidFill>
                <a:latin typeface="Calibri"/>
                <a:ea typeface="Arial"/>
              </a:rPr>
              <a:t>e papier w tym miejscu był cie</a:t>
            </a:r>
            <a:r>
              <a:rPr b="0" lang="pl-PL" sz="1800" spc="-1" strike="noStrike">
                <a:solidFill>
                  <a:srgbClr val="000000"/>
                </a:solidFill>
                <a:latin typeface="Calibri"/>
                <a:ea typeface="Arial"/>
              </a:rPr>
              <a:t>ń</a:t>
            </a:r>
            <a:r>
              <a:rPr b="0" lang="pl-PL" sz="2000" spc="-1" strike="noStrike">
                <a:solidFill>
                  <a:srgbClr val="000000"/>
                </a:solidFill>
                <a:latin typeface="Calibri"/>
                <a:ea typeface="Arial"/>
              </a:rPr>
              <a:t>szy a symbol ów mo</a:t>
            </a:r>
            <a:r>
              <a:rPr b="0" lang="pl-PL" sz="1800" spc="-1" strike="noStrike">
                <a:solidFill>
                  <a:srgbClr val="000000"/>
                </a:solidFill>
                <a:latin typeface="Calibri"/>
                <a:ea typeface="Arial"/>
              </a:rPr>
              <a:t>ż</a:t>
            </a:r>
            <a:r>
              <a:rPr b="0" lang="pl-PL" sz="2000" spc="-1" strike="noStrike">
                <a:solidFill>
                  <a:srgbClr val="000000"/>
                </a:solidFill>
                <a:latin typeface="Calibri"/>
                <a:ea typeface="Arial"/>
              </a:rPr>
              <a:t>na było zobaczyć pod światł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nak wodny</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Z czasem zauważono, że znak wodny jest niezwykle trudnym do podrobienia symbolem graficznym. Powstaje jako odcisk w świeżej, mokrej masie papierowej i próby jego odciśnięcia na suchej kartce nie dają identycznych efektów. Z tego powodu zaczęto używać znaku wodnego jako zabezpieczenia świadczącego o autentyczności dokumentów. Dziś jest to podstawowe jego zastosowanie. Z rozwojem technologii rozpowszechniły się tzw. tonowe znaki wodne.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Znak jednotonowy jasny jest to znak jaśniejszy niż papier, który jest w tym miejscu cieńszy od reszty kartki. Analogicznie znak jednotonowy ciemny jest grubszy, a więc pod światło ciemniejszy niż papier. Znak wodny dwutonowy powstaje z połączenia elementów jaśniejszych i ciemniejszych. Wreszcie znak wielotonowy jest to znak z płynnymi, łagodnymi przejściami tonów od ciemnych do jasnych.</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zyny papiernicze</a:t>
            </a: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mimo rozwoju techniki, udoskonaleniu składu i technologii produkcji, do końca XVIII wieku papier czerpano ręcznie.</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1799 r. Francuz Nicholas-Louis Robert zbudował i opatentował pierwszą maszynę papierniczą o długim sicie. Był to początek epoki przemysłowej produkcji papieru. Ideą maszyny było zastąpienie czerpania pojedynczych arkuszy tworzeniem długiej wstęgi papieru, co umożliwiało produkcję ciągłą. Produkcja ciągła możliwa była poprzez zastąpienie płaskich sit obrotowymi sitami taśmowymi. Idea ta stosowana jest we wszystkich dzisiejszych maszynach papierniczych.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aszyna Roberta była daleka od doskonałości. Rozwój jego wynalazku kontynuowali Anglicy, bracia Fourdrinier. Ich maszyna zbudowana w 1819 r. posiadała już wszystkie główne elementy współczesnych maszyn papierniczych. Składała się ze zbiornika materiału, części sitowej, prasującej, suszącej, wygładzającej oraz zwijającej papier.</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staszek</cp:lastModifiedBy>
  <dcterms:modified xsi:type="dcterms:W3CDTF">2013-05-06T21:12:46Z</dcterms:modified>
  <cp:revision>21</cp:revision>
  <dc:subject/>
  <dc:title>Slajd 1</dc:title>
</cp:coreProperties>
</file>