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wmf" ContentType="image/x-wmf"/>
  <Override PartName="/ppt/media/image12.png" ContentType="image/png"/>
  <Override PartName="/ppt/media/image7.jpeg" ContentType="image/jpeg"/>
  <Override PartName="/ppt/media/image8.wmf" ContentType="image/x-wm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5D8A-EA9D-4C1F-9A7A-EDD07B057CE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8683-6FE6-48F5-A6F7-C4D5E140AB4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07D5-FAB6-4D58-8E6D-902A1795FD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A028-150A-4717-974F-C2F810F4C73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0C6-7517-47F9-9A0A-8AC280EB1D2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6195-F52E-491F-AFE6-9D47DA5C9F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56E-0001-452C-9953-F34D354909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9201-BF28-49E6-A30B-13584298636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6FB0-B904-419C-B845-4AF9DBA949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B515-5304-4E00-B422-540FE2CC03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D719-CC67-4607-970F-9843B45357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39FD-3D7A-4326-91B4-77C6387C68C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26A2-96D8-42FE-8CCA-7F875AD516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B5E1-17A2-4B97-92A2-11240F7676A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91E8-571F-4F72-BF86-0A5EDF3C71B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504F-0537-46A7-A170-A29386FD832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51D-93D6-464C-A540-637D988F6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58FB-B7CA-4087-BA67-F6CE25A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700-DB90-4E6C-B5C6-B6542983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8A6B-2FE5-45A6-B3F5-BFDF609D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011B-E601-4E2E-96DB-CAE29721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6985-63A7-49E5-A672-1F5EF2BD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DC82-CE11-4A73-A1A6-04A484C7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7772-7968-49D4-937B-6ADCF0F2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BBA6-E027-4659-B606-C056B2BD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5F9F-3B5C-434E-B120-E57BD389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9FF-FFF0-40FF-B57E-2A11CCC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D0D-2FFB-45A6-9EE2-9EC187B1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FFE9-5288-4EBB-9232-F49382FB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B8B1-24BC-4033-8B4F-211959D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D9BA-D38B-41B0-A4A8-5D9E02D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378F-B1A1-491F-9627-2F74DB5D2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3591-6584-4B25-A311-AC14F920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2890-CF61-40C3-8EE4-3C905E0F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F0D-5284-48F7-8543-705CDF8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201-ED16-4CD1-8214-8F76DEC7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893B-CB1A-4B85-AFFF-E838E3C9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24A-89AF-4277-99DD-02A92CE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D559-028A-4371-852C-79BA8294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085-3094-4F98-A67E-B59869E7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254F-9494-4DC8-95DF-85C95A8AC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3C80-8ADE-442E-AF73-FCC68CFA0D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dukcja szk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gr inż. Magdalena Ku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kło hartow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st to szkło poddane specjalnej obróbce cieplnej, zwanej hartowaniem. Hartowanie polega na podgrzaniu szkła do wysokiej temperatury (około 7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) a następnie bardzo szybkim jego schłodzeni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zięki zabiegowi hartowania szkło uzyskuje większą wytrzymałość mechaniczną na uderzenia. Bardzo ciekawą jego cechą jest to, że podczas rozbicia rozsypuje się na małe kawałeczki o regularnych kształtach i braku ostrych krawędz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kło hartowane stosuje się niekiedy w budownictwie do produkcji okien oraz do produkcji szyb samochodowych. Szkło hartowane może być użyte do wytwarzania szkła wielowarstwoweg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95280" y="115920"/>
            <a:ext cx="26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zaje szkł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kło kryształ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jważniejszą cechą szkła ołowiowego jest jego wysoki współczynnik załamania światła oraz wysoki współczynnik dyspersji wpływający na rozszczepienie światła. Dzięki powyższym cechom, szkło ołowiowe posiada charakterystyczny blask i dlatego zwane jest szkłem kryształowym. Dodatkowo jest ono stosunkowo miękkie i bardzo podatne na rzeźbienie, szlifowanie oraz inną obróbkę mechaniczną. Przy dużej zawartości tlenku ołowiu szkło kryształowe przepuszcza promieniowanie UV oraz jednocześnie absorbuje promieniowanie rentgenowski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łównym zastosowaniem szkła kryształowego jest jego wykorzystanie dekoracyjne, artystyczne. Tworzy się z niego również osłony przed promieniowaniem RTG oraz niektóre szkła optycz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395280" y="115920"/>
            <a:ext cx="26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zaje szkł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14" descr="MP900407242[1]"/>
          <p:cNvPicPr/>
          <p:nvPr/>
        </p:nvPicPr>
        <p:blipFill>
          <a:blip r:embed="rId1"/>
          <a:stretch/>
        </p:blipFill>
        <p:spPr>
          <a:xfrm>
            <a:off x="7054920" y="260280"/>
            <a:ext cx="1535040" cy="2305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5"/>
          <p:cNvSpPr/>
          <p:nvPr/>
        </p:nvSpPr>
        <p:spPr>
          <a:xfrm>
            <a:off x="468360" y="1600200"/>
            <a:ext cx="64800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ło kryształowe, zwane też szkłem ołowiowym, powstaje poprzez wprowadzenie domieszki tlenku ołowiu PbO. Zawartość tlenku ołowiu dla szkła kryształowego waha się w przedziale od 18 nawet do 80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kło barw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kło barwne powstaje poprzez dodanie składników powodujących zabarwienie masy szklanej na określony kolor. Najczęściej składnikami tymi są związki metali ciężki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kło barwne ma zastosowanie dekoracyjne. Szczególnym jego przeznaczeniem jest tworzenie witraży. Szkła barwionego używa się również do produkcji opakowań szkla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95280" y="115920"/>
            <a:ext cx="26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zaje szkł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643280" y="1557360"/>
          <a:ext cx="4038840" cy="4410000"/>
        </p:xfrm>
        <a:graphic>
          <a:graphicData uri="http://schemas.openxmlformats.org/drawingml/2006/table">
            <a:tbl>
              <a:tblPr/>
              <a:tblGrid>
                <a:gridCol w="1657440"/>
                <a:gridCol w="238140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kładnik barwią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zerw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len lub Zł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Żół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kiel lub Kadm + Siar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Ziel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hrom lub Żela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biesko-Zielo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iedź lub Żela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bie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oba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urpur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n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zar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lenek Chromu lub Tlenek Manganu + Tlenek Niklu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ursztyno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Żelazo + Siarka + Węg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ia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luorek Wapnia lub Chlorek S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31"/>
          <p:cNvSpPr/>
          <p:nvPr/>
        </p:nvSpPr>
        <p:spPr>
          <a:xfrm>
            <a:off x="395280" y="5661000"/>
            <a:ext cx="4248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. Zestawienie składników barwiących szkł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4" descr="MP900402473[1]"/>
          <p:cNvPicPr/>
          <p:nvPr/>
        </p:nvPicPr>
        <p:blipFill>
          <a:blip r:embed="rId1"/>
          <a:stretch/>
        </p:blipFill>
        <p:spPr>
          <a:xfrm>
            <a:off x="7048440" y="333360"/>
            <a:ext cx="16272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kło kwarc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st to szkło specjalne, charakteryzujące się podwyższoną zawartością krzemu – podstawowego składnika każdego szkła. W przypadku szkieł kwarcowych zawartość Si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ięga od 96 do 100%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kteryzuje się bardzo małą rozszerzalnością cieplną, jest bardzo twarde i odporne na wysokie temperatury sięgające od 1000 do 15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. Kolejną jego cechą jest wysoka przepuszczalność promieni UV. Jest również najbardziej odporne na warunki atmosferyczne oraz odczynniki chemiczne. Jego podstawową wadą jest wysoki koszt wytwarza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kło kwarcowe znajduje zastosowanie głównie w rozwiązaniach wysokotemperaturowych, takich jak elementy pieców, a także do wyrobów aparatury laboratoryjnej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95280" y="115920"/>
            <a:ext cx="26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zaje szkł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MC900436921[1]"/>
          <p:cNvPicPr/>
          <p:nvPr/>
        </p:nvPicPr>
        <p:blipFill>
          <a:blip r:embed="rId1"/>
          <a:stretch/>
        </p:blipFill>
        <p:spPr>
          <a:xfrm>
            <a:off x="7093080" y="189000"/>
            <a:ext cx="139680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zkło fotochromatycz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ło fotochromatyczne powstaje poprzez zastosowanie dodatku chlorku srebra lub rzadziej innego związku sreb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 wpływem promieniowania słonecznego atomy srebra tworzą jony, które aglomerują ze sobą powodując przyciemnienia szkła i tym samym absorpcję części promieniowania. Po zaniku promieniowania aglomeraty rozpadają się, a jony srebra utleniają do pierwotnej postaci, a więc proces jest odwracalny. Stopień zaciemnienia szkła zależy od intensywności promieniowania. Proces zaciemniania i rozjaśniania szkła jest bardzo szybk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e względu na swoje właściwości szkło fotochromatyczne znalazło zastosowanie głównie w optyce do produkcji okularów. Planowane jest również zastosowanie w budowlance do produkcji okien, jednak okazuje się, że bardzo trudno jest zachować jednolite zaciemnienie na dużej powierzchni szyby. Prace nad rozwiązaniem tego problemu ciągle trwają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280" y="115920"/>
            <a:ext cx="26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zaje szkł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MP900398877[1]"/>
          <p:cNvPicPr/>
          <p:nvPr/>
        </p:nvPicPr>
        <p:blipFill>
          <a:blip r:embed="rId1"/>
          <a:stretch/>
        </p:blipFill>
        <p:spPr>
          <a:xfrm>
            <a:off x="7307280" y="333360"/>
            <a:ext cx="17287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zym jest szkło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53276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zkło jako materia posiada bardzo ciekawą strukturę wewnętrzną. Jest to substancja znajdująca się w tzw. stanie szklistym. Stan ten definiowany jest jako nieposiadający uporządkowanej struktury dalekiego zasięgu, czyli nieposiadający struktury krystalicznej. Posiada za to uporządkowanie bliskiego zasięgu polegające na powtarzalnym występowaniu w jego strukturze czworościanów Si0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-4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Mikroskopowe rozmieszczenie elementów sieci szkła przypomina bardziej układ cieczy niż ciała stałego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6227640" y="4010040"/>
            <a:ext cx="216000" cy="216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7091280" y="408132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98"/>
          <p:cNvSpPr/>
          <p:nvPr/>
        </p:nvSpPr>
        <p:spPr>
          <a:xfrm>
            <a:off x="6443640" y="4029120"/>
            <a:ext cx="1513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len         Krze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99"/>
          <p:cNvSpPr/>
          <p:nvPr/>
        </p:nvSpPr>
        <p:spPr>
          <a:xfrm>
            <a:off x="6048360" y="4363920"/>
            <a:ext cx="370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ys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zykładowa struktura  mikroskopowa szkł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00"/>
          <p:cNvSpPr/>
          <p:nvPr/>
        </p:nvSpPr>
        <p:spPr>
          <a:xfrm>
            <a:off x="684360" y="5446800"/>
            <a:ext cx="7991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dług definicji szkło jest to materiał nieorganiczny powstały w wyniku stopienia a następnie schłodzenia materii bez krystalizacji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03" descr=""/>
          <p:cNvPicPr/>
          <p:nvPr/>
        </p:nvPicPr>
        <p:blipFill>
          <a:blip r:embed="rId1"/>
          <a:stretch/>
        </p:blipFill>
        <p:spPr>
          <a:xfrm>
            <a:off x="6159600" y="1773360"/>
            <a:ext cx="222876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 fizycznego punktu widzeni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202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 fizycznego punktu widzenia brak krystalizacji podczas schładzania wynika z bardzo dużego wzrostu lepkości szkła wraz ze spadkiem jego temperatury w stanie stopu. Zjawisko gwałtownego wzrostu lepkości powoduje, że materiał niejako zastyga „zamrażając” strukturę cieczy, ponieważ opory wewnętrzne związane z lepkością cząsteczek są tak duże, że uniemożliwiają ich ruch, a przez to osiągnięcie uporządkowanej struktury krystaliczne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MC900292586[1]"/>
          <p:cNvPicPr/>
          <p:nvPr/>
        </p:nvPicPr>
        <p:blipFill>
          <a:blip r:embed="rId1"/>
          <a:stretch/>
        </p:blipFill>
        <p:spPr>
          <a:xfrm>
            <a:off x="6877080" y="2276640"/>
            <a:ext cx="1386000" cy="1193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468360" y="4510080"/>
            <a:ext cx="8136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kło zaliczane jest do ciał stałych, ponieważ spełnia ich definicję właściwości makroskopowych. Jest substancją bezpostaciową, czyli amorficzną, nie posiadającą stałej temperatury topnien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owce do produkcji szk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stawowym składnikiem szkła jest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tlenek krzem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(IV) Si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. Jest on stosowany w produkcji pod postacią piasku kwarcowego. Dwutlenek krzemu stanowi podstawowy budulec struktury szkła. Wadą czystego kwarcu jest jego wysoka temperatura topnienia, wynosząca 1710 </a:t>
            </a:r>
            <a:r>
              <a:rPr b="0" lang="pl-PL" sz="20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celu obniżenia tej temperatury stosuje się dodatek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ęglan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sodu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N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lub rzadziej tlenku sodu Na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odanie 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węglanu wapnia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CaCO</a:t>
            </a:r>
            <a:r>
              <a:rPr b="0" lang="pl-PL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zapewnia uzyskanie właściwości mechanicznych szkł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46040" y="476892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wyższe elementy można uznać za podstawowe składniki szkła. Cały szereg jego rodzajów powstaje poprzez zastosowanie dodatków do składu podstawowego zmieniających kolor oraz właściwości szkł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stawanie szk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kło powstaje w wyniku zmieszania wszystkich składników, a następnie  stopienia ich ze sobą w wysokiej temperaturze. Po skrzepnięciu tak powstałej masy powstaje szkło w postaci stałe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nieważ szkło jest substancją amorficzną, posiada zatem stan przejściowy pomiędzy stanem ciekłym a stałym. W stanie tym ma formę masy plastycznej, dającej się dowolnie formować. Moment ten jest wykorzystywany przez producentów wyrobów szklanych - to właśnie z masy plastycznej formuje się kształt wyrobów gotow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ologia produkcji szkła różni się w zależności konkretnego typ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kcja szkł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przemyśle stosowane są cztery podstawowe metody wytwarzania przedmiotów szklanych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ydmuchiwanie szkł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Na końcu dyszy do wydmuchiwania umieszcza się kroplę stopionego szkła, a następnie zwiększa jej rozmiar przez wdmuchiwanie powietrza do środka i kształtuje za pomocą odpowiednich narzędzi lub specjalnej form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asowani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kroplę stopionego szkła umieszcza się wewnątrz formy i dociska drugą jej częścią. Plastyczne szkło przyjmuje kształt form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ytwarzanie szyb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układ wałków umieszczonych nad powierzchnią roztopionego szkła w kadzi wyciąga cienką warstwę do góry. Obracające się wałki usuwają nadmiar roztopionej cieczy i formują płaską szybę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ytwarzanie włóki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przeciskanie masy szklanej przez otwory o bardzo małej średnic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MP900178644[1]"/>
          <p:cNvPicPr/>
          <p:nvPr/>
        </p:nvPicPr>
        <p:blipFill>
          <a:blip r:embed="rId1"/>
          <a:stretch/>
        </p:blipFill>
        <p:spPr>
          <a:xfrm>
            <a:off x="6516720" y="189000"/>
            <a:ext cx="20732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kło na przestrzeni wiek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przyrodzie występują szkła naturalne. Zaliczamy do nich obsydian, fulguryt, opal oraz tektyt. Można więc powiedzieć, że szkło towarzyszy człowiekowi od zawsz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oda jego produkcji najprawdopodobniej znana była już kilka tysięcy lat przed narodzeniem Chrystusa. Z około 3300 r p.n.e. pochodzą najstarsze znane instrukcje jak je wytwarzać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 około 250 r p.n.e. Fenicjanie odkryli metodę  dmuchania szkł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koło 100 r naszej ery znane były techniki odlewania szkła w forma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 szóstego wieku pochodzą pierwsze wzmianki o szybach okien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kło okien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st to najbardziej popularne i najbardziej typowe szkło. Zawiera, oprócz podstawowych składników niewielki dodatek tlenku magnezu i tlenku glin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chuje się dużą przejrzystością i łatwością formowania. Posiada słabą odporność na wysokie temperatury i stosunkowo wysoką rozszerzalność cieplną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suje się je głównie do produkcji szyb okiennych, ale również do wytwarzania szklanych opakowań,  takich jak butelki czy słoi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95280" y="115920"/>
            <a:ext cx="26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zaje szkł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3" descr="MC900280758[1]"/>
          <p:cNvPicPr/>
          <p:nvPr/>
        </p:nvPicPr>
        <p:blipFill>
          <a:blip r:embed="rId1"/>
          <a:stretch/>
        </p:blipFill>
        <p:spPr>
          <a:xfrm>
            <a:off x="2698920" y="3986280"/>
            <a:ext cx="35287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zkło wielowarstwow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wane jest także szkłem klejonym. Jest to rodzaj szkła złożony z dwóch lub więcej tafli szkła płaskiego, sklejonych ze sobą za pomocą specjalnej żywicy lub foli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zkło wielowarstwowe określa się mianem szkła bezpiecznego, ponieważ nie rozsypuje się pod wpływem uderzenia. W miejscu uderzenia powstaje tzw. „pajęczyna” utrzymująca kawałki szkła. Stosując odpowiednie folie i żywice oraz wiele warstw specjalnego, wzmacnianego szkła, uzyskuje się szyby pancerne: antywłamaniowe a nawet kuloodporne.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najduje ono zastosowanie wszędzie tam, gdzie wymagana jest ochrona osób lub mienia. Według europejskich norm przednie szyby w samochodach powinny być wykonane jako szkło bezpieczne wielowarstwowe. Często stosuje się je również w muzeach czy na witrynach sklepowy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95280" y="115920"/>
            <a:ext cx="266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zaje szkł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0" descr="MP900427609[1]"/>
          <p:cNvPicPr/>
          <p:nvPr/>
        </p:nvPicPr>
        <p:blipFill>
          <a:blip r:embed="rId1"/>
          <a:stretch/>
        </p:blipFill>
        <p:spPr>
          <a:xfrm>
            <a:off x="7291440" y="171360"/>
            <a:ext cx="15285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Madzia</cp:lastModifiedBy>
  <dcterms:modified xsi:type="dcterms:W3CDTF">2013-08-24T15:17:15Z</dcterms:modified>
  <cp:revision>26</cp:revision>
  <dc:subject/>
  <dc:title>Slajd 1</dc:title>
</cp:coreProperties>
</file>