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9.wmf" ContentType="image/x-wmf"/>
  <Override PartName="/ppt/media/image6.wmf" ContentType="image/x-wmf"/>
  <Override PartName="/ppt/media/image7.wmf" ContentType="image/x-wmf"/>
  <Override PartName="/ppt/media/image8.wmf" ContentType="image/x-wm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A9550-4DBD-45F6-8574-291C0F27F10B}"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2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FC79C-AC07-4678-8CA8-2608BE71108F}"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3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D2FA6-B5E0-4FFD-9AA9-D55097A0D744}"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31284F-9732-43A7-9119-4B06BE5CE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B3801-1350-4EDA-BEE0-B242D3025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1971F9-89BF-4BB4-93B1-622F1337F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F0359-DD2F-4615-9ABD-599F4DD558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9282E3-B531-496B-9A58-3F489789D0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7265A0-1C14-410B-90CD-3B062B8115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4EF680-AF5C-41C6-830B-06BB86F8D2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263190-2E2E-48EB-9C6F-707847D40D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7E6342-6A36-498B-B728-28C298E9DB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DD588E-A774-4CBD-9462-0E8FDC8E8B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39A9D0-5A5A-43C9-B51F-DEADD94D7E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117A1-9E7E-40A2-9CA9-324054F39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22E18A-B016-4E4A-8F51-3DF50E274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C21975-DBF7-4013-B5BD-3A34D35B1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7B3273-32AB-4803-BAD1-BA39ECEBD0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7CDEF5-4A5B-495E-91BE-C7B2957F50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42AC1C-E2CD-492B-950A-C1D3783F10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E2589-E81C-49CA-93B2-9F9646969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7066A-9280-4BBB-A789-ED1B3FE50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EE18D-8099-490E-A560-C0ACF3682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BCDD2-F3DA-4995-A296-E5F966493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E8E1B-B7A5-497B-A145-0168AB383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30480-9D9A-414A-A89C-231EFF147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49E38-1B95-4E43-93E9-E7457C9472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376C5-FF83-4598-8846-7D485274FF6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875C6-5628-47D6-A890-977A37A0AC1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6000" y="1591920"/>
            <a:ext cx="795636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rcelana, fajans, kamionka</a:t>
            </a:r>
            <a:endParaRPr b="0" lang="en-US" sz="4400" spc="-1" strike="noStrike">
              <a:solidFill>
                <a:srgbClr val="000000"/>
              </a:solidFill>
              <a:latin typeface="Calibri"/>
            </a:endParaRPr>
          </a:p>
        </p:txBody>
      </p:sp>
      <p:sp>
        <p:nvSpPr>
          <p:cNvPr id="96" name="Podtytuł 2"/>
          <p:cNvSpPr/>
          <p:nvPr/>
        </p:nvSpPr>
        <p:spPr>
          <a:xfrm>
            <a:off x="1116000" y="378936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gr inż. Magdalena Kuś</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Zastosowanie kamionki</a:t>
            </a: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e względu na swoje właściwości kamionka stosowana jest do wytwarzania laboratoryjnej  aparatury kwasoodpornej.</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Kamionkę stosuje się często do produkcji płytek podłogowych, wynika to z faktu większej wytrzymałości oraz odporności na ścieranie w porównaniu z fajansem. W przypadku płytek kamionkowych możemy wyróżnić dwa rodzaje: gres oraz terakotę. Różnica pomiędzy nimi polega na zawartości dodatków ulepszających oraz na technologii wytwarzania. Gres formowany jest z tak zwanej kamionki szlachetnej, formuje się go metodą prasowania pod naciskiem ogromnych sił, co zwiększa jego gęstość, a tym samym twardość. Zasadniczo więc gres jest formą szlachetniejszą od terakoty. Spotyka się również kamionkowe płytki ścienne.</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Do wyrobów kamionkowych zalicza się klinkier. Klinkier, najogólniej wykorzystuje się do produkcji różnego rodzaju cegieł o zastosowaniu specjalnym, np. ozdobnym czy do budowy kominów, kanalizacji itp. </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reszcie z kamionki wykonuje się naczynia, zwłaszcza tak zwane garnki lub beczułki kamionkowe służące np. do kiszenia ogórków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844280"/>
            <a:ext cx="91440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Calibri"/>
              </a:rPr>
              <a:t>Dziękuję za uwagę</a:t>
            </a:r>
            <a:endParaRPr b="0" lang="en-US" sz="4900" spc="-1" strike="noStrike">
              <a:solidFill>
                <a:srgbClr val="000000"/>
              </a:solidFill>
              <a:latin typeface="Calibri"/>
            </a:endParaRPr>
          </a:p>
        </p:txBody>
      </p:sp>
      <p:sp>
        <p:nvSpPr>
          <p:cNvPr id="12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zym jest porcelana?</a:t>
            </a: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rcelana jest najszlachetniejszym rodzajem ceramiki. </a:t>
            </a:r>
            <a:endParaRPr b="0" lang="en-US" sz="2000" spc="-1" strike="noStrike">
              <a:solidFill>
                <a:srgbClr val="000000"/>
              </a:solidFill>
              <a:latin typeface="Calibri"/>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Ceramika, najogólniej, jest to produkt powstały w wyniku wypalenia w wysokiej temperaturze odpowiednio uformowanej masy plastycznej. Klasycznym przykładem ceramiki są naczynia gliniane, które tworzy się poprzez zmieszanie gliny z wodą i uformowanie z nich odpowiednich kształtów, a następnie wypalenie, czyli poddanie działaniu bardzo wysokich temperatur celem ich utwardzenia i utrwalenia. </a:t>
            </a:r>
            <a:endParaRPr b="0" lang="en-US" sz="2000" spc="-1" strike="noStrike">
              <a:solidFill>
                <a:srgbClr val="000000"/>
              </a:solidFill>
              <a:latin typeface="Calibri"/>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Masa plastyczna potrzebna do produkcji porcelany powstaje poprzez połączenie glinki kaolinowej z bardzo drobno zmielonym skaleniem oraz kwarcem. Proporcje składników różnią się w zależności od rodzaju porcelany, ogólnie można przyjąć, że dla porcelany twardej wynoszą odpowiednio 2:1:1 zaś dla porcelany miękkiej 1:1:1. Porcelanę wykonuje się w wersji szkliwionej, czyli pokrytej warstwą specjalnego szkliwa lub w wersji nieszkliwionej.</a:t>
            </a:r>
            <a:endParaRPr b="0" lang="en-US" sz="2000" spc="-1" strike="noStrike">
              <a:solidFill>
                <a:srgbClr val="000000"/>
              </a:solidFill>
              <a:latin typeface="Calibri"/>
            </a:endParaRPr>
          </a:p>
        </p:txBody>
      </p:sp>
      <p:pic>
        <p:nvPicPr>
          <p:cNvPr id="99" name="" descr=""/>
          <p:cNvPicPr/>
          <p:nvPr/>
        </p:nvPicPr>
        <p:blipFill>
          <a:blip r:embed="rId1"/>
          <a:stretch/>
        </p:blipFill>
        <p:spPr>
          <a:xfrm>
            <a:off x="7093080" y="566640"/>
            <a:ext cx="1457280" cy="127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mowanie porcelany</a:t>
            </a: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 zmieszaniu wszystkich składników porcelany (glinki kaolinowej, skalenia i kwarcu) następuje ich kształtowanie do postaci wyrobów gotowych. Powszechnie stosuje się trzy techniki nadawania kształtu porcelanie:</a:t>
            </a:r>
            <a:endParaRPr b="0" lang="en-US" sz="2000" spc="-1" strike="noStrike">
              <a:solidFill>
                <a:srgbClr val="000000"/>
              </a:solidFill>
              <a:latin typeface="Calibri"/>
            </a:endParaRPr>
          </a:p>
          <a:p>
            <a:pPr indent="0" algn="just">
              <a:lnSpc>
                <a:spcPct val="90000"/>
              </a:lnSpc>
              <a:spcBef>
                <a:spcPts val="249"/>
              </a:spcBef>
              <a:buNone/>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353880" algn="just">
              <a:lnSpc>
                <a:spcPct val="90000"/>
              </a:lnSpc>
              <a:spcBef>
                <a:spcPts val="499"/>
              </a:spcBef>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Toczenie – metoda polegająca na umieszczeniu masy na obrotowym kole </a:t>
            </a:r>
            <a:r>
              <a:rPr b="0" lang="pl-PL" sz="2000" spc="-1" strike="noStrike">
                <a:solidFill>
                  <a:srgbClr val="000000"/>
                </a:solidFill>
                <a:latin typeface="Calibri"/>
              </a:rPr>
              <a:t>	</a:t>
            </a:r>
            <a:r>
              <a:rPr b="0" lang="pl-PL" sz="2000" spc="-1" strike="noStrike">
                <a:solidFill>
                  <a:srgbClr val="000000"/>
                </a:solidFill>
                <a:latin typeface="Calibri"/>
              </a:rPr>
              <a:t>garncarskim i nadaniu jej kształtu bryły obrotowej. </a:t>
            </a:r>
            <a:endParaRPr b="0" lang="en-US" sz="2000" spc="-1" strike="noStrike">
              <a:solidFill>
                <a:srgbClr val="000000"/>
              </a:solidFill>
              <a:latin typeface="Calibri"/>
            </a:endParaRPr>
          </a:p>
          <a:p>
            <a:pPr indent="0" algn="just">
              <a:lnSpc>
                <a:spcPct val="90000"/>
              </a:lnSpc>
              <a:spcBef>
                <a:spcPts val="249"/>
              </a:spcBef>
              <a:buNone/>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353880" algn="just">
              <a:lnSpc>
                <a:spcPct val="90000"/>
              </a:lnSpc>
              <a:spcBef>
                <a:spcPts val="499"/>
              </a:spcBef>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dlewanie – najpopularniejsza obecnie metoda stosowana do produkcji </a:t>
            </a:r>
            <a:r>
              <a:rPr b="0" lang="pl-PL" sz="2000" spc="-1" strike="noStrike">
                <a:solidFill>
                  <a:srgbClr val="000000"/>
                </a:solidFill>
                <a:latin typeface="Calibri"/>
              </a:rPr>
              <a:t>	</a:t>
            </a:r>
            <a:r>
              <a:rPr b="0" lang="pl-PL" sz="2000" spc="-1" strike="noStrike">
                <a:solidFill>
                  <a:srgbClr val="000000"/>
                </a:solidFill>
                <a:latin typeface="Calibri"/>
              </a:rPr>
              <a:t>skomplikowanych kształtów. Masę wtłacza się do formy nadającej jej </a:t>
            </a:r>
            <a:r>
              <a:rPr b="0" lang="pl-PL" sz="2000" spc="-1" strike="noStrike">
                <a:solidFill>
                  <a:srgbClr val="000000"/>
                </a:solidFill>
                <a:latin typeface="Calibri"/>
              </a:rPr>
              <a:t>	</a:t>
            </a:r>
            <a:r>
              <a:rPr b="0" lang="pl-PL" sz="2000" spc="-1" strike="noStrike">
                <a:solidFill>
                  <a:srgbClr val="000000"/>
                </a:solidFill>
                <a:latin typeface="Calibri"/>
              </a:rPr>
              <a:t>pożądany kształt. </a:t>
            </a:r>
            <a:endParaRPr b="0" lang="en-US" sz="2000" spc="-1" strike="noStrike">
              <a:solidFill>
                <a:srgbClr val="000000"/>
              </a:solidFill>
              <a:latin typeface="Calibri"/>
            </a:endParaRPr>
          </a:p>
          <a:p>
            <a:pPr indent="0" algn="just">
              <a:lnSpc>
                <a:spcPct val="90000"/>
              </a:lnSpc>
              <a:spcBef>
                <a:spcPts val="249"/>
              </a:spcBef>
              <a:buNone/>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353880" algn="just">
              <a:lnSpc>
                <a:spcPct val="90000"/>
              </a:lnSpc>
              <a:spcBef>
                <a:spcPts val="499"/>
              </a:spcBef>
              <a:buClr>
                <a:srgbClr val="000000"/>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asowanie – Metoda przeznaczona do produkcji przemysłowej </a:t>
            </a:r>
            <a:r>
              <a:rPr b="0" lang="pl-PL" sz="2000" spc="-1" strike="noStrike">
                <a:solidFill>
                  <a:srgbClr val="000000"/>
                </a:solidFill>
                <a:latin typeface="Calibri"/>
              </a:rPr>
              <a:t>	</a:t>
            </a:r>
            <a:r>
              <a:rPr b="0" lang="pl-PL" sz="2000" spc="-1" strike="noStrike">
                <a:solidFill>
                  <a:srgbClr val="000000"/>
                </a:solidFill>
                <a:latin typeface="Calibri"/>
              </a:rPr>
              <a:t>przedmiotów płaskich. Masę umieszcza się na prasie i wyciska </a:t>
            </a:r>
            <a:r>
              <a:rPr b="0" lang="pl-PL" sz="2000" spc="-1" strike="noStrike">
                <a:solidFill>
                  <a:srgbClr val="000000"/>
                </a:solidFill>
                <a:latin typeface="Calibri"/>
              </a:rPr>
              <a:t>	</a:t>
            </a:r>
            <a:r>
              <a:rPr b="0" lang="pl-PL" sz="2000" spc="-1" strike="noStrike">
                <a:solidFill>
                  <a:srgbClr val="000000"/>
                </a:solidFill>
                <a:latin typeface="Calibri"/>
              </a:rPr>
              <a:t>odpowiedni kształt przy pomocy matryc.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ypalanie porcelany</a:t>
            </a: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 uzyskaniu odpowiedniego kształtu masę wypala się wstępnie w temperaturze około 950</a:t>
            </a:r>
            <a:r>
              <a:rPr b="0" lang="pl-PL" sz="2000" spc="-1" strike="noStrike" baseline="30000">
                <a:solidFill>
                  <a:srgbClr val="000000"/>
                </a:solidFill>
                <a:latin typeface="Calibri"/>
              </a:rPr>
              <a:t>o</a:t>
            </a:r>
            <a:r>
              <a:rPr b="0" lang="pl-PL" sz="2000" spc="-1" strike="noStrike">
                <a:solidFill>
                  <a:srgbClr val="000000"/>
                </a:solidFill>
                <a:latin typeface="Calibri"/>
              </a:rPr>
              <a:t>C. Powstaje wówczas porcelana nieszkliwiona, czyli tzw. biskwit. Ozdobiony biskwit może stanowić produkt finalny lub być półproduktem do wyrobu porcelany szkliwionej. </a:t>
            </a:r>
            <a:endParaRPr b="0" lang="en-US" sz="2000" spc="-1" strike="noStrike">
              <a:solidFill>
                <a:srgbClr val="000000"/>
              </a:solidFill>
              <a:latin typeface="Calibri"/>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iskwit nadaje się do wygładzania czy szlifowania powierzchni, oraz do nałożenia warstwy szkliwa. Szkliwo jest rodzajem polewy nakładanej na ceramikę poprzez natrysk lub zanurzenie. Wytwarza się je z tlenków metali lub rzadziej niemetali. Cienka powłoka szkliwa nadaje porcelanie barwę oraz połysk, choć spotyka się również szkliwa matowe czy półprzeźroczyste. Oprócz zalet estetycznych, szkliwo zwiększa odporność porcelany na działanie wody oraz substancji chemicznych.  </a:t>
            </a:r>
            <a:endParaRPr b="0" lang="en-US" sz="2000" spc="-1" strike="noStrike">
              <a:solidFill>
                <a:srgbClr val="000000"/>
              </a:solidFill>
              <a:latin typeface="Calibri"/>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 nałożeniu szkliwa utrwala się je poprzez ponowne wypalenie w wyższej temperaturze, sięgającej od 1280 do 1460</a:t>
            </a:r>
            <a:r>
              <a:rPr b="0" lang="pl-PL" sz="2000" spc="-1" strike="noStrike" baseline="30000">
                <a:solidFill>
                  <a:srgbClr val="000000"/>
                </a:solidFill>
                <a:latin typeface="Calibri"/>
              </a:rPr>
              <a:t>o</a:t>
            </a:r>
            <a:r>
              <a:rPr b="0" lang="pl-PL" sz="2000" spc="-1" strike="noStrike">
                <a:solidFill>
                  <a:srgbClr val="000000"/>
                </a:solidFill>
                <a:latin typeface="Calibri"/>
              </a:rPr>
              <a:t>C. Ostatnim etapem produkcji porcelany jest jej dekorowanie.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ia porcelany</a:t>
            </a:r>
            <a:endParaRPr b="0" lang="en-US" sz="4400" spc="-1" strike="noStrike">
              <a:solidFill>
                <a:srgbClr val="000000"/>
              </a:solidFill>
              <a:latin typeface="Calibri"/>
            </a:endParaRPr>
          </a:p>
        </p:txBody>
      </p:sp>
      <p:sp>
        <p:nvSpPr>
          <p:cNvPr id="105"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lvl="1" marL="533520" indent="-354240" algn="just">
              <a:spcBef>
                <a:spcPts val="451"/>
              </a:spcBef>
              <a:buClr>
                <a:srgbClr val="000000"/>
              </a:buClr>
              <a:buFont typeface="Calibri"/>
              <a:buChar char="•"/>
              <a:tabLst>
                <a:tab algn="l" pos="18108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orcelana została wynaleziona w Chinach około VI lub VII wieku. Wówczas udoskonalono proces produkcji ceramiki oraz zaczęto stosować kaolin skaleń i kwarc do jej produkcji.</a:t>
            </a:r>
            <a:endParaRPr b="0" lang="en-US" sz="1800" spc="-1" strike="noStrike">
              <a:solidFill>
                <a:srgbClr val="000000"/>
              </a:solidFill>
              <a:latin typeface="Calibri"/>
            </a:endParaRPr>
          </a:p>
          <a:p>
            <a:pPr indent="0" algn="just">
              <a:spcBef>
                <a:spcPts val="249"/>
              </a:spcBef>
              <a:buNone/>
              <a:tabLst>
                <a:tab algn="l" pos="18108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533520" indent="-354240" algn="just">
              <a:spcBef>
                <a:spcPts val="451"/>
              </a:spcBef>
              <a:buClr>
                <a:srgbClr val="000000"/>
              </a:buClr>
              <a:buFont typeface="Calibri"/>
              <a:buChar char="•"/>
              <a:tabLst>
                <a:tab algn="l" pos="18108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 1292 r Marco Polo, po powrocie z wyprawy na Wschód, nazwał przywiezioną z Chin ceramikę „alla porcella”. To właśnie jemu porcelana zawdzięcza swoją nazwę.   </a:t>
            </a:r>
            <a:endParaRPr b="0" lang="en-US" sz="1800" spc="-1" strike="noStrike">
              <a:solidFill>
                <a:srgbClr val="000000"/>
              </a:solidFill>
              <a:latin typeface="Calibri"/>
            </a:endParaRPr>
          </a:p>
          <a:p>
            <a:pPr indent="0" algn="just">
              <a:spcBef>
                <a:spcPts val="249"/>
              </a:spcBef>
              <a:buNone/>
              <a:tabLst>
                <a:tab algn="l" pos="18108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533520" indent="-354240" algn="just">
              <a:spcBef>
                <a:spcPts val="451"/>
              </a:spcBef>
              <a:buClr>
                <a:srgbClr val="000000"/>
              </a:buClr>
              <a:buFont typeface="Calibri"/>
              <a:buChar char="•"/>
              <a:tabLst>
                <a:tab algn="l" pos="18108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rzez długi czas produkcja porcelany objęta była tajemnicą.  Sekret Chińczyków został odkryty dopiero w XVIII wieku. Wówczas rozpoczęto w Europie produkcję prawdziwej porcelany na szeroką skalę.</a:t>
            </a:r>
            <a:endParaRPr b="0" lang="en-US" sz="1800" spc="-1" strike="noStrike">
              <a:solidFill>
                <a:srgbClr val="000000"/>
              </a:solidFill>
              <a:latin typeface="Calibri"/>
            </a:endParaRPr>
          </a:p>
          <a:p>
            <a:pPr indent="0" algn="just">
              <a:spcBef>
                <a:spcPts val="451"/>
              </a:spcBef>
              <a:buNone/>
              <a:tabLst>
                <a:tab algn="l" pos="18108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6" name="" descr=""/>
          <p:cNvPicPr/>
          <p:nvPr/>
        </p:nvPicPr>
        <p:blipFill>
          <a:blip r:embed="rId1"/>
          <a:stretch/>
        </p:blipFill>
        <p:spPr>
          <a:xfrm>
            <a:off x="6883560" y="4292640"/>
            <a:ext cx="1720800" cy="1849320"/>
          </a:xfrm>
          <a:prstGeom prst="rect">
            <a:avLst/>
          </a:prstGeom>
          <a:ln w="0">
            <a:noFill/>
          </a:ln>
        </p:spPr>
      </p:pic>
      <p:sp>
        <p:nvSpPr>
          <p:cNvPr id="107" name=""/>
          <p:cNvSpPr/>
          <p:nvPr/>
        </p:nvSpPr>
        <p:spPr>
          <a:xfrm>
            <a:off x="468360" y="4552920"/>
            <a:ext cx="6335640" cy="1755720"/>
          </a:xfrm>
          <a:prstGeom prst="rect">
            <a:avLst/>
          </a:prstGeom>
          <a:noFill/>
          <a:ln w="0">
            <a:noFill/>
          </a:ln>
        </p:spPr>
        <p:style>
          <a:lnRef idx="0"/>
          <a:fillRef idx="0"/>
          <a:effectRef idx="0"/>
          <a:fontRef idx="minor"/>
        </p:style>
        <p:txBody>
          <a:bodyPr lIns="90000" rIns="90000" tIns="46800" bIns="46800" anchor="t">
            <a:normAutofit/>
          </a:bodyPr>
          <a:p>
            <a:pPr algn="just">
              <a:spcBef>
                <a:spcPts val="249"/>
              </a:spcBef>
              <a:tabLst>
                <a:tab algn="l" pos="0"/>
                <a:tab algn="l" pos="18108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533520" indent="-354240" algn="just">
              <a:spcBef>
                <a:spcPts val="451"/>
              </a:spcBef>
              <a:buClr>
                <a:srgbClr val="000000"/>
              </a:buClr>
              <a:buFont typeface="Calibri"/>
              <a:buChar char="•"/>
              <a:tabLst>
                <a:tab algn="l" pos="18108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 XVIII wieku porcelana zwana była „białym złotem” gdyż jej wartość była porównywalna do ówczesnej wartości złotego kruszcu. Do dziś, stara chińska porcelana posiada niezwykłą wartość.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yroby porcelanowe</a:t>
            </a:r>
            <a:endParaRPr b="0" lang="en-US" sz="4400" spc="-1" strike="noStrike">
              <a:solidFill>
                <a:srgbClr val="000000"/>
              </a:solidFill>
              <a:latin typeface="Calibri"/>
            </a:endParaRPr>
          </a:p>
        </p:txBody>
      </p:sp>
      <p:sp>
        <p:nvSpPr>
          <p:cNvPr id="109"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rcelana jest bardzo dobrym dielektrykiem. Cechuje się odpornością na działanie czynników chemicznych, w tym również zewnętrznych czyli pogodowych. Posiada dużą wytrzymałość mechaniczną oraz odporność na działanie łuku elektrycznego. Wszystkie powyższe cechy powodują, że jednym z głównych zastosowań porcelany jest elektroenergetyka, w której wykorzystuje się ją do produkcji wszelkiego rodzaju izolatorów. </a:t>
            </a:r>
            <a:endParaRPr b="0" lang="en-US" sz="2000" spc="-1" strike="noStrike">
              <a:solidFill>
                <a:srgbClr val="000000"/>
              </a:solidFill>
              <a:latin typeface="Calibri"/>
            </a:endParaRPr>
          </a:p>
          <a:p>
            <a:pPr indent="0" algn="just">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olejną cechą porcelany jest jej odporność na wysokie temperatury. Z tego powodu często stosowana jest do produkcji elementów pieców i palników grzewczych. </a:t>
            </a:r>
            <a:endParaRPr b="0" lang="en-US" sz="2000" spc="-1" strike="noStrike">
              <a:solidFill>
                <a:srgbClr val="000000"/>
              </a:solidFill>
              <a:latin typeface="Calibri"/>
            </a:endParaRPr>
          </a:p>
          <a:p>
            <a:pPr indent="0" algn="just">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Ze względu na chemoodporność oraz fakt, że nie wchłania ani nie przepuszcza cieczy i gazów, stosowana jest często jako sprzęt laboratoryjny. </a:t>
            </a:r>
            <a:endParaRPr b="0" lang="en-US" sz="2000" spc="-1" strike="noStrike">
              <a:solidFill>
                <a:srgbClr val="000000"/>
              </a:solidFill>
              <a:latin typeface="Calibri"/>
            </a:endParaRPr>
          </a:p>
          <a:p>
            <a:pPr indent="0" algn="just">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eszcie ze względu na dobrą wytrzymałość mechaniczną oraz estetyczny wygląd i łatwość formowania stosowana jest do produkcji całej gamy wyrobów gospodarstwa domowego, takich jak talerze, kubki, dzbanki i tym podobne oraz oczywiście do wyrobów artystycznych, dekoracyjnych.</a:t>
            </a:r>
            <a:endParaRPr b="0" lang="en-US" sz="2000" spc="-1" strike="noStrike">
              <a:solidFill>
                <a:srgbClr val="000000"/>
              </a:solidFill>
              <a:latin typeface="Calibri"/>
            </a:endParaRPr>
          </a:p>
          <a:p>
            <a:pPr indent="0" algn="just">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becnie porcelanę stosuje się również w medycynie do tworzenia implantów. Produkuje się z nich między innymi sztuczne zęby.  </a:t>
            </a:r>
            <a:endParaRPr b="0" lang="en-US" sz="2000" spc="-1" strike="noStrike">
              <a:solidFill>
                <a:srgbClr val="000000"/>
              </a:solidFill>
              <a:latin typeface="Calibri"/>
            </a:endParaRPr>
          </a:p>
        </p:txBody>
      </p:sp>
      <p:pic>
        <p:nvPicPr>
          <p:cNvPr id="110" name="" descr=""/>
          <p:cNvPicPr/>
          <p:nvPr/>
        </p:nvPicPr>
        <p:blipFill>
          <a:blip r:embed="rId1"/>
          <a:stretch/>
        </p:blipFill>
        <p:spPr>
          <a:xfrm>
            <a:off x="7093080" y="115920"/>
            <a:ext cx="1879560" cy="154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ajans</a:t>
            </a: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azwa fajans odnosi się do włoskiego miasta Faenza, w którym na początku XV wieku rozpoczęto produkcję wyrobów z tego materiału. Fajans, tak samo jak porcelana, jest rodzajem ceramiki. Proces jego wytwarzania jest podobny do produkcji porcelany, różnica polega na zastosowanych surowcach. Fajans produkowany jest z gliny z dodatkiem kwarcu, margli, wapieni, kredy czy kaolinu i skalenia. </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Sekret produkcji prawdziwej porcelany został odkryty w Europie dopiero w XVIII wieku, wcześniej prawdziwą porcelanę sprowadzało się z Chin, był to produkt niezwykle drogi i ekskluzywny. Fajans produkowany był wówczas jako imitacja porcelany.</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Fajans posiada znacznie gorsze od porcelany właściwości. Przede wszystkim jest bardziej chłonny i mniej odporny na warunki atmosferyczne. Charakteryzuje się też gorszą wytrzymałością mechaniczną i odpornością na uderzenia. Dlatego fajans prawie zawsze jest wykonywany w postaci szkliwionej czyli pokrytej szkliwem analogicznym do porcelanowego. Najczęściej stosuje się szkliwo cynowe, dające po wypaleniu białą, nieprzeźroczystą powierzchnię imitującą prawdziwą porcelanę.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Zastosowanie fajansu</a:t>
            </a:r>
            <a:endParaRPr b="0" lang="en-US" sz="4400" spc="-1" strike="noStrike">
              <a:solidFill>
                <a:srgbClr val="000000"/>
              </a:solidFill>
              <a:latin typeface="Calibri"/>
            </a:endParaRPr>
          </a:p>
        </p:txBody>
      </p:sp>
      <p:sp>
        <p:nvSpPr>
          <p:cNvPr id="114" name="PlaceHolder 2"/>
          <p:cNvSpPr>
            <a:spLocks noGrp="1"/>
          </p:cNvSpPr>
          <p:nvPr>
            <p:ph/>
          </p:nvPr>
        </p:nvSpPr>
        <p:spPr>
          <a:xfrm>
            <a:off x="457200" y="1599840"/>
            <a:ext cx="8229600" cy="146844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Ze względu na stosowane surowce fajans jest jedną z najtańszych form ceramiki i dlatego znajduje szerokie zastosowanie wszędzie tam, gdzie nie jest wymagana jakość porcelany.  Ze względu na zastosowanie możemy wyróżnić następujące rodzaje fajansu:  </a:t>
            </a:r>
            <a:endParaRPr b="0" lang="en-US" sz="2000" spc="-1" strike="noStrike">
              <a:solidFill>
                <a:srgbClr val="000000"/>
              </a:solidFill>
              <a:latin typeface="Calibri"/>
            </a:endParaRPr>
          </a:p>
        </p:txBody>
      </p:sp>
      <p:pic>
        <p:nvPicPr>
          <p:cNvPr id="115" name="" descr=""/>
          <p:cNvPicPr/>
          <p:nvPr/>
        </p:nvPicPr>
        <p:blipFill>
          <a:blip r:embed="rId1"/>
          <a:stretch/>
        </p:blipFill>
        <p:spPr>
          <a:xfrm>
            <a:off x="468360" y="4319640"/>
            <a:ext cx="1084320" cy="1557360"/>
          </a:xfrm>
          <a:prstGeom prst="rect">
            <a:avLst/>
          </a:prstGeom>
          <a:ln w="0">
            <a:noFill/>
          </a:ln>
        </p:spPr>
      </p:pic>
      <p:pic>
        <p:nvPicPr>
          <p:cNvPr id="116" name="" descr=""/>
          <p:cNvPicPr/>
          <p:nvPr/>
        </p:nvPicPr>
        <p:blipFill>
          <a:blip r:embed="rId2"/>
          <a:stretch/>
        </p:blipFill>
        <p:spPr>
          <a:xfrm>
            <a:off x="7596360" y="3297240"/>
            <a:ext cx="1008000" cy="923760"/>
          </a:xfrm>
          <a:prstGeom prst="rect">
            <a:avLst/>
          </a:prstGeom>
          <a:ln w="0">
            <a:noFill/>
          </a:ln>
        </p:spPr>
      </p:pic>
      <p:pic>
        <p:nvPicPr>
          <p:cNvPr id="117" name="" descr=""/>
          <p:cNvPicPr/>
          <p:nvPr/>
        </p:nvPicPr>
        <p:blipFill>
          <a:blip r:embed="rId3"/>
          <a:stretch/>
        </p:blipFill>
        <p:spPr>
          <a:xfrm>
            <a:off x="7180200" y="5032440"/>
            <a:ext cx="1352520" cy="988920"/>
          </a:xfrm>
          <a:prstGeom prst="rect">
            <a:avLst/>
          </a:prstGeom>
          <a:ln w="0">
            <a:noFill/>
          </a:ln>
        </p:spPr>
      </p:pic>
      <p:sp>
        <p:nvSpPr>
          <p:cNvPr id="118" name=""/>
          <p:cNvSpPr/>
          <p:nvPr/>
        </p:nvSpPr>
        <p:spPr>
          <a:xfrm>
            <a:off x="468360" y="3067200"/>
            <a:ext cx="7199280" cy="1441440"/>
          </a:xfrm>
          <a:prstGeom prst="rect">
            <a:avLst/>
          </a:prstGeom>
          <a:noFill/>
          <a:ln w="0">
            <a:noFill/>
          </a:ln>
        </p:spPr>
        <p:style>
          <a:lnRef idx="0"/>
          <a:fillRef idx="0"/>
          <a:effectRef idx="0"/>
          <a:fontRef idx="minor"/>
        </p:style>
        <p:txBody>
          <a:bodyPr lIns="90000" rIns="90000" tIns="46800" bIns="46800" anchor="t">
            <a:norm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ospodarczy – Jest najczęściej stosowany do wyrobu naczyń kuchennych, takich jak kubki czy talerze. Pomimo iż przedmioty te zwykło nazywać się porcelaną, w rzeczywistości w większości produkowane są ze znacznie tańszego fajansu. Do grupy tej zaliczamy również przedmioty artystyczne, dekoracyjne.</a:t>
            </a:r>
            <a:endParaRPr b="0" lang="en-US" sz="2000" spc="-1" strike="noStrike">
              <a:solidFill>
                <a:srgbClr val="000000"/>
              </a:solidFill>
              <a:latin typeface="Calibri"/>
            </a:endParaRPr>
          </a:p>
        </p:txBody>
      </p:sp>
      <p:sp>
        <p:nvSpPr>
          <p:cNvPr id="119" name=""/>
          <p:cNvSpPr/>
          <p:nvPr/>
        </p:nvSpPr>
        <p:spPr>
          <a:xfrm>
            <a:off x="1619280" y="4508640"/>
            <a:ext cx="7056360" cy="720720"/>
          </a:xfrm>
          <a:prstGeom prst="rect">
            <a:avLst/>
          </a:prstGeom>
          <a:noFill/>
          <a:ln w="0">
            <a:noFill/>
          </a:ln>
        </p:spPr>
        <p:style>
          <a:lnRef idx="0"/>
          <a:fillRef idx="0"/>
          <a:effectRef idx="0"/>
          <a:fontRef idx="minor"/>
        </p:style>
        <p:txBody>
          <a:bodyPr lIns="90000" rIns="90000" tIns="46800" bIns="46800" anchor="t">
            <a:norm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nitarny – Stosowany do wyrobu urządzeń sanitarnych, takich jak wanny umywalki czy muszle klozetowe.</a:t>
            </a:r>
            <a:endParaRPr b="0" lang="en-US" sz="2000" spc="-1" strike="noStrike">
              <a:solidFill>
                <a:srgbClr val="000000"/>
              </a:solidFill>
              <a:latin typeface="Calibri"/>
            </a:endParaRPr>
          </a:p>
        </p:txBody>
      </p:sp>
      <p:sp>
        <p:nvSpPr>
          <p:cNvPr id="120" name=""/>
          <p:cNvSpPr/>
          <p:nvPr/>
        </p:nvSpPr>
        <p:spPr>
          <a:xfrm>
            <a:off x="1619280" y="5229360"/>
            <a:ext cx="5473800" cy="720720"/>
          </a:xfrm>
          <a:prstGeom prst="rect">
            <a:avLst/>
          </a:prstGeom>
          <a:noFill/>
          <a:ln w="0">
            <a:noFill/>
          </a:ln>
        </p:spPr>
        <p:style>
          <a:lnRef idx="0"/>
          <a:fillRef idx="0"/>
          <a:effectRef idx="0"/>
          <a:fontRef idx="minor"/>
        </p:style>
        <p:txBody>
          <a:bodyPr lIns="90000" rIns="90000" tIns="46800" bIns="46800" anchor="t">
            <a:norm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jansowe płytki ścienne - zwane powszechnie kafelkam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amionka</a:t>
            </a: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amionka, podobnie jak fajans i porcelana, jest rodzajem ceramiki. Również w tym przypadku główna różnica polega na zastosowanych surowcach. Kamionkę wytwarza się z gliny ze stosunkowo dużą domieszką skalenia i kwarcytu. Dzięki tym dodatkom kamionka charakteryzuje się znacznie lepszą wytrzymałością mechaniczną niż fajans, stąd jej nazwa.    </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zęsto przed wypaleniem, surowe uformowane wyroby porywa się warstwą chlorku sodu, czyli solą kuchenną, która po wypaleniu nadaje przedmiotom kamionkowym charakterystyczną szklistą powłokę.</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rócz dobrej wytrzymałości mechanicznej kamionka posiada wysoką odporność na działanie kwasów i zasad oraz minimalną nasiąkliwość. Wyroby kamionkowe się nieprzeźroczyste, a barwa samej kamionki w przekroju jest w zależności od składu od kremowej poprzez żółtą i czerwoną po szarą i szarobrązową.</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staszek</cp:lastModifiedBy>
  <dcterms:modified xsi:type="dcterms:W3CDTF">2013-05-06T18:33:53Z</dcterms:modified>
  <cp:revision>21</cp:revision>
  <dc:subject/>
  <dc:title>Slajd 1</dc:title>
</cp:coreProperties>
</file>