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5.jpeg" ContentType="image/jpeg"/>
  <Override PartName="/ppt/media/image1.png" ContentType="image/png"/>
  <Override PartName="/ppt/media/image9.jpeg" ContentType="image/jpeg"/>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media/image3.png" ContentType="image/png"/>
  <Override PartName="/ppt/media/image7.wmf" ContentType="image/x-wmf"/>
  <Override PartName="/ppt/media/image14.jpeg" ContentType="image/jpeg"/>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E78B-C8A8-437B-8B50-7B92BD6BA6C5}"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2DCC-9AF6-446D-80CF-104469C1534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FE81-8A30-4563-80A0-29FD3BA079A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E4CA2-BCD8-464F-AAD7-03EDDE124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84489-C424-4DE7-96B1-F7E3AEE8B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70FAF-8E17-4520-915D-532C9445E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AEA422-A3A8-42DA-A5A5-E5BD5B022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A30F5-9B55-42A0-AC49-9908AC1EB1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34506-2051-4FA8-8170-7AEE461A8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0EF04-244A-4CDE-AB81-BA75B0675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4C275-4B7A-470A-BF47-397494DE5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1909A-26A0-4DCD-B463-C1CA07757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7ED58-BB66-4624-AC9E-6F8F05A5C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5585F-6C00-4E59-9612-3A872A1E5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C96F-BA94-4A5E-A0B1-C3DDDBA53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DAC98-13C2-4820-9B47-24C224B10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4ED59-1842-49F3-A90E-8103D8E01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F972E-C275-449F-B853-64E810D59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239A3-DB99-41A7-81CD-A2B55CC2E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44120-A53B-4DF2-92E8-68FDF3414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0135E-932E-4EF4-B141-EC5BFF53C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99F3B-DC02-4225-BE38-D40CD33C8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0A75D-0EAF-4661-8856-727E2F479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59FEA-25B1-4263-A28B-E7F667CE1C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DE5F6-DC72-4F31-916A-AEBC6106D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05174-2434-40BF-B3FC-0917367E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506BA-B039-43DB-9D12-FBB2B55D3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E7DC-2871-4CA0-805F-9B47D51E27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0171B-BC28-45C6-B553-1074E3CFBB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Stopy metali</a:t>
            </a:r>
            <a:endParaRPr b="0" lang="en-US" sz="49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Żelazo i jego stopy</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Żelazo, podobnie jak brąz, odegrało w historii ludzkości ogromne znaczenie. Również ono miało swoją epokę, w której rozwój ludzkości spowodowany był wykorzystaniem tego surowca do produkcji narzędzi.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Żelazo w stanie czystym posiada srebrzysty kolor, jest dość twarde i trudnotopliwe. W czystej postaci jest bardzo rzadko stosowane, gdyż już na etapie jego wytapiania z rudy jest wzbogacane o domieszkę węgla, zwiększającego twardość żelaza. W zależności od ilości węgla w stopie żelaza rozróżniamy stal oraz żeliwo.</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l posiada ogromne znaczenie gospodarcze. Ze względu na stosunkowo dużą dostępność głównego surowca jakim jest żelazo, stanowi podstawowy materiał wykorzystywany we wszystkich dziedzinach przemysłu, budownictwie oraz wielu innych dziedzinach życia człowieka.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22" name="" descr=""/>
          <p:cNvPicPr/>
          <p:nvPr/>
        </p:nvPicPr>
        <p:blipFill>
          <a:blip r:embed="rId1"/>
          <a:stretch/>
        </p:blipFill>
        <p:spPr>
          <a:xfrm>
            <a:off x="6948360" y="189000"/>
            <a:ext cx="1770120" cy="1542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l</a:t>
            </a:r>
            <a:endParaRPr b="0" lang="en-US" sz="4400" spc="-1" strike="noStrike">
              <a:solidFill>
                <a:srgbClr val="000000"/>
              </a:solidFill>
              <a:latin typeface="Calibri"/>
            </a:endParaRPr>
          </a:p>
        </p:txBody>
      </p:sp>
      <p:sp>
        <p:nvSpPr>
          <p:cNvPr id="124" name="PlaceHolder 2"/>
          <p:cNvSpPr>
            <a:spLocks noGrp="1"/>
          </p:cNvSpPr>
          <p:nvPr>
            <p:ph/>
          </p:nvPr>
        </p:nvSpPr>
        <p:spPr>
          <a:xfrm>
            <a:off x="519120" y="1600200"/>
            <a:ext cx="8229600" cy="49975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lą nazywamy materiał stopowy, którego podstawowym składnikiem jest żelazo oraz dodatek węgla w ilości nie przekraczającej 2%. Stal zawiera również inne dodatki, wśród których najczęściej występują: chrom, nikiel, wolfram, mangan, miedź tytan i inne.</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łaściwości stali różnią się w zależności od ilości i rodzaju zastosowanych dodatków. Wprowadzenie do stali dodatku innych metali w ilości od kilku do kilkunastu procent daje stale stopowe.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zykładowo: zastosowanie dodatku 18% chromu oraz 8% niklu daje stal nierdzewną. Jest to twarda stal, odporna na korozję, wysokie temperatury oraz działanie kwasów. Stal nierdzewną stosuje się między innymi w przemyśle spożywczym i farmaceutycznym, a także chemicznym i medycynie. Europejska norma HACCP wymaga stosowania stali nierdzewnej przy kontaktach z żywnością.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25" name="" descr=""/>
          <p:cNvPicPr/>
          <p:nvPr/>
        </p:nvPicPr>
        <p:blipFill>
          <a:blip r:embed="rId1"/>
          <a:stretch/>
        </p:blipFill>
        <p:spPr>
          <a:xfrm>
            <a:off x="6372360" y="333360"/>
            <a:ext cx="2222280" cy="129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Żeliwo</a:t>
            </a: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Żeliwem nazywamy stop żelaza z zawartością węgla większą niż 2% oraz innymi dodatkami. Żeliwo bardzo dobrze nadaje się do wykonywania odlewów. Ze względu na wysoką zawartość węgla charakteryzuje się odpornością na korozję.</a:t>
            </a:r>
            <a:endParaRPr b="0" lang="en-US" sz="2000" spc="-1" strike="noStrike">
              <a:solidFill>
                <a:srgbClr val="000000"/>
              </a:solidFill>
              <a:latin typeface="Calibri"/>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Żeliwo stosowane jest między innymi do produkcji pieców żeliwnych, kaloryferów, a także korpusów silników w przemyśle motoryzacyjnym. W przeszłości żeliwo stanowiło podstawowy materiał na rury kanalizacyjne.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28" name="" descr=""/>
          <p:cNvPicPr/>
          <p:nvPr/>
        </p:nvPicPr>
        <p:blipFill>
          <a:blip r:embed="rId1"/>
          <a:stretch/>
        </p:blipFill>
        <p:spPr>
          <a:xfrm>
            <a:off x="3348000" y="3933720"/>
            <a:ext cx="1849320" cy="19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kiel i jego stopy</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3052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kiel jest metalem o srebrzystobiałej, połyskliwej brawie. Najważniejszą cechą niklu jest jego odporność na korozję oraz na ścieranie.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Nikiel w czystej postaci stosuje się głównie do tworzenia błyszczących powłok galwanicznych w procesie elektrolizy na powierzchniach stalowych. Wykorzystywane jest to miedzy innymi w przemyśle motoryzacyjnym, zwiększana jest w ten sposób odporność blachy na korozję. Najpopularniejszym zastosowaniem niklu jest jego dodawanie do stopów stali, co zwiększa ich odporność na korozję.   </a:t>
            </a:r>
            <a:endParaRPr b="0" lang="en-US" sz="2000" spc="-1" strike="noStrike">
              <a:solidFill>
                <a:srgbClr val="000000"/>
              </a:solidFill>
              <a:latin typeface="Calibri"/>
            </a:endParaRPr>
          </a:p>
        </p:txBody>
      </p:sp>
      <p:pic>
        <p:nvPicPr>
          <p:cNvPr id="131" name="" descr=""/>
          <p:cNvPicPr/>
          <p:nvPr/>
        </p:nvPicPr>
        <p:blipFill>
          <a:blip r:embed="rId1"/>
          <a:stretch/>
        </p:blipFill>
        <p:spPr>
          <a:xfrm>
            <a:off x="7315200" y="4437000"/>
            <a:ext cx="1828800" cy="1828800"/>
          </a:xfrm>
          <a:prstGeom prst="rect">
            <a:avLst/>
          </a:prstGeom>
          <a:ln w="0">
            <a:noFill/>
          </a:ln>
        </p:spPr>
      </p:pic>
      <p:sp>
        <p:nvSpPr>
          <p:cNvPr id="132" name=""/>
          <p:cNvSpPr/>
          <p:nvPr/>
        </p:nvSpPr>
        <p:spPr>
          <a:xfrm>
            <a:off x="446040" y="4508640"/>
            <a:ext cx="7150320" cy="194472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ikiel jest składnikiem akumulatorów niklowo-kadmowych (Ni-Cd) oraz niklowo-wodorkowych (Ni-MH). Jest on również ferromagnetykiem, czyli materiałem magnetycznym, przez co wykorzystuje się go do produkcji magnesów trwałych.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y niklu</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pem niklu nazywany stop, w którym zawartość niklu dominuje nad innymi składnikami. Przykładowe stopy niklu to: </a:t>
            </a:r>
            <a:endParaRPr b="0" lang="en-US" sz="2000" spc="-1" strike="noStrike">
              <a:solidFill>
                <a:srgbClr val="000000"/>
              </a:solidFill>
              <a:latin typeface="Calibri"/>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war – </a:t>
            </a:r>
            <a:r>
              <a:rPr b="0" lang="en-US" sz="2000" spc="-1" strike="noStrike">
                <a:solidFill>
                  <a:srgbClr val="000000"/>
                </a:solidFill>
                <a:latin typeface="Calibri"/>
              </a:rPr>
              <a:t>jest to stal specjalna charakteryzująca się praktycznie zerową rozszerzalnością liniową. Stop ten stosuje się do produkcji precyzyjnych przyrządów pomiarowych.</a:t>
            </a:r>
            <a:endParaRPr b="0" lang="en-US" sz="2000" spc="-1" strike="noStrike">
              <a:solidFill>
                <a:srgbClr val="000000"/>
              </a:solidFill>
              <a:latin typeface="Calibri"/>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nel </a:t>
            </a:r>
            <a:r>
              <a:rPr b="0" lang="en-US" sz="2000" spc="-1" strike="noStrike">
                <a:solidFill>
                  <a:srgbClr val="000000"/>
                </a:solidFill>
                <a:latin typeface="Calibri"/>
              </a:rPr>
              <a:t>– stop niklu z miedzią, żelazem i manganem. Cechujący się wysoką plastycznością i wytrzymałością oraz odpornością na korozję. Stosuje się go do wytwarzania elementów maszyn pracujących w trudnym środowisku.   </a:t>
            </a:r>
            <a:endParaRPr b="0" lang="en-US" sz="2000" spc="-1" strike="noStrike">
              <a:solidFill>
                <a:srgbClr val="000000"/>
              </a:solidFill>
              <a:latin typeface="Calibri"/>
            </a:endParaRPr>
          </a:p>
          <a:p>
            <a:pPr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ichrom</a:t>
            </a:r>
            <a:r>
              <a:rPr b="0" lang="en-US" sz="2000" spc="-1" strike="noStrike">
                <a:solidFill>
                  <a:srgbClr val="000000"/>
                </a:solidFill>
                <a:latin typeface="Calibri"/>
              </a:rPr>
              <a:t> – stop niklu (80%) oraz chromu (20%), czasem z dodatkiem żelaza, nazywany jest też chromonikieliną. Charakteryzuje się wysoką temperaturą pracy, sięgającą 1100</a:t>
            </a:r>
            <a:r>
              <a:rPr b="0" lang="en-US" sz="2000" spc="-1" strike="noStrike" baseline="30000">
                <a:solidFill>
                  <a:srgbClr val="000000"/>
                </a:solidFill>
                <a:latin typeface="Calibri"/>
              </a:rPr>
              <a:t>o</a:t>
            </a:r>
            <a:r>
              <a:rPr b="0" lang="en-US" sz="2000" spc="-1" strike="noStrike">
                <a:solidFill>
                  <a:srgbClr val="000000"/>
                </a:solidFill>
                <a:latin typeface="Calibri"/>
              </a:rPr>
              <a:t>C oraz dużą odpornością. Stosowany do produkcji elementów grzejnych pieców oraz w lotnictwie na elementy silników pracujących w wysokich temperaturach.    </a:t>
            </a:r>
            <a:endParaRPr b="0" lang="en-US" sz="2000" spc="-1" strike="noStrike">
              <a:solidFill>
                <a:srgbClr val="000000"/>
              </a:solidFill>
              <a:latin typeface="Calibri"/>
            </a:endParaRPr>
          </a:p>
        </p:txBody>
      </p:sp>
      <p:pic>
        <p:nvPicPr>
          <p:cNvPr id="135" name="" descr=""/>
          <p:cNvPicPr/>
          <p:nvPr/>
        </p:nvPicPr>
        <p:blipFill>
          <a:blip r:embed="rId1"/>
          <a:stretch/>
        </p:blipFill>
        <p:spPr>
          <a:xfrm>
            <a:off x="6659640" y="262080"/>
            <a:ext cx="1944720" cy="1295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y niklu</a:t>
            </a: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lnico</a:t>
            </a:r>
            <a:r>
              <a:rPr b="0" lang="pl-PL" sz="2000" spc="-1" strike="noStrike">
                <a:solidFill>
                  <a:srgbClr val="000000"/>
                </a:solidFill>
                <a:latin typeface="Calibri"/>
              </a:rPr>
              <a:t> – jest to stop aluminium, niklu i kobaltu z domieszką żelaza i miedzi. Stop ten stosowany jest w produkcji magnesów trwałych, gdyż wykazuje silne właściwości ferromagnetyczne.</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Nitinol </a:t>
            </a:r>
            <a:r>
              <a:rPr b="0" lang="pl-PL" sz="2000" spc="-1" strike="noStrike">
                <a:solidFill>
                  <a:srgbClr val="000000"/>
                </a:solidFill>
                <a:latin typeface="Calibri"/>
              </a:rPr>
              <a:t>– Stop niklu i tytanu (Ni-Ti). Ciekawostką związaną z tym stopem jest to, że należy do grupy tak zwanych materiałów inteligentnych, posiadających pamięć kształtu. Pamięć kształtu związana jest z termosprężystymi przemianami mertenzytycznymi. W praktyce pamięć kształtu polega na powrocie do pierwotnego, ustalonego kształtu, w wyniku podgrzania ciała do temperatury powyżej temperatury przemiany mertenzytycznej. Przykładowo temperatura ta dla składu stechiometrycznego Ni-Ti 1:1 wynosi 65</a:t>
            </a:r>
            <a:r>
              <a:rPr b="0" lang="pl-PL" sz="2000" spc="-1" strike="noStrike" baseline="30000">
                <a:solidFill>
                  <a:srgbClr val="000000"/>
                </a:solidFill>
                <a:latin typeface="Calibri"/>
              </a:rPr>
              <a:t>o</a:t>
            </a:r>
            <a:r>
              <a:rPr b="0" lang="pl-PL" sz="2000" spc="-1" strike="noStrike">
                <a:solidFill>
                  <a:srgbClr val="000000"/>
                </a:solidFill>
                <a:latin typeface="Calibri"/>
              </a:rPr>
              <a:t>C. Inną ciekawą cechą wynikającą z pierwszej jest tzw. pseudosprężystość materiału posiadającego pamięć kształtu – materiał odkształca się pod wpływem zmian temperatury. Nitinol znajduje zastosowanie miedzy innymi w biomedycynie (leczenie złamań, chirurgia), a także na pochłaniacze drgań i czujniki temperatury.  </a:t>
            </a:r>
            <a:endParaRPr b="0" lang="en-US" sz="2000" spc="-1" strike="noStrike">
              <a:solidFill>
                <a:srgbClr val="000000"/>
              </a:solidFill>
              <a:latin typeface="Calibri"/>
            </a:endParaRPr>
          </a:p>
        </p:txBody>
      </p:sp>
      <p:pic>
        <p:nvPicPr>
          <p:cNvPr id="138" name="" descr=""/>
          <p:cNvPicPr/>
          <p:nvPr/>
        </p:nvPicPr>
        <p:blipFill>
          <a:blip r:embed="rId1"/>
          <a:stretch/>
        </p:blipFill>
        <p:spPr>
          <a:xfrm>
            <a:off x="6804000" y="260280"/>
            <a:ext cx="1757520" cy="125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y metali</a:t>
            </a:r>
            <a:endParaRPr b="0" lang="en-US" sz="4400" spc="-1" strike="noStrike">
              <a:solidFill>
                <a:srgbClr val="000000"/>
              </a:solidFill>
              <a:latin typeface="Calibri"/>
            </a:endParaRPr>
          </a:p>
        </p:txBody>
      </p:sp>
      <p:sp>
        <p:nvSpPr>
          <p:cNvPr id="9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pem metalu nazywamy materiał posiadający właściwości metaliczne, w którego składzie występuje metal podstawowy oraz co najmniej jeden dodatek. Dodatek ten zwany jest dodatkiem stopowym.</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jczęściej dodatki wprowadzane są w celu poprawienia konkretnych właściwości metalu podstawowego, takich jak twardość, wytrzymałość plastyczność, przewodnictwo cieplne czy odporność na korozję. Często odbywa się to kosztem pogorszenia innych parametrów materiału.</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stawową metodą wytwarzania stopów metali jest stapianie składników i mieszanie ich ze sobą w postaci ciekłej, a następnie schładzanie celem otrzymania struktury ciała stałego. Często stopy poddawane są dodatkowym procesom obróbki, np. cieplnej, celem polepszenia twardości czy wytrzymałości.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prócz metody stopowej znane są również inne techniki wytwarzania stopów. Jedną z nich jest metoda powierzchniowego nasycania dyfuzyjnego w stanie stałym poprzez nawęglanie czy azotowani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lin i jego stopy</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lin, inaczej aluminium, cechuje się bardzo małym ciężarem właściwym, dużą plastycznością i dużym przewodnictwem cieplnym oraz elektrycznym. Jego wadą jest stosunkowo niska wytrzymałość oraz twardość.  Aluminium jako pierwiastek występuje dość licznie w przyrodzie i jest materiałem szeroko dostępnym. Jego niska temperatura topnienia wynosząca około 660</a:t>
            </a:r>
            <a:r>
              <a:rPr b="0" lang="en-US" sz="2000" spc="-1" strike="noStrike" baseline="30000">
                <a:solidFill>
                  <a:srgbClr val="000000"/>
                </a:solidFill>
                <a:latin typeface="Calibri"/>
              </a:rPr>
              <a:t>o</a:t>
            </a:r>
            <a:r>
              <a:rPr b="0" lang="en-US" sz="2000" spc="-1" strike="noStrike">
                <a:solidFill>
                  <a:srgbClr val="000000"/>
                </a:solidFill>
                <a:latin typeface="Calibri"/>
              </a:rPr>
              <a:t>C powoduje, że bardzo dobrze sprawdza się jako materiał stopowy.</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py aluminium stosuje się głównie celem poprawienia jego wytrzymałości. Niektóre stopy po odpowiedniej obróbce cieplnej osiągają nawet kilkakrotnie większą wytrzymałość od czystego aluminium. Ich stosunek wytrzymałości do ciężaru właściwego przewyższa nawet stal, dlatego są często stosowane jako tak zwane stopy konstrukcyjne, między innymi w lotnictwie i przemyśle motoryzacyjny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aluminium</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31240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aluminium, zwane jest też duralem. Głównym dodatkiem stopowym do glinu jest w nim miedź. Zawiera  także mangan, magnez i inne. Posiada najwyższy spośród stopów aluminium stosunek wytrzymałości mechanicznej do ciężaru właściwego. Jego wadą jest duża podatność na korozję, dlatego powierzchnia duraluminium musi być zabezpieczana.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aluminium osiąga swoje właściwości mechaniczne dopiero po procesie przesycenia oraz starzenia. Najogólniej polega to na podgrzaniu gotowego stopu do temperatury niewiele niższej niż jego temperatura topnienia, a następnie schłodzeniu i leżakowaniu. </a:t>
            </a:r>
            <a:endParaRPr b="0" lang="en-US" sz="2000" spc="-1" strike="noStrike">
              <a:solidFill>
                <a:srgbClr val="000000"/>
              </a:solidFill>
              <a:latin typeface="Calibri"/>
            </a:endParaRPr>
          </a:p>
        </p:txBody>
      </p:sp>
      <p:pic>
        <p:nvPicPr>
          <p:cNvPr id="103" name="" descr=""/>
          <p:cNvPicPr/>
          <p:nvPr/>
        </p:nvPicPr>
        <p:blipFill>
          <a:blip r:embed="rId1"/>
          <a:stretch/>
        </p:blipFill>
        <p:spPr>
          <a:xfrm>
            <a:off x="6300720" y="4516560"/>
            <a:ext cx="2252880" cy="1865160"/>
          </a:xfrm>
          <a:prstGeom prst="rect">
            <a:avLst/>
          </a:prstGeom>
          <a:ln w="0">
            <a:noFill/>
          </a:ln>
        </p:spPr>
      </p:pic>
      <p:sp>
        <p:nvSpPr>
          <p:cNvPr id="104" name=""/>
          <p:cNvSpPr/>
          <p:nvPr/>
        </p:nvSpPr>
        <p:spPr>
          <a:xfrm>
            <a:off x="446040" y="4481640"/>
            <a:ext cx="5854680" cy="2476440"/>
          </a:xfrm>
          <a:prstGeom prst="rect">
            <a:avLst/>
          </a:prstGeom>
          <a:noFill/>
          <a:ln w="0">
            <a:noFill/>
          </a:ln>
        </p:spPr>
        <p:style>
          <a:lnRef idx="0"/>
          <a:fillRef idx="0"/>
          <a:effectRef idx="0"/>
          <a:fontRef idx="minor"/>
        </p:style>
        <p:txBody>
          <a:bodyPr lIns="90000" rIns="90000" tIns="46800" bIns="46800"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ural znajduje zastosowanie wszędzie tam, gdzie kluczowe znaczenie odgrywa waga materiału. Stosowany jest głównie w lotnictwie do tworzenia części konstrukcyjnych czy kadłubów samolotów, ale również między innymi do produkcji sprzętu sportowego i wyczynowego. Tworzy się z niego ramy rowerowe, kijki trekingowe i inn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 stopy glinu</a:t>
            </a: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ilumin</a:t>
            </a:r>
            <a:r>
              <a:rPr b="0" lang="pl-PL" sz="2000" spc="-1" strike="noStrike">
                <a:solidFill>
                  <a:srgbClr val="000000"/>
                </a:solidFill>
                <a:latin typeface="Calibri"/>
              </a:rPr>
              <a:t> – Stop aluminium ze znacznym dodatkiem krzemu oraz mniejszym innych pierwiastków, takich jak miedź, mangan, magnez i nikiel. Silumin posiada bardzo dobre właściwości odlewnicze, zwiększoną wytrzymałość oraz jest odporny na korozję. Powszechnie stosowany jest do produkcji tłoków cylindrów silnikowych w przemyśle motoryzacyjnym.</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Hydronalium</a:t>
            </a:r>
            <a:r>
              <a:rPr b="0" lang="pl-PL" sz="2000" spc="-1" strike="noStrike">
                <a:solidFill>
                  <a:srgbClr val="000000"/>
                </a:solidFill>
                <a:latin typeface="Calibri"/>
              </a:rPr>
              <a:t> – Stop zawierający dodatek magnezu i manganu, cechuje się odpornością na korozję oraz na działanie wody morskiej, stąd jego zastosowanie w przemyśle chemicznym i okrętowym. </a:t>
            </a:r>
            <a:endParaRPr b="0" lang="en-US" sz="2000" spc="-1" strike="noStrike">
              <a:solidFill>
                <a:srgbClr val="000000"/>
              </a:solidFill>
              <a:latin typeface="Calibri"/>
            </a:endParaRPr>
          </a:p>
        </p:txBody>
      </p:sp>
      <p:pic>
        <p:nvPicPr>
          <p:cNvPr id="107" name="" descr=""/>
          <p:cNvPicPr/>
          <p:nvPr/>
        </p:nvPicPr>
        <p:blipFill>
          <a:blip r:embed="rId1"/>
          <a:stretch/>
        </p:blipFill>
        <p:spPr>
          <a:xfrm>
            <a:off x="3132000" y="4365720"/>
            <a:ext cx="3024360" cy="186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edź i jej stopy</a:t>
            </a: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edź cechuje się bardzo dobrym przewodnictwem cieplnym i elektrycznym. Lepsze właściwości posiada jedynie znacznie droższe od miedzi srebro. W postaci czystej miedź jest materiałem bardzo miękkim i plastycznym.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łównym zastosowaniem miedzi jest przemysł elektroenergetyczny, gdzie wykorzystuje się ją do wytwarzania kabli elektrycznych i innych urządzeń przesyłowych. Stosuje się ją także w budownictwie do tworzenia instalacji wodociągowych i grzewczych, a także pokryć dachowych. To ostatnie zastosowanie wynika z odporności miedzi na działanie wody. Dodatkowo w wyniku utleniania na jej powierzchni powstaje warstwa tlenkowa zwana patyną, uniemożliwia dalszą korozję.</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py miedzi stosuje się głównie celem poprawienia jej twardości oraz odporności na utlenianie.     </a:t>
            </a:r>
            <a:endParaRPr b="0" lang="en-US" sz="2000" spc="-1" strike="noStrike">
              <a:solidFill>
                <a:srgbClr val="000000"/>
              </a:solidFill>
              <a:latin typeface="Calibri"/>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ąz</a:t>
            </a:r>
            <a:endParaRPr b="0" lang="en-US" sz="4400" spc="-1" strike="noStrike">
              <a:solidFill>
                <a:srgbClr val="000000"/>
              </a:solidFill>
              <a:latin typeface="Calibri"/>
            </a:endParaRPr>
          </a:p>
        </p:txBody>
      </p:sp>
      <p:sp>
        <p:nvSpPr>
          <p:cNvPr id="111" name="PlaceHolder 2"/>
          <p:cNvSpPr>
            <a:spLocks noGrp="1"/>
          </p:cNvSpPr>
          <p:nvPr>
            <p:ph/>
          </p:nvPr>
        </p:nvSpPr>
        <p:spPr>
          <a:xfrm>
            <a:off x="468360" y="1410840"/>
            <a:ext cx="8229600" cy="525780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gólnie brązem nazywamy szereg różnych stopów miedzi z cyną o zawartości miedzi w granicach 80-90%. Często również z mniejszym dodatkiem innych  pierwiastków.</a:t>
            </a:r>
            <a:endParaRPr b="0" lang="en-US" sz="2000" spc="-1" strike="noStrike">
              <a:solidFill>
                <a:srgbClr val="000000"/>
              </a:solidFill>
              <a:latin typeface="Calibri"/>
            </a:endParaRPr>
          </a:p>
          <a:p>
            <a:pPr indent="0" algn="just">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ąz posiada dobre właściwości mechaniczne. Jest wytrzymały i łatwo obrabialny, a przy tym odporny na ścieranie, wysoką temperaturę i korozję. Największą wadą ograniczającą zastosowanie brązu jest jego wysoka cena. </a:t>
            </a:r>
            <a:endParaRPr b="0" lang="en-US" sz="2000" spc="-1" strike="noStrike">
              <a:solidFill>
                <a:srgbClr val="000000"/>
              </a:solidFill>
              <a:latin typeface="Calibri"/>
            </a:endParaRPr>
          </a:p>
          <a:p>
            <a:pPr indent="0" algn="just">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ąz stosuje się w przemyśle na elementy sprężyste i trudno ścieralne, a także do produkcji elementów pracujących w wodzie morskiej, armatury oraz elementów aparatury chemicznej i monet.</a:t>
            </a:r>
            <a:endParaRPr b="0" lang="en-US" sz="2000" spc="-1" strike="noStrike">
              <a:solidFill>
                <a:srgbClr val="000000"/>
              </a:solidFill>
              <a:latin typeface="Calibri"/>
            </a:endParaRPr>
          </a:p>
          <a:p>
            <a:pPr indent="0" algn="just">
              <a:spcBef>
                <a:spcPts val="499"/>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ednym z rodzajów brązu jest </a:t>
            </a:r>
            <a:r>
              <a:rPr b="1" lang="en-US" sz="2000" spc="-1" strike="noStrike">
                <a:solidFill>
                  <a:srgbClr val="000000"/>
                </a:solidFill>
                <a:latin typeface="Calibri"/>
              </a:rPr>
              <a:t>spiż</a:t>
            </a:r>
            <a:r>
              <a:rPr b="0" lang="en-US" sz="2000" spc="-1" strike="noStrike">
                <a:solidFill>
                  <a:srgbClr val="000000"/>
                </a:solidFill>
                <a:latin typeface="Calibri"/>
              </a:rPr>
              <a:t> z którego w przeszłości odlewano armaty oraz dzwony. Obecnie często stosowany jako materiał na pomniki.</a:t>
            </a:r>
            <a:endParaRPr b="0" lang="en-US" sz="2000" spc="-1" strike="noStrike">
              <a:solidFill>
                <a:srgbClr val="000000"/>
              </a:solidFill>
              <a:latin typeface="Calibri"/>
            </a:endParaRPr>
          </a:p>
        </p:txBody>
      </p:sp>
      <p:sp>
        <p:nvSpPr>
          <p:cNvPr id="112" name=""/>
          <p:cNvSpPr/>
          <p:nvPr/>
        </p:nvSpPr>
        <p:spPr>
          <a:xfrm>
            <a:off x="468360" y="1125360"/>
            <a:ext cx="6840360" cy="216072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ąz odegrał w historii rozwoju ludzkości ogromne znaczenie. Od niego pochodzi nazwa epoki brązu, poprzedzającej epokę żelaza. Nazwa epoki pochodzi od używanych wówczas narzędzi wykonanych z brązu. </a:t>
            </a:r>
            <a:endParaRPr b="0" lang="en-US" sz="2000" spc="-1" strike="noStrike">
              <a:solidFill>
                <a:srgbClr val="000000"/>
              </a:solidFill>
              <a:latin typeface="Calibri"/>
            </a:endParaRPr>
          </a:p>
        </p:txBody>
      </p:sp>
      <p:pic>
        <p:nvPicPr>
          <p:cNvPr id="113" name="" descr=""/>
          <p:cNvPicPr/>
          <p:nvPr/>
        </p:nvPicPr>
        <p:blipFill>
          <a:blip r:embed="rId1"/>
          <a:stretch/>
        </p:blipFill>
        <p:spPr>
          <a:xfrm>
            <a:off x="7236000" y="692280"/>
            <a:ext cx="1523880" cy="181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siądz</a:t>
            </a:r>
            <a:endParaRPr b="0" lang="en-US" sz="4400" spc="-1" strike="noStrike">
              <a:solidFill>
                <a:srgbClr val="000000"/>
              </a:solidFill>
              <a:latin typeface="Calibri"/>
            </a:endParaRPr>
          </a:p>
        </p:txBody>
      </p:sp>
      <p:sp>
        <p:nvSpPr>
          <p:cNvPr id="11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6361200"/>
                <a:tab algn="l" pos="6400800"/>
                <a:tab algn="l" pos="7315200"/>
                <a:tab algn="l" pos="8229600"/>
                <a:tab algn="l" pos="9144000"/>
                <a:tab algn="l" pos="10058400"/>
              </a:tabLst>
            </a:pPr>
            <a:r>
              <a:rPr b="0" lang="en-US" sz="2000" spc="-1" strike="noStrike">
                <a:solidFill>
                  <a:srgbClr val="000000"/>
                </a:solidFill>
                <a:latin typeface="Calibri"/>
              </a:rPr>
              <a:t>Mosiądz to stop miedzi i cynku o zawartości cynku nawet do 40%. Często również z mniejszym dodatkiem innych metali. </a:t>
            </a:r>
            <a:endParaRPr b="0" lang="en-US" sz="2000" spc="-1" strike="noStrike">
              <a:solidFill>
                <a:srgbClr val="000000"/>
              </a:solidFill>
              <a:latin typeface="Calibri"/>
            </a:endParaRPr>
          </a:p>
          <a:p>
            <a:pPr indent="0" algn="just">
              <a:lnSpc>
                <a:spcPct val="90000"/>
              </a:lnSpc>
              <a:spcBef>
                <a:spcPts val="201"/>
              </a:spcBef>
              <a:buNone/>
              <a:tabLst>
                <a:tab algn="l" pos="0"/>
                <a:tab algn="l" pos="63612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90000"/>
              </a:lnSpc>
              <a:spcBef>
                <a:spcPts val="499"/>
              </a:spcBef>
              <a:buNone/>
              <a:tabLst>
                <a:tab algn="l" pos="0"/>
                <a:tab algn="l" pos="6361200"/>
                <a:tab algn="l" pos="6400800"/>
                <a:tab algn="l" pos="7315200"/>
                <a:tab algn="l" pos="8229600"/>
                <a:tab algn="l" pos="9144000"/>
                <a:tab algn="l" pos="10058400"/>
              </a:tabLst>
            </a:pPr>
            <a:r>
              <a:rPr b="0" lang="en-US" sz="2000" spc="-1" strike="noStrike">
                <a:solidFill>
                  <a:srgbClr val="000000"/>
                </a:solidFill>
                <a:latin typeface="Calibri"/>
              </a:rPr>
              <a:t>Mosiądz ma zbliżone parametry do brązu, jednak jest od niego wytrzymalszy i nieco twardszy. Posiada również mniejszy ciężar właściwy, dlatego obecnie mosiądz znajduje szersze zastosowanie od brązu.</a:t>
            </a:r>
            <a:endParaRPr b="0" lang="en-US" sz="2000" spc="-1" strike="noStrike">
              <a:solidFill>
                <a:srgbClr val="000000"/>
              </a:solidFill>
              <a:latin typeface="Calibri"/>
            </a:endParaRPr>
          </a:p>
          <a:p>
            <a:pPr indent="0" algn="just">
              <a:lnSpc>
                <a:spcPct val="90000"/>
              </a:lnSpc>
              <a:spcBef>
                <a:spcPts val="201"/>
              </a:spcBef>
              <a:buNone/>
              <a:tabLst>
                <a:tab algn="l" pos="0"/>
                <a:tab algn="l" pos="63612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90000"/>
              </a:lnSpc>
              <a:spcBef>
                <a:spcPts val="499"/>
              </a:spcBef>
              <a:buNone/>
              <a:tabLst>
                <a:tab algn="l" pos="0"/>
                <a:tab algn="l" pos="6361200"/>
                <a:tab algn="l" pos="6400800"/>
                <a:tab algn="l" pos="7315200"/>
                <a:tab algn="l" pos="8229600"/>
                <a:tab algn="l" pos="9144000"/>
                <a:tab algn="l" pos="10058400"/>
              </a:tabLst>
            </a:pPr>
            <a:r>
              <a:rPr b="0" lang="en-US" sz="2000" spc="-1" strike="noStrike">
                <a:solidFill>
                  <a:srgbClr val="000000"/>
                </a:solidFill>
                <a:latin typeface="Calibri"/>
              </a:rPr>
              <a:t>Z mosiądzu wytwarza się powszechnie armaturę, oraz różnego rodzaju okucia, w tym klamki. Duże zastosowanie znajduje mosiądz w przemyśle do produkcji ruchomych części maszyn odpornych na ścieranie oraz korozję. Mosiądz stosuje się również w przemyśle zbrojeniowym, wytwarzane są z niego łuski pocisków. Używany jest do produkcji instrumentów dętych, takich jak saksofon oraz talerzy perkusyjnych. Mosiądz stosuje się również do produkcji wielu drobnych przedmiotów, takich jak kłódki, odważniki, monety, medale, elementy ozdobne i dekoracyjne.    </a:t>
            </a:r>
            <a:endParaRPr b="0" lang="en-US" sz="2000" spc="-1" strike="noStrike">
              <a:solidFill>
                <a:srgbClr val="000000"/>
              </a:solidFill>
              <a:latin typeface="Calibri"/>
            </a:endParaRPr>
          </a:p>
          <a:p>
            <a:pPr indent="0" algn="just">
              <a:lnSpc>
                <a:spcPct val="90000"/>
              </a:lnSpc>
              <a:spcBef>
                <a:spcPts val="201"/>
              </a:spcBef>
              <a:buNone/>
              <a:tabLst>
                <a:tab algn="l" pos="0"/>
                <a:tab algn="l" pos="63612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90000"/>
              </a:lnSpc>
              <a:spcBef>
                <a:spcPts val="499"/>
              </a:spcBef>
              <a:buNone/>
              <a:tabLst>
                <a:tab algn="l" pos="0"/>
                <a:tab algn="l" pos="63612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becnie w Polsce do produkcji monet o nominałach 1, 2 oraz 5 groszy stosuje się mosiądz manganowy.</a:t>
            </a:r>
            <a:endParaRPr b="0" lang="en-US" sz="2000" spc="-1" strike="noStrike">
              <a:solidFill>
                <a:srgbClr val="000000"/>
              </a:solidFill>
              <a:latin typeface="Calibri"/>
            </a:endParaRPr>
          </a:p>
        </p:txBody>
      </p:sp>
      <p:pic>
        <p:nvPicPr>
          <p:cNvPr id="116" name="" descr=""/>
          <p:cNvPicPr/>
          <p:nvPr/>
        </p:nvPicPr>
        <p:blipFill>
          <a:blip r:embed="rId1"/>
          <a:stretch/>
        </p:blipFill>
        <p:spPr>
          <a:xfrm>
            <a:off x="6877080" y="260280"/>
            <a:ext cx="1947960" cy="135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 stopy miedzi</a:t>
            </a:r>
            <a:endParaRPr b="0" lang="en-US" sz="4400" spc="-1" strike="noStrike">
              <a:solidFill>
                <a:srgbClr val="000000"/>
              </a:solidFill>
              <a:latin typeface="Calibri"/>
            </a:endParaRPr>
          </a:p>
        </p:txBody>
      </p:sp>
      <p:sp>
        <p:nvSpPr>
          <p:cNvPr id="11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yficznym rodzajem mosiądzu jest </a:t>
            </a:r>
            <a:r>
              <a:rPr b="1" lang="en-US" sz="2000" spc="-1" strike="noStrike">
                <a:solidFill>
                  <a:srgbClr val="000000"/>
                </a:solidFill>
                <a:latin typeface="Calibri"/>
              </a:rPr>
              <a:t>tombak</a:t>
            </a:r>
            <a:r>
              <a:rPr b="0" lang="en-US" sz="2000" spc="-1" strike="noStrike">
                <a:solidFill>
                  <a:srgbClr val="000000"/>
                </a:solidFill>
                <a:latin typeface="Calibri"/>
              </a:rPr>
              <a:t>, zwany czerwonym mosiądzem. Tombak charakteryzuje się barwą przypominającą złoto, dlatego też znajduje zastosowanie głównie do wytwarzania przedmiotów dekoracyjnych, artystycznych, imitujących prawdziwe złoto.</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 kolei </a:t>
            </a:r>
            <a:r>
              <a:rPr b="1" lang="en-US" sz="2000" spc="-1" strike="noStrike">
                <a:solidFill>
                  <a:srgbClr val="000000"/>
                </a:solidFill>
                <a:latin typeface="Calibri"/>
              </a:rPr>
              <a:t>mosiądz wysokoniklowy</a:t>
            </a:r>
            <a:r>
              <a:rPr b="0" lang="en-US" sz="2000" spc="-1" strike="noStrike">
                <a:solidFill>
                  <a:srgbClr val="000000"/>
                </a:solidFill>
                <a:latin typeface="Calibri"/>
              </a:rPr>
              <a:t>, czyli stop miedzi i cynku z dodatkiem niklu i manganu, posiada barwę srebrzystą i z powodzeniem może imitować wyroby ze srebra. Często stosowany jest do wyrobu sztućców, kielichów, tac i innych przedmiotów ozdobnych. </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za brązem i mosiądzem, miedź wykorzystywana jest jako materiał stopowy do wytwarzania </a:t>
            </a:r>
            <a:r>
              <a:rPr b="1" lang="en-US" sz="2000" spc="-1" strike="noStrike">
                <a:solidFill>
                  <a:srgbClr val="000000"/>
                </a:solidFill>
                <a:latin typeface="Calibri"/>
              </a:rPr>
              <a:t>miedzioniklu</a:t>
            </a:r>
            <a:r>
              <a:rPr b="0" lang="en-US" sz="2000" spc="-1" strike="noStrike">
                <a:solidFill>
                  <a:srgbClr val="000000"/>
                </a:solidFill>
                <a:latin typeface="Calibri"/>
              </a:rPr>
              <a:t>, czyli stopu miedzi oraz niklu. Miedzionikiel cechuje się dobrą wytrzymałością, odpornością na korozje oraz żaroodpornością. Stosowany między innymi na termoelementy, elementy rurociągów dla płynów korozyjnych, monety oraz elementy sprężyste maszyn.</a:t>
            </a:r>
            <a:endParaRPr b="0" lang="en-US" sz="2000" spc="-1" strike="noStrike">
              <a:solidFill>
                <a:srgbClr val="000000"/>
              </a:solidFill>
              <a:latin typeface="Calibri"/>
            </a:endParaRPr>
          </a:p>
        </p:txBody>
      </p:sp>
      <p:pic>
        <p:nvPicPr>
          <p:cNvPr id="119" name="" descr=""/>
          <p:cNvPicPr/>
          <p:nvPr/>
        </p:nvPicPr>
        <p:blipFill>
          <a:blip r:embed="rId1"/>
          <a:stretch/>
        </p:blipFill>
        <p:spPr>
          <a:xfrm>
            <a:off x="6732720" y="189000"/>
            <a:ext cx="200160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staszek</cp:lastModifiedBy>
  <dcterms:modified xsi:type="dcterms:W3CDTF">2013-05-06T20:14:29Z</dcterms:modified>
  <cp:revision>22</cp:revision>
  <dc:subject/>
  <dc:title>Slajd 1</dc:title>
</cp:coreProperties>
</file>