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F40A-A2DC-4A8F-80FC-24DE9635C00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D9E3-1A75-4389-ACCE-FE34D0ED384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4737-62BE-4200-9C58-C4B5931872E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B247-0A4C-4DD4-90E1-A9144759C92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50E2-2D56-4828-9BA1-65F62CCC127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A771-37ED-4C81-8A9C-98A098CB007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402F-34BD-4357-AB82-7351856FB2C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EA9B-B0E7-4907-830A-82633DFA91E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A91B-D23F-4AD9-8B53-16CBBF05B94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C76B-F96A-4C59-899C-4CDF84E6DEF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0245-7478-4B7D-AFB7-DFD7CDDA4A3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1FC9-682F-4D1F-939D-29ABB21BADC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3034-CA7C-4E4B-AB01-BBB2604AF1A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611E-7795-4B98-B876-13CD61315FF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753-5823-4C4D-8482-FE108A19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9C3-D727-4DEF-B537-7E75914D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F9C-CAAD-4353-8DE6-8CD80529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A53-FB38-4B87-BE7D-50F607A9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65CC-8F32-45F2-8C52-D6EFAF6A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264F-8954-4CD4-AD63-6F5DEC5E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BCFD-1182-40EE-A2C9-A8A5CB4F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D005-B3DF-47FB-9928-B2DDA4FB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42AB-2B0B-4EB2-9C8F-404622EA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E708-BF8B-4632-8B95-01AC5413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156A-6FF3-4F31-AEAA-3C675060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BD32-AA44-4C5C-8095-98C1763B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BE09-88DA-4DB3-8923-8EDB05C6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6852-D412-4BA5-8E36-5D3604F4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3C0D-8990-46A0-88FD-2061AD45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5BDE-3539-4C46-894C-DAC1D6E4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CF4C-845C-4650-A31E-827B7E03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465-24DB-48C9-9C6E-6EF7EB51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B93-4ABA-4706-BBA0-A688D2AF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1563-6E57-46F7-B46B-18F29A86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D00-8692-43D7-8DD3-2BDADF01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B94-9E6D-412C-A7F4-1D2CDEAF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491-ACC3-42D2-8E9D-16BB08E4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275-4D25-4BA4-BCAB-742A0341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00FA-543C-4313-96B5-29735A678E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6BE8-886C-4874-B234-4F895DD5E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"/>
              </a:rPr>
              <a:t>Implanty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708000" y="549000"/>
            <a:ext cx="52563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ateriały, z których wykonane są protezy, to tzw. materiały biokompatybilne. Nie wywołują one reakcji układu odpornościowego i są nietoksyczne. Jest to szczególnie ważne w przypadku protez, które są wszczepiane w organizm na stał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uchome endoprotezy stawów kolanowego i biodrowego wykonywane są ze stopów metali oraz z cementu. W skład tych stopów wchodzi m.in. kobalt, tytan, wanad. W ostatnich latach w składzie pojawia się także tantal, którego struktura zbliżona jest do struktury kości, dzięki czemu kość przerasta protezę stabilizując sta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7" descr="MP900385793[1]"/>
          <p:cNvPicPr/>
          <p:nvPr/>
        </p:nvPicPr>
        <p:blipFill>
          <a:blip r:embed="rId1"/>
          <a:stretch/>
        </p:blipFill>
        <p:spPr>
          <a:xfrm>
            <a:off x="324000" y="1268280"/>
            <a:ext cx="323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anty pier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76720" y="1052640"/>
            <a:ext cx="5410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anty stosowane są także w medycynie kosmetycznej, której celem jest poprawa wygląd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szczepianie implantów piersi ma na celu ich powiększen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yróżniamy dwa zasadnicze typy implantów piersi: wypełnionych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żelem silikonowy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az wypełnionych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solą fizjologiczną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a typ implantów różnią się substancją, którą jest wypełniony silikonowy worek wszczepiany pod skórę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lanty wypełnione silikonowym żelem wszczepiane są jako gotowe implanty, natomiast drugi rodzaj wypełniany jest solą fizjologiczną dopiero po wszczepieniu pustych osłonek w pier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iektóre implanty posiadają podwójną warstwę silikonowych osłonek, co zwiększa ich wytrzymałość i zapobiega wyciekowi substancji znajdującej się wewnątrz do ciał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0" descr="MP900448633[1]"/>
          <p:cNvPicPr/>
          <p:nvPr/>
        </p:nvPicPr>
        <p:blipFill>
          <a:blip r:embed="rId1"/>
          <a:stretch/>
        </p:blipFill>
        <p:spPr>
          <a:xfrm>
            <a:off x="-181080" y="2133720"/>
            <a:ext cx="33480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anty ślimak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mplanty ślimakowe stosowane są dla osób niedosłyszących     z różnym stopniem upośledzenia słuch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mplant składa się z dwóch części: wewnętrznej (czyli implantu zasadniczego, wszczepianego do ślimaka w uchu), oraz zewnętrznej (czyli procesora mow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nieważ część wewnętrzna na stałe przebywa w ciele człowieka, dlatego niezbędne jest wykonanie jej z materiałów biokompatybilnych. Wewnętrzna elektroda stymulująca ślimak wykonana jest najczęściej z porcelany lub tytan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wnętrzna część zasilana jest niewielkimi bateriami i pełni funkcję odbiornika dźwięków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cesor zewnętrzny umiejscawiany jest na stałe na czaszce pacjent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 to jest impl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anty stomatologi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anty stawów biodrowego i kolanow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anty pier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anty ślimak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o to jest impla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anem implantu określamy sztuczny element wszczepiany w ciało w celu odtworzenia pewnych jego funkcji lub poprawy estetyk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częściej stosowane implan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mplanty stomatologiczn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oprotezy stawu biodrow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kolanowego, implanty ślimak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la osób głuchych i niedosłysząc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az implanty piers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5" descr="MP900385793[1]"/>
          <p:cNvPicPr/>
          <p:nvPr/>
        </p:nvPicPr>
        <p:blipFill>
          <a:blip r:embed="rId1"/>
          <a:stretch/>
        </p:blipFill>
        <p:spPr>
          <a:xfrm>
            <a:off x="6443640" y="292428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Implanty stomatologicz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ant stomatologiczny to śruba, na której zostanie osadzony tzw. „sztuczny ząb”. Pełni on zatem funkcję korzenia zębow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czenie implantologiczne może przebiegać w sposób jednofazowy, lub dwufazowy. W pierwszym przypadku następuje natychmiastowa odbudowa zębów (podczas jednej wizyty u stomatologa), natomiast w drugim przypadku założenie implantu     i jego nadbudowy są rozdzielone w czas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apy leczenia implantologicznego – proces dwufazow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erwszym etapem leczenia implantologicznego jest zabieg chirurgiczn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szczepienia implantó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Polega on na wkręceniu śruby w kość żuchwy lub szczę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tym zabiegu powstałą    w dziąśle ranę zszywa si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ant wykonany jest         z tytan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MP900385801[1]"/>
          <p:cNvPicPr/>
          <p:nvPr/>
        </p:nvPicPr>
        <p:blipFill>
          <a:blip r:embed="rId1"/>
          <a:stretch/>
        </p:blipFill>
        <p:spPr>
          <a:xfrm>
            <a:off x="539640" y="1628640"/>
            <a:ext cx="3187800" cy="4464360"/>
          </a:xfrm>
          <a:prstGeom prst="rect">
            <a:avLst/>
          </a:prstGeom>
          <a:ln w="0">
            <a:noFill/>
          </a:ln>
        </p:spPr>
      </p:pic>
      <p:sp>
        <p:nvSpPr>
          <p:cNvPr id="108" name="Line 10"/>
          <p:cNvSpPr/>
          <p:nvPr/>
        </p:nvSpPr>
        <p:spPr>
          <a:xfrm flipH="1">
            <a:off x="3132000" y="3429000"/>
            <a:ext cx="172728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rugim etapem jest proces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sseointegracj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czyli zespalania się implantu z kości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len zawarty w kościach tworzy na powierzchni implantu warstwę dwutlenku tytanu, na której może odkładać się nowa tkanka kostna. Powoduje to właściwe zespolenie tytanowej śruby z kości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la żuchwy proces ten trwa około 3 miesięcy, natomiast dla szczęki okres ten może się wydłużyć nawet do pół rok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95280" y="404280"/>
            <a:ext cx="46911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tatnim etapem jest wykonanie i nałożenie korony lub mostu protetycznego. Są one mocowane na stałe i mogą być zdejmowane wyłącznie przez dentyst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ro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umieszczona na wierzchołku implantu zastępuje zą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służy do wypełnienia szpary po brakującym zębie. Może być mocowany do implantów otaczających te puste przestrzen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MP900424377[1]"/>
          <p:cNvPicPr/>
          <p:nvPr/>
        </p:nvPicPr>
        <p:blipFill>
          <a:blip r:embed="rId1"/>
          <a:stretch/>
        </p:blipFill>
        <p:spPr>
          <a:xfrm>
            <a:off x="179280" y="1700280"/>
            <a:ext cx="35640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5410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rony i mosty są wykonane        z porcelany lub ceramiki. Spotyka się także korony wykonane ze złota i akrylu oraz stopów metali. Mają one zazwyczaj większą wytrzymałość niż porcelana           i mogą być zalecane w przypadku zębów trzonowyc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y zachować korony i mosty jak najdłużej należy przede wszystkim dbać o właściwą higienę jamy ustnej i zgłaszać się na okresowe przeglądy stomatologi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MP900321049[1]"/>
          <p:cNvPicPr/>
          <p:nvPr/>
        </p:nvPicPr>
        <p:blipFill>
          <a:blip r:embed="rId1"/>
          <a:stretch/>
        </p:blipFill>
        <p:spPr>
          <a:xfrm>
            <a:off x="6084720" y="162864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lanty stawów biodrowego i kolanowe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elem wszczepienia implantów stawów biodrowego                  i kolanowego jest całkowite usunięcie zniszczonego stawu        i zastąpienie go nowym. Zabieg ten nosi nazwę endoprotezoplastyki i kończy się sukcesem u 90 % pacjentó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częstszą przyczyną prowadzącą do zwyrodnienia stawów, a w konsekwencji do wszczepienia implantów, jest brak ruchu oraz nadwag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taw kolanowy znajduje się tuż p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órą, i w przeciwieństwie do staw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iodrowego, nie jest wzmocnio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ięśniami. Z tego względ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szczepiana w jego miejs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endoproteza powinna zapewnić j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zczególną stabilnoś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5" descr="MP900385792[1]"/>
          <p:cNvPicPr/>
          <p:nvPr/>
        </p:nvPicPr>
        <p:blipFill>
          <a:blip r:embed="rId1"/>
          <a:stretch/>
        </p:blipFill>
        <p:spPr>
          <a:xfrm>
            <a:off x="5586480" y="3860640"/>
            <a:ext cx="35575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7-12T17:46:02Z</dcterms:modified>
  <cp:revision>58</cp:revision>
  <dc:subject/>
  <dc:title>Slajd 1</dc:title>
</cp:coreProperties>
</file>