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5BB4-2CB7-4895-824A-B8AAD4594FD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8E15-5A3F-43DB-A1F4-70CEBE4E03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726C-7EEC-4FF5-AAB6-7CB9E21C72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803-1051-4B87-B88C-98366FB2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9E2-C042-4119-A0CA-DBF9AA80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CCD-BFB2-4359-BC26-CAD36AF7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9CC-D4BF-495D-ABD0-2026B55B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6C5-3F23-4BAB-B11A-7C9FC2B0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D015-1AAA-4BFC-85FD-939AB886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EF9A-B7DB-4AC6-A131-BA47AA4A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945F-B28A-40B9-830B-F8A4B1A5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BB91-47D0-4AAF-8284-D87FEA8F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3140-11C4-4D87-B7E8-CDE31401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FA0B-7B02-4BA1-9739-9231D46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954-A6D7-44D9-83BA-A05281E3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EE12-6826-456D-BE8E-85202ADE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3B4B-7798-4EE2-8C27-15C93FAD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907A-A823-4CCA-AF4B-0CBC55B0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9A40-B758-4E1E-9201-ED934300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E6D-3C8A-406C-85AD-0610787D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13B-4969-4117-BD47-835C0AB9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DEB-1473-49C9-8FD3-A7378948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744-4C24-4013-8CFD-2B2AEF68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68D-B823-4E59-8125-2E19C795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C9C-A0E7-403D-8FC5-9D27EA05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083-6AA2-4A1C-AF09-A92EAA67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C99-3893-450F-93D8-A582C464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E79A-F108-46B8-BEC2-DC578AEAB5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2602-8E70-45CE-8B61-DA2C2F624E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Choroby cywilizacyjn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260280"/>
            <a:ext cx="889308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ff"/>
                </a:solidFill>
                <a:latin typeface="Calibri"/>
              </a:rPr>
              <a:t>OTYŁOŚ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tyłość oznacza stan, w którym znacznie przekroczona jest prawidłowa zawartość tkanki tłuszczowej w organizmie (powyżej 20% u mężczyzn i 25%          u kobie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częstszą przyczyną otyłości są złe nawyki żywieniowe i brak aktywności fizycznej – towarzyszy jej zatem znaczne przekroczenie prawidłowej masy ciał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leczona otyłość może prowadzić do wielu chorób i zaburzeń, w tym do niepełnosprawności, rozwoju cukrzycy, chorób serc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USA liczbę chorych na otyłość szacuje się na 27% (ponad ¼ wszystkich mieszkańców kraju!), podczas gdy w Polsce odsetek ten wynosi około 19%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3938760"/>
            <a:ext cx="8229600" cy="2187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4176720" cy="31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 to jest choroba cywilizacyjn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definic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zmiany cywilizacyj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pływ na zdrowie człowie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zykłady chorób cywilizacyj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cukrzy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nadciśni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otyłoś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o to jest choroba cywilizacyj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óbuj podać własną definicję choroby cywilizacyjnej. Skąd wzięła się jej nazwa? Co może oznaczać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roba cywilizacyjna – choroba związana z rozwojem cywilizacji i zmieniającymi się w związku z tym warunkami życia. Choroby cywilizacyjne to choroby występujące powszechnie w społeczeństw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e istnieje jednoznaczna definicja chorób cywilizacyj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niżej znajduje się wykres obrazujący wzrost ludności świata na przestrzeni wieków. Czy jesteś w stanie wskazać okres, od którego mówimy o chorobach cywilizacyjnych? Co się wówczas wydarzyło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Symbol zastępczy tekstu 2"/>
          <p:cNvGraphicFramePr/>
          <p:nvPr/>
        </p:nvGraphicFramePr>
        <p:xfrm>
          <a:off x="971640" y="1844640"/>
          <a:ext cx="7235640" cy="45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Symbol zastępczy tekstu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44640"/>
                    <a:ext cx="72356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724360" y="3284640"/>
            <a:ext cx="863640" cy="1584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52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Rewolucja przemysło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roby cywilizacyjne nazywane są także chorobami XXI wieku. Wynika to ze zmian stylu życia społeczeństw, które zaszły w czasach współczesnych na niespotykaną dotąd skalę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astanówcie się wspólnie w jakich obszarach życia nastąpiły zmiany w społeczeństwie w ostatnim stuleciu. Przedyskutujcie wspólnie na forum klasy ten temat. Pomoże Wam schemat przedstawiony na kolejnym slajdzie. Po zdiagnozowaniu zmian, które zaszły w życiu człowieka zastanówcie się, jak zmiany te wpłynęły na jego życ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920000" cy="61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Przykładowe choroby cywilizacyj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4859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ff"/>
                </a:solidFill>
                <a:latin typeface="Calibri"/>
              </a:rPr>
              <a:t>CUKRZY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Jest chorobą metaboliczną, w wyniku której   w organizmie utrzymuje się zbyt wysoki poziom cukru. Wynika to z niewłaściwego działania insuliny – hormonu odpowiedzialnego za metabolizm węglowodan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ieleczona cukrzyca powoduje uszkodzenia licznych narządów, np. serca, nerek lub ocz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la cukrzycy specyficzne jest podwyższone stężenie glukozy we krwi (powyżej 200 mg/dl ) oraz występowanie ciał ketonowych w moczu i krw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zynnikami ryzyka w zachorowaniach na cukrzycę jest między innymi otyłość, brak aktywności fizycznej oraz spożywanie alkohol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ukrzyca jest jedną z chorób, która najbardziej obciąża system finansowania opieki zdrowotnej w wielu krajach na świec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Symbol zastępczy tekstu 2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6050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ff"/>
                </a:solidFill>
                <a:latin typeface="Calibri"/>
              </a:rPr>
              <a:t>NADCIŚNIE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ciśnienie tętnicze jest przewlekłą chorobą charakteryzującą się podwyższonym ciśnieniem krwi (powyżej 140/90 mmH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dciśnienie może powodować wiele chorób wtórnych. Jest jednym z najważniejszych czynników ryzyka sercowo-naczyniow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acuje się, że ponad 13% populacj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świata choruje na tę chorob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naczący wpływ na walkę z t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horobą ma utrzymywan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awidłowej masy ciała, aktywność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zyczna, a także ograniczen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pożywania alkoholu oraz sol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80000" y="2924280"/>
            <a:ext cx="3195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Calibri"/>
              </a:rPr>
              <a:t>AI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IDS oznacza zespół nabytego niedoboru odporności i jest śmiertelną chorobą, w wyniku której wyniszczeniu ulega układ odpornościowy człowie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IDS powoduje wiele zakażeń wtórnych, mogących prowadzić do śmier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AIDS rozwija się z zakażenia wirusem HIV. Może do niego dojść poprzez kontakt z zakażoną krwią, stosunek seksualny lub przeniesienie zakażenia          z matki na dzieck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cznie z powodu tej choroby na Świecie umiera około 2 mln ludzi. W dalszym ciągu do największej liczby zakażeń wirusem HIV dochodzi na kontynencie Afrykański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7-08T21:34:40Z</dcterms:modified>
  <cp:revision>46</cp:revision>
  <dc:subject/>
  <dc:title>Slajd 1</dc:title>
</cp:coreProperties>
</file>