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41D6A-210A-4A49-8DED-1F5963A0D65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25A83-4BB6-407F-A8DF-5EF178344F3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arwne mapy hipsometryczne wbrew panującej w Polsce obiegowej opinii nie są wynalazkiem prof. Romera. W momencie wydania atlasu Atlas geograficznego w 1908r były już znane, skala Romera została zaczerpnięta ze skali barwnej stosowanej między innymi od ok 40-lat w wydawnictwie Bartholomew. Niemniej jednak w owym czasie nikt nie stosował map z jednoznaczną skalą hipsometryczną (wypełnieniem barwnym przestrzeni pomiędzy interpolowanymi matematycznie warstwicami) a nieliczne opracowania posiadały z reguły kolorystykę odzwierciedlającą hipsometrię wrysowywaną „na oko” przez kreślarza.</a:t>
            </a:r>
            <a:endParaRPr b="0" lang="en-US" sz="1200" spc="-1" strike="noStrike">
              <a:solidFill>
                <a:srgbClr val="000000"/>
              </a:solidFill>
              <a:latin typeface="Calibri"/>
            </a:endParaRPr>
          </a:p>
        </p:txBody>
      </p:sp>
      <p:sp>
        <p:nvSpPr>
          <p:cNvPr id="1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7970-FC93-466A-8297-AADBB3E82A1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48E6-F5AF-4528-AE6F-90342499212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6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8859-60A7-4398-8646-5803671FEA2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zasadnieniem stosowania takiej palety były naukowo potwierdzone obserwacje że wzrok człowieka rejestruje barwy cieplejsze jako pozornie bliższe naszym oczu, przez co tak kolorowana mapa barwna sprawia wrażenie plastyczności. Tak naprawdę wszystkie palety stosowane na świecie są w miarę zbliżone do skali Romera. Doliny zawsze mają kolor zielony, który ze wzrostem wysokości zmienia się w odcienie żółte lub brązowe. Różnie są interpretowane góry, w skali Romera najwyższe szczyty charakteryzują się przejściem barwy brązowej w czerwoną, inne skale obejmują przejście brązu w ciemnobrązowy i czarny, wprowadza się także niekiedy kolor biały lub niebieski dla najwyższych wierzchołków (pokrytych wiecznym śniegiem) – szczególnie w kartografii amerykańskiej.</a:t>
            </a:r>
            <a:endParaRPr b="0" lang="en-US" sz="1200" spc="-1" strike="noStrike">
              <a:solidFill>
                <a:srgbClr val="000000"/>
              </a:solidFill>
              <a:latin typeface="Calibri"/>
            </a:endParaRPr>
          </a:p>
        </p:txBody>
      </p:sp>
      <p:sp>
        <p:nvSpPr>
          <p:cNvPr id="1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14D1-284C-4332-8A1F-B8CA52F43FA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nieważ Polska jest krajem o zdecydowanej przewadze nizin, oraz wyżyn o niewielkich wysokościach, wielokrotnie mniejszych niż nieliczne powierzchniowo góry, najczęściej stosuje się skalę barwną zbliżoną do logarytmicznej. Cechuje się ona rozpiętością 0-2500m, ale zagęszczenie progów jest tym gęstsze im mniejsza wysokość, dzięki czemu uzyskuje się możliwie dobre uwidocznienie rzeźby terenu na Polskim Niżu, a zarazem generalizacje rzeźby górskiej, która z racji niewielkiego obszaru gór w Polsce i tak byłaby nieczytelna z racji zbyt dużego zagęszczenia izolinii przykładowo w Tatrach.</a:t>
            </a:r>
            <a:endParaRPr b="0" lang="en-US" sz="1200" spc="-1" strike="noStrike">
              <a:solidFill>
                <a:srgbClr val="000000"/>
              </a:solidFill>
              <a:latin typeface="Calibri"/>
            </a:endParaRPr>
          </a:p>
        </p:txBody>
      </p:sp>
      <p:sp>
        <p:nvSpPr>
          <p:cNvPr id="1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79B1-7267-4FCB-AAE3-9CB85F0DEAD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7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C993-9AAA-49E5-9AA7-33318B87A34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by interpolacja przebiegała sprawnie i dawała przebieg warstwic jak najbardziej zbliżony do rzeczywistości, nie należy ich mierzyć w miejscach wzdłuż przewidywanego przebiegu warstwic, ale dokładnie w odwrotny sposób, a więc starać się pomierzyć szczyt wzniesień, przełęcze, dna dolin podążając wzdłuż linii grzbietowych oraz linii najszybszego spadku. Są dwie podstawowe metody, metoda punktów rozproszonych polegająca na pomiarze punktów leżących w oczkach na przykład siatki kwadratów (lub nieregularnej chmury punktów wygenerowanej przez komputer) jest stosowana w automatycznych pomiarach wykonywanych przez komputery na podstawie zdjęć lotniczych lub satelitarnych, skanery laserowe itp. Jest to metoda nie uwzględniająca kształtu terenu, przypominająca wykonywanie zdjęcia aparatem cyfrowym, jest to dokładna metoda eliminująca wpływ błędów człowieka o ile mierzy się odpowiednio dużo punktów. Drugi sposób to pomiar profili i punktów charakterystycznych, polegającym na takim doborze punktów aby układały się wzdłuż linii prostopadłych do dominującej rzeźby terenu (przykładowo profile prostopadłe do doliny rzeki, lub podłużnego wzniesienia). Metoda ta daje bardzo dobre odwzorowanie terenu przy pomiarze niewielkiej ilości punktów ale nie jest to metoda w pełni automatyczna i jest bardzo czuła na błędny wybór punktów.</a:t>
            </a:r>
            <a:endParaRPr b="0" lang="en-US" sz="1200" spc="-1" strike="noStrike">
              <a:solidFill>
                <a:srgbClr val="000000"/>
              </a:solidFill>
              <a:latin typeface="Calibri"/>
            </a:endParaRPr>
          </a:p>
        </p:txBody>
      </p:sp>
      <p:sp>
        <p:nvSpPr>
          <p:cNvPr id="1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2773-227D-44C3-953D-A7E36DBCA8A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iangulacji obszaru trzeba dokonać w taki sposób aby powstały tylko trójkąty, tzn jeśli jedna komórka jest przykładowo czworokątem trzeba ją podzielić na dwa trójkąty. Sposobów podziału na trójkąty jest wiele, przykładowo każdy czworokąt można podzielić na dwa trójkąty w dwa niezależne sposoby (łącząc ze sobą przeciwległe wierzchołki). Sieć triangulacyjna powinna być zoptymalizowana w kierunku jak najkrótszych połączeń.</a:t>
            </a:r>
            <a:endParaRPr b="0" lang="en-US" sz="1200" spc="-1" strike="noStrike">
              <a:solidFill>
                <a:srgbClr val="000000"/>
              </a:solidFill>
              <a:latin typeface="Calibri"/>
            </a:endParaRPr>
          </a:p>
        </p:txBody>
      </p:sp>
      <p:sp>
        <p:nvSpPr>
          <p:cNvPr id="1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8DF4-A148-42AE-9D01-9B49FE979C7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2F76-1F66-4F30-B5FA-288FAC6CAA3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5578-5098-41C4-ADE7-598B428D767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B47B-BB5B-42FB-868F-BCD1E418C7A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447A-D197-4A6A-8C75-71C454B4E97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4B3D-FCDC-44C4-A2C6-8996EBA7BF8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6346D-3EBF-4B06-82B4-2118792E936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djęcie przedstawia Tarnicę najwyższy szczyt polskich Bieszczadów. W przypadku wszystkich rodzajów map, warstwice ustala się w wysokościach stanowiących jakąś wielokrotność obowiązującej jednostki, przykładowo co 100m, lub co 20m jak w znajdującym się powyżej opracowaniu. Gęstość cięcia warstwicowego musi być dobrana do skali mapy i rzeźby terenu, im cięcie mniejsze tym dokładniejsza mapa – ograniczeniem dokładności jest czytelność mapy, gdy warstwic jest za dużo nie dość że „nachodzą na siebie” to zasłaniają inne elementy mapy takie jak drogi, rzeki nazwy miast przez co mapa staje się nieczytelna. W obowiązujących w Polsce mapach topograficznych stosuje się państwową instrukcję K-2, w mapach wielkoskalowych instrukcję K-1. Natomiast w przypadku map ogólnogeograficznych, poglądowych czy tematycznych przeznaczonych do indywidualnego użytku (na przykład turystycznych) jest to arbitralna decyzja kartografa od której zależy czytelność i walory użytkowe mapy.</a:t>
            </a:r>
            <a:endParaRPr b="0" lang="en-US" sz="1200" spc="-1" strike="noStrike">
              <a:solidFill>
                <a:srgbClr val="000000"/>
              </a:solidFill>
              <a:latin typeface="Calibri"/>
            </a:endParaRPr>
          </a:p>
        </p:txBody>
      </p:sp>
      <p:sp>
        <p:nvSpPr>
          <p:cNvPr id="14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B37F-218B-410E-98A5-FECFED15BCD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DCC7-028F-4942-ADCF-88D3473B119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9A71-B5BF-4539-8C3A-7BE8E86F55D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7209-A6B3-4989-9207-B5E4A5221E6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ie jest to mapa hipsometryczna w dzisiejszym tego słowa znaczeniu, gdyż nie zastosowano żadnego odwzorowania sytuacyjnego ani wysokościowego, jest to subiektywna skala wysokości, wykonana w odcieniach umbrii palonej, gdzie stopień nasycenia koloru wzrastał wraz z wysokością.</a:t>
            </a:r>
            <a:endParaRPr b="0" lang="en-US" sz="1200" spc="-1" strike="noStrike">
              <a:solidFill>
                <a:srgbClr val="000000"/>
              </a:solidFill>
              <a:latin typeface="Calibri"/>
            </a:endParaRPr>
          </a:p>
        </p:txBody>
      </p:sp>
      <p:sp>
        <p:nvSpPr>
          <p:cNvPr id="1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C7BE0-6AEC-47CF-8010-1CCBC3D0F88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ykładem może być ta mapa Ameryki północnej z 1877r, nie posiada ona odwzorowania warstwicowego, barwny układ wysokości został przedstawiony w sposób schematyczny wyróżniając 3 zakresy kolorów, przy czym zasięg pasm górskich jest bardzo schematyczny i uproszczony. Przykładowo Kordyliery , których najwyższym szczytem jest McKinley 6194 m n.p.m. są oznaczone takim samym kolorem co Apallachy z najwyższym wierzchołkiem Mount Mitchell 2037 m n.p.m.  Jest to bardziej wizja artystyczna kreślarza niż prawdziwa mapa hipsometryczna, która do czasu opracowań Eugeniusza Romera praktycznie nie była spotykana.</a:t>
            </a:r>
            <a:endParaRPr b="0" lang="en-US" sz="1200" spc="-1" strike="noStrike">
              <a:solidFill>
                <a:srgbClr val="000000"/>
              </a:solidFill>
              <a:latin typeface="Calibri"/>
            </a:endParaRPr>
          </a:p>
        </p:txBody>
      </p:sp>
      <p:sp>
        <p:nvSpPr>
          <p:cNvPr id="1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7A70-F5E8-4766-8465-2E4096C64CD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6B2AA-0CC2-4985-953C-E92EEB43A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84229-4AA7-47A5-8AC9-B482C4439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A4627-A694-4B7E-8BA2-64E817EEB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C1A31-4676-4F81-98D7-B319C3067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41705-78AA-4CA8-8A32-1427CF79F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5C02D-CCEE-4A72-BD4F-1CFEFE7ED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14908-DFA8-4A7B-88F3-66E3D672E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0A326-EEA5-419A-A578-BB382BD5D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A14ED-34E5-418E-A6F5-B6A871DCB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2584B-C607-40FA-8646-EE33AABD3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3154E-E801-42E7-A2A1-EE919EAE1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96AF6-4064-4BF4-BD2C-90FC710D2F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4437-6CA9-4FBF-83E2-045EA0FF6058}"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Users\Asia\Desktop\Prusak_Cieślik2\B_58-66\64-66\źródła\Untitled-1.jpg"/>
          <p:cNvPicPr/>
          <p:nvPr/>
        </p:nvPicPr>
        <p:blipFill>
          <a:blip r:embed="rId1"/>
          <a:stretch/>
        </p:blipFill>
        <p:spPr>
          <a:xfrm>
            <a:off x="2068560" y="2349360"/>
            <a:ext cx="5079960" cy="3573720"/>
          </a:xfrm>
          <a:prstGeom prst="rect">
            <a:avLst/>
          </a:prstGeom>
          <a:ln w="0">
            <a:noFill/>
          </a:ln>
        </p:spPr>
      </p:pic>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2"/>
          <a:stretch/>
        </p:blipFill>
        <p:spPr>
          <a:xfrm>
            <a:off x="0" y="5951520"/>
            <a:ext cx="9144000" cy="906480"/>
          </a:xfrm>
          <a:prstGeom prst="rect">
            <a:avLst/>
          </a:prstGeom>
          <a:ln w="0">
            <a:noFill/>
          </a:ln>
        </p:spPr>
      </p:pic>
      <p:pic>
        <p:nvPicPr>
          <p:cNvPr id="51" name="Obraz 5" descr="nagłówek_poz.gif"/>
          <p:cNvPicPr/>
          <p:nvPr/>
        </p:nvPicPr>
        <p:blipFill>
          <a:blip r:embed="rId3"/>
          <a:stretch/>
        </p:blipFill>
        <p:spPr>
          <a:xfrm>
            <a:off x="0" y="0"/>
            <a:ext cx="9144000" cy="1125360"/>
          </a:xfrm>
          <a:prstGeom prst="rect">
            <a:avLst/>
          </a:prstGeom>
          <a:ln w="0">
            <a:noFill/>
          </a:ln>
        </p:spPr>
      </p:pic>
      <p:sp>
        <p:nvSpPr>
          <p:cNvPr id="52" name="Tytuł 1"/>
          <p:cNvSpPr/>
          <p:nvPr/>
        </p:nvSpPr>
        <p:spPr>
          <a:xfrm>
            <a:off x="684360" y="907920"/>
            <a:ext cx="7848360" cy="144144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psometryczna skala barw. Mapa hipsometryczna.</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az 3" descr="http://mykrak.com/wordpress/wp-content/uploads/2011/10/Eugeniusz-Romer-ca-1928.jpg"/>
          <p:cNvPicPr/>
          <p:nvPr/>
        </p:nvPicPr>
        <p:blipFill>
          <a:blip r:embed="rId2"/>
          <a:stretch/>
        </p:blipFill>
        <p:spPr>
          <a:xfrm>
            <a:off x="5364000" y="1362240"/>
            <a:ext cx="3246480" cy="4230360"/>
          </a:xfrm>
          <a:prstGeom prst="rect">
            <a:avLst/>
          </a:prstGeom>
          <a:ln w="0">
            <a:noFill/>
          </a:ln>
        </p:spPr>
      </p:pic>
      <p:sp>
        <p:nvSpPr>
          <p:cNvPr id="87" name="Rectangle 3"/>
          <p:cNvSpPr/>
          <p:nvPr/>
        </p:nvSpPr>
        <p:spPr>
          <a:xfrm>
            <a:off x="4971960" y="5799240"/>
            <a:ext cx="4029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32408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Profesor Eugeniusz Romer ( 1871-1954)</a:t>
            </a:r>
            <a:endParaRPr b="0" lang="en-US" sz="1800" spc="-1" strike="noStrike">
              <a:solidFill>
                <a:srgbClr val="000000"/>
              </a:solidFill>
              <a:latin typeface="Arial"/>
            </a:endParaRPr>
          </a:p>
          <a:p>
            <a:pPr algn="ctr">
              <a:lnSpc>
                <a:spcPct val="100000"/>
              </a:lnSpc>
              <a:tabLst>
                <a:tab algn="l" pos="0"/>
                <a:tab algn="l" pos="132408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Calibri"/>
              </a:rPr>
              <a:t>Źródło: Narodowe archiwum cyfrowe</a:t>
            </a:r>
            <a:endParaRPr b="0" lang="en-US" sz="1800" spc="-1" strike="noStrike">
              <a:solidFill>
                <a:srgbClr val="000000"/>
              </a:solidFill>
              <a:latin typeface="Arial"/>
            </a:endParaRPr>
          </a:p>
        </p:txBody>
      </p:sp>
      <p:sp>
        <p:nvSpPr>
          <p:cNvPr id="88" name="Tytuł 1"/>
          <p:cNvSpPr/>
          <p:nvPr/>
        </p:nvSpPr>
        <p:spPr>
          <a:xfrm>
            <a:off x="190440" y="1052640"/>
            <a:ext cx="5029200" cy="5472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 jednego z twórców polskiej kartografii uważa się profesora Eugeniusza Romera. Był on pionierem w stosowaniu barwnej skali w geograficznych mapach hipsograficznych i tematyczn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1" name="Tytuł 1"/>
          <p:cNvSpPr/>
          <p:nvPr/>
        </p:nvSpPr>
        <p:spPr>
          <a:xfrm>
            <a:off x="179280" y="981000"/>
            <a:ext cx="8785440" cy="259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dany przez niego w 1908r. we Lwowie „Atlas geograficzny” zawierał mapy, które można uznać za pierwsze w pełni funkcjonalne odwzorowania hipsometryczne warstwicowo-barwne.</a:t>
            </a:r>
            <a:endParaRPr b="0" lang="en-US" sz="3200" spc="-1" strike="noStrike">
              <a:solidFill>
                <a:srgbClr val="000000"/>
              </a:solidFill>
              <a:latin typeface="Arial"/>
            </a:endParaRPr>
          </a:p>
        </p:txBody>
      </p:sp>
      <p:pic>
        <p:nvPicPr>
          <p:cNvPr id="92" name="Picture 3" descr="C:\Users\Asia\Desktop\Prusak_Cieślik2\B_58-66\64-66\źródła\Untitled-1.jpg"/>
          <p:cNvPicPr/>
          <p:nvPr/>
        </p:nvPicPr>
        <p:blipFill>
          <a:blip r:embed="rId2"/>
          <a:stretch/>
        </p:blipFill>
        <p:spPr>
          <a:xfrm>
            <a:off x="1955880" y="3716280"/>
            <a:ext cx="5232240" cy="1219320"/>
          </a:xfrm>
          <a:prstGeom prst="rect">
            <a:avLst/>
          </a:prstGeom>
          <a:ln w="0">
            <a:noFill/>
          </a:ln>
        </p:spPr>
      </p:pic>
      <p:sp>
        <p:nvSpPr>
          <p:cNvPr id="93" name="Tytuł 1"/>
          <p:cNvSpPr/>
          <p:nvPr/>
        </p:nvSpPr>
        <p:spPr>
          <a:xfrm>
            <a:off x="179280" y="5013360"/>
            <a:ext cx="8731440" cy="154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na skala hipsometryczn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legenda mapy E. Rom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6" name="Tytuł 1"/>
          <p:cNvSpPr/>
          <p:nvPr/>
        </p:nvSpPr>
        <p:spPr>
          <a:xfrm>
            <a:off x="250920" y="1125360"/>
            <a:ext cx="8534160" cy="1151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ragment mapy Ziem Polskich, wydanej przez Eugeniusza Romera we Wiedniu w 1916r.</a:t>
            </a:r>
            <a:endParaRPr b="0" lang="en-US" sz="3200" spc="-1" strike="noStrike">
              <a:solidFill>
                <a:srgbClr val="000000"/>
              </a:solidFill>
              <a:latin typeface="Arial"/>
            </a:endParaRPr>
          </a:p>
        </p:txBody>
      </p:sp>
      <p:pic>
        <p:nvPicPr>
          <p:cNvPr id="97" name="Picture 2" descr="C:\Users\Asia\Desktop\Prusak_Cieślik2\B_58-66\64-66\źródła\Untitled-1.jpg"/>
          <p:cNvPicPr/>
          <p:nvPr/>
        </p:nvPicPr>
        <p:blipFill>
          <a:blip r:embed="rId2"/>
          <a:stretch/>
        </p:blipFill>
        <p:spPr>
          <a:xfrm>
            <a:off x="1590840" y="2349360"/>
            <a:ext cx="5962320" cy="419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0" name="Tytuł 1"/>
          <p:cNvSpPr/>
          <p:nvPr/>
        </p:nvSpPr>
        <p:spPr>
          <a:xfrm>
            <a:off x="0" y="907920"/>
            <a:ext cx="9144000" cy="568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py Romera charakteryzowały si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ięciem warstwicowym w równych interwałach.</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ebiegiem warstwic wyznaczonym przez pomiar terenowy punktów i aproksymacj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stosowaniem palety obejmującej odcienie od niebieskiego (morza), poprzez zieleń, brąz aż do czerwieni.</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03" name="Picture 2" descr="Plik:Poland-hipsometric map.jpg"/>
          <p:cNvPicPr/>
          <p:nvPr/>
        </p:nvPicPr>
        <p:blipFill>
          <a:blip r:embed="rId2"/>
          <a:stretch/>
        </p:blipFill>
        <p:spPr>
          <a:xfrm>
            <a:off x="1851120" y="2205000"/>
            <a:ext cx="5441760" cy="4289400"/>
          </a:xfrm>
          <a:prstGeom prst="rect">
            <a:avLst/>
          </a:prstGeom>
          <a:ln w="0">
            <a:noFill/>
          </a:ln>
        </p:spPr>
      </p:pic>
      <p:sp>
        <p:nvSpPr>
          <p:cNvPr id="104" name="Tytuł 1"/>
          <p:cNvSpPr/>
          <p:nvPr/>
        </p:nvSpPr>
        <p:spPr>
          <a:xfrm>
            <a:off x="0" y="1031760"/>
            <a:ext cx="9144000" cy="107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spółczesna mapa hipsometryczna Polsk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Interpolacja warstwic</a:t>
            </a:r>
            <a:endParaRPr b="0" lang="en-US" sz="4400" spc="-1" strike="noStrike">
              <a:solidFill>
                <a:srgbClr val="000000"/>
              </a:solidFill>
              <a:latin typeface="Calibri"/>
            </a:endParaRPr>
          </a:p>
        </p:txBody>
      </p:sp>
      <p:sp>
        <p:nvSpPr>
          <p:cNvPr id="10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8" name="Tytuł 1"/>
          <p:cNvSpPr/>
          <p:nvPr/>
        </p:nvSpPr>
        <p:spPr>
          <a:xfrm>
            <a:off x="108000" y="1989000"/>
            <a:ext cx="885672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by warstwice miały wartość naukową nie można ich rysować „na oko” jak to miało miejsce na XIX-sto wiecznych mapach. Ponieważ pomiar dokładnie wzdłuż linii każdej warstwicy  jest praktycznie niewykonalny  stosuje się rozwiązanie pośrednie </a:t>
            </a:r>
            <a:r>
              <a:rPr b="1" lang="pl-PL" sz="3200" spc="-1" strike="noStrike">
                <a:solidFill>
                  <a:srgbClr val="000000"/>
                </a:solidFill>
                <a:latin typeface="Arial"/>
              </a:rPr>
              <a:t>interpolacje</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1" name="Tytuł 1"/>
          <p:cNvSpPr/>
          <p:nvPr/>
        </p:nvSpPr>
        <p:spPr>
          <a:xfrm>
            <a:off x="108000" y="1125360"/>
            <a:ext cx="89280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biór punktów o pomierzonej wysokości.</a:t>
            </a:r>
            <a:endParaRPr b="0" lang="en-US" sz="3200" spc="-1" strike="noStrike">
              <a:solidFill>
                <a:srgbClr val="000000"/>
              </a:solidFill>
              <a:latin typeface="Arial"/>
            </a:endParaRPr>
          </a:p>
        </p:txBody>
      </p:sp>
      <p:pic>
        <p:nvPicPr>
          <p:cNvPr id="112" name="Picture 2" descr="C:\Users\Asia\Desktop\Prusak_Cieślik2\B_58-66\64-66\!!!źródła\w1.jpg"/>
          <p:cNvPicPr/>
          <p:nvPr/>
        </p:nvPicPr>
        <p:blipFill>
          <a:blip r:embed="rId2"/>
          <a:stretch/>
        </p:blipFill>
        <p:spPr>
          <a:xfrm>
            <a:off x="1341360" y="1747800"/>
            <a:ext cx="6246720" cy="488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5" name="Tytuł 1"/>
          <p:cNvSpPr/>
          <p:nvPr/>
        </p:nvSpPr>
        <p:spPr>
          <a:xfrm>
            <a:off x="179280" y="981000"/>
            <a:ext cx="878544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unkty łączymy ze sobą tworząc sieć trójkątów.</a:t>
            </a:r>
            <a:endParaRPr b="0" lang="en-US" sz="3200" spc="-1" strike="noStrike">
              <a:solidFill>
                <a:srgbClr val="000000"/>
              </a:solidFill>
              <a:latin typeface="Arial"/>
            </a:endParaRPr>
          </a:p>
        </p:txBody>
      </p:sp>
      <p:pic>
        <p:nvPicPr>
          <p:cNvPr id="116" name="Picture 2" descr="C:\Users\Asia\Desktop\Prusak_Cieślik2\B_58-66\64-66\!!!źródła\w2.jpg"/>
          <p:cNvPicPr/>
          <p:nvPr/>
        </p:nvPicPr>
        <p:blipFill>
          <a:blip r:embed="rId2"/>
          <a:stretch/>
        </p:blipFill>
        <p:spPr>
          <a:xfrm>
            <a:off x="1200240" y="1628640"/>
            <a:ext cx="6529320" cy="511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9" name="Tytuł 1"/>
          <p:cNvSpPr/>
          <p:nvPr/>
        </p:nvSpPr>
        <p:spPr>
          <a:xfrm>
            <a:off x="108000" y="1092240"/>
            <a:ext cx="8928000" cy="718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nterpolowane punkty przecięcia linii z warstwicą</a:t>
            </a:r>
            <a:endParaRPr b="0" lang="en-US" sz="3200" spc="-1" strike="noStrike">
              <a:solidFill>
                <a:srgbClr val="000000"/>
              </a:solidFill>
              <a:latin typeface="Arial"/>
            </a:endParaRPr>
          </a:p>
        </p:txBody>
      </p:sp>
      <p:pic>
        <p:nvPicPr>
          <p:cNvPr id="120" name="Picture 2" descr="C:\Users\Asia\Desktop\Prusak_Cieślik2\B_58-66\64-66\!!!źródła\w3.jpg"/>
          <p:cNvPicPr/>
          <p:nvPr/>
        </p:nvPicPr>
        <p:blipFill>
          <a:blip r:embed="rId2"/>
          <a:stretch/>
        </p:blipFill>
        <p:spPr>
          <a:xfrm>
            <a:off x="1415880" y="1744560"/>
            <a:ext cx="6312240" cy="495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3" name="Tytuł 1"/>
          <p:cNvSpPr/>
          <p:nvPr/>
        </p:nvSpPr>
        <p:spPr>
          <a:xfrm>
            <a:off x="285840" y="981000"/>
            <a:ext cx="835812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łączone punkty tworzą warstwice.</a:t>
            </a:r>
            <a:endParaRPr b="0" lang="en-US" sz="3200" spc="-1" strike="noStrike">
              <a:solidFill>
                <a:srgbClr val="000000"/>
              </a:solidFill>
              <a:latin typeface="Arial"/>
            </a:endParaRPr>
          </a:p>
        </p:txBody>
      </p:sp>
      <p:pic>
        <p:nvPicPr>
          <p:cNvPr id="124" name="Picture 2" descr="C:\Users\Asia\Desktop\Prusak_Cieślik2\B_58-66\64-66\!!!źródła\w4.jpg"/>
          <p:cNvPicPr/>
          <p:nvPr/>
        </p:nvPicPr>
        <p:blipFill>
          <a:blip r:embed="rId2"/>
          <a:stretch/>
        </p:blipFill>
        <p:spPr>
          <a:xfrm>
            <a:off x="1422360" y="1682640"/>
            <a:ext cx="6299280" cy="492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5" name="Tytuł 1"/>
          <p:cNvSpPr/>
          <p:nvPr/>
        </p:nvSpPr>
        <p:spPr>
          <a:xfrm>
            <a:off x="250920" y="1341360"/>
            <a:ext cx="8713800" cy="496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Mapa hipsometryczna</a:t>
            </a:r>
            <a:r>
              <a:rPr b="0" lang="pl-PL" sz="3200" spc="-1" strike="noStrike">
                <a:solidFill>
                  <a:srgbClr val="000000"/>
                </a:solidFill>
                <a:latin typeface="Arial"/>
              </a:rPr>
              <a:t> jest to mapa przedstawiająca odwzorowaną na płaszczyźnie rzeźbę wysokościową terenu w dowolny sposób (warstwice, cieniowanie, kreskowanie, skala barwna lub kombinacje tych metod). W polskiej geografii zwyczajowo jest utożsamiana z mapą warstwicowo-barwn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7" name="Tytuł 1"/>
          <p:cNvSpPr/>
          <p:nvPr/>
        </p:nvSpPr>
        <p:spPr>
          <a:xfrm>
            <a:off x="285840" y="1125360"/>
            <a:ext cx="835812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gładzona mapa warstwicowa.</a:t>
            </a:r>
            <a:endParaRPr b="0" lang="en-US" sz="3200" spc="-1" strike="noStrike">
              <a:solidFill>
                <a:srgbClr val="000000"/>
              </a:solidFill>
              <a:latin typeface="Arial"/>
            </a:endParaRPr>
          </a:p>
        </p:txBody>
      </p:sp>
      <p:pic>
        <p:nvPicPr>
          <p:cNvPr id="128" name="Picture 2" descr="C:\Users\Asia\Desktop\Prusak_Cieślik2\B_58-66\64-66\!!!źródła\w5.jpg"/>
          <p:cNvPicPr/>
          <p:nvPr/>
        </p:nvPicPr>
        <p:blipFill>
          <a:blip r:embed="rId2"/>
          <a:stretch/>
        </p:blipFill>
        <p:spPr>
          <a:xfrm>
            <a:off x="1568520" y="1773360"/>
            <a:ext cx="6006960" cy="471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Obraz 2" descr="stopka_poz.gif"/>
          <p:cNvPicPr/>
          <p:nvPr/>
        </p:nvPicPr>
        <p:blipFill>
          <a:blip r:embed="rId1"/>
          <a:stretch/>
        </p:blipFill>
        <p:spPr>
          <a:xfrm>
            <a:off x="0" y="5951520"/>
            <a:ext cx="9144000" cy="906480"/>
          </a:xfrm>
          <a:prstGeom prst="rect">
            <a:avLst/>
          </a:prstGeom>
          <a:ln w="0">
            <a:noFill/>
          </a:ln>
        </p:spPr>
      </p:pic>
      <p:pic>
        <p:nvPicPr>
          <p:cNvPr id="131" name="Obraz 5" descr="nagłówek_poz.gif"/>
          <p:cNvPicPr/>
          <p:nvPr/>
        </p:nvPicPr>
        <p:blipFill>
          <a:blip r:embed="rId2"/>
          <a:stretch/>
        </p:blipFill>
        <p:spPr>
          <a:xfrm>
            <a:off x="0" y="0"/>
            <a:ext cx="9144000" cy="1125360"/>
          </a:xfrm>
          <a:prstGeom prst="rect">
            <a:avLst/>
          </a:prstGeom>
          <a:ln w="0">
            <a:noFill/>
          </a:ln>
        </p:spPr>
      </p:pic>
      <p:sp>
        <p:nvSpPr>
          <p:cNvPr id="132"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8" name="Tytuł 1"/>
          <p:cNvSpPr/>
          <p:nvPr/>
        </p:nvSpPr>
        <p:spPr>
          <a:xfrm>
            <a:off x="285840" y="1125360"/>
            <a:ext cx="8358120" cy="539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arstwice (poziomice)</a:t>
            </a:r>
            <a:r>
              <a:rPr b="0" lang="pl-PL" sz="3200" spc="-1" strike="noStrike">
                <a:solidFill>
                  <a:srgbClr val="000000"/>
                </a:solidFill>
                <a:latin typeface="Arial"/>
              </a:rPr>
              <a:t> – Linie na mapie łączące punkty o tej samej wysokości terenu (wysokości względnej mierzonej według określonego poziomu odniesienia, którym najczęściej jest poziom morza).  Warstwice w odróżnieniu od kreskowania i mapy cieniowej są ścisłym matematycznym odwzorowaniem wysokości w punktach leżących na warstwicach, oraz pozwalają dość dokładnie interpolować wysokość dowolnego punktu leżącego pomiędzy n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1" name="Tytuł 1"/>
          <p:cNvSpPr/>
          <p:nvPr/>
        </p:nvSpPr>
        <p:spPr>
          <a:xfrm>
            <a:off x="285840" y="1125360"/>
            <a:ext cx="8358120" cy="64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dea odwzorowania warstwicowego</a:t>
            </a:r>
            <a:endParaRPr b="0" lang="en-US" sz="3200" spc="-1" strike="noStrike">
              <a:solidFill>
                <a:srgbClr val="000000"/>
              </a:solidFill>
              <a:latin typeface="Arial"/>
            </a:endParaRPr>
          </a:p>
        </p:txBody>
      </p:sp>
      <p:sp>
        <p:nvSpPr>
          <p:cNvPr id="62" name="Tytuł 1"/>
          <p:cNvSpPr/>
          <p:nvPr/>
        </p:nvSpPr>
        <p:spPr>
          <a:xfrm>
            <a:off x="285840" y="5172120"/>
            <a:ext cx="8462880" cy="151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żeli teren jest płaszczyzną, to warstwice są liniami prostymi, a w pozostałych przypadkach krzywymi.</a:t>
            </a:r>
            <a:endParaRPr b="0" lang="en-US" sz="3200" spc="-1" strike="noStrike">
              <a:solidFill>
                <a:srgbClr val="000000"/>
              </a:solidFill>
              <a:latin typeface="Arial"/>
            </a:endParaRPr>
          </a:p>
        </p:txBody>
      </p:sp>
      <p:pic>
        <p:nvPicPr>
          <p:cNvPr id="63" name="Picture 3" descr="C:\Users\Asia\Desktop\Prusak_Cieślik2\B_58-66\64-66\źródła\Untitled-7.jpg"/>
          <p:cNvPicPr/>
          <p:nvPr/>
        </p:nvPicPr>
        <p:blipFill>
          <a:blip r:embed="rId2"/>
          <a:stretch/>
        </p:blipFill>
        <p:spPr>
          <a:xfrm>
            <a:off x="36360" y="1708200"/>
            <a:ext cx="9071280" cy="360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6" name="Tytuł 1"/>
          <p:cNvSpPr/>
          <p:nvPr/>
        </p:nvSpPr>
        <p:spPr>
          <a:xfrm>
            <a:off x="285840" y="1484280"/>
            <a:ext cx="8358120" cy="4321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dwzorowanie z wykorzystaniem poziomic i barw, polega na wybarwieniu przestrzeni pomiędzy warstwicami barwami z </a:t>
            </a:r>
            <a:r>
              <a:rPr b="1" lang="pl-PL" sz="3200" spc="-1" strike="noStrike">
                <a:solidFill>
                  <a:srgbClr val="000000"/>
                </a:solidFill>
                <a:latin typeface="Arial"/>
              </a:rPr>
              <a:t>ustalonej palety</a:t>
            </a:r>
            <a:r>
              <a:rPr b="0" lang="pl-PL" sz="3200" spc="-1" strike="noStrike">
                <a:solidFill>
                  <a:srgbClr val="000000"/>
                </a:solidFill>
                <a:latin typeface="Arial"/>
              </a:rPr>
              <a:t> w której kolejna barwa odpowiada kolejnemu zakresowi cięcia warstwicowe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9" name="Tytuł 1"/>
          <p:cNvSpPr/>
          <p:nvPr/>
        </p:nvSpPr>
        <p:spPr>
          <a:xfrm>
            <a:off x="108000" y="1125360"/>
            <a:ext cx="8928000" cy="1295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worzymy skale barw, obejmującą cały zakres wysokości, taką aby kolejne barwy odpowiadały przedziałom między kolejnymi warstwicami.</a:t>
            </a:r>
            <a:endParaRPr b="0" lang="en-US" sz="3200" spc="-1" strike="noStrike">
              <a:solidFill>
                <a:srgbClr val="000000"/>
              </a:solidFill>
              <a:latin typeface="Arial"/>
            </a:endParaRPr>
          </a:p>
        </p:txBody>
      </p:sp>
      <p:pic>
        <p:nvPicPr>
          <p:cNvPr id="70" name="Picture 2" descr="C:\Users\Asia\Desktop\Prusak_Cieślik2\B_58-66\64-66\źródła\Untitled-8.jpg"/>
          <p:cNvPicPr/>
          <p:nvPr/>
        </p:nvPicPr>
        <p:blipFill>
          <a:blip r:embed="rId2"/>
          <a:stretch/>
        </p:blipFill>
        <p:spPr>
          <a:xfrm>
            <a:off x="1935000" y="2565360"/>
            <a:ext cx="5274000" cy="4130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3" name="Tytuł 1"/>
          <p:cNvSpPr/>
          <p:nvPr/>
        </p:nvSpPr>
        <p:spPr>
          <a:xfrm>
            <a:off x="108000" y="981000"/>
            <a:ext cx="8928000" cy="122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pełniamy przestrzeń pomiędzy warstwicami barwami według skali.</a:t>
            </a:r>
            <a:endParaRPr b="0" lang="en-US" sz="3200" spc="-1" strike="noStrike">
              <a:solidFill>
                <a:srgbClr val="000000"/>
              </a:solidFill>
              <a:latin typeface="Arial"/>
            </a:endParaRPr>
          </a:p>
        </p:txBody>
      </p:sp>
      <p:pic>
        <p:nvPicPr>
          <p:cNvPr id="74" name="Picture 2" descr="C:\Users\Asia\Desktop\Prusak_Cieślik2\B_58-66\64-66\źródła\Untitled-9.jpg"/>
          <p:cNvPicPr/>
          <p:nvPr/>
        </p:nvPicPr>
        <p:blipFill>
          <a:blip r:embed="rId2"/>
          <a:stretch/>
        </p:blipFill>
        <p:spPr>
          <a:xfrm>
            <a:off x="1762200" y="2133720"/>
            <a:ext cx="5619600" cy="441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7" name="Tytuł 1"/>
          <p:cNvSpPr/>
          <p:nvPr/>
        </p:nvSpPr>
        <p:spPr>
          <a:xfrm>
            <a:off x="285840" y="981000"/>
            <a:ext cx="8358120" cy="20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 pierwsze opracowanie zbliżone do barwnej mapy hipsometrycznej uważa się mapę centralnych Włoch, narysowaną przez Leonarda da Vinci w 1503r. </a:t>
            </a:r>
            <a:endParaRPr b="0" lang="en-US" sz="3200" spc="-1" strike="noStrike">
              <a:solidFill>
                <a:srgbClr val="000000"/>
              </a:solidFill>
              <a:latin typeface="Arial"/>
            </a:endParaRPr>
          </a:p>
        </p:txBody>
      </p:sp>
      <p:pic>
        <p:nvPicPr>
          <p:cNvPr id="78" name="Obraz 6" descr="Leonardo Da Vinci's Central Italy"/>
          <p:cNvPicPr/>
          <p:nvPr/>
        </p:nvPicPr>
        <p:blipFill>
          <a:blip r:embed="rId2"/>
          <a:stretch/>
        </p:blipFill>
        <p:spPr>
          <a:xfrm>
            <a:off x="2116080" y="3051000"/>
            <a:ext cx="4697640" cy="36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1" name="Tytuł 1"/>
          <p:cNvSpPr/>
          <p:nvPr/>
        </p:nvSpPr>
        <p:spPr>
          <a:xfrm>
            <a:off x="179280" y="1413000"/>
            <a:ext cx="4608720" cy="51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ierwsze współczesne  mapy hipsometryczne oparte na pomiarach geodezyjnych zostały opracowane w Szkocji w drugiej połowie XIX w. przez  przedsiębiorstwo Collins Bartholomew.</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Obraz 6" descr="http://ecx.images-amazon.com/images/I/51Lq%2BJka2uL.jpg"/>
          <p:cNvPicPr/>
          <p:nvPr/>
        </p:nvPicPr>
        <p:blipFill>
          <a:blip r:embed="rId2"/>
          <a:stretch/>
        </p:blipFill>
        <p:spPr>
          <a:xfrm>
            <a:off x="4818240" y="1484280"/>
            <a:ext cx="3965400" cy="47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13T17:27:57Z</dcterms:modified>
  <cp:revision>425</cp:revision>
  <dc:subject/>
  <dc:title>Slajd 1</dc:title>
</cp:coreProperties>
</file>