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9.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6E3C-00EA-4D41-AFC4-6FF05A353B0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19A8-08A7-4F93-8F32-13B11275B8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49A5-88C3-4E91-8863-4BA02D9F26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śli tworząc obraz jako barwę czerwoną wykorzystamy kanał znajdujący się w zakresie czerwieni, za zieloną w zakresie zieleni a za niebieską w zakresie koloru niebieskiego uzyskamy klasyczny obraz barwny w palecie barw RGB odbieranej przez ludzki wzrok. Każda inna kombinacja zarówno w zakresie światła widzialnego jak i podczerwieni lub ultrafioletu, jest nazywana barwami fałszywymi gdyż nie mogłaby być dostrzeżona przez ludzki wzrok i stanowi tylko komputerową wizualizacje.</a:t>
            </a:r>
            <a:endParaRPr b="0" lang="en-US" sz="1200" spc="-1" strike="noStrike">
              <a:solidFill>
                <a:srgbClr val="000000"/>
              </a:solidFill>
              <a:latin typeface="Calibri"/>
            </a:endParaRPr>
          </a:p>
        </p:txBody>
      </p:sp>
      <p:sp>
        <p:nvSpPr>
          <p:cNvPr id="2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BB03-60E6-423F-8FBD-CDC2CEF67EE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razy multispektralne obejmują wiele zakresów, a do dyspozycji mamy tylko 3 kolory, dlatego w praktyce stosuje się różne palety w zależności na zobrazowaniu jakiego czynnika nam zależy. Szczególnie często jest używana paleta w której kolorowi czerwonemu na ekranie odpowiada bliska podczerwień zaś kolorowi zielonemu na ekranie kolor czerwony (kolor niebieski na ekranie bywa interpretowany różnie najczęściej jako zielony ale także niebieski itp.). Taka paleta bardzo dobrze oddaje stopień zurbanizowania terenu oraz roślinność, tereny leśne i rolnicze posiadają intensywnie czerwony kolor w odróżnieniu od znacznie ciemniejszych terenów zabudowanych nawet jeśli dachy posiadają zielony kolor a między blokami rosną drzewa.</a:t>
            </a:r>
            <a:endParaRPr b="0" lang="en-US" sz="1200" spc="-1" strike="noStrike">
              <a:solidFill>
                <a:srgbClr val="000000"/>
              </a:solidFill>
              <a:latin typeface="Calibri"/>
            </a:endParaRPr>
          </a:p>
        </p:txBody>
      </p:sp>
      <p:sp>
        <p:nvSpPr>
          <p:cNvPr id="2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B714-7A8A-426C-9439-65BB0D70394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0E56-F8AB-4A23-AD5E-D4482E1D08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ośliny pochłaniają intensywnie światło czerwone o długości fali około 700nm, natomiast bardzo słabo bliską podczerwień, dlatego wskaźnik dość dobrze rozróżnia stopień pokrycia terenu roślinnością i kondycje upraw. Jest to dużo lepsze narzędzie niż ocena barwy w zakresie widzialnym gdzie dominacja barwy zielonej (najsłabiej absorbowanej przez chlorofil) też jest wskaźnikiem obecności roślin, ale znacznie bardziej zakłóconym przez na przykład obecność żółtej gleby lub piasku w obszarach pustynnych, która także zawiera składową zieloną.</a:t>
            </a:r>
            <a:endParaRPr b="0" lang="en-US"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34D1-B4A1-4285-9A86-B2F9487EF9F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nieważ człowiek interpretuje kolor zielony jako obszary uprawne, lasy, łąki itp. zaś żółty jako pustynie, na powyższym slajdzie została przedstawiona często stosowana paleta barw fałszywych. Kryterium jest wskaźnik NDVI wyliczany z dwóch kanałów spektralnych (czerwonego i podczerwonego), składowa niebieska obrazu zawsze wynosi 0%, zielona 100% zaś czerwona jest odwrotnie proporcjonalna dla wskaźnika NDVI, dzięki czemu kiedy jest on niski powstaje kolor żółty (żółty jest sumą czerwonego i zielonego) zaś kiedy wskaźnik NDVI jest wysoki, składowa czerwona jest zerowa i pozostaje tylko kolor zielony. Jest to dobry przykład jak umiejętnie dobierając palety barw fałszywych można wizualizować interesujące nas wartości.</a:t>
            </a:r>
            <a:endParaRPr b="0" lang="en-US"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2D1B-D960-468F-A6DA-B390580E34C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0CE1-4FDE-4C37-94FD-296FF112DD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9265-5B43-4CFC-AE3F-02464F02964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8204A-8002-486A-BE53-DA88AEB1D7C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eoretycznie jest to możliwe, ale taki satelita musiałby mieć zupełnie inną budowę niż satelity typu Landsat, musiałby posiadać dobrej klasy teleskop optyczny. Wielokrotna zmiana orbity nie jest możliwa z racji ograniczonych zasobów paliwa, dlatego taki satelita albo poruszałby się po orbitach zbliżonych do satelitów teledetekcyjnych, wówczas pojawiałby się w interesującym miejscu raz na 15-30 dni, przelatując nad nim z prędkością około 7 kilometrów na sekundę. Mógłby wykonać wysokorozdzielcze zdjęcie, ale tylko raz w tym okresie i to pod warunkiem że wcześniej zwierciadło teleskopu zostałoby skierowane w interesujące miejsce. Śledzenie jednego miejsca w czasie rzeczywistym byłoby możliwe gdyby satelita znajdował się na orbicie geostacjonarnej, ale taka orbita daje satelicie możliwość śledzenie niewielkiego obszaru w rejonie równika. Wykonanie takiej jakości zdjęcia ponadto wymaga bezchmurnego nieba i dobrej widoczności, która na terenie przykładowo Polski zdarza się kilka razy w roku (z Krakowa musi być widać Tatry), średnia podczerwień daje możliwość obserwacji przez chmury i mgłę ale nie daje rozróżnienia kolorów takich jakie widzi nasze oko, nie przenosi informacji o barwie skóry, kolorze ubrania itp. Dlatego w celach militarnych obecnie powszechnie wykorzystuje się bezzałogowe samoloty (drony) wyposażone w wysokiej rozdzielczości kam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9EA8-2578-4535-83D9-7A033E2910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e zdjęcia wykonywano z balonów oraz balonów na uwięzi wyposażonych zdalnie uruchamiany za pomocą linki aparat. Zdjęcia takie wykorzystywano do opracowań kartograficznych, ale także w celach szpiegowskich oraz podczas działań wojennych. Podczas I Wojny Światowej wykorzystywano zdjęcia wykonane z samolotów, balonów, sterowców a nawet z latawców wynoszonych nad pozycje wroga za pomocą wiatru, z podczepionym na lince aparatem (podczas wojny pozycyjnej linie okopów były oddalone nieraz tylko o kilkaset metrów).</a:t>
            </a:r>
            <a:endParaRPr b="0" lang="en-US" sz="1200" spc="-1" strike="noStrike">
              <a:solidFill>
                <a:srgbClr val="000000"/>
              </a:solidFill>
              <a:latin typeface="Calibri"/>
            </a:endParaRPr>
          </a:p>
        </p:txBody>
      </p:sp>
      <p:sp>
        <p:nvSpPr>
          <p:cNvPr id="1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F54D-8F4B-4F59-B515-609D2935B3C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04D8-EB34-4E6C-932E-38F0204F3A2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telita to nie zdalnie sterowany samolot, porusza się po orbicie okołoziemskiej, większość satelitów fotografujących powierzchnie Ziemi w tym także wojskowych rozpoznawczych porusza się po relatywnie niskich orbitach, których płaszczyzny są zbliżone do osi obrotu Ziemi. Dlatego satelita możliwie szybko (kilkanaście razy na dobę) okrąża Ziemie w kierunku południkowym, jednocześnie Ziemia wykonuje obrót wokół własnej osi przez co satelita za każdym razem przelatuje w innym miejscu. Dzięki temu jest możliwe cykliczne wykonywanie zdjęć całej powierzchni Ziemi, są możliwe oczywiście inaczej pochylone płaszczyzny orbit, wówczas będą występować miejsca obfotografowywane częściej ale i takie nad którymi satelita nigdy się nie znajdzie. Satelity nie można przesunąć, jego manewrowe silniki rakietowe posiadają niewielką ilość paliwa i mogą nieznacznie zmienić prędkość orbitowania co spowoduje podniesienie lub obniżenie orbity i jednoczesną zmianę czasu obiegu wokół Ziemi. Przykładowo jeśli satelita ma przelecieć nad Warszawą za 3 miesiące w określony dzień o 11.00, można zmodyfikować jego orbitę tak aby przeleciał na przykład o 13.15 ale nie można go zmusić aby to zrobił od razu.</a:t>
            </a:r>
            <a:endParaRPr b="0" lang="en-US"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5F43-6EEF-498E-89B5-1365F93BA7A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286F-7B37-4EB4-A455-45EE505CE1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zdjęciu widoczna jest ramka z czterema punktami pomiarowymi, umieszczonymi w narożnikach, służyły one kalibrowaniu fotografii aby mogła służyć do kartowania map w analogowych przyrządach (np. stereokomparataory, autografy analogowe), po prawej stronie odfotografowują się wskaźniki pokładowe, wysokość samolotu, data i godzina, numer kolejnej fotografii. Rozdzielczość takich zdjęć była naprawdę duża, czarno-białe klisze fotograficzne o formacie 23cm x 23cm pozwalały na wykonywanie zdjęć z rozdzielczością rzędu 500-1000 linii/mm co odpowiada </a:t>
            </a:r>
            <a:r>
              <a:rPr b="1" lang="pl-PL" sz="1200" spc="-1" strike="noStrike">
                <a:solidFill>
                  <a:srgbClr val="000000"/>
                </a:solidFill>
                <a:latin typeface="Calibri"/>
              </a:rPr>
              <a:t>kilkudziesięciu tysiącom megapikseli</a:t>
            </a:r>
            <a:r>
              <a:rPr b="0" lang="pl-PL" sz="1200" spc="-1" strike="noStrike">
                <a:solidFill>
                  <a:srgbClr val="000000"/>
                </a:solidFill>
                <a:latin typeface="Calibri"/>
              </a:rPr>
              <a:t>!</a:t>
            </a:r>
            <a:endParaRPr b="0" lang="en-US" sz="1200" spc="-1" strike="noStrike">
              <a:solidFill>
                <a:srgbClr val="000000"/>
              </a:solidFill>
              <a:latin typeface="Calibri"/>
            </a:endParaRPr>
          </a:p>
        </p:txBody>
      </p:sp>
      <p:sp>
        <p:nvSpPr>
          <p:cNvPr id="1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6A4A-3EA8-4D58-820A-48479C7EFB4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DA4A-00B6-4926-A18A-066A3D98840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ndardowa rozdzielczość zdjęć satelitarnych jest na poziomie pojedynczych metrów, obecnie istnieją satelity wykonujące zdjęcia barwne o terenowych rozmiarach piksela rzędu 1m x 1m lub nawet mniej, przykładowo Geoserver udostępnia zdjęcia o pikselu 82cm x 82cm. To nieporównywalnie gorzej niż zdjęcia lotnicze których dokładność może być w zasadzie nieograniczona. Zaletą zdjęć satelitarnych jest jej aktualność satelity okrążają Ziemie w czasie rzędu godziny, cały czas wykonując zdjęcia w pasie nad którym się znajdują. Orbita satelity jest dokładnie znana, i takie fotografie są w czasie rzeczywistym przeliczane przez algorytmy komputerowe i archiwizowane. Wykonanie zdjęć lotniczych wymaga przelotu samolotu nad danym obszarem (wcześniej trzeba zdobyć wymagane pozwolenia), następnie zdjęcia wymagają opracowania, aby powiązań piksele zdjęcia ze współrzędnymi terenowymi.</a:t>
            </a:r>
            <a:endParaRPr b="0" lang="en-US"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D813-4AB9-481F-90BB-C98E8357B8C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djęcia satelitarne charakteryzują się mniejszą głębią ostrości oraz znacznie mniej czytelną ostrością szczegółów spowodowaną falowaniem powietrza, turbulencjami i prądami konwekcyjnymi czyli ogólnie wpływem atmosfery, który w przypadku samolotu lecącego na wysokości rzędu kilku km jest pomijalny. Z drugiej strony z racji tego że satelita znajduje się o kilka rzędów wielkości dalej niż wynoszą różnice wysokości terenu w obrębie zdjęcia, takie zdjęcie jest bardzo zbliżone do rzutu ortogonalnego, wysokie budynku są fotografowane niemalże idealnie „z góry” podczas gdy na zdjęciach lotniczych widzimy także fragmenty ścian (zwłaszcza dla obiektów które znalazły się z boku kadru).</a:t>
            </a:r>
            <a:endParaRPr b="0" lang="en-US"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B98A-4A54-4151-837F-5F1C0384B45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zdjęciu są widoczne smugi dymu znoszonego przez wiatry na południowy zachód.</a:t>
            </a:r>
            <a:endParaRPr b="0" lang="en-US"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2A09-601D-4D99-9DCA-602FEBDB26A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B412-E8D2-436D-AAEB-10EB4148B01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djęcie multispektralne może obejmować więcej zakresów światła widzialnego niż 3 kolory podstawowe ale w praktyce takie rozwiązanie nie jest stosowane gdyż znacznie więcej informacji niesie niewidzialne dla oczu promieniowanie podczerwone. Dlatego większość zobrazowań multispektralnych obejmuje 3 kolory podstawowe oraz dodatkowe zakresy podczerwone. W przypadku zdjęć satelitarnych powierzchni Ziemi praktycznie nie stosuje się obrazowania w ultrafiolecie ponieważ ziemska atmosfera bardzo słabo przepuszcza promieniowanie UV, natomiast zakresy ultrafioletowe są wykorzystywane przez satelity meteorologiczne.</a:t>
            </a:r>
            <a:endParaRPr b="0" lang="en-US" sz="1200" spc="-1" strike="noStrike">
              <a:solidFill>
                <a:srgbClr val="000000"/>
              </a:solidFill>
              <a:latin typeface="Calibri"/>
            </a:endParaRPr>
          </a:p>
        </p:txBody>
      </p:sp>
      <p:sp>
        <p:nvSpPr>
          <p:cNvPr id="1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2F30-0C03-4E3C-AC11-9417F97AC9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8FF6A-46CB-4E52-B9BE-C21F57663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1CD60-9B02-42C5-8981-16B47C3D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020C-270A-45A4-A7A7-CB1372430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E39BE-7A50-4C69-90C4-B1CA4299D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D3509-1D59-430F-9541-031C397A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FDDF-A00E-4AAF-BCC1-C3DADFF77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BEC43-4D87-4C7A-8FB1-674BF303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5C32-9AF8-4BE7-9495-C60BC22D1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DEF5E-984E-446F-9131-273C550C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899C-E477-4627-81CA-462B6E2E5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CD4D0-82F4-4ACD-87BE-A60896BCA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44BE1-C3AA-4B9E-9669-B0FB72BF6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8DDD9-2828-4B20-A38C-04576F9D074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765000"/>
            <a:ext cx="784836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iemia z satelity.</a:t>
            </a:r>
            <a:endParaRPr b="0" lang="en-US" sz="4900" spc="-1" strike="noStrike">
              <a:solidFill>
                <a:srgbClr val="000000"/>
              </a:solidFill>
              <a:latin typeface="Arial"/>
            </a:endParaRPr>
          </a:p>
        </p:txBody>
      </p:sp>
      <p:pic>
        <p:nvPicPr>
          <p:cNvPr id="52" name="Picture 2" descr="SPOT-5 in Orbit"/>
          <p:cNvPicPr/>
          <p:nvPr/>
        </p:nvPicPr>
        <p:blipFill>
          <a:blip r:embed="rId3"/>
          <a:stretch/>
        </p:blipFill>
        <p:spPr>
          <a:xfrm>
            <a:off x="2666880" y="1844640"/>
            <a:ext cx="3810240" cy="39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2" name="Tytuł 1"/>
          <p:cNvSpPr/>
          <p:nvPr/>
        </p:nvSpPr>
        <p:spPr>
          <a:xfrm>
            <a:off x="108000" y="1052640"/>
            <a:ext cx="8928000" cy="5113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zrok człowieka jest trichromatyczny – rejestrujemy trzy kolory podstawowe. Dlatego aby móc oglądać obraz wielospektralny trzeba zdefiniować paletę barw. Przyporządkować wybrane wartości z wielu kanałów (w których zmierzono natężenie fal elektromagnetycznych), do trzech barw podstawowych światła widzialnego, które możemy obejrzeć jako obraz barw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5" name="Tytuł 1"/>
          <p:cNvSpPr/>
          <p:nvPr/>
        </p:nvSpPr>
        <p:spPr>
          <a:xfrm>
            <a:off x="179280" y="1052640"/>
            <a:ext cx="885672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aleta barw rzeczywistych.</a:t>
            </a:r>
            <a:endParaRPr b="0" lang="en-US" sz="3200" spc="-1" strike="noStrike">
              <a:solidFill>
                <a:srgbClr val="000000"/>
              </a:solidFill>
              <a:latin typeface="Arial"/>
            </a:endParaRPr>
          </a:p>
        </p:txBody>
      </p:sp>
      <p:pic>
        <p:nvPicPr>
          <p:cNvPr id="96" name="Picture 3" descr="C:\Users\Asia\Desktop\Prusak_Cieślik2\B_58-66\58-63\zródła\Untitled-2.tif"/>
          <p:cNvPicPr/>
          <p:nvPr/>
        </p:nvPicPr>
        <p:blipFill>
          <a:blip r:embed="rId2"/>
          <a:stretch/>
        </p:blipFill>
        <p:spPr>
          <a:xfrm>
            <a:off x="6637320" y="2417760"/>
            <a:ext cx="887400" cy="504720"/>
          </a:xfrm>
          <a:prstGeom prst="rect">
            <a:avLst/>
          </a:prstGeom>
          <a:ln w="0">
            <a:noFill/>
          </a:ln>
        </p:spPr>
      </p:pic>
      <p:sp>
        <p:nvSpPr>
          <p:cNvPr id="97" name="Prostokąt 1"/>
          <p:cNvSpPr/>
          <p:nvPr/>
        </p:nvSpPr>
        <p:spPr>
          <a:xfrm>
            <a:off x="7524720" y="2417760"/>
            <a:ext cx="1152720" cy="504720"/>
          </a:xfrm>
          <a:prstGeom prst="rect">
            <a:avLst/>
          </a:prstGeom>
          <a:solidFill>
            <a:srgbClr val="8064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ultrafiolet</a:t>
            </a:r>
            <a:endParaRPr b="0" lang="en-US" sz="1800" spc="-1" strike="noStrike">
              <a:solidFill>
                <a:srgbClr val="000000"/>
              </a:solidFill>
              <a:latin typeface="Arial"/>
            </a:endParaRPr>
          </a:p>
        </p:txBody>
      </p:sp>
      <p:sp>
        <p:nvSpPr>
          <p:cNvPr id="98" name="Prostokąt 7"/>
          <p:cNvSpPr/>
          <p:nvPr/>
        </p:nvSpPr>
        <p:spPr>
          <a:xfrm>
            <a:off x="276120" y="2417760"/>
            <a:ext cx="6361200" cy="504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podczerwień</a:t>
            </a:r>
            <a:endParaRPr b="0" lang="en-US" sz="1800" spc="-1" strike="noStrike">
              <a:solidFill>
                <a:srgbClr val="000000"/>
              </a:solidFill>
              <a:latin typeface="Arial"/>
            </a:endParaRPr>
          </a:p>
        </p:txBody>
      </p:sp>
      <p:sp>
        <p:nvSpPr>
          <p:cNvPr id="99" name="Tytuł 1"/>
          <p:cNvSpPr/>
          <p:nvPr/>
        </p:nvSpPr>
        <p:spPr>
          <a:xfrm>
            <a:off x="171360" y="2035080"/>
            <a:ext cx="8783640" cy="382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0000                                               10000                             1000      800        400         200nm  </a:t>
            </a:r>
            <a:endParaRPr b="0" lang="en-US" sz="1600" spc="-1" strike="noStrike">
              <a:solidFill>
                <a:srgbClr val="000000"/>
              </a:solidFill>
              <a:latin typeface="Arial"/>
            </a:endParaRPr>
          </a:p>
        </p:txBody>
      </p:sp>
      <p:sp>
        <p:nvSpPr>
          <p:cNvPr id="100" name="Prostokąt 3"/>
          <p:cNvSpPr/>
          <p:nvPr/>
        </p:nvSpPr>
        <p:spPr>
          <a:xfrm>
            <a:off x="3363840" y="4255920"/>
            <a:ext cx="719280" cy="720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rostokąt 11"/>
          <p:cNvSpPr/>
          <p:nvPr/>
        </p:nvSpPr>
        <p:spPr>
          <a:xfrm>
            <a:off x="4083120" y="4255920"/>
            <a:ext cx="720720" cy="72072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rostokąt 12"/>
          <p:cNvSpPr/>
          <p:nvPr/>
        </p:nvSpPr>
        <p:spPr>
          <a:xfrm>
            <a:off x="4803840" y="4255920"/>
            <a:ext cx="718920" cy="72072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3" name="Łącznik prosty ze strzałką 4"/>
          <p:cNvCxnSpPr>
            <a:endCxn id="100" idx="0"/>
          </p:cNvCxnSpPr>
          <p:nvPr/>
        </p:nvCxnSpPr>
        <p:spPr>
          <a:xfrm flipH="1">
            <a:off x="3722400" y="2922480"/>
            <a:ext cx="3000960" cy="1334160"/>
          </a:xfrm>
          <a:prstGeom prst="straightConnector1">
            <a:avLst/>
          </a:prstGeom>
          <a:ln w="28440">
            <a:solidFill>
              <a:srgbClr val="000000"/>
            </a:solidFill>
            <a:miter/>
            <a:tailEnd len="med" type="arrow" w="med"/>
          </a:ln>
        </p:spPr>
      </p:cxnSp>
      <p:cxnSp>
        <p:nvCxnSpPr>
          <p:cNvPr id="104" name="Łącznik prosty ze strzałką 14"/>
          <p:cNvCxnSpPr>
            <a:endCxn id="101" idx="0"/>
          </p:cNvCxnSpPr>
          <p:nvPr/>
        </p:nvCxnSpPr>
        <p:spPr>
          <a:xfrm flipH="1">
            <a:off x="4443120" y="2922480"/>
            <a:ext cx="2759760" cy="1334160"/>
          </a:xfrm>
          <a:prstGeom prst="straightConnector1">
            <a:avLst/>
          </a:prstGeom>
          <a:ln w="28440">
            <a:solidFill>
              <a:srgbClr val="000000"/>
            </a:solidFill>
            <a:miter/>
            <a:tailEnd len="med" type="arrow" w="med"/>
          </a:ln>
        </p:spPr>
      </p:cxnSp>
      <p:cxnSp>
        <p:nvCxnSpPr>
          <p:cNvPr id="105" name="Łącznik prosty ze strzałką 19"/>
          <p:cNvCxnSpPr>
            <a:endCxn id="102" idx="0"/>
          </p:cNvCxnSpPr>
          <p:nvPr/>
        </p:nvCxnSpPr>
        <p:spPr>
          <a:xfrm flipH="1">
            <a:off x="5163840" y="2922480"/>
            <a:ext cx="2280240" cy="1334160"/>
          </a:xfrm>
          <a:prstGeom prst="straightConnector1">
            <a:avLst/>
          </a:prstGeom>
          <a:ln w="28440">
            <a:solidFill>
              <a:srgbClr val="000000"/>
            </a:solidFill>
            <a:miter/>
            <a:tailEnd len="med" type="arrow" w="med"/>
          </a:ln>
        </p:spPr>
      </p:cxnSp>
      <p:sp>
        <p:nvSpPr>
          <p:cNvPr id="106" name="Tytuł 1"/>
          <p:cNvSpPr/>
          <p:nvPr/>
        </p:nvSpPr>
        <p:spPr>
          <a:xfrm>
            <a:off x="23760" y="5229360"/>
            <a:ext cx="8856720" cy="143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ejestrujemy tylko trzy zakresy odpowiadające trzem barwą podstawowym pozostałych zakresów nie wykorzystujem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9" name="Tytuł 1"/>
          <p:cNvSpPr/>
          <p:nvPr/>
        </p:nvSpPr>
        <p:spPr>
          <a:xfrm>
            <a:off x="179280" y="1052640"/>
            <a:ext cx="885672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owa paleta barw fałszywych.</a:t>
            </a:r>
            <a:endParaRPr b="0" lang="en-US" sz="3200" spc="-1" strike="noStrike">
              <a:solidFill>
                <a:srgbClr val="000000"/>
              </a:solidFill>
              <a:latin typeface="Arial"/>
            </a:endParaRPr>
          </a:p>
        </p:txBody>
      </p:sp>
      <p:pic>
        <p:nvPicPr>
          <p:cNvPr id="110" name="Picture 3" descr="C:\Users\Asia\Desktop\Prusak_Cieślik2\B_58-66\58-63\zródła\Untitled-2.tif"/>
          <p:cNvPicPr/>
          <p:nvPr/>
        </p:nvPicPr>
        <p:blipFill>
          <a:blip r:embed="rId2"/>
          <a:stretch/>
        </p:blipFill>
        <p:spPr>
          <a:xfrm>
            <a:off x="6627960" y="2165400"/>
            <a:ext cx="887400" cy="504720"/>
          </a:xfrm>
          <a:prstGeom prst="rect">
            <a:avLst/>
          </a:prstGeom>
          <a:ln w="0">
            <a:noFill/>
          </a:ln>
        </p:spPr>
      </p:pic>
      <p:sp>
        <p:nvSpPr>
          <p:cNvPr id="111" name="Prostokąt 1"/>
          <p:cNvSpPr/>
          <p:nvPr/>
        </p:nvSpPr>
        <p:spPr>
          <a:xfrm>
            <a:off x="7515360" y="2165400"/>
            <a:ext cx="1152360" cy="504720"/>
          </a:xfrm>
          <a:prstGeom prst="rect">
            <a:avLst/>
          </a:prstGeom>
          <a:solidFill>
            <a:srgbClr val="8064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ultrafiolet</a:t>
            </a:r>
            <a:endParaRPr b="0" lang="en-US" sz="1800" spc="-1" strike="noStrike">
              <a:solidFill>
                <a:srgbClr val="000000"/>
              </a:solidFill>
              <a:latin typeface="Arial"/>
            </a:endParaRPr>
          </a:p>
        </p:txBody>
      </p:sp>
      <p:sp>
        <p:nvSpPr>
          <p:cNvPr id="112" name="Prostokąt 7"/>
          <p:cNvSpPr/>
          <p:nvPr/>
        </p:nvSpPr>
        <p:spPr>
          <a:xfrm>
            <a:off x="264960" y="2165400"/>
            <a:ext cx="6363000" cy="50472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podczerwień</a:t>
            </a:r>
            <a:endParaRPr b="0" lang="en-US" sz="1800" spc="-1" strike="noStrike">
              <a:solidFill>
                <a:srgbClr val="000000"/>
              </a:solidFill>
              <a:latin typeface="Arial"/>
            </a:endParaRPr>
          </a:p>
        </p:txBody>
      </p:sp>
      <p:sp>
        <p:nvSpPr>
          <p:cNvPr id="113" name="Tytuł 1"/>
          <p:cNvSpPr/>
          <p:nvPr/>
        </p:nvSpPr>
        <p:spPr>
          <a:xfrm>
            <a:off x="160200" y="1782720"/>
            <a:ext cx="8785440" cy="382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0000                                               10000                             1000      800        400         200nm  </a:t>
            </a:r>
            <a:endParaRPr b="0" lang="en-US" sz="1600" spc="-1" strike="noStrike">
              <a:solidFill>
                <a:srgbClr val="000000"/>
              </a:solidFill>
              <a:latin typeface="Arial"/>
            </a:endParaRPr>
          </a:p>
        </p:txBody>
      </p:sp>
      <p:sp>
        <p:nvSpPr>
          <p:cNvPr id="114" name="Prostokąt 3"/>
          <p:cNvSpPr/>
          <p:nvPr/>
        </p:nvSpPr>
        <p:spPr>
          <a:xfrm>
            <a:off x="3352680" y="4003560"/>
            <a:ext cx="720720" cy="720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rostokąt 11"/>
          <p:cNvSpPr/>
          <p:nvPr/>
        </p:nvSpPr>
        <p:spPr>
          <a:xfrm>
            <a:off x="4073400" y="4003560"/>
            <a:ext cx="719280" cy="720720"/>
          </a:xfrm>
          <a:prstGeom prst="rect">
            <a:avLst/>
          </a:prstGeom>
          <a:solidFill>
            <a:srgbClr val="00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rostokąt 12"/>
          <p:cNvSpPr/>
          <p:nvPr/>
        </p:nvSpPr>
        <p:spPr>
          <a:xfrm>
            <a:off x="4792680" y="4003560"/>
            <a:ext cx="720720" cy="72072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7" name="Łącznik prosty ze strzałką 4"/>
          <p:cNvCxnSpPr>
            <a:endCxn id="114" idx="0"/>
          </p:cNvCxnSpPr>
          <p:nvPr/>
        </p:nvCxnSpPr>
        <p:spPr>
          <a:xfrm flipH="1">
            <a:off x="3712680" y="2670120"/>
            <a:ext cx="1651680" cy="1334160"/>
          </a:xfrm>
          <a:prstGeom prst="straightConnector1">
            <a:avLst/>
          </a:prstGeom>
          <a:ln w="28440">
            <a:solidFill>
              <a:srgbClr val="000000"/>
            </a:solidFill>
            <a:miter/>
            <a:tailEnd len="med" type="arrow" w="med"/>
          </a:ln>
        </p:spPr>
      </p:cxnSp>
      <p:cxnSp>
        <p:nvCxnSpPr>
          <p:cNvPr id="118" name="Łącznik prosty ze strzałką 14"/>
          <p:cNvCxnSpPr>
            <a:endCxn id="115" idx="0"/>
          </p:cNvCxnSpPr>
          <p:nvPr/>
        </p:nvCxnSpPr>
        <p:spPr>
          <a:xfrm flipH="1">
            <a:off x="4431960" y="2670120"/>
            <a:ext cx="2363040" cy="1334160"/>
          </a:xfrm>
          <a:prstGeom prst="straightConnector1">
            <a:avLst/>
          </a:prstGeom>
          <a:ln w="28440">
            <a:solidFill>
              <a:srgbClr val="000000"/>
            </a:solidFill>
            <a:miter/>
            <a:tailEnd len="med" type="arrow" w="med"/>
          </a:ln>
        </p:spPr>
      </p:cxnSp>
      <p:cxnSp>
        <p:nvCxnSpPr>
          <p:cNvPr id="119" name="Łącznik prosty ze strzałką 19"/>
          <p:cNvCxnSpPr>
            <a:endCxn id="116" idx="0"/>
          </p:cNvCxnSpPr>
          <p:nvPr/>
        </p:nvCxnSpPr>
        <p:spPr>
          <a:xfrm flipH="1">
            <a:off x="5152320" y="2670120"/>
            <a:ext cx="2073960" cy="1334160"/>
          </a:xfrm>
          <a:prstGeom prst="straightConnector1">
            <a:avLst/>
          </a:prstGeom>
          <a:ln w="28440">
            <a:solidFill>
              <a:srgbClr val="000000"/>
            </a:solidFill>
            <a:miter/>
            <a:tailEnd len="med" type="arrow" w="med"/>
          </a:ln>
        </p:spPr>
      </p:cxnSp>
      <p:sp>
        <p:nvSpPr>
          <p:cNvPr id="120" name="Tytuł 1"/>
          <p:cNvSpPr/>
          <p:nvPr/>
        </p:nvSpPr>
        <p:spPr>
          <a:xfrm>
            <a:off x="160200" y="4869000"/>
            <a:ext cx="878544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m więcej zakresów rejestrujemy tym więcej palet barw fałszywych można ułożyć przyporządkowując dowolnie wybrany zakres każdej z trzech barw podstaw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3" name="Tytuł 1"/>
          <p:cNvSpPr/>
          <p:nvPr/>
        </p:nvSpPr>
        <p:spPr>
          <a:xfrm>
            <a:off x="179280" y="981000"/>
            <a:ext cx="885672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tografia wielospektralna Krakowa wykonana przez satelitę Landsat 7 w różnych paletach.</a:t>
            </a:r>
            <a:endParaRPr b="0" lang="en-US" sz="3200" spc="-1" strike="noStrike">
              <a:solidFill>
                <a:srgbClr val="000000"/>
              </a:solidFill>
              <a:latin typeface="Arial"/>
            </a:endParaRPr>
          </a:p>
        </p:txBody>
      </p:sp>
      <p:pic>
        <p:nvPicPr>
          <p:cNvPr id="124" name="Picture 3" descr="C:\Users\Asia\Desktop\Prusak_Cieślik2\B_58-66\64-66\!!!źródła\k2.jpg"/>
          <p:cNvPicPr/>
          <p:nvPr/>
        </p:nvPicPr>
        <p:blipFill>
          <a:blip r:embed="rId2"/>
          <a:stretch/>
        </p:blipFill>
        <p:spPr>
          <a:xfrm>
            <a:off x="657360" y="4376880"/>
            <a:ext cx="3501720" cy="2249280"/>
          </a:xfrm>
          <a:prstGeom prst="rect">
            <a:avLst/>
          </a:prstGeom>
          <a:ln w="0">
            <a:noFill/>
          </a:ln>
        </p:spPr>
      </p:pic>
      <p:sp>
        <p:nvSpPr>
          <p:cNvPr id="125" name="Tytuł 1"/>
          <p:cNvSpPr/>
          <p:nvPr/>
        </p:nvSpPr>
        <p:spPr>
          <a:xfrm>
            <a:off x="4159080" y="2316240"/>
            <a:ext cx="4984920" cy="187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aleta barw rzeczywisty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45-0,52(niebieski)     →niebiesk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52-0,60(zielony)        →zielo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63-0,69(czerwony)    →czerwony</a:t>
            </a:r>
            <a:endParaRPr b="0" lang="en-US" sz="2000" spc="-1" strike="noStrike">
              <a:solidFill>
                <a:srgbClr val="000000"/>
              </a:solidFill>
              <a:latin typeface="Arial"/>
            </a:endParaRPr>
          </a:p>
        </p:txBody>
      </p:sp>
      <p:sp>
        <p:nvSpPr>
          <p:cNvPr id="126" name="Tytuł 1"/>
          <p:cNvSpPr/>
          <p:nvPr/>
        </p:nvSpPr>
        <p:spPr>
          <a:xfrm>
            <a:off x="4191120" y="4562640"/>
            <a:ext cx="4984560" cy="1879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Paleta barwy fałszywy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52-0,60(zielony)               →niebiesk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63-0,69(czerwony)           →zielo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0,76-0,90(podczerwień)      →czerwo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Picture 2" descr="C:\Users\Asia\Desktop\Prusak_Cieślik2\B_58-66\64-66\!!!źródła\k3.jpg"/>
          <p:cNvPicPr/>
          <p:nvPr/>
        </p:nvPicPr>
        <p:blipFill>
          <a:blip r:embed="rId3"/>
          <a:stretch/>
        </p:blipFill>
        <p:spPr>
          <a:xfrm>
            <a:off x="657360" y="2205000"/>
            <a:ext cx="3501720" cy="219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5840" y="1125360"/>
            <a:ext cx="867888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skaźnik NDVI</a:t>
            </a:r>
            <a:br>
              <a:rPr sz="4400"/>
            </a:br>
            <a:r>
              <a:rPr b="0" lang="pl-PL" sz="2800" spc="-1" strike="noStrike">
                <a:solidFill>
                  <a:srgbClr val="000000"/>
                </a:solidFill>
                <a:latin typeface="Calibri"/>
              </a:rPr>
              <a:t>(Znormalizowany różnicowy wskaźnik wegetacji </a:t>
            </a:r>
            <a:r>
              <a:rPr b="0" i="1" lang="pl-PL" sz="2800" spc="-1" strike="noStrike">
                <a:solidFill>
                  <a:srgbClr val="000000"/>
                </a:solidFill>
                <a:latin typeface="Calibri"/>
              </a:rPr>
              <a:t>Normalized Difference Vegetation Index</a:t>
            </a:r>
            <a:r>
              <a:rPr b="0" lang="pl-PL" sz="2800" spc="-1" strike="noStrike">
                <a:solidFill>
                  <a:srgbClr val="000000"/>
                </a:solidFill>
                <a:latin typeface="Calibri"/>
              </a:rPr>
              <a:t>)</a:t>
            </a:r>
            <a:endParaRPr b="0" lang="en-US" sz="2800" spc="-1" strike="noStrike">
              <a:solidFill>
                <a:srgbClr val="000000"/>
              </a:solidFill>
              <a:latin typeface="Calibri"/>
            </a:endParaRPr>
          </a:p>
        </p:txBody>
      </p:sp>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1" name="Tytuł 1"/>
          <p:cNvSpPr/>
          <p:nvPr/>
        </p:nvSpPr>
        <p:spPr>
          <a:xfrm>
            <a:off x="179280" y="2997360"/>
            <a:ext cx="8785440" cy="1511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wartość możliwie najlepiej oddająca intensywność procesu fotosyntezy w danym miejscu.</a:t>
            </a:r>
            <a:endParaRPr b="0" lang="en-US" sz="3200" spc="-1" strike="noStrike">
              <a:solidFill>
                <a:srgbClr val="000000"/>
              </a:solidFill>
              <a:latin typeface="Arial"/>
            </a:endParaRPr>
          </a:p>
        </p:txBody>
      </p:sp>
      <p:pic>
        <p:nvPicPr>
          <p:cNvPr id="132" name="pole tekstowe 1" descr=""/>
          <p:cNvPicPr/>
          <p:nvPr/>
        </p:nvPicPr>
        <p:blipFill>
          <a:blip r:embed="rId2"/>
          <a:stretch/>
        </p:blipFill>
        <p:spPr>
          <a:xfrm>
            <a:off x="1536840" y="4870440"/>
            <a:ext cx="5911560" cy="1036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5" name="Tytuł 1"/>
          <p:cNvSpPr/>
          <p:nvPr/>
        </p:nvSpPr>
        <p:spPr>
          <a:xfrm>
            <a:off x="392040" y="1125360"/>
            <a:ext cx="8359920" cy="15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skaźnik NDVI może przyjmować wartości od -1 do 1, przy czym roślinność cechuje się wartościami z zakresy 0.4…0.8</a:t>
            </a:r>
            <a:endParaRPr b="0" lang="en-US" sz="3200" spc="-1" strike="noStrike">
              <a:solidFill>
                <a:srgbClr val="000000"/>
              </a:solidFill>
              <a:latin typeface="Arial"/>
            </a:endParaRPr>
          </a:p>
        </p:txBody>
      </p:sp>
      <p:pic>
        <p:nvPicPr>
          <p:cNvPr id="136" name="Picture 2" descr="Plik:Globalndvi tmo 200711 lrg.jpg"/>
          <p:cNvPicPr/>
          <p:nvPr/>
        </p:nvPicPr>
        <p:blipFill>
          <a:blip r:embed="rId2"/>
          <a:stretch/>
        </p:blipFill>
        <p:spPr>
          <a:xfrm>
            <a:off x="1335240" y="2657520"/>
            <a:ext cx="6473520" cy="3236760"/>
          </a:xfrm>
          <a:prstGeom prst="rect">
            <a:avLst/>
          </a:prstGeom>
          <a:ln w="0">
            <a:noFill/>
          </a:ln>
        </p:spPr>
      </p:pic>
      <p:sp>
        <p:nvSpPr>
          <p:cNvPr id="137" name="Tytuł 1"/>
          <p:cNvSpPr/>
          <p:nvPr/>
        </p:nvSpPr>
        <p:spPr>
          <a:xfrm>
            <a:off x="322200" y="5894280"/>
            <a:ext cx="864252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średniony w roku wskaźnik NDVI, skala barwna rosnąca wartość od barwy żółtej do zielonej.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99760" y="980640"/>
            <a:ext cx="655164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atelity Landsat</a:t>
            </a:r>
            <a:endParaRPr b="0" lang="en-US" sz="4400" spc="-1" strike="noStrike">
              <a:solidFill>
                <a:srgbClr val="000000"/>
              </a:solidFill>
              <a:latin typeface="Calibri"/>
            </a:endParaRPr>
          </a:p>
        </p:txBody>
      </p:sp>
      <p:sp>
        <p:nvSpPr>
          <p:cNvPr id="1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1" name="Tytuł 1"/>
          <p:cNvSpPr/>
          <p:nvPr/>
        </p:nvSpPr>
        <p:spPr>
          <a:xfrm>
            <a:off x="108000" y="1773360"/>
            <a:ext cx="892800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seria satelitów (obecnie już  8 generacja) amerykańskich zbudowanych przez amerykańskie agencje rządowe NASA i USGS.</a:t>
            </a:r>
            <a:endParaRPr b="0" lang="en-US" sz="3200" spc="-1" strike="noStrike">
              <a:solidFill>
                <a:srgbClr val="000000"/>
              </a:solidFill>
              <a:latin typeface="Arial"/>
            </a:endParaRPr>
          </a:p>
        </p:txBody>
      </p:sp>
      <p:pic>
        <p:nvPicPr>
          <p:cNvPr id="142" name="Picture 2" descr="File:Landsat7patch.jpg"/>
          <p:cNvPicPr/>
          <p:nvPr/>
        </p:nvPicPr>
        <p:blipFill>
          <a:blip r:embed="rId2"/>
          <a:stretch/>
        </p:blipFill>
        <p:spPr>
          <a:xfrm>
            <a:off x="285840" y="3284640"/>
            <a:ext cx="3456000" cy="3429000"/>
          </a:xfrm>
          <a:prstGeom prst="rect">
            <a:avLst/>
          </a:prstGeom>
          <a:ln w="0">
            <a:noFill/>
          </a:ln>
        </p:spPr>
      </p:pic>
      <p:sp>
        <p:nvSpPr>
          <p:cNvPr id="143" name="Tytuł 1"/>
          <p:cNvSpPr/>
          <p:nvPr/>
        </p:nvSpPr>
        <p:spPr>
          <a:xfrm>
            <a:off x="3924360" y="3378240"/>
            <a:ext cx="4895640" cy="32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Landsat 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sokość orbity: 705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as obiegu Ziemi: 99 min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brazowanie: wielospektralne 7 kanałów</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dzielczość: ok 15m/piks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atelity SPOT</a:t>
            </a:r>
            <a:endParaRPr b="0" lang="en-US" sz="4400" spc="-1" strike="noStrike">
              <a:solidFill>
                <a:srgbClr val="000000"/>
              </a:solidFill>
              <a:latin typeface="Calibri"/>
            </a:endParaRPr>
          </a:p>
        </p:txBody>
      </p:sp>
      <p:sp>
        <p:nvSpPr>
          <p:cNvPr id="1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7" name="Tytuł 1"/>
          <p:cNvSpPr/>
          <p:nvPr/>
        </p:nvSpPr>
        <p:spPr>
          <a:xfrm>
            <a:off x="285840" y="1989000"/>
            <a:ext cx="8358120" cy="1511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eria satelitów europejskich zbudowanych przy największym udziale Francji (obecnie 6-ta generacja), są to satelity komercyjne.</a:t>
            </a:r>
            <a:endParaRPr b="0" lang="en-US" sz="3200" spc="-1" strike="noStrike">
              <a:solidFill>
                <a:srgbClr val="000000"/>
              </a:solidFill>
              <a:latin typeface="Arial"/>
            </a:endParaRPr>
          </a:p>
        </p:txBody>
      </p:sp>
      <p:pic>
        <p:nvPicPr>
          <p:cNvPr id="148" name="Picture 2" descr="http://www.satimagingcorp.com/media/images/spot-5_in_orbit.jpg"/>
          <p:cNvPicPr/>
          <p:nvPr/>
        </p:nvPicPr>
        <p:blipFill>
          <a:blip r:embed="rId2"/>
          <a:stretch/>
        </p:blipFill>
        <p:spPr>
          <a:xfrm>
            <a:off x="469800" y="3573360"/>
            <a:ext cx="2919600" cy="2998800"/>
          </a:xfrm>
          <a:prstGeom prst="rect">
            <a:avLst/>
          </a:prstGeom>
          <a:ln w="0">
            <a:noFill/>
          </a:ln>
        </p:spPr>
      </p:pic>
      <p:sp>
        <p:nvSpPr>
          <p:cNvPr id="149" name="Tytuł 1"/>
          <p:cNvSpPr/>
          <p:nvPr/>
        </p:nvSpPr>
        <p:spPr>
          <a:xfrm>
            <a:off x="3716280" y="3452760"/>
            <a:ext cx="4896000" cy="324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ot 6</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sokość orbity: 822k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zas obiegu Ziemi: 98 min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brazowanie: wielospektralne 4 kanał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ozdzielczość: ok 1.5m/piks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2" name="Tytuł 1"/>
          <p:cNvSpPr/>
          <p:nvPr/>
        </p:nvSpPr>
        <p:spPr>
          <a:xfrm>
            <a:off x="179280" y="1341360"/>
            <a:ext cx="8640720" cy="496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ecnie funkcjonuje wiele satelitów wykonujących obrazowania powierzchni Ziemi, są to zarówno satelity rządowe, wojskowe jak i komercyjne. Inne znane satelity to IKONOS i QuickBird (USA) lub RESURS (Rosja). Obecnie każde miejsce na powierzchni Ziemi jest fotografowane przez jakiegoś satelitę raz na 2-3 dni – o ile pozwala na to brak zachmurzenia i zamgle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981000"/>
            <a:ext cx="91440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Mity dotyczące fotografii satelitarnej.</a:t>
            </a:r>
            <a:endParaRPr b="0" lang="en-US" sz="4400" spc="-1" strike="noStrike">
              <a:solidFill>
                <a:srgbClr val="000000"/>
              </a:solidFill>
              <a:latin typeface="Calibri"/>
            </a:endParaRPr>
          </a:p>
        </p:txBody>
      </p:sp>
      <p:sp>
        <p:nvSpPr>
          <p:cNvPr id="1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6" name="Tytuł 1"/>
          <p:cNvSpPr/>
          <p:nvPr/>
        </p:nvSpPr>
        <p:spPr>
          <a:xfrm>
            <a:off x="311040" y="2205000"/>
            <a:ext cx="8496360" cy="1368360"/>
          </a:xfrm>
          <a:prstGeom prst="rect">
            <a:avLst/>
          </a:prstGeom>
          <a:noFill/>
          <a:ln w="0">
            <a:noFill/>
          </a:ln>
        </p:spPr>
        <p:style>
          <a:lnRef idx="0"/>
          <a:fillRef idx="0"/>
          <a:effectRef idx="0"/>
          <a:fontRef idx="minor"/>
        </p:style>
        <p:txBody>
          <a:bodyPr lIns="90000" rIns="90000" tIns="46800" bIns="46800" anchor="ctr">
            <a:noAutofit/>
          </a:bodyPr>
          <a:p>
            <a:pPr marL="457200" indent="-4572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c00000"/>
                </a:solidFill>
                <a:latin typeface="Arial"/>
              </a:rPr>
              <a:t>Satelita może wykonać zdjęcie naszej twarzy lub numerów rejestracyjnych samochodu.</a:t>
            </a:r>
            <a:endParaRPr b="0" lang="en-US" sz="3200" spc="-1" strike="noStrike">
              <a:solidFill>
                <a:srgbClr val="000000"/>
              </a:solidFill>
              <a:latin typeface="Arial"/>
            </a:endParaRPr>
          </a:p>
        </p:txBody>
      </p:sp>
      <p:sp>
        <p:nvSpPr>
          <p:cNvPr id="157" name="Tytuł 1"/>
          <p:cNvSpPr/>
          <p:nvPr/>
        </p:nvSpPr>
        <p:spPr>
          <a:xfrm>
            <a:off x="311040" y="3645000"/>
            <a:ext cx="8724960" cy="302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możliwe teoretycznie, choć taki satelita byłby w zasadzie bezużyteczny dlatego istnienie takich satelitów „szpiegowskich” jest typową legendą miejsk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0" y="1125360"/>
            <a:ext cx="6227640" cy="532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tografowanie powierzchni Ziemi jest stosowane od XIX w. Zdjęcie jest rzutem środkowym, co w przypadku płaskiego terenu lub bardzo dużej odległości aparatu fotograficznego od powierzchni Ziemi jest tożsame z rzutem ortogonalnym a więc pełnowartościową mapą.</a:t>
            </a:r>
            <a:endParaRPr b="0" lang="en-US" sz="3200" spc="-1" strike="noStrike">
              <a:solidFill>
                <a:srgbClr val="000000"/>
              </a:solidFill>
              <a:latin typeface="Arial"/>
            </a:endParaRPr>
          </a:p>
        </p:txBody>
      </p:sp>
      <p:pic>
        <p:nvPicPr>
          <p:cNvPr id="56" name="Picture 2" descr="http://3.bp.blogspot.com/_I_1dG2HF_sc/SKGXbQAG8jI/AAAAAAAAAlI/bXeEm5cc9d8/s1600/Factory+and+Ultimo+Tr+1915+small.jpg"/>
          <p:cNvPicPr/>
          <p:nvPr/>
        </p:nvPicPr>
        <p:blipFill>
          <a:blip r:embed="rId2"/>
          <a:stretch/>
        </p:blipFill>
        <p:spPr>
          <a:xfrm>
            <a:off x="6227640" y="1295280"/>
            <a:ext cx="2733840" cy="4824360"/>
          </a:xfrm>
          <a:prstGeom prst="rect">
            <a:avLst/>
          </a:prstGeom>
          <a:ln w="0">
            <a:noFill/>
          </a:ln>
        </p:spPr>
      </p:pic>
      <p:sp>
        <p:nvSpPr>
          <p:cNvPr id="57" name="Tytuł 1"/>
          <p:cNvSpPr/>
          <p:nvPr/>
        </p:nvSpPr>
        <p:spPr>
          <a:xfrm>
            <a:off x="5875200" y="6200640"/>
            <a:ext cx="3268800" cy="50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Linie okopów Francja 19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981000"/>
            <a:ext cx="91440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Mity dotyczące fotografii satelitarnej.</a:t>
            </a:r>
            <a:endParaRPr b="0" lang="en-US" sz="4400" spc="-1" strike="noStrike">
              <a:solidFill>
                <a:srgbClr val="000000"/>
              </a:solidFill>
              <a:latin typeface="Calibri"/>
            </a:endParaRPr>
          </a:p>
        </p:txBody>
      </p:sp>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1" name="Tytuł 1"/>
          <p:cNvSpPr/>
          <p:nvPr/>
        </p:nvSpPr>
        <p:spPr>
          <a:xfrm>
            <a:off x="324000" y="1989000"/>
            <a:ext cx="8496000" cy="1368720"/>
          </a:xfrm>
          <a:prstGeom prst="rect">
            <a:avLst/>
          </a:prstGeom>
          <a:noFill/>
          <a:ln w="0">
            <a:noFill/>
          </a:ln>
        </p:spPr>
        <p:style>
          <a:lnRef idx="0"/>
          <a:fillRef idx="0"/>
          <a:effectRef idx="0"/>
          <a:fontRef idx="minor"/>
        </p:style>
        <p:txBody>
          <a:bodyPr lIns="90000" rIns="90000" tIns="46800" bIns="46800" anchor="ctr">
            <a:noAutofit/>
          </a:bodyPr>
          <a:p>
            <a:pPr marL="457200" indent="-4572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c00000"/>
                </a:solidFill>
                <a:latin typeface="Arial"/>
              </a:rPr>
              <a:t>Satelita może wykonywać zdjęcia przez chmury i mgłę.</a:t>
            </a:r>
            <a:endParaRPr b="0" lang="en-US" sz="3200" spc="-1" strike="noStrike">
              <a:solidFill>
                <a:srgbClr val="000000"/>
              </a:solidFill>
              <a:latin typeface="Arial"/>
            </a:endParaRPr>
          </a:p>
        </p:txBody>
      </p:sp>
      <p:sp>
        <p:nvSpPr>
          <p:cNvPr id="162" name="Tytuł 1"/>
          <p:cNvSpPr/>
          <p:nvPr/>
        </p:nvSpPr>
        <p:spPr>
          <a:xfrm>
            <a:off x="311040" y="3284640"/>
            <a:ext cx="8724960" cy="338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zakresie światła widzialnego nie ma takiej możliwości, w zakresie podczerwieni jest to częściowo możliwe choć takie zdjęcie nie niesie informacji o barwach jakie znamy. Istnieje ograniczona możliwość rejestracji zarysu promieniowania cieplnego człowieka przez mgłę ale już nie przez chmury burz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981000"/>
            <a:ext cx="9144000" cy="9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Mity dotyczące fotografii satelitarnej.</a:t>
            </a:r>
            <a:endParaRPr b="0" lang="en-US" sz="4400" spc="-1" strike="noStrike">
              <a:solidFill>
                <a:srgbClr val="000000"/>
              </a:solidFill>
              <a:latin typeface="Calibri"/>
            </a:endParaRPr>
          </a:p>
        </p:txBody>
      </p:sp>
      <p:sp>
        <p:nvSpPr>
          <p:cNvPr id="1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6" name="Tytuł 1"/>
          <p:cNvSpPr/>
          <p:nvPr/>
        </p:nvSpPr>
        <p:spPr>
          <a:xfrm>
            <a:off x="324000" y="1989000"/>
            <a:ext cx="8496000" cy="1368720"/>
          </a:xfrm>
          <a:prstGeom prst="rect">
            <a:avLst/>
          </a:prstGeom>
          <a:noFill/>
          <a:ln w="0">
            <a:noFill/>
          </a:ln>
        </p:spPr>
        <p:style>
          <a:lnRef idx="0"/>
          <a:fillRef idx="0"/>
          <a:effectRef idx="0"/>
          <a:fontRef idx="minor"/>
        </p:style>
        <p:txBody>
          <a:bodyPr lIns="90000" rIns="90000" tIns="46800" bIns="46800" anchor="ctr">
            <a:noAutofit/>
          </a:bodyPr>
          <a:p>
            <a:pPr marL="457200" indent="-45720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c00000"/>
                </a:solidFill>
                <a:latin typeface="Arial"/>
              </a:rPr>
              <a:t>Satelitę można w każdej chwili nakierować w interesujące miejsce.</a:t>
            </a:r>
            <a:endParaRPr b="0" lang="en-US" sz="3200" spc="-1" strike="noStrike">
              <a:solidFill>
                <a:srgbClr val="000000"/>
              </a:solidFill>
              <a:latin typeface="Arial"/>
            </a:endParaRPr>
          </a:p>
        </p:txBody>
      </p:sp>
      <p:sp>
        <p:nvSpPr>
          <p:cNvPr id="167" name="Tytuł 1"/>
          <p:cNvSpPr/>
          <p:nvPr/>
        </p:nvSpPr>
        <p:spPr>
          <a:xfrm>
            <a:off x="311040" y="3284640"/>
            <a:ext cx="8724960" cy="338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oretycznie tak, ale tylko kilka razy do wyczerpania zapasów paliwa satelity i jest to na tyle czasochłonne że jest lepiej i łatwiej poczekać kilka dni aż sam nadleci w to miejs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Obraz 2" descr="stopka_poz.gif"/>
          <p:cNvPicPr/>
          <p:nvPr/>
        </p:nvPicPr>
        <p:blipFill>
          <a:blip r:embed="rId1"/>
          <a:stretch/>
        </p:blipFill>
        <p:spPr>
          <a:xfrm>
            <a:off x="0" y="5951520"/>
            <a:ext cx="9144000" cy="906480"/>
          </a:xfrm>
          <a:prstGeom prst="rect">
            <a:avLst/>
          </a:prstGeom>
          <a:ln w="0">
            <a:noFill/>
          </a:ln>
        </p:spPr>
      </p:pic>
      <p:pic>
        <p:nvPicPr>
          <p:cNvPr id="170" name="Obraz 5" descr="nagłówek_poz.gif"/>
          <p:cNvPicPr/>
          <p:nvPr/>
        </p:nvPicPr>
        <p:blipFill>
          <a:blip r:embed="rId2"/>
          <a:stretch/>
        </p:blipFill>
        <p:spPr>
          <a:xfrm>
            <a:off x="0" y="0"/>
            <a:ext cx="9144000" cy="1125360"/>
          </a:xfrm>
          <a:prstGeom prst="rect">
            <a:avLst/>
          </a:prstGeom>
          <a:ln w="0">
            <a:noFill/>
          </a:ln>
        </p:spPr>
      </p:pic>
      <p:sp>
        <p:nvSpPr>
          <p:cNvPr id="171"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4284720" y="1413000"/>
            <a:ext cx="4680000" cy="4349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ział geodezji i kartografii zajmujący się wykonywaniem pomiarów geodezyjnych oraz opracowywaniem map na podstawie zdjęć lotniczych i satelitarnych nosi nazwę </a:t>
            </a:r>
            <a:r>
              <a:rPr b="1" lang="pl-PL" sz="3200" spc="-1" strike="noStrike">
                <a:solidFill>
                  <a:srgbClr val="000000"/>
                </a:solidFill>
                <a:latin typeface="Arial"/>
              </a:rPr>
              <a:t>fotogrametrii</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61" name="Picture 2" descr="https://encrypted-tbn0.gstatic.com/images?q=tbn:ANd9GcQMd1kPvGEh4VTR9JJGfqr2N4Bf9MLykbu_6LBylONcA4B3ZWEi"/>
          <p:cNvPicPr/>
          <p:nvPr/>
        </p:nvPicPr>
        <p:blipFill>
          <a:blip r:embed="rId2"/>
          <a:stretch/>
        </p:blipFill>
        <p:spPr>
          <a:xfrm>
            <a:off x="185760" y="1542960"/>
            <a:ext cx="4071960" cy="3686400"/>
          </a:xfrm>
          <a:prstGeom prst="rect">
            <a:avLst/>
          </a:prstGeom>
          <a:ln w="0">
            <a:noFill/>
          </a:ln>
        </p:spPr>
      </p:pic>
      <p:sp>
        <p:nvSpPr>
          <p:cNvPr id="62" name="Tytuł 1"/>
          <p:cNvSpPr/>
          <p:nvPr/>
        </p:nvSpPr>
        <p:spPr>
          <a:xfrm>
            <a:off x="281160" y="5456160"/>
            <a:ext cx="3881160" cy="6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nalogowe zdjęcie fotogrametryczne w formacie 23cm x 23c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 name="Tytuł 1"/>
          <p:cNvSpPr/>
          <p:nvPr/>
        </p:nvSpPr>
        <p:spPr>
          <a:xfrm>
            <a:off x="250920" y="1125360"/>
            <a:ext cx="8785080" cy="79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atelitarna fotografia powierzchni Ziemi umożliwia:</a:t>
            </a:r>
            <a:endParaRPr b="0" lang="en-US" sz="3200" spc="-1" strike="noStrike">
              <a:solidFill>
                <a:srgbClr val="000000"/>
              </a:solidFill>
              <a:latin typeface="Arial"/>
            </a:endParaRPr>
          </a:p>
        </p:txBody>
      </p:sp>
      <p:pic>
        <p:nvPicPr>
          <p:cNvPr id="66" name="Diagram 1" descr=""/>
          <p:cNvPicPr/>
          <p:nvPr/>
        </p:nvPicPr>
        <p:blipFill>
          <a:blip r:embed="rId2"/>
          <a:stretch/>
        </p:blipFill>
        <p:spPr>
          <a:xfrm>
            <a:off x="237960" y="2193840"/>
            <a:ext cx="8668080" cy="44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213920"/>
            <a:ext cx="8424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lasyczne zdjęcia satelitarne</a:t>
            </a:r>
            <a:endParaRPr b="0" lang="en-US" sz="4400" spc="-1" strike="noStrike">
              <a:solidFill>
                <a:srgbClr val="000000"/>
              </a:solidFill>
              <a:latin typeface="Calibri"/>
            </a:endParaRPr>
          </a:p>
        </p:txBody>
      </p:sp>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0" name="Tytuł 1"/>
          <p:cNvSpPr/>
          <p:nvPr/>
        </p:nvSpPr>
        <p:spPr>
          <a:xfrm>
            <a:off x="285840" y="2421000"/>
            <a:ext cx="8358120" cy="417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ą to fotografie najczęściej barwne, wykonywane cyfrowo przez rejestracje wartości każdej z trzech składowych palety RGB dla każdego z pikseli obrazu. Zdjęcia satelitarne są powszechnie wykorzystywane i obecnie są ogólnodostępne, choć ich rozdzielczość jest mniejsza niż zdjęć lotnicz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73" name="Picture 2" descr="C:\Users\Asia\Desktop\Prusak_Cieślik2\B_58-66\64-66\!!!źródła\Untitled-20.jpg"/>
          <p:cNvPicPr/>
          <p:nvPr/>
        </p:nvPicPr>
        <p:blipFill>
          <a:blip r:embed="rId2"/>
          <a:stretch/>
        </p:blipFill>
        <p:spPr>
          <a:xfrm>
            <a:off x="468360" y="1916280"/>
            <a:ext cx="3959280" cy="3431880"/>
          </a:xfrm>
          <a:prstGeom prst="rect">
            <a:avLst/>
          </a:prstGeom>
          <a:ln w="0">
            <a:noFill/>
          </a:ln>
        </p:spPr>
      </p:pic>
      <p:pic>
        <p:nvPicPr>
          <p:cNvPr id="74" name="Picture 3" descr="C:\Users\Asia\Desktop\Prusak_Cieślik2\B_58-66\64-66\!!!źródła\Untitled-21.jpg"/>
          <p:cNvPicPr/>
          <p:nvPr/>
        </p:nvPicPr>
        <p:blipFill>
          <a:blip r:embed="rId3"/>
          <a:stretch/>
        </p:blipFill>
        <p:spPr>
          <a:xfrm>
            <a:off x="4572000" y="1916280"/>
            <a:ext cx="4248000" cy="3431880"/>
          </a:xfrm>
          <a:prstGeom prst="rect">
            <a:avLst/>
          </a:prstGeom>
          <a:ln w="0">
            <a:noFill/>
          </a:ln>
        </p:spPr>
      </p:pic>
      <p:sp>
        <p:nvSpPr>
          <p:cNvPr id="75" name="Tytuł 1"/>
          <p:cNvSpPr/>
          <p:nvPr/>
        </p:nvSpPr>
        <p:spPr>
          <a:xfrm>
            <a:off x="1682640" y="1068480"/>
            <a:ext cx="5778720" cy="86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Zdjęcie Wawelu w Krakowie</a:t>
            </a:r>
            <a:endParaRPr b="0" lang="en-US" sz="3200" spc="-1" strike="noStrike">
              <a:solidFill>
                <a:srgbClr val="000000"/>
              </a:solidFill>
              <a:latin typeface="Arial"/>
            </a:endParaRPr>
          </a:p>
        </p:txBody>
      </p:sp>
      <p:sp>
        <p:nvSpPr>
          <p:cNvPr id="76" name="Tytuł 1"/>
          <p:cNvSpPr/>
          <p:nvPr/>
        </p:nvSpPr>
        <p:spPr>
          <a:xfrm>
            <a:off x="287280" y="5429160"/>
            <a:ext cx="4321080" cy="123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Satelitarne – 2009r piksel 82cm x 82 cm</a:t>
            </a:r>
            <a:endParaRPr b="0" lang="en-US" sz="2800" spc="-1" strike="noStrike">
              <a:solidFill>
                <a:srgbClr val="000000"/>
              </a:solidFill>
              <a:latin typeface="Arial"/>
            </a:endParaRPr>
          </a:p>
        </p:txBody>
      </p:sp>
      <p:sp>
        <p:nvSpPr>
          <p:cNvPr id="77" name="Tytuł 1"/>
          <p:cNvSpPr/>
          <p:nvPr/>
        </p:nvSpPr>
        <p:spPr>
          <a:xfrm>
            <a:off x="4572000" y="5354640"/>
            <a:ext cx="4248000" cy="139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Lotnicze - 2003r piksel 25cm x 25c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0" name="Tytuł 1"/>
          <p:cNvSpPr/>
          <p:nvPr/>
        </p:nvSpPr>
        <p:spPr>
          <a:xfrm>
            <a:off x="179280" y="1068480"/>
            <a:ext cx="871380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łonące szyby naftowe w Kuwejcie podczas wojny w Zatoce Perskiej w 1990r.</a:t>
            </a:r>
            <a:endParaRPr b="0" lang="en-US" sz="3200" spc="-1" strike="noStrike">
              <a:solidFill>
                <a:srgbClr val="000000"/>
              </a:solidFill>
              <a:latin typeface="Arial"/>
            </a:endParaRPr>
          </a:p>
        </p:txBody>
      </p:sp>
      <p:pic>
        <p:nvPicPr>
          <p:cNvPr id="81" name="Picture 2" descr="Kliknij aby zobaczy&amp;cacute; pe&amp;lstrok;ny rozmiar"/>
          <p:cNvPicPr/>
          <p:nvPr/>
        </p:nvPicPr>
        <p:blipFill>
          <a:blip r:embed="rId2"/>
          <a:stretch/>
        </p:blipFill>
        <p:spPr>
          <a:xfrm>
            <a:off x="1662120" y="2060640"/>
            <a:ext cx="5748480" cy="46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4" name="Tytuł 1"/>
          <p:cNvSpPr/>
          <p:nvPr/>
        </p:nvSpPr>
        <p:spPr>
          <a:xfrm>
            <a:off x="179280" y="907920"/>
            <a:ext cx="8713800" cy="144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Plama ropy w Zatoce Meksykańskiej, po katastrofie platformy wiertniczej Deepwater Horizon w 2010r.</a:t>
            </a:r>
            <a:endParaRPr b="0" lang="en-US" sz="3200" spc="-1" strike="noStrike">
              <a:solidFill>
                <a:srgbClr val="000000"/>
              </a:solidFill>
              <a:latin typeface="Arial"/>
            </a:endParaRPr>
          </a:p>
        </p:txBody>
      </p:sp>
      <p:pic>
        <p:nvPicPr>
          <p:cNvPr id="85" name="Picture 2" descr="Obrazek"/>
          <p:cNvPicPr/>
          <p:nvPr/>
        </p:nvPicPr>
        <p:blipFill>
          <a:blip r:embed="rId2"/>
          <a:stretch/>
        </p:blipFill>
        <p:spPr>
          <a:xfrm>
            <a:off x="1655640" y="2349360"/>
            <a:ext cx="5761080" cy="431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djęcie multispektralne</a:t>
            </a:r>
            <a:endParaRPr b="0" lang="en-US" sz="4400" spc="-1" strike="noStrike">
              <a:solidFill>
                <a:srgbClr val="000000"/>
              </a:solidFill>
              <a:latin typeface="Calibri"/>
            </a:endParaRPr>
          </a:p>
        </p:txBody>
      </p:sp>
      <p:sp>
        <p:nvSpPr>
          <p:cNvPr id="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9" name="Tytuł 1"/>
          <p:cNvSpPr/>
          <p:nvPr/>
        </p:nvSpPr>
        <p:spPr>
          <a:xfrm>
            <a:off x="179280" y="220500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lasyczne barwne zdjęcie cyfrowe powstaje przez rejestrację dla każdego z pikseli natężenia światła w zakresie kolorów czerwonego, zielonego i niebieskiego. Rejestracja większej ilości zakresów, także obejmujących podczerwień lub ultrafiolet nosi nazwę fotografii multispektraln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29:40Z</dcterms:modified>
  <cp:revision>506</cp:revision>
  <dc:subject/>
  <dc:title>Slajd 1</dc:title>
</cp:coreProperties>
</file>