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9EB0-28AC-4B2C-9A0C-B41C18F3D776}" type="slidenum">
              <a:rPr b="0" lang="pl-PL" sz="12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inacze do bielizny poruszają się poprzecznie w odniesieniu do gumy, która reprezentuje kierunek rozchodzenia się fal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E984-46DB-437E-84D7-31E474CEA7F8}" type="slidenum">
              <a:rPr b="0" lang="pl-PL" sz="1200" spc="-1" strike="noStrike">
                <a:solidFill>
                  <a:srgbClr val="800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511-37EA-485A-B909-D0CDB66B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007-0225-4BCB-B1CF-1AA51D58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652-5D67-4B15-866F-1B219298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D285-5A4C-4A48-AE43-F3C3227F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28E87-A44F-4DD3-903E-D9A6E4A6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2753-38AB-46E4-822E-F78666D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5844-CA4C-49D2-B6B7-30F4A934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37B1-AE7D-4D52-9B3E-66DEE425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A58F-F55A-45E7-9831-793E1284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0232-9943-446B-8A54-1E394947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14F6-82D2-4E71-A3A5-EECB24D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F5D-D1AB-4F3B-986F-30EC9F4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3AC7-A30B-4A09-8765-C86E7B4E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55FF-F681-4A28-843D-0B412C60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2CC1-E627-4A69-922A-6DA7FE3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F91F-DADE-424C-BDA2-2F8A015F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3018-37B8-4100-9DC8-703F132D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5ECE-9B1E-4E8D-BDFA-E5855CED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76CB-9B56-4C50-B1B3-EC0075D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DEADD-DAD6-4DA1-9F54-AF4637BE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4C7D-DBE2-40B8-AF71-ED37F4A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DAB6-A241-47BA-A9D5-DFC9655B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718-D79D-4CA5-8221-3C8E1E3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BF0D1-A7AF-458D-ACF1-01C03221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C1EE-8C86-4DCF-BEFE-96C7AFB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4CEB5-3644-4D93-B327-67D7054A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0143-5442-4879-BF53-638D573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3026-BDF5-4FE9-BF28-C2AB4A37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05EF-EE42-4B61-9341-5AF7FC1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491F-B342-417F-A929-A33D157A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A0B-8E47-47A0-9C39-5648DC7F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89A-DF12-4CCD-B631-01733419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FE40-C73E-4CC1-9052-E1E0CA5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89A-690D-4B90-BC01-6A84554A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BA6-89B9-4E40-B758-05A7C81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D44B-1F31-406A-A4AD-52B12F91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88CB-02C6-44CA-BB15-169D03CAF3CF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D7F-E38A-495C-9C96-4DF0FF420027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DA24-AC29-45FF-8BAE-F9DAB6EF6E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4pl/huygenspr_pl.htm" TargetMode="Externa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4pl/interference_pl.htm" TargetMode="External"/><Relationship Id="rId2" Type="http://schemas.openxmlformats.org/officeDocument/2006/relationships/hyperlink" Target="http://www.walter-fendt.de/ph14pl/doubleslit_pl.ht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jęcie ruchu faloweg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ielkości charakteryzujące f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jawiska falowe- dyfrakcja, interferencja, polaryzacj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awa odbicia i załama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39280" y="2421000"/>
            <a:ext cx="820908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0080"/>
                </a:solidFill>
                <a:latin typeface="Arial"/>
              </a:rPr>
              <a:t>Applet;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walter-fendt.de/ph14pl/huygenspr_pl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emonstracja zjawiska dyfrakcji na płótnie parasola i siatce dyfrakcyjnej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5200" y="2558880"/>
            <a:ext cx="7013520" cy="285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 płótno parasola (siatkę dyfrakcyjną) kierujemy wiązkę światła laserowego. Obserwujemy obraz dyfrakcyjny na ekrani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99640" y="765000"/>
            <a:ext cx="741708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jęcia przedstawiające dyfrakcję promienia las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IMG_3631"/>
          <p:cNvPicPr/>
          <p:nvPr/>
        </p:nvPicPr>
        <p:blipFill>
          <a:blip r:embed="rId1"/>
          <a:stretch/>
        </p:blipFill>
        <p:spPr>
          <a:xfrm>
            <a:off x="4643280" y="2133720"/>
            <a:ext cx="4321440" cy="3190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IMG_3630"/>
          <p:cNvPicPr/>
          <p:nvPr/>
        </p:nvPicPr>
        <p:blipFill>
          <a:blip r:embed="rId2"/>
          <a:stretch/>
        </p:blipFill>
        <p:spPr>
          <a:xfrm>
            <a:off x="179280" y="2133720"/>
            <a:ext cx="43196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24000" y="404280"/>
            <a:ext cx="8424720" cy="49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Interferencj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kładania się fal tego samego rodzaju (podłużnych, poprzeczny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stępny slajd zawiera aplet ilustrujący zjawisko interferencji dwóch fal kolistych, na którym widoczne są miejsca wzmocnień (gdy różnica dróg do tego miejsca od źródeł odpowiada całkowitej wielokrotności długości fali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wygaszeń fal (gdy różnica dróg do tego miejsca od źródeł odpowiada nieparzystej wielokrotności połowy długości fal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ciski po prawej stronie umożliwiają wybó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órny” - odległości pomiędzy źródłami f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lny” - długości f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3276720" y="2924280"/>
            <a:ext cx="19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71640" y="1844640"/>
            <a:ext cx="7488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pplety;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walter-fendt.de/ph14pl/interference_pl.ht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walter-fendt.de/ph14pl/doubleslit_pl.htm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71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Prawa odbicia i załaman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55280" y="1773360"/>
            <a:ext cx="748836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o odbicia – Kąt padania i odbicia są sobie równe i oba leżą w tej samej płaszczyź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o załamania- stosunek sinusów kątów padania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załamania równy jest stosunkowi prędkości rozchodzenia się fali w ośrodkach, na granicy których następuje załamanie. Kąt padania i załamania leż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ej samej płaszczyź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395280" y="115920"/>
            <a:ext cx="8497800" cy="77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ala to zaburzenie ośrodka przenoszące energię i nie przenoszące mas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Wielkościami charakteryzującymi ruch falowy są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wierzchnia falowa – zbiór punktów ośrodka będących w danej chwili w tej samej fazie drgań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oło fali – najbardziej odległa od źródła powierzchnia falowa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mień fali – kierunek przenoszenia energii przez falę (powierzchnia falowa jest w każdym punkcie prostopadła do promienia fali)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ługość fali – najmniejsza odległość pomiędzy dwoma powierzchniami falowymi różniącymi się fazą drgań o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okres fali – to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res drgań cząsteczek ośrodka, w którym fala się rozchodzi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ęstotliwość fali – to częstotliwość drgań cząsteczek ośrodka, w którym fal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ię rozchodzi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zęstość fali – to częstość drgań cząsteczek ośrodka, w którym fal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ię rozchodzi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e względu na kierunek drgań cząsteczek ośrodka można wyróżnić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ale poprzeczne – drgania zachodzą w płaszczyźnie prostopadłej do promienia fali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fale podłużną – drgania zachodzą w kierunku równoległym do promienia fali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258920" y="549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monstracja fali podłuż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3"/>
          <p:cNvSpPr/>
          <p:nvPr/>
        </p:nvSpPr>
        <p:spPr>
          <a:xfrm>
            <a:off x="395280" y="191628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lorową sprężynkę (zabawkę dziecięcą) umieszczamy na stole, lekko rozciągamy i z jednej strony pobudzamy do drgań wzdłużnych. Obserwujemy „zagęszczenia i rozrzedzenia” kolorowych fragmentów następujące po sobie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42920" y="54936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emonstracje fali poprzecz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ole tekstowe 3"/>
          <p:cNvSpPr/>
          <p:nvPr/>
        </p:nvSpPr>
        <p:spPr>
          <a:xfrm>
            <a:off x="900000" y="2205000"/>
            <a:ext cx="748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 gumie do bielizny mocujemy spinacze w równych odstępach. Tak otrzymujemy model falownicy. Następnie zawieszamy np. na dwóch krzesłach i czekamy do momentu ustania wszelkich drgań. Wprawiamy w ruch jeden z końcowych spinaczy uderzając go placem prostopadle do kierunku gumy. Obserwujemy falę poprzeczną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IMG_3584"/>
          <p:cNvPicPr/>
          <p:nvPr/>
        </p:nvPicPr>
        <p:blipFill>
          <a:blip r:embed="rId1"/>
          <a:stretch/>
        </p:blipFill>
        <p:spPr>
          <a:xfrm>
            <a:off x="1763640" y="3284640"/>
            <a:ext cx="5256360" cy="2933640"/>
          </a:xfrm>
          <a:prstGeom prst="rect">
            <a:avLst/>
          </a:prstGeom>
          <a:ln w="0">
            <a:noFill/>
          </a:ln>
        </p:spPr>
      </p:pic>
      <p:pic>
        <p:nvPicPr>
          <p:cNvPr id="143" name="fala podluzna.wmv" descr=""/>
          <p:cNvPicPr/>
          <p:nvPr/>
        </p:nvPicPr>
        <p:blipFill>
          <a:blip r:embed="rId2"/>
          <a:stretch/>
        </p:blipFill>
        <p:spPr>
          <a:xfrm>
            <a:off x="1763640" y="981000"/>
            <a:ext cx="5256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ole tekstowe 3"/>
          <p:cNvSpPr/>
          <p:nvPr/>
        </p:nvSpPr>
        <p:spPr>
          <a:xfrm>
            <a:off x="900000" y="7650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Film przedstawiający rozchodzenie się fali poprzecznej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5" name="MVI_fala poprzeczna_(ALLConverter).wmv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06448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41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95280" y="1700280"/>
            <a:ext cx="8640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tawowe związki pomiędzy wielkościami charakteryzującymi ruch falowy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y(x,t) = A </a:t>
            </a:r>
            <a:r>
              <a:rPr b="0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(t - x/V)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zw. równanie fali, gdzie y oznacza wychylenie cząsteczek ośrodka - odległych od źródła o x - z położenia równowagi w chwili t, V – prędkość fali, A – amplituda fali (amplituda drgań cząsteczek ośrodka) zaś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– częstość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/T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= V </a:t>
            </a:r>
            <a:r>
              <a:rPr b="0" lang="pl-PL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 = V/f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długość fali, T – okres fali (okres drgań cząsteczek ośrodka), f – częstotliwość (f=1/T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280" y="189000"/>
            <a:ext cx="82090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Dyfrakcj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jawisko falowe polegające na zmianie kierunku rozchodzenia się fal w sytuacji gdy fala napotyka na przeszkodę lub otwór o rozmiarach porównywalnych lub większych od jej długości. Zjawisko to łatwo wyjaśnić stosując tzw. zasadę Huygens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olny punkt ośrodka, do którego dociera zaburzenie (fala) staje się źródłem nowej (elementarnej) fali kulist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260280"/>
            <a:ext cx="813420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astępny slajd zawiera aplet ilustrujący zjawiska dyfrakcji, odbicia i załamania za pomocą zasady Huygen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zyciski po prawej stronie umożliwiają wybó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órny” – sta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środkowy ” – kolejne kroki (powierzchnia falowa, powierzchnia falowa i powierzchnie fal odbitych i załamanych, kąty padania, załamania i odbic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lny” – restart i pauz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nadto można zadać wartość współczynników załamania w ośrodkach 1 i 2 i kąt pad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8:28:47Z</dcterms:modified>
  <cp:revision>83</cp:revision>
  <dc:subject/>
  <dc:title>KORPUSKULARNO-FALOWA NATURA ŚWIATŁA</dc:title>
</cp:coreProperties>
</file>