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FB0-8191-44A1-8A5E-2057EBDE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54BC-E688-49D6-9479-50FF7022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9E24-AA84-4760-BB00-A2A53112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0358-E587-4CC8-B4C7-1533041E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3723-D0E9-4CB0-923B-3E6852CA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3EAF-773F-428E-B8A1-8EF9F45F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01D7-3037-4B4E-8AD4-B36DE7973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C99E-D006-4A22-94E7-5F671638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CD13-B88C-4DC6-AC33-6873B9B6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5122-CB25-425D-AA56-AE46FCF2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1EB0-F876-44D9-8885-9FB5FE85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2FCC-01AE-417C-8732-538FAE0C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6F76-978F-4FF5-97E0-F9688416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B165-E6AE-4BAC-923D-5F637DB4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58FC-CA3D-4403-884B-E31244F5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47E3-971D-4520-9323-0838C366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C094-D0EF-47A3-8884-6B30CBF6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6329-46F5-453A-9E8F-AB629B4D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9FFF-48DC-4ABE-82B5-AECCE631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50BA-8F7C-4B83-92EC-463E0A58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DCD1-9FD2-4454-B95B-5871862C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1561-98AD-494C-A855-008698DB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4B9-66CA-4501-A2C2-CBD018E4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3BC0-52AC-4274-945C-AB0C7771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CEF1-1088-4C86-8C48-A0ABA488F8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134B-EE90-4D34-91F0-8FA5A94CAC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Fala stojąca, przykłady fali stojącej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Oddziaływanie fal z materi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Elementy akustyki. Efekt Dopple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Budowa i zasada działania US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79280" y="333360"/>
            <a:ext cx="856944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 współczesnych aparatach USG prezentowanie wyników polega na wizualizacji dwuwymiarowego przekroju wybranej części ciała (na przykład jamy brzusznej), w której wartość chwilowa odbieranego sygnału moduluje jaskrawość (brightness) kolejnych punktów obraz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Obraz 5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25636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39280" y="188640"/>
            <a:ext cx="820908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konując komputerowej superpozycji wielu obrazów tego typu można uzyskać obraz trójwymiarowy o bardzo realistycznym wyglądzie, co jest w wielu przypadkach korzystne, jednak nie jest nieodzowne z punktu widzenia przydatności zobrazowania do celów diagnostyki medyczn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Obraz 6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53290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39280" y="188640"/>
            <a:ext cx="820908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nym typem obrazowania USG jest tzw. usg dopplerowskie polegające na odbiorze fali USG, rozproszonej na będących w ruchu krwinkach, a więc powracającej do głowicy nadawczej ze zmienioną częstotliwością (efekt Dopplera). W zależności od szybkości i kierunku ruchu krwinek względem wiązki USG i kierunku propagacji fali następuje dopplerowskie przesunięcie  częstotliwości fali nadawanej i odebranej w kierunku wyższych albo niższych częstotliwości. Na obrazie fakt ten zaznacza się zwykle kolorem – kolor niebieski rezerwuje się dla najszybszego ruchu w jednym kierunku, a kolor czerwony dla szybkiego ruchu w kierunku przeciwnym. Kolory pośrednie kodują ruch o mniejszej szybkości, a echa pochodzące od struktur nieruchomych prezentuje się jako czarno-białe. Przykład bardzo pięknego obrazu w prezentacji D pokazano na rysunku poniżej,  gdzie uwidoczniono pępowinę płodu. Jak wiadomo w pępowinie odbywa się przepływ dwukierunkowy, bo splecione ze sobą naczynia krwionośne służą do transportowania krwi od i do łożyska – co bardzo wyraźnie uwidoczniono na przedstawionym obraz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Obraz 7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784836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920" y="189000"/>
            <a:ext cx="8424720" cy="59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152280" indent="-152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Fala stojąca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ala powstająca w wyniku interferencji fal biegnącej i odbite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stępny slajd zawiera aplet ilustrujący powstawanie fali stojącej będącej wynikiem interferencji dwóch fal, o takich samych częstotliwościach i amplitudach, biegnących w przeciwne strony. Przedstawiono falę stojącą w powietrzu, powstającą w rurze.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iteram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” - oznaczono miejsca gdzie znajdują się „węzły” (miejsca, w których drgania powietrza nie zachodzą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” - oznaczono miejsca gdzie znajdują się „strzałki” (miejsca, w których drgania powietrza zachodzą z maksymalną amplitudą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ytuacja ma miejsce dla prędkości rozchodzenia się dźwięku w powietrzu równej 343,5 m/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plet ma możliwość wyboru ru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411120" algn="just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ustronnie otwart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411120" algn="just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ednostronnie otwart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411120" algn="just">
              <a:lnSpc>
                <a:spcPct val="80000"/>
              </a:lnSpc>
              <a:spcBef>
                <a:spcPts val="499"/>
              </a:spcBef>
              <a:buClr>
                <a:srgbClr val="800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ustronnie zamknięt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nadto możliwy jest wybór długości rury, dla której każdorazowo przeliczana jest częstotliwoś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1116000" y="2349360"/>
            <a:ext cx="720108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0080"/>
                </a:solidFill>
                <a:latin typeface="Arial"/>
              </a:rPr>
              <a:t>Applety; 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0080"/>
                </a:solidFill>
                <a:latin typeface="Arial"/>
              </a:rPr>
              <a:t>www.walter-fendt.de/ph14pl/stlwaves_pl.htm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0080"/>
                </a:solidFill>
                <a:latin typeface="Arial"/>
              </a:rPr>
              <a:t>www.walter-fendt.de/ph14pl/stwaverefl_pl.htm</a:t>
            </a: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539280" y="764640"/>
            <a:ext cx="820908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800080"/>
                </a:solidFill>
                <a:uFillTx/>
                <a:latin typeface="Arial"/>
              </a:rPr>
              <a:t>Polaryzacja</a:t>
            </a:r>
            <a:r>
              <a:rPr b="0" lang="pl-PL" sz="2400" spc="-1" strike="noStrike">
                <a:solidFill>
                  <a:srgbClr val="800080"/>
                </a:solidFill>
                <a:latin typeface="Arial"/>
              </a:rPr>
              <a:t> – zjawisko polegające na ograniczeniu drgań ośrodka do wybranego kierunku (dotyczy fal poprzecznych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rc_mi" descr="http://fizyka.net.pl/ciekawostki/grafika4/polaryzacja1.gif"/>
          <p:cNvPicPr/>
          <p:nvPr/>
        </p:nvPicPr>
        <p:blipFill>
          <a:blip r:embed="rId1"/>
          <a:stretch/>
        </p:blipFill>
        <p:spPr>
          <a:xfrm>
            <a:off x="1187280" y="2492280"/>
            <a:ext cx="5688360" cy="29401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684360" y="5661000"/>
            <a:ext cx="712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800080"/>
                </a:solidFill>
                <a:latin typeface="Arial"/>
              </a:rPr>
              <a:t>Źródło: www.fizyka.net.pl</a:t>
            </a:r>
            <a:endParaRPr b="0" lang="en-US" sz="1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39280" y="47592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Efekt Doppler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zjawisko polegające na zmianie częstotliwości fali odbieranej przez obserwatora w sytuacji gdy źródło fal i obserwator poruszają się względem sieb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bliżona zależność opisująca częstotliwość odbieranego przez obserwatora sygnału ma postać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 = f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v/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dzie: f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– częstotliwość sygnału wysyłanego przez źródło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v - względna prędkość źródła i obserwatora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 – prędkość fali w ośrod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stępny slajd zawiera aplet ilustrujący efekt (zjawisko) Dopplera, dla sytuacji, w której osoba stojąca obok jezdni słyszy sygnał poruszającej się karetki. Proporcje długości odbieranej fali nie są zachowa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9280" y="189000"/>
            <a:ext cx="82090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pplet;</a:t>
            </a:r>
            <a:r>
              <a:rPr b="0" lang="pl-PL" sz="1800" spc="-1" strike="noStrike">
                <a:solidFill>
                  <a:srgbClr val="800080"/>
                </a:solidFill>
                <a:latin typeface="Arial"/>
              </a:rPr>
              <a:t> www.walter-fendt.de/ph14pl/dopplereff_pl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560" y="404280"/>
            <a:ext cx="8713800" cy="499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udowa i zasada działania ultrasonografu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Opracowano na podstawi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Inżynieria Biomedyczna- Księga współczesnej wiedzy tajemnej w wersji przystępnej i przyjemnej.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Pod redakcją naukową Ryszarda Tadeusiewicz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iagnostyka ultrasonograficzna (USG) opiera się na wysyłaniu i rejestracji odbitych fal dźwiękowych, które przenikają przez tkanki i odbijają się na granicach struktur wykazujących różną gęstość ρ i różną prędkość propagacji fal dźwiękowych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Krótki impuls ultradźwiękowy wysłany przez głowicę rozprzestrzenia się w tkance charakteryzowanej przez gęstość ρ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i prędkość propagacji fal dźwiękowych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a następnie dociera do narządu o tkance charakteryzowanej przez gęstość ρ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i prędkość propagacji fal dźwiękowych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Na granicy pomiędzy tymi strukturami część fali ultradźwiękowej zostaje odbita i wraca do głowicy ultradźwiękowej dając ech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częściej strukturami, od których odbijają się fale ultradźwiękowe są powierzchnie narządów wewnętrznych, których kontury dzięki temu można wykryć i zlokalizować, chociaż zdarzają się także odbicia od niczym szczególnym nie wyróżniających się elementów wewnątrz badanego narządu, co prowadzi do pojawiania się zakłóceń i zniekształceń na obrazi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39280" y="404280"/>
            <a:ext cx="8280360" cy="230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UDOWA APARATU US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parat USG składa się z układów elektronicznych wytwarzających impulsy elektryczne dla głowicy wysyłającej fale ultradźwiękowe, głowicy nadawczo-odbiorczej, którą przykłada się do ciała pacjenta, wzmacniaczy pozwalających zarejestrować słabe sygnały echa USG oraz bloku wizualizacji, pokazującego na ekranie wynik sondowania ultradźwiękami ciała pacjent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Obraz 4" descr=""/>
          <p:cNvPicPr/>
          <p:nvPr/>
        </p:nvPicPr>
        <p:blipFill>
          <a:blip r:embed="rId1"/>
          <a:stretch/>
        </p:blipFill>
        <p:spPr>
          <a:xfrm>
            <a:off x="2195640" y="2708280"/>
            <a:ext cx="39607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9280" y="476280"/>
            <a:ext cx="82090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ale ultradźwiękowe odbijają się od powierzchni rozgraniczających części ciała cechujące się różną prędkością rozchodzenia się fal ultradźwiękowyc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dyby pomiędzy głowicą ultradźwiękową a skórą pacjenta była warstwa powietrza to 90% energii fali odbije się i nie wniknie do ciała. Dlatego podczas badania bardzo ważny jest kontakt głowicy z ciałem pacjenta, co wymaga stosowania specjalnego żelu lub torb z tworzywa sztucznego wypełnionych wodą. W niektórych przypadkach stosuje się tzw. badanie immersyjne, które to przeprowadzane jest w kąpieli wodnej. Wszystkie te ośrodki mają na celu wyeliminowanie z przestrzeni pomiędzy głowicą a ciałem pacjenta niewielkich nawet pęcherzyków powietrza, które mogą zakłócić odczy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ternatywną metodą badania jest ultrasonografia śródoperacyjna, która wykonywana jest podczas zabiegów operacyjnych. Polega na przesuwaniu sterylnej głowicy bezpośrednio po badanym narządzie i jest przydatna do poszukiwania kamieni w drogach żółciowych i nerkach oraz przy ocenie procesu nowotworoweg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1:40:34Z</dcterms:created>
  <dc:creator>Ministerstwo Edukacji Narodowej i Sportu</dc:creator>
  <dc:description/>
  <dc:language>en-US</dc:language>
  <cp:lastModifiedBy>Jacek</cp:lastModifiedBy>
  <dcterms:modified xsi:type="dcterms:W3CDTF">2013-08-27T10:51:14Z</dcterms:modified>
  <cp:revision>80</cp:revision>
  <dc:subject/>
  <dc:title>KORPUSKULARNO-FALOWA NATURA ŚWIATŁA</dc:title>
</cp:coreProperties>
</file>