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816FA-7A5E-4E2B-A8B7-EDA1AB422EBB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96C05-D518-4D3F-B46B-211FAA737B7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1CCF3-BC9B-4706-98BF-5625491DCAB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7E1C-5FA0-41FC-996D-5FFAE888D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1C54-3E76-42E9-A6E6-AB23A59EF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863A-F90C-4B7D-9DC3-A74762169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6A11-775D-4451-AE59-C1CBBB642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06355-A15B-4B1D-A40F-54030BEDC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46F47-B015-4D91-B604-195053415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300A4-7140-47C4-AAE9-1C85B616B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70E97-F647-468D-93DD-B423EF93D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1DCA3-761F-46DD-B48F-FDF141869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5FEFF-CE3E-4392-B56A-654157770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B7CFC-6D48-40BA-8EE9-E52E1993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5854-D014-42CE-A6FF-FA5C02FB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4A92C-8398-4870-9A31-0B89EE17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F6EEC-ACB2-471F-AAD3-7C35FF46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97664-7887-41FF-A42E-FE19861CD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38951-639F-41EE-A36B-5E50EAF5F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70E5C-64EC-49DF-9D44-21C99EC6B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BD8A-330B-44E2-A33F-F2F6D7FDC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5C63-ACAA-40E0-839A-9BDBF073B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93E8-3E1D-4626-A7F3-EFC2508C9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1921-C42A-48A4-8D48-C0F1A639C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4C8A-135F-4F28-9E6C-4F2E2F6F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53E1-A1CA-4492-AE12-B828D2E7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5B63-0C01-437A-9343-61060E6F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353E8-D248-4077-9EAA-1DBF382698F5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247F4-FF58-4091-B214-E722A8F5FC22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58920" y="2204640"/>
            <a:ext cx="84261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000" spc="-1" strike="noStrike">
                <a:solidFill>
                  <a:srgbClr val="000000"/>
                </a:solidFill>
                <a:latin typeface="Calibri"/>
              </a:rPr>
              <a:t>Nowoczesne szczepionki</a:t>
            </a:r>
            <a:br>
              <a:rPr sz="4900"/>
            </a:br>
            <a:r>
              <a:rPr b="1" lang="pl-PL" sz="3900" spc="-1" strike="noStrike">
                <a:solidFill>
                  <a:srgbClr val="000000"/>
                </a:solidFill>
                <a:latin typeface="Calibri"/>
              </a:rPr>
              <a:t>materiał przygotowujący do wycieczki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3716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odtytuł 2"/>
          <p:cNvSpPr/>
          <p:nvPr/>
        </p:nvSpPr>
        <p:spPr>
          <a:xfrm>
            <a:off x="1371600" y="38368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dr Elżbieta Ćwio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ole tekstowe 2"/>
          <p:cNvSpPr/>
          <p:nvPr/>
        </p:nvSpPr>
        <p:spPr>
          <a:xfrm>
            <a:off x="468360" y="476280"/>
            <a:ext cx="8207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horoby zakaźne zawsze towarzyszyły człowiekowi, wzbudzając uzasadnione obawy, strach a nawet panikę. Wystarczy wspomnieć opisywane w przekazach historycznych obrazy epidemii </a:t>
            </a:r>
            <a:r>
              <a:rPr b="0" lang="pl-PL" sz="3200" spc="-1" strike="noStrike">
                <a:solidFill>
                  <a:srgbClr val="c00000"/>
                </a:solidFill>
                <a:latin typeface="Calibri"/>
              </a:rPr>
              <a:t>ospy prawdziwej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, czy dżum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ttps://encrypted-tbn0.gstatic.com/images?q=tbn:ANd9GcR4619OZpP_dl1MlzBDInttxeXZeZlTwV8E6S6pZesW_kC_wFK3BQ"/>
          <p:cNvPicPr/>
          <p:nvPr/>
        </p:nvPicPr>
        <p:blipFill>
          <a:blip r:embed="rId1"/>
          <a:stretch/>
        </p:blipFill>
        <p:spPr>
          <a:xfrm>
            <a:off x="611280" y="3111480"/>
            <a:ext cx="3816360" cy="3056040"/>
          </a:xfrm>
          <a:prstGeom prst="rect">
            <a:avLst/>
          </a:prstGeom>
          <a:ln w="0">
            <a:noFill/>
          </a:ln>
        </p:spPr>
      </p:pic>
      <p:sp>
        <p:nvSpPr>
          <p:cNvPr id="115" name="Prostokąt 4"/>
          <p:cNvSpPr/>
          <p:nvPr/>
        </p:nvSpPr>
        <p:spPr>
          <a:xfrm>
            <a:off x="539640" y="6218280"/>
            <a:ext cx="727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http://img.znoticias.com/tops10/2011/10/08/las-10-peores-epidemias-de3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ole tekstowe 5"/>
          <p:cNvSpPr/>
          <p:nvPr/>
        </p:nvSpPr>
        <p:spPr>
          <a:xfrm>
            <a:off x="4427640" y="3141720"/>
            <a:ext cx="44654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c00000"/>
                </a:solidFill>
                <a:latin typeface="Calibri"/>
              </a:rPr>
              <a:t>ang. smallpox </a:t>
            </a:r>
            <a:br>
              <a:rPr sz="3000"/>
            </a:br>
            <a:r>
              <a:rPr b="0" lang="pl-PL" sz="3000" spc="-1" strike="noStrike">
                <a:solidFill>
                  <a:srgbClr val="c00000"/>
                </a:solidFill>
                <a:latin typeface="Calibri"/>
              </a:rPr>
              <a:t>łac. </a:t>
            </a:r>
            <a:r>
              <a:rPr b="0" i="1" lang="pl-PL" sz="3000" spc="-1" strike="noStrike">
                <a:solidFill>
                  <a:srgbClr val="c00000"/>
                </a:solidFill>
                <a:latin typeface="Calibri"/>
              </a:rPr>
              <a:t>Variola vera</a:t>
            </a:r>
            <a:br>
              <a:rPr sz="3000"/>
            </a:br>
            <a:r>
              <a:rPr b="0" lang="pl-PL" sz="3000" spc="-1" strike="noStrike">
                <a:solidFill>
                  <a:srgbClr val="c00000"/>
                </a:solidFill>
                <a:latin typeface="Calibri"/>
              </a:rPr>
              <a:t>czyli ospa prawdziw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ole tekstowe 1"/>
          <p:cNvSpPr/>
          <p:nvPr/>
        </p:nvSpPr>
        <p:spPr>
          <a:xfrm>
            <a:off x="468360" y="1052640"/>
            <a:ext cx="8496360" cy="45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Gdy choroby zakaźne zbierały śmiercionośne żniwo, ludzie obserwowali także, że osoby, które zachorowały, zarażając się na przykład podczas dojenia krów na </a:t>
            </a:r>
            <a:r>
              <a:rPr b="0" lang="pl-PL" sz="3200" spc="-1" strike="noStrike">
                <a:solidFill>
                  <a:srgbClr val="c00000"/>
                </a:solidFill>
                <a:latin typeface="Calibri"/>
              </a:rPr>
              <a:t>ospę krowią (</a:t>
            </a:r>
            <a:r>
              <a:rPr b="0" i="1" lang="pl-PL" sz="3200" spc="-1" strike="noStrike">
                <a:solidFill>
                  <a:srgbClr val="c00000"/>
                </a:solidFill>
                <a:latin typeface="Calibri"/>
              </a:rPr>
              <a:t>Varola vaccina</a:t>
            </a:r>
            <a:r>
              <a:rPr b="0" lang="pl-PL" sz="3200" spc="-1" strike="noStrike">
                <a:solidFill>
                  <a:srgbClr val="c00000"/>
                </a:solidFill>
                <a:latin typeface="Calibri"/>
              </a:rPr>
              <a:t>),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ie chorują na ospę prawdziwą (</a:t>
            </a: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Varola vera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1774 roku, farmer Benjamin Jesty przeniósł na uprzednio celowo zadrapaną skórę swojej żony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 synów zawartość pęcherzy po ospie z wymion chorych krów, wykonując pierwsze szczepieni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ole tekstowe 1"/>
          <p:cNvSpPr/>
          <p:nvPr/>
        </p:nvSpPr>
        <p:spPr>
          <a:xfrm>
            <a:off x="468360" y="620640"/>
            <a:ext cx="8280360" cy="51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bieg ten powiódł się i bliscy Benjamina Jesty nie zachorowali. Ten innowacyjny czyn farmera został upamiętniony przez namalowanie portretu B. Jesty, który został umieszczony w zaszczytnym miejscu brytyjskiego urzęd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tle obrazu, w lewym dolnym rogu, niewielki wizerunek krowy (łac</a:t>
            </a: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i="1" lang="pl-PL" sz="3200" spc="-1" strike="noStrike">
                <a:solidFill>
                  <a:srgbClr val="c00000"/>
                </a:solidFill>
                <a:latin typeface="Calibri"/>
              </a:rPr>
              <a:t>vaccina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) jest aluzją do tego, skąd został pobrany materiał do zabieg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d tej pory używane jest słowo </a:t>
            </a:r>
            <a:r>
              <a:rPr b="0" lang="pl-PL" sz="3200" spc="-1" strike="noStrike">
                <a:solidFill>
                  <a:srgbClr val="c00000"/>
                </a:solidFill>
                <a:latin typeface="Calibri"/>
              </a:rPr>
              <a:t>vaccine (szczepionka)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ole tekstowe 1"/>
          <p:cNvSpPr/>
          <p:nvPr/>
        </p:nvSpPr>
        <p:spPr>
          <a:xfrm>
            <a:off x="468360" y="1492200"/>
            <a:ext cx="7848720" cy="26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c00000"/>
                </a:solidFill>
                <a:latin typeface="Calibri"/>
              </a:rPr>
              <a:t>Wakcynologia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– to dziedzina medycyny, nauka zajmująca się szczepieniami ochronnym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d końca XVIII wieku wiedza o chorobach zakaźnych i szczepionkach poszerza się bardzo dynamiczni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Obraz 8" descr="Rysnuek03_T32_Benjamin_Jesty_Portrait.jpg"/>
          <p:cNvPicPr/>
          <p:nvPr/>
        </p:nvPicPr>
        <p:blipFill>
          <a:blip r:embed="rId1"/>
          <a:stretch/>
        </p:blipFill>
        <p:spPr>
          <a:xfrm>
            <a:off x="468360" y="549360"/>
            <a:ext cx="4390920" cy="5724360"/>
          </a:xfrm>
          <a:prstGeom prst="rect">
            <a:avLst/>
          </a:prstGeom>
          <a:ln w="0">
            <a:noFill/>
          </a:ln>
        </p:spPr>
      </p:pic>
      <p:sp>
        <p:nvSpPr>
          <p:cNvPr id="121" name="Elipsa 3"/>
          <p:cNvSpPr/>
          <p:nvPr/>
        </p:nvSpPr>
        <p:spPr>
          <a:xfrm>
            <a:off x="250920" y="4869000"/>
            <a:ext cx="865080" cy="792000"/>
          </a:xfrm>
          <a:prstGeom prst="ellipse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Kształt 5"/>
          <p:cNvCxnSpPr/>
          <p:nvPr/>
        </p:nvCxnSpPr>
        <p:spPr>
          <a:xfrm flipH="1">
            <a:off x="1115280" y="5300280"/>
            <a:ext cx="4033080" cy="1080"/>
          </a:xfrm>
          <a:prstGeom prst="straightConnector1">
            <a:avLst/>
          </a:prstGeom>
          <a:ln w="28440">
            <a:solidFill>
              <a:srgbClr val="ffc000"/>
            </a:solidFill>
            <a:miter/>
            <a:tailEnd len="med" type="arrow" w="med"/>
          </a:ln>
        </p:spPr>
      </p:cxnSp>
      <p:sp>
        <p:nvSpPr>
          <p:cNvPr id="123" name="pole tekstowe 4"/>
          <p:cNvSpPr/>
          <p:nvPr/>
        </p:nvSpPr>
        <p:spPr>
          <a:xfrm>
            <a:off x="5148360" y="4653000"/>
            <a:ext cx="311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iewielki wizerunek krowy, </a:t>
            </a:r>
            <a:r>
              <a:rPr b="0" lang="pl-PL" sz="3200" spc="-1" strike="noStrike">
                <a:solidFill>
                  <a:srgbClr val="c00000"/>
                </a:solidFill>
                <a:latin typeface="Calibri"/>
              </a:rPr>
              <a:t>(</a:t>
            </a:r>
            <a:r>
              <a:rPr b="0" i="1" lang="pl-PL" sz="3200" spc="-1" strike="noStrike">
                <a:solidFill>
                  <a:srgbClr val="c00000"/>
                </a:solidFill>
                <a:latin typeface="Calibri"/>
              </a:rPr>
              <a:t>Vaccin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ole tekstowe 7"/>
          <p:cNvSpPr/>
          <p:nvPr/>
        </p:nvSpPr>
        <p:spPr>
          <a:xfrm>
            <a:off x="5148360" y="442800"/>
            <a:ext cx="3384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rtret Benjamina Jesty, farmera, który po raz pierwszy zaszczepił swoich bliski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ole tekstowe 9"/>
          <p:cNvSpPr/>
          <p:nvPr/>
        </p:nvSpPr>
        <p:spPr>
          <a:xfrm>
            <a:off x="5148360" y="3284640"/>
            <a:ext cx="345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http://upload.wikimedia.org/wikipedia/commons/a/aa/Benjamin_Jesty_Portrait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braz z 1802 roku, The Cow Pox, wyraźne nawiązanie do szczepień materiałem pobranym od zwierzą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http://www.wellcomecollection.org/idoccache/11ec2e5b-b746-4cd7-9457-cf72f15bdce8_1_0.jpg"/>
          <p:cNvPicPr/>
          <p:nvPr/>
        </p:nvPicPr>
        <p:blipFill>
          <a:blip r:embed="rId1"/>
          <a:stretch/>
        </p:blipFill>
        <p:spPr>
          <a:xfrm>
            <a:off x="1554120" y="1841400"/>
            <a:ext cx="6035760" cy="3994200"/>
          </a:xfrm>
          <a:prstGeom prst="rect">
            <a:avLst/>
          </a:prstGeom>
          <a:ln w="0">
            <a:noFill/>
          </a:ln>
        </p:spPr>
      </p:pic>
      <p:sp>
        <p:nvSpPr>
          <p:cNvPr id="128" name="Prostokąt 3"/>
          <p:cNvSpPr/>
          <p:nvPr/>
        </p:nvSpPr>
        <p:spPr>
          <a:xfrm>
            <a:off x="503280" y="6021360"/>
            <a:ext cx="864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http://www.wellcomecollection.org/idoccache/11ec2e5b-b746-4cd7-9457-cf72f15bdce8_1_0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Elipsa 4"/>
          <p:cNvSpPr/>
          <p:nvPr/>
        </p:nvSpPr>
        <p:spPr>
          <a:xfrm>
            <a:off x="6156360" y="3357720"/>
            <a:ext cx="863640" cy="86328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0" name="Łącznik łamany 6"/>
          <p:cNvCxnSpPr/>
          <p:nvPr/>
        </p:nvCxnSpPr>
        <p:spPr>
          <a:xfrm flipH="1" rot="16200000">
            <a:off x="5218560" y="1989000"/>
            <a:ext cx="1874160" cy="864360"/>
          </a:xfrm>
          <a:prstGeom prst="bentConnector3">
            <a:avLst>
              <a:gd name="adj1" fmla="val -384"/>
            </a:avLst>
          </a:prstGeom>
          <a:ln w="38160">
            <a:solidFill>
              <a:srgbClr val="ffff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http://www.wellcomecollection.org/idoccache/1c8d334e-7b0c-429a-814e-fabdbf40e4d5_2_0.jpg"/>
          <p:cNvPicPr/>
          <p:nvPr/>
        </p:nvPicPr>
        <p:blipFill>
          <a:blip r:embed="rId1"/>
          <a:stretch/>
        </p:blipFill>
        <p:spPr>
          <a:xfrm>
            <a:off x="1109520" y="2060640"/>
            <a:ext cx="6924960" cy="3620880"/>
          </a:xfrm>
          <a:prstGeom prst="rect">
            <a:avLst/>
          </a:prstGeom>
          <a:ln w="0">
            <a:noFill/>
          </a:ln>
        </p:spPr>
      </p:pic>
      <p:sp>
        <p:nvSpPr>
          <p:cNvPr id="132" name="Prostokąt 2"/>
          <p:cNvSpPr/>
          <p:nvPr/>
        </p:nvSpPr>
        <p:spPr>
          <a:xfrm>
            <a:off x="468360" y="5805360"/>
            <a:ext cx="813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http://www.wellcomecollection.org/idoccache/1c8d334e-7b0c-429a-814e-fabdbf40e4d5_2_0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ole tekstowe 3"/>
          <p:cNvSpPr/>
          <p:nvPr/>
        </p:nvSpPr>
        <p:spPr>
          <a:xfrm>
            <a:off x="611280" y="404640"/>
            <a:ext cx="792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ngielski lekarz, Edward Jenner (1796) wykonuje szczepienia, 20 lat po pierwszych próbach Benjamina Jes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http://www.wellcomecollection.org/idoccache/14efcdcc-f3f7-437b-b22b-e70b88b0b674_1_0.jpg"/>
          <p:cNvPicPr/>
          <p:nvPr/>
        </p:nvPicPr>
        <p:blipFill>
          <a:blip r:embed="rId1"/>
          <a:stretch/>
        </p:blipFill>
        <p:spPr>
          <a:xfrm>
            <a:off x="1297080" y="1125360"/>
            <a:ext cx="6549840" cy="4824720"/>
          </a:xfrm>
          <a:prstGeom prst="rect">
            <a:avLst/>
          </a:prstGeom>
          <a:ln w="0">
            <a:noFill/>
          </a:ln>
        </p:spPr>
      </p:pic>
      <p:sp>
        <p:nvSpPr>
          <p:cNvPr id="135" name="Prostokąt 2"/>
          <p:cNvSpPr/>
          <p:nvPr/>
        </p:nvSpPr>
        <p:spPr>
          <a:xfrm>
            <a:off x="395280" y="6073920"/>
            <a:ext cx="84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http://www.wellcomecollection.org/idoccache/14efcdcc-f3f7-437b-b22b-e70b88b0b674_1_0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ole tekstowe 3"/>
          <p:cNvSpPr/>
          <p:nvPr/>
        </p:nvSpPr>
        <p:spPr>
          <a:xfrm>
            <a:off x="1634760" y="333360"/>
            <a:ext cx="587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Uznanie Izby Gmin dla Jenne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ole tekstowe 3"/>
          <p:cNvSpPr/>
          <p:nvPr/>
        </p:nvSpPr>
        <p:spPr>
          <a:xfrm>
            <a:off x="468360" y="260280"/>
            <a:ext cx="8207280" cy="62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kolejnych latach, badania nad szczepionkami są prowadzone niezależnie w wielu krajach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Między innymi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e Francji Ludwik Pasteur opracowuje szczepionki dla zwierząt (przeciw wściekliźnie oraz różycy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obert Koch odkrywa prątki wywołujące gruźlicę a poszukiwanie szczepionki na suchoty trwa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udolf Weigl, polski profesor opracowuje skuteczne szczepionki przeciw tyfusowi plamistemu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ole tekstowe 1"/>
          <p:cNvSpPr/>
          <p:nvPr/>
        </p:nvSpPr>
        <p:spPr>
          <a:xfrm>
            <a:off x="468360" y="363600"/>
            <a:ext cx="8351640" cy="46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zczepionki wraz z upływem lat badań zmieniają się, są udoskonalane. </a:t>
            </a:r>
            <a:r>
              <a:rPr b="1" lang="pl-PL" sz="3200" spc="-1" strike="noStrike">
                <a:solidFill>
                  <a:srgbClr val="77933c"/>
                </a:solidFill>
                <a:latin typeface="Calibri"/>
              </a:rPr>
              <a:t>Z czego składają się szczepionki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wierają czynnik chorobotwórczy, zabity (bakterie) np. cholera, bądź osłabion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Ludwik Pasteur jako pierwszy – zastosował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szczepionce osłabione bakterie wąglika,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d tego czasu mówimy o czynnikach </a:t>
            </a:r>
            <a:r>
              <a:rPr b="0" lang="pl-PL" sz="3200" spc="-1" strike="noStrike">
                <a:solidFill>
                  <a:srgbClr val="c00000"/>
                </a:solidFill>
                <a:latin typeface="Calibri"/>
              </a:rPr>
              <a:t>atenuowanych, czyli osłabiony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84744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by omówić nowoczesne szczepionki, konieczne jest odniesienie się do podstaw immunologii, do najważniejszych informacji dotyczących układu odpornościowego (czyli limfatycznego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c00000"/>
                </a:solidFill>
                <a:latin typeface="Calibri"/>
              </a:rPr>
              <a:t>Układ odpornościowy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zwala kręgowcom odróżniać swoje komórki od „intruzów” i dzięki niemu możliwe jest zwalczanie: wirusów, bakterii, protistów, i innych „obcych”, naruszających „terytorium” organizmu, czyli możliwa jest </a:t>
            </a:r>
            <a:r>
              <a:rPr b="0" lang="pl-PL" sz="3200" spc="-1" strike="noStrike">
                <a:solidFill>
                  <a:srgbClr val="c00000"/>
                </a:solidFill>
                <a:latin typeface="Calibri"/>
              </a:rPr>
              <a:t>odpowiedź immunologicz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tenuacja (osłabianie, tłumienie od ang. „attenuation”) – odbywa się z udziałem czynników fizycznych, np. temperatury, chemicznych, np. formaldehydu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olejna grupa szczepionek to szczepionki zawierające </a:t>
            </a:r>
            <a:r>
              <a:rPr b="0" lang="pl-PL" sz="3200" spc="-1" strike="noStrike">
                <a:solidFill>
                  <a:srgbClr val="c00000"/>
                </a:solidFill>
                <a:latin typeface="Calibri"/>
              </a:rPr>
              <a:t>wyizolowane części/fragmenty bakterii, czy unieczynnione toksyny (anatoksyny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oksoid błoniczy, toksoid tężcowy (anatoksyny) – to unieczynnione toksyny, które po podaniu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szczepionce wyzwalają odporność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zmocnienie immunogenności szczepionki uzyskuje się poprzez zastosowanie substancji – tak zwanych </a:t>
            </a:r>
            <a:r>
              <a:rPr b="0" lang="pl-PL" sz="3200" spc="-1" strike="noStrike">
                <a:solidFill>
                  <a:srgbClr val="c00000"/>
                </a:solidFill>
                <a:latin typeface="Calibri"/>
              </a:rPr>
              <a:t>adiuwantów (</a:t>
            </a:r>
            <a:r>
              <a:rPr b="0" i="1" lang="pl-PL" sz="3200" spc="-1" strike="noStrike">
                <a:solidFill>
                  <a:srgbClr val="c00000"/>
                </a:solidFill>
                <a:latin typeface="Calibri"/>
              </a:rPr>
              <a:t>adjuvare </a:t>
            </a:r>
            <a:r>
              <a:rPr b="0" lang="pl-PL" sz="3200" spc="-1" strike="noStrike">
                <a:solidFill>
                  <a:srgbClr val="c00000"/>
                </a:solidFill>
                <a:latin typeface="Calibri"/>
              </a:rPr>
              <a:t>= wzmacniać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ako adiuwanty stosowane były np. agar, lecytyna, tapioka, chlorek wapnia, ałun potasow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ole tekstowe 1"/>
          <p:cNvSpPr/>
          <p:nvPr/>
        </p:nvSpPr>
        <p:spPr>
          <a:xfrm>
            <a:off x="468360" y="476280"/>
            <a:ext cx="80643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olejnego podziału szczepionek można dokonać biorąc pod uwagę swoistość działani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c00000"/>
                </a:solidFill>
                <a:latin typeface="Calibri"/>
              </a:rPr>
              <a:t>szczepionki monowalentne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– czyli uodparniające przeciw jednej chorobie, gdyż zawierają jednego rodzaju antygeny (albo zabite – np. komórki bakteryjne, wyłącznie jednego szczepu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c00000"/>
                </a:solidFill>
                <a:latin typeface="Calibri"/>
              </a:rPr>
              <a:t>Szczepionki poliwalentne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(skojarzone) – uodparniają wobec kilku czynnikom zakaźnym, zawierają kilka antygenów lub, np. różne szczepy drobnoustrojó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ole tekstowe 1"/>
          <p:cNvSpPr/>
          <p:nvPr/>
        </p:nvSpPr>
        <p:spPr>
          <a:xfrm>
            <a:off x="468360" y="1268280"/>
            <a:ext cx="8280360" cy="36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zczepionki skojarzone, według dostępnego piśmiennictwa, są tańsze, skuteczne, łatwiej się je przechowuje (chodzi np. o miejsce do przechowywania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la oczekiwanego efektu, czyli powstania odporności wobec kilku czynników zakaźnych, potrzebne jest mniej iniekcj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ole tekstowe 1"/>
          <p:cNvSpPr/>
          <p:nvPr/>
        </p:nvSpPr>
        <p:spPr>
          <a:xfrm>
            <a:off x="468360" y="907920"/>
            <a:ext cx="8496360" cy="40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Polsce zgodnie z przyjętą ustawą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 zapobieganiu i zwalczaniu zakażeń i chorób zakaźnych u ludzi (2008), określony jest, miedzy innymi, </a:t>
            </a:r>
            <a:r>
              <a:rPr b="0" lang="pl-PL" sz="3200" spc="-1" strike="noStrike">
                <a:solidFill>
                  <a:srgbClr val="4f6228"/>
                </a:solidFill>
                <a:latin typeface="Calibri"/>
              </a:rPr>
              <a:t>wykaz chorób zakaźnych, objętych obowiązkiem szczepień ochronny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Główny Inspektor Sanitarny ogłasza w formie komunikatu w dzienniku urzędowym </a:t>
            </a:r>
            <a:r>
              <a:rPr b="0" lang="pl-PL" sz="3200" spc="-1" strike="noStrike">
                <a:solidFill>
                  <a:srgbClr val="4f6228"/>
                </a:solidFill>
                <a:latin typeface="Calibri"/>
              </a:rPr>
              <a:t>Program Szczepień Ochronnych na dany ro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1332000" y="333360"/>
            <a:ext cx="6473880" cy="5694480"/>
          </a:xfrm>
          <a:prstGeom prst="rect">
            <a:avLst/>
          </a:prstGeom>
          <a:ln w="0">
            <a:noFill/>
          </a:ln>
        </p:spPr>
      </p:pic>
      <p:sp>
        <p:nvSpPr>
          <p:cNvPr id="149" name="Prostokąt 2"/>
          <p:cNvSpPr/>
          <p:nvPr/>
        </p:nvSpPr>
        <p:spPr>
          <a:xfrm>
            <a:off x="250920" y="6041880"/>
            <a:ext cx="864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http://dziennikmz.mz.gov.pl/DUM_MZ/2012/78/akt.pd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Elipsa 3"/>
          <p:cNvSpPr/>
          <p:nvPr/>
        </p:nvSpPr>
        <p:spPr>
          <a:xfrm>
            <a:off x="5508720" y="3284640"/>
            <a:ext cx="647640" cy="64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http://g.infor.pl/obrazki/u04/2012/041/u04.2012.041.000.0078.001.jpg"/>
          <p:cNvPicPr/>
          <p:nvPr/>
        </p:nvPicPr>
        <p:blipFill>
          <a:blip r:embed="rId1"/>
          <a:stretch/>
        </p:blipFill>
        <p:spPr>
          <a:xfrm>
            <a:off x="250920" y="2133720"/>
            <a:ext cx="8577000" cy="3240000"/>
          </a:xfrm>
          <a:prstGeom prst="rect">
            <a:avLst/>
          </a:prstGeom>
          <a:ln w="0">
            <a:noFill/>
          </a:ln>
        </p:spPr>
      </p:pic>
      <p:sp>
        <p:nvSpPr>
          <p:cNvPr id="152" name="Prostokąt 2"/>
          <p:cNvSpPr/>
          <p:nvPr/>
        </p:nvSpPr>
        <p:spPr>
          <a:xfrm>
            <a:off x="250920" y="6000840"/>
            <a:ext cx="799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http://g.infor.pl/obrazki/u04/2012/041/u04.2012.041.000.0078.001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ole tekstowe 3"/>
          <p:cNvSpPr/>
          <p:nvPr/>
        </p:nvSpPr>
        <p:spPr>
          <a:xfrm>
            <a:off x="684360" y="476280"/>
            <a:ext cx="77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Program sczepień ochronnych na</a:t>
            </a:r>
            <a:br>
              <a:rPr sz="3600"/>
            </a:b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2013 rok, szczepienia obowiązkow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ole tekstowe 1"/>
          <p:cNvSpPr/>
          <p:nvPr/>
        </p:nvSpPr>
        <p:spPr>
          <a:xfrm>
            <a:off x="468360" y="907920"/>
            <a:ext cx="8136000" cy="45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rogram Szczepień Obowiązkowych jest bardzo szeroki, intensywny zwłaszcza w pierwszych dwóch latach życ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Między innymi dlatego szczepionki skojarzone są polecane przez lekarzy pediatrów, gdyż według nich, pozwalają  na realizację tak napiętego kalendarza szczepień, przy mniejszej ilości iniekcji, co także minimalizuje stres dzieck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ole tekstowe 1"/>
          <p:cNvSpPr/>
          <p:nvPr/>
        </p:nvSpPr>
        <p:spPr>
          <a:xfrm>
            <a:off x="468360" y="1413000"/>
            <a:ext cx="8207280" cy="34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rzykładem takiej </a:t>
            </a:r>
            <a:r>
              <a:rPr b="0" lang="pl-PL" sz="3200" spc="-1" strike="noStrike">
                <a:solidFill>
                  <a:srgbClr val="c00000"/>
                </a:solidFill>
                <a:latin typeface="Calibri"/>
              </a:rPr>
              <a:t>skojarzonej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szczepionki jest </a:t>
            </a:r>
            <a:r>
              <a:rPr b="0" lang="pl-PL" sz="3200" spc="-1" strike="noStrike">
                <a:solidFill>
                  <a:srgbClr val="c00000"/>
                </a:solidFill>
                <a:latin typeface="Calibri"/>
              </a:rPr>
              <a:t>szczepionka błoniczo-tężcowo-krztuścowa (DTP)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est podawana w trzech dawkach,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odstępach 6 – 8 tygodni, w szczepieniu podstawowym w pierwszym roku życi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(oznaczenie w kalendarzu szczepień, na poprzednim slajdzie, kolor zielony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c00000"/>
                </a:solidFill>
                <a:latin typeface="Calibri"/>
              </a:rPr>
              <a:t>nieswoiste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, niespecyficzne, określane też jako wrodzone, rozwinięte w filogenezie, czyli w trakcie rozwoju rodowego kręgowców – wcześniej ni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c00000"/>
                </a:solidFill>
                <a:latin typeface="Calibri"/>
              </a:rPr>
              <a:t>mechanizmy swoiste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, dla rozwoju których niezbędny jest pewien czas. Mechanizmy odporności swoistej kształtują się w trakcie życia osobnik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Mechanizmy odpornoś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Z czego składa się nowoczesna szczepionka – na przykładzie DT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ole tekstowe 5"/>
          <p:cNvSpPr/>
          <p:nvPr/>
        </p:nvSpPr>
        <p:spPr>
          <a:xfrm>
            <a:off x="448920" y="1773360"/>
            <a:ext cx="597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a </a:t>
            </a:r>
            <a:r>
              <a:rPr b="0" lang="pl-PL" sz="3200" spc="-1" strike="noStrike">
                <a:solidFill>
                  <a:srgbClr val="c00000"/>
                </a:solidFill>
                <a:latin typeface="Calibri"/>
              </a:rPr>
              <a:t>skojarzona szczepionka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wier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oksoid błoniczy(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oksoid tężcowy(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Nawias klamrowy zamykający 6"/>
          <p:cNvSpPr/>
          <p:nvPr/>
        </p:nvSpPr>
        <p:spPr>
          <a:xfrm>
            <a:off x="3995640" y="2349360"/>
            <a:ext cx="289080" cy="1008360"/>
          </a:xfrm>
          <a:custGeom>
            <a:avLst/>
            <a:gdLst>
              <a:gd name="textAreaLeft" fmla="*/ 0 w 289080"/>
              <a:gd name="textAreaRight" fmla="*/ 104400 w 289080"/>
              <a:gd name="textAreaTop" fmla="*/ 7200 h 1008360"/>
              <a:gd name="textAreaBottom" fmla="*/ 100116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58"/>
                  <a:pt x="10800" y="516"/>
                </a:cubicBezTo>
                <a:lnTo>
                  <a:pt x="10800" y="10284"/>
                </a:lnTo>
                <a:cubicBezTo>
                  <a:pt x="10800" y="10542"/>
                  <a:pt x="16200" y="10800"/>
                  <a:pt x="21600" y="10800"/>
                </a:cubicBezTo>
                <a:cubicBezTo>
                  <a:pt x="16200" y="10800"/>
                  <a:pt x="10800" y="11058"/>
                  <a:pt x="10800" y="11316"/>
                </a:cubicBezTo>
                <a:lnTo>
                  <a:pt x="10800" y="21084"/>
                </a:lnTo>
                <a:cubicBezTo>
                  <a:pt x="10800" y="21342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ole tekstowe 7"/>
          <p:cNvSpPr/>
          <p:nvPr/>
        </p:nvSpPr>
        <p:spPr>
          <a:xfrm>
            <a:off x="4500720" y="2349360"/>
            <a:ext cx="43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nieczynnione formaldehydem toksyny z hodowli maczugowców błonicy i laseczek tęż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ole tekstowe 8"/>
          <p:cNvSpPr/>
          <p:nvPr/>
        </p:nvSpPr>
        <p:spPr>
          <a:xfrm>
            <a:off x="482400" y="3716280"/>
            <a:ext cx="295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ałeczki krztuś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Nawias klamrowy zamykający 9"/>
          <p:cNvSpPr/>
          <p:nvPr/>
        </p:nvSpPr>
        <p:spPr>
          <a:xfrm>
            <a:off x="3995640" y="3860640"/>
            <a:ext cx="289080" cy="432000"/>
          </a:xfrm>
          <a:custGeom>
            <a:avLst/>
            <a:gdLst>
              <a:gd name="textAreaLeft" fmla="*/ 0 w 289080"/>
              <a:gd name="textAreaRight" fmla="*/ 104400 w 289080"/>
              <a:gd name="textAreaTop" fmla="*/ 7200 h 432000"/>
              <a:gd name="textAreaBottom" fmla="*/ 4248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02"/>
                  <a:pt x="10800" y="1204"/>
                </a:cubicBezTo>
                <a:lnTo>
                  <a:pt x="10800" y="9596"/>
                </a:lnTo>
                <a:cubicBezTo>
                  <a:pt x="10800" y="10198"/>
                  <a:pt x="16200" y="10800"/>
                  <a:pt x="21600" y="10800"/>
                </a:cubicBezTo>
                <a:cubicBezTo>
                  <a:pt x="16200" y="10800"/>
                  <a:pt x="10800" y="11402"/>
                  <a:pt x="10800" y="12004"/>
                </a:cubicBezTo>
                <a:lnTo>
                  <a:pt x="10800" y="20396"/>
                </a:lnTo>
                <a:cubicBezTo>
                  <a:pt x="10800" y="20998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ole tekstowe 10"/>
          <p:cNvSpPr/>
          <p:nvPr/>
        </p:nvSpPr>
        <p:spPr>
          <a:xfrm>
            <a:off x="4500720" y="371628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abite metodą chemiczną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 odtoksyczni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ole tekstowe 11"/>
          <p:cNvSpPr/>
          <p:nvPr/>
        </p:nvSpPr>
        <p:spPr>
          <a:xfrm>
            <a:off x="490320" y="4581360"/>
            <a:ext cx="34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odorotlenek glin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Nawias klamrowy zamykający 12"/>
          <p:cNvSpPr/>
          <p:nvPr/>
        </p:nvSpPr>
        <p:spPr>
          <a:xfrm>
            <a:off x="3995640" y="4653000"/>
            <a:ext cx="289080" cy="431640"/>
          </a:xfrm>
          <a:custGeom>
            <a:avLst/>
            <a:gdLst>
              <a:gd name="textAreaLeft" fmla="*/ 0 w 289080"/>
              <a:gd name="textAreaRight" fmla="*/ 104400 w 289080"/>
              <a:gd name="textAreaTop" fmla="*/ 7200 h 431640"/>
              <a:gd name="textAreaBottom" fmla="*/ 4244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02"/>
                  <a:pt x="10800" y="1204"/>
                </a:cubicBezTo>
                <a:lnTo>
                  <a:pt x="10800" y="9596"/>
                </a:lnTo>
                <a:cubicBezTo>
                  <a:pt x="10800" y="10198"/>
                  <a:pt x="16200" y="10800"/>
                  <a:pt x="21600" y="10800"/>
                </a:cubicBezTo>
                <a:cubicBezTo>
                  <a:pt x="16200" y="10800"/>
                  <a:pt x="10800" y="11402"/>
                  <a:pt x="10800" y="12004"/>
                </a:cubicBezTo>
                <a:lnTo>
                  <a:pt x="10800" y="20396"/>
                </a:lnTo>
                <a:cubicBezTo>
                  <a:pt x="10800" y="20998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ole tekstowe 13"/>
          <p:cNvSpPr/>
          <p:nvPr/>
        </p:nvSpPr>
        <p:spPr>
          <a:xfrm>
            <a:off x="4504320" y="4653000"/>
            <a:ext cx="13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adiuw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rostokąt 14"/>
          <p:cNvSpPr/>
          <p:nvPr/>
        </p:nvSpPr>
        <p:spPr>
          <a:xfrm>
            <a:off x="504720" y="5877000"/>
            <a:ext cx="874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7933c"/>
                </a:solidFill>
                <a:latin typeface="Calibri"/>
              </a:rPr>
              <a:t>Opracowano na podstawie informacji </a:t>
            </a:r>
            <a:r>
              <a:rPr b="1" lang="pl-PL" sz="1800" spc="-1" strike="noStrike">
                <a:solidFill>
                  <a:srgbClr val="77933c"/>
                </a:solidFill>
                <a:latin typeface="Calibri"/>
              </a:rPr>
              <a:t>producenta:</a:t>
            </a:r>
            <a:br>
              <a:rPr sz="1800"/>
            </a:br>
            <a:r>
              <a:rPr b="1" lang="pl-PL" sz="1800" spc="-1" strike="noStrike">
                <a:solidFill>
                  <a:srgbClr val="77933c"/>
                </a:solidFill>
                <a:latin typeface="Calibri"/>
              </a:rPr>
              <a:t>Instytut Biotechnologii Surowic i Szczepionek BIOMED Spółka Akcyjna Krakó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ole tekstowe 15"/>
          <p:cNvSpPr/>
          <p:nvPr/>
        </p:nvSpPr>
        <p:spPr>
          <a:xfrm>
            <a:off x="468360" y="5157720"/>
            <a:ext cx="84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ubstancje pomocnicze: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tiomersal,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Cl,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oda do rozcieńcze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80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Czym jest tiomersal, substancja pomocnicza w składzie szczepionki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ole tekstowe 3"/>
          <p:cNvSpPr/>
          <p:nvPr/>
        </p:nvSpPr>
        <p:spPr>
          <a:xfrm>
            <a:off x="468360" y="1916280"/>
            <a:ext cx="8136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iomersal jest organicznym związkiem rtęci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formie etylowanej. Według oświadczenia wydanego przez Narodowy Instytut Zdrowia Publicznego – Państwowy Zakład Higieny nie potwierdzono badaniami naukowymi hipotezy, że substancja ta, aplikowana ze szczepionką dwumiesięcznym i sześciomiesięcznym niemowlętom powoduje zaburzenia neurologicz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ole tekstowe 1"/>
          <p:cNvSpPr/>
          <p:nvPr/>
        </p:nvSpPr>
        <p:spPr>
          <a:xfrm>
            <a:off x="468360" y="609480"/>
            <a:ext cx="8136000" cy="52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Oświadczeniu również zawarte są informacje, o tym, że w tej formie występująca rtęć nie kumuluje się w organizmie i stosunkowo szybko jest z niego usuwa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iomersal jednak w najbliższym czasie ma być wycofany ze szczepionek, w 2009 roku rozpoczęto proces rejestracji zmian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świadczenie: Narodowy Instytut Zdrowia Publicznego – Państwowy Zakład Higien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4f6228"/>
                </a:solidFill>
                <a:latin typeface="Calibri"/>
              </a:rPr>
              <a:t>Pozostaje jednak pytanie: dlaczego wycofywany jest ten związek, skoro nie jest niebezpieczny? (przyp. autor prezentacj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ole tekstowe 1"/>
          <p:cNvSpPr/>
          <p:nvPr/>
        </p:nvSpPr>
        <p:spPr>
          <a:xfrm>
            <a:off x="250920" y="692280"/>
            <a:ext cx="8642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Niepożądane odczyny poszczepienne (NOP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ole tekstowe 2"/>
          <p:cNvSpPr/>
          <p:nvPr/>
        </p:nvSpPr>
        <p:spPr>
          <a:xfrm>
            <a:off x="468360" y="2349360"/>
            <a:ext cx="82803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rzebieg łagodny: gorączka, odczyn miejscowy, pogorszenie samopoczuc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rzebieg ciężki (według WHO): prowadzi do trwałego ubytku sprawności fizycznej, umysłowej, wymaga hospitalizacji, kończy się śmierci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ostatnich latach wzrasta świadomość społeczna, związana z problematyką chorób zakaźnych i szczepień ochronnych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stotne jest podkreślenie ważnej roli szczepień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erradykacji chorób zakaźnych (czyli ich eliminowaniu, jak na przykład ospy prawdziwej), czy ograniczeniu obszaru występowania (</a:t>
            </a: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poliomyelitis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c00000"/>
                </a:solidFill>
                <a:latin typeface="Calibri"/>
              </a:rPr>
              <a:t>Wzrasta także świadomość dotycząca zagrożeń, jakie niesie ze sobą szczepienie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, stosowane np. mimo przeciwwskazań, albo stosowanie „wadliwej” szczepionk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Symbol zastępczy zawartości 3" descr=""/>
          <p:cNvPicPr/>
          <p:nvPr/>
        </p:nvPicPr>
        <p:blipFill>
          <a:blip r:embed="rId1"/>
          <a:stretch/>
        </p:blipFill>
        <p:spPr>
          <a:xfrm>
            <a:off x="317520" y="871560"/>
            <a:ext cx="8435880" cy="51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dporność nieswois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ole tekstowe 2"/>
          <p:cNvSpPr/>
          <p:nvPr/>
        </p:nvSpPr>
        <p:spPr>
          <a:xfrm>
            <a:off x="468360" y="119700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est pierwszą linią obrony ustroju,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mniej precyzyjną, (niż odporność swoista),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le reagującą natychmia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http://www.eureknews.pl/images/2011_10/03pazdziernika5/rys/rysunek1.jpg"/>
          <p:cNvPicPr/>
          <p:nvPr/>
        </p:nvPicPr>
        <p:blipFill>
          <a:blip r:embed="rId1"/>
          <a:srcRect l="0" t="0" r="0" b="26646"/>
          <a:stretch/>
        </p:blipFill>
        <p:spPr>
          <a:xfrm>
            <a:off x="324000" y="2924280"/>
            <a:ext cx="8447040" cy="2952720"/>
          </a:xfrm>
          <a:prstGeom prst="rect">
            <a:avLst/>
          </a:prstGeom>
          <a:ln w="0">
            <a:noFill/>
          </a:ln>
        </p:spPr>
      </p:pic>
      <p:sp>
        <p:nvSpPr>
          <p:cNvPr id="105" name="Prostokąt 4"/>
          <p:cNvSpPr/>
          <p:nvPr/>
        </p:nvSpPr>
        <p:spPr>
          <a:xfrm>
            <a:off x="324000" y="6012000"/>
            <a:ext cx="84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http://www.eureknews.pl/images/2011_10/03pazdziernika5/rys/rysunek1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dporność swois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ole tekstowe 2"/>
          <p:cNvSpPr/>
          <p:nvPr/>
        </p:nvSpPr>
        <p:spPr>
          <a:xfrm>
            <a:off x="468360" y="1628640"/>
            <a:ext cx="7991280" cy="40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est bardzo precyzyjna, gdyż w czasie, kiedy się rozwija, po pierwszym kontakcie z „obcym” możliwe jest „ustawienie” jej elementów wobec konkretnego wirusa czy bakterii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drugim kontakcie z tym samym antygenem (z „obcym”, który został już „rozpracowany”), dzięki pamięci immunologicznej, odpowiedź swoista jest szybk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zczepienia a odporność swoista, sztuczna, czyn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ole tekstowe 2"/>
          <p:cNvSpPr/>
          <p:nvPr/>
        </p:nvSpPr>
        <p:spPr>
          <a:xfrm>
            <a:off x="468360" y="2060640"/>
            <a:ext cx="8064360" cy="36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zczepionka jest produktem pochodzenia biologicznego, zawierającym substancje zdolne do indukcji określonych procesów immunologicznych, warunkujących powstanie trwałej odporności (swoistej, czynnej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zczepionka nie może wywoływać działań toksyczny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Po szczepieniu indukowana jest</a:t>
            </a:r>
            <a:br>
              <a:rPr sz="3600"/>
            </a:b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odpowiedź immunologiczna,</a:t>
            </a:r>
            <a:br>
              <a:rPr sz="3600"/>
            </a:b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swoista, sztuczna, czynn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ole tekstowe 2"/>
          <p:cNvSpPr/>
          <p:nvPr/>
        </p:nvSpPr>
        <p:spPr>
          <a:xfrm>
            <a:off x="468360" y="2133720"/>
            <a:ext cx="8207280" cy="40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o znaczy, że organizm produkuje („czyni” </a:t>
            </a: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odpowiedź czynna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) – specyficzne wobec konkretnego antygenu (jaki zawierała szczepionka), unieszkodliwiające ten antygen przeciwciał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ednocześnie powstają komórki pamięci immunologicznej, dlatego odporność uzyskana po szczepieniu jest długotrwał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000" y="1197000"/>
            <a:ext cx="8147160" cy="38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anim zostaną omówione nowoczesne szczepionki,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kilka słów o pierwszych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 historii szczepieniach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i o materiale biologicznym, wykorzystanym jako szczepion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Andrzej</cp:lastModifiedBy>
  <dcterms:modified xsi:type="dcterms:W3CDTF">2013-10-01T19:34:48Z</dcterms:modified>
  <cp:revision>36</cp:revision>
  <dc:subject/>
  <dc:title>Slajd 1</dc:title>
</cp:coreProperties>
</file>