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.xml" ContentType="application/vnd.openxmlformats-officedocument.presentationml.notesSlide+xml"/>
  <Override PartName="/ppt/notesSlides/_rels/notesSlide29.xml.rels" ContentType="application/vnd.openxmlformats-package.relationships+xml"/>
  <Override PartName="/ppt/notesSlides/_rels/notesSlide1.xml.rels" ContentType="application/vnd.openxmlformats-package.relationships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CFB9E-CE5E-4D98-80FA-A239E5E819F8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44003-C781-4903-BC88-22343B1165E5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AD70D-F75D-4E21-B906-DD0EEBD15673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EF1C2-371C-4ABF-B6A1-4F672F109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0989D-737D-4E9F-946A-C96F60B24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F1BBE-9DE8-40B4-B9D2-2101C5C1F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1A58B-1DEF-4C43-99DB-1A57F4091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EB541-CC89-46DF-80B2-76A9D7709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5E8D0-44A1-44C8-8FE1-4A9CBBE81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EFABC-60AD-4AB7-9CA2-BC6172DB5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3B551-5544-4C8C-B165-A0EA07113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01718-3067-4032-ADCA-3A2168790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27E9C-52DF-41F5-A2C9-F974F3BBA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2AE98-21B3-43C1-9930-9001FB0CC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35BFC-8980-4863-9AE8-7E8BEC08F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BAEB4-FE1E-4D0D-A7E7-D83245089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C68CB-A38C-4AED-A187-6B844BB02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AB681-C6C5-43CD-BDC7-27764B0F4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81B79-48F5-496B-936A-19E566E7F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58AD0-5CC2-4EFA-94CE-35DC3814D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60E17-ABC4-4F2A-83D4-D2ADCBB34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076EA-111A-4F71-B352-90912906A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B3F5C-5898-44BF-9022-94FF534CB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6AF40-BC84-430C-8EDA-28A30F90E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37F5B-7408-42B4-88FA-E992634DF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B0757-D931-4644-828D-D44ECA958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C5638-696F-4252-A403-5B6D294CF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"/>
          <p:cNvPicPr/>
          <p:nvPr/>
        </p:nvPicPr>
        <p:blipFill>
          <a:blip r:embed="rId2"/>
          <a:stretch/>
        </p:blipFill>
        <p:spPr>
          <a:xfrm>
            <a:off x="0" y="5979960"/>
            <a:ext cx="9144000" cy="9050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112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E7D7B-E16F-4BEA-8F39-987E70324AC8}" type="slidenum"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2"/>
          <a:stretch/>
        </p:blipFill>
        <p:spPr>
          <a:xfrm>
            <a:off x="0" y="5979960"/>
            <a:ext cx="9144000" cy="9050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1123920"/>
          </a:xfrm>
          <a:prstGeom prst="rect">
            <a:avLst/>
          </a:prstGeom>
          <a:ln w="0">
            <a:noFill/>
          </a:ln>
        </p:spPr>
      </p:pic>
      <p:pic>
        <p:nvPicPr>
          <p:cNvPr id="45" name="Obraz 2" descr="stopka_poz.gif"/>
          <p:cNvPicPr/>
          <p:nvPr/>
        </p:nvPicPr>
        <p:blipFill>
          <a:blip r:embed="rId4"/>
          <a:stretch/>
        </p:blipFill>
        <p:spPr>
          <a:xfrm>
            <a:off x="0" y="5951520"/>
            <a:ext cx="9144000" cy="906480"/>
          </a:xfrm>
          <a:prstGeom prst="rect">
            <a:avLst/>
          </a:prstGeom>
          <a:ln w="0">
            <a:noFill/>
          </a:ln>
        </p:spPr>
      </p:pic>
      <p:pic>
        <p:nvPicPr>
          <p:cNvPr id="46" name="Obraz 9" descr="nagłówek_poz.gif"/>
          <p:cNvPicPr/>
          <p:nvPr/>
        </p:nvPicPr>
        <p:blipFill>
          <a:blip r:embed="rId5"/>
          <a:stretch/>
        </p:blipFill>
        <p:spPr>
          <a:xfrm>
            <a:off x="0" y="0"/>
            <a:ext cx="9144000" cy="112536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07FE7-11F9-41B9-8549-901EA1CAFAEC}" type="slidenum"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4360" y="836280"/>
            <a:ext cx="7991280" cy="352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9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1" lang="pl-PL" sz="4900" spc="-1" strike="noStrike">
                <a:solidFill>
                  <a:srgbClr val="000000"/>
                </a:solidFill>
                <a:latin typeface="Calibri"/>
              </a:rPr>
              <a:t>Rekordy” w świecie zwierząt – przystosowania budowy ciała do pokonywania oporów ruchu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odtytuł 2"/>
          <p:cNvSpPr/>
          <p:nvPr/>
        </p:nvSpPr>
        <p:spPr>
          <a:xfrm>
            <a:off x="1187280" y="450864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898989"/>
                </a:solidFill>
                <a:latin typeface="Calibri"/>
              </a:rPr>
              <a:t>dr Elżbieta Ćwior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http://upload.wikimedia.org/wikipedia/commons/thumb/3/3f/Shinkansen955-1.jpg/220px-Shinkansen955-1.jpg"/>
          <p:cNvPicPr/>
          <p:nvPr/>
        </p:nvPicPr>
        <p:blipFill>
          <a:blip r:embed="rId1"/>
          <a:stretch/>
        </p:blipFill>
        <p:spPr>
          <a:xfrm>
            <a:off x="466560" y="2852640"/>
            <a:ext cx="3384720" cy="25383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2" descr="shinkansen, super szybki poci&amp;aogon;g, szybka kolej"/>
          <p:cNvPicPr/>
          <p:nvPr/>
        </p:nvPicPr>
        <p:blipFill>
          <a:blip r:embed="rId2"/>
          <a:stretch/>
        </p:blipFill>
        <p:spPr>
          <a:xfrm>
            <a:off x="5003640" y="2852640"/>
            <a:ext cx="3264120" cy="2448000"/>
          </a:xfrm>
          <a:prstGeom prst="rect">
            <a:avLst/>
          </a:prstGeom>
          <a:ln w="0">
            <a:noFill/>
          </a:ln>
        </p:spPr>
      </p:pic>
      <p:sp>
        <p:nvSpPr>
          <p:cNvPr id="118" name="Prostokąt 3"/>
          <p:cNvSpPr/>
          <p:nvPr/>
        </p:nvSpPr>
        <p:spPr>
          <a:xfrm>
            <a:off x="4788000" y="5589720"/>
            <a:ext cx="414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http://www.supermodel.pl/zdjecia_uzytkowe/shinkansen_super_szybki_pociag.jp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rostokąt 4"/>
          <p:cNvSpPr/>
          <p:nvPr/>
        </p:nvSpPr>
        <p:spPr>
          <a:xfrm>
            <a:off x="324000" y="5589720"/>
            <a:ext cx="4572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http://upload.wikimedia.org/wikipedia/commons/thumb/3/3f/Shinkansen955-1.jpg/220px-Shinkansen955-1.jp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ole tekstowe 5"/>
          <p:cNvSpPr/>
          <p:nvPr/>
        </p:nvSpPr>
        <p:spPr>
          <a:xfrm>
            <a:off x="636480" y="549360"/>
            <a:ext cx="74426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Kształt „podpatrzony” w świecie zwierzą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słowo morpha (kształt), morfologia – nauk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o budowie zewnętrznej organizmó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rostokąt 6"/>
          <p:cNvSpPr/>
          <p:nvPr/>
        </p:nvSpPr>
        <p:spPr>
          <a:xfrm>
            <a:off x="611280" y="-968400"/>
            <a:ext cx="91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Morpha /kształt/ „ podpatrzony” w świecie zwierzą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https://encrypted-tbn0.gstatic.com/images?q=tbn:ANd9GcSDgwmgz6ZH1thFktAey0CILdbovyT1vZ1nyVDV6BBr3ezL0ezq"/>
          <p:cNvPicPr/>
          <p:nvPr/>
        </p:nvPicPr>
        <p:blipFill>
          <a:blip r:embed="rId1"/>
          <a:stretch/>
        </p:blipFill>
        <p:spPr>
          <a:xfrm>
            <a:off x="5508720" y="907920"/>
            <a:ext cx="2735280" cy="41133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4" descr="https://encrypted-tbn0.gstatic.com/images?q=tbn:ANd9GcSWxqGOaKdmwBcjoc0ZA1niwNLkiTzE32fDliyPM3vVNxDWogaFbg"/>
          <p:cNvPicPr/>
          <p:nvPr/>
        </p:nvPicPr>
        <p:blipFill>
          <a:blip r:embed="rId2"/>
          <a:srcRect l="28106" t="15756" r="0" b="13353"/>
          <a:stretch/>
        </p:blipFill>
        <p:spPr>
          <a:xfrm>
            <a:off x="611280" y="907920"/>
            <a:ext cx="4248000" cy="2803680"/>
          </a:xfrm>
          <a:prstGeom prst="rect">
            <a:avLst/>
          </a:prstGeom>
          <a:ln w="0">
            <a:noFill/>
          </a:ln>
        </p:spPr>
      </p:pic>
      <p:sp>
        <p:nvSpPr>
          <p:cNvPr id="124" name="Prostokąt 3"/>
          <p:cNvSpPr/>
          <p:nvPr/>
        </p:nvSpPr>
        <p:spPr>
          <a:xfrm>
            <a:off x="539640" y="39337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http://s8.flog.pl/media/foto/6074771_zimorodek-w-locie.jp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ole tekstowe 4"/>
          <p:cNvSpPr/>
          <p:nvPr/>
        </p:nvSpPr>
        <p:spPr>
          <a:xfrm>
            <a:off x="920160" y="5589720"/>
            <a:ext cx="686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Zimorodek w locie i podczas nurkowan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ole tekstowe 1"/>
          <p:cNvSpPr/>
          <p:nvPr/>
        </p:nvSpPr>
        <p:spPr>
          <a:xfrm>
            <a:off x="395280" y="692280"/>
            <a:ext cx="84978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Pociąg, którego lokomotywa ma kształt zimorodka osiąga prędkość ponad 300 km/h, jest bardzo cichy, co jest zasługą aerodynamicznego kształtu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Zimorodek z łatwością pokonuje opory powietrza, z niego wbija się prawie bez oporów w toń wody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Pociąg prawie bez żadnego dźwięku wyjeżdża z tunelu (zminimalizowany efekt tak zwanego uderzenia dźwiękowego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https://encrypted-tbn2.gstatic.com/images?q=tbn:ANd9GcRDBydwTKbKfNZlJajkab0VDXB_h5U0sfD8LbgxMSytELY0HlT4"/>
          <p:cNvPicPr/>
          <p:nvPr/>
        </p:nvPicPr>
        <p:blipFill>
          <a:blip r:embed="rId1"/>
          <a:stretch/>
        </p:blipFill>
        <p:spPr>
          <a:xfrm>
            <a:off x="4716360" y="3141720"/>
            <a:ext cx="3868920" cy="28972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4" descr="https://encrypted-tbn1.gstatic.com/images?q=tbn:ANd9GcSwPpthoZnWprelh7ofrzAC7isX6kVs7SxI2xHHpI9fimXk9IDWcA"/>
          <p:cNvPicPr/>
          <p:nvPr/>
        </p:nvPicPr>
        <p:blipFill>
          <a:blip r:embed="rId2"/>
          <a:stretch/>
        </p:blipFill>
        <p:spPr>
          <a:xfrm>
            <a:off x="517680" y="3141720"/>
            <a:ext cx="4054320" cy="2879640"/>
          </a:xfrm>
          <a:prstGeom prst="rect">
            <a:avLst/>
          </a:prstGeom>
          <a:ln w="0">
            <a:noFill/>
          </a:ln>
        </p:spPr>
      </p:pic>
      <p:sp>
        <p:nvSpPr>
          <p:cNvPr id="129" name="Prostokąt 3"/>
          <p:cNvSpPr/>
          <p:nvPr/>
        </p:nvSpPr>
        <p:spPr>
          <a:xfrm>
            <a:off x="971640" y="907920"/>
            <a:ext cx="6985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Kolejny przykład „ skopiowania” kształtu, ryba: </a:t>
            </a:r>
            <a:r>
              <a:rPr b="0" i="1" lang="pl-PL" sz="3200" spc="-1" strike="noStrike">
                <a:solidFill>
                  <a:srgbClr val="000000"/>
                </a:solidFill>
                <a:latin typeface="Calibri"/>
              </a:rPr>
              <a:t>Costera cubicus 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czyli kostera guzełkowata (boxfish) i merced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https://encrypted-tbn1.gstatic.com/images?q=tbn:ANd9GcQqwZKRuBW0jyViPaM4MLJSvvVksrcL6Id4vFWdSD5gxv-LwSnMlQ"/>
          <p:cNvPicPr/>
          <p:nvPr/>
        </p:nvPicPr>
        <p:blipFill>
          <a:blip r:embed="rId1"/>
          <a:stretch/>
        </p:blipFill>
        <p:spPr>
          <a:xfrm>
            <a:off x="1835280" y="2205000"/>
            <a:ext cx="5440320" cy="3816360"/>
          </a:xfrm>
          <a:prstGeom prst="rect">
            <a:avLst/>
          </a:prstGeom>
          <a:ln w="0">
            <a:noFill/>
          </a:ln>
        </p:spPr>
      </p:pic>
      <p:sp>
        <p:nvSpPr>
          <p:cNvPr id="131" name="pole tekstowe 2"/>
          <p:cNvSpPr/>
          <p:nvPr/>
        </p:nvSpPr>
        <p:spPr>
          <a:xfrm>
            <a:off x="766440" y="620640"/>
            <a:ext cx="7732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Inżynierowie Mercedes Benz, zainspirowani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hydrodynamiką kostery, tworzą auto, o wielu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nieistniejących dotąd walorach (bionic car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ole tekstowe 1"/>
          <p:cNvSpPr/>
          <p:nvPr/>
        </p:nvSpPr>
        <p:spPr>
          <a:xfrm>
            <a:off x="324000" y="363600"/>
            <a:ext cx="828036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Jak tworzono bionic ca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W specjalnie zaprojektowanych tunelach powietrznych i komorach wodnych sprawdzano właściwości zewnętrzne modeli odtwarzanych wprost z przyrody, pod kątem wszystkich cech, które mogłyby być transferowane do au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Dzięki kanciastej budowie ryby (kostery), która jest biologicznym modelem, udało się zoptymalizować opływowe właściwości, które umożliwiają kształt jaki ma kropla wody, w środowisku powietrz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ole tekstowe 1"/>
          <p:cNvSpPr/>
          <p:nvPr/>
        </p:nvSpPr>
        <p:spPr>
          <a:xfrm>
            <a:off x="395280" y="765000"/>
            <a:ext cx="828036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Rezultaty uwzględnienia i wykorzystania  parametrów, (uzyskanych przez obliczenia wykonane przy użyciu biologicznych modeli) są imponujące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bionic (car) – jest łatwe w manewrowaniu między przeszkodami, ma bardzo komfortową przestrzeń, długość 4,25 m i jest najbardziej efektywny w tej kategorii (wielkości) aut, jeżeli chodzi o spalani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ole tekstowe 1"/>
          <p:cNvSpPr/>
          <p:nvPr/>
        </p:nvSpPr>
        <p:spPr>
          <a:xfrm>
            <a:off x="539640" y="836640"/>
            <a:ext cx="842508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Zoptymalizowana aerodynamika i zachowane proporcje, dokładnie jak u boxfish w naturze, sprawiają, że auto – ryba spala w jeździe kombinowanej 4,3l /100 k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Przy prędkości 90 km spala 2,8 l/100km. Maksymalna prędkość 190 km/h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Zatem, według wyliczeń specjalistów, auto-ryba jest o 20% bardziej ekonomiczna niż oszczędne, ale standardowe, tej samej klasy aut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BMW H2R Rekord Car"/>
          <p:cNvPicPr/>
          <p:nvPr/>
        </p:nvPicPr>
        <p:blipFill>
          <a:blip r:embed="rId1"/>
          <a:stretch/>
        </p:blipFill>
        <p:spPr>
          <a:xfrm>
            <a:off x="971640" y="2565360"/>
            <a:ext cx="6840360" cy="3137040"/>
          </a:xfrm>
          <a:prstGeom prst="rect">
            <a:avLst/>
          </a:prstGeom>
          <a:ln w="0">
            <a:noFill/>
          </a:ln>
        </p:spPr>
      </p:pic>
      <p:sp>
        <p:nvSpPr>
          <p:cNvPr id="136" name="Prostokąt 2"/>
          <p:cNvSpPr/>
          <p:nvPr/>
        </p:nvSpPr>
        <p:spPr>
          <a:xfrm>
            <a:off x="1042920" y="5732640"/>
            <a:ext cx="684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http://www.autogaleria.pl/fotografie/bmw/bmw_h2r_2004_04.jp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ole tekstowe 3"/>
          <p:cNvSpPr/>
          <p:nvPr/>
        </p:nvSpPr>
        <p:spPr>
          <a:xfrm>
            <a:off x="842040" y="692280"/>
            <a:ext cx="6965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Kolejny przykład podpatrzonego kształtu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i produkt: wodorowy rekin, BMW H2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ole tekstowe 1"/>
          <p:cNvSpPr/>
          <p:nvPr/>
        </p:nvSpPr>
        <p:spPr>
          <a:xfrm>
            <a:off x="468360" y="1052640"/>
            <a:ext cx="8136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Układ powłokowy zwierząt stał się również wzorem dla tworzenia materiałów, które minimalizują opory, np. w środowisku wodnym, z których powstają stroje pływackie nowej generacji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Nazwa tych strojów bezpośrednio nawiązuje do wzorca, z którego powstał materiał: skóra reki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ole tekstowe 1"/>
          <p:cNvSpPr/>
          <p:nvPr/>
        </p:nvSpPr>
        <p:spPr>
          <a:xfrm>
            <a:off x="468360" y="1125360"/>
            <a:ext cx="828036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Od niepamiętnych czasów, człowiek czerpiąc z zasobów natury, także fascynował się tym, co organizm zwierząt może osiągnąć, na przykład szybkość, zwrotność w zróżnicowanych środowiskach: w wodzie, powietrzu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Dostrzegał „niedoskonałości” własnego organizmu, korzystając  z wytworów układu powłokowego zwierząt, (sierść, wełna) sporządzając dla siebie ubrania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Układ powłokowy zwierząt </a:t>
            </a:r>
            <a:br>
              <a:rPr sz="4400"/>
            </a:b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i wykorzystanie jego właściwośc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Picture 2" descr="http://www.popsci.com/files/imagecache/article_image_large/articles/shark%20skin%20closeup.jpeg"/>
          <p:cNvPicPr/>
          <p:nvPr/>
        </p:nvPicPr>
        <p:blipFill>
          <a:blip r:embed="rId1"/>
          <a:stretch/>
        </p:blipFill>
        <p:spPr>
          <a:xfrm>
            <a:off x="1619280" y="2060640"/>
            <a:ext cx="6153120" cy="2813040"/>
          </a:xfrm>
          <a:prstGeom prst="rect">
            <a:avLst/>
          </a:prstGeom>
          <a:ln w="0">
            <a:noFill/>
          </a:ln>
        </p:spPr>
      </p:pic>
      <p:sp>
        <p:nvSpPr>
          <p:cNvPr id="141" name="Prostokąt 3"/>
          <p:cNvSpPr/>
          <p:nvPr/>
        </p:nvSpPr>
        <p:spPr>
          <a:xfrm>
            <a:off x="324000" y="5589720"/>
            <a:ext cx="835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http://www.popsci.com/files/imagecache/article_image_large/articles/shark%20skin%20closeup.jpe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ole tekstowe 4"/>
          <p:cNvSpPr/>
          <p:nvPr/>
        </p:nvSpPr>
        <p:spPr>
          <a:xfrm>
            <a:off x="3573720" y="5013360"/>
            <a:ext cx="212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Łuski reki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Plakoidalna łuska reki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ole tekstowe 2"/>
          <p:cNvSpPr/>
          <p:nvPr/>
        </p:nvSpPr>
        <p:spPr>
          <a:xfrm>
            <a:off x="395280" y="1628640"/>
            <a:ext cx="82090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Łuska ta występuje u ryb spodoustych. Składa się z tkwiącej w skórze płytki (zwapniałej) i na niej osadzonego, wystającego ponad skórę ząbka. Ząbek ten pokryty jest bardzo twardym enameloidem, substancją podobną do szkliwa zębów kręgowców, pod nim znajduje się warstwa dentyny. W ząbku znajduje się kanał, w którym przebiegają naczynia krwionośne i nerw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Skóra rekina” w sporci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ole tekstowe 2"/>
          <p:cNvSpPr/>
          <p:nvPr/>
        </p:nvSpPr>
        <p:spPr>
          <a:xfrm>
            <a:off x="395280" y="1413000"/>
            <a:ext cx="828036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Łuski (ząbki), osadzone w układzie powłokowym rekina usprawniają hydrodynamikę nakierowując wodę tak, że minimalizowane są opor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Materiał, z którego powstają zawodnicze stroje sportowe (pływackie), strukturą podobny jest do powłoki ciała rekina. Badania firm, tworzących kostiumy nowej generacji wykazały, że to rozwiązanie zaczerpnięte z przyrody, poprawia osiągi sportow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Skóra rekina” w sporci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ole tekstowe 2"/>
          <p:cNvSpPr/>
          <p:nvPr/>
        </p:nvSpPr>
        <p:spPr>
          <a:xfrm>
            <a:off x="324000" y="1484280"/>
            <a:ext cx="835164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Pływak Michael Phelps, najbardziej utytułowany olimpijczyk w tej dyscyplinie sportowej, używając kostiumów nowej generacji, pobił na igrzyskach w Pekinie (2008 rok) osiem rekordów świat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Od roku, w którym po raz pierwszy używano nowoczesnych strojów pływackich (Igrzyska Olimpijskie w Sidney, 2000), coraz częściej mówi się o </a:t>
            </a: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dopingu technologicznym 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(stroje pływackie, ale też kadłuby łodzi, deski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Biologiczne granice rekordów sportowyc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ole tekstowe 2"/>
          <p:cNvSpPr/>
          <p:nvPr/>
        </p:nvSpPr>
        <p:spPr>
          <a:xfrm>
            <a:off x="324000" y="1989000"/>
            <a:ext cx="83516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Podczas każdych, kolejnych Igrzysk Olimpijskich znoszone są, ustanawiane wcześniej rekord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Zatem, czy istnieją granice wytrzymałości ludzkiego organizmu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Czy można jeszcze bardziej wpływać na fizjologię i jakie konsekwencje dla zdrowia przynoszą tego typu manipulacj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https://encrypted-tbn1.gstatic.com/images?q=tbn:ANd9GcTW5eV8NL_6jsJMyos5_Br0Pc2xLYjYPgjMuJoXAyI3eetKdYmF"/>
          <p:cNvPicPr/>
          <p:nvPr/>
        </p:nvPicPr>
        <p:blipFill>
          <a:blip r:embed="rId1"/>
          <a:stretch/>
        </p:blipFill>
        <p:spPr>
          <a:xfrm>
            <a:off x="2195640" y="2276640"/>
            <a:ext cx="4233600" cy="3200400"/>
          </a:xfrm>
          <a:prstGeom prst="rect">
            <a:avLst/>
          </a:prstGeom>
          <a:ln w="0">
            <a:noFill/>
          </a:ln>
        </p:spPr>
      </p:pic>
      <p:sp>
        <p:nvSpPr>
          <p:cNvPr id="152" name="Prostokąt 2"/>
          <p:cNvSpPr/>
          <p:nvPr/>
        </p:nvSpPr>
        <p:spPr>
          <a:xfrm>
            <a:off x="611280" y="5661000"/>
            <a:ext cx="828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https://encryptedtbn1.gstatic.com/images?q=tbn:ANd9GcTW5eV8NL_6jsJMyos5_Br0Pc2xLYjYPgjMuJoXAyI3eetKdYmF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ole tekstowe 3"/>
          <p:cNvSpPr/>
          <p:nvPr/>
        </p:nvSpPr>
        <p:spPr>
          <a:xfrm>
            <a:off x="716760" y="620640"/>
            <a:ext cx="7884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Dzięki medycynie sportowej, bionice, inżynieri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biomedycznej, w zawodach mogą uczestniczy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osoby po zabiegach amputacji kończy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91520" cy="164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Podstawą dla osiągnięć</a:t>
            </a:r>
            <a:br>
              <a:rPr sz="3200"/>
            </a:b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większości dyscyplin sportowych jest trening siłow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rostokąt 3"/>
          <p:cNvSpPr/>
          <p:nvPr/>
        </p:nvSpPr>
        <p:spPr>
          <a:xfrm>
            <a:off x="611280" y="2565360"/>
            <a:ext cx="2376360" cy="8636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eeece1"/>
                </a:solidFill>
                <a:latin typeface="Calibri"/>
              </a:rPr>
              <a:t>Predyspozycj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eeece1"/>
                </a:solidFill>
                <a:latin typeface="Calibri"/>
              </a:rPr>
              <a:t>genetyczn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rostokąt 4"/>
          <p:cNvSpPr/>
          <p:nvPr/>
        </p:nvSpPr>
        <p:spPr>
          <a:xfrm>
            <a:off x="611280" y="3716280"/>
            <a:ext cx="2376360" cy="10080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Calibri"/>
              </a:rPr>
              <a:t>Metodyka trening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rostokąt 5"/>
          <p:cNvSpPr/>
          <p:nvPr/>
        </p:nvSpPr>
        <p:spPr>
          <a:xfrm>
            <a:off x="611280" y="5084640"/>
            <a:ext cx="2376360" cy="7207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Calibri"/>
              </a:rPr>
              <a:t>Odżywiani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rostokąt 6"/>
          <p:cNvSpPr/>
          <p:nvPr/>
        </p:nvSpPr>
        <p:spPr>
          <a:xfrm>
            <a:off x="3348000" y="3789360"/>
            <a:ext cx="2087640" cy="8636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Calibri"/>
              </a:rPr>
              <a:t>Odnowa biologiczn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Nawias klamrowy zamykający 7"/>
          <p:cNvSpPr/>
          <p:nvPr/>
        </p:nvSpPr>
        <p:spPr>
          <a:xfrm>
            <a:off x="5651640" y="2708280"/>
            <a:ext cx="1008000" cy="3457440"/>
          </a:xfrm>
          <a:custGeom>
            <a:avLst/>
            <a:gdLst>
              <a:gd name="textAreaLeft" fmla="*/ 0 w 1008000"/>
              <a:gd name="textAreaRight" fmla="*/ 363960 w 1008000"/>
              <a:gd name="textAreaTop" fmla="*/ 26280 h 3457440"/>
              <a:gd name="textAreaBottom" fmla="*/ 3431160 h 3457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63"/>
                  <a:pt x="10800" y="525"/>
                </a:cubicBezTo>
                <a:lnTo>
                  <a:pt x="10800" y="10275"/>
                </a:lnTo>
                <a:cubicBezTo>
                  <a:pt x="10800" y="10538"/>
                  <a:pt x="16200" y="10800"/>
                  <a:pt x="21600" y="10800"/>
                </a:cubicBezTo>
                <a:cubicBezTo>
                  <a:pt x="16200" y="10800"/>
                  <a:pt x="10800" y="11063"/>
                  <a:pt x="10800" y="11325"/>
                </a:cubicBezTo>
                <a:lnTo>
                  <a:pt x="10800" y="21075"/>
                </a:lnTo>
                <a:cubicBezTo>
                  <a:pt x="10800" y="21338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4f81bd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Strzałka w prawo 8"/>
          <p:cNvSpPr/>
          <p:nvPr/>
        </p:nvSpPr>
        <p:spPr>
          <a:xfrm rot="16200000">
            <a:off x="5562360" y="3159000"/>
            <a:ext cx="3888000" cy="2268360"/>
          </a:xfrm>
          <a:prstGeom prst="rightArrow">
            <a:avLst>
              <a:gd name="adj1" fmla="val 50000"/>
              <a:gd name="adj2" fmla="val 50008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ff"/>
                </a:solidFill>
                <a:latin typeface="Calibri"/>
              </a:rPr>
              <a:t>rezult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ole tekstowe 9"/>
          <p:cNvSpPr/>
          <p:nvPr/>
        </p:nvSpPr>
        <p:spPr>
          <a:xfrm>
            <a:off x="1262880" y="6021360"/>
            <a:ext cx="148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Rys. E. Ćwior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Trening zawodników to skomplikowana sprawa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Elipsa 2"/>
          <p:cNvSpPr/>
          <p:nvPr/>
        </p:nvSpPr>
        <p:spPr>
          <a:xfrm>
            <a:off x="1187280" y="1844640"/>
            <a:ext cx="2160720" cy="2232000"/>
          </a:xfrm>
          <a:prstGeom prst="ellipse">
            <a:avLst/>
          </a:prstGeom>
          <a:solidFill>
            <a:srgbClr val="d6d22e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Tren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Elipsa 3"/>
          <p:cNvSpPr/>
          <p:nvPr/>
        </p:nvSpPr>
        <p:spPr>
          <a:xfrm>
            <a:off x="2268360" y="3860640"/>
            <a:ext cx="2087640" cy="2160720"/>
          </a:xfrm>
          <a:prstGeom prst="ellipse">
            <a:avLst/>
          </a:prstGeom>
          <a:solidFill>
            <a:srgbClr val="948a5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Fizjolo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Elipsa 4"/>
          <p:cNvSpPr/>
          <p:nvPr/>
        </p:nvSpPr>
        <p:spPr>
          <a:xfrm>
            <a:off x="4427640" y="3860640"/>
            <a:ext cx="2160360" cy="216072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Psycholo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Elipsa 5"/>
          <p:cNvSpPr/>
          <p:nvPr/>
        </p:nvSpPr>
        <p:spPr>
          <a:xfrm>
            <a:off x="3348000" y="1916280"/>
            <a:ext cx="2160720" cy="2160360"/>
          </a:xfrm>
          <a:prstGeom prst="ellipse">
            <a:avLst/>
          </a:prstGeom>
          <a:solidFill>
            <a:srgbClr val="ddd9c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Bioche-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mi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Elipsa 6"/>
          <p:cNvSpPr/>
          <p:nvPr/>
        </p:nvSpPr>
        <p:spPr>
          <a:xfrm>
            <a:off x="5508720" y="1916280"/>
            <a:ext cx="2087640" cy="2160360"/>
          </a:xfrm>
          <a:prstGeom prst="ellipse">
            <a:avLst/>
          </a:prstGeom>
          <a:solidFill>
            <a:srgbClr val="d9969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Fizjotera-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peu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ole tekstowe 7"/>
          <p:cNvSpPr/>
          <p:nvPr/>
        </p:nvSpPr>
        <p:spPr>
          <a:xfrm>
            <a:off x="687600" y="6093000"/>
            <a:ext cx="148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Rys. E. Ćwior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128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Dla najlepszych rezultatów najefektywniejsze  trening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ole tekstowe 2"/>
          <p:cNvSpPr/>
          <p:nvPr/>
        </p:nvSpPr>
        <p:spPr>
          <a:xfrm>
            <a:off x="468360" y="2060640"/>
            <a:ext cx="82072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Sprawność siłowa wykształcana jest w trakcie treningów. Można stymulować organizm do jej wykształcenia, jeszcze w okresie dzieciństwa, poprzez gry sprawnościowe, </a:t>
            </a: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ale w tym okresie niedopuszczalne jest ćwiczenie w obciążeniu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Niewłaściwy, zbyt wczesny trening może doprowadzić do deformacji nasad kości i zahamowania ich wzrostu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Wpływ sportu wyczynowego na zdrowie – niewłaściwy tren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ole tekstowe 2"/>
          <p:cNvSpPr/>
          <p:nvPr/>
        </p:nvSpPr>
        <p:spPr>
          <a:xfrm>
            <a:off x="324000" y="1557360"/>
            <a:ext cx="856908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Jak już wspomniano, wyniki sportowe zależą od treningu. Trening jest zagrożeniem dla zdrowia, jeżeli nie jest zachowana optymalizacja obciążeń treningowych, zgodnie z rytmiką i możliwościami organizmu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Groźne dla zdrowia, szczególnie młodych, trenujących osób, jest nastawienie na szybkie, chwilowe efekty, i zbyt wczesna specjalizacja (nastawienie na daną dyscyplinę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ole tekstowe 1"/>
          <p:cNvSpPr/>
          <p:nvPr/>
        </p:nvSpPr>
        <p:spPr>
          <a:xfrm>
            <a:off x="468360" y="619200"/>
            <a:ext cx="8136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Funkcjonujące w świecie zwierząt od miliardów lat, bezbłędne rozwiązania morfologiczne, anatomiczne, fizjologiczne były i są analizowane przez człowieka, są inspiracją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2" descr="https://encrypted-tbn3.gstatic.com/images?q=tbn:ANd9GcRYUqwGn-H6lRgr0CB5C_y5NRfgwbz6GedouuSpEuTPfSZ7nUZa"/>
          <p:cNvPicPr/>
          <p:nvPr/>
        </p:nvPicPr>
        <p:blipFill>
          <a:blip r:embed="rId1"/>
          <a:stretch/>
        </p:blipFill>
        <p:spPr>
          <a:xfrm>
            <a:off x="5219640" y="2997360"/>
            <a:ext cx="3719520" cy="3311280"/>
          </a:xfrm>
          <a:prstGeom prst="rect">
            <a:avLst/>
          </a:prstGeom>
          <a:ln w="0">
            <a:noFill/>
          </a:ln>
        </p:spPr>
      </p:pic>
      <p:sp>
        <p:nvSpPr>
          <p:cNvPr id="100" name="Prostokąt 3"/>
          <p:cNvSpPr/>
          <p:nvPr/>
        </p:nvSpPr>
        <p:spPr>
          <a:xfrm>
            <a:off x="324000" y="5589720"/>
            <a:ext cx="4572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376092"/>
                </a:solidFill>
                <a:latin typeface="Calibri"/>
              </a:rPr>
              <a:t>https://encrypted-tbn3.gstatic.com/images?q=tbn:ANd9GcRYUqwGn-H6lRgr0CB5C_y5NRfgwbz6GedouuSpEuTPfSZ7nUZ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Sport wyczynowy a obciążenia psychofizycz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rostokąt 2"/>
          <p:cNvSpPr/>
          <p:nvPr/>
        </p:nvSpPr>
        <p:spPr>
          <a:xfrm>
            <a:off x="684360" y="2492280"/>
            <a:ext cx="324000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Calibri"/>
              </a:rPr>
              <a:t>Zmęczenie fizyczn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rostokąt 3"/>
          <p:cNvSpPr/>
          <p:nvPr/>
        </p:nvSpPr>
        <p:spPr>
          <a:xfrm>
            <a:off x="4859280" y="2492280"/>
            <a:ext cx="324180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Calibri"/>
              </a:rPr>
              <a:t>Zmęczenie psychiczn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Strzałka w dół 4"/>
          <p:cNvSpPr/>
          <p:nvPr/>
        </p:nvSpPr>
        <p:spPr>
          <a:xfrm>
            <a:off x="3708360" y="3357720"/>
            <a:ext cx="1295280" cy="1655640"/>
          </a:xfrm>
          <a:prstGeom prst="downArrow">
            <a:avLst>
              <a:gd name="adj1" fmla="val 50000"/>
              <a:gd name="adj2" fmla="val 49998"/>
            </a:avLst>
          </a:prstGeom>
          <a:solidFill>
            <a:srgbClr val="ffffff"/>
          </a:solidFill>
          <a:ln w="572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rostokąt 5"/>
          <p:cNvSpPr/>
          <p:nvPr/>
        </p:nvSpPr>
        <p:spPr>
          <a:xfrm>
            <a:off x="1619280" y="5157720"/>
            <a:ext cx="5689440" cy="792360"/>
          </a:xfrm>
          <a:prstGeom prst="rect">
            <a:avLst/>
          </a:prstGeom>
          <a:solidFill>
            <a:srgbClr val="17375e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Calibri"/>
              </a:rPr>
              <a:t>Przetrenowani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Przetrenowanie jest jednym </a:t>
            </a:r>
            <a:br>
              <a:rPr sz="4400"/>
            </a:b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z zagrożeń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ole tekstowe 2"/>
          <p:cNvSpPr/>
          <p:nvPr/>
        </p:nvSpPr>
        <p:spPr>
          <a:xfrm>
            <a:off x="23760" y="1773360"/>
            <a:ext cx="91202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Ponad siły, niedostosowane do tempa dojrzewania obciążenia, ograniczają wytrzymałość fizyczną, emocjonalną, a także sprawność intelektualn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Brak odpoczynku, nadmierny stres wypływający ze współzawodnictwa – niosą ze sobą: złość, wrogość, agresję, lęki. Stany, które mogą trwać kilka dni, ale też tygodni, nawet miesięcy. Niejednokrotnie doprowadzają one do choroby – depresji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Co nam dała medycyna sportowa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ole tekstowe 2"/>
          <p:cNvSpPr/>
          <p:nvPr/>
        </p:nvSpPr>
        <p:spPr>
          <a:xfrm>
            <a:off x="324000" y="1773360"/>
            <a:ext cx="83516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Rozwój tej dyscypliny przede wszystkim pozwolił na poznanie fizjologii zawodników, określenie czynników genetycznych, środowiskowych, wpływających na wydolność (treningu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Medycyna sportowa – jako dyscyplina naukowa, została wyodrębniona w początkach XX wieku, co było wynikiem odradzania idei olimpijskiej, a także wynikiem rosnącej rywalizacji w sporci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Medycyna sportowa i jej rozwój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rostokąt 3"/>
          <p:cNvSpPr/>
          <p:nvPr/>
        </p:nvSpPr>
        <p:spPr>
          <a:xfrm>
            <a:off x="395280" y="836640"/>
            <a:ext cx="8137440" cy="554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Angelo Mosso (1846-1910), profesor fizjologii w Turynie zaprojektował wiele przyrządów fizjologicznych, m.in. ergogra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Zbudował pierwsze wysokogórskie laboratorium fizjologiczne na szczycie Monte Rosa. Zapoczątkował też badania wysiłków fizycznych i wypoczynku u sportowców”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Henryk Kuński, 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WSPÓLNE DROGI ROZWOJU MEDYCYNY SPORTOWEJ I INNYCH DYSCYPLIN MEDYCZNYCH W XX WIEKU W POLSCE*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 Medicina Sportiva Practica, Tom 12, Nr 1: 1-7, 201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rostokąt 2"/>
          <p:cNvSpPr/>
          <p:nvPr/>
        </p:nvSpPr>
        <p:spPr>
          <a:xfrm>
            <a:off x="324000" y="692280"/>
            <a:ext cx="8424720" cy="50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August Krogh (1874-1949), fizjolog duński skonstruował nowoczesny cykloergometr, był autorem metody pomiaru poboru tlenu przez organizm. W tle tych uwarunkowań notuje się trwałe wyodrębnienie się współczesnej medycyny sportowej i funkcji lekarza sportowego, zapoczątkowane w 1912 r. pierwszym kongresem lekarzy sportowych w Oberhofie”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Henryk Kuński,WSPÓLNE DROGI ROZWOJU MEDYCYNY SPORTOWEJ I INNYCH DYSCYPLIN MEDYCZNYCH W XX WIEKU W POLSCE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Medicina Sportiva Practica, Tom 12, Nr 1: 1-7, 201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Medycyna sportow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ole tekstowe 2"/>
          <p:cNvSpPr/>
          <p:nvPr/>
        </p:nvSpPr>
        <p:spPr>
          <a:xfrm>
            <a:off x="152280" y="1341360"/>
            <a:ext cx="8740800" cy="55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Również w Polsce utworzono w 1924 roku Pracownię Sportowo-Lekarską, Uniwersytetu Jana Kazimierza we Lwowi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Od tego czasu, coraz częściej powstawały projekty badań u sportowców, w czasie trwania zawodów wykonywano badania kardiologiczne, badania adaptacji do hipoksji i mechanizmów aklimatyzacji wysokościowej, i wiele innych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Na podstawie: Henryk Kuński,WSPÓLNE DROGI ROZWOJU MEDYCYNY SPORTOWEJ I INNYCH DYSCYPLIN MEDYCZNYCH W XX WIEKU W POLSCE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*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Medicina Sportiva Practica, Tom 12, Nr 1: 1-7, 201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Co nam daje medycyna sportowa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ole tekstowe 2"/>
          <p:cNvSpPr/>
          <p:nvPr/>
        </p:nvSpPr>
        <p:spPr>
          <a:xfrm>
            <a:off x="179280" y="1341360"/>
            <a:ext cx="878544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Dzięki analizie wyników badań, w zakresie medycyny sportowej, określano i analizowano parametry fizjologiczne, służące opracowywaniu między innymi efektywnych treningów, diet sportowców, co przekładało się i przekłada na coraz wyższe rezultaty we wszystkich dyscyplinach sportu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Rehabilitacja po urazach sportowych i prewencja urazów, także są efektywniejsze, dzięki rozwojowi medycyny sportowej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Dziękuję za uwagę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https://encrypted-tbn1.gstatic.com/images?q=tbn:ANd9GcS3A9UVu6AALUSCKaM3CQwLYp_YJyKzXFvhJMnKrNoTfaw6Jh_V"/>
          <p:cNvPicPr/>
          <p:nvPr/>
        </p:nvPicPr>
        <p:blipFill>
          <a:blip r:embed="rId1"/>
          <a:stretch/>
        </p:blipFill>
        <p:spPr>
          <a:xfrm>
            <a:off x="1476360" y="1916280"/>
            <a:ext cx="5183280" cy="3605040"/>
          </a:xfrm>
          <a:prstGeom prst="rect">
            <a:avLst/>
          </a:prstGeom>
          <a:ln w="0">
            <a:noFill/>
          </a:ln>
        </p:spPr>
      </p:pic>
      <p:sp>
        <p:nvSpPr>
          <p:cNvPr id="102" name="pole tekstowe 2"/>
          <p:cNvSpPr/>
          <p:nvPr/>
        </p:nvSpPr>
        <p:spPr>
          <a:xfrm>
            <a:off x="468360" y="692280"/>
            <a:ext cx="7966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Leonardo da Vinci – projektował machiny do latania, wzorując się na skrzydle nietoperz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rostokąt 3"/>
          <p:cNvSpPr/>
          <p:nvPr/>
        </p:nvSpPr>
        <p:spPr>
          <a:xfrm>
            <a:off x="755640" y="5516640"/>
            <a:ext cx="727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254061"/>
                </a:solidFill>
                <a:latin typeface="Calibri"/>
              </a:rPr>
              <a:t>http://www.schuitema.co.za/blog/wp-content/uploads/2010/02/flying-machine-leo.jp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ole tekstowe 1"/>
          <p:cNvSpPr/>
          <p:nvPr/>
        </p:nvSpPr>
        <p:spPr>
          <a:xfrm>
            <a:off x="395280" y="363600"/>
            <a:ext cx="835344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Obecnie, coraz bardziej rozwija się </a:t>
            </a: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bionika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, czyli dziedzina wiedzy o budowie i zasadach funkcjonowania organizmów, w celu wykorzystania zbadanych rozwiązań morfologicznych, anatomicznych do konstruowania (budownictwo, architektura), w sporcie, motoryzacji i wielu innych dziedzinach. W 1960 roku – pierwsze sympozju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dotyczące bioniki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Bionika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(bios – życie, onics – studium) albo, także używany termin </a:t>
            </a: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biomimetyka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, (z języka greckiego: </a:t>
            </a:r>
            <a:r>
              <a:rPr b="0" i="1" lang="pl-PL" sz="3200" spc="-1" strike="noStrike">
                <a:solidFill>
                  <a:srgbClr val="000000"/>
                </a:solidFill>
                <a:latin typeface="Calibri"/>
              </a:rPr>
              <a:t>bios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– życie, </a:t>
            </a:r>
            <a:r>
              <a:rPr b="0" i="1" lang="pl-PL" sz="3200" spc="-1" strike="noStrike">
                <a:solidFill>
                  <a:srgbClr val="000000"/>
                </a:solidFill>
                <a:latin typeface="Calibri"/>
              </a:rPr>
              <a:t>mimesis 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– naśladować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Prekursorzy bionik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ole tekstowe 2"/>
          <p:cNvSpPr/>
          <p:nvPr/>
        </p:nvSpPr>
        <p:spPr>
          <a:xfrm>
            <a:off x="108000" y="1484280"/>
            <a:ext cx="885672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To ludzie, którzy uważnie obserwowali przyrodę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Otto Lilienthal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, zaintrygowany lotem szybowcowym ptaków, napisał dzieło: „Lot ptaków jako podstaw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sztuki latania”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E. Jules Marey, 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fizjolog z Francji, badał ruch zwierząt, siły, towarzyszące ruchom mięśni, jego dzieło ukazało się w języku polskim: „Machina zwierzęca”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Prekursorzy bionik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2" descr="Plik:Edward Frost ornithopter.JPG"/>
          <p:cNvPicPr/>
          <p:nvPr/>
        </p:nvPicPr>
        <p:blipFill>
          <a:blip r:embed="rId1"/>
          <a:stretch/>
        </p:blipFill>
        <p:spPr>
          <a:xfrm>
            <a:off x="3348000" y="1700280"/>
            <a:ext cx="4681440" cy="3773520"/>
          </a:xfrm>
          <a:prstGeom prst="rect">
            <a:avLst/>
          </a:prstGeom>
          <a:ln w="0">
            <a:noFill/>
          </a:ln>
        </p:spPr>
      </p:pic>
      <p:sp>
        <p:nvSpPr>
          <p:cNvPr id="109" name="Prostokąt 3"/>
          <p:cNvSpPr/>
          <p:nvPr/>
        </p:nvSpPr>
        <p:spPr>
          <a:xfrm>
            <a:off x="971640" y="5732640"/>
            <a:ext cx="74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http://upload.wikimedia.org/wikipedia/commons/0/0e/Edward_Frost_ornithopter.JP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ole tekstowe 4"/>
          <p:cNvSpPr/>
          <p:nvPr/>
        </p:nvSpPr>
        <p:spPr>
          <a:xfrm>
            <a:off x="250920" y="1700280"/>
            <a:ext cx="3241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Edward Fro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i jego ornitrop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napędzan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mięśniami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Prekursorzy bionik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ole tekstowe 2"/>
          <p:cNvSpPr/>
          <p:nvPr/>
        </p:nvSpPr>
        <p:spPr>
          <a:xfrm>
            <a:off x="334800" y="1413000"/>
            <a:ext cx="8731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Igo Etrich i jego samolot Gołąb. </a:t>
            </a:r>
            <a:br>
              <a:rPr sz="3200"/>
            </a:b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Później powstał (także w Lubawce)  model- Jaskół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Picture 2" descr="http://www.sarsfield.com/images/Etrich%20Taube.jpg"/>
          <p:cNvPicPr/>
          <p:nvPr/>
        </p:nvPicPr>
        <p:blipFill>
          <a:blip r:embed="rId1"/>
          <a:stretch/>
        </p:blipFill>
        <p:spPr>
          <a:xfrm>
            <a:off x="395280" y="2708280"/>
            <a:ext cx="4383000" cy="3548160"/>
          </a:xfrm>
          <a:prstGeom prst="rect">
            <a:avLst/>
          </a:prstGeom>
          <a:ln w="0">
            <a:noFill/>
          </a:ln>
        </p:spPr>
      </p:pic>
      <p:sp>
        <p:nvSpPr>
          <p:cNvPr id="114" name="Prostokąt 4"/>
          <p:cNvSpPr/>
          <p:nvPr/>
        </p:nvSpPr>
        <p:spPr>
          <a:xfrm>
            <a:off x="5040360" y="5589720"/>
            <a:ext cx="36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http://www.sarsfield.com/images/Etrich%20Taube.jp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ole tekstowe 1"/>
          <p:cNvSpPr/>
          <p:nvPr/>
        </p:nvSpPr>
        <p:spPr>
          <a:xfrm>
            <a:off x="324000" y="549360"/>
            <a:ext cx="828036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Powstanie bioniki wpłynęło na zasadniczą zmianę podejścia człowieka do otaczającego go świat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Powstało odmienne od dotychczasowego stanowisko w filozofii przyrod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Zmiana ta polega na tym, że człowiek zaczyna postrzegać przyrodę w dobie rozwoju bioniki – jako zweryfikowany w procesie ewolucji </a:t>
            </a: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WZORZEC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, a nie jak to było do tej pory – przedmiot, który należy bezwzględnie eksploatować i niszczyć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9T06:37:45Z</dcterms:created>
  <dc:creator>awrobel</dc:creator>
  <dc:description/>
  <dc:language>en-US</dc:language>
  <cp:lastModifiedBy>DawidS28</cp:lastModifiedBy>
  <dcterms:modified xsi:type="dcterms:W3CDTF">2013-06-19T11:35:53Z</dcterms:modified>
  <cp:revision>50</cp:revision>
  <dc:subject/>
  <dc:title>Slajd 1</dc:title>
</cp:coreProperties>
</file>