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7.wmf" ContentType="image/x-wmf"/>
  <Override PartName="/ppt/media/image15.wmf" ContentType="image/x-wmf"/>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9.wmf" ContentType="image/x-wmf"/>
  <Override PartName="/ppt/media/image14.wmf" ContentType="image/x-wmf"/>
  <Override PartName="/ppt/media/image6.png" ContentType="image/png"/>
  <Override PartName="/ppt/media/image11.png" ContentType="image/png"/>
  <Override PartName="/ppt/media/image13.png" ContentType="image/png"/>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9EA6B-826D-4E67-BABA-CD8C9B586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99F30-1A4F-4678-A7A6-1FE856108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AF262-5C8F-4F0A-A208-2D60FAF20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D8A08-614D-4A66-94B4-8BDE3E760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39CD73-C5D2-47D7-8BB5-D599E23906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674D9-3E90-4AE7-BBEC-526A3885F5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DE080-80AC-4968-8E64-94E592DBE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03B87-3633-42C1-B2B9-EDAB54909A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8B7BD-44DE-4B3D-B018-0B04B289E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DB60C-5807-4FE2-97F1-4FC6EAFAB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C2B4E-AB72-4528-9633-FD7CCA4AE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20CA8-5D0F-4814-AA73-D13619669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57D13-840A-4696-B2EE-B17203A83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C6967-7105-4EC5-89F8-6CCB4E9E8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572AA-3890-4B06-8539-AC609F3AA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93F262-A66A-4935-B564-4F689D7E41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6CFC75-0FBB-46C1-AAB6-80FE8D0E21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81F5DA-915B-4A1E-AEA8-7CC1D06AD2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4AA5D9-2849-40A2-B2C0-29B622F6B4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6845D9-4EE2-49DC-86FD-BDB9F6CCB5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4B310D-A4B5-4C0B-81E5-4B7060B1C5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9A379F-79DC-4F55-9442-F377D2E8B4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93A1C-EABB-4B8C-8829-62E9E77D1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C35C2C-2F84-49FA-A0FB-B3301AE6E5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A08170-AE19-4D78-92A8-C1E4613375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60CF2E-CBDA-4573-B42C-7CEB007F2E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5803AC-0A13-4FD9-ABA7-A6006AC7EA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27CF05-ACCA-4340-8123-BFA3D0CF16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9B3D9A-5B99-4592-BB57-B11F1ECFDC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EE214C-479B-43CF-844E-A164D9E605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00BF3-B653-4221-B78F-9FF51BF58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38776-850F-4923-A0D6-26C7FD7FC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1335F-594E-440E-8D87-DE9594CE1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4C6F6-E75C-409E-BD28-A804D0E03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39FCA-FAC5-44B9-8199-0232DB680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E499E-BE6A-4291-ADBA-1B690E899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91F6E-3F01-43C1-8824-E530B49ECB1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
          <p:cNvPicPr/>
          <p:nvPr/>
        </p:nvPicPr>
        <p:blipFill>
          <a:blip r:embed="rId2"/>
          <a:stretch/>
        </p:blipFill>
        <p:spPr>
          <a:xfrm>
            <a:off x="0" y="5761080"/>
            <a:ext cx="9144000" cy="1123920"/>
          </a:xfrm>
          <a:prstGeom prst="rect">
            <a:avLst/>
          </a:prstGeom>
          <a:ln w="0">
            <a:noFill/>
          </a:ln>
        </p:spPr>
      </p:pic>
      <p:pic>
        <p:nvPicPr>
          <p:cNvPr id="42" name="Picture 2" descr=""/>
          <p:cNvPicPr/>
          <p:nvPr/>
        </p:nvPicPr>
        <p:blipFill>
          <a:blip r:embed="rId3"/>
          <a:stretch/>
        </p:blipFill>
        <p:spPr>
          <a:xfrm>
            <a:off x="-4680" y="0"/>
            <a:ext cx="9144000" cy="1628640"/>
          </a:xfrm>
          <a:prstGeom prst="rect">
            <a:avLst/>
          </a:prstGeom>
          <a:ln w="0">
            <a:noFill/>
          </a:ln>
        </p:spPr>
      </p:pic>
      <p:sp>
        <p:nvSpPr>
          <p:cNvPr id="4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76092-BAFF-44C2-8672-730C2A53847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
          <p:cNvPicPr/>
          <p:nvPr/>
        </p:nvPicPr>
        <p:blipFill>
          <a:blip r:embed="rId2"/>
          <a:stretch/>
        </p:blipFill>
        <p:spPr>
          <a:xfrm>
            <a:off x="0" y="5979960"/>
            <a:ext cx="9144000" cy="905040"/>
          </a:xfrm>
          <a:prstGeom prst="rect">
            <a:avLst/>
          </a:prstGeom>
          <a:ln w="0">
            <a:noFill/>
          </a:ln>
        </p:spPr>
      </p:pic>
      <p:pic>
        <p:nvPicPr>
          <p:cNvPr id="85" name="Picture 2" descr=""/>
          <p:cNvPicPr/>
          <p:nvPr/>
        </p:nvPicPr>
        <p:blipFill>
          <a:blip r:embed="rId3"/>
          <a:stretch/>
        </p:blipFill>
        <p:spPr>
          <a:xfrm>
            <a:off x="0" y="-27000"/>
            <a:ext cx="9144000" cy="1123920"/>
          </a:xfrm>
          <a:prstGeom prst="rect">
            <a:avLst/>
          </a:prstGeom>
          <a:ln w="0">
            <a:noFill/>
          </a:ln>
        </p:spPr>
      </p:pic>
      <p:pic>
        <p:nvPicPr>
          <p:cNvPr id="86" name="Obraz 2" descr="stopka_poz.gif"/>
          <p:cNvPicPr/>
          <p:nvPr/>
        </p:nvPicPr>
        <p:blipFill>
          <a:blip r:embed="rId4"/>
          <a:stretch/>
        </p:blipFill>
        <p:spPr>
          <a:xfrm>
            <a:off x="0" y="5951520"/>
            <a:ext cx="9144000" cy="906480"/>
          </a:xfrm>
          <a:prstGeom prst="rect">
            <a:avLst/>
          </a:prstGeom>
          <a:ln w="0">
            <a:noFill/>
          </a:ln>
        </p:spPr>
      </p:pic>
      <p:pic>
        <p:nvPicPr>
          <p:cNvPr id="87" name="Obraz 9" descr="nagłówek_poz.gif"/>
          <p:cNvPicPr/>
          <p:nvPr/>
        </p:nvPicPr>
        <p:blipFill>
          <a:blip r:embed="rId5"/>
          <a:stretch/>
        </p:blipFill>
        <p:spPr>
          <a:xfrm>
            <a:off x="0" y="0"/>
            <a:ext cx="9144000" cy="1125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9390-9920-47CC-90E5-61B97D3FE12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79280" y="1989000"/>
            <a:ext cx="8785440" cy="3238560"/>
          </a:xfrm>
          <a:prstGeom prst="rect">
            <a:avLst/>
          </a:prstGeom>
          <a:noFill/>
          <a:ln w="0">
            <a:noFill/>
          </a:ln>
        </p:spPr>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smowa teoria przewodnictwa. </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ody– budowa i zasada działan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ole tekstowe 2"/>
          <p:cNvSpPr/>
          <p:nvPr/>
        </p:nvSpPr>
        <p:spPr>
          <a:xfrm>
            <a:off x="2484360" y="333360"/>
            <a:ext cx="431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ysunek 1</a:t>
            </a:r>
            <a:endParaRPr b="0" lang="en-US" sz="1800" spc="-1" strike="noStrike">
              <a:solidFill>
                <a:srgbClr val="ffff00"/>
              </a:solidFill>
              <a:latin typeface="Arial"/>
            </a:endParaRPr>
          </a:p>
        </p:txBody>
      </p:sp>
      <p:sp>
        <p:nvSpPr>
          <p:cNvPr id="158" name="pole tekstowe 3"/>
          <p:cNvSpPr/>
          <p:nvPr/>
        </p:nvSpPr>
        <p:spPr>
          <a:xfrm>
            <a:off x="2124000" y="5950080"/>
            <a:ext cx="475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ysunek 2</a:t>
            </a:r>
            <a:endParaRPr b="0" lang="en-US" sz="1800" spc="-1" strike="noStrike">
              <a:solidFill>
                <a:srgbClr val="ffff00"/>
              </a:solidFill>
              <a:latin typeface="Arial"/>
            </a:endParaRPr>
          </a:p>
        </p:txBody>
      </p:sp>
      <p:graphicFrame>
        <p:nvGraphicFramePr>
          <p:cNvPr id="159" name="Object 5"/>
          <p:cNvGraphicFramePr/>
          <p:nvPr/>
        </p:nvGraphicFramePr>
        <p:xfrm>
          <a:off x="1692360" y="692280"/>
          <a:ext cx="5545080" cy="5292720"/>
        </p:xfrm>
        <a:graphic>
          <a:graphicData uri="http://schemas.openxmlformats.org/presentationml/2006/ole">
            <p:oleObj r:id="rId1" spid="">
              <p:embed/>
              <p:pic>
                <p:nvPicPr>
                  <p:cNvPr id="160" name="Object 5" descr=""/>
                  <p:cNvPicPr/>
                  <p:nvPr/>
                </p:nvPicPr>
                <p:blipFill>
                  <a:blip r:embed="rId2"/>
                  <a:stretch/>
                </p:blipFill>
                <p:spPr>
                  <a:xfrm>
                    <a:off x="1692360" y="692280"/>
                    <a:ext cx="5545080" cy="529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Text Box 3"/>
          <p:cNvSpPr/>
          <p:nvPr/>
        </p:nvSpPr>
        <p:spPr>
          <a:xfrm>
            <a:off x="324000" y="1341360"/>
            <a:ext cx="8497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62" name="pole tekstowe 2"/>
          <p:cNvSpPr/>
          <p:nvPr/>
        </p:nvSpPr>
        <p:spPr>
          <a:xfrm>
            <a:off x="539640" y="1557360"/>
            <a:ext cx="7632720" cy="3111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ostownik dwupołówkowy, dwukierunkowy   </a:t>
            </a:r>
            <a:r>
              <a:rPr b="0" lang="pl-PL" sz="1800" spc="-1" strike="noStrike">
                <a:solidFill>
                  <a:srgbClr val="000000"/>
                </a:solidFill>
                <a:latin typeface="Arial"/>
              </a:rPr>
              <a:t>(rysunek 1 na kolejnym slajdzie) składa się z transformatora T (elementu podnoszącego lub obniżającego napięcie), diod D1 i D2, oraz kondensatora C wygładzającego napięcie. Opornik R stanowi odbiornik, przez który ma przepłynąć prąd wyprostowany. Impulsy uzyskiwane na uzwojeniu wtórnym transformatora są przemienne – najpierw +, -, a następnie -, +. Dioda D1 i transformator Z1 stanowią jeden prostownik, przepuszczając impulsy +,- a dioda D2 i transformator Z2 drugi, przepuszcza impulsy -,+. Kondensator pełni rolę „wygładzacza prądu” (rysunek 2 na kolejnym slajdzie).   </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3" name="Object 2"/>
          <p:cNvGraphicFramePr/>
          <p:nvPr/>
        </p:nvGraphicFramePr>
        <p:xfrm>
          <a:off x="1690560" y="566640"/>
          <a:ext cx="6410520" cy="5724720"/>
        </p:xfrm>
        <a:graphic>
          <a:graphicData uri="http://schemas.openxmlformats.org/presentationml/2006/ole">
            <p:oleObj r:id="rId1" spid="">
              <p:embed/>
              <p:pic>
                <p:nvPicPr>
                  <p:cNvPr id="164" name="Object 2" descr=""/>
                  <p:cNvPicPr/>
                  <p:nvPr/>
                </p:nvPicPr>
                <p:blipFill>
                  <a:blip r:embed="rId2"/>
                  <a:stretch/>
                </p:blipFill>
                <p:spPr>
                  <a:xfrm>
                    <a:off x="1690560" y="566640"/>
                    <a:ext cx="6410520" cy="5724720"/>
                  </a:xfrm>
                  <a:prstGeom prst="rect">
                    <a:avLst/>
                  </a:prstGeom>
                  <a:ln w="0">
                    <a:noFill/>
                  </a:ln>
                </p:spPr>
              </p:pic>
            </p:oleObj>
          </a:graphicData>
        </a:graphic>
      </p:graphicFrame>
      <p:sp>
        <p:nvSpPr>
          <p:cNvPr id="165" name="pole tekstowe 2"/>
          <p:cNvSpPr/>
          <p:nvPr/>
        </p:nvSpPr>
        <p:spPr>
          <a:xfrm>
            <a:off x="2484360" y="620640"/>
            <a:ext cx="403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ysunek 1</a:t>
            </a:r>
            <a:endParaRPr b="0" lang="en-US" sz="1800" spc="-1" strike="noStrike">
              <a:solidFill>
                <a:srgbClr val="ffff00"/>
              </a:solidFill>
              <a:latin typeface="Arial"/>
            </a:endParaRPr>
          </a:p>
        </p:txBody>
      </p:sp>
      <p:sp>
        <p:nvSpPr>
          <p:cNvPr id="166" name="pole tekstowe 3"/>
          <p:cNvSpPr/>
          <p:nvPr/>
        </p:nvSpPr>
        <p:spPr>
          <a:xfrm>
            <a:off x="3132000" y="5805360"/>
            <a:ext cx="273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ysunek 2</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3"/>
          <p:cNvSpPr/>
          <p:nvPr/>
        </p:nvSpPr>
        <p:spPr>
          <a:xfrm>
            <a:off x="324000" y="1341360"/>
            <a:ext cx="8497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68" name="pole tekstowe 2"/>
          <p:cNvSpPr/>
          <p:nvPr/>
        </p:nvSpPr>
        <p:spPr>
          <a:xfrm>
            <a:off x="611280" y="620640"/>
            <a:ext cx="7632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UKŁAD GRETZA</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kład czterech diod stanowiących prostownik dwukierunkowy, to układ Gretza. Każde dwie diody stanowią jeden prostownik spolaryzowane </a:t>
            </a:r>
            <a:br>
              <a:rPr sz="1800"/>
            </a:br>
            <a:r>
              <a:rPr b="0" lang="pl-PL" sz="1800" spc="-1" strike="noStrike">
                <a:solidFill>
                  <a:srgbClr val="000000"/>
                </a:solidFill>
                <a:latin typeface="Arial"/>
              </a:rPr>
              <a:t>w kierunkach przewodzenia dla impulsów +,-, dwie kolejne dla impulsów</a:t>
            </a:r>
            <a:br>
              <a:rPr sz="1800"/>
            </a:br>
            <a:r>
              <a:rPr b="0" lang="pl-PL" sz="1800" spc="-1" strike="noStrike">
                <a:solidFill>
                  <a:srgbClr val="000000"/>
                </a:solidFill>
                <a:latin typeface="Arial"/>
              </a:rPr>
              <a:t> -,+. Na rysunku poniżej zaznaczono kierunek przepływu prądu dla impulsów +,- zielone strzałki, dla impulsów -,+ czerwone. Opornik stanowi odbiornik prądu wyprostowanego..</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graphicFrame>
        <p:nvGraphicFramePr>
          <p:cNvPr id="169" name="Object 2"/>
          <p:cNvGraphicFramePr/>
          <p:nvPr/>
        </p:nvGraphicFramePr>
        <p:xfrm>
          <a:off x="-252360" y="2492280"/>
          <a:ext cx="5746680" cy="3346560"/>
        </p:xfrm>
        <a:graphic>
          <a:graphicData uri="http://schemas.openxmlformats.org/presentationml/2006/ole">
            <p:oleObj r:id="rId1" spid="">
              <p:embed/>
              <p:pic>
                <p:nvPicPr>
                  <p:cNvPr id="170" name="Object 2" descr=""/>
                  <p:cNvPicPr/>
                  <p:nvPr/>
                </p:nvPicPr>
                <p:blipFill>
                  <a:blip r:embed="rId2"/>
                  <a:stretch/>
                </p:blipFill>
                <p:spPr>
                  <a:xfrm>
                    <a:off x="-252360" y="2492280"/>
                    <a:ext cx="5746680" cy="3346560"/>
                  </a:xfrm>
                  <a:prstGeom prst="rect">
                    <a:avLst/>
                  </a:prstGeom>
                  <a:ln w="0">
                    <a:noFill/>
                  </a:ln>
                </p:spPr>
              </p:pic>
            </p:oleObj>
          </a:graphicData>
        </a:graphic>
      </p:graphicFrame>
      <p:graphicFrame>
        <p:nvGraphicFramePr>
          <p:cNvPr id="171" name="Object 3"/>
          <p:cNvGraphicFramePr/>
          <p:nvPr/>
        </p:nvGraphicFramePr>
        <p:xfrm>
          <a:off x="2771640" y="2637000"/>
          <a:ext cx="6085080" cy="2952720"/>
        </p:xfrm>
        <a:graphic>
          <a:graphicData uri="http://schemas.openxmlformats.org/presentationml/2006/ole">
            <p:oleObj r:id="rId3" spid="">
              <p:embed/>
              <p:pic>
                <p:nvPicPr>
                  <p:cNvPr id="172" name="Object 3" descr=""/>
                  <p:cNvPicPr/>
                  <p:nvPr/>
                </p:nvPicPr>
                <p:blipFill>
                  <a:blip r:embed="rId4"/>
                  <a:stretch/>
                </p:blipFill>
                <p:spPr>
                  <a:xfrm>
                    <a:off x="2771640" y="2637000"/>
                    <a:ext cx="6085080" cy="29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3"/>
          <p:cNvSpPr/>
          <p:nvPr/>
        </p:nvSpPr>
        <p:spPr>
          <a:xfrm>
            <a:off x="324000" y="1341360"/>
            <a:ext cx="8497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31" name="pole tekstowe 2"/>
          <p:cNvSpPr/>
          <p:nvPr/>
        </p:nvSpPr>
        <p:spPr>
          <a:xfrm>
            <a:off x="900000" y="765000"/>
            <a:ext cx="755964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mo walencyjne</a:t>
            </a:r>
            <a:r>
              <a:rPr b="0" lang="en-US" sz="1800" spc="-1" strike="noStrike">
                <a:solidFill>
                  <a:srgbClr val="000000"/>
                </a:solidFill>
                <a:latin typeface="Arial"/>
              </a:rPr>
              <a:t> (</a:t>
            </a:r>
            <a:r>
              <a:rPr b="1" lang="en-US" sz="1800" spc="-1" strike="noStrike">
                <a:solidFill>
                  <a:srgbClr val="000000"/>
                </a:solidFill>
                <a:latin typeface="Arial"/>
              </a:rPr>
              <a:t>pasmo podstawowe</a:t>
            </a:r>
            <a:r>
              <a:rPr b="0" lang="en-US" sz="1800" spc="-1" strike="noStrike">
                <a:solidFill>
                  <a:srgbClr val="000000"/>
                </a:solidFill>
                <a:latin typeface="Arial"/>
              </a:rPr>
              <a:t>) - zakres energii jaką posiadają elektrony walencyjne związane z jądrem atomu.</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mo przewodnictwa</a:t>
            </a:r>
            <a:r>
              <a:rPr b="0" lang="en-US" sz="1800" spc="-1" strike="noStrike">
                <a:solidFill>
                  <a:srgbClr val="000000"/>
                </a:solidFill>
                <a:latin typeface="Arial"/>
              </a:rPr>
              <a:t> - zakres energii jaką posiadają elektrony walencyjne uwolnione z atomu, będące wówczas nośnikami swobodnymi w ciele stałym.</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mo wzbronione, przerwa energetyczna – </a:t>
            </a:r>
            <a:r>
              <a:rPr b="0" lang="en-US" sz="1800" spc="-1" strike="noStrike">
                <a:solidFill>
                  <a:srgbClr val="000000"/>
                </a:solidFill>
                <a:latin typeface="Arial"/>
              </a:rPr>
              <a:t>przedział energii między maksymalną wartością pasma walencyjnego a minimalną wartością pasma przewodnictwa. </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zewodnik </a:t>
            </a:r>
            <a:r>
              <a:rPr b="0" lang="en-US" sz="1800" spc="-1" strike="noStrike">
                <a:solidFill>
                  <a:srgbClr val="000000"/>
                </a:solidFill>
                <a:latin typeface="Arial"/>
              </a:rPr>
              <a:t>- substancja, która dobrze przewodzi prąd. Nośnikami są elektrony tworzące gaz elektronowy. W pasmowej teorii przewodzenia pasmo walencyjne ma część wspólną z pasmem  przewodnictwa.</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zolator</a:t>
            </a:r>
            <a:r>
              <a:rPr b="0" lang="en-US" sz="1800" spc="-1" strike="noStrike">
                <a:solidFill>
                  <a:srgbClr val="000000"/>
                </a:solidFill>
                <a:latin typeface="Arial"/>
              </a:rPr>
              <a:t> – substancja, która nie przewodzi prądu elektrycznego. Według pasmowej teorii przewodzenia w temperaturze pokojowej energia drgań termicznych jest zbyt mała by elektrony zostały oderwane od atomu </a:t>
            </a:r>
            <a:br>
              <a:rPr sz="1800"/>
            </a:br>
            <a:r>
              <a:rPr b="0" lang="en-US" sz="1800" spc="-1" strike="noStrike">
                <a:solidFill>
                  <a:srgbClr val="000000"/>
                </a:solidFill>
                <a:latin typeface="Arial"/>
              </a:rPr>
              <a:t>i przeniesione z pasma walencyjnego do pasma przewodnictwa.</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ółprzewodnik </a:t>
            </a:r>
            <a:r>
              <a:rPr b="0" lang="en-US" sz="1800" spc="-1" strike="noStrike">
                <a:solidFill>
                  <a:srgbClr val="000000"/>
                </a:solidFill>
                <a:latin typeface="Arial"/>
              </a:rPr>
              <a:t>– substancja, która może przewodzić prąd. Według pasmowej teorii przewodzenia średnia energia drgań termicznych jest wystarczająca do tego, by elektrony zostały przeniesione z pasma walencyjnego do pasma przewodnictwa. Nośnikami prądu </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 półprzewodnikach są elektrony i dziury.</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3"/>
          <p:cNvSpPr/>
          <p:nvPr/>
        </p:nvSpPr>
        <p:spPr>
          <a:xfrm>
            <a:off x="324000" y="1341360"/>
            <a:ext cx="8497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33" name="pole tekstowe 2"/>
          <p:cNvSpPr/>
          <p:nvPr/>
        </p:nvSpPr>
        <p:spPr>
          <a:xfrm>
            <a:off x="611280" y="620640"/>
            <a:ext cx="777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MOWA TEORIA PRZEWODZENIA</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mowa teoria przewodzenia zakłada istnienie trzech pasm: walencyjnego, przewodnictwa i przerwy energetycznej.</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 zależności od rodzaju substancji pasma te układają się w różny sposób.</a:t>
            </a:r>
            <a:endParaRPr b="0" lang="en-US" sz="1800" spc="-1" strike="noStrike">
              <a:solidFill>
                <a:srgbClr val="ffff00"/>
              </a:solidFill>
              <a:latin typeface="Arial"/>
            </a:endParaRPr>
          </a:p>
        </p:txBody>
      </p:sp>
      <p:graphicFrame>
        <p:nvGraphicFramePr>
          <p:cNvPr id="134" name="Object 4"/>
          <p:cNvGraphicFramePr/>
          <p:nvPr/>
        </p:nvGraphicFramePr>
        <p:xfrm>
          <a:off x="828720" y="2133720"/>
          <a:ext cx="7934400" cy="3600360"/>
        </p:xfrm>
        <a:graphic>
          <a:graphicData uri="http://schemas.openxmlformats.org/presentationml/2006/ole">
            <p:oleObj r:id="rId1" spid="">
              <p:embed/>
              <p:pic>
                <p:nvPicPr>
                  <p:cNvPr id="135" name="Object 4" descr=""/>
                  <p:cNvPicPr/>
                  <p:nvPr/>
                </p:nvPicPr>
                <p:blipFill>
                  <a:blip r:embed="rId2"/>
                  <a:stretch/>
                </p:blipFill>
                <p:spPr>
                  <a:xfrm>
                    <a:off x="828720" y="2133720"/>
                    <a:ext cx="7934400" cy="360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 Box 3"/>
          <p:cNvSpPr/>
          <p:nvPr/>
        </p:nvSpPr>
        <p:spPr>
          <a:xfrm>
            <a:off x="324000" y="1341360"/>
            <a:ext cx="8497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37" name="pole tekstowe 2"/>
          <p:cNvSpPr/>
          <p:nvPr/>
        </p:nvSpPr>
        <p:spPr>
          <a:xfrm>
            <a:off x="971640" y="549360"/>
            <a:ext cx="7345440" cy="53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zewodniki-</a:t>
            </a:r>
            <a:r>
              <a:rPr b="0" lang="en-US" sz="1800" spc="-1" strike="noStrike">
                <a:solidFill>
                  <a:srgbClr val="000000"/>
                </a:solidFill>
                <a:latin typeface="Arial"/>
              </a:rPr>
              <a:t> dla tych materiałów pasmo przewodnictwa pokrywa się częściowo z pasmem walencyjnym lub najwyższe pasmo zawierające elektrony jest częściowo zapełnione – w tym przypadku potrzeba niewielkiej energii, by wzbudzić elektron na wyższy, nie obsadzony jeszcze poziom. Pole elektryczne spowoduje dryf elektronów – czyli przepływ prądu. Do przewodników należą Li, Na, K, Mg, Ca, Zn, Sr, Ba.</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ółprzewodniki – </a:t>
            </a:r>
            <a:r>
              <a:rPr b="0" lang="en-US" sz="1800" spc="-1" strike="noStrike">
                <a:solidFill>
                  <a:srgbClr val="000000"/>
                </a:solidFill>
                <a:latin typeface="Arial"/>
              </a:rPr>
              <a:t>dla tych materiałów pasmo przewodnictwa oddziela od pasma walencyjnego przerwa energetyczna. Wartość tej przerwy jest jednak znacznie mniejsza niż wartość energii ruchu cieplnego sieci krystalicznej. Dzięki temu część elektronów może przejść do pasma przewodnictwa. Pojawią się dwa rodzaje nośników prądu – elektrony (ujemne) w paśmie przewodnictwa i „dziury” („dodatnie”) </a:t>
            </a:r>
            <a:br>
              <a:rPr sz="1800"/>
            </a:br>
            <a:r>
              <a:rPr b="0" lang="en-US" sz="1800" spc="-1" strike="noStrike">
                <a:solidFill>
                  <a:srgbClr val="000000"/>
                </a:solidFill>
                <a:latin typeface="Arial"/>
              </a:rPr>
              <a:t>w paśmie walencyjnym. Kryształ taki nazywamy półprzewodnikiem samoistnym. Do półprzewodników należą między innymi Si, Ge.</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zolatory -</a:t>
            </a:r>
            <a:r>
              <a:rPr b="0" lang="en-US" sz="1800" spc="-1" strike="noStrike">
                <a:solidFill>
                  <a:srgbClr val="000000"/>
                </a:solidFill>
                <a:latin typeface="Arial"/>
              </a:rPr>
              <a:t> dla tych materiałów pasmo przewodnictwa oddzielone jest od pasma walencyjnego przerwą energetyczną. Wartość tej przerwy jest jednak znacznie większa niż wartość energii ruchu cieplnego sieci krystalicznej. Takie substancje nie przewodzą prądu elektrycznego. </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 Box 3"/>
          <p:cNvSpPr/>
          <p:nvPr/>
        </p:nvSpPr>
        <p:spPr>
          <a:xfrm>
            <a:off x="324000" y="1341360"/>
            <a:ext cx="8497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39" name="pole tekstowe 2"/>
          <p:cNvSpPr/>
          <p:nvPr/>
        </p:nvSpPr>
        <p:spPr>
          <a:xfrm>
            <a:off x="971640" y="549360"/>
            <a:ext cx="734544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ÓŁPRZEWODNIKI DOMIESZKOWANE</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danie do półprzewodnika samoistnego niewielkiej ilości innego pierwiastka znacznie zmienia jego własności elektryczne – zmienia się opór oraz liczba nośników prądu.</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e względu na domieszki półprzewodniki będziemy wtedy dzielić na:</a:t>
            </a:r>
            <a:endParaRPr b="0" lang="en-US" sz="1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półprzewodniki typu p (domieszką są pierwiastki grupy 13) – nośnikami są dziury. Na rysunku zamieszczonym poniżej zaznaczono pasma germanu domieszkowanego np. borem, który powoduje pojawienie się dodatkowego poziomu położonego blisko pasma walencyjnego germanu tzw. poziom akceptorowy A domieszki. Ułatwia to przejście elektronów z pasma przewodnictwa przez pośredni poziom akceptorowy do pasma walencyjnego.</a:t>
            </a:r>
            <a:endParaRPr b="0" lang="en-US" sz="1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graphicFrame>
        <p:nvGraphicFramePr>
          <p:cNvPr id="140" name="Object 4"/>
          <p:cNvGraphicFramePr/>
          <p:nvPr/>
        </p:nvGraphicFramePr>
        <p:xfrm>
          <a:off x="0" y="3933720"/>
          <a:ext cx="8424720" cy="2519640"/>
        </p:xfrm>
        <a:graphic>
          <a:graphicData uri="http://schemas.openxmlformats.org/presentationml/2006/ole">
            <p:oleObj r:id="rId1" spid="">
              <p:embed/>
              <p:pic>
                <p:nvPicPr>
                  <p:cNvPr id="141" name="Object 4" descr=""/>
                  <p:cNvPicPr/>
                  <p:nvPr/>
                </p:nvPicPr>
                <p:blipFill>
                  <a:blip r:embed="rId2"/>
                  <a:stretch/>
                </p:blipFill>
                <p:spPr>
                  <a:xfrm>
                    <a:off x="0" y="3933720"/>
                    <a:ext cx="8424720" cy="251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Text Box 3"/>
          <p:cNvSpPr/>
          <p:nvPr/>
        </p:nvSpPr>
        <p:spPr>
          <a:xfrm>
            <a:off x="324000" y="1341360"/>
            <a:ext cx="8497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43" name="pole tekstowe 3"/>
          <p:cNvSpPr/>
          <p:nvPr/>
        </p:nvSpPr>
        <p:spPr>
          <a:xfrm>
            <a:off x="826920" y="765000"/>
            <a:ext cx="7848720" cy="2562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ółprzewodniki typu n (domieszką są pierwiastki grupy 15) – nośnikami są elektrony. Na rysunku zamieszczonym poniżej zaznaczono pasma germanu domieszkowanego np. arsenem, który powoduje pojawienie się dodatkowego poziomu położonego blisko pasma przewodnictwa germanu tzw. poziom donorowy D domieszki. Elektrony znajdujące się na tym poziomie potrzebują mniejszej energii, aby przejść do pasma przewodnictwa.</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graphicFrame>
        <p:nvGraphicFramePr>
          <p:cNvPr id="144" name="Object 4"/>
          <p:cNvGraphicFramePr/>
          <p:nvPr/>
        </p:nvGraphicFramePr>
        <p:xfrm>
          <a:off x="-252360" y="3068640"/>
          <a:ext cx="8905680" cy="2664000"/>
        </p:xfrm>
        <a:graphic>
          <a:graphicData uri="http://schemas.openxmlformats.org/presentationml/2006/ole">
            <p:oleObj r:id="rId1" spid="">
              <p:embed/>
              <p:pic>
                <p:nvPicPr>
                  <p:cNvPr id="145" name="Object 4" descr=""/>
                  <p:cNvPicPr/>
                  <p:nvPr/>
                </p:nvPicPr>
                <p:blipFill>
                  <a:blip r:embed="rId2"/>
                  <a:stretch/>
                </p:blipFill>
                <p:spPr>
                  <a:xfrm>
                    <a:off x="-252360" y="3068640"/>
                    <a:ext cx="8905680" cy="266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3"/>
          <p:cNvSpPr/>
          <p:nvPr/>
        </p:nvSpPr>
        <p:spPr>
          <a:xfrm>
            <a:off x="324000" y="1341360"/>
            <a:ext cx="8497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47" name="pole tekstowe 2"/>
          <p:cNvSpPr/>
          <p:nvPr/>
        </p:nvSpPr>
        <p:spPr>
          <a:xfrm>
            <a:off x="684360" y="549360"/>
            <a:ext cx="813564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 rysunkach zamieszczonych poniżej przedstawiono sieci krystaliczne półprzewodnika typu p (rysunek 1) i półprzewodnika typu n (rysunek 2), na których uwzględniono wiązania pomiędzy atomami i nośniki (dodatkowe elektrony lub dziury)</a:t>
            </a:r>
            <a:endParaRPr b="0"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graphicFrame>
        <p:nvGraphicFramePr>
          <p:cNvPr id="148" name="Object 4"/>
          <p:cNvGraphicFramePr/>
          <p:nvPr/>
        </p:nvGraphicFramePr>
        <p:xfrm>
          <a:off x="4340160" y="1989000"/>
          <a:ext cx="4803840" cy="3095640"/>
        </p:xfrm>
        <a:graphic>
          <a:graphicData uri="http://schemas.openxmlformats.org/presentationml/2006/ole">
            <p:oleObj r:id="rId1" spid="">
              <p:embed/>
              <p:pic>
                <p:nvPicPr>
                  <p:cNvPr id="149" name="Object 4" descr=""/>
                  <p:cNvPicPr/>
                  <p:nvPr/>
                </p:nvPicPr>
                <p:blipFill>
                  <a:blip r:embed="rId2"/>
                  <a:stretch/>
                </p:blipFill>
                <p:spPr>
                  <a:xfrm>
                    <a:off x="4340160" y="1989000"/>
                    <a:ext cx="4803840" cy="3095640"/>
                  </a:xfrm>
                  <a:prstGeom prst="rect">
                    <a:avLst/>
                  </a:prstGeom>
                  <a:ln w="0">
                    <a:noFill/>
                  </a:ln>
                </p:spPr>
              </p:pic>
            </p:oleObj>
          </a:graphicData>
        </a:graphic>
      </p:graphicFrame>
      <p:graphicFrame>
        <p:nvGraphicFramePr>
          <p:cNvPr id="150" name="Object 5"/>
          <p:cNvGraphicFramePr/>
          <p:nvPr/>
        </p:nvGraphicFramePr>
        <p:xfrm>
          <a:off x="0" y="1916280"/>
          <a:ext cx="4824360" cy="3111480"/>
        </p:xfrm>
        <a:graphic>
          <a:graphicData uri="http://schemas.openxmlformats.org/presentationml/2006/ole">
            <p:oleObj r:id="rId3" spid="">
              <p:embed/>
              <p:pic>
                <p:nvPicPr>
                  <p:cNvPr id="151" name="Object 5" descr=""/>
                  <p:cNvPicPr/>
                  <p:nvPr/>
                </p:nvPicPr>
                <p:blipFill>
                  <a:blip r:embed="rId4"/>
                  <a:stretch/>
                </p:blipFill>
                <p:spPr>
                  <a:xfrm>
                    <a:off x="0" y="1916280"/>
                    <a:ext cx="4824360" cy="3111480"/>
                  </a:xfrm>
                  <a:prstGeom prst="rect">
                    <a:avLst/>
                  </a:prstGeom>
                  <a:ln w="0">
                    <a:noFill/>
                  </a:ln>
                </p:spPr>
              </p:pic>
            </p:oleObj>
          </a:graphicData>
        </a:graphic>
      </p:graphicFrame>
      <p:sp>
        <p:nvSpPr>
          <p:cNvPr id="152" name="pole tekstowe 5"/>
          <p:cNvSpPr/>
          <p:nvPr/>
        </p:nvSpPr>
        <p:spPr>
          <a:xfrm>
            <a:off x="539640" y="4941720"/>
            <a:ext cx="835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ysunek 1                                                    rysunek 2</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Text Box 3"/>
          <p:cNvSpPr/>
          <p:nvPr/>
        </p:nvSpPr>
        <p:spPr>
          <a:xfrm>
            <a:off x="324000" y="1341360"/>
            <a:ext cx="8497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54" name="pole tekstowe 2"/>
          <p:cNvSpPr/>
          <p:nvPr/>
        </p:nvSpPr>
        <p:spPr>
          <a:xfrm>
            <a:off x="611280" y="620640"/>
            <a:ext cx="806436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ZŁĄCZE P-N</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e współczesnym świecie trudno wyobrazić sobie jakikolwiek układ elektroniczny, który nie zawierałby układów scalonych w tym elementów półprzewodnikowych. Złącze p-n powstaje przez połączenie dwóch rodzajów półprzewodników – typu p i n. Po zetknięciu tych płytek, pewna liczba elektronów przechodzi na skutek dyfuzji z obszaru n do p. Podobnie pewna liczba dziur przechodzi z obszaru p do n. Skutkiem tego jest pojawienie się różnicy potencjałów. Obszar ten, bardzo cienki, stanowi złącze p-n. Obecnie złącza p-n uzyskuje się przez wprowadzenie domieszek do płytki germanu lub krzemu w taki sposób, że z jednej strony dodaje się domieszek akceptorowych, a z drugiej donorowych. </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łącze takie można podłączać do źródła prądu na dwa sposoby:</a:t>
            </a:r>
            <a:endParaRPr b="0" lang="en-US" sz="1800" spc="-1" strike="noStrike">
              <a:solidFill>
                <a:srgbClr val="ffff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bszar p łączy się z biegunem dodatnim baterii, a n z ujemnym. W tej sytuacji prąd przepływa przez złącze. Mówimy, że złącze spolaryzowane jest w kierunku przewodzenia.</a:t>
            </a:r>
            <a:endParaRPr b="0" lang="en-US" sz="1800" spc="-1" strike="noStrike">
              <a:solidFill>
                <a:srgbClr val="ffff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bszar p łączy się z biegunem ujemnym baterii, a n z dodatnim. W tej sytuacji prąd nie przepływa przez złącze. Mówimy, że złącze spolaryzowane jest w kierunku zaporowym.</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3"/>
          <p:cNvSpPr/>
          <p:nvPr/>
        </p:nvSpPr>
        <p:spPr>
          <a:xfrm>
            <a:off x="324000" y="1341360"/>
            <a:ext cx="84978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56" name="pole tekstowe 2"/>
          <p:cNvSpPr/>
          <p:nvPr/>
        </p:nvSpPr>
        <p:spPr>
          <a:xfrm>
            <a:off x="468360" y="765000"/>
            <a:ext cx="828036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DIODA PROSTOWNICZA</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łącze p-n nazywamy diodą gdy wykorzystujemy je jako element prostujący prąd np. przemienny (sieciowy, sinusoidalny).</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zależności od tego, czy zastosujemy jedną diodę czy ich układ, to możemy spowodować jednopołówkowe prostowanie, bądź duwpołówkowe prostowanie.</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ostownik jednopołówkowy, jednokierunkowy   (rysunek 1 kolejny slajd) </a:t>
            </a:r>
            <a:r>
              <a:rPr b="0" lang="pl-PL" sz="1800" spc="-1" strike="noStrike">
                <a:solidFill>
                  <a:srgbClr val="000000"/>
                </a:solidFill>
                <a:latin typeface="Arial"/>
              </a:rPr>
              <a:t>składa się z transformatora T (elementu podnoszącego lub obniżającego napięcie), diody D, oraz kondensatora C wygładzającego napięcie. Opornik R stanowi odbiornik, przez który ma przepłynąć prąd wyprostowany. Impulsy uzyskiwane na uzwojeniu wtórnym transformatora są przemienne – najpierw </a:t>
            </a:r>
            <a:br>
              <a:rPr sz="1800"/>
            </a:br>
            <a:r>
              <a:rPr b="0" lang="pl-PL" sz="1800" spc="-1" strike="noStrike">
                <a:solidFill>
                  <a:srgbClr val="000000"/>
                </a:solidFill>
                <a:latin typeface="Arial"/>
              </a:rPr>
              <a:t>+, -, a następnie -, +. Dioda spolaryzowana jest w kierunku przewodzenia dla impulsów +,- (taki impuls zostaje przepuszczony), natomiast zaporowo dla impulsów - ,+ (taki impuls zostaje wygaszony). Kondensator pełni rolę „wygładzacza prądu” (rysunek 2 kolejny slajd).   </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3T21:40:34Z</dcterms:created>
  <dc:creator>Ministerstwo Edukacji Narodowej i Sportu</dc:creator>
  <dc:description/>
  <dc:language>en-US</dc:language>
  <cp:lastModifiedBy>Ministerstwo Edukacji Narodowej i Sportu</cp:lastModifiedBy>
  <dcterms:modified xsi:type="dcterms:W3CDTF">2013-07-07T11:58:44Z</dcterms:modified>
  <cp:revision>150</cp:revision>
  <dc:subject/>
  <dc:title>KORPUSKULARNO-FALOWA NATURA ŚWIATŁA</dc:title>
</cp:coreProperties>
</file>