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1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B744A-D89B-485C-B3BA-885A9B2FF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0D16F-1E48-4813-8ACE-54BCBC9B1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D6CEA-A2AF-4045-9765-B10C601355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2A16E-22B6-4EE7-8EAA-C38218948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A600A0-9C01-4CCE-9F92-B94D0B4DE9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0A9A8-1957-48EE-A314-CC5E4E416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5B545-5CB3-48A1-ABDE-AD7614C1E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25AA9-1A17-444D-A091-A90DD7171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A1548-100A-44EA-A67A-F491161EC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BF020-D9A9-47C3-BF19-6CC4E1193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41A56-5232-4378-B189-9FF7FF190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1DBED-5399-4601-8DF8-D97D536C9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11A17-A5BD-4222-8BDF-CA5DFC53C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02054-41F3-4124-B89C-430BA4246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8C470-A977-4589-92F3-6DABA8DB0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89A0CA-4A02-4CB3-9B46-5F29B34245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4726B0-0BFE-47BC-984A-B9F7B5F293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EAE4AA-F06F-49BC-B783-E1C24464C5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E272DC-0129-4EDE-AF1E-E0039E3D04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400A30-723F-4962-9C84-327D7A9970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6F7188-00DB-4306-B9BA-1DC57FB9BD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4587E9-7773-4800-8281-7B95C63D25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761B4-C4A7-4E13-9796-36EDC9F94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86A350-8731-40A7-9622-1F8AE01E0B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261379-E3DE-42B3-BCF4-6E9A309796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692DBC-772E-43D0-B1EF-523B6F8483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399EF4-A525-4792-A2E2-41042C3133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600B4D-893B-42A5-A5D1-073FF21FCD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CE1421-6649-4CC7-A6F7-FF86A43C85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F04FEF-0074-4570-89A4-8DDFE04840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3BFDE-FF4B-4F12-A84C-F80F12B36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1BFCE-F50A-4232-8B89-595CF3478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25C34-5110-4366-B2D7-B40BEE1CF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3DD8B-0996-499C-8866-831C94D93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74A94-3396-4B53-9D08-C63B48A40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AC464-E845-441C-B419-679B63BCDD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F264D-18FF-4091-9AE5-22282C7072D0}" type="slidenum">
              <a:rPr b="0" lang="pl-P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
          <p:cNvPicPr/>
          <p:nvPr/>
        </p:nvPicPr>
        <p:blipFill>
          <a:blip r:embed="rId2"/>
          <a:stretch/>
        </p:blipFill>
        <p:spPr>
          <a:xfrm>
            <a:off x="0" y="5761080"/>
            <a:ext cx="9144000" cy="1123920"/>
          </a:xfrm>
          <a:prstGeom prst="rect">
            <a:avLst/>
          </a:prstGeom>
          <a:ln w="0">
            <a:noFill/>
          </a:ln>
        </p:spPr>
      </p:pic>
      <p:pic>
        <p:nvPicPr>
          <p:cNvPr id="42" name="Picture 2" descr=""/>
          <p:cNvPicPr/>
          <p:nvPr/>
        </p:nvPicPr>
        <p:blipFill>
          <a:blip r:embed="rId3"/>
          <a:stretch/>
        </p:blipFill>
        <p:spPr>
          <a:xfrm>
            <a:off x="-4680" y="0"/>
            <a:ext cx="9144000" cy="1628640"/>
          </a:xfrm>
          <a:prstGeom prst="rect">
            <a:avLst/>
          </a:prstGeom>
          <a:ln w="0">
            <a:noFill/>
          </a:ln>
        </p:spPr>
      </p:pic>
      <p:sp>
        <p:nvSpPr>
          <p:cNvPr id="4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4983F-4DA6-44D4-A9EC-2EDC0FFFE478}" type="slidenum">
              <a:rPr b="0" lang="pl-PL"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 descr=""/>
          <p:cNvPicPr/>
          <p:nvPr/>
        </p:nvPicPr>
        <p:blipFill>
          <a:blip r:embed="rId2"/>
          <a:stretch/>
        </p:blipFill>
        <p:spPr>
          <a:xfrm>
            <a:off x="0" y="5979960"/>
            <a:ext cx="9144000" cy="905040"/>
          </a:xfrm>
          <a:prstGeom prst="rect">
            <a:avLst/>
          </a:prstGeom>
          <a:ln w="0">
            <a:noFill/>
          </a:ln>
        </p:spPr>
      </p:pic>
      <p:pic>
        <p:nvPicPr>
          <p:cNvPr id="85" name="Picture 2" descr=""/>
          <p:cNvPicPr/>
          <p:nvPr/>
        </p:nvPicPr>
        <p:blipFill>
          <a:blip r:embed="rId3"/>
          <a:stretch/>
        </p:blipFill>
        <p:spPr>
          <a:xfrm>
            <a:off x="0" y="-27000"/>
            <a:ext cx="9144000" cy="1123920"/>
          </a:xfrm>
          <a:prstGeom prst="rect">
            <a:avLst/>
          </a:prstGeom>
          <a:ln w="0">
            <a:noFill/>
          </a:ln>
        </p:spPr>
      </p:pic>
      <p:pic>
        <p:nvPicPr>
          <p:cNvPr id="86" name="Obraz 2" descr="stopka_poz.gif"/>
          <p:cNvPicPr/>
          <p:nvPr/>
        </p:nvPicPr>
        <p:blipFill>
          <a:blip r:embed="rId4"/>
          <a:stretch/>
        </p:blipFill>
        <p:spPr>
          <a:xfrm>
            <a:off x="0" y="5951520"/>
            <a:ext cx="9144000" cy="906480"/>
          </a:xfrm>
          <a:prstGeom prst="rect">
            <a:avLst/>
          </a:prstGeom>
          <a:ln w="0">
            <a:noFill/>
          </a:ln>
        </p:spPr>
      </p:pic>
      <p:pic>
        <p:nvPicPr>
          <p:cNvPr id="87" name="Obraz 9" descr="nagłówek_poz.gif"/>
          <p:cNvPicPr/>
          <p:nvPr/>
        </p:nvPicPr>
        <p:blipFill>
          <a:blip r:embed="rId5"/>
          <a:stretch/>
        </p:blipFill>
        <p:spPr>
          <a:xfrm>
            <a:off x="0" y="0"/>
            <a:ext cx="9144000" cy="1125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20D1A-C754-4E7E-B625-CAAFFFCD0172}" type="slidenum">
              <a:rPr b="0" lang="pl-PL"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hyperlink" Target="https://www.google.pl/search?q=ciek&#322;e+kryszta&#322;y&amp;hl=pl&amp;tbm=isch&amp;tbo=u&amp;source=univ&amp;sa=X&amp;ei=LaCMUcr-Bs22PYvSgNAF&amp;sqi=2&amp;ved=0CDUQsAQ&amp;biw=1366&amp;bih=606#imgrc=Ya8QkBqwoK3KIM%3A%3B7bfLNc7KL_3GtM%3Bhttp%253A%252F%252Fbi.gazeta.pl%252Fim%252F9%252F8480%252Fz8480989Q%252Cciekle-krysztaly.jpg%3Bhttp%253A%252F%252Ftechnologie.gazeta.pl%252Finternet%252F1%252C104530%252C8480988%252CNowy_rodzaj_cieklych_krysztalo" TargetMode="External"/><Relationship Id="rId6"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monitory-lcd.manifo.com/nowa-podstrona-561" TargetMode="External"/><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Ciekły kryształ w polu elektrycznym.</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3"/>
          <p:cNvSpPr/>
          <p:nvPr/>
        </p:nvSpPr>
        <p:spPr>
          <a:xfrm>
            <a:off x="324000" y="1341360"/>
            <a:ext cx="8497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55" name="pole tekstowe 2"/>
          <p:cNvSpPr/>
          <p:nvPr/>
        </p:nvSpPr>
        <p:spPr>
          <a:xfrm>
            <a:off x="611280" y="620640"/>
            <a:ext cx="7632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56" name="pole tekstowe 7"/>
          <p:cNvSpPr/>
          <p:nvPr/>
        </p:nvSpPr>
        <p:spPr>
          <a:xfrm>
            <a:off x="250920" y="333360"/>
            <a:ext cx="8569080" cy="6311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laryzator jest urządzeniem optycznym przepuszczającym światło o określonej polaryzacji liniowej. Analizator to polaryzator, w którym określona jest płaszczyzna polaryzacji. Za ekranem znajduje się źródło światła np. lampa fluorescencyjna. W zależności od wielkości panelu LCD ilości tych lamp wahają się od dwóch (monitory 15") do ośmiu (monitory 20-21"). Panele 17" najczęściej mają zamontowane 4 lampy fluorescencyjne. Światło pochodzące od źródła światła przechodzi w początkowej fazie przez tzw. dyfuzor - element zapewniający równomierne oświetlenie całego panelu LCD. W następnej kolejności światło przepuszczane jest przez pierwszy filtr polaryzacyjny czyli grupę elektrod sterujących ułożeniem cząstek ciekłego kryształu. Następnie światło przedostaje się przez warstwę orientującą – warstwę ustawiającą molekuły ciekłego kryształu w odpowiednim stanie (najczęściej spoczynkowym). </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ole tekstowe 1"/>
          <p:cNvSpPr/>
          <p:nvPr/>
        </p:nvSpPr>
        <p:spPr>
          <a:xfrm>
            <a:off x="250920" y="620640"/>
            <a:ext cx="864216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najdująca się dalej warstwa ciekłego kryształu odchyla (skręca) płaszczyznę polaryzacji światła o 90</a:t>
            </a:r>
            <a:r>
              <a:rPr b="0" lang="pl-PL" sz="2400" spc="-1" strike="noStrike" baseline="30000">
                <a:solidFill>
                  <a:srgbClr val="000000"/>
                </a:solidFill>
                <a:latin typeface="Arial"/>
              </a:rPr>
              <a:t>o</a:t>
            </a:r>
            <a:r>
              <a:rPr b="0" lang="pl-PL" sz="2400" spc="-1" strike="noStrike">
                <a:solidFill>
                  <a:srgbClr val="000000"/>
                </a:solidFill>
                <a:latin typeface="Arial"/>
              </a:rPr>
              <a:t>. Ciekły kryształ ma krystaliczną strukturę. Cząsteczki kryształu mają kształt pręcików, są ustawiane w równoległych rzędach i steruje się nimi przy użyciu pola elektrycznego. Substancja ciekłokrystaliczna jest umieszczona w kilku milionach pojedynczych komórek. Komórki te tworzą matrycę pikseli. Aby światło mogło ulec skręceniu musi nastąpić odpowiednie ułożenie pałeczkowatych cząstek. Aby takie ułożenie uzyskać stosuje się wyżej wymienione warstwy orientujące. Światło po przejściu przez ciekły kryształ napotyka drugi filtr polaryzacyjny. W zależności od kąta padania światła </a:t>
            </a:r>
            <a:br>
              <a:rPr sz="2400"/>
            </a:br>
            <a:r>
              <a:rPr b="0" lang="pl-PL" sz="2400" spc="-1" strike="noStrike">
                <a:solidFill>
                  <a:srgbClr val="000000"/>
                </a:solidFill>
                <a:latin typeface="Arial"/>
              </a:rPr>
              <a:t>w stosunku do osi polaryzacji filtra światło wydostaje się </a:t>
            </a:r>
            <a:br>
              <a:rPr sz="2400"/>
            </a:br>
            <a:r>
              <a:rPr b="0" lang="pl-PL" sz="2400" spc="-1" strike="noStrike">
                <a:solidFill>
                  <a:srgbClr val="000000"/>
                </a:solidFill>
                <a:latin typeface="Arial"/>
              </a:rPr>
              <a:t>z panelu LCD, a użytkownik widzi jasny punkt na ekranie.</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3"/>
          <p:cNvSpPr/>
          <p:nvPr/>
        </p:nvSpPr>
        <p:spPr>
          <a:xfrm>
            <a:off x="324000" y="1341360"/>
            <a:ext cx="8497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59" name="pole tekstowe 2"/>
          <p:cNvSpPr/>
          <p:nvPr/>
        </p:nvSpPr>
        <p:spPr>
          <a:xfrm>
            <a:off x="611280" y="620640"/>
            <a:ext cx="7632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60" name="pole tekstowe 7"/>
          <p:cNvSpPr/>
          <p:nvPr/>
        </p:nvSpPr>
        <p:spPr>
          <a:xfrm>
            <a:off x="395280" y="333360"/>
            <a:ext cx="842472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Świecenie kryształu</a:t>
            </a:r>
            <a:r>
              <a:rPr b="0" lang="pl-PL" sz="1800" spc="-1" strike="noStrike">
                <a:solidFill>
                  <a:srgbClr val="000000"/>
                </a:solidFill>
                <a:latin typeface="Arial"/>
              </a:rPr>
              <a:t>: ekran LCD zbudowany jest z dwóch warstw ciekłych kryształów umieszczonych pomiędzy dwiema odpowiednio wyprofilowanymi powierzchniami, z których jedna jest ustawiona pod kątem 90 stopni wobec drugiej. Monitor LCD w przeciwieństwie do modeli CRT pracuje z maksymalną jakością tylko w rozdzielczości rzeczywistej, bo LCD ma stałą liczbę pikseli. </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pic>
        <p:nvPicPr>
          <p:cNvPr id="161" name="Picture 2" descr="http://pldocs.docdat.com/pars_docs/refs/199/198039/198039_html_m4f6f44bb.gif"/>
          <p:cNvPicPr/>
          <p:nvPr/>
        </p:nvPicPr>
        <p:blipFill>
          <a:blip r:embed="rId1"/>
          <a:stretch/>
        </p:blipFill>
        <p:spPr>
          <a:xfrm>
            <a:off x="2411280" y="1844640"/>
            <a:ext cx="3990960" cy="4032360"/>
          </a:xfrm>
          <a:prstGeom prst="rect">
            <a:avLst/>
          </a:prstGeom>
          <a:ln w="0">
            <a:noFill/>
          </a:ln>
        </p:spPr>
      </p:pic>
      <p:sp>
        <p:nvSpPr>
          <p:cNvPr id="162" name="pole tekstowe 5"/>
          <p:cNvSpPr/>
          <p:nvPr/>
        </p:nvSpPr>
        <p:spPr>
          <a:xfrm>
            <a:off x="755640" y="6021360"/>
            <a:ext cx="734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Źródło: http://pldocs.docdat.com/docs/index-198039.html</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ole tekstowe 1"/>
          <p:cNvSpPr/>
          <p:nvPr/>
        </p:nvSpPr>
        <p:spPr>
          <a:xfrm>
            <a:off x="468360" y="333360"/>
            <a:ext cx="82803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Filtr selektywny. </a:t>
            </a:r>
            <a:r>
              <a:rPr b="0" lang="pl-PL" sz="1800" spc="-1" strike="noStrike">
                <a:solidFill>
                  <a:srgbClr val="000000"/>
                </a:solidFill>
                <a:latin typeface="Arial"/>
              </a:rPr>
              <a:t>Występuje na powierzchni ekranu monitora LCD. Kieruje w stronę oczu dwa obrazy o różnej perspektywie. Mózg przetwarza otrzymaną informację i tworzy trójwymiarową scenę.</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pic>
        <p:nvPicPr>
          <p:cNvPr id="164" name="Picture 2" descr="http://pldocs.docdat.com/pars_docs/refs/199/198039/198039_html_7beb445b.gif"/>
          <p:cNvPicPr/>
          <p:nvPr/>
        </p:nvPicPr>
        <p:blipFill>
          <a:blip r:embed="rId1"/>
          <a:stretch/>
        </p:blipFill>
        <p:spPr>
          <a:xfrm>
            <a:off x="1619280" y="1341360"/>
            <a:ext cx="5040360" cy="4613400"/>
          </a:xfrm>
          <a:prstGeom prst="rect">
            <a:avLst/>
          </a:prstGeom>
          <a:ln w="0">
            <a:noFill/>
          </a:ln>
        </p:spPr>
      </p:pic>
      <p:sp>
        <p:nvSpPr>
          <p:cNvPr id="165" name="pole tekstowe 3"/>
          <p:cNvSpPr/>
          <p:nvPr/>
        </p:nvSpPr>
        <p:spPr>
          <a:xfrm>
            <a:off x="611280" y="5950080"/>
            <a:ext cx="777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Źródło: http://pldocs.docdat.com/docs/index-198039.html</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ole tekstowe 1"/>
          <p:cNvSpPr/>
          <p:nvPr/>
        </p:nvSpPr>
        <p:spPr>
          <a:xfrm>
            <a:off x="539640" y="765000"/>
            <a:ext cx="792000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Zalety monitorów LCD:</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mała waga, </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mały rozmiar,</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brak emisji szkodliwego promieniowania,</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małe zapotrzebowanie na energię,</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obraz wysokiej jakości,</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ady monitorów LCD:</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trudny do uzyskania kontrast,</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pochłanianie części światła,</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braz widziany pod kątem zanika.</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udowę i zasadę działania monitorów LCD opracowano na podstawie:</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http://zswolbrom.pl/zadania/2ti_utk/3.5.Budowa_i_zasada_dzialania_monitorow_CRT_i_LCD.pdf</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ole tekstowe 1"/>
          <p:cNvSpPr/>
          <p:nvPr/>
        </p:nvSpPr>
        <p:spPr>
          <a:xfrm>
            <a:off x="539640" y="765000"/>
            <a:ext cx="7920000" cy="408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lajd zawiera linki do filmów, na których można zaobserwować: </a:t>
            </a:r>
            <a:endParaRPr b="0" lang="en-US" sz="3200" spc="-1" strike="noStrike">
              <a:solidFill>
                <a:srgbClr val="ffff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achowanie się ciekłych kryształów w różnych temperaturach.</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ttp://www.youtube.com/watch?v=YkPOmZ8bl7A</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2. jak działa monitor LCD.</a:t>
            </a:r>
            <a:endParaRPr b="0" lang="en-US" sz="3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ttp://www.youtube.com/watch?v=O3aITfU_UvE</a:t>
            </a:r>
            <a:endParaRPr b="0" lang="en-US" sz="24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3"/>
          <p:cNvSpPr/>
          <p:nvPr/>
        </p:nvSpPr>
        <p:spPr>
          <a:xfrm>
            <a:off x="324000" y="1341360"/>
            <a:ext cx="8497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31" name="pole tekstowe 2"/>
          <p:cNvSpPr/>
          <p:nvPr/>
        </p:nvSpPr>
        <p:spPr>
          <a:xfrm>
            <a:off x="611280" y="620640"/>
            <a:ext cx="763272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KRYSZTAŁY</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Kryształ</a:t>
            </a:r>
            <a:r>
              <a:rPr b="0" lang="pl-PL" sz="1800" spc="-1" strike="noStrike">
                <a:solidFill>
                  <a:srgbClr val="000000"/>
                </a:solidFill>
                <a:latin typeface="Arial"/>
              </a:rPr>
              <a:t> – to substancja o regularnie powtarzającym się rozkładzie atomów, tworzących sieć krystaliczną.</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Komórka elementarna </a:t>
            </a:r>
            <a:r>
              <a:rPr b="0" lang="pl-PL" sz="1800" spc="-1" strike="noStrike">
                <a:solidFill>
                  <a:srgbClr val="000000"/>
                </a:solidFill>
                <a:latin typeface="Arial"/>
              </a:rPr>
              <a:t>– powtarzający się układ powiązanych ze sobą wszystkich atomów występujących w strukturach tworzących sieć krystaliczną.</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Monokryształy</a:t>
            </a:r>
            <a:r>
              <a:rPr b="0" lang="pl-PL" sz="1800" spc="-1" strike="noStrike">
                <a:solidFill>
                  <a:srgbClr val="000000"/>
                </a:solidFill>
                <a:latin typeface="Arial"/>
              </a:rPr>
              <a:t> – duże kryształy z powtarzającymi się stałymi kątami między ścianami i krawędziami.</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Anizotropia</a:t>
            </a:r>
            <a:r>
              <a:rPr b="0" lang="pl-PL" sz="1800" spc="-1" strike="noStrike">
                <a:solidFill>
                  <a:srgbClr val="000000"/>
                </a:solidFill>
                <a:latin typeface="Arial"/>
              </a:rPr>
              <a:t> – cecha charakterystyczna dla monokryształów, polegająca na wykazywaniu różnych własności fizycznych dla różnych kierunków </a:t>
            </a:r>
            <a:br>
              <a:rPr sz="1800"/>
            </a:br>
            <a:r>
              <a:rPr b="0" lang="pl-PL" sz="1800" spc="-1" strike="noStrike">
                <a:solidFill>
                  <a:srgbClr val="000000"/>
                </a:solidFill>
                <a:latin typeface="Arial"/>
              </a:rPr>
              <a:t>np. rozszerzalność termiczna, przewodnictwo cieplne itp.</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olikryształ</a:t>
            </a:r>
            <a:r>
              <a:rPr b="0" lang="pl-PL" sz="1800" spc="-1" strike="noStrike">
                <a:solidFill>
                  <a:srgbClr val="000000"/>
                </a:solidFill>
                <a:latin typeface="Arial"/>
              </a:rPr>
              <a:t> – ciała stałe składające się z chaotycznie rozmieszczonych , mikroskopowych kryształów.</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3"/>
          <p:cNvSpPr/>
          <p:nvPr/>
        </p:nvSpPr>
        <p:spPr>
          <a:xfrm>
            <a:off x="324000" y="1341360"/>
            <a:ext cx="8497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33" name="pole tekstowe 2"/>
          <p:cNvSpPr/>
          <p:nvPr/>
        </p:nvSpPr>
        <p:spPr>
          <a:xfrm>
            <a:off x="611280" y="404640"/>
            <a:ext cx="7632720" cy="594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CIEKŁE KRYSZTAŁY</a:t>
            </a:r>
            <a:endParaRPr b="0" lang="en-US" sz="32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Ciekłe kryształy</a:t>
            </a:r>
            <a:r>
              <a:rPr b="0" lang="pl-PL" sz="3200" spc="-1" strike="noStrike">
                <a:solidFill>
                  <a:srgbClr val="000000"/>
                </a:solidFill>
                <a:latin typeface="Arial"/>
              </a:rPr>
              <a:t> – to ciała posiadające fizyczne własności zarówno ciała stałego, jak i płynu – można powiedzieć, że mamy do czynienia z fazą pośrednią między ciałem stałym i cieczą. Stan ciekłokrystaliczny utracił uporządkowanie trójwymiarowe charakterystyczne dla stanu krystalicznego lecz zachował uporządkowanie dwuwymiarowe. Jest więc stanem bardziej uporządkowanym niż ciecz.</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ole tekstowe 1"/>
          <p:cNvSpPr/>
          <p:nvPr/>
        </p:nvSpPr>
        <p:spPr>
          <a:xfrm>
            <a:off x="250920" y="476280"/>
            <a:ext cx="8713800" cy="606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Historycznie:</a:t>
            </a:r>
            <a:endParaRPr b="0" lang="en-US" sz="2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W roku 1888 Friedrich Reinitzer, austriacki botanik, badał rolę, jaką fitosterol odgrywa w roślinach. W jednym z eksperymentów wystawił on badany materiał na działanie ciepła, przy czym odkrył, że kryształ staje się mętnym płynem w temperaturze 145.5°C, zaś przy 178.5°C przechodzi on całkowicie w stan płynny. Badacz podzielił się swoim odkryciem z Otto Lehmannem, niemieckim fizykiem, który odkrył następnie, że płyn ten posiada pewne właściwości kryształu, szczególnie jeśli chodzi o jego zachowanie pod wpływem światła. Stąd wzięła się nazwa, nadana mu przez Lehmanna - ciekły kryształ. </a:t>
            </a:r>
            <a:endParaRPr b="0" lang="en-US" sz="2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324000" y="1341360"/>
            <a:ext cx="8497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36" name="pole tekstowe 2"/>
          <p:cNvSpPr/>
          <p:nvPr/>
        </p:nvSpPr>
        <p:spPr>
          <a:xfrm>
            <a:off x="611280" y="620640"/>
            <a:ext cx="7632720" cy="695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ększość ciekłych kryształów zbudowana jest z długich, wąskich cząsteczek organicznych. Cząsteczki te muszą mieć grupy polarne zapewniające im odpowiednie ułożenie w stanie ciekłym zmierzającą do pewnego uporządkowania molekuł. Można wyróżnić trzy podstawowe struktury ciekłokrystaliczne: </a:t>
            </a:r>
            <a:r>
              <a:rPr b="1" lang="pl-PL" sz="1800" spc="-1" strike="noStrike">
                <a:solidFill>
                  <a:srgbClr val="000000"/>
                </a:solidFill>
                <a:latin typeface="Arial"/>
              </a:rPr>
              <a:t>smektyczną (smetyczną) – nazwa pochodzi od słowa mydlany</a:t>
            </a:r>
            <a:r>
              <a:rPr b="0" lang="pl-PL" sz="1800" spc="-1" strike="noStrike">
                <a:solidFill>
                  <a:srgbClr val="000000"/>
                </a:solidFill>
                <a:latin typeface="Arial"/>
              </a:rPr>
              <a:t>,</a:t>
            </a:r>
            <a:r>
              <a:rPr b="1" lang="pl-PL" sz="1800" spc="-1" strike="noStrike">
                <a:solidFill>
                  <a:srgbClr val="000000"/>
                </a:solidFill>
                <a:latin typeface="Arial"/>
              </a:rPr>
              <a:t> nematyczną – nawa pochodzi od łacińskiego słowa nić </a:t>
            </a:r>
            <a:r>
              <a:rPr b="0" lang="pl-PL" sz="1800" spc="-1" strike="noStrike">
                <a:solidFill>
                  <a:srgbClr val="000000"/>
                </a:solidFill>
                <a:latin typeface="Arial"/>
              </a:rPr>
              <a:t>i</a:t>
            </a:r>
            <a:r>
              <a:rPr b="1" lang="pl-PL" sz="1800" spc="-1" strike="noStrike">
                <a:solidFill>
                  <a:srgbClr val="000000"/>
                </a:solidFill>
                <a:latin typeface="Arial"/>
              </a:rPr>
              <a:t> cholesteryczną – nazwa pochodzi od estrów cholesterolu</a:t>
            </a:r>
            <a:r>
              <a:rPr b="0" lang="pl-PL" sz="1800" spc="-1" strike="noStrike">
                <a:solidFill>
                  <a:srgbClr val="000000"/>
                </a:solidFill>
                <a:latin typeface="Arial"/>
              </a:rPr>
              <a:t>.</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strukturze smektycznej cząsteczki organiczne w poszczególnych warstwach są ułożone równolegle. Kryształy smektyczne są nieprzeźroczyste i lepkie. Płaszczyzny mogą się przemieszczać równolegle</a:t>
            </a:r>
            <a:r>
              <a:rPr b="0" lang="pl-PL" sz="1800" spc="-1" strike="noStrike">
                <a:solidFill>
                  <a:srgbClr val="ffff00"/>
                </a:solidFill>
                <a:latin typeface="Arial"/>
              </a:rPr>
              <a:t>. </a:t>
            </a:r>
            <a:r>
              <a:rPr b="0" lang="pl-PL" sz="1800" spc="-1" strike="noStrike">
                <a:solidFill>
                  <a:srgbClr val="000000"/>
                </a:solidFill>
                <a:latin typeface="Arial"/>
              </a:rPr>
              <a:t>W strukturze nematycznej cząsteczki są równoległe względem siebie lecz nie są zorganizowane w płaszczyzny. Te ciekłe kryształy są bardziej przeźroczyste i mniej lepkie niż kryształy smektyczne.</a:t>
            </a:r>
            <a:r>
              <a:rPr b="0" lang="pl-PL" sz="1800" spc="-1" strike="noStrike">
                <a:solidFill>
                  <a:srgbClr val="ffff00"/>
                </a:solidFill>
                <a:latin typeface="Arial"/>
              </a:rPr>
              <a:t> </a:t>
            </a:r>
            <a:r>
              <a:rPr b="0" lang="pl-PL" sz="1800" spc="-1" strike="noStrike">
                <a:solidFill>
                  <a:srgbClr val="000000"/>
                </a:solidFill>
                <a:latin typeface="Arial"/>
              </a:rPr>
              <a:t>Ciekłe kryształy o budowie cholesterycznej posiadają podobną budowę do kryształów nematycznych . W tym przypadku cząsteczki w kolejnych warstwach są jednak  zorientowane jedna względem drugiej. W ten sposób cząsteczki w poszczególnych płaszczyznach są obrócone wokół osi prostopadłych do ich środków </a:t>
            </a:r>
            <a:br>
              <a:rPr sz="1800"/>
            </a:br>
            <a:r>
              <a:rPr b="0" lang="pl-PL" sz="1800" spc="-1" strike="noStrike">
                <a:solidFill>
                  <a:srgbClr val="000000"/>
                </a:solidFill>
                <a:latin typeface="Arial"/>
              </a:rPr>
              <a:t>i tworzą spiralę. Kolejny slajd przedstawia struktury rysunek </a:t>
            </a:r>
            <a:br>
              <a:rPr sz="1800"/>
            </a:br>
            <a:r>
              <a:rPr b="0" lang="pl-PL" sz="1800" spc="-1" strike="noStrike">
                <a:solidFill>
                  <a:srgbClr val="000000"/>
                </a:solidFill>
                <a:latin typeface="Arial"/>
              </a:rPr>
              <a:t>1 – smektyka, rysunek 2 – nematyka, rysunek 3 – cholesteryka.</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00"/>
                </a:solidFill>
                <a:latin typeface="Arial"/>
              </a:rPr>
              <a:t> </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3"/>
          <p:cNvSpPr/>
          <p:nvPr/>
        </p:nvSpPr>
        <p:spPr>
          <a:xfrm>
            <a:off x="324000" y="1341360"/>
            <a:ext cx="8497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38" name="pole tekstowe 2"/>
          <p:cNvSpPr/>
          <p:nvPr/>
        </p:nvSpPr>
        <p:spPr>
          <a:xfrm>
            <a:off x="611280" y="620640"/>
            <a:ext cx="7632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pic>
        <p:nvPicPr>
          <p:cNvPr id="139" name="Picture 2" descr="Plik:SmA rep.png"/>
          <p:cNvPicPr/>
          <p:nvPr/>
        </p:nvPicPr>
        <p:blipFill>
          <a:blip r:embed="rId1"/>
          <a:stretch/>
        </p:blipFill>
        <p:spPr>
          <a:xfrm>
            <a:off x="611280" y="549360"/>
            <a:ext cx="2736720" cy="2570040"/>
          </a:xfrm>
          <a:prstGeom prst="rect">
            <a:avLst/>
          </a:prstGeom>
          <a:ln w="0">
            <a:noFill/>
          </a:ln>
        </p:spPr>
      </p:pic>
      <p:pic>
        <p:nvPicPr>
          <p:cNvPr id="140" name="Picture 4" descr="http://upload.wikimedia.org/wikipedia/commons/thumb/1/12/Nematic_rep.png/250px-Nematic_rep.png"/>
          <p:cNvPicPr/>
          <p:nvPr/>
        </p:nvPicPr>
        <p:blipFill>
          <a:blip r:embed="rId2"/>
          <a:stretch/>
        </p:blipFill>
        <p:spPr>
          <a:xfrm>
            <a:off x="3348000" y="549360"/>
            <a:ext cx="5014800" cy="2808360"/>
          </a:xfrm>
          <a:prstGeom prst="rect">
            <a:avLst/>
          </a:prstGeom>
          <a:ln w="0">
            <a:noFill/>
          </a:ln>
        </p:spPr>
      </p:pic>
      <p:sp>
        <p:nvSpPr>
          <p:cNvPr id="141" name="pole tekstowe 7"/>
          <p:cNvSpPr/>
          <p:nvPr/>
        </p:nvSpPr>
        <p:spPr>
          <a:xfrm>
            <a:off x="684360" y="3213000"/>
            <a:ext cx="763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rysunek 1                                         rysunek 2</a:t>
            </a:r>
            <a:endParaRPr b="0" lang="en-US" sz="1800" spc="-1" strike="noStrike">
              <a:solidFill>
                <a:srgbClr val="ffff00"/>
              </a:solidFill>
              <a:latin typeface="Arial"/>
            </a:endParaRPr>
          </a:p>
        </p:txBody>
      </p:sp>
      <p:pic>
        <p:nvPicPr>
          <p:cNvPr id="142" name="Picture 6" descr="Plik:Cholesterinisch.png"/>
          <p:cNvPicPr/>
          <p:nvPr/>
        </p:nvPicPr>
        <p:blipFill>
          <a:blip r:embed="rId3"/>
          <a:stretch/>
        </p:blipFill>
        <p:spPr>
          <a:xfrm>
            <a:off x="3132000" y="3860640"/>
            <a:ext cx="2019600" cy="1648080"/>
          </a:xfrm>
          <a:prstGeom prst="rect">
            <a:avLst/>
          </a:prstGeom>
          <a:ln w="0">
            <a:noFill/>
          </a:ln>
        </p:spPr>
      </p:pic>
      <p:sp>
        <p:nvSpPr>
          <p:cNvPr id="143" name="pole tekstowe 9"/>
          <p:cNvSpPr/>
          <p:nvPr/>
        </p:nvSpPr>
        <p:spPr>
          <a:xfrm>
            <a:off x="2124000" y="5732640"/>
            <a:ext cx="4248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ysunek 3</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Obraz 2" descr="ciekłe 2.jpg"/>
          <p:cNvPicPr/>
          <p:nvPr/>
        </p:nvPicPr>
        <p:blipFill>
          <a:blip r:embed="rId1"/>
          <a:stretch/>
        </p:blipFill>
        <p:spPr>
          <a:xfrm>
            <a:off x="755640" y="1268280"/>
            <a:ext cx="3327480" cy="2376720"/>
          </a:xfrm>
          <a:prstGeom prst="rect">
            <a:avLst/>
          </a:prstGeom>
          <a:ln w="0">
            <a:noFill/>
          </a:ln>
        </p:spPr>
      </p:pic>
      <p:pic>
        <p:nvPicPr>
          <p:cNvPr id="145" name="Obraz 3" descr="ciekłe1.jpg"/>
          <p:cNvPicPr/>
          <p:nvPr/>
        </p:nvPicPr>
        <p:blipFill>
          <a:blip r:embed="rId2"/>
          <a:stretch/>
        </p:blipFill>
        <p:spPr>
          <a:xfrm>
            <a:off x="4716360" y="1268280"/>
            <a:ext cx="3570480" cy="2376720"/>
          </a:xfrm>
          <a:prstGeom prst="rect">
            <a:avLst/>
          </a:prstGeom>
          <a:ln w="0">
            <a:noFill/>
          </a:ln>
        </p:spPr>
      </p:pic>
      <p:pic>
        <p:nvPicPr>
          <p:cNvPr id="146" name="Obraz 4" descr="ciekłe3.jpg"/>
          <p:cNvPicPr/>
          <p:nvPr/>
        </p:nvPicPr>
        <p:blipFill>
          <a:blip r:embed="rId3"/>
          <a:stretch/>
        </p:blipFill>
        <p:spPr>
          <a:xfrm>
            <a:off x="1187280" y="3716280"/>
            <a:ext cx="2664000" cy="2665440"/>
          </a:xfrm>
          <a:prstGeom prst="rect">
            <a:avLst/>
          </a:prstGeom>
          <a:ln w="0">
            <a:noFill/>
          </a:ln>
        </p:spPr>
      </p:pic>
      <p:pic>
        <p:nvPicPr>
          <p:cNvPr id="147" name="Obraz 5" descr="ciekłe4.jpg"/>
          <p:cNvPicPr/>
          <p:nvPr/>
        </p:nvPicPr>
        <p:blipFill>
          <a:blip r:embed="rId4"/>
          <a:stretch/>
        </p:blipFill>
        <p:spPr>
          <a:xfrm>
            <a:off x="4788000" y="3716280"/>
            <a:ext cx="3456000" cy="2711520"/>
          </a:xfrm>
          <a:prstGeom prst="rect">
            <a:avLst/>
          </a:prstGeom>
          <a:ln w="0">
            <a:noFill/>
          </a:ln>
        </p:spPr>
      </p:pic>
      <p:sp>
        <p:nvSpPr>
          <p:cNvPr id="148" name="pole tekstowe 6"/>
          <p:cNvSpPr/>
          <p:nvPr/>
        </p:nvSpPr>
        <p:spPr>
          <a:xfrm>
            <a:off x="755640" y="260280"/>
            <a:ext cx="763272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u="sng">
                <a:solidFill>
                  <a:srgbClr val="0000ff"/>
                </a:solidFill>
                <a:uFillTx/>
                <a:latin typeface="Arial"/>
                <a:hlinkClick r:id="rId5"/>
              </a:rPr>
              <a:t>Źródło: https://www.google.pl/search?q=ciek%C5%82e+kryszta%C5%82y&amp;hl=pl&amp;tbm=isch&amp;tbo=u&amp;source=univ&amp;sa=X&amp;ei=LaCMUcr-Bs22PYvSgNAF&amp;sqi=2&amp;ved=0CDUQsAQ&amp;biw=1366&amp;bih=606#imgrc=Ya8QkBqwoK3KIM%3A%3B7bfLNc7KL_3GtM%3Bhttp%253A%252F%252Fbi.gazeta.pl%252Fim%252F9%252F8480%252Fz8480989Q%252Cciekle-krysztaly.jpg%3Bhttp%253A%252F%252Ftechnologie.gazeta.pl%252Finternet%252F1%252C104530%252C8480988%252CNowy_rodzaj_cieklych_krysztalow.html%3B400%3B266</a:t>
            </a:r>
            <a:endParaRPr b="0" lang="en-US" sz="1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3"/>
          <p:cNvSpPr/>
          <p:nvPr/>
        </p:nvSpPr>
        <p:spPr>
          <a:xfrm>
            <a:off x="324000" y="1341360"/>
            <a:ext cx="8497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50" name="pole tekstowe 2"/>
          <p:cNvSpPr/>
          <p:nvPr/>
        </p:nvSpPr>
        <p:spPr>
          <a:xfrm>
            <a:off x="611280" y="620640"/>
            <a:ext cx="7632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51" name="pole tekstowe 7"/>
          <p:cNvSpPr/>
          <p:nvPr/>
        </p:nvSpPr>
        <p:spPr>
          <a:xfrm>
            <a:off x="684360" y="404640"/>
            <a:ext cx="7632720" cy="585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ODDZIAŁYWANIE POLA ELEKTRYCZNEGO </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NA CIEKŁY KRYSZTAŁ</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le elektryczne  może mieć wpływ na strukturę ciekłego kryształu powodując zmiany zabarwienia odbitego światła lub zmiany przejrzystości kryształu. Zjawisko to zostało wykorzystane do konstrukcji wyświetlaczy cyfrowych w kalkulatorach, zegarkach, aparaturze naukowej etc. </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UDOWA I ZASADA DZIAŁANIA MONITORÓW LCD:</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iekłe kryształy to substancje prawie przezroczyste, mogące przyjmować stan zarówno stały, jak i ciekły. Światło przechodzące przez ciekłe kryształy podąża za ułożeniem tworzących je molekuł. Zasada działania monitora LCD polega na zmianie polaryzacji światła, na skutek zmian położenia cząstek ciekłego kryształu pod wpływem pola elektrycznego. </a:t>
            </a:r>
            <a:br>
              <a:rPr sz="1800"/>
            </a:br>
            <a:r>
              <a:rPr b="0" lang="pl-PL" sz="1800" spc="-1" strike="noStrike">
                <a:solidFill>
                  <a:srgbClr val="000000"/>
                </a:solidFill>
                <a:latin typeface="Arial"/>
              </a:rPr>
              <a:t>W oparciu o ciekłe kryształy buduje się obecnie monitory ciekłokrystaliczne zwane monitorami LCD (ang. Liquid Crystal Display). Wszystkie obecnie produkowane monitory ciekłokrystaliczne składają się z czterech podstawowych elementów:</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komórek, w których zatopiona jest mała ilość ciekłego kryształu,</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elektrod będących źródłem pola elektrycznego działającego bezpośrednio na kryształ,</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dwóch cienkich folii: polaryzatora i analizatora,</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źródła światła.</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http://www.slapek.republika.pl/okno2/grafika/monitor.jpg"/>
          <p:cNvPicPr/>
          <p:nvPr/>
        </p:nvPicPr>
        <p:blipFill>
          <a:blip r:embed="rId1"/>
          <a:stretch/>
        </p:blipFill>
        <p:spPr>
          <a:xfrm>
            <a:off x="1116000" y="260280"/>
            <a:ext cx="6048360" cy="5689800"/>
          </a:xfrm>
          <a:prstGeom prst="rect">
            <a:avLst/>
          </a:prstGeom>
          <a:ln w="0">
            <a:noFill/>
          </a:ln>
        </p:spPr>
      </p:pic>
      <p:sp>
        <p:nvSpPr>
          <p:cNvPr id="153" name="pole tekstowe 3"/>
          <p:cNvSpPr/>
          <p:nvPr/>
        </p:nvSpPr>
        <p:spPr>
          <a:xfrm>
            <a:off x="395280" y="6093000"/>
            <a:ext cx="8064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Źródło: </a:t>
            </a:r>
            <a:r>
              <a:rPr b="0" lang="pl-PL" sz="1400" spc="-1" strike="noStrike" u="sng">
                <a:solidFill>
                  <a:srgbClr val="0000ff"/>
                </a:solidFill>
                <a:uFillTx/>
                <a:latin typeface="Arial"/>
                <a:hlinkClick r:id="rId2"/>
              </a:rPr>
              <a:t>http://monitory-lcd.manifo.com/nowa-podstrona-561</a:t>
            </a:r>
            <a:endParaRPr b="0" lang="en-US" sz="1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3T21:40:34Z</dcterms:created>
  <dc:creator>Ministerstwo Edukacji Narodowej i Sportu</dc:creator>
  <dc:description/>
  <dc:language>en-US</dc:language>
  <cp:lastModifiedBy>Agnieszka</cp:lastModifiedBy>
  <dcterms:modified xsi:type="dcterms:W3CDTF">2013-09-17T18:19:05Z</dcterms:modified>
  <cp:revision>162</cp:revision>
  <dc:subject/>
  <dc:title>KORPUSKULARNO-FALOWA NATURA ŚWIATŁA</dc:title>
</cp:coreProperties>
</file>