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26.png" ContentType="image/png"/>
  <Override PartName="/ppt/media/image23.jpeg" ContentType="image/jpeg"/>
  <Override PartName="/ppt/media/image22.png" ContentType="image/png"/>
  <Override PartName="/ppt/media/image24.jpeg" ContentType="image/jpeg"/>
  <Override PartName="/ppt/media/image21.jpeg" ContentType="image/jpeg"/>
  <Override PartName="/ppt/media/image29.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0.jpeg" ContentType="image/jpeg"/>
  <Override PartName="/ppt/media/image5.png" ContentType="image/png"/>
  <Override PartName="/ppt/media/image35.jpeg" ContentType="image/jpeg"/>
  <Override PartName="/ppt/media/image9.png" ContentType="image/png"/>
  <Override PartName="/ppt/media/image40.jpeg" ContentType="image/jpeg"/>
  <Override PartName="/ppt/media/image8.jpeg" ContentType="image/jpeg"/>
  <Override PartName="/ppt/media/image39.jpeg" ContentType="image/jpeg"/>
  <Override PartName="/ppt/media/image11.jpeg" ContentType="image/jpeg"/>
  <Override PartName="/ppt/media/image13.png" ContentType="image/png"/>
  <Override PartName="/ppt/media/image31.jpeg" ContentType="image/jpeg"/>
  <Override PartName="/ppt/media/image2.png" ContentType="image/png"/>
  <Override PartName="/ppt/media/image25.jpeg" ContentType="image/jpeg"/>
  <Override PartName="/ppt/media/image33.png" ContentType="image/png"/>
  <Override PartName="/ppt/media/image41.jpeg" ContentType="image/jpeg"/>
  <Override PartName="/ppt/media/image14.jpeg" ContentType="image/jpeg"/>
  <Override PartName="/ppt/media/image28.png" ContentType="image/png"/>
  <Override PartName="/ppt/media/image38.jpeg" ContentType="image/jpeg"/>
  <Override PartName="/ppt/media/image7.jpeg" ContentType="image/jpeg"/>
  <Override PartName="/ppt/media/image36.png" ContentType="image/png"/>
  <Override PartName="/ppt/media/image6.png" ContentType="image/png"/>
  <Override PartName="/ppt/media/image34.png" ContentType="image/png"/>
  <Override PartName="/ppt/media/image12.jpeg" ContentType="image/jpeg"/>
  <Override PartName="/ppt/media/image4.png" ContentType="image/png"/>
  <Override PartName="/ppt/media/image30.png" ContentType="image/png"/>
  <Override PartName="/ppt/media/image37.jpeg" ContentType="image/jpeg"/>
  <Override PartName="/ppt/media/image3.jpeg" ContentType="image/jpeg"/>
  <Override PartName="/ppt/media/image1.png" ContentType="image/png"/>
  <Override PartName="/ppt/media/image15.jpeg" ContentType="image/jpeg"/>
  <Override PartName="/ppt/media/image1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5799D-7596-4D8B-9BC8-12D12A9823AD}"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099B6-B6E6-4B83-8737-D42B74E8C7A8}"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8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9B1D1-C903-4A1F-A19E-34974F38D828}"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Granica jest tu dość umowna, choć mikrofale w zakresie powyżej 100GHz już niewiele różnią się od dalekiej podczerwieni, i nie mogą być generowane i odbierane bezpośrednio przez odwody elektryczne jak fale radiowe, jednak zakresy o częstotliwościach rzędu kilku GHz używane przez sieci komórkowe, WiFi oraz telewizję cyfrową są wytwarzane i odbierane w sposób zbliżony do fal radiowych. Według obecnego podziału stosowanego w UE za mikrofale uważa się fale o częstotliwości od 300MHz, stary podział spotykany głównie w literaturze rosyjskojęzycznej przyjmował dolną granicę na 1GH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hoć nie odczuwamy mikrofal, znacznie mocniej niż fale radiowe oddziałują one z materią, wywołując wzrost temperatury oraz powstawanie w przewodnikach silnego pola elektrycznego. Dlatego możemy odczuć ich skutki jako ciepło, moc domowej kuchenki mikrofalowej, jeśli przy celowym uszkodzeniu zabezpieczeń została by uruchomiona z otwartymi drzwiczkami (wynosząca ok 1kW) jest wystarczająca aby wywołać dotkliwe poparzenia skóry, uszkodzenie wzroku (wzrost temperatury i denaturacja białka rogówki)  oraz porażenie i poparzenie elektryczne wywołane wyładowaniami elektrycznymi powstającymi na ostrych krawędziach metalowej biżuterii. Taki sam skutek może mieć wejście na pracującą wierzę telefonii komórkowej i znalezienie się w odległości rzędu 1m do anteny nadawczej.</a:t>
            </a:r>
            <a:endParaRPr b="0" lang="en-US" sz="1200" spc="-1" strike="noStrike">
              <a:solidFill>
                <a:srgbClr val="000000"/>
              </a:solidFill>
              <a:latin typeface="Calibri"/>
            </a:endParaRPr>
          </a:p>
        </p:txBody>
      </p:sp>
      <p:sp>
        <p:nvSpPr>
          <p:cNvPr id="28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4084E-19E7-4843-A797-FDCC889EE9B8}"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8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5F4AF-F004-42AE-BA8E-F714DFC8BE84}"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8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186A5-4966-4F6A-A3E0-5CB911D3400F}"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merykański system nawigacji satelitarnej GPS, bazuje na satelitach wysyłających w kierunku Ziemi impulsy w dwóch niezależnych zakresach częstotliwości określanych jako L1 i L2. Historia nawigacji satelitarnej sięga początku lat 70-tych a więc znacznie wcześniej niż rozwinęła się telefonia komórkowa oraz bezprzewodowy internet. Tak wysokie (jak na techniczne możliwości w latach 70-tych) częstotliwości zostały wymuszone względami technicznymi (zbyt mocne ugięcie dłuższych fal w jonosferze, poza tym zmniejszenie długości fali umożliwia stosowanie anten o małych gabarytach co przy czysto wojskowym zastosowaniu systemu miało duże znaczenie) i stanowiły duże wyzwanie dla naukowców budujących nowe anteny i odbiorniki.</a:t>
            </a:r>
            <a:endParaRPr b="0" lang="en-US" sz="1200" spc="-1" strike="noStrike">
              <a:solidFill>
                <a:srgbClr val="000000"/>
              </a:solidFill>
              <a:latin typeface="Calibri"/>
            </a:endParaRPr>
          </a:p>
        </p:txBody>
      </p:sp>
      <p:sp>
        <p:nvSpPr>
          <p:cNvPr id="29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8BB72-2B10-4515-A0F3-25A51EAD866B}"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hoć nas wzrok ani skóra nie posiada receptorów podczerwieni, potrafimy dość dobrze odczuwać ciepło wywołana działaniem promieniowania podczerwonego, które wnika na niewielką głębokość w skórę powodując wzrost temperatury. Odczuwamy je więc jako ciepło bijące od rozgrzanych przedmiotów lub ognia.</a:t>
            </a:r>
            <a:endParaRPr b="0" lang="en-US" sz="1200" spc="-1" strike="noStrike">
              <a:solidFill>
                <a:srgbClr val="000000"/>
              </a:solidFill>
              <a:latin typeface="Calibri"/>
            </a:endParaRPr>
          </a:p>
        </p:txBody>
      </p:sp>
      <p:sp>
        <p:nvSpPr>
          <p:cNvPr id="29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78352-6661-408B-A395-7FCF484A1477}"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9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CACAA-E6E0-4B73-A73B-D995611A9804}"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0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FE5E1-8B4F-460F-8749-9D1CD9AB735D}"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Światło lasera CO2 jest niewidoczne, widziany na zdjęciu dotyczącym cięcia błysk jest spowodowany tym że laser tnący powoduje stopienie i wyparowanie metalu, który w zetknięciu powietrza zapala się tworząc snop iskier. W przypadku laserów medycznych, stosuje się dodatkowy laser czerwony małej mocy, służy on celowaniu ułatwiając lekarzowi operowanie niewidoczną wiązką światła podczerwonego.</a:t>
            </a:r>
            <a:endParaRPr b="0" lang="en-US" sz="1200" spc="-1" strike="noStrike">
              <a:solidFill>
                <a:srgbClr val="000000"/>
              </a:solidFill>
              <a:latin typeface="Calibri"/>
            </a:endParaRPr>
          </a:p>
        </p:txBody>
      </p:sp>
      <p:sp>
        <p:nvSpPr>
          <p:cNvPr id="30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E4F93-82FF-433D-8EFF-5F5678279C2C}"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0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BEDC5-E2F0-4B0E-B2C0-B1984FF2693A}"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5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3DC42-9EAF-4CBE-BC27-DCDF1CB41D1C}"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la człowieka przyjmuje się zakres umowny 380-780nm choć naprawdę zakres widzenia zależy od cech osobniczych w dość szerokim zakresie (jest uwarunkowany genetycznie oraz zależy od wieku). Przykładowo laserowe dalmierze stosowane w profesjonalnym sprzęcie geodezyjnym wykorzystują laser pracujący w zakresie podczerwieni o długość fali wynosi około 800-900nm zależnie od modelu. Okazuje się że młoda osoba posiadająca dobry wzrok potrafi dostrzec ciemnoczerwone światło patrząc w obiektyw obserwatora. Faktem jest że mamy tu do czynienia z bardzo silnym laserem, który jeśliby pracował za zakresie ok 650nm (światło czerwone) spowodował by chwilowe oślepienie lub nawet trwałe uszkodzenie wzroku, a w zakresie bliskiej podczerwieni jest ledwie widoczny – ale jednak dostrzegalny przez niektórych.</a:t>
            </a:r>
            <a:endParaRPr b="0" lang="en-US" sz="1200" spc="-1" strike="noStrike">
              <a:solidFill>
                <a:srgbClr val="000000"/>
              </a:solidFill>
              <a:latin typeface="Calibri"/>
            </a:endParaRPr>
          </a:p>
        </p:txBody>
      </p:sp>
      <p:sp>
        <p:nvSpPr>
          <p:cNvPr id="31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22611-89CB-4429-B4E5-6AB71C1441C7}"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1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665F6-5FC5-410D-89E7-166FEEDCA0FF}"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1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175BC-8E16-46ED-99FA-4434B3EB3C10}"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1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7B38C-E911-4A8B-A045-474842B1E2A4}"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2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66B2C-666A-4E38-A413-9E3C3B0C99A2}"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owstawanie opalenizny jest reakcją skóry właśnie na promieniowanie ultrafioletowe, które jest częścią widma słonecznego. Ultrafiolet jak każde promieniowanie jonizujące jest szkodliwy dla organizmów żywych, jego nadmiar prowadzi do nadmiernego starzenia skóry, posiada także udowodnione działanie rakotwórcze. Skóra kiedy jest narażona na działanie ultrafioletu broni się przed nim wytwarzając barwnik keratynę, który odpowiada za brązowy kolor skóry, ale przed wszystkim intensywnie pochłania ultrafiolet chroniąc głębsze warstwy skóry przed jego działaniem.</a:t>
            </a:r>
            <a:endParaRPr b="0" lang="en-US" sz="1200" spc="-1" strike="noStrike">
              <a:solidFill>
                <a:srgbClr val="000000"/>
              </a:solidFill>
              <a:latin typeface="Calibri"/>
            </a:endParaRPr>
          </a:p>
        </p:txBody>
      </p:sp>
      <p:sp>
        <p:nvSpPr>
          <p:cNvPr id="32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B9201-84DB-4F34-8D67-F35E1702D20C}"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ampy bakteriobójcze emitujące silne światło ultrafioletowe o długości około 250nm, są stosowane do dezynfekcji, o ile w przypadku dezynfekcji wody taka lampa jest umieszczona w zamkniętym pojemniku przez który przepływa woda ulegając dezynfekcji, lampy stosowane w szpitalach mają formę zwykłych świetlówek, trzeba pamiętać że ultrafiolet o takiej długości fali powoduje silne poparzenia skóry, zapalenie spojówek i uszkodzenie wzroku, dlatego zdarzają się przypadki poparzenia osób, które nieopatrznie znalazły się w pomieszczeniu w którym została włączona lampa bakteriobójcza. Takie lampy przede wszystkim emitują ultrafiolet, emisja w zakresie światła widzialnego jest niewielka obejmuje niewielkie trudno zauważalne świecenie w zakresie światła niebieskiego, które łatwo można przeoczyć.</a:t>
            </a:r>
            <a:endParaRPr b="0" lang="en-US" sz="1200" spc="-1" strike="noStrike">
              <a:solidFill>
                <a:srgbClr val="000000"/>
              </a:solidFill>
              <a:latin typeface="Calibri"/>
            </a:endParaRPr>
          </a:p>
        </p:txBody>
      </p:sp>
      <p:sp>
        <p:nvSpPr>
          <p:cNvPr id="32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80F81-10F5-4F03-A20C-028E542909F1}"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Granica między promieniowaniem X a gamma jest dyskusyjna, granicę 250keV przyjmuje się umownie, inny podział dotyczy pochodzenia, za promieniowanie X uważa się to pochodzące z lamp rentgenowskich (hamowanie rozpędzonych elektronów na jądrach ciężkich pierwiastków, oraz widma emisyjne wywołane wybiciem z wewnętrznej orbity elektronu i zastępowaniu go elektronem z orbity zewnętrznej), natomiast za promieniowanie gamma to pochodzące z przemian jądrowych. Tu sprawa jest również dyskusyjna gdyż istnieją przemiany jądrowe generujące kwanty gamma o bardzo niskiej energii nawet rzędu 20keV a więc zakresu typowo rentgenowskiego (Szpitalne aparaty rentgenowskie wykorzystują do obrazowania najczęściej zakres 40-60keV). Generalnie procesy jądrowe mogą generować promieniowanie typowo rentgenowskie, które wówczas zwyczajowo nazywa się promieniowaniem gamma, natomiast za pomocą lamp rentgenowskich raczej trudno wytworzyć promieniowanie o energii większej niż 250keV choć nie jest to niemożliwe.</a:t>
            </a:r>
            <a:endParaRPr b="0" lang="en-US" sz="1200" spc="-1" strike="noStrike">
              <a:solidFill>
                <a:srgbClr val="000000"/>
              </a:solidFill>
              <a:latin typeface="Calibri"/>
            </a:endParaRPr>
          </a:p>
        </p:txBody>
      </p:sp>
      <p:sp>
        <p:nvSpPr>
          <p:cNvPr id="33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CA98A-C9EF-4027-B67A-9F954DF4B1A1}"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3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72F2C-96BD-4491-820B-E86D092B9EE1}"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3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CEFB3-AC0D-4531-9524-E2141ABC3F6E}"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5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CD14F-B9FF-4B6C-89D6-41FCE3D157F2}"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4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9C27F-B5B9-48EA-BE02-749F57CFC223}"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odczas eksplozji jądrowej powstaje promieniowanie alfa, beta i gamma, promieniowanie alfa ma zasięg w powietrzu kilu centymetrów i jest zatrzymywane przez kartkę papieru, promieniowanie beta w powietrzu posiada zasięg kilku maksymalnie kilkudziesięciu metrów, natomiast promieniowanie gamma praktycznie nie napotyka oporów w atmosferze. Ponieważ rozchodzi się z prędkością światłą i z łatwością przenika przez nawet grube betonowe ściany budynków, stanowi główny czynnik wywołujący chorobę popromienną na skutek bezpośredniego napromieniowania wybuchem jądrowym. Podczas użycia bomb atomowych w Hiroszimie i Nagasaki, większą dawkę promieniowania niosła w sobie nie sama eksplozja lecz opad radioaktywnego pyłu i popiołu a następnie deszczu, który nastąpił po eksplozji. W przypadku dostania się substancji radioaktywnych,  do organizmu zachodzi odwrotna sytuacja im mniej przenikliwe promieniowanie tym gorzej. Jeśli rozpad nastąpi wewnątrz naszego organizmu kwant gamma z dużym prawdopodobieństwem opuści nasze ciało, cząstki alfa zostają całkowicie wyhamowane wewnątrz organizm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rzypadkiem zagrożenia jakie niesie promieniowanie gamma może być wypadek w brazylijskim mieście Goianii w 1987r, kiedy to z likwidowanego szpitala zostało skradzione źródło promieniowania służącego do radioterapii. Źródło miało formę kilku gram promieniotwórczego chlorku cezu-137, osłoniętego ok 100kg ołowianego płaszcza, który złodzieje pocięli w celu sprzedaży na złom. W efekcie czego zostało napromieniowane wiele osób (właściciel i pracownicy skupu złomu), 4 osoby zmarły a 22 wymagały długotrwałej hospitalizacji.</a:t>
            </a:r>
            <a:endParaRPr b="0" lang="en-US" sz="1200" spc="-1" strike="noStrike">
              <a:solidFill>
                <a:srgbClr val="000000"/>
              </a:solidFill>
              <a:latin typeface="Calibri"/>
            </a:endParaRPr>
          </a:p>
        </p:txBody>
      </p:sp>
      <p:sp>
        <p:nvSpPr>
          <p:cNvPr id="34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96949-BE51-4D31-AE37-FD5EEF6173FA}"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4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DE248-2A7B-42E6-BA67-A9823B0969F8}"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udzkie oko nie rozróżnia widma ciągłego od dyskretnego, nie ma znaczenia czy dana barwa jest złożona tylko z jednej długości fali, czy z całego przedziału odpowiadającego danej barwie. Kolor biały będący ciągłym widmem jest tak samo postrzegany jak złożony tylko z trzech częstotliwości odpowiadających maksymalnej czułości każdego z trzech rodzajów czopków w siatkówce oka. Dlatego możliwe jest tworzenie obrazów barwnych za pomocą jedynie trzech kolorów – nazywanych podstawowymi.</a:t>
            </a:r>
            <a:endParaRPr b="0" lang="en-US" sz="1200" spc="-1" strike="noStrike">
              <a:solidFill>
                <a:srgbClr val="000000"/>
              </a:solidFill>
              <a:latin typeface="Calibri"/>
            </a:endParaRPr>
          </a:p>
        </p:txBody>
      </p:sp>
      <p:sp>
        <p:nvSpPr>
          <p:cNvPr id="34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3D373-16B6-44DD-A83D-8902FA7132FE}"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5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A85BF-32C1-482D-BD26-A8590D804E9A}"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5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6235F-B692-4C79-8D2E-5869BA6A174A}"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Nazwa „prędkość światła w próżni” nie odnosi się tylko do światła, dokładnie z taką samą prędkością poruszają się na przykład fale radiowe, wynika raczej z kontekstu historycznego, gdyż światło z racji że jest odbierane przez nasz wzrok bezpośrednio było najwcześniej zbadanym rodzajem fal elektromagnetycznych.</a:t>
            </a:r>
            <a:endParaRPr b="0" lang="en-US" sz="1200" spc="-1" strike="noStrike">
              <a:solidFill>
                <a:srgbClr val="000000"/>
              </a:solidFill>
              <a:latin typeface="Calibri"/>
            </a:endParaRPr>
          </a:p>
        </p:txBody>
      </p:sp>
      <p:sp>
        <p:nvSpPr>
          <p:cNvPr id="26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A995C-6E12-42A4-9B2E-78C24436E6B3}"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3E4FA-A7A2-4A0D-905B-F68F2BAC907F}"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85C0A-2C0D-446F-A401-6BD6992BAA8B}"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V – czyli elektronowolt, jest pozaukładową jednostką miary energii, jest to energia jaką uzyskuje elektron, pokonując różnicę potencjałów równą 1V.</a:t>
            </a:r>
            <a:endParaRPr b="0" lang="en-US" sz="1200" spc="-1" strike="noStrike">
              <a:solidFill>
                <a:srgbClr val="000000"/>
              </a:solidFill>
              <a:latin typeface="Calibri"/>
            </a:endParaRPr>
          </a:p>
        </p:txBody>
      </p:sp>
      <p:sp>
        <p:nvSpPr>
          <p:cNvPr id="27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A6866-44E8-41F9-B517-C5CD9C45E44E}"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7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E87A1-A098-4915-AE4E-FDE1E76BA004}"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rak wyraźniej dolnej granicy wynika z tego powodu że fale o częstotliwości rzędu herców mają niezwykle niską energię, a żeby je wytwarzać i odbierać potrzeba anten o długości setek kilometrów dlatego choć dolnej granicy fizycznie nie ma, takie fale nie są obserwowane i nie mają żadnego praktycznego zastosowan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Kwestia szkodliwości jest prawą otwartą, choć nie odczuwamy działania fal radiowych, przechodząc przez ośrodek materialny jakim jest nasze ciało powodują one powstawanie zmiennego pola elektrycznego, które może być dla nas szkodliwe, bardzo wysokie natężenie fal radiowych występujące w pobliżu dużych anten (nie amatorskich – dotyczy to potężnych nadajników stacji radiowych) może prowadzić do poparzeń zbliżonych do efektów porażenia elektryczneg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7F6AA-48D8-4D67-9B33-EC40EE9810CA}" type="slidenum">
              <a:rPr b="0" lang="pl-P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C97BF5-FF8B-430D-8A6B-D6CC87D1D8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4EC384-E048-4BAD-B3A0-2B07C8723B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4BA30C-E8B2-45BD-BADB-A9FC1143DC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06E9FC-B782-43E2-8EA8-A0C31A758C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73A1FE-701C-4EA1-83C5-7EFAA7552C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62BD3E-0AE6-4D35-BAD8-487D469E36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7F414D-7F5F-422A-A7E5-E5BB044F2E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A5CDB5-3952-4020-AA77-5425F0E008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609F4C-AB38-4745-8C1C-D39AE5EF14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B9D67-27E5-416C-9C29-0C4AE0AA1D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87A6C-479C-4227-AC0B-91955282F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DB706-7FCA-4125-BE28-047B7FF9F0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BE309-5006-419E-A231-676C60FC1303}"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jpe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2.jpeg"/><Relationship Id="rId3" Type="http://schemas.openxmlformats.org/officeDocument/2006/relationships/image" Target="../media/image33.pn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8.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9.jpe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9.png"/><Relationship Id="rId3" Type="http://schemas.openxmlformats.org/officeDocument/2006/relationships/image" Target="../media/image40.jpe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000" y="1353600"/>
            <a:ext cx="7848360" cy="171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pl-PL" sz="6000" spc="-1" strike="noStrike">
                <a:solidFill>
                  <a:srgbClr val="4a452a"/>
                </a:solidFill>
                <a:latin typeface="Calibri"/>
              </a:rPr>
              <a:t>Widmo fal elektromagnetycznych</a:t>
            </a:r>
            <a:br>
              <a:rPr sz="6000"/>
            </a:br>
            <a:br>
              <a:rPr sz="6000"/>
            </a:br>
            <a:endParaRPr b="0" lang="en-US" sz="6000" spc="-1" strike="noStrike">
              <a:solidFill>
                <a:srgbClr val="000000"/>
              </a:solidFill>
              <a:latin typeface="Calibri"/>
            </a:endParaRPr>
          </a:p>
        </p:txBody>
      </p:sp>
      <p:sp>
        <p:nvSpPr>
          <p:cNvPr id="4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Obraz 2" descr="stopka_poz.gif"/>
          <p:cNvPicPr/>
          <p:nvPr/>
        </p:nvPicPr>
        <p:blipFill>
          <a:blip r:embed="rId1"/>
          <a:stretch/>
        </p:blipFill>
        <p:spPr>
          <a:xfrm>
            <a:off x="0" y="6665760"/>
            <a:ext cx="9144000" cy="906480"/>
          </a:xfrm>
          <a:prstGeom prst="rect">
            <a:avLst/>
          </a:prstGeom>
          <a:ln w="0">
            <a:noFill/>
          </a:ln>
        </p:spPr>
      </p:pic>
      <p:pic>
        <p:nvPicPr>
          <p:cNvPr id="51" name="Obraz 5" descr="nagłówek_poz.gif"/>
          <p:cNvPicPr/>
          <p:nvPr/>
        </p:nvPicPr>
        <p:blipFill>
          <a:blip r:embed="rId2"/>
          <a:stretch/>
        </p:blipFill>
        <p:spPr>
          <a:xfrm>
            <a:off x="0" y="0"/>
            <a:ext cx="9144000" cy="1125360"/>
          </a:xfrm>
          <a:prstGeom prst="rect">
            <a:avLst/>
          </a:prstGeom>
          <a:ln w="0">
            <a:noFill/>
          </a:ln>
        </p:spPr>
      </p:pic>
      <p:sp>
        <p:nvSpPr>
          <p:cNvPr id="52" name="Podtytuł 2"/>
          <p:cNvSpPr/>
          <p:nvPr/>
        </p:nvSpPr>
        <p:spPr>
          <a:xfrm>
            <a:off x="684360" y="2684520"/>
            <a:ext cx="8135640" cy="673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3200" spc="-1" strike="noStrike">
                <a:solidFill>
                  <a:srgbClr val="4a452a"/>
                </a:solidFill>
                <a:latin typeface="Calibri"/>
              </a:rPr>
              <a:t>Obszar widzialny – mieszanie barw</a:t>
            </a:r>
            <a:endParaRPr b="0" lang="en-US" sz="3200" spc="-1" strike="noStrike">
              <a:solidFill>
                <a:srgbClr val="000000"/>
              </a:solidFill>
              <a:latin typeface="Arial"/>
            </a:endParaRPr>
          </a:p>
        </p:txBody>
      </p:sp>
      <p:pic>
        <p:nvPicPr>
          <p:cNvPr id="53" name="Picture 2" descr="http://www.astrofiz.pl/fizyka/doswiadczenia/optyka/zjawiskofotoelektrycznezewnetrzne/foto/widmo.jpg"/>
          <p:cNvPicPr/>
          <p:nvPr/>
        </p:nvPicPr>
        <p:blipFill>
          <a:blip r:embed="rId3"/>
          <a:stretch/>
        </p:blipFill>
        <p:spPr>
          <a:xfrm>
            <a:off x="720720" y="3573360"/>
            <a:ext cx="7702560" cy="1440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97"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4"/>
          <p:cNvSpPr/>
          <p:nvPr/>
        </p:nvSpPr>
        <p:spPr>
          <a:xfrm>
            <a:off x="307800" y="79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AutoShape 6"/>
          <p:cNvSpPr/>
          <p:nvPr/>
        </p:nvSpPr>
        <p:spPr>
          <a:xfrm>
            <a:off x="460440" y="16020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Picture 8" descr="http://tvwlodawa.pl/wp-content/uploads/2013/03/CB-Radio-Kenji-9312-big.jpg"/>
          <p:cNvPicPr/>
          <p:nvPr/>
        </p:nvPicPr>
        <p:blipFill>
          <a:blip r:embed="rId2"/>
          <a:stretch/>
        </p:blipFill>
        <p:spPr>
          <a:xfrm>
            <a:off x="754200" y="4444920"/>
            <a:ext cx="3074760" cy="2140200"/>
          </a:xfrm>
          <a:prstGeom prst="rect">
            <a:avLst/>
          </a:prstGeom>
          <a:ln w="0">
            <a:noFill/>
          </a:ln>
        </p:spPr>
      </p:pic>
      <p:pic>
        <p:nvPicPr>
          <p:cNvPr id="101" name="Picture 10" descr="http://1.bp.blogspot.com/-Bg953C3ie8Q/UOQqEzt2nnI/AAAAAAAAABk/S4WurxwJtM8/s1600/DAB10B-Wintal-Digital-Radio-Black-angle.tif%5B1%5D.jpg"/>
          <p:cNvPicPr/>
          <p:nvPr/>
        </p:nvPicPr>
        <p:blipFill>
          <a:blip r:embed="rId3"/>
          <a:stretch/>
        </p:blipFill>
        <p:spPr>
          <a:xfrm>
            <a:off x="5724360" y="981000"/>
            <a:ext cx="2616480" cy="2379600"/>
          </a:xfrm>
          <a:prstGeom prst="rect">
            <a:avLst/>
          </a:prstGeom>
          <a:ln w="0">
            <a:noFill/>
          </a:ln>
        </p:spPr>
      </p:pic>
      <p:sp>
        <p:nvSpPr>
          <p:cNvPr id="102" name="Tytuł 1"/>
          <p:cNvSpPr/>
          <p:nvPr/>
        </p:nvSpPr>
        <p:spPr>
          <a:xfrm>
            <a:off x="155520" y="1125360"/>
            <a:ext cx="5353200" cy="24973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Najpopularniejsze obecnie pasmo fal ultrakrótkich używane przez komercyjne rozgłośnie radiowe obejmuje zakres 87,5-108MHz</a:t>
            </a:r>
            <a:endParaRPr b="0" lang="en-US" sz="3200" spc="-1" strike="noStrike">
              <a:solidFill>
                <a:srgbClr val="000000"/>
              </a:solidFill>
              <a:latin typeface="Arial"/>
            </a:endParaRPr>
          </a:p>
        </p:txBody>
      </p:sp>
      <p:sp>
        <p:nvSpPr>
          <p:cNvPr id="103" name="Tytuł 1"/>
          <p:cNvSpPr/>
          <p:nvPr/>
        </p:nvSpPr>
        <p:spPr>
          <a:xfrm>
            <a:off x="3995640" y="4562640"/>
            <a:ext cx="4176720" cy="19047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Używane przez kierowców CB-Radia wykorzystują fale o częstotliwości 27MHz</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99760" y="1125000"/>
            <a:ext cx="655164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pl-PL" sz="4400" spc="-1" strike="noStrike">
                <a:solidFill>
                  <a:srgbClr val="000000"/>
                </a:solidFill>
                <a:latin typeface="Calibri"/>
              </a:rPr>
              <a:t>Mikrofale</a:t>
            </a:r>
            <a:br>
              <a:rPr sz="4400"/>
            </a:br>
            <a:endParaRPr b="0" lang="en-US" sz="4400" spc="-1" strike="noStrike">
              <a:solidFill>
                <a:srgbClr val="000000"/>
              </a:solidFill>
              <a:latin typeface="Calibri"/>
            </a:endParaRPr>
          </a:p>
        </p:txBody>
      </p:sp>
      <p:sp>
        <p:nvSpPr>
          <p:cNvPr id="10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07" name="Tytuł 1"/>
          <p:cNvSpPr/>
          <p:nvPr/>
        </p:nvSpPr>
        <p:spPr>
          <a:xfrm>
            <a:off x="0" y="3284640"/>
            <a:ext cx="9144000" cy="3573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Mikrofale są niekiedy traktowane jako rodzaj fal radiowych z racji na zbliżone właściwości. Jednak są znacznie mocniej niż fale radiowe tłumione przez materię. Dlatego człowiek choć nie posiada zmysłów reagujących na mikrofale  przy dużym natężeniu może je odczuwać jako ciepło. </a:t>
            </a:r>
            <a:endParaRPr b="0" lang="en-US" sz="3200" spc="-1" strike="noStrike">
              <a:solidFill>
                <a:srgbClr val="000000"/>
              </a:solidFill>
              <a:latin typeface="Arial"/>
            </a:endParaRPr>
          </a:p>
        </p:txBody>
      </p:sp>
      <p:pic>
        <p:nvPicPr>
          <p:cNvPr id="108" name="Tabela 5" descr=""/>
          <p:cNvPicPr/>
          <p:nvPr/>
        </p:nvPicPr>
        <p:blipFill>
          <a:blip r:embed="rId2"/>
          <a:stretch/>
        </p:blipFill>
        <p:spPr>
          <a:xfrm>
            <a:off x="1938240" y="1957320"/>
            <a:ext cx="5267520" cy="1359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11"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Picture 4" descr="http://www.megamedia.pl/_p/25/n/kuchenki-mikrofalowe-severin-mv-7829-p25688.jpg"/>
          <p:cNvPicPr/>
          <p:nvPr/>
        </p:nvPicPr>
        <p:blipFill>
          <a:blip r:embed="rId2"/>
          <a:stretch/>
        </p:blipFill>
        <p:spPr>
          <a:xfrm>
            <a:off x="5148360" y="3284640"/>
            <a:ext cx="3181320" cy="2952720"/>
          </a:xfrm>
          <a:prstGeom prst="rect">
            <a:avLst/>
          </a:prstGeom>
          <a:ln w="0">
            <a:noFill/>
          </a:ln>
        </p:spPr>
      </p:pic>
      <p:sp>
        <p:nvSpPr>
          <p:cNvPr id="113" name="Tytuł 1"/>
          <p:cNvSpPr/>
          <p:nvPr/>
        </p:nvSpPr>
        <p:spPr>
          <a:xfrm>
            <a:off x="5370480" y="1844640"/>
            <a:ext cx="2736720" cy="180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Kuchenka mikrofalowa</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2,45GHz</a:t>
            </a:r>
            <a:endParaRPr b="0" lang="en-US" sz="3200" spc="-1" strike="noStrike">
              <a:solidFill>
                <a:srgbClr val="000000"/>
              </a:solidFill>
              <a:latin typeface="Arial"/>
            </a:endParaRPr>
          </a:p>
        </p:txBody>
      </p:sp>
      <p:sp>
        <p:nvSpPr>
          <p:cNvPr id="114" name="Tytuł 1"/>
          <p:cNvSpPr/>
          <p:nvPr/>
        </p:nvSpPr>
        <p:spPr>
          <a:xfrm>
            <a:off x="1038240" y="3968640"/>
            <a:ext cx="3095640" cy="1584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Immobiliser</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433MHz</a:t>
            </a:r>
            <a:endParaRPr b="0" lang="en-US" sz="3200" spc="-1" strike="noStrike">
              <a:solidFill>
                <a:srgbClr val="000000"/>
              </a:solidFill>
              <a:latin typeface="Arial"/>
            </a:endParaRPr>
          </a:p>
        </p:txBody>
      </p:sp>
      <p:pic>
        <p:nvPicPr>
          <p:cNvPr id="115" name="Picture 6" descr="http://media.caranddriver.com/images/10q3/360984/2011-scion-tc-key-fob-photo-361009-s-1280x782.jpg"/>
          <p:cNvPicPr/>
          <p:nvPr/>
        </p:nvPicPr>
        <p:blipFill>
          <a:blip r:embed="rId3"/>
          <a:stretch/>
        </p:blipFill>
        <p:spPr>
          <a:xfrm>
            <a:off x="307800" y="1484280"/>
            <a:ext cx="4564080" cy="2789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18"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ytuł 1"/>
          <p:cNvSpPr/>
          <p:nvPr/>
        </p:nvSpPr>
        <p:spPr>
          <a:xfrm>
            <a:off x="307800" y="4253040"/>
            <a:ext cx="4054680" cy="1800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Telefonia komórkowa GSM wykorzystuje częstotliwości</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0,9 i 1,8GHz</a:t>
            </a:r>
            <a:endParaRPr b="0" lang="en-US" sz="3200" spc="-1" strike="noStrike">
              <a:solidFill>
                <a:srgbClr val="000000"/>
              </a:solidFill>
              <a:latin typeface="Arial"/>
            </a:endParaRPr>
          </a:p>
        </p:txBody>
      </p:sp>
      <p:sp>
        <p:nvSpPr>
          <p:cNvPr id="120" name="Tytuł 1"/>
          <p:cNvSpPr/>
          <p:nvPr/>
        </p:nvSpPr>
        <p:spPr>
          <a:xfrm>
            <a:off x="2728800" y="1601640"/>
            <a:ext cx="4608720" cy="1584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Sieci komputerowe standardu Wi-Fi i Bluetooth</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2,4GHz</a:t>
            </a:r>
            <a:endParaRPr b="0" lang="en-US" sz="3200" spc="-1" strike="noStrike">
              <a:solidFill>
                <a:srgbClr val="000000"/>
              </a:solidFill>
              <a:latin typeface="Arial"/>
            </a:endParaRPr>
          </a:p>
        </p:txBody>
      </p:sp>
      <p:pic>
        <p:nvPicPr>
          <p:cNvPr id="121" name="Picture 2" descr="http://bi.gazeta.pl/im/9/8181/z8181219Q,WiFi-Logo.jpg"/>
          <p:cNvPicPr/>
          <p:nvPr/>
        </p:nvPicPr>
        <p:blipFill>
          <a:blip r:embed="rId2"/>
          <a:stretch/>
        </p:blipFill>
        <p:spPr>
          <a:xfrm>
            <a:off x="307800" y="1503360"/>
            <a:ext cx="2421000" cy="1736640"/>
          </a:xfrm>
          <a:prstGeom prst="rect">
            <a:avLst/>
          </a:prstGeom>
          <a:ln w="0">
            <a:noFill/>
          </a:ln>
        </p:spPr>
      </p:pic>
      <p:sp>
        <p:nvSpPr>
          <p:cNvPr id="122" name="AutoShape 4"/>
          <p:cNvSpPr/>
          <p:nvPr/>
        </p:nvSpPr>
        <p:spPr>
          <a:xfrm>
            <a:off x="307800" y="79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AutoShape 6"/>
          <p:cNvSpPr/>
          <p:nvPr/>
        </p:nvSpPr>
        <p:spPr>
          <a:xfrm>
            <a:off x="460440" y="16020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Picture 8" descr="http://osworld.pl/wp-content/uploads/Bluetooth.png"/>
          <p:cNvPicPr/>
          <p:nvPr/>
        </p:nvPicPr>
        <p:blipFill>
          <a:blip r:embed="rId3"/>
          <a:stretch/>
        </p:blipFill>
        <p:spPr>
          <a:xfrm>
            <a:off x="7240680" y="1504800"/>
            <a:ext cx="1306440" cy="1776600"/>
          </a:xfrm>
          <a:prstGeom prst="rect">
            <a:avLst/>
          </a:prstGeom>
          <a:ln w="0">
            <a:noFill/>
          </a:ln>
        </p:spPr>
      </p:pic>
      <p:pic>
        <p:nvPicPr>
          <p:cNvPr id="125" name="Picture 10" descr="http://img.ehowcdn.com/article-new/ehow/images/a04/cj/mm/prepaid-cell-phones-800x800.jpg"/>
          <p:cNvPicPr/>
          <p:nvPr/>
        </p:nvPicPr>
        <p:blipFill>
          <a:blip r:embed="rId4"/>
          <a:stretch/>
        </p:blipFill>
        <p:spPr>
          <a:xfrm>
            <a:off x="4776840" y="3724200"/>
            <a:ext cx="2847960" cy="2857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28"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ytuł 1"/>
          <p:cNvSpPr/>
          <p:nvPr/>
        </p:nvSpPr>
        <p:spPr>
          <a:xfrm>
            <a:off x="4370400" y="3981600"/>
            <a:ext cx="4378320" cy="247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Odbiorniki GPS wykorzystują dwie częstotliwości</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L1=1,57542GHz L2=1,22760GHz</a:t>
            </a:r>
            <a:endParaRPr b="0" lang="en-US" sz="3200" spc="-1" strike="noStrike">
              <a:solidFill>
                <a:srgbClr val="000000"/>
              </a:solidFill>
              <a:latin typeface="Arial"/>
            </a:endParaRPr>
          </a:p>
        </p:txBody>
      </p:sp>
      <p:sp>
        <p:nvSpPr>
          <p:cNvPr id="130" name="Tytuł 1"/>
          <p:cNvSpPr/>
          <p:nvPr/>
        </p:nvSpPr>
        <p:spPr>
          <a:xfrm>
            <a:off x="460440" y="1150920"/>
            <a:ext cx="4324320" cy="2257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Radary policyjne wykorzystują różne częstotliwości z przedziału</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10-36GHz</a:t>
            </a:r>
            <a:endParaRPr b="0" lang="en-US" sz="3200" spc="-1" strike="noStrike">
              <a:solidFill>
                <a:srgbClr val="000000"/>
              </a:solidFill>
              <a:latin typeface="Arial"/>
            </a:endParaRPr>
          </a:p>
        </p:txBody>
      </p:sp>
      <p:sp>
        <p:nvSpPr>
          <p:cNvPr id="131" name="AutoShape 4"/>
          <p:cNvSpPr/>
          <p:nvPr/>
        </p:nvSpPr>
        <p:spPr>
          <a:xfrm>
            <a:off x="307800" y="79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AutoShape 6"/>
          <p:cNvSpPr/>
          <p:nvPr/>
        </p:nvSpPr>
        <p:spPr>
          <a:xfrm>
            <a:off x="460440" y="16020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Picture 2" descr="http://www.radio90.pl/files/2012/07/policja-radar.jpg"/>
          <p:cNvPicPr/>
          <p:nvPr/>
        </p:nvPicPr>
        <p:blipFill>
          <a:blip r:embed="rId2"/>
          <a:stretch/>
        </p:blipFill>
        <p:spPr>
          <a:xfrm>
            <a:off x="4784760" y="1150920"/>
            <a:ext cx="3387600" cy="2270160"/>
          </a:xfrm>
          <a:prstGeom prst="rect">
            <a:avLst/>
          </a:prstGeom>
          <a:ln w="0">
            <a:noFill/>
          </a:ln>
        </p:spPr>
      </p:pic>
      <p:pic>
        <p:nvPicPr>
          <p:cNvPr id="134" name="Picture 6" descr="http://image.ceneo.pl/data/products/2483486/i-navroad-nr460-automapa-europa.jpg"/>
          <p:cNvPicPr/>
          <p:nvPr/>
        </p:nvPicPr>
        <p:blipFill>
          <a:blip r:embed="rId3"/>
          <a:stretch/>
        </p:blipFill>
        <p:spPr>
          <a:xfrm>
            <a:off x="592200" y="3981600"/>
            <a:ext cx="3566880" cy="2636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547280" y="836640"/>
            <a:ext cx="6551640" cy="107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Podczerwień</a:t>
            </a:r>
            <a:endParaRPr b="0" lang="en-US" sz="4400" spc="-1" strike="noStrike">
              <a:solidFill>
                <a:srgbClr val="000000"/>
              </a:solidFill>
              <a:latin typeface="Calibri"/>
            </a:endParaRPr>
          </a:p>
        </p:txBody>
      </p:sp>
      <p:sp>
        <p:nvSpPr>
          <p:cNvPr id="13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38" name="Tytuł 1"/>
          <p:cNvSpPr/>
          <p:nvPr/>
        </p:nvSpPr>
        <p:spPr>
          <a:xfrm>
            <a:off x="285840" y="3645000"/>
            <a:ext cx="8358120" cy="2879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Źródłem promieniowania podczerwonego są drgania atomów – każda materia o temperaturze większej od zera absolutnego emituje i pochłania podczerwień. Innym źródłem mogą być procesy chemiczne, oraz przejścia fizyczne w obrębie atomów.</a:t>
            </a:r>
            <a:endParaRPr b="0" lang="en-US" sz="3200" spc="-1" strike="noStrike">
              <a:solidFill>
                <a:srgbClr val="000000"/>
              </a:solidFill>
              <a:latin typeface="Arial"/>
            </a:endParaRPr>
          </a:p>
        </p:txBody>
      </p:sp>
      <p:pic>
        <p:nvPicPr>
          <p:cNvPr id="139" name="Tabela 5" descr=""/>
          <p:cNvPicPr/>
          <p:nvPr/>
        </p:nvPicPr>
        <p:blipFill>
          <a:blip r:embed="rId2"/>
          <a:stretch/>
        </p:blipFill>
        <p:spPr>
          <a:xfrm>
            <a:off x="1938240" y="1670040"/>
            <a:ext cx="5267520" cy="1725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42" name="Tytuł 1"/>
          <p:cNvSpPr/>
          <p:nvPr/>
        </p:nvSpPr>
        <p:spPr>
          <a:xfrm>
            <a:off x="285840" y="1125360"/>
            <a:ext cx="8358120" cy="1511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romienniki podczerwieni – jako źródła ciepła. Długość fali 1-10 µm.</a:t>
            </a:r>
            <a:endParaRPr b="0" lang="en-US" sz="3200" spc="-1" strike="noStrike">
              <a:solidFill>
                <a:srgbClr val="000000"/>
              </a:solidFill>
              <a:latin typeface="Arial"/>
            </a:endParaRPr>
          </a:p>
        </p:txBody>
      </p:sp>
      <p:pic>
        <p:nvPicPr>
          <p:cNvPr id="143" name="Picture 2" descr="http://kanwod-technik.pl/aukcje/SAM_0360-2.jpg"/>
          <p:cNvPicPr/>
          <p:nvPr/>
        </p:nvPicPr>
        <p:blipFill>
          <a:blip r:embed="rId2"/>
          <a:stretch/>
        </p:blipFill>
        <p:spPr>
          <a:xfrm>
            <a:off x="395280" y="2637000"/>
            <a:ext cx="3651120" cy="2744640"/>
          </a:xfrm>
          <a:prstGeom prst="rect">
            <a:avLst/>
          </a:prstGeom>
          <a:ln w="0">
            <a:noFill/>
          </a:ln>
        </p:spPr>
      </p:pic>
      <p:pic>
        <p:nvPicPr>
          <p:cNvPr id="144" name="Picture 4" descr="http://tklprogress.pl/files/images/catalog_products/0000000350/photos/product01_big.jpg"/>
          <p:cNvPicPr/>
          <p:nvPr/>
        </p:nvPicPr>
        <p:blipFill>
          <a:blip r:embed="rId3"/>
          <a:stretch/>
        </p:blipFill>
        <p:spPr>
          <a:xfrm>
            <a:off x="4965840" y="2627280"/>
            <a:ext cx="3671640" cy="2754360"/>
          </a:xfrm>
          <a:prstGeom prst="rect">
            <a:avLst/>
          </a:prstGeom>
          <a:ln w="0">
            <a:noFill/>
          </a:ln>
        </p:spPr>
      </p:pic>
      <p:sp>
        <p:nvSpPr>
          <p:cNvPr id="145" name="Tytuł 1"/>
          <p:cNvSpPr/>
          <p:nvPr/>
        </p:nvSpPr>
        <p:spPr>
          <a:xfrm>
            <a:off x="395280" y="5403960"/>
            <a:ext cx="3651120" cy="1193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arasol grzewczy zasilany gazem propan-butan</a:t>
            </a:r>
            <a:endParaRPr b="0" lang="en-US" sz="2000" spc="-1" strike="noStrike">
              <a:solidFill>
                <a:srgbClr val="000000"/>
              </a:solidFill>
              <a:latin typeface="Arial"/>
            </a:endParaRPr>
          </a:p>
        </p:txBody>
      </p:sp>
      <p:sp>
        <p:nvSpPr>
          <p:cNvPr id="146" name="Tytuł 1"/>
          <p:cNvSpPr/>
          <p:nvPr/>
        </p:nvSpPr>
        <p:spPr>
          <a:xfrm>
            <a:off x="4994280" y="5538960"/>
            <a:ext cx="3649680" cy="1193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omiennik w którym źródłem promieniowania podczerwonego jest elektryczna spirala grzewcz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8"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49" name="Tytuł 1"/>
          <p:cNvSpPr/>
          <p:nvPr/>
        </p:nvSpPr>
        <p:spPr>
          <a:xfrm>
            <a:off x="285840" y="1125360"/>
            <a:ext cx="8534160" cy="1224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Zdjęcia zarejestrowane kamera termowizyjną, czułą na podczerwień w zakresie 1-20 µm</a:t>
            </a:r>
            <a:endParaRPr b="0" lang="en-US" sz="3200" spc="-1" strike="noStrike">
              <a:solidFill>
                <a:srgbClr val="000000"/>
              </a:solidFill>
              <a:latin typeface="Arial"/>
            </a:endParaRPr>
          </a:p>
        </p:txBody>
      </p:sp>
      <p:pic>
        <p:nvPicPr>
          <p:cNvPr id="150" name="Picture 2" descr="http://www.certyfikaty.jaworzno.pl/images/termowizja.jpg"/>
          <p:cNvPicPr/>
          <p:nvPr/>
        </p:nvPicPr>
        <p:blipFill>
          <a:blip r:embed="rId2"/>
          <a:stretch/>
        </p:blipFill>
        <p:spPr>
          <a:xfrm>
            <a:off x="395280" y="2546280"/>
            <a:ext cx="4552920" cy="3384720"/>
          </a:xfrm>
          <a:prstGeom prst="rect">
            <a:avLst/>
          </a:prstGeom>
          <a:ln w="0">
            <a:noFill/>
          </a:ln>
        </p:spPr>
      </p:pic>
      <p:pic>
        <p:nvPicPr>
          <p:cNvPr id="151" name="Picture 4" descr="http://www.certyfikaty.jaworzno.pl/images/kamera.jpg"/>
          <p:cNvPicPr/>
          <p:nvPr/>
        </p:nvPicPr>
        <p:blipFill>
          <a:blip r:embed="rId3"/>
          <a:stretch/>
        </p:blipFill>
        <p:spPr>
          <a:xfrm>
            <a:off x="5940360" y="2546280"/>
            <a:ext cx="2376720" cy="3656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pic>
        <p:nvPicPr>
          <p:cNvPr id="154" name="Tytuł 1" descr=""/>
          <p:cNvPicPr/>
          <p:nvPr/>
        </p:nvPicPr>
        <p:blipFill>
          <a:blip r:embed="rId2"/>
          <a:stretch/>
        </p:blipFill>
        <p:spPr>
          <a:xfrm>
            <a:off x="-152280" y="725400"/>
            <a:ext cx="9448560" cy="2322720"/>
          </a:xfrm>
          <a:prstGeom prst="rect">
            <a:avLst/>
          </a:prstGeom>
          <a:ln w="0">
            <a:noFill/>
          </a:ln>
        </p:spPr>
      </p:pic>
      <p:pic>
        <p:nvPicPr>
          <p:cNvPr id="155" name="Picture 4" descr="http://image.made-in-china.com/2f0j00njSTirvMrfoC/Laser-Cutting-Machines-for-Metal-Processing.jpg"/>
          <p:cNvPicPr/>
          <p:nvPr/>
        </p:nvPicPr>
        <p:blipFill>
          <a:blip r:embed="rId3"/>
          <a:stretch/>
        </p:blipFill>
        <p:spPr>
          <a:xfrm>
            <a:off x="468360" y="2852640"/>
            <a:ext cx="3311640" cy="3646440"/>
          </a:xfrm>
          <a:prstGeom prst="rect">
            <a:avLst/>
          </a:prstGeom>
          <a:ln w="0">
            <a:noFill/>
          </a:ln>
        </p:spPr>
      </p:pic>
      <p:pic>
        <p:nvPicPr>
          <p:cNvPr id="156" name="Picture 6" descr="http://agklinik.com/wp-content/gallery/galeria-zdjec-laser-fraxel/laser-fraxel-2.jpg"/>
          <p:cNvPicPr/>
          <p:nvPr/>
        </p:nvPicPr>
        <p:blipFill>
          <a:blip r:embed="rId4"/>
          <a:stretch/>
        </p:blipFill>
        <p:spPr>
          <a:xfrm>
            <a:off x="4284720" y="2852640"/>
            <a:ext cx="4359240" cy="2906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8"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59" name="Tytuł 1"/>
          <p:cNvSpPr/>
          <p:nvPr/>
        </p:nvSpPr>
        <p:spPr>
          <a:xfrm>
            <a:off x="324000" y="907920"/>
            <a:ext cx="8424720" cy="21607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Telewizyjny pilot wykorzystuje podczerwień o długości fali około 900nm.</a:t>
            </a:r>
            <a:endParaRPr b="0" lang="en-US" sz="3200" spc="-1" strike="noStrike">
              <a:solidFill>
                <a:srgbClr val="000000"/>
              </a:solidFill>
              <a:latin typeface="Arial"/>
            </a:endParaRPr>
          </a:p>
        </p:txBody>
      </p:sp>
      <p:pic>
        <p:nvPicPr>
          <p:cNvPr id="160" name="Picture 2" descr="http://m.ocdn.eu/_m/76e4866c4473425de7eed806406df650,37,1,0-35-461-259-0.jpg"/>
          <p:cNvPicPr/>
          <p:nvPr/>
        </p:nvPicPr>
        <p:blipFill>
          <a:blip r:embed="rId2"/>
          <a:stretch/>
        </p:blipFill>
        <p:spPr>
          <a:xfrm>
            <a:off x="2232000" y="3062160"/>
            <a:ext cx="4608360" cy="258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pl-PL" sz="4400" spc="-1" strike="noStrike">
                <a:solidFill>
                  <a:srgbClr val="000000"/>
                </a:solidFill>
                <a:latin typeface="Calibri"/>
              </a:rPr>
              <a:t>Fale elektromagnetyczne</a:t>
            </a:r>
            <a:br>
              <a:rPr sz="4400"/>
            </a:br>
            <a:br>
              <a:rPr sz="4400"/>
            </a:br>
            <a:endParaRPr b="0" lang="en-US" sz="4400" spc="-1" strike="noStrike">
              <a:solidFill>
                <a:srgbClr val="000000"/>
              </a:solidFill>
              <a:latin typeface="Calibri"/>
            </a:endParaRPr>
          </a:p>
        </p:txBody>
      </p:sp>
      <p:sp>
        <p:nvSpPr>
          <p:cNvPr id="5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57" name="Tytuł 1"/>
          <p:cNvSpPr/>
          <p:nvPr/>
        </p:nvSpPr>
        <p:spPr>
          <a:xfrm>
            <a:off x="179280" y="1989000"/>
            <a:ext cx="8713800" cy="4319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Fale elektromagnetyczne są rozchodzącym się w przestrzeni zaburzeniem pola elektromagnetycznego. Zmiana wartości pola magnetycznego wywołuje zmianę pola elektrycznego, z kolei zmiana pola elektrycznego wywołuje zmianę tych pól. Cykliczna zmiana o określonym czasie trwania – okresie rozchodząca się w przestrzeni jest nazywana falą elektromagnetyczn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547280" y="836640"/>
            <a:ext cx="6551640" cy="107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Światło widzialne</a:t>
            </a:r>
            <a:endParaRPr b="0" lang="en-US" sz="4400" spc="-1" strike="noStrike">
              <a:solidFill>
                <a:srgbClr val="000000"/>
              </a:solidFill>
              <a:latin typeface="Calibri"/>
            </a:endParaRPr>
          </a:p>
        </p:txBody>
      </p:sp>
      <p:sp>
        <p:nvSpPr>
          <p:cNvPr id="16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3"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64" name="Tytuł 1"/>
          <p:cNvSpPr/>
          <p:nvPr/>
        </p:nvSpPr>
        <p:spPr>
          <a:xfrm>
            <a:off x="285840" y="3573360"/>
            <a:ext cx="8358120" cy="2880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Jest to wąski zakres promieniowania elektromagnetycznego, który możemy bezpośrednio odbierać zmysłem wzroku. Źródłem światła są zarówno procesy chemiczne, zjawiska elektronowe, oraz materia o wysokiej temperaturze.</a:t>
            </a:r>
            <a:endParaRPr b="0" lang="en-US" sz="3200" spc="-1" strike="noStrike">
              <a:solidFill>
                <a:srgbClr val="000000"/>
              </a:solidFill>
              <a:latin typeface="Arial"/>
            </a:endParaRPr>
          </a:p>
        </p:txBody>
      </p:sp>
      <p:pic>
        <p:nvPicPr>
          <p:cNvPr id="165" name="Tabela 6" descr=""/>
          <p:cNvPicPr/>
          <p:nvPr/>
        </p:nvPicPr>
        <p:blipFill>
          <a:blip r:embed="rId2"/>
          <a:stretch/>
        </p:blipFill>
        <p:spPr>
          <a:xfrm>
            <a:off x="2077920" y="1743120"/>
            <a:ext cx="5273640" cy="1725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7"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68" name="Tytuł 1"/>
          <p:cNvSpPr/>
          <p:nvPr/>
        </p:nvSpPr>
        <p:spPr>
          <a:xfrm>
            <a:off x="285840" y="907920"/>
            <a:ext cx="8358120" cy="14414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Zakres światła widzialnego wynika z ewolucyjnego przystosowania wzroku do maksimum natężenia spektrum słonecznego.</a:t>
            </a:r>
            <a:endParaRPr b="0" lang="en-US" sz="3200" spc="-1" strike="noStrike">
              <a:solidFill>
                <a:srgbClr val="000000"/>
              </a:solidFill>
              <a:latin typeface="Arial"/>
            </a:endParaRPr>
          </a:p>
        </p:txBody>
      </p:sp>
      <p:pic>
        <p:nvPicPr>
          <p:cNvPr id="169" name="Picture 3" descr="C:\Users\Asia\Desktop\Prusak_Cieślik2\B_58-66\58-63\zródła\Untitled-1.jpg"/>
          <p:cNvPicPr/>
          <p:nvPr/>
        </p:nvPicPr>
        <p:blipFill>
          <a:blip r:embed="rId2"/>
          <a:stretch/>
        </p:blipFill>
        <p:spPr>
          <a:xfrm>
            <a:off x="2916360" y="2401920"/>
            <a:ext cx="1150920" cy="3724200"/>
          </a:xfrm>
          <a:prstGeom prst="rect">
            <a:avLst/>
          </a:prstGeom>
          <a:ln w="0">
            <a:noFill/>
          </a:ln>
        </p:spPr>
      </p:pic>
      <p:pic>
        <p:nvPicPr>
          <p:cNvPr id="170" name="Picture 5" descr="C:\Users\Asia\Desktop\Prusak_Cieślik2\B_58-66\58-63\zródła\11.gif"/>
          <p:cNvPicPr/>
          <p:nvPr/>
        </p:nvPicPr>
        <p:blipFill>
          <a:blip r:embed="rId3"/>
          <a:stretch/>
        </p:blipFill>
        <p:spPr>
          <a:xfrm>
            <a:off x="941400" y="2187720"/>
            <a:ext cx="7308720" cy="4670280"/>
          </a:xfrm>
          <a:prstGeom prst="rect">
            <a:avLst/>
          </a:prstGeom>
          <a:ln w="0">
            <a:noFill/>
          </a:ln>
        </p:spPr>
      </p:pic>
      <p:sp>
        <p:nvSpPr>
          <p:cNvPr id="171" name="Tytuł 1"/>
          <p:cNvSpPr/>
          <p:nvPr/>
        </p:nvSpPr>
        <p:spPr>
          <a:xfrm>
            <a:off x="3348000" y="6265800"/>
            <a:ext cx="2233800" cy="5922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ługość fali w µm</a:t>
            </a:r>
            <a:endParaRPr b="0" lang="en-US" sz="1800" spc="-1" strike="noStrike">
              <a:solidFill>
                <a:srgbClr val="000000"/>
              </a:solidFill>
              <a:latin typeface="Arial"/>
            </a:endParaRPr>
          </a:p>
        </p:txBody>
      </p:sp>
      <p:sp>
        <p:nvSpPr>
          <p:cNvPr id="172" name="Tytuł 1"/>
          <p:cNvSpPr/>
          <p:nvPr/>
        </p:nvSpPr>
        <p:spPr>
          <a:xfrm rot="16200000">
            <a:off x="-697680" y="4016880"/>
            <a:ext cx="3641760" cy="5922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Gęstość mocy promieniowania</a:t>
            </a:r>
            <a:endParaRPr b="0" lang="en-US" sz="1800" spc="-1" strike="noStrike">
              <a:solidFill>
                <a:srgbClr val="000000"/>
              </a:solidFill>
              <a:latin typeface="Arial"/>
            </a:endParaRPr>
          </a:p>
        </p:txBody>
      </p:sp>
      <p:sp>
        <p:nvSpPr>
          <p:cNvPr id="173" name="Objaśnienie prostokątne zaokrąglone 1"/>
          <p:cNvSpPr/>
          <p:nvPr/>
        </p:nvSpPr>
        <p:spPr>
          <a:xfrm>
            <a:off x="4595760" y="3219480"/>
            <a:ext cx="2089080" cy="590400"/>
          </a:xfrm>
          <a:prstGeom prst="wedgeRoundRectCallout">
            <a:avLst>
              <a:gd name="adj1" fmla="val -60449"/>
              <a:gd name="adj2" fmla="val 219976"/>
              <a:gd name="adj3" fmla="val 16667"/>
            </a:avLst>
          </a:prstGeom>
          <a:no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0000"/>
                </a:solidFill>
                <a:latin typeface="Calibri"/>
              </a:rPr>
              <a:t>Emitowane przez Słońce</a:t>
            </a:r>
            <a:endParaRPr b="0" lang="en-US" sz="1800" spc="-1" strike="noStrike">
              <a:solidFill>
                <a:srgbClr val="000000"/>
              </a:solidFill>
              <a:latin typeface="Arial"/>
            </a:endParaRPr>
          </a:p>
        </p:txBody>
      </p:sp>
      <p:sp>
        <p:nvSpPr>
          <p:cNvPr id="174" name="Objaśnienie prostokątne zaokrąglone 11"/>
          <p:cNvSpPr/>
          <p:nvPr/>
        </p:nvSpPr>
        <p:spPr>
          <a:xfrm>
            <a:off x="5364000" y="4017960"/>
            <a:ext cx="2087640" cy="590400"/>
          </a:xfrm>
          <a:prstGeom prst="wedgeRoundRectCallout">
            <a:avLst>
              <a:gd name="adj1" fmla="val -94509"/>
              <a:gd name="adj2" fmla="val 138777"/>
              <a:gd name="adj3" fmla="val 16667"/>
            </a:avLst>
          </a:prstGeom>
          <a:no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0000"/>
                </a:solidFill>
                <a:latin typeface="Calibri"/>
              </a:rPr>
              <a:t>Docierające do powierzchni Ziem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6"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77" name="Tytuł 1"/>
          <p:cNvSpPr/>
          <p:nvPr/>
        </p:nvSpPr>
        <p:spPr>
          <a:xfrm>
            <a:off x="314280" y="1268280"/>
            <a:ext cx="8358120" cy="51850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W siatkówce oka człowieka, znajdują się dwa rodzaje receptorów – komórek czułych na światło. Są to pręciki czułe na światło niezależnie od jego długości, oraz czopki wyspecjalizowane do odbierania światła w trzech różnych zakresach. Światło barwne w innym stopniu oddziałuje na każdy z trzech rodzajów czopków, a informacja o różnicy jest przez nasz mózg interpretowana jako barwa światła. Taki sposób widzenia jest nazywany </a:t>
            </a:r>
            <a:r>
              <a:rPr b="1" lang="pl-PL" sz="3200" spc="-1" strike="noStrike">
                <a:solidFill>
                  <a:srgbClr val="000000"/>
                </a:solidFill>
                <a:latin typeface="Arial"/>
              </a:rPr>
              <a:t>trichromatycznym</a:t>
            </a:r>
            <a:r>
              <a:rPr b="0" lang="pl-PL"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9"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80" name="Tytuł 1"/>
          <p:cNvSpPr/>
          <p:nvPr/>
        </p:nvSpPr>
        <p:spPr>
          <a:xfrm>
            <a:off x="285840" y="907920"/>
            <a:ext cx="8534160" cy="17290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Człowiek posiada trzy rodzaje czopków, czułych na różne zakresy światła. Najczęściej w literaturze są one określane jako S,N i L.</a:t>
            </a:r>
            <a:endParaRPr b="0" lang="en-US" sz="3200" spc="-1" strike="noStrike">
              <a:solidFill>
                <a:srgbClr val="000000"/>
              </a:solidFill>
              <a:latin typeface="Arial"/>
            </a:endParaRPr>
          </a:p>
        </p:txBody>
      </p:sp>
      <p:pic>
        <p:nvPicPr>
          <p:cNvPr id="181" name="Picture 3" descr="C:\Users\Asia\Desktop\Prusak_Cieślik2\B_58-66\58-63\zródła\Untitled-2.tif"/>
          <p:cNvPicPr/>
          <p:nvPr/>
        </p:nvPicPr>
        <p:blipFill>
          <a:blip r:embed="rId2"/>
          <a:stretch/>
        </p:blipFill>
        <p:spPr>
          <a:xfrm>
            <a:off x="1947960" y="3044880"/>
            <a:ext cx="5149800" cy="3160800"/>
          </a:xfrm>
          <a:prstGeom prst="rect">
            <a:avLst/>
          </a:prstGeom>
          <a:ln w="0">
            <a:noFill/>
          </a:ln>
        </p:spPr>
      </p:pic>
      <p:sp>
        <p:nvSpPr>
          <p:cNvPr id="182" name="Tytuł 1"/>
          <p:cNvSpPr/>
          <p:nvPr/>
        </p:nvSpPr>
        <p:spPr>
          <a:xfrm>
            <a:off x="1947960" y="6058080"/>
            <a:ext cx="6697440" cy="6937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400      450      500      550      600      650      700      nm</a:t>
            </a:r>
            <a:endParaRPr b="0" lang="en-US" sz="1800" spc="-1" strike="noStrike">
              <a:solidFill>
                <a:srgbClr val="000000"/>
              </a:solidFill>
              <a:latin typeface="Arial"/>
            </a:endParaRPr>
          </a:p>
        </p:txBody>
      </p:sp>
      <p:sp>
        <p:nvSpPr>
          <p:cNvPr id="183" name="Dowolny kształt 6"/>
          <p:cNvSpPr/>
          <p:nvPr/>
        </p:nvSpPr>
        <p:spPr>
          <a:xfrm>
            <a:off x="1995480" y="3044880"/>
            <a:ext cx="5119560" cy="3160800"/>
          </a:xfrm>
          <a:custGeom>
            <a:avLst/>
            <a:gdLst/>
            <a:ahLst/>
            <a:rect l="l" t="t" r="r" b="b"/>
            <a:pathLst>
              <a:path w="5776686" h="2672223">
                <a:moveTo>
                  <a:pt x="0" y="2672223"/>
                </a:moveTo>
                <a:cubicBezTo>
                  <a:pt x="557590" y="2606908"/>
                  <a:pt x="1115181" y="2541594"/>
                  <a:pt x="1451429" y="2410966"/>
                </a:cubicBezTo>
                <a:cubicBezTo>
                  <a:pt x="1787677" y="2280338"/>
                  <a:pt x="1804610" y="2290014"/>
                  <a:pt x="2017486" y="1888452"/>
                </a:cubicBezTo>
                <a:cubicBezTo>
                  <a:pt x="2230362" y="1486890"/>
                  <a:pt x="2438400" y="-56462"/>
                  <a:pt x="2728686" y="1595"/>
                </a:cubicBezTo>
                <a:cubicBezTo>
                  <a:pt x="3018972" y="59652"/>
                  <a:pt x="3251200" y="1794109"/>
                  <a:pt x="3759200" y="2236795"/>
                </a:cubicBezTo>
                <a:cubicBezTo>
                  <a:pt x="4267200" y="2679481"/>
                  <a:pt x="5358191" y="2621423"/>
                  <a:pt x="5776686" y="2657709"/>
                </a:cubicBezTo>
              </a:path>
            </a:pathLst>
          </a:custGeom>
          <a:noFill/>
          <a:ln w="25560">
            <a:solidFill>
              <a:srgbClr val="000000"/>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Dowolny kształt 7"/>
          <p:cNvSpPr/>
          <p:nvPr/>
        </p:nvSpPr>
        <p:spPr>
          <a:xfrm>
            <a:off x="1989000" y="3044880"/>
            <a:ext cx="5108760" cy="3141720"/>
          </a:xfrm>
          <a:custGeom>
            <a:avLst/>
            <a:gdLst/>
            <a:ahLst/>
            <a:rect l="l" t="t" r="r" b="b"/>
            <a:pathLst>
              <a:path w="5109029" h="2628174">
                <a:moveTo>
                  <a:pt x="0" y="2613660"/>
                </a:moveTo>
                <a:cubicBezTo>
                  <a:pt x="463248" y="2599145"/>
                  <a:pt x="926496" y="2584631"/>
                  <a:pt x="1248229" y="2497545"/>
                </a:cubicBezTo>
                <a:cubicBezTo>
                  <a:pt x="1569962" y="2410459"/>
                  <a:pt x="1659467" y="2507221"/>
                  <a:pt x="1930400" y="2091145"/>
                </a:cubicBezTo>
                <a:cubicBezTo>
                  <a:pt x="2201333" y="1675069"/>
                  <a:pt x="2535162" y="47050"/>
                  <a:pt x="2873829" y="1088"/>
                </a:cubicBezTo>
                <a:cubicBezTo>
                  <a:pt x="3212496" y="-44874"/>
                  <a:pt x="3589867" y="1377526"/>
                  <a:pt x="3962400" y="1815374"/>
                </a:cubicBezTo>
                <a:cubicBezTo>
                  <a:pt x="4334933" y="2253222"/>
                  <a:pt x="5109029" y="2628174"/>
                  <a:pt x="5109029" y="2628174"/>
                </a:cubicBezTo>
              </a:path>
            </a:pathLst>
          </a:custGeom>
          <a:noFill/>
          <a:ln w="25560">
            <a:solidFill>
              <a:srgbClr val="000000"/>
            </a:solidFill>
            <a:prstDash val="dashDot"/>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Dowolny kształt 8"/>
          <p:cNvSpPr/>
          <p:nvPr/>
        </p:nvSpPr>
        <p:spPr>
          <a:xfrm>
            <a:off x="1974960" y="3044880"/>
            <a:ext cx="2554200" cy="3187800"/>
          </a:xfrm>
          <a:custGeom>
            <a:avLst/>
            <a:gdLst/>
            <a:ahLst/>
            <a:rect l="l" t="t" r="r" b="b"/>
            <a:pathLst>
              <a:path w="2554514" h="2821838">
                <a:moveTo>
                  <a:pt x="0" y="2760869"/>
                </a:moveTo>
                <a:cubicBezTo>
                  <a:pt x="351971" y="1426764"/>
                  <a:pt x="703943" y="92659"/>
                  <a:pt x="1001486" y="3154"/>
                </a:cubicBezTo>
                <a:cubicBezTo>
                  <a:pt x="1299029" y="-86351"/>
                  <a:pt x="1526419" y="1754545"/>
                  <a:pt x="1785257" y="2223840"/>
                </a:cubicBezTo>
                <a:cubicBezTo>
                  <a:pt x="2044095" y="2693135"/>
                  <a:pt x="2399695" y="2845536"/>
                  <a:pt x="2554514" y="2818926"/>
                </a:cubicBezTo>
              </a:path>
            </a:pathLst>
          </a:custGeom>
          <a:noFill/>
          <a:ln w="25560">
            <a:solidFill>
              <a:srgbClr val="000000"/>
            </a:solidFill>
            <a:prstDash val="sysDot"/>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Tytuł 1"/>
          <p:cNvSpPr/>
          <p:nvPr/>
        </p:nvSpPr>
        <p:spPr>
          <a:xfrm>
            <a:off x="2803680" y="2565360"/>
            <a:ext cx="2541600" cy="5619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                    M     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476000" y="104580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Ultrafiolet</a:t>
            </a:r>
            <a:endParaRPr b="0" lang="en-US" sz="4400" spc="-1" strike="noStrike">
              <a:solidFill>
                <a:srgbClr val="000000"/>
              </a:solidFill>
              <a:latin typeface="Calibri"/>
            </a:endParaRPr>
          </a:p>
        </p:txBody>
      </p:sp>
      <p:sp>
        <p:nvSpPr>
          <p:cNvPr id="18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90" name="Tytuł 1"/>
          <p:cNvSpPr/>
          <p:nvPr/>
        </p:nvSpPr>
        <p:spPr>
          <a:xfrm>
            <a:off x="285840" y="3716280"/>
            <a:ext cx="8358120" cy="2808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Źródłem promieniowania ultrafioletowego są ciała o bardzo wysokiej temperaturze (Słońce), oraz zjawiska fizyczne w atomach (spontaniczne powroty elektronów ze stanów wzbudzonych do podstawowych choć emisja następuje nie tylko w zakresie ultrafioletu).</a:t>
            </a:r>
            <a:endParaRPr b="0" lang="en-US" sz="3200" spc="-1" strike="noStrike">
              <a:solidFill>
                <a:srgbClr val="000000"/>
              </a:solidFill>
              <a:latin typeface="Arial"/>
            </a:endParaRPr>
          </a:p>
        </p:txBody>
      </p:sp>
      <p:pic>
        <p:nvPicPr>
          <p:cNvPr id="191" name="Tabela 5" descr=""/>
          <p:cNvPicPr/>
          <p:nvPr/>
        </p:nvPicPr>
        <p:blipFill>
          <a:blip r:embed="rId2"/>
          <a:stretch/>
        </p:blipFill>
        <p:spPr>
          <a:xfrm>
            <a:off x="1938240" y="1884240"/>
            <a:ext cx="5267520" cy="1724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3"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94" name="Tytuł 1"/>
          <p:cNvSpPr/>
          <p:nvPr/>
        </p:nvSpPr>
        <p:spPr>
          <a:xfrm>
            <a:off x="285840" y="1125360"/>
            <a:ext cx="8462880" cy="2094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W solarium za powstanie opalenizny odpowiedzialny jest ultrafiolet o długości fali 280-400nm.</a:t>
            </a:r>
            <a:endParaRPr b="0" lang="en-US" sz="3200" spc="-1" strike="noStrike">
              <a:solidFill>
                <a:srgbClr val="000000"/>
              </a:solidFill>
              <a:latin typeface="Arial"/>
            </a:endParaRPr>
          </a:p>
        </p:txBody>
      </p:sp>
      <p:pic>
        <p:nvPicPr>
          <p:cNvPr id="195" name="Picture 2" descr="http://dziennespa.pl/wp-content/uploads/2013/02/solarium.jpg"/>
          <p:cNvPicPr/>
          <p:nvPr/>
        </p:nvPicPr>
        <p:blipFill>
          <a:blip r:embed="rId2"/>
          <a:stretch/>
        </p:blipFill>
        <p:spPr>
          <a:xfrm>
            <a:off x="1924200" y="2944800"/>
            <a:ext cx="5184720" cy="36417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7"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198" name="Tytuł 1"/>
          <p:cNvSpPr/>
          <p:nvPr/>
        </p:nvSpPr>
        <p:spPr>
          <a:xfrm>
            <a:off x="179280" y="981000"/>
            <a:ext cx="8640720" cy="1656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romieniowanie ultrafioletowe o długości fali około 250nm, jest toksyczne dla bakterii i wirusów, dlatego jest stosowane w sterylizacji.</a:t>
            </a:r>
            <a:endParaRPr b="0" lang="en-US" sz="3200" spc="-1" strike="noStrike">
              <a:solidFill>
                <a:srgbClr val="000000"/>
              </a:solidFill>
              <a:latin typeface="Arial"/>
            </a:endParaRPr>
          </a:p>
        </p:txBody>
      </p:sp>
      <p:pic>
        <p:nvPicPr>
          <p:cNvPr id="199" name="Picture 2" descr="http://www.wigo.pl/media/Najlepsze_lampy_UV_do_basenu_Lampa_UV_do_dezynfekcji_wody_pitnej_basenowej_technologicznej_zabija_bakterie_wirusy_virusy_wigo_gasiorowski_water_poland%202.jpg"/>
          <p:cNvPicPr/>
          <p:nvPr/>
        </p:nvPicPr>
        <p:blipFill>
          <a:blip r:embed="rId2"/>
          <a:stretch/>
        </p:blipFill>
        <p:spPr>
          <a:xfrm>
            <a:off x="792000" y="2587680"/>
            <a:ext cx="2808360" cy="2941560"/>
          </a:xfrm>
          <a:prstGeom prst="rect">
            <a:avLst/>
          </a:prstGeom>
          <a:ln w="0">
            <a:noFill/>
          </a:ln>
        </p:spPr>
      </p:pic>
      <p:sp>
        <p:nvSpPr>
          <p:cNvPr id="200" name="Tytuł 1"/>
          <p:cNvSpPr/>
          <p:nvPr/>
        </p:nvSpPr>
        <p:spPr>
          <a:xfrm>
            <a:off x="179280" y="5403960"/>
            <a:ext cx="4032360" cy="1193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Nowoczesna stacja dezynfekcji wody z użyciem promieniowania ultrafioletowego</a:t>
            </a:r>
            <a:endParaRPr b="0" lang="en-US" sz="2000" spc="-1" strike="noStrike">
              <a:solidFill>
                <a:srgbClr val="000000"/>
              </a:solidFill>
              <a:latin typeface="Arial"/>
            </a:endParaRPr>
          </a:p>
        </p:txBody>
      </p:sp>
      <p:sp>
        <p:nvSpPr>
          <p:cNvPr id="201"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Tytuł 1"/>
          <p:cNvSpPr/>
          <p:nvPr/>
        </p:nvSpPr>
        <p:spPr>
          <a:xfrm>
            <a:off x="4788000" y="5529240"/>
            <a:ext cx="4032000" cy="1193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Lampa bakteriobójcza służąca do dezynfekcji sali szpitalnych</a:t>
            </a:r>
            <a:endParaRPr b="0" lang="en-US" sz="2000" spc="-1" strike="noStrike">
              <a:solidFill>
                <a:srgbClr val="000000"/>
              </a:solidFill>
              <a:latin typeface="Arial"/>
            </a:endParaRPr>
          </a:p>
        </p:txBody>
      </p:sp>
      <p:pic>
        <p:nvPicPr>
          <p:cNvPr id="203" name="Picture 4" descr="http://www.ultraviol.pl/images/tekst/nbv-opis2m.gif"/>
          <p:cNvPicPr/>
          <p:nvPr/>
        </p:nvPicPr>
        <p:blipFill>
          <a:blip r:embed="rId3"/>
          <a:stretch/>
        </p:blipFill>
        <p:spPr>
          <a:xfrm>
            <a:off x="5508720" y="2568600"/>
            <a:ext cx="2592360" cy="3179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042560" y="1213920"/>
            <a:ext cx="70088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pl-PL" sz="4400" spc="-1" strike="noStrike">
                <a:solidFill>
                  <a:srgbClr val="000000"/>
                </a:solidFill>
                <a:latin typeface="Calibri"/>
              </a:rPr>
              <a:t>Promieniowanie X</a:t>
            </a:r>
            <a:br>
              <a:rPr sz="4400"/>
            </a:br>
            <a:r>
              <a:rPr b="1" lang="pl-PL" sz="4400" spc="-1" strike="noStrike">
                <a:solidFill>
                  <a:srgbClr val="000000"/>
                </a:solidFill>
                <a:latin typeface="Calibri"/>
              </a:rPr>
              <a:t>(rentgenowskie)</a:t>
            </a:r>
            <a:br>
              <a:rPr sz="4400"/>
            </a:br>
            <a:endParaRPr b="0" lang="en-US" sz="4400" spc="-1" strike="noStrike">
              <a:solidFill>
                <a:srgbClr val="000000"/>
              </a:solidFill>
              <a:latin typeface="Calibri"/>
            </a:endParaRPr>
          </a:p>
        </p:txBody>
      </p:sp>
      <p:sp>
        <p:nvSpPr>
          <p:cNvPr id="20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6"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07" name="Tytuł 1"/>
          <p:cNvSpPr/>
          <p:nvPr/>
        </p:nvSpPr>
        <p:spPr>
          <a:xfrm>
            <a:off x="285840" y="4221000"/>
            <a:ext cx="8358120" cy="23767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odstawowym źródłem promieniowania X jest hamowanie rozpędzonych elektronów na jądrach ciężkich pierwiastków. Jest to promieniowanie jonizujące, przenikliwe i szkodliwe dla organizmów żywych.</a:t>
            </a:r>
            <a:endParaRPr b="0" lang="en-US" sz="3200" spc="-1" strike="noStrike">
              <a:solidFill>
                <a:srgbClr val="000000"/>
              </a:solidFill>
              <a:latin typeface="Arial"/>
            </a:endParaRPr>
          </a:p>
        </p:txBody>
      </p:sp>
      <p:pic>
        <p:nvPicPr>
          <p:cNvPr id="208" name="Tabela 5" descr=""/>
          <p:cNvPicPr/>
          <p:nvPr/>
        </p:nvPicPr>
        <p:blipFill>
          <a:blip r:embed="rId2"/>
          <a:stretch/>
        </p:blipFill>
        <p:spPr>
          <a:xfrm>
            <a:off x="1938240" y="2535120"/>
            <a:ext cx="5267520" cy="1719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0"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11" name="Tytuł 1"/>
          <p:cNvSpPr/>
          <p:nvPr/>
        </p:nvSpPr>
        <p:spPr>
          <a:xfrm>
            <a:off x="250920" y="981000"/>
            <a:ext cx="8497800" cy="17272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romieniowanie X wywołuje zaczernienie kliszy fotograficznej, ponadto dobrze przenika przez tkanki miękkie ludzkiego ciała zaś znacznie gorzej przez kości.</a:t>
            </a:r>
            <a:endParaRPr b="0" lang="en-US" sz="3200" spc="-1" strike="noStrike">
              <a:solidFill>
                <a:srgbClr val="000000"/>
              </a:solidFill>
              <a:latin typeface="Arial"/>
            </a:endParaRPr>
          </a:p>
        </p:txBody>
      </p:sp>
      <p:pic>
        <p:nvPicPr>
          <p:cNvPr id="212" name="Picture 2" descr="http://wloclawskie24.pl/photos/0039/3013/rtg-klatki-piersiowej_thumbnail3.jpg?1318859103"/>
          <p:cNvPicPr/>
          <p:nvPr/>
        </p:nvPicPr>
        <p:blipFill>
          <a:blip r:embed="rId2"/>
          <a:stretch/>
        </p:blipFill>
        <p:spPr>
          <a:xfrm>
            <a:off x="2948040" y="2994120"/>
            <a:ext cx="3247920" cy="2735280"/>
          </a:xfrm>
          <a:prstGeom prst="rect">
            <a:avLst/>
          </a:prstGeom>
          <a:ln w="0">
            <a:noFill/>
          </a:ln>
        </p:spPr>
      </p:pic>
      <p:sp>
        <p:nvSpPr>
          <p:cNvPr id="213" name="Tytuł 1"/>
          <p:cNvSpPr/>
          <p:nvPr/>
        </p:nvSpPr>
        <p:spPr>
          <a:xfrm>
            <a:off x="1619280" y="5646600"/>
            <a:ext cx="5761080" cy="1193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djęcie RTG klatki piersiowej, widoczne kości oraz zwapnienia w obrębie płu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499760" y="1213920"/>
            <a:ext cx="655164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pl-PL" sz="4400" spc="-1" strike="noStrike">
                <a:solidFill>
                  <a:srgbClr val="000000"/>
                </a:solidFill>
                <a:latin typeface="Calibri"/>
              </a:rPr>
              <a:t>Promieniowanie gamma.</a:t>
            </a:r>
            <a:br>
              <a:rPr sz="4400"/>
            </a:br>
            <a:br>
              <a:rPr sz="4400"/>
            </a:br>
            <a:endParaRPr b="0" lang="en-US" sz="4400" spc="-1" strike="noStrike">
              <a:solidFill>
                <a:srgbClr val="000000"/>
              </a:solidFill>
              <a:latin typeface="Calibri"/>
            </a:endParaRPr>
          </a:p>
        </p:txBody>
      </p:sp>
      <p:sp>
        <p:nvSpPr>
          <p:cNvPr id="21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6"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17" name="Tytuł 1"/>
          <p:cNvSpPr/>
          <p:nvPr/>
        </p:nvSpPr>
        <p:spPr>
          <a:xfrm>
            <a:off x="468360" y="3727440"/>
            <a:ext cx="8207280" cy="27259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owstaje w wyniku przemian jądrowych. Jest ono najbardziej przenikliwym i wysokoenergetycznym promieniowaniem elektromagnetycznym.</a:t>
            </a:r>
            <a:endParaRPr b="0" lang="en-US" sz="3200" spc="-1" strike="noStrike">
              <a:solidFill>
                <a:srgbClr val="000000"/>
              </a:solidFill>
              <a:latin typeface="Arial"/>
            </a:endParaRPr>
          </a:p>
        </p:txBody>
      </p:sp>
      <p:pic>
        <p:nvPicPr>
          <p:cNvPr id="218" name="Tabela 7" descr=""/>
          <p:cNvPicPr/>
          <p:nvPr/>
        </p:nvPicPr>
        <p:blipFill>
          <a:blip r:embed="rId2"/>
          <a:stretch/>
        </p:blipFill>
        <p:spPr>
          <a:xfrm>
            <a:off x="1719360" y="2103480"/>
            <a:ext cx="5271840" cy="1719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60" name="Tytuł 1"/>
          <p:cNvSpPr/>
          <p:nvPr/>
        </p:nvSpPr>
        <p:spPr>
          <a:xfrm>
            <a:off x="1792440" y="1876320"/>
            <a:ext cx="2341440" cy="62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Długość fali</a:t>
            </a:r>
            <a:endParaRPr b="0" lang="en-US" sz="1800" spc="-1" strike="noStrike">
              <a:solidFill>
                <a:srgbClr val="000000"/>
              </a:solidFill>
              <a:latin typeface="Arial"/>
            </a:endParaRPr>
          </a:p>
        </p:txBody>
      </p:sp>
      <p:cxnSp>
        <p:nvCxnSpPr>
          <p:cNvPr id="61" name="Łącznik prosty ze strzałką 3"/>
          <p:cNvCxnSpPr>
            <a:endCxn id="62" idx="20"/>
          </p:cNvCxnSpPr>
          <p:nvPr/>
        </p:nvCxnSpPr>
        <p:spPr>
          <a:xfrm>
            <a:off x="507600" y="3874680"/>
            <a:ext cx="8041320" cy="1080"/>
          </a:xfrm>
          <a:prstGeom prst="straightConnector1">
            <a:avLst/>
          </a:prstGeom>
          <a:ln w="38160">
            <a:solidFill>
              <a:srgbClr val="000000"/>
            </a:solidFill>
            <a:prstDash val="lgDashDot"/>
            <a:miter/>
            <a:tailEnd len="med" type="arrow" w="med"/>
          </a:ln>
        </p:spPr>
      </p:cxnSp>
      <p:sp>
        <p:nvSpPr>
          <p:cNvPr id="63" name="Dowolny kształt 12"/>
          <p:cNvSpPr/>
          <p:nvPr/>
        </p:nvSpPr>
        <p:spPr>
          <a:xfrm>
            <a:off x="522360" y="2840040"/>
            <a:ext cx="7997760" cy="2119320"/>
          </a:xfrm>
          <a:custGeom>
            <a:avLst/>
            <a:gdLst/>
            <a:ahLst/>
            <a:rect l="l" t="t" r="r" b="b"/>
            <a:pathLst>
              <a:path w="7997371" h="2118730">
                <a:moveTo>
                  <a:pt x="0" y="1098362"/>
                </a:moveTo>
                <a:cubicBezTo>
                  <a:pt x="105228" y="872181"/>
                  <a:pt x="210457" y="646000"/>
                  <a:pt x="319314" y="474248"/>
                </a:cubicBezTo>
                <a:cubicBezTo>
                  <a:pt x="428171" y="302496"/>
                  <a:pt x="534610" y="125905"/>
                  <a:pt x="653143" y="67848"/>
                </a:cubicBezTo>
                <a:cubicBezTo>
                  <a:pt x="771676" y="9791"/>
                  <a:pt x="870857" y="-43428"/>
                  <a:pt x="1030514" y="125905"/>
                </a:cubicBezTo>
                <a:cubicBezTo>
                  <a:pt x="1190171" y="295238"/>
                  <a:pt x="1449009" y="803239"/>
                  <a:pt x="1611085" y="1083848"/>
                </a:cubicBezTo>
                <a:cubicBezTo>
                  <a:pt x="1773161" y="1364457"/>
                  <a:pt x="1879600" y="1640229"/>
                  <a:pt x="2002971" y="1809562"/>
                </a:cubicBezTo>
                <a:cubicBezTo>
                  <a:pt x="2126342" y="1978895"/>
                  <a:pt x="2242457" y="2070820"/>
                  <a:pt x="2351314" y="2099848"/>
                </a:cubicBezTo>
                <a:cubicBezTo>
                  <a:pt x="2460171" y="2128876"/>
                  <a:pt x="2530324" y="2114362"/>
                  <a:pt x="2656114" y="1983733"/>
                </a:cubicBezTo>
                <a:cubicBezTo>
                  <a:pt x="2781905" y="1853104"/>
                  <a:pt x="2970590" y="1550723"/>
                  <a:pt x="3106057" y="1316076"/>
                </a:cubicBezTo>
                <a:cubicBezTo>
                  <a:pt x="3241524" y="1081429"/>
                  <a:pt x="3355219" y="774210"/>
                  <a:pt x="3468914" y="575848"/>
                </a:cubicBezTo>
                <a:cubicBezTo>
                  <a:pt x="3582609" y="377486"/>
                  <a:pt x="3698723" y="215410"/>
                  <a:pt x="3788228" y="125905"/>
                </a:cubicBezTo>
                <a:cubicBezTo>
                  <a:pt x="3877733" y="36400"/>
                  <a:pt x="3921276" y="31562"/>
                  <a:pt x="4005943" y="38819"/>
                </a:cubicBezTo>
                <a:cubicBezTo>
                  <a:pt x="4090610" y="46076"/>
                  <a:pt x="4175276" y="29143"/>
                  <a:pt x="4296228" y="169448"/>
                </a:cubicBezTo>
                <a:cubicBezTo>
                  <a:pt x="4417180" y="309753"/>
                  <a:pt x="4593771" y="626648"/>
                  <a:pt x="4731657" y="880648"/>
                </a:cubicBezTo>
                <a:cubicBezTo>
                  <a:pt x="4869543" y="1134648"/>
                  <a:pt x="5005010" y="1497505"/>
                  <a:pt x="5123543" y="1693448"/>
                </a:cubicBezTo>
                <a:cubicBezTo>
                  <a:pt x="5242076" y="1889391"/>
                  <a:pt x="5331581" y="1998248"/>
                  <a:pt x="5442857" y="2056305"/>
                </a:cubicBezTo>
                <a:cubicBezTo>
                  <a:pt x="5554133" y="2114362"/>
                  <a:pt x="5646057" y="2167581"/>
                  <a:pt x="5791200" y="2041791"/>
                </a:cubicBezTo>
                <a:cubicBezTo>
                  <a:pt x="5936343" y="1916001"/>
                  <a:pt x="6163733" y="1555562"/>
                  <a:pt x="6313714" y="1301562"/>
                </a:cubicBezTo>
                <a:cubicBezTo>
                  <a:pt x="6463695" y="1047562"/>
                  <a:pt x="6572552" y="720991"/>
                  <a:pt x="6691085" y="517791"/>
                </a:cubicBezTo>
                <a:cubicBezTo>
                  <a:pt x="6809618" y="314591"/>
                  <a:pt x="6906381" y="152514"/>
                  <a:pt x="7024914" y="82362"/>
                </a:cubicBezTo>
                <a:cubicBezTo>
                  <a:pt x="7143447" y="12210"/>
                  <a:pt x="7240209" y="-67619"/>
                  <a:pt x="7402285" y="96876"/>
                </a:cubicBezTo>
                <a:cubicBezTo>
                  <a:pt x="7564361" y="261371"/>
                  <a:pt x="7997371" y="1069333"/>
                  <a:pt x="7997371" y="1069333"/>
                </a:cubicBezTo>
              </a:path>
            </a:pathLst>
          </a:custGeom>
          <a:noFill/>
          <a:ln w="648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 name="Dowolny kształt 13"/>
          <p:cNvSpPr/>
          <p:nvPr/>
        </p:nvSpPr>
        <p:spPr>
          <a:xfrm>
            <a:off x="507960" y="3127320"/>
            <a:ext cx="8128080" cy="1587600"/>
          </a:xfrm>
          <a:custGeom>
            <a:avLst/>
            <a:gdLst/>
            <a:ahLst/>
            <a:rect l="l" t="t" r="r" b="b"/>
            <a:pathLst>
              <a:path w="8128742" h="1587897">
                <a:moveTo>
                  <a:pt x="0" y="768625"/>
                </a:moveTo>
                <a:cubicBezTo>
                  <a:pt x="408819" y="512206"/>
                  <a:pt x="817639" y="255787"/>
                  <a:pt x="1074058" y="129997"/>
                </a:cubicBezTo>
                <a:cubicBezTo>
                  <a:pt x="1330477" y="4207"/>
                  <a:pt x="1434496" y="-19985"/>
                  <a:pt x="1538515" y="13882"/>
                </a:cubicBezTo>
                <a:cubicBezTo>
                  <a:pt x="1642534" y="47749"/>
                  <a:pt x="1693334" y="137254"/>
                  <a:pt x="1698172" y="333197"/>
                </a:cubicBezTo>
                <a:cubicBezTo>
                  <a:pt x="1703010" y="529140"/>
                  <a:pt x="1579638" y="988758"/>
                  <a:pt x="1567543" y="1189539"/>
                </a:cubicBezTo>
                <a:cubicBezTo>
                  <a:pt x="1555448" y="1390320"/>
                  <a:pt x="1533676" y="1491920"/>
                  <a:pt x="1625600" y="1537882"/>
                </a:cubicBezTo>
                <a:cubicBezTo>
                  <a:pt x="1717524" y="1583844"/>
                  <a:pt x="1768324" y="1646739"/>
                  <a:pt x="2119086" y="1465311"/>
                </a:cubicBezTo>
                <a:cubicBezTo>
                  <a:pt x="2469848" y="1283883"/>
                  <a:pt x="3360058" y="674282"/>
                  <a:pt x="3730172" y="449311"/>
                </a:cubicBezTo>
                <a:cubicBezTo>
                  <a:pt x="4100286" y="224340"/>
                  <a:pt x="4194629" y="188053"/>
                  <a:pt x="4339772" y="115482"/>
                </a:cubicBezTo>
                <a:cubicBezTo>
                  <a:pt x="4484915" y="42911"/>
                  <a:pt x="4513943" y="18720"/>
                  <a:pt x="4601029" y="13882"/>
                </a:cubicBezTo>
                <a:cubicBezTo>
                  <a:pt x="4688115" y="9044"/>
                  <a:pt x="4821162" y="-10308"/>
                  <a:pt x="4862286" y="86454"/>
                </a:cubicBezTo>
                <a:cubicBezTo>
                  <a:pt x="4903410" y="183216"/>
                  <a:pt x="4864705" y="403349"/>
                  <a:pt x="4847772" y="594454"/>
                </a:cubicBezTo>
                <a:cubicBezTo>
                  <a:pt x="4830839" y="785559"/>
                  <a:pt x="4765524" y="1083101"/>
                  <a:pt x="4760686" y="1233082"/>
                </a:cubicBezTo>
                <a:cubicBezTo>
                  <a:pt x="4755848" y="1383063"/>
                  <a:pt x="4770362" y="1438701"/>
                  <a:pt x="4818743" y="1494339"/>
                </a:cubicBezTo>
                <a:cubicBezTo>
                  <a:pt x="4867124" y="1549977"/>
                  <a:pt x="4874382" y="1624968"/>
                  <a:pt x="5050972" y="1566911"/>
                </a:cubicBezTo>
                <a:cubicBezTo>
                  <a:pt x="5227562" y="1508854"/>
                  <a:pt x="5551715" y="1341940"/>
                  <a:pt x="5878286" y="1145997"/>
                </a:cubicBezTo>
                <a:cubicBezTo>
                  <a:pt x="6204857" y="950054"/>
                  <a:pt x="6708019" y="575102"/>
                  <a:pt x="7010400" y="391254"/>
                </a:cubicBezTo>
                <a:cubicBezTo>
                  <a:pt x="7312781" y="207406"/>
                  <a:pt x="7528077" y="100968"/>
                  <a:pt x="7692572" y="42911"/>
                </a:cubicBezTo>
                <a:cubicBezTo>
                  <a:pt x="7857067" y="-15146"/>
                  <a:pt x="7924801" y="-632"/>
                  <a:pt x="7997372" y="42911"/>
                </a:cubicBezTo>
                <a:cubicBezTo>
                  <a:pt x="8069943" y="86454"/>
                  <a:pt x="8120743" y="183216"/>
                  <a:pt x="8128000" y="304168"/>
                </a:cubicBezTo>
                <a:cubicBezTo>
                  <a:pt x="8135257" y="425120"/>
                  <a:pt x="8088086" y="596872"/>
                  <a:pt x="8040915" y="768625"/>
                </a:cubicBezTo>
              </a:path>
            </a:pathLst>
          </a:custGeom>
          <a:noFill/>
          <a:ln w="6480">
            <a:solidFill>
              <a:srgbClr val="00b05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64" name="Łącznik prosty ze strzałką 16"/>
          <p:cNvCxnSpPr>
            <a:endCxn id="63" idx="11"/>
          </p:cNvCxnSpPr>
          <p:nvPr/>
        </p:nvCxnSpPr>
        <p:spPr>
          <a:xfrm flipV="1">
            <a:off x="4493880" y="2878920"/>
            <a:ext cx="1080" cy="996120"/>
          </a:xfrm>
          <a:prstGeom prst="straightConnector1">
            <a:avLst/>
          </a:prstGeom>
          <a:ln w="28440">
            <a:solidFill>
              <a:srgbClr val="ff0000"/>
            </a:solidFill>
            <a:miter/>
            <a:tailEnd len="med" type="arrow" w="med"/>
          </a:ln>
        </p:spPr>
      </p:cxnSp>
      <p:cxnSp>
        <p:nvCxnSpPr>
          <p:cNvPr id="65" name="Łącznik prosty ze strzałką 18"/>
          <p:cNvCxnSpPr/>
          <p:nvPr/>
        </p:nvCxnSpPr>
        <p:spPr>
          <a:xfrm flipV="1">
            <a:off x="4493880" y="3126600"/>
            <a:ext cx="754920" cy="748440"/>
          </a:xfrm>
          <a:prstGeom prst="straightConnector1">
            <a:avLst/>
          </a:prstGeom>
          <a:ln w="28440">
            <a:solidFill>
              <a:srgbClr val="00b050"/>
            </a:solidFill>
            <a:miter/>
            <a:tailEnd len="med" type="arrow" w="med"/>
          </a:ln>
        </p:spPr>
      </p:cxnSp>
      <p:sp>
        <p:nvSpPr>
          <p:cNvPr id="66" name="Nawias klamrowy zamykający 20"/>
          <p:cNvSpPr/>
          <p:nvPr/>
        </p:nvSpPr>
        <p:spPr>
          <a:xfrm rot="16200000">
            <a:off x="2734200" y="899280"/>
            <a:ext cx="324000" cy="3205080"/>
          </a:xfrm>
          <a:custGeom>
            <a:avLst/>
            <a:gdLst>
              <a:gd name="textAreaLeft" fmla="*/ 0 w 324000"/>
              <a:gd name="textAreaRight" fmla="*/ 117000 w 324000"/>
              <a:gd name="textAreaTop" fmla="*/ 8280 h 3205080"/>
              <a:gd name="textAreaBottom" fmla="*/ 3196800 h 3205080"/>
            </a:gdLst>
            <a:ahLst/>
            <a:rect l="textAreaLeft" t="textAreaTop" r="textAreaRight" b="textAreaBottom"/>
            <a:pathLst>
              <a:path w="21600" h="21600">
                <a:moveTo>
                  <a:pt x="0" y="0"/>
                </a:moveTo>
                <a:cubicBezTo>
                  <a:pt x="5400" y="0"/>
                  <a:pt x="10800" y="91"/>
                  <a:pt x="10800" y="182"/>
                </a:cubicBezTo>
                <a:lnTo>
                  <a:pt x="10800" y="10618"/>
                </a:lnTo>
                <a:cubicBezTo>
                  <a:pt x="10800" y="10709"/>
                  <a:pt x="16200" y="10800"/>
                  <a:pt x="21600" y="10800"/>
                </a:cubicBezTo>
                <a:cubicBezTo>
                  <a:pt x="16200" y="10800"/>
                  <a:pt x="10800" y="10891"/>
                  <a:pt x="10800" y="10982"/>
                </a:cubicBezTo>
                <a:lnTo>
                  <a:pt x="10800" y="21418"/>
                </a:lnTo>
                <a:cubicBezTo>
                  <a:pt x="10800" y="21509"/>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Objaśnienie prostokątne zaokrąglone 1"/>
          <p:cNvSpPr/>
          <p:nvPr/>
        </p:nvSpPr>
        <p:spPr>
          <a:xfrm>
            <a:off x="5248440" y="1434960"/>
            <a:ext cx="2304720" cy="754200"/>
          </a:xfrm>
          <a:prstGeom prst="wedgeRoundRectCallout">
            <a:avLst>
              <a:gd name="adj1" fmla="val 20111"/>
              <a:gd name="adj2" fmla="val 136125"/>
              <a:gd name="adj3" fmla="val 16667"/>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łaszczyzna zmian pola elektrycznego</a:t>
            </a:r>
            <a:endParaRPr b="0" lang="en-US" sz="1800" spc="-1" strike="noStrike">
              <a:solidFill>
                <a:srgbClr val="000000"/>
              </a:solidFill>
              <a:latin typeface="Arial"/>
            </a:endParaRPr>
          </a:p>
        </p:txBody>
      </p:sp>
      <p:sp>
        <p:nvSpPr>
          <p:cNvPr id="68" name="Objaśnienie prostokątne zaokrąglone 11"/>
          <p:cNvSpPr/>
          <p:nvPr/>
        </p:nvSpPr>
        <p:spPr>
          <a:xfrm>
            <a:off x="5295960" y="5516640"/>
            <a:ext cx="2448000" cy="755640"/>
          </a:xfrm>
          <a:prstGeom prst="wedgeRoundRectCallout">
            <a:avLst>
              <a:gd name="adj1" fmla="val 30115"/>
              <a:gd name="adj2" fmla="val -156199"/>
              <a:gd name="adj3" fmla="val 16667"/>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łaszczyzna zmian pola magnetycznego</a:t>
            </a:r>
            <a:endParaRPr b="0" lang="en-US" sz="1800" spc="-1" strike="noStrike">
              <a:solidFill>
                <a:srgbClr val="000000"/>
              </a:solidFill>
              <a:latin typeface="Arial"/>
            </a:endParaRPr>
          </a:p>
        </p:txBody>
      </p:sp>
      <p:sp>
        <p:nvSpPr>
          <p:cNvPr id="69" name="Prostokąt 4"/>
          <p:cNvSpPr/>
          <p:nvPr/>
        </p:nvSpPr>
        <p:spPr>
          <a:xfrm>
            <a:off x="5364000" y="2840040"/>
            <a:ext cx="3184560" cy="2119320"/>
          </a:xfrm>
          <a:prstGeom prst="rect">
            <a:avLst/>
          </a:prstGeom>
          <a:noFill/>
          <a:ln w="3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Łącznik prostoliniowy 6"/>
          <p:cNvSpPr/>
          <p:nvPr/>
        </p:nvSpPr>
        <p:spPr>
          <a:xfrm>
            <a:off x="5734080" y="3127320"/>
            <a:ext cx="3184560" cy="0"/>
          </a:xfrm>
          <a:prstGeom prst="line">
            <a:avLst/>
          </a:prstGeom>
          <a:ln w="93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Łącznik prostoliniowy 17"/>
          <p:cNvSpPr/>
          <p:nvPr/>
        </p:nvSpPr>
        <p:spPr>
          <a:xfrm>
            <a:off x="4994280" y="4714920"/>
            <a:ext cx="3184560" cy="0"/>
          </a:xfrm>
          <a:prstGeom prst="line">
            <a:avLst/>
          </a:prstGeom>
          <a:ln w="93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Łącznik prostoliniowy 19"/>
          <p:cNvSpPr/>
          <p:nvPr/>
        </p:nvSpPr>
        <p:spPr>
          <a:xfrm flipH="1">
            <a:off x="8178480" y="3127320"/>
            <a:ext cx="739800" cy="1587600"/>
          </a:xfrm>
          <a:prstGeom prst="line">
            <a:avLst/>
          </a:prstGeom>
          <a:ln w="93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Łącznik prostoliniowy 21"/>
          <p:cNvSpPr/>
          <p:nvPr/>
        </p:nvSpPr>
        <p:spPr>
          <a:xfrm flipH="1">
            <a:off x="4993920" y="3127320"/>
            <a:ext cx="739800" cy="1587600"/>
          </a:xfrm>
          <a:prstGeom prst="line">
            <a:avLst/>
          </a:prstGeom>
          <a:ln w="93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Tytuł 1"/>
          <p:cNvSpPr/>
          <p:nvPr/>
        </p:nvSpPr>
        <p:spPr>
          <a:xfrm>
            <a:off x="4108320" y="2976480"/>
            <a:ext cx="615960" cy="62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E</a:t>
            </a:r>
            <a:endParaRPr b="0" lang="en-US" sz="1800" spc="-1" strike="noStrike">
              <a:solidFill>
                <a:srgbClr val="000000"/>
              </a:solidFill>
              <a:latin typeface="Arial"/>
            </a:endParaRPr>
          </a:p>
        </p:txBody>
      </p:sp>
      <p:sp>
        <p:nvSpPr>
          <p:cNvPr id="75" name="Tytuł 1"/>
          <p:cNvSpPr/>
          <p:nvPr/>
        </p:nvSpPr>
        <p:spPr>
          <a:xfrm>
            <a:off x="4700520" y="3306600"/>
            <a:ext cx="663480" cy="59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0"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21" name="Tytuł 1"/>
          <p:cNvSpPr/>
          <p:nvPr/>
        </p:nvSpPr>
        <p:spPr>
          <a:xfrm>
            <a:off x="285840" y="1125360"/>
            <a:ext cx="8358120" cy="17989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romieniowanie gamma jest szczególnie zabójcze dla szybko rozmnażających się komórek, zwłaszcza nowotworowych, dlatego jest wykorzystywane w radioterapii.</a:t>
            </a:r>
            <a:endParaRPr b="0" lang="en-US" sz="3200" spc="-1" strike="noStrike">
              <a:solidFill>
                <a:srgbClr val="000000"/>
              </a:solidFill>
              <a:latin typeface="Arial"/>
            </a:endParaRPr>
          </a:p>
        </p:txBody>
      </p:sp>
      <p:pic>
        <p:nvPicPr>
          <p:cNvPr id="222" name="Picture 2" descr="http://dooktor.pl/image_atta/art/1fRJ2d5IC0pqwH9ZsRLd4M53x9D7lZ_s.jpg"/>
          <p:cNvPicPr/>
          <p:nvPr/>
        </p:nvPicPr>
        <p:blipFill>
          <a:blip r:embed="rId2"/>
          <a:stretch/>
        </p:blipFill>
        <p:spPr>
          <a:xfrm>
            <a:off x="3036960" y="2960640"/>
            <a:ext cx="2857320" cy="2876760"/>
          </a:xfrm>
          <a:prstGeom prst="rect">
            <a:avLst/>
          </a:prstGeom>
          <a:ln w="0">
            <a:noFill/>
          </a:ln>
        </p:spPr>
      </p:pic>
      <p:sp>
        <p:nvSpPr>
          <p:cNvPr id="223" name="Tytuł 1"/>
          <p:cNvSpPr/>
          <p:nvPr/>
        </p:nvSpPr>
        <p:spPr>
          <a:xfrm>
            <a:off x="952560" y="5935680"/>
            <a:ext cx="7024680" cy="87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parat stosowany w radioterapii. Komórki nowotworowe są niszczony przez naświetlane promieniowaniem gamma wytwarzanym przez kobalt-6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5"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26" name="Tytuł 1"/>
          <p:cNvSpPr/>
          <p:nvPr/>
        </p:nvSpPr>
        <p:spPr>
          <a:xfrm>
            <a:off x="179280" y="765000"/>
            <a:ext cx="5184720" cy="56883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Wysokoenergetyczne promieniowanie gamma niesie w sobie do 5% energii wybuchu jądrowego i odpowiada za większość dawki pochłoniętej w momencie wybuchu. Jest najbardziej przenikliwe. </a:t>
            </a:r>
            <a:br>
              <a:rPr sz="3200"/>
            </a:br>
            <a:r>
              <a:rPr b="0" lang="pl-PL" sz="3200" spc="-1" strike="noStrike">
                <a:solidFill>
                  <a:srgbClr val="000000"/>
                </a:solidFill>
                <a:latin typeface="Arial"/>
              </a:rPr>
              <a:t>Aby zredukować jego natężenie dwukrotnie potrzeba 30-50cm betonu.</a:t>
            </a:r>
            <a:endParaRPr b="0" lang="en-US" sz="3200" spc="-1" strike="noStrike">
              <a:solidFill>
                <a:srgbClr val="000000"/>
              </a:solidFill>
              <a:latin typeface="Arial"/>
            </a:endParaRPr>
          </a:p>
        </p:txBody>
      </p:sp>
      <p:pic>
        <p:nvPicPr>
          <p:cNvPr id="227" name="Picture 2" descr="http://4.bp.blogspot.com/_W4NIJIU_o9o/S8wD_Yxo6CI/AAAAAAAAACY/_fK0oy8Lbes/s1600/n1.jpg"/>
          <p:cNvPicPr/>
          <p:nvPr/>
        </p:nvPicPr>
        <p:blipFill>
          <a:blip r:embed="rId2"/>
          <a:stretch/>
        </p:blipFill>
        <p:spPr>
          <a:xfrm>
            <a:off x="5594400" y="1393920"/>
            <a:ext cx="3035160" cy="3835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9"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30" name="Tytuł 1"/>
          <p:cNvSpPr/>
          <p:nvPr/>
        </p:nvSpPr>
        <p:spPr>
          <a:xfrm>
            <a:off x="0" y="1844640"/>
            <a:ext cx="9144000" cy="2016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Rozkład energii obserwowanych fal w funkcji ich długości nosi nazwę </a:t>
            </a:r>
            <a:r>
              <a:rPr b="1" lang="pl-PL" sz="3200" spc="-1" strike="noStrike">
                <a:solidFill>
                  <a:srgbClr val="000000"/>
                </a:solidFill>
                <a:latin typeface="Arial"/>
              </a:rPr>
              <a:t>widma</a:t>
            </a:r>
            <a:r>
              <a:rPr b="0" lang="pl-PL" sz="3200" spc="-1" strike="noStrike">
                <a:solidFill>
                  <a:srgbClr val="000000"/>
                </a:solidFill>
                <a:latin typeface="Arial"/>
              </a:rPr>
              <a:t>. Szczególne znaczenie ma widmo światła, gdyż kolejne zakresy oko ludzkie dostrzega jako różne barwy.</a:t>
            </a:r>
            <a:endParaRPr b="0" lang="en-US" sz="3200" spc="-1" strike="noStrike">
              <a:solidFill>
                <a:srgbClr val="000000"/>
              </a:solidFill>
              <a:latin typeface="Arial"/>
            </a:endParaRPr>
          </a:p>
        </p:txBody>
      </p:sp>
      <p:sp>
        <p:nvSpPr>
          <p:cNvPr id="231" name="PlaceHolder 1"/>
          <p:cNvSpPr>
            <a:spLocks noGrp="1"/>
          </p:cNvSpPr>
          <p:nvPr>
            <p:ph type="title"/>
          </p:nvPr>
        </p:nvSpPr>
        <p:spPr>
          <a:xfrm>
            <a:off x="285480" y="923400"/>
            <a:ext cx="8607240" cy="1065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Widmo fal elektromagnetycznych</a:t>
            </a:r>
            <a:endParaRPr b="0" lang="en-US" sz="4400" spc="-1" strike="noStrike">
              <a:solidFill>
                <a:srgbClr val="000000"/>
              </a:solidFill>
              <a:latin typeface="Calibri"/>
            </a:endParaRPr>
          </a:p>
        </p:txBody>
      </p:sp>
      <p:pic>
        <p:nvPicPr>
          <p:cNvPr id="232" name="Picture 2" descr="http://imgsrc.hubblesite.org/hu/db/2008/11/videos/e/stills/3/image.jpg"/>
          <p:cNvPicPr/>
          <p:nvPr/>
        </p:nvPicPr>
        <p:blipFill>
          <a:blip r:embed="rId2"/>
          <a:stretch/>
        </p:blipFill>
        <p:spPr>
          <a:xfrm>
            <a:off x="1157400" y="4005360"/>
            <a:ext cx="4433760" cy="2493720"/>
          </a:xfrm>
          <a:prstGeom prst="rect">
            <a:avLst/>
          </a:prstGeom>
          <a:ln w="0">
            <a:noFill/>
          </a:ln>
        </p:spPr>
      </p:pic>
      <p:sp>
        <p:nvSpPr>
          <p:cNvPr id="233" name="Tytuł 1"/>
          <p:cNvSpPr/>
          <p:nvPr/>
        </p:nvSpPr>
        <p:spPr>
          <a:xfrm>
            <a:off x="5611680" y="4241880"/>
            <a:ext cx="2305080" cy="22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odczerwień</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80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70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60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50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40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ultrafiole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5"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36" name="Tytuł 1"/>
          <p:cNvSpPr/>
          <p:nvPr/>
        </p:nvSpPr>
        <p:spPr>
          <a:xfrm>
            <a:off x="179280" y="981000"/>
            <a:ext cx="8785440" cy="12574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Widmo ciągłe </a:t>
            </a:r>
            <a:r>
              <a:rPr b="0" lang="pl-PL" sz="3200" spc="-1" strike="noStrike">
                <a:solidFill>
                  <a:srgbClr val="000000"/>
                </a:solidFill>
                <a:latin typeface="Arial"/>
              </a:rPr>
              <a:t>– emisja następuje w szerokim zakresie a zmiany natężenia promieniowania są łagodne.</a:t>
            </a:r>
            <a:endParaRPr b="0" lang="en-US" sz="3200" spc="-1" strike="noStrike">
              <a:solidFill>
                <a:srgbClr val="000000"/>
              </a:solidFill>
              <a:latin typeface="Arial"/>
            </a:endParaRPr>
          </a:p>
        </p:txBody>
      </p:sp>
      <p:pic>
        <p:nvPicPr>
          <p:cNvPr id="237" name="Picture 3" descr="C:\Users\Asia\Desktop\Prusak_Cieślik2\B_58-66\58-63\zródła\Untitled-2.tif"/>
          <p:cNvPicPr/>
          <p:nvPr/>
        </p:nvPicPr>
        <p:blipFill>
          <a:blip r:embed="rId2"/>
          <a:stretch/>
        </p:blipFill>
        <p:spPr>
          <a:xfrm>
            <a:off x="1828800" y="2492280"/>
            <a:ext cx="5149800" cy="1441440"/>
          </a:xfrm>
          <a:prstGeom prst="rect">
            <a:avLst/>
          </a:prstGeom>
          <a:ln w="0">
            <a:noFill/>
          </a:ln>
        </p:spPr>
      </p:pic>
      <p:sp>
        <p:nvSpPr>
          <p:cNvPr id="238" name="Dowolny kształt 2"/>
          <p:cNvSpPr/>
          <p:nvPr/>
        </p:nvSpPr>
        <p:spPr>
          <a:xfrm>
            <a:off x="1879560" y="2733840"/>
            <a:ext cx="5108760" cy="479160"/>
          </a:xfrm>
          <a:custGeom>
            <a:avLst/>
            <a:gdLst/>
            <a:ahLst/>
            <a:rect l="l" t="t" r="r" b="b"/>
            <a:pathLst>
              <a:path w="5109028" h="479029">
                <a:moveTo>
                  <a:pt x="0" y="479029"/>
                </a:moveTo>
                <a:cubicBezTo>
                  <a:pt x="465666" y="359286"/>
                  <a:pt x="931333" y="239544"/>
                  <a:pt x="1378857" y="159715"/>
                </a:cubicBezTo>
                <a:cubicBezTo>
                  <a:pt x="1826381" y="79886"/>
                  <a:pt x="2063448" y="2476"/>
                  <a:pt x="2685143" y="57"/>
                </a:cubicBezTo>
                <a:cubicBezTo>
                  <a:pt x="3306838" y="-2362"/>
                  <a:pt x="4207933" y="71419"/>
                  <a:pt x="5109028" y="145200"/>
                </a:cubicBezTo>
              </a:path>
            </a:pathLst>
          </a:custGeom>
          <a:noFill/>
          <a:ln w="25560">
            <a:solidFill>
              <a:srgbClr val="000000"/>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Tytuł 1"/>
          <p:cNvSpPr/>
          <p:nvPr/>
        </p:nvSpPr>
        <p:spPr>
          <a:xfrm>
            <a:off x="2666880" y="4365720"/>
            <a:ext cx="6289920" cy="2178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Światło słoneczne posiada ciągłe widmo z nieznacznie zmieniającym się natężeniem którego maksimum odpowiada kolorowi żółtemu.</a:t>
            </a:r>
            <a:endParaRPr b="0" lang="en-US" sz="3200" spc="-1" strike="noStrike">
              <a:solidFill>
                <a:srgbClr val="000000"/>
              </a:solidFill>
              <a:latin typeface="Arial"/>
            </a:endParaRPr>
          </a:p>
        </p:txBody>
      </p:sp>
      <p:pic>
        <p:nvPicPr>
          <p:cNvPr id="240" name="Picture 2" descr="http://3.bp.blogspot.com/-wGNv6BXRpbs/TymgfkKnFRI/AAAAAAAAA-c/NWRaB6ZXRSw/s1600/s%C5%82o%C5%84ce.jpg"/>
          <p:cNvPicPr/>
          <p:nvPr/>
        </p:nvPicPr>
        <p:blipFill>
          <a:blip r:embed="rId3"/>
          <a:stretch/>
        </p:blipFill>
        <p:spPr>
          <a:xfrm>
            <a:off x="231840" y="4251240"/>
            <a:ext cx="2338200" cy="2340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2"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243" name="Tytuł 1"/>
          <p:cNvSpPr/>
          <p:nvPr/>
        </p:nvSpPr>
        <p:spPr>
          <a:xfrm>
            <a:off x="179280" y="907920"/>
            <a:ext cx="8785440" cy="12258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Widmo liniowe (dyskretne</a:t>
            </a:r>
            <a:r>
              <a:rPr b="0" lang="pl-PL" sz="3200" spc="-1" strike="noStrike">
                <a:solidFill>
                  <a:srgbClr val="000000"/>
                </a:solidFill>
                <a:latin typeface="Arial"/>
              </a:rPr>
              <a:t>) – emisja tylko w konkretnych częstotliwościach.</a:t>
            </a:r>
            <a:endParaRPr b="0" lang="en-US" sz="3200" spc="-1" strike="noStrike">
              <a:solidFill>
                <a:srgbClr val="000000"/>
              </a:solidFill>
              <a:latin typeface="Arial"/>
            </a:endParaRPr>
          </a:p>
        </p:txBody>
      </p:sp>
      <p:pic>
        <p:nvPicPr>
          <p:cNvPr id="244" name="Picture 2" descr="C:\Users\Asia\Desktop\Prusak_Cieślik2\B_58-66\58-63\zródła\234.jpg"/>
          <p:cNvPicPr/>
          <p:nvPr/>
        </p:nvPicPr>
        <p:blipFill>
          <a:blip r:embed="rId2"/>
          <a:stretch/>
        </p:blipFill>
        <p:spPr>
          <a:xfrm>
            <a:off x="1533600" y="2349360"/>
            <a:ext cx="5653080" cy="1505160"/>
          </a:xfrm>
          <a:prstGeom prst="rect">
            <a:avLst/>
          </a:prstGeom>
          <a:ln w="0">
            <a:noFill/>
          </a:ln>
        </p:spPr>
      </p:pic>
      <p:sp>
        <p:nvSpPr>
          <p:cNvPr id="245" name="Tytuł 1"/>
          <p:cNvSpPr/>
          <p:nvPr/>
        </p:nvSpPr>
        <p:spPr>
          <a:xfrm>
            <a:off x="3851280" y="4365720"/>
            <a:ext cx="5105520" cy="2178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Zielony wskaźnik laserowy posiada widmo liniowe. Emisja następuje tylko w jednym zakresie 523 nm.</a:t>
            </a:r>
            <a:endParaRPr b="0" lang="en-US" sz="3200" spc="-1" strike="noStrike">
              <a:solidFill>
                <a:srgbClr val="000000"/>
              </a:solidFill>
              <a:latin typeface="Arial"/>
            </a:endParaRPr>
          </a:p>
        </p:txBody>
      </p:sp>
      <p:pic>
        <p:nvPicPr>
          <p:cNvPr id="246" name="Picture 4" descr="http://www.beamq.com/images/1200/beamq%20200mw%20green%20laser%20pointer.jpg"/>
          <p:cNvPicPr/>
          <p:nvPr/>
        </p:nvPicPr>
        <p:blipFill>
          <a:blip r:embed="rId3"/>
          <a:stretch/>
        </p:blipFill>
        <p:spPr>
          <a:xfrm>
            <a:off x="179280" y="4145040"/>
            <a:ext cx="3490920" cy="2619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8" name="Obraz 2" descr="stopka_poz.gif"/>
          <p:cNvPicPr/>
          <p:nvPr/>
        </p:nvPicPr>
        <p:blipFill>
          <a:blip r:embed="rId1"/>
          <a:stretch/>
        </p:blipFill>
        <p:spPr>
          <a:xfrm>
            <a:off x="0" y="5951520"/>
            <a:ext cx="9144000" cy="906480"/>
          </a:xfrm>
          <a:prstGeom prst="rect">
            <a:avLst/>
          </a:prstGeom>
          <a:ln w="0">
            <a:noFill/>
          </a:ln>
        </p:spPr>
      </p:pic>
      <p:pic>
        <p:nvPicPr>
          <p:cNvPr id="249" name="Obraz 5" descr="nagłówek_poz.gif"/>
          <p:cNvPicPr/>
          <p:nvPr/>
        </p:nvPicPr>
        <p:blipFill>
          <a:blip r:embed="rId2"/>
          <a:stretch/>
        </p:blipFill>
        <p:spPr>
          <a:xfrm>
            <a:off x="0" y="0"/>
            <a:ext cx="9144000" cy="1125360"/>
          </a:xfrm>
          <a:prstGeom prst="rect">
            <a:avLst/>
          </a:prstGeom>
          <a:ln w="0">
            <a:noFill/>
          </a:ln>
        </p:spPr>
      </p:pic>
      <p:sp>
        <p:nvSpPr>
          <p:cNvPr id="250" name="PlaceHolder 1"/>
          <p:cNvSpPr>
            <a:spLocks noGrp="1"/>
          </p:cNvSpPr>
          <p:nvPr>
            <p:ph type="title"/>
          </p:nvPr>
        </p:nvSpPr>
        <p:spPr>
          <a:xfrm>
            <a:off x="611280" y="2565000"/>
            <a:ext cx="7772400" cy="15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ZAKOŃCZENIE </a:t>
            </a:r>
            <a:br>
              <a:rPr sz="4400"/>
            </a:br>
            <a:r>
              <a:rPr b="1" lang="pl-PL" sz="4400" spc="-1" strike="noStrike">
                <a:solidFill>
                  <a:srgbClr val="000000"/>
                </a:solidFill>
                <a:latin typeface="Calibri"/>
              </a:rPr>
              <a:t>PREZENTACJI</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78" name="Tytuł 1"/>
          <p:cNvSpPr/>
          <p:nvPr/>
        </p:nvSpPr>
        <p:spPr>
          <a:xfrm>
            <a:off x="285840" y="1125360"/>
            <a:ext cx="8358120" cy="39592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Fale elektromagnetyczne, (niezależnie od częstotliwości) w próżni rozchodzą się prostoliniowo ze stałą prędkością, niezależną od układu odniesienia.</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Prędkość ta jest nazywana </a:t>
            </a:r>
            <a:r>
              <a:rPr b="1" lang="pl-PL" sz="3200" spc="-1" strike="noStrike">
                <a:solidFill>
                  <a:srgbClr val="000000"/>
                </a:solidFill>
                <a:latin typeface="Arial"/>
              </a:rPr>
              <a:t>prędkością światła w próżni </a:t>
            </a:r>
            <a:r>
              <a:rPr b="0" lang="pl-PL" sz="3200" spc="-1" strike="noStrike">
                <a:solidFill>
                  <a:srgbClr val="000000"/>
                </a:solidFill>
                <a:latin typeface="Arial"/>
              </a:rPr>
              <a:t>i jest jedną z najważniejszych stałych w fizyce.</a:t>
            </a:r>
            <a:endParaRPr b="0" lang="en-US" sz="3200" spc="-1" strike="noStrike">
              <a:solidFill>
                <a:srgbClr val="000000"/>
              </a:solidFill>
              <a:latin typeface="Arial"/>
            </a:endParaRPr>
          </a:p>
        </p:txBody>
      </p:sp>
      <p:sp>
        <p:nvSpPr>
          <p:cNvPr id="79" name="Prostokąt 1"/>
          <p:cNvSpPr/>
          <p:nvPr/>
        </p:nvSpPr>
        <p:spPr>
          <a:xfrm>
            <a:off x="826920" y="5229360"/>
            <a:ext cx="7058160" cy="129528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0000"/>
                </a:solidFill>
                <a:latin typeface="Arial"/>
              </a:rPr>
              <a:t>c</a:t>
            </a:r>
            <a:r>
              <a:rPr b="0" lang="pl-PL" sz="3600" spc="-1" strike="noStrike">
                <a:solidFill>
                  <a:srgbClr val="ff0000"/>
                </a:solidFill>
                <a:latin typeface="Arial"/>
              </a:rPr>
              <a:t>=</a:t>
            </a:r>
            <a:r>
              <a:rPr b="1" lang="pl-PL" sz="3600" spc="-1" strike="noStrike">
                <a:solidFill>
                  <a:srgbClr val="ff0000"/>
                </a:solidFill>
                <a:latin typeface="Arial"/>
              </a:rPr>
              <a:t>299 792 458 m/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0000"/>
                </a:solidFill>
                <a:latin typeface="Arial"/>
              </a:rPr>
              <a:t>W przybliżeniu c</a:t>
            </a:r>
            <a:r>
              <a:rPr b="0" lang="pl-PL" sz="3600" spc="-1" strike="noStrike">
                <a:solidFill>
                  <a:srgbClr val="ff0000"/>
                </a:solidFill>
                <a:latin typeface="Arial"/>
              </a:rPr>
              <a:t>=</a:t>
            </a:r>
            <a:r>
              <a:rPr b="1" lang="pl-PL" sz="3600" spc="-1" strike="noStrike">
                <a:solidFill>
                  <a:srgbClr val="ff0000"/>
                </a:solidFill>
                <a:latin typeface="Arial"/>
              </a:rPr>
              <a:t>300 tys. km/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pic>
        <p:nvPicPr>
          <p:cNvPr id="81" name="Symbol zastępczy zawartości 2" descr=""/>
          <p:cNvPicPr/>
          <p:nvPr/>
        </p:nvPicPr>
        <p:blipFill>
          <a:blip r:embed="rId2"/>
          <a:stretch/>
        </p:blipFill>
        <p:spPr>
          <a:xfrm>
            <a:off x="171360" y="1047600"/>
            <a:ext cx="8807400" cy="5261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83" name=""/>
          <p:cNvSpPr txBox="1"/>
          <p:nvPr/>
        </p:nvSpPr>
        <p:spPr>
          <a:xfrm>
            <a:off x="179280" y="981000"/>
            <a:ext cx="8785440" cy="5616720"/>
          </a:xfrm>
          <a:prstGeom prst="rect">
            <a:avLst/>
          </a:prstGeom>
          <a:noFill/>
          <a:ln w="0">
            <a:noFill/>
          </a:ln>
        </p:spPr>
        <p:txBody>
          <a:bodyPr anchor="t">
            <a:normAutofit fontScale="99000"/>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Calibri"/>
              </a:rPr>
              <a:t>Kwant</a:t>
            </a:r>
            <a:r>
              <a:rPr b="0" lang="pl-PL" sz="3200" spc="-1" strike="noStrike">
                <a:solidFill>
                  <a:srgbClr val="000000"/>
                </a:solidFill>
                <a:latin typeface="Calibri"/>
              </a:rPr>
              <a:t> to porcja energii, jaką może nieść fala elektromagnetyczna.  Można go tłumaczyć jako pojedyncze zaburzenie pola elektromagnetycznego. Kwant promieniowania elektromagnetycznego jest nazywany </a:t>
            </a:r>
            <a:r>
              <a:rPr b="1" lang="pl-PL" sz="3200" spc="-1" strike="noStrike">
                <a:solidFill>
                  <a:srgbClr val="000000"/>
                </a:solidFill>
                <a:latin typeface="Calibri"/>
              </a:rPr>
              <a:t>fotonem</a:t>
            </a:r>
            <a:r>
              <a:rPr b="0" lang="pl-PL" sz="3200" spc="-1" strike="noStrike">
                <a:solidFill>
                  <a:srgbClr val="000000"/>
                </a:solidFill>
                <a:latin typeface="Calibri"/>
              </a:rPr>
              <a:t>.</a:t>
            </a:r>
            <a:endParaRPr b="0" lang="en-US" sz="3200" spc="-1" strike="noStrike">
              <a:solidFill>
                <a:srgbClr val="000000"/>
              </a:solidFill>
              <a:latin typeface="Calibri"/>
            </a:endParaRPr>
          </a:p>
          <a:p>
            <a:pPr algn="just">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Fale elektromagnetyczne wykazują </a:t>
            </a:r>
            <a:r>
              <a:rPr b="1" lang="pl-PL" sz="3200" spc="-1" strike="noStrike">
                <a:solidFill>
                  <a:srgbClr val="000000"/>
                </a:solidFill>
                <a:latin typeface="Calibri"/>
              </a:rPr>
              <a:t>dualizm korpuskularno-falowy</a:t>
            </a:r>
            <a:r>
              <a:rPr b="0" lang="pl-PL" sz="3200" spc="-1" strike="noStrike">
                <a:solidFill>
                  <a:srgbClr val="000000"/>
                </a:solidFill>
                <a:latin typeface="Calibri"/>
              </a:rPr>
              <a:t> są </a:t>
            </a:r>
            <a:r>
              <a:rPr b="1" lang="pl-PL" sz="3200" spc="-1" strike="noStrike">
                <a:solidFill>
                  <a:srgbClr val="000000"/>
                </a:solidFill>
                <a:latin typeface="Calibri"/>
              </a:rPr>
              <a:t>falą</a:t>
            </a:r>
            <a:r>
              <a:rPr b="0" lang="pl-PL" sz="3200" spc="-1" strike="noStrike">
                <a:solidFill>
                  <a:srgbClr val="000000"/>
                </a:solidFill>
                <a:latin typeface="Calibri"/>
              </a:rPr>
              <a:t> – zaburzeniem pola,</a:t>
            </a:r>
            <a:br>
              <a:rPr sz="3200"/>
            </a:br>
            <a:r>
              <a:rPr b="0" lang="pl-PL" sz="3200" spc="-1" strike="noStrike">
                <a:solidFill>
                  <a:srgbClr val="000000"/>
                </a:solidFill>
                <a:latin typeface="Calibri"/>
              </a:rPr>
              <a:t> a jednocześnie posiadają prędkość i energię a więc zgodnie z mechaniką relatywistyczną także pęd. Dlatego posiadają także pewne cechy </a:t>
            </a:r>
            <a:r>
              <a:rPr b="1" lang="pl-PL" sz="3200" spc="-1" strike="noStrike">
                <a:solidFill>
                  <a:srgbClr val="000000"/>
                </a:solidFill>
                <a:latin typeface="Calibri"/>
              </a:rPr>
              <a:t>cząstek materialnych</a:t>
            </a:r>
            <a:r>
              <a:rPr b="0" lang="pl-PL" sz="3200" spc="-1" strike="noStrike">
                <a:solidFill>
                  <a:srgbClr val="000000"/>
                </a:solidFill>
                <a:latin typeface="Calibri"/>
              </a:rPr>
              <a:t>.</a:t>
            </a:r>
            <a:endParaRPr b="0" lang="en-US" sz="3200" spc="-1" strike="noStrike">
              <a:solidFill>
                <a:srgbClr val="000000"/>
              </a:solidFill>
              <a:latin typeface="Calibri"/>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pic>
        <p:nvPicPr>
          <p:cNvPr id="85" name="Symbol zastępczy zawartości 2" descr=""/>
          <p:cNvPicPr/>
          <p:nvPr/>
        </p:nvPicPr>
        <p:blipFill>
          <a:blip r:embed="rId2"/>
          <a:stretch/>
        </p:blipFill>
        <p:spPr>
          <a:xfrm>
            <a:off x="23760" y="901800"/>
            <a:ext cx="9096480" cy="5595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68360" y="1213920"/>
            <a:ext cx="817560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pl-PL" sz="4400" spc="-1" strike="noStrike">
                <a:solidFill>
                  <a:srgbClr val="000000"/>
                </a:solidFill>
                <a:latin typeface="Calibri"/>
              </a:rPr>
              <a:t>Widmo fal elektromagnetycznych</a:t>
            </a:r>
            <a:br>
              <a:rPr sz="4400"/>
            </a:br>
            <a:br>
              <a:rPr sz="4400"/>
            </a:br>
            <a:endParaRPr b="0" lang="en-US" sz="4400" spc="-1" strike="noStrike">
              <a:solidFill>
                <a:srgbClr val="000000"/>
              </a:solidFill>
              <a:latin typeface="Calibri"/>
            </a:endParaRPr>
          </a:p>
        </p:txBody>
      </p:sp>
      <p:sp>
        <p:nvSpPr>
          <p:cNvPr id="8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89" name="Tytuł 1"/>
          <p:cNvSpPr/>
          <p:nvPr/>
        </p:nvSpPr>
        <p:spPr>
          <a:xfrm>
            <a:off x="392040" y="1871640"/>
            <a:ext cx="8359920" cy="42861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Od długości i częstotliwości fal zależy ich energia oraz sposób oddziaływania z materią. Dlatego fale elektromagnetyczne zostały w sposób umowny i przybliżony podzielone na zakres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547280" y="981000"/>
            <a:ext cx="6551640" cy="87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Fale radiowe</a:t>
            </a:r>
            <a:endParaRPr b="0" lang="en-US" sz="4400" spc="-1" strike="noStrike">
              <a:solidFill>
                <a:srgbClr val="000000"/>
              </a:solidFill>
              <a:latin typeface="Calibri"/>
            </a:endParaRPr>
          </a:p>
        </p:txBody>
      </p:sp>
      <p:sp>
        <p:nvSpPr>
          <p:cNvPr id="9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Obraz 5" descr="nagłówek_poz.gif"/>
          <p:cNvPicPr/>
          <p:nvPr/>
        </p:nvPicPr>
        <p:blipFill>
          <a:blip r:embed="rId1"/>
          <a:stretch/>
        </p:blipFill>
        <p:spPr>
          <a:xfrm>
            <a:off x="0" y="0"/>
            <a:ext cx="9144000" cy="1125360"/>
          </a:xfrm>
          <a:prstGeom prst="rect">
            <a:avLst/>
          </a:prstGeom>
          <a:ln w="9360">
            <a:solidFill>
              <a:srgbClr val="ffffff">
                <a:alpha val="0"/>
              </a:srgbClr>
            </a:solidFill>
            <a:miter/>
          </a:ln>
        </p:spPr>
      </p:pic>
      <p:sp>
        <p:nvSpPr>
          <p:cNvPr id="93" name="Tytuł 1"/>
          <p:cNvSpPr/>
          <p:nvPr/>
        </p:nvSpPr>
        <p:spPr>
          <a:xfrm>
            <a:off x="108000" y="3141720"/>
            <a:ext cx="8856720" cy="338292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Fale radiowe są generowane przez obwody prądu zmiennego i wykorzystywane do przekazywania sygnału radiowego (także CB-radia, zdalne otwieranie bram garażowych czy samochodów)  oraz do niedawna przez telewizję analogową. Człowiek w żaden sposób nie odczuwa fal radiowych.</a:t>
            </a:r>
            <a:endParaRPr b="0" lang="en-US" sz="3200" spc="-1" strike="noStrike">
              <a:solidFill>
                <a:srgbClr val="000000"/>
              </a:solidFill>
              <a:latin typeface="Arial"/>
            </a:endParaRPr>
          </a:p>
        </p:txBody>
      </p:sp>
      <p:pic>
        <p:nvPicPr>
          <p:cNvPr id="94" name="Tabela 1" descr=""/>
          <p:cNvPicPr/>
          <p:nvPr/>
        </p:nvPicPr>
        <p:blipFill>
          <a:blip r:embed="rId2"/>
          <a:stretch/>
        </p:blipFill>
        <p:spPr>
          <a:xfrm>
            <a:off x="2077920" y="1743120"/>
            <a:ext cx="5273640" cy="1360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9T06:37:45Z</dcterms:created>
  <dc:creator>awrobel</dc:creator>
  <dc:description/>
  <dc:language>en-US</dc:language>
  <cp:lastModifiedBy>Asia</cp:lastModifiedBy>
  <dcterms:modified xsi:type="dcterms:W3CDTF">2013-08-13T17:20:31Z</dcterms:modified>
  <cp:revision>394</cp:revision>
  <dc:subject/>
  <dc:title>Slajd 1</dc:title>
</cp:coreProperties>
</file>