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21B0-F009-404B-854D-1B67A665A7D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D5D9-4418-4E38-B5EF-41C714333B7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B135-9E8D-407C-8BBF-A16E63909D2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21A4-3CBC-4E45-B3A5-1F00291993C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leży zwrócić uwagę na mnogość definicji. Obraz może być mieć wartość materialną (rysunek, fotografia), może też opisywać fragment rzeczywistości (krajobraz, odtworzenie w pamięci sceny z przeszłości). Istnieją różnice pomiędzy światem realnym a obrazami, które je oddaj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C21F-EA00-4BEA-9312-8BA984E8D00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9A45-7A43-4547-A5B1-5AB444B409F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B3EB-5E8A-4C84-A62B-6C92D25D461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 każdym miejscu Ziemi suma długości wszystkich dni w roku jest równa sumie długości wszystkich no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2F24-57B7-403F-8892-FA345A586A5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0 jest energia przypadającą na jednostkowa powierzchnię 1, jeśli ta powierzchnia jest prostopadła do kierunku padania światła. Nasłonecznienie liczone prostopadle do powierzchni padania promieni jest takie samo w każdym miejscu Ziemi. Jeśli promienie słoneczne padają na powierzchnie Ziemi pod innym kątem niż prosty, jednostkowa energia E0 przypada na inną powierzchnię x zawsze większa od jedności. Dlatego nasłonecznienie, wyrażone tutaj jako E osiąga wartość maksymalną, tylko i wyłącznie wtedy gdy promienie padają prostopadle do powierzchni Ziemi. Oczywiście zależność ta nie uwzględnia pochłaniania światła przez atmosferę (wpływu zachmurzeni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B288-9919-4776-B1F9-12A7079AFC0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788C-BBC6-40DE-8FDD-200E5CA9A4E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słonecznienie zmieniające się wraz z szerokością geograficzną jest głównym czynnikiem determinującym klimat oraz temperaturę na Ziem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2709-E2CC-48FC-80CE-BE0DF484E1C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FFDB-A322-44E0-8AC5-95729D8D632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ie jest prawdą że witaminę D można dostarczyć tylko przez ekspozycje na słońce (promieniowanie ultrafioletowe), są dwie metody jedną jest produkcja witaminy D przez nasz organizm która odbywa się w skórze przy udziale światła i kiedy występuje jego niedobór, ta droga zaopatrywania organizmu jest niedostępna. Druga metoda to spożywanie samej witaminy D, która występuje głównie w tłuszczu ryb oraz nabiale. Dieta przykładowo Innuitów zamieszkujących Granlandie oraz północ Kanady (niemniej jednak Innuici nigdy nie skolonizowali, Spitsbergenu czy północnej części Grenladnii) obfituje w ryby także spożywane na surowo co minimalizuje skutki niedoboru światła. Choć historycznie niedobór  witaminy D na terenach o klimacie chłodnym i subpolarnym zawsze występował. Dzisiaj powszechna jest suplementacja witaminy D szczególnie w żywieniu dziec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FBDB-8270-4AED-8465-2DA42729F4A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 naszej strefie klimatycznej, niedobór światła występuje przede wszystkim w okresie późnej jesieni i deszczowych bezśnieżnych zim. Niedobór skutkuje zaburzeniem określanym jako sezonowa choroba afektywna, lub depresja zimowa (SAD - </a:t>
            </a:r>
            <a:r>
              <a:rPr b="0" i="1" lang="pl-PL" sz="1200" spc="-1" strike="noStrike">
                <a:solidFill>
                  <a:srgbClr val="000000"/>
                </a:solidFill>
                <a:latin typeface="Calibri"/>
              </a:rPr>
              <a:t>seasonal affective disord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9F14-C69E-40A0-980E-8A7790335BE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68C-D5DF-4D94-9DC2-B854480C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B472-166A-4768-BE92-EEF1AD21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F12-8E26-4E3D-8650-2C5A61624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51E3-8E71-448D-8486-9F8A9760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6C78-B9D8-4461-AD72-8B48DF6B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66B7-0DB4-4187-BD96-DDAB94B2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ED9F-CDD8-47D0-96CD-CA7E10A2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62EB-8E0F-4489-8E2C-8B1FBCD5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981E-DB29-4DE5-90AA-76C6608B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13EF-8DAC-46A6-814A-E6408D04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1E2C-AA98-43A0-A56B-97E5EBFE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91A8-ED72-4197-B5E3-94D51F90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9E41-CC38-4813-A39F-909E18113E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jp.pwn.pl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izjer.muzeum.bytom.pl/wp-content/uploads/2012/07/Wizjer_Obraz-w-kulturze-kultura-obrazu_small1.pd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pinterest.com/infographiclist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50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Asia\Desktop\Prusak_Cieślik2\B_58-66\58-63\zródła\222.gif"/>
          <p:cNvPicPr/>
          <p:nvPr/>
        </p:nvPicPr>
        <p:blipFill>
          <a:blip r:embed="rId3"/>
          <a:stretch/>
        </p:blipFill>
        <p:spPr>
          <a:xfrm>
            <a:off x="2747880" y="3429000"/>
            <a:ext cx="3648240" cy="1784520"/>
          </a:xfrm>
          <a:prstGeom prst="rect">
            <a:avLst/>
          </a:prstGeom>
          <a:ln w="0">
            <a:noFill/>
          </a:ln>
        </p:spPr>
      </p:pic>
      <p:sp>
        <p:nvSpPr>
          <p:cNvPr id="52" name="Tytuł 1"/>
          <p:cNvSpPr/>
          <p:nvPr/>
        </p:nvSpPr>
        <p:spPr>
          <a:xfrm>
            <a:off x="108000" y="1268280"/>
            <a:ext cx="8856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4a452a"/>
                </a:solidFill>
                <a:latin typeface="Calibri"/>
              </a:rPr>
              <a:t>Znaczenie światła i barw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4a452a"/>
                </a:solidFill>
                <a:latin typeface="Calibri"/>
              </a:rPr>
              <a:t>w życiu codziennym człowiek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Obraz 5" descr="nagłówek_poz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  <p:sp>
        <p:nvSpPr>
          <p:cNvPr id="129" name="Tytuł 1"/>
          <p:cNvSpPr/>
          <p:nvPr/>
        </p:nvSpPr>
        <p:spPr>
          <a:xfrm>
            <a:off x="108000" y="1341360"/>
            <a:ext cx="892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iedobór światła stanowi czynnik utrudniający stałe bytowanie ludzi niezależnie od czynnika klimatycznego. Bariera ta występuje na terenach o dużej szerokości geograficznej zwłaszcz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Tromso 02  blog"/>
          <p:cNvPicPr/>
          <p:nvPr/>
        </p:nvPicPr>
        <p:blipFill>
          <a:blip r:embed="rId2"/>
          <a:stretch/>
        </p:blipFill>
        <p:spPr>
          <a:xfrm>
            <a:off x="4932360" y="3357720"/>
            <a:ext cx="3646440" cy="2606400"/>
          </a:xfrm>
          <a:prstGeom prst="rect">
            <a:avLst/>
          </a:prstGeom>
          <a:ln w="0">
            <a:noFill/>
          </a:ln>
        </p:spPr>
      </p:pic>
      <p:sp>
        <p:nvSpPr>
          <p:cNvPr id="131" name="Tytuł 1"/>
          <p:cNvSpPr/>
          <p:nvPr/>
        </p:nvSpPr>
        <p:spPr>
          <a:xfrm>
            <a:off x="108000" y="2708280"/>
            <a:ext cx="439272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leżących poza kołami podbiegunowymi gdzie występuje zjawisko nocy polarne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ytuł 1"/>
          <p:cNvSpPr/>
          <p:nvPr/>
        </p:nvSpPr>
        <p:spPr>
          <a:xfrm>
            <a:off x="4451400" y="5923080"/>
            <a:ext cx="46083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oc polarna w Norwegii zdjęcie wykonane w połudn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35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36" name="Tytuł 1"/>
          <p:cNvSpPr/>
          <p:nvPr/>
        </p:nvSpPr>
        <p:spPr>
          <a:xfrm>
            <a:off x="108000" y="981000"/>
            <a:ext cx="88567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4a452a"/>
                </a:solidFill>
                <a:latin typeface="Calibri"/>
              </a:rPr>
              <a:t>Uwarunkowania społeczne </a:t>
            </a:r>
            <a:br>
              <a:rPr sz="5400"/>
            </a:br>
            <a:r>
              <a:rPr b="1" lang="pl-PL" sz="5400" spc="-1" strike="noStrike">
                <a:solidFill>
                  <a:srgbClr val="4a452a"/>
                </a:solidFill>
                <a:latin typeface="Calibri"/>
              </a:rPr>
              <a:t>i kulturowe obrazu jako nośnika informacj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8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File:AltamiraBison.jpg"/>
          <p:cNvPicPr/>
          <p:nvPr/>
        </p:nvPicPr>
        <p:blipFill>
          <a:blip r:embed="rId3"/>
          <a:stretch/>
        </p:blipFill>
        <p:spPr>
          <a:xfrm>
            <a:off x="3048120" y="3546360"/>
            <a:ext cx="296388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Obraz 5" descr="nagłówek_poz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  <p:sp>
        <p:nvSpPr>
          <p:cNvPr id="144" name="Tytuł 1"/>
          <p:cNvSpPr/>
          <p:nvPr/>
        </p:nvSpPr>
        <p:spPr>
          <a:xfrm>
            <a:off x="250920" y="1773360"/>
            <a:ext cx="8893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łownik języka polskiego (</a:t>
            </a:r>
            <a:r>
              <a:rPr b="1" lang="pl-PL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sjp.pwn.pl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) definiuje obraz jak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1.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zieło plastyczne przedstawiające kogoś lub coś, wykonane za pomocą farb, kredek, ołówka itp. na płótnie, papierze lub de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idok kogoś lub czegoś przedstawiający się czyimś ocz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3.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soba, scena, rzecz odtwarzana w pamięci lub wyobrażana sobie przez kogo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4.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ilm, zwłaszcza dob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5.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ałościowy opis kogoś lub czego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6.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obrażenie, jakie ktoś ma o czymś, lub czyjaś opinia na jakiś te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7.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idok na ekranie uzyskany za pomocą projekc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8.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izerunek czegoś odtworzony przez promienie odbite lub załamane, też odbity na kliszy lub papierze fotograficzn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9.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cena lub odsłona sztuki teatralnej, opery lub bale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Definicja obraz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Obraz 5" descr="nagłówek_poz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  <p:sp>
        <p:nvSpPr>
          <p:cNvPr id="147" name="Symbol zastępczy zawartości 2"/>
          <p:cNvSpPr/>
          <p:nvPr/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miejętność widzenia zależy od miejsca zamieszkania (położenie geograficzne) oraz czynników społeczno-historycznych. Język również odgrywa ważną rolę w  sposobie widzenia i opisywania świ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Jako Europejczycy jesteśmy przyzwyczajeni do fotografii i wydaje nam się, że nikt nie może mieć problemów z opisaniem zawartości zdjęcia. Tak jednak nie jest, co pokazują wielokrotnie powtarzane eksperymenty (np. badania Melville Herskovitsa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rostokąt zaokrąglony 4"/>
          <p:cNvSpPr/>
          <p:nvPr/>
        </p:nvSpPr>
        <p:spPr>
          <a:xfrm>
            <a:off x="324000" y="1197000"/>
            <a:ext cx="8496000" cy="367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darzyło mi się przeżyć sytuację podobną do tych, o których donosili z wielu części świata ci, którzy mieli okazję pokazywać fotografie osobom, które nigdy przedtem fotografii nie widziały. Dla nas, przyzwyczajonych do specyfiki realizmu obiektywu fotograficznego, stopień skonwencjonalizowania zawarty w najwyraźniejszej nawet fotografii jest czymś na kształt szoku [...]. W tym przypadku, który mam na myśli, buszmeńska kobieta obracała na różne sposoby fotografię swego własnego syna, usiłując znaleźć jakiś sens w różnych odcieniach szarych plam na kawałku papieru, który trzymała. Dopiero gdy szczegóły fotografii zostały jej wskazane, była w stanie dostrzec jej treść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ymbol zastępczy zawartości 2"/>
          <p:cNvSpPr/>
          <p:nvPr/>
        </p:nvSpPr>
        <p:spPr>
          <a:xfrm>
            <a:off x="395280" y="5516640"/>
            <a:ext cx="82821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Źródło: M.J. Herskovits , Art and Value, in: Aspects of Primitive Art, ed. by R. Redfield , M.J.Herskovits , G.F. Ekholm , Museum of Primitive Art, New York 1959, p. 56, cyt. za: Obraz w kulturze, kultura obrazu. Poradnik dla nauczycieli, Bytom, 2012,  dostęp online: 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wizjer.muzeum.bytom.pl/wp-content/uploads/2012/07/Wizjer_Obraz-w-kulturze-kultura-obrazu_small1.pdf</a:t>
            </a:r>
            <a:r>
              <a:rPr b="0" lang="pl-PL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68360" y="256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Analizując mapy z różnych epok można dojść do wniosku, że nie są one wiernym odwzorowaniem rzeczywistości. Mapy są raczej zapisem wyobrażeń o świecie ich twórców i zależą od kultury z której się wywodzili. Na mapach podkreślone zostały te cechy otaczającej rzeczywistości, które były najistotniejsze dla danej społecznośc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Obraz 5" descr="nagłówek_poz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  <p:sp>
        <p:nvSpPr>
          <p:cNvPr id="153" name="Tytuł 1"/>
          <p:cNvSpPr/>
          <p:nvPr/>
        </p:nvSpPr>
        <p:spPr>
          <a:xfrm>
            <a:off x="0" y="98100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Mapy jako odwzorowanie rzeczywistośc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24000" y="98064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Jedna z pierwszych map wyryta na kamiennym bloku znalezionym w jaskini Abauntz  w  Hiszpani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http://2.bp.blogspot.com/-lZ26hBxTMsM/UPHfjxk_EMI/AAAAAAAAAaA/O043egDpEgk/s1600/piedra+navarra.jpg"/>
          <p:cNvPicPr/>
          <p:nvPr/>
        </p:nvPicPr>
        <p:blipFill>
          <a:blip r:embed="rId1"/>
          <a:stretch/>
        </p:blipFill>
        <p:spPr>
          <a:xfrm>
            <a:off x="5076720" y="2852640"/>
            <a:ext cx="3714840" cy="2543400"/>
          </a:xfrm>
          <a:prstGeom prst="rect">
            <a:avLst/>
          </a:prstGeom>
          <a:ln w="0">
            <a:noFill/>
          </a:ln>
        </p:spPr>
      </p:pic>
      <p:sp>
        <p:nvSpPr>
          <p:cNvPr id="156" name="Prostokąt 3"/>
          <p:cNvSpPr/>
          <p:nvPr/>
        </p:nvSpPr>
        <p:spPr>
          <a:xfrm>
            <a:off x="5876640" y="55897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. 14 tyś lat t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  <p:sp>
        <p:nvSpPr>
          <p:cNvPr id="158" name="Symbol zastępczy zawartości 2"/>
          <p:cNvSpPr/>
          <p:nvPr/>
        </p:nvSpPr>
        <p:spPr>
          <a:xfrm>
            <a:off x="324000" y="2492280"/>
            <a:ext cx="410364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aznaczono na niej miejsca i zwierzęta istotne dla wspólnoty pierwotnej: jaskinię i wejście do niej, rzekę, góry, przełęcz (lub przejście), stada koziorożców i jele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250560" y="112536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Babilońska mapa świata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znajdująca się na pochodzącej z Mezopotamii glinianej tabliczc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Baylonianmaps.JPG"/>
          <p:cNvPicPr/>
          <p:nvPr/>
        </p:nvPicPr>
        <p:blipFill>
          <a:blip r:embed="rId1"/>
          <a:stretch/>
        </p:blipFill>
        <p:spPr>
          <a:xfrm>
            <a:off x="6180120" y="2133720"/>
            <a:ext cx="2963880" cy="4030560"/>
          </a:xfrm>
          <a:prstGeom prst="rect">
            <a:avLst/>
          </a:prstGeom>
          <a:ln w="0">
            <a:noFill/>
          </a:ln>
        </p:spPr>
      </p:pic>
      <p:sp>
        <p:nvSpPr>
          <p:cNvPr id="161" name="Prostokąt 3"/>
          <p:cNvSpPr/>
          <p:nvPr/>
        </p:nvSpPr>
        <p:spPr>
          <a:xfrm>
            <a:off x="250920" y="2205000"/>
            <a:ext cx="5689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ewnętrzny krąg przedstawia świat znany Babilończykom (miasta, rzeki, bagna, góry, kanały nawadniające).  Krąg ten otacza pierścień symbolizujący może za którym znajdują się mityczne krai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ole tekstowe 4"/>
          <p:cNvSpPr/>
          <p:nvPr/>
        </p:nvSpPr>
        <p:spPr>
          <a:xfrm>
            <a:off x="6634080" y="610092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VII-V wiek p.n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78920" y="1557000"/>
            <a:ext cx="504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Chińska mapa stworzona przez kartografa P’ei Hsiu. Składała się z  18 części (skala około 1:5 000 000). Zaznaczone szczegółowo: rzeki, góry, miejscowości, drogi i granice. Mapa odwzorowywała również </a:t>
            </a:r>
            <a:r>
              <a:rPr b="0" lang="pl-PL" sz="3200" spc="-1" strike="noStrike">
                <a:solidFill>
                  <a:srgbClr val="e46c0a"/>
                </a:solidFill>
                <a:latin typeface="Arial"/>
                <a:ea typeface="Arial"/>
              </a:rPr>
              <a:t>wysokości i odległości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File:Song Dynasty Map.JPG"/>
          <p:cNvPicPr/>
          <p:nvPr/>
        </p:nvPicPr>
        <p:blipFill>
          <a:blip r:embed="rId1"/>
          <a:stretch/>
        </p:blipFill>
        <p:spPr>
          <a:xfrm>
            <a:off x="5148360" y="1989000"/>
            <a:ext cx="3846240" cy="3905280"/>
          </a:xfrm>
          <a:prstGeom prst="rect">
            <a:avLst/>
          </a:prstGeom>
          <a:ln w="0">
            <a:noFill/>
          </a:ln>
        </p:spPr>
      </p:pic>
      <p:sp>
        <p:nvSpPr>
          <p:cNvPr id="166" name="pole tekstowe 5"/>
          <p:cNvSpPr/>
          <p:nvPr/>
        </p:nvSpPr>
        <p:spPr>
          <a:xfrm>
            <a:off x="6444720" y="58770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II wiek n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78920" y="1530000"/>
            <a:ext cx="619308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Średniowieczna mapa stworzona przez kartografa Mateusza z Paryża przedstawiająca drogę do Jerozolimy (najważniejszego miejsca na Ziemi dla człowieka   średniowiecza). Mapa ta służyła pomocą pielgrzymom w odnajdywaniu obiektów na trasie podróż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http://dawnemapy.com.pl/media/pomniejszone/47b%20Matthew%20Paris%27%20world%20map,%201250.GIF"/>
          <p:cNvPicPr/>
          <p:nvPr/>
        </p:nvPicPr>
        <p:blipFill>
          <a:blip r:embed="rId1"/>
          <a:stretch/>
        </p:blipFill>
        <p:spPr>
          <a:xfrm>
            <a:off x="6516720" y="2060640"/>
            <a:ext cx="2295360" cy="3390840"/>
          </a:xfrm>
          <a:prstGeom prst="rect">
            <a:avLst/>
          </a:prstGeom>
          <a:ln w="0">
            <a:noFill/>
          </a:ln>
        </p:spPr>
      </p:pic>
      <p:sp>
        <p:nvSpPr>
          <p:cNvPr id="170" name="pole tekstowe 5"/>
          <p:cNvSpPr/>
          <p:nvPr/>
        </p:nvSpPr>
        <p:spPr>
          <a:xfrm>
            <a:off x="6949440" y="544500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XIII wiek n.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az 5" descr="nagłówek_poz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  <p:pic>
        <p:nvPicPr>
          <p:cNvPr id="55" name="Picture 2" descr="http://www.piotronik.pl/grafika/sun.jpg"/>
          <p:cNvPicPr/>
          <p:nvPr/>
        </p:nvPicPr>
        <p:blipFill>
          <a:blip r:embed="rId2"/>
          <a:stretch/>
        </p:blipFill>
        <p:spPr>
          <a:xfrm>
            <a:off x="287280" y="1628640"/>
            <a:ext cx="8532720" cy="4464360"/>
          </a:xfrm>
          <a:prstGeom prst="rect">
            <a:avLst/>
          </a:prstGeom>
          <a:ln w="0">
            <a:noFill/>
          </a:ln>
        </p:spPr>
      </p:pic>
      <p:sp>
        <p:nvSpPr>
          <p:cNvPr id="56" name="Tytuł 1"/>
          <p:cNvSpPr/>
          <p:nvPr/>
        </p:nvSpPr>
        <p:spPr>
          <a:xfrm>
            <a:off x="287280" y="1808280"/>
            <a:ext cx="856944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Światło słoneczne jest źródłem energii cieplnej dla Ziemi determinującym jej temperaturę i klimat. Energia świetlna jest niezbędna dla roślin dokonujących fotosyntezy, stanowiących początek łańcucha pokarmowego. Bez światła nie byłoby możliwe istnienie życia w formie bardziej złożonej niż proste bakterie beztlenowe czerpiące energię z procesów chemiczny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ywilizacja obrazk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0560" y="1197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Każdy spotkał się kiedyś ze slogan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e46c0a"/>
                </a:solidFill>
                <a:latin typeface="Arial"/>
                <a:ea typeface="Arial"/>
              </a:rPr>
              <a:t>„</a:t>
            </a:r>
            <a:r>
              <a:rPr b="0" lang="pl-PL" sz="3200" spc="-1" strike="noStrike">
                <a:solidFill>
                  <a:srgbClr val="e46c0a"/>
                </a:solidFill>
                <a:latin typeface="Arial"/>
                <a:ea typeface="Arial"/>
              </a:rPr>
              <a:t>Jeden obraz jest wart tysiąc słów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Od niepamiętnych czasów obraz towarzyszył człowiekowi. Nawet po wynalezieniu pisma obrazy odgrywały ważną rolę. Obecnie możemy zaobserwować wypieranie słowa pisanego poprzez obrazy. Sytuacja ta spowodowana była najpierw rozwojem telewizji, a obecnie Internetu (zwłaszcza serwisów społecznościowych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Obraz 5" descr="nagłówek_poz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Symbol zastępczy zawartości 3" descr=""/>
          <p:cNvPicPr/>
          <p:nvPr/>
        </p:nvPicPr>
        <p:blipFill>
          <a:blip r:embed="rId1"/>
          <a:stretch/>
        </p:blipFill>
        <p:spPr>
          <a:xfrm>
            <a:off x="281160" y="2651040"/>
            <a:ext cx="8296200" cy="2865600"/>
          </a:xfrm>
          <a:prstGeom prst="rect">
            <a:avLst/>
          </a:prstGeom>
          <a:ln w="0">
            <a:noFill/>
          </a:ln>
        </p:spPr>
      </p:pic>
      <p:sp>
        <p:nvSpPr>
          <p:cNvPr id="176" name="pole tekstowe 6"/>
          <p:cNvSpPr/>
          <p:nvPr/>
        </p:nvSpPr>
        <p:spPr>
          <a:xfrm>
            <a:off x="179280" y="134136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Emotikony używane w komunikacji przez Internet (współczesne piktogramy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79280" y="1197000"/>
            <a:ext cx="4608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Infografiki zastępujące obszerne analizy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i raporty. Treść jest ograniczona do niezbędnego minim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zykła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http://</a:t>
            </a:r>
            <a:r>
              <a:rPr b="0" lang="pl-PL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pinterest.com/infographiclis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The Perception Gap Between Social Consumers and Social Marketers [INFOGRAPHIC]"/>
          <p:cNvPicPr/>
          <p:nvPr/>
        </p:nvPicPr>
        <p:blipFill>
          <a:blip r:embed="rId2"/>
          <a:stretch/>
        </p:blipFill>
        <p:spPr>
          <a:xfrm>
            <a:off x="5148360" y="1197000"/>
            <a:ext cx="3708360" cy="5373720"/>
          </a:xfrm>
          <a:prstGeom prst="rect">
            <a:avLst/>
          </a:prstGeom>
          <a:ln w="0">
            <a:noFill/>
          </a:ln>
        </p:spPr>
      </p:pic>
      <p:pic>
        <p:nvPicPr>
          <p:cNvPr id="180" name="Obraz 5" descr="nagłówek_poz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268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Przykład wiadomości umieszczonej w serwisie społecznościowym Facebook. Zamiast analizy wystąpienia papieża, krótkie wprowadzenie i link do strony z jego treści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C:\Users\Asia\Desktop\Prusak_Cieślik2\rys.jpg"/>
          <p:cNvPicPr/>
          <p:nvPr/>
        </p:nvPicPr>
        <p:blipFill>
          <a:blip r:embed="rId1"/>
          <a:stretch/>
        </p:blipFill>
        <p:spPr>
          <a:xfrm>
            <a:off x="1835280" y="3860640"/>
            <a:ext cx="5105160" cy="2648160"/>
          </a:xfrm>
          <a:prstGeom prst="rect">
            <a:avLst/>
          </a:prstGeom>
          <a:ln w="0">
            <a:noFill/>
          </a:ln>
        </p:spPr>
      </p:pic>
      <p:pic>
        <p:nvPicPr>
          <p:cNvPr id="183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Obraz 2" descr="stopka_poz.gif"/>
          <p:cNvPicPr/>
          <p:nvPr/>
        </p:nvPicPr>
        <p:blipFill>
          <a:blip r:embed="rId1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86" name="Obraz 5" descr="nagłówek_poz.gif"/>
          <p:cNvPicPr/>
          <p:nvPr/>
        </p:nvPicPr>
        <p:blipFill>
          <a:blip r:embed="rId2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7772400" cy="15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AKOŃCZENIE 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EZENT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480" y="1213920"/>
            <a:ext cx="86072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Usłonecznie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az 5" descr="nagłówek_poz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  <p:sp>
        <p:nvSpPr>
          <p:cNvPr id="60" name="Tytuł 1"/>
          <p:cNvSpPr/>
          <p:nvPr/>
        </p:nvSpPr>
        <p:spPr>
          <a:xfrm>
            <a:off x="324000" y="2492280"/>
            <a:ext cx="85690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Usłonecznienie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to średnia liczba godzin słonecznych w danym miejscu Ziemi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 jednostce czasu. Usłonecznienie możliwe (teoretyczne) zależy tylko od długości dnia.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 ujęciu rocznym w każdym miejscu Ziemi wynosi tyle samo – ½ roku. Usłonecznienie rzeczywiste uwzględnia wpływ atmosfery ziemskiej - zachmurzenia i mgie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5" descr="nagłówek_poz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  <p:sp>
        <p:nvSpPr>
          <p:cNvPr id="63" name="Łącznik prostoliniowy 3"/>
          <p:cNvSpPr/>
          <p:nvPr/>
        </p:nvSpPr>
        <p:spPr>
          <a:xfrm>
            <a:off x="3051000" y="6093000"/>
            <a:ext cx="575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Łącznik prostoliniowy 7"/>
          <p:cNvSpPr/>
          <p:nvPr/>
        </p:nvSpPr>
        <p:spPr>
          <a:xfrm>
            <a:off x="7443720" y="2852640"/>
            <a:ext cx="62064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Łącznik prosty ze strzałką 19"/>
          <p:cNvCxnSpPr/>
          <p:nvPr/>
        </p:nvCxnSpPr>
        <p:spPr>
          <a:xfrm flipH="1">
            <a:off x="5427360" y="3573000"/>
            <a:ext cx="2637360" cy="2520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Łącznik prostoliniowy 21"/>
          <p:cNvSpPr/>
          <p:nvPr/>
        </p:nvSpPr>
        <p:spPr>
          <a:xfrm>
            <a:off x="4032360" y="6093000"/>
            <a:ext cx="1395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Łuk 20"/>
          <p:cNvSpPr/>
          <p:nvPr/>
        </p:nvSpPr>
        <p:spPr>
          <a:xfrm>
            <a:off x="4714920" y="5129280"/>
            <a:ext cx="1898640" cy="1873080"/>
          </a:xfrm>
          <a:custGeom>
            <a:avLst/>
            <a:gdLst/>
            <a:ahLst/>
            <a:rect l="l" t="t" r="r" b="b"/>
            <a:pathLst>
              <a:path stroke="0" w="1898650" h="1873250">
                <a:moveTo>
                  <a:pt x="1532173" y="197313"/>
                </a:moveTo>
                <a:cubicBezTo>
                  <a:pt x="1773468" y="382486"/>
                  <a:pt x="1909620" y="670969"/>
                  <a:pt x="1897959" y="972353"/>
                </a:cubicBezTo>
                <a:lnTo>
                  <a:pt x="949325" y="936625"/>
                </a:lnTo>
                <a:lnTo>
                  <a:pt x="1532173" y="197313"/>
                </a:lnTo>
                <a:close/>
              </a:path>
              <a:path fill="none" w="1898650" h="1873250">
                <a:moveTo>
                  <a:pt x="1532173" y="197313"/>
                </a:moveTo>
                <a:cubicBezTo>
                  <a:pt x="1773468" y="382486"/>
                  <a:pt x="1909620" y="670969"/>
                  <a:pt x="1897959" y="9723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ytuł 1" descr=""/>
          <p:cNvPicPr/>
          <p:nvPr/>
        </p:nvPicPr>
        <p:blipFill>
          <a:blip r:embed="rId2"/>
          <a:stretch/>
        </p:blipFill>
        <p:spPr>
          <a:xfrm>
            <a:off x="5973840" y="5516640"/>
            <a:ext cx="439560" cy="506160"/>
          </a:xfrm>
          <a:prstGeom prst="rect">
            <a:avLst/>
          </a:prstGeom>
          <a:ln w="0">
            <a:noFill/>
          </a:ln>
        </p:spPr>
      </p:pic>
      <p:pic>
        <p:nvPicPr>
          <p:cNvPr id="69" name="Tytuł 1" descr=""/>
          <p:cNvPicPr/>
          <p:nvPr/>
        </p:nvPicPr>
        <p:blipFill>
          <a:blip r:embed="rId3"/>
          <a:stretch/>
        </p:blipFill>
        <p:spPr>
          <a:xfrm>
            <a:off x="7523280" y="2743200"/>
            <a:ext cx="846000" cy="506520"/>
          </a:xfrm>
          <a:prstGeom prst="rect">
            <a:avLst/>
          </a:prstGeom>
          <a:ln w="0">
            <a:noFill/>
          </a:ln>
        </p:spPr>
      </p:pic>
      <p:sp>
        <p:nvSpPr>
          <p:cNvPr id="70" name="Łącznik prostoliniowy 32"/>
          <p:cNvSpPr/>
          <p:nvPr/>
        </p:nvSpPr>
        <p:spPr>
          <a:xfrm>
            <a:off x="4729320" y="5445000"/>
            <a:ext cx="69840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Łuk 43"/>
          <p:cNvSpPr/>
          <p:nvPr/>
        </p:nvSpPr>
        <p:spPr>
          <a:xfrm>
            <a:off x="3803760" y="5627520"/>
            <a:ext cx="863640" cy="932040"/>
          </a:xfrm>
          <a:custGeom>
            <a:avLst/>
            <a:gdLst/>
            <a:ahLst/>
            <a:rect l="l" t="t" r="r" b="b"/>
            <a:pathLst>
              <a:path stroke="0" w="863600" h="931862">
                <a:moveTo>
                  <a:pt x="661374" y="71309"/>
                </a:moveTo>
                <a:cubicBezTo>
                  <a:pt x="791760" y="159627"/>
                  <a:pt x="868707" y="316170"/>
                  <a:pt x="863337" y="482184"/>
                </a:cubicBezTo>
                <a:lnTo>
                  <a:pt x="431800" y="465931"/>
                </a:lnTo>
                <a:lnTo>
                  <a:pt x="661374" y="71309"/>
                </a:lnTo>
                <a:close/>
              </a:path>
              <a:path fill="none" w="863600" h="931862">
                <a:moveTo>
                  <a:pt x="661374" y="71309"/>
                </a:moveTo>
                <a:cubicBezTo>
                  <a:pt x="791760" y="159627"/>
                  <a:pt x="868707" y="316170"/>
                  <a:pt x="863337" y="4821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Tytuł 1" descr=""/>
          <p:cNvPicPr/>
          <p:nvPr/>
        </p:nvPicPr>
        <p:blipFill>
          <a:blip r:embed="rId4"/>
          <a:stretch/>
        </p:blipFill>
        <p:spPr>
          <a:xfrm>
            <a:off x="4187880" y="5626080"/>
            <a:ext cx="334800" cy="506520"/>
          </a:xfrm>
          <a:prstGeom prst="rect">
            <a:avLst/>
          </a:prstGeom>
          <a:ln w="0">
            <a:noFill/>
          </a:ln>
        </p:spPr>
      </p:pic>
      <p:pic>
        <p:nvPicPr>
          <p:cNvPr id="73" name="Tytuł 1" descr=""/>
          <p:cNvPicPr/>
          <p:nvPr/>
        </p:nvPicPr>
        <p:blipFill>
          <a:blip r:embed="rId5"/>
          <a:stretch/>
        </p:blipFill>
        <p:spPr>
          <a:xfrm>
            <a:off x="4883040" y="5376960"/>
            <a:ext cx="719280" cy="500040"/>
          </a:xfrm>
          <a:prstGeom prst="rect">
            <a:avLst/>
          </a:prstGeom>
          <a:ln w="0">
            <a:noFill/>
          </a:ln>
        </p:spPr>
      </p:pic>
      <p:sp>
        <p:nvSpPr>
          <p:cNvPr id="74" name="Łącznik prostoliniowy 46"/>
          <p:cNvSpPr/>
          <p:nvPr/>
        </p:nvSpPr>
        <p:spPr>
          <a:xfrm flipV="1">
            <a:off x="4032360" y="5445000"/>
            <a:ext cx="69696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Łącznik prostoliniowy 50"/>
          <p:cNvSpPr/>
          <p:nvPr/>
        </p:nvSpPr>
        <p:spPr>
          <a:xfrm flipV="1">
            <a:off x="4032360" y="2852280"/>
            <a:ext cx="3411360" cy="3240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Łuk 53"/>
          <p:cNvSpPr/>
          <p:nvPr/>
        </p:nvSpPr>
        <p:spPr>
          <a:xfrm rot="8171400">
            <a:off x="4498920" y="5211000"/>
            <a:ext cx="432000" cy="466920"/>
          </a:xfrm>
          <a:custGeom>
            <a:avLst/>
            <a:gdLst/>
            <a:ahLst/>
            <a:rect l="l" t="t" r="r" b="b"/>
            <a:pathLst>
              <a:path stroke="0" w="431800" h="466725">
                <a:moveTo>
                  <a:pt x="212074" y="37"/>
                </a:moveTo>
                <a:cubicBezTo>
                  <a:pt x="274366" y="-1156"/>
                  <a:pt x="334098" y="26794"/>
                  <a:pt x="375921" y="76706"/>
                </a:cubicBezTo>
                <a:cubicBezTo>
                  <a:pt x="413627" y="121704"/>
                  <a:pt x="433624" y="180815"/>
                  <a:pt x="431668" y="241489"/>
                </a:cubicBezTo>
                <a:lnTo>
                  <a:pt x="215900" y="233363"/>
                </a:lnTo>
                <a:cubicBezTo>
                  <a:pt x="214625" y="155588"/>
                  <a:pt x="213349" y="77812"/>
                  <a:pt x="212074" y="37"/>
                </a:cubicBezTo>
                <a:close/>
              </a:path>
              <a:path fill="none" w="431800" h="466725">
                <a:moveTo>
                  <a:pt x="212074" y="37"/>
                </a:moveTo>
                <a:cubicBezTo>
                  <a:pt x="274366" y="-1156"/>
                  <a:pt x="334098" y="26794"/>
                  <a:pt x="375921" y="76706"/>
                </a:cubicBezTo>
                <a:cubicBezTo>
                  <a:pt x="413627" y="121704"/>
                  <a:pt x="433624" y="180815"/>
                  <a:pt x="431668" y="2414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ytuł 1" descr=""/>
          <p:cNvPicPr/>
          <p:nvPr/>
        </p:nvPicPr>
        <p:blipFill>
          <a:blip r:embed="rId6"/>
          <a:stretch/>
        </p:blipFill>
        <p:spPr>
          <a:xfrm>
            <a:off x="4363920" y="5194440"/>
            <a:ext cx="720720" cy="504720"/>
          </a:xfrm>
          <a:prstGeom prst="rect">
            <a:avLst/>
          </a:prstGeom>
          <a:ln w="0">
            <a:noFill/>
          </a:ln>
        </p:spPr>
      </p:pic>
      <p:pic>
        <p:nvPicPr>
          <p:cNvPr id="78" name="Tytuł 1" descr=""/>
          <p:cNvPicPr/>
          <p:nvPr/>
        </p:nvPicPr>
        <p:blipFill>
          <a:blip r:embed="rId7"/>
          <a:stretch/>
        </p:blipFill>
        <p:spPr>
          <a:xfrm>
            <a:off x="371520" y="5126040"/>
            <a:ext cx="2975040" cy="1731960"/>
          </a:xfrm>
          <a:prstGeom prst="rect">
            <a:avLst/>
          </a:prstGeom>
          <a:ln w="0">
            <a:noFill/>
          </a:ln>
        </p:spPr>
      </p:pic>
      <p:sp>
        <p:nvSpPr>
          <p:cNvPr id="79" name="Tytuł 1"/>
          <p:cNvSpPr/>
          <p:nvPr/>
        </p:nvSpPr>
        <p:spPr>
          <a:xfrm>
            <a:off x="6589800" y="5375160"/>
            <a:ext cx="2320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ąt padania światł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ytuł 1"/>
          <p:cNvSpPr/>
          <p:nvPr/>
        </p:nvSpPr>
        <p:spPr>
          <a:xfrm>
            <a:off x="369720" y="1560600"/>
            <a:ext cx="8641080" cy="14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asłonecznienie (insolacja) to ilość energii słonecznej docierającej do danego miejsca na  Ziemi w jednostce czasu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480" y="691920"/>
            <a:ext cx="86072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Nasłonecznie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ytuł 1"/>
          <p:cNvSpPr/>
          <p:nvPr/>
        </p:nvSpPr>
        <p:spPr>
          <a:xfrm>
            <a:off x="369720" y="2867040"/>
            <a:ext cx="4662720" cy="22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Ilość energii zależy od długości dnia, ale także od kąta padania promieni słoneczny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Tytuł 1" descr=""/>
          <p:cNvPicPr/>
          <p:nvPr/>
        </p:nvPicPr>
        <p:blipFill>
          <a:blip r:embed="rId8"/>
          <a:stretch/>
        </p:blipFill>
        <p:spPr>
          <a:xfrm>
            <a:off x="4346640" y="6053040"/>
            <a:ext cx="622080" cy="426960"/>
          </a:xfrm>
          <a:prstGeom prst="rect">
            <a:avLst/>
          </a:prstGeom>
          <a:ln w="0">
            <a:noFill/>
          </a:ln>
        </p:spPr>
      </p:pic>
      <p:pic>
        <p:nvPicPr>
          <p:cNvPr id="84" name="Tytuł 1" descr=""/>
          <p:cNvPicPr/>
          <p:nvPr/>
        </p:nvPicPr>
        <p:blipFill>
          <a:blip r:embed="rId9"/>
          <a:stretch/>
        </p:blipFill>
        <p:spPr>
          <a:xfrm>
            <a:off x="7102440" y="3193920"/>
            <a:ext cx="846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5" descr="nagłówek_poz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  <p:sp>
        <p:nvSpPr>
          <p:cNvPr id="87" name="Tytuł 1"/>
          <p:cNvSpPr/>
          <p:nvPr/>
        </p:nvSpPr>
        <p:spPr>
          <a:xfrm>
            <a:off x="179280" y="1413000"/>
            <a:ext cx="87138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nieważ teoretyczne usłonecznienie roczne jest dla całej Ziemi jednakowe, nasłonecznienie zależy tylko od szerokości geograficznej, która determinuje kąt padania promieni słonecznych oraz zachmurzenia występującego w danym rejonie. Wpływ zachmurzenia także się zwiększa wraz z szerokością geograficzną, gdyż promienie słoneczne padając pod ostrym kątem pokonują dłuższą drogę w atmosfer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Obraz 5" descr="nagłówek_poz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  <p:pic>
        <p:nvPicPr>
          <p:cNvPr id="90" name="Picture 2" descr="C:\Users\Asia\Desktop\Untitled-1.jpg"/>
          <p:cNvPicPr/>
          <p:nvPr/>
        </p:nvPicPr>
        <p:blipFill>
          <a:blip r:embed="rId2"/>
          <a:stretch/>
        </p:blipFill>
        <p:spPr>
          <a:xfrm>
            <a:off x="631800" y="1628640"/>
            <a:ext cx="7880400" cy="5229360"/>
          </a:xfrm>
          <a:prstGeom prst="rect">
            <a:avLst/>
          </a:prstGeom>
          <a:ln w="0">
            <a:noFill/>
          </a:ln>
        </p:spPr>
      </p:pic>
      <p:pic>
        <p:nvPicPr>
          <p:cNvPr id="91" name="Tytuł 1" descr=""/>
          <p:cNvPicPr/>
          <p:nvPr/>
        </p:nvPicPr>
        <p:blipFill>
          <a:blip r:embed="rId3"/>
          <a:stretch/>
        </p:blipFill>
        <p:spPr>
          <a:xfrm>
            <a:off x="109440" y="1096920"/>
            <a:ext cx="871056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az 5" descr="nagłówek_poz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  <p:sp>
        <p:nvSpPr>
          <p:cNvPr id="94" name="Łącznik prostoliniowy 4"/>
          <p:cNvSpPr/>
          <p:nvPr/>
        </p:nvSpPr>
        <p:spPr>
          <a:xfrm flipV="1">
            <a:off x="4794120" y="1915920"/>
            <a:ext cx="358920" cy="54108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Asia\Desktop\Untitled-8.png"/>
          <p:cNvPicPr/>
          <p:nvPr/>
        </p:nvPicPr>
        <p:blipFill>
          <a:blip r:embed="rId2"/>
          <a:stretch/>
        </p:blipFill>
        <p:spPr>
          <a:xfrm>
            <a:off x="2189160" y="2060640"/>
            <a:ext cx="3754440" cy="3797280"/>
          </a:xfrm>
          <a:prstGeom prst="rect">
            <a:avLst/>
          </a:prstGeom>
          <a:ln w="0">
            <a:noFill/>
          </a:ln>
        </p:spPr>
      </p:pic>
      <p:sp>
        <p:nvSpPr>
          <p:cNvPr id="96" name="Łącznik prostoliniowy 6"/>
          <p:cNvSpPr/>
          <p:nvPr/>
        </p:nvSpPr>
        <p:spPr>
          <a:xfrm>
            <a:off x="4076640" y="2303640"/>
            <a:ext cx="1435320" cy="863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Łącznik prostoliniowy 7"/>
          <p:cNvSpPr/>
          <p:nvPr/>
        </p:nvSpPr>
        <p:spPr>
          <a:xfrm>
            <a:off x="2610000" y="4680000"/>
            <a:ext cx="1434960" cy="863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Łącznik prostoliniowy 8"/>
          <p:cNvSpPr/>
          <p:nvPr/>
        </p:nvSpPr>
        <p:spPr>
          <a:xfrm flipV="1">
            <a:off x="2835360" y="5243040"/>
            <a:ext cx="347400" cy="56196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jaśnienie prostokątne zaokrąglone 16"/>
          <p:cNvSpPr/>
          <p:nvPr/>
        </p:nvSpPr>
        <p:spPr>
          <a:xfrm>
            <a:off x="6012000" y="2036880"/>
            <a:ext cx="1584360" cy="672840"/>
          </a:xfrm>
          <a:prstGeom prst="wedgeRoundRectCallout">
            <a:avLst>
              <a:gd name="adj1" fmla="val -104407"/>
              <a:gd name="adj2" fmla="val 37037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oc pola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Łącznik prostoliniowy 19"/>
          <p:cNvSpPr/>
          <p:nvPr/>
        </p:nvSpPr>
        <p:spPr>
          <a:xfrm>
            <a:off x="2987640" y="2658960"/>
            <a:ext cx="2664000" cy="1609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Łącznik prostoliniowy 21"/>
          <p:cNvSpPr/>
          <p:nvPr/>
        </p:nvSpPr>
        <p:spPr>
          <a:xfrm>
            <a:off x="2438280" y="3500280"/>
            <a:ext cx="2737080" cy="1611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jaśnienie prostokątne zaokrąglone 28"/>
          <p:cNvSpPr/>
          <p:nvPr/>
        </p:nvSpPr>
        <p:spPr>
          <a:xfrm>
            <a:off x="3209760" y="5859360"/>
            <a:ext cx="1584360" cy="673200"/>
          </a:xfrm>
          <a:prstGeom prst="wedgeRoundRectCallout">
            <a:avLst>
              <a:gd name="adj1" fmla="val -31657"/>
              <a:gd name="adj2" fmla="val -125638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zień polar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bjaśnienie prostokątne zaokrąglone 29"/>
          <p:cNvSpPr/>
          <p:nvPr/>
        </p:nvSpPr>
        <p:spPr>
          <a:xfrm>
            <a:off x="6012000" y="2997360"/>
            <a:ext cx="2736720" cy="771480"/>
          </a:xfrm>
          <a:prstGeom prst="wedgeRoundRectCallout">
            <a:avLst>
              <a:gd name="adj1" fmla="val -73259"/>
              <a:gd name="adj2" fmla="val 25101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półkuli północnej noc trwa dłużej niż dzi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jaśnienie prostokątne zaokrąglone 30"/>
          <p:cNvSpPr/>
          <p:nvPr/>
        </p:nvSpPr>
        <p:spPr>
          <a:xfrm>
            <a:off x="5896080" y="5243400"/>
            <a:ext cx="2779560" cy="777960"/>
          </a:xfrm>
          <a:prstGeom prst="wedgeRoundRectCallout">
            <a:avLst>
              <a:gd name="adj1" fmla="val -90032"/>
              <a:gd name="adj2" fmla="val -55509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 półkuli południowej noc trwa krócej niż dzie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480" y="691920"/>
            <a:ext cx="86072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iemia w dniu zimowego przesile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ytuł 1"/>
          <p:cNvSpPr/>
          <p:nvPr/>
        </p:nvSpPr>
        <p:spPr>
          <a:xfrm rot="1919400">
            <a:off x="3346200" y="2644560"/>
            <a:ext cx="2663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Arial"/>
              </a:rPr>
              <a:t>Koło podbiegun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ytuł 1"/>
          <p:cNvSpPr/>
          <p:nvPr/>
        </p:nvSpPr>
        <p:spPr>
          <a:xfrm rot="1919400">
            <a:off x="3058920" y="3187440"/>
            <a:ext cx="2663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Arial"/>
              </a:rPr>
              <a:t>Zwrotnik Ra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ytuł 1"/>
          <p:cNvSpPr/>
          <p:nvPr/>
        </p:nvSpPr>
        <p:spPr>
          <a:xfrm rot="1919400">
            <a:off x="2239560" y="4984920"/>
            <a:ext cx="2664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Arial"/>
              </a:rPr>
              <a:t>Koło podbiegun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ytuł 1"/>
          <p:cNvSpPr/>
          <p:nvPr/>
        </p:nvSpPr>
        <p:spPr>
          <a:xfrm rot="1872000">
            <a:off x="2422080" y="4211280"/>
            <a:ext cx="2664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Arial"/>
              </a:rPr>
              <a:t>Zwrotnik Kozioroż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Łącznik prosty ze strzałką 37"/>
          <p:cNvCxnSpPr/>
          <p:nvPr/>
        </p:nvCxnSpPr>
        <p:spPr>
          <a:xfrm>
            <a:off x="1438200" y="2198160"/>
            <a:ext cx="2369520" cy="108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111" name="Łącznik prosty ze strzałką 44"/>
          <p:cNvCxnSpPr/>
          <p:nvPr/>
        </p:nvCxnSpPr>
        <p:spPr>
          <a:xfrm flipV="1">
            <a:off x="1438200" y="2645640"/>
            <a:ext cx="1502640" cy="108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112" name="Łącznik prosty ze strzałką 45"/>
          <p:cNvCxnSpPr/>
          <p:nvPr/>
        </p:nvCxnSpPr>
        <p:spPr>
          <a:xfrm>
            <a:off x="1438200" y="3509640"/>
            <a:ext cx="1000800" cy="108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113" name="Łącznik prosty ze strzałką 46"/>
          <p:cNvCxnSpPr/>
          <p:nvPr/>
        </p:nvCxnSpPr>
        <p:spPr>
          <a:xfrm>
            <a:off x="1438200" y="4679640"/>
            <a:ext cx="1108800" cy="108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114" name="Łącznik prosty ze strzałką 47"/>
          <p:cNvCxnSpPr/>
          <p:nvPr/>
        </p:nvCxnSpPr>
        <p:spPr>
          <a:xfrm>
            <a:off x="1437840" y="5547960"/>
            <a:ext cx="2521800" cy="1080"/>
          </a:xfrm>
          <a:prstGeom prst="straightConnector1">
            <a:avLst/>
          </a:prstGeom>
          <a:ln w="28440">
            <a:solidFill>
              <a:srgbClr val="ffc000"/>
            </a:solidFill>
            <a:miter/>
            <a:tailEnd len="med" type="triangle" w="med"/>
          </a:ln>
        </p:spPr>
      </p:cxnSp>
      <p:sp>
        <p:nvSpPr>
          <p:cNvPr id="115" name="Objaśnienie prostokątne zaokrąglone 54"/>
          <p:cNvSpPr/>
          <p:nvPr/>
        </p:nvSpPr>
        <p:spPr>
          <a:xfrm>
            <a:off x="1635120" y="1579680"/>
            <a:ext cx="2705040" cy="387360"/>
          </a:xfrm>
          <a:prstGeom prst="wedgeRoundRectCallout">
            <a:avLst>
              <a:gd name="adj1" fmla="val 36768"/>
              <a:gd name="adj2" fmla="val 110782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erowy kat pad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bjaśnienie prostokątne zaokrąglone 55"/>
          <p:cNvSpPr/>
          <p:nvPr/>
        </p:nvSpPr>
        <p:spPr>
          <a:xfrm>
            <a:off x="179280" y="3716280"/>
            <a:ext cx="2135160" cy="781200"/>
          </a:xfrm>
          <a:prstGeom prst="wedgeRoundRectCallout">
            <a:avLst>
              <a:gd name="adj1" fmla="val 51041"/>
              <a:gd name="adj2" fmla="val -61583"/>
              <a:gd name="adj3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omienie padają pod kątem prosty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21392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Niedobór światła jako bariera osadnic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Obraz 5" descr="nagłówek_poz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  <p:sp>
        <p:nvSpPr>
          <p:cNvPr id="120" name="Tytuł 1"/>
          <p:cNvSpPr/>
          <p:nvPr/>
        </p:nvSpPr>
        <p:spPr>
          <a:xfrm>
            <a:off x="250920" y="2492280"/>
            <a:ext cx="864216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złowiek potrzebuje światła aby sprawnie funkcjonować, pracować oraz przemieszczać się. Ponadto brak ekspozycji na promienie słoneczne (ultrafioletowe) prowadzi do niedoboru witaminy D, co objawia się krzywicą u dzieci oraz odwapnieniem kości u dorosły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raz 5" descr="nagłówek_poz.gif"/>
          <p:cNvPicPr/>
          <p:nvPr/>
        </p:nvPicPr>
        <p:blipFill>
          <a:blip r:embed="rId1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9360">
            <a:solidFill>
              <a:srgbClr val="ffffff">
                <a:alpha val="0"/>
              </a:srgbClr>
            </a:solidFill>
            <a:miter/>
          </a:ln>
        </p:spPr>
      </p:pic>
      <p:sp>
        <p:nvSpPr>
          <p:cNvPr id="123" name="Tytuł 1"/>
          <p:cNvSpPr/>
          <p:nvPr/>
        </p:nvSpPr>
        <p:spPr>
          <a:xfrm>
            <a:off x="179280" y="1197000"/>
            <a:ext cx="87854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Światło docierające do mózgu, poprzez impuls elektryczny przekazywany przez nerw wzrokowy, jest regulatorem jego czynności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https://encrypted-tbn0.gstatic.com/images?q=tbn:ANd9GcRIVLYytCjvbMKjjg3sWoLQsm5rk6GW0SLi8WCYfdf0fa_k141d"/>
          <p:cNvPicPr/>
          <p:nvPr/>
        </p:nvPicPr>
        <p:blipFill>
          <a:blip r:embed="rId2"/>
          <a:stretch/>
        </p:blipFill>
        <p:spPr>
          <a:xfrm>
            <a:off x="5651640" y="2852640"/>
            <a:ext cx="2946240" cy="3313080"/>
          </a:xfrm>
          <a:prstGeom prst="rect">
            <a:avLst/>
          </a:prstGeom>
          <a:ln w="0">
            <a:noFill/>
          </a:ln>
        </p:spPr>
      </p:pic>
      <p:sp>
        <p:nvSpPr>
          <p:cNvPr id="125" name="Tytuł 1"/>
          <p:cNvSpPr/>
          <p:nvPr/>
        </p:nvSpPr>
        <p:spPr>
          <a:xfrm>
            <a:off x="179280" y="2565360"/>
            <a:ext cx="4969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 nocy mózg wytwarza hormon snu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melatoninę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. Długotrwały niedobór światła, wywołuje wzrost poziomu melatoniny skutkujący sennością, depresją i apati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ytuł 1"/>
          <p:cNvSpPr/>
          <p:nvPr/>
        </p:nvSpPr>
        <p:spPr>
          <a:xfrm>
            <a:off x="5165640" y="6021360"/>
            <a:ext cx="403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ototera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Asia</cp:lastModifiedBy>
  <dcterms:modified xsi:type="dcterms:W3CDTF">2013-08-13T17:21:24Z</dcterms:modified>
  <cp:revision>359</cp:revision>
  <dc:subject/>
  <dc:title>Slajd 1</dc:title>
</cp:coreProperties>
</file>