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08A1-5A43-46DE-886E-D70F488467B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A10E-3227-4BD8-8DDC-262A71A7AD9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632C-E84B-41AB-A9B7-839C60740A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A34-F00B-47AA-A7D9-FC2B9BBF8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8E4-2766-4E8D-A10D-05CFB91C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31BB-3D1C-41B3-969A-6A52349A3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8F76-2EE9-47CF-8D73-E36DE9C92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FF26-0364-4286-AD0A-0E0B2537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4DAE-CEFE-4326-B054-138BCE49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E409-BFBF-4F0C-8D21-60478C88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BBD9-87BA-4B1D-ADC4-DC924767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E0CA-1526-40EE-8AD8-D7452B34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214E-A84F-4059-BD6E-100360E4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E839-3EDB-4198-A103-72EB4C3B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BA9-90D2-4375-9EA3-054A1ADEE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F29C-772C-4F42-8536-CB6C6E6D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E5CE-0348-4047-A4EF-E330442F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D8F2-71EA-4C64-8241-A1B4212A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67D6-5125-4FBE-A51F-652A401D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2B3B-6149-49C7-B53D-9E2E7538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88D4-4E2A-4884-A3FC-C142BC81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0CDA-F786-49A6-A7D4-904E4B77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CAA-E97A-404D-93F9-82105039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4C89-BF39-458D-ACF7-7D84AFE4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0ED-49DA-490E-B18E-4315BF59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FBA-C471-4D68-9BF0-12011A09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DD4-FB12-4359-B7CF-C4A3528A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71B1A-0F35-41C6-A2DA-E882BBD687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Obraz 8" descr="stopka_cz_b_pion.gif"/>
          <p:cNvPicPr/>
          <p:nvPr/>
        </p:nvPicPr>
        <p:blipFill>
          <a:blip r:embed="rId5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cz_b_pion.gif"/>
          <p:cNvPicPr/>
          <p:nvPr/>
        </p:nvPicPr>
        <p:blipFill>
          <a:blip r:embed="rId6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1006-EE24-4625-A3F0-CB0CD94E35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Woda i jej zanieczyszczenia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Źródła obszar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tarczają zanieczyszczeń na dużym obszarze. Są najgroźniejsze, ponieważ najtrudniej jest je kontrolować. Ich głównymi „producentami” s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Zanieczyszczone opady atmosfery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Rolnictwo i leśnic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Obszary zurbanizow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84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Zanieczyszczone opady atmosfery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1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Kwaśne deszc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Niezanieczyszczona woda opadowa posiada pH ok. 5,6. W przypadku tzw. kwaśnych deszczy może ono wynosić mniej niż 3 (czyli tyle, ile ocet!). Jest to wynik reakcji między wodą a dwutlenkiem siarki i tlenkami azotu, które znajdują się w powietrzu jako wynik spalania różnych paliw. Z tego powodu zakwaszenie opadów jest większe zimą niż w lec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Kwaśne deszcze wpływają między innymi na zmianę składu fitocenoz, ustępowanie roślinności naczyniowej i przemiany składu gatunkowego faun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Zanieczyszczone opady atmosfery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etale ciężk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łównie takie jak ołów, kadm, cynk i mied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ch koncentracja w wodach opadowych jest uzależniona od oddalenia od dużych ośrodków przemysłow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ył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ząsteczki stałe znajdujące się w powietrzu, najczęściej produkty spalania paliw: cząsteczki węgla, krzemiany wapnia, tlenki metali. Niepełne spalanie paliw ropopochodnych dostarcza do atmosfery cząsteczki stałe wielopierścieniowych węglowodorów aromatycznych (WWA),  których duże stężenie znajduje się w osadach dennyc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Rolnictwo i leśnic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ziałalność rolnicza to najpoważniejsza ingerencja człowieka w środowisko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awozy i środki ochrony rośl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wozy organiczne bogate są w azot, potas i fosfor, czyli pierwiastki, od których zależy przyrost masy roślinnej. Tylko część jest wykorzystywane przez rośliny, reszta przedostaje się w głąb gleby i dalej do wód podziemnych. Wracając potem do wód powierzchniowych powodują przyspieszony rozwój glonów, tj. eutrofizację ekosystemó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da jest także zanieczyszczana pestycyd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Wysypiska i składowis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ą przemywane wodami opadowymi, które rozpuszczają odpady i przesączają się produktami rozkładu do głębszych warstw zie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Obszary zurbanizow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 obszarach zurbanizowanych następuje kumulacja zanieczyszczeń omawianych do tej pory, a także pojawiają się nowe, takie jak np. zanieczyszczenia detergentami, wydaliny fizjologiczne ludzi i zwierząt, odpady szpitalne, it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Źródła punkt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tawa zanieczyszczeń dokonuje się w jednym miejscu. Dostarczają zanieczyszczeń w sposób skoncentrowany. Dawniej uważane były za główne źródło zanieczyszczenia wó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żemy wyróżnić wśród nic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Zrzut ściekó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stosunkowo łatwe do kontroli. W rzece o dużym przepływie następuje rozcieńczenie zanieczyszczeń samooczyszczenie w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ycieki z przewodów i zbiorników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rudne do identyfikacji i opanowania. Substancje są często bardzo toks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 Źródła lini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nieczyszczają środowisko wzdłuż pewnej linii, np. drogi, linii kolejowej, ale także wzdłuż rzek i kanałów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nieczyszczenia tego typu są specyficzne, np. Wzdłuż dróg dużym problemem jest sól stosowana do zimowego utrzymania dróg, która rozpuszczając się w wodzie tworzy solank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zeki natomiast stanowią drogi szybkiego przemieszczania się zanieczyszczeń, powodując degradację wód podziemn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 wód w Pols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dy powierzchniowe wykorzystywane d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aopatrzenia ludności w wodę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zeznaczoną do spożycia podzielone są na 3 kategori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ategoria A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woda wymaga prostego uzdatniania fizycznego, 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czególności filtracji oraz dezynfekcj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ategoria A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woda wymaga typowego uzdatniania fizycznego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micznego, w szczególności utleniania wstępnego, koagulacji, flokul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kantacji, filtracji, dezynfekcji (chlorowania końcowego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ategoria A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woda wymaga wysokosprawnego uzdatniania fizycznego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micznego, w szczególności utleniania, koagulacji flokulacji, dekantacj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tracji, adsorpcji na węglu aktywnym, dezynfekcji (ozonow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lorowania końcowego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914400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981000"/>
            <a:ext cx="8280360" cy="53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an prezentacj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1. Kilka faktów o wodz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2. Co to znaczy, że woda jest zanieczyszczona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3. Rodzaje zanieczyszczeń wod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* zanieczyszczenia obszarow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* zanieczyszczenia punktow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* zanieczyszczenia liniow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4. Stan wód w Pols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zy wiesz, ż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k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 miliony ludz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miera na świecie każdego roku z powodu chorób wywołanych przez brudną wodę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84 milion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udzi na Ziemi nie ma dostępu do bezpiecznych źródeł wod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da stanowi pona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70%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owierzchni Ziem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Średni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70%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sy dorosłego człowieka to woda, w przypadku noworodka to jeszcze 15% więcej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1 lipca 2008 roku NASA odkryła wodę n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rsi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8 czerwca 2010 roku Zgromadzenie Ogólne ONZ przyjęło rezolucję, w której uznan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stęp do czystej wod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 sanitariatów z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awo człowi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Symbol zastępczy tekstu 2" descr=""/>
          <p:cNvPicPr/>
          <p:nvPr/>
        </p:nvPicPr>
        <p:blipFill>
          <a:blip r:embed="rId2"/>
          <a:stretch/>
        </p:blipFill>
        <p:spPr>
          <a:xfrm>
            <a:off x="1130400" y="1600200"/>
            <a:ext cx="26924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o to znaczy, że woda jest ZANIECZYSZCZONA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da zawsze stanowiła podstawę egzystencji człowieka. Jednak wraz z rozwojem cywilizacji zaczął on traktować wodę jako zasób, który się mu należy i którego nie da się wyczerpać. Doprowadziło to do degradacji stanu w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da, którą człowiek chce użytkować, powinna odznaczać się określonymi cechami. Kryteria jakości wody reguluj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mowa Dyrektywa Wod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RDW), czyli dokument Unii Europejskiej, który od 2000 roku wprowadza spójne ramy dotyczące gospodarki wodnej. Polska także przyjęła RDW, w związku z czym jest zobowiązana do wdrażania jej za pośrednictwem aktów prawa polskie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roku 2004 w Polsce obowiązywała trzystopniowa skala czystości wód. Podstawą tej klasyfikacji był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zystość i użyteczność gospodarcz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ó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 roku 2005 za podstawę klasyfikacji przyjęto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 ekologicz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ód. Ten system traktuje wodę przede wszystkim jako element większej całości (ekosystemu), nie eksponując wyłącznie jej funkcji gospodarcze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dług RDW obecnie stan wód w Polsce klasyfikowany jest na podstawie różny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skaźników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zyli elementów, których ilość i jakość w wodzie są mierzalne. Na ich podstawie można określić ogólny stan wó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l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ód powierzchniowy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kreślany je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stan ekologiczn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stan chemicz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l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ód podziemny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kreślany jes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stan ilościow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stan chemicz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955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n ekologicz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mówi o jakości wody jako ekosystemu wodnego. Określany na podstawie wskaźników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biologicznych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np. ilości fitoplanktonu, obecności specyficznej ichtiofauny, itd.), hydromorfologicznych (np. dynamika przepływu, struktura koryta) oraz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Calibri"/>
              </a:rPr>
              <a:t>fizyczno-chemicznych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(np. zasolen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n chemiczn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mówi o stężeniu substancji szkodliwych dla środowiska wodnego, np. kadm, rtęć, i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tan ilościowy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– mówi o zagrożeniu wynikającym z narażenia na pobory w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dzaje zanieczyszczeń w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nieczyszczenia wody pochodzą z różnych źródeł. Można je podzielić 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Źródła obszar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Źródła punkt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Źródła lini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27640" y="2708280"/>
            <a:ext cx="446400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6:24:23Z</dcterms:created>
  <dc:creator>Iwona</dc:creator>
  <dc:description/>
  <dc:language>en-US</dc:language>
  <cp:lastModifiedBy>Madzia</cp:lastModifiedBy>
  <dcterms:modified xsi:type="dcterms:W3CDTF">2013-04-01T15:39:13Z</dcterms:modified>
  <cp:revision>21</cp:revision>
  <dc:subject>szablon prezentacji KPW</dc:subject>
  <dc:title>Zrównoważony rozwój</dc:title>
</cp:coreProperties>
</file>