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CC8-72E8-4D7D-84BF-43537663209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71AC-B9CB-4369-BA47-854876FB8B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BDD3-D4B4-4E72-807C-195908EE36B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333-8FF8-45DB-9609-5DEFFA96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866-AB38-4A18-BAD5-B3A5DC4E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737-0FD4-49F9-920A-488842F09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47A-1726-433A-B4EF-5CFE7F12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C2FE-6F70-41D9-9F14-EB7999FA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879-7C06-4849-8BAB-A983648C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8ED2-A075-4A19-AF09-F18C760E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8625-4B03-4E33-B794-0F862635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854-8DA4-4513-B62D-303EC58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8DAD-381D-4C82-B68D-3C9EF234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EAE-D121-441E-8799-BBB609D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320-FBAA-496C-A108-566BB416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859F-DBED-435E-94E9-3AB8BD65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07A4-6B20-4075-B0B5-2053CC41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DEC8-7D83-4AF1-965E-8D3B6134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B201-3D7D-40B0-92A8-5E07A26A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838D-2062-4690-8AB3-D2942835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60D-B640-4E5D-87A8-ED954516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C7BE-D3E7-4B53-BE00-F3FC08AD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562-3889-4253-95C7-A09021EA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F237-FE27-4E5A-AFA3-E6F6439D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F3C-EA1B-42C3-B7D9-6478BB73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C74-FC73-4AA9-830B-34A2F49B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0F3-53E1-4386-818F-D656A2C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463-9DA0-450A-8A97-06A85CB763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5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671F-77BA-43D5-B293-F78B95B2E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484280"/>
            <a:ext cx="720108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Sposoby oczyszczania wod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Metody chemiczne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polegają na dodaniu do zanieczyszczonej wody substancji chemicznych tworzących łatwo strącalne związki. Są to tzw. koagulanty, a najczęściej stosowane są sole żelaza i glinu. Mogą one być dodawane przed osadnikami wstępnymi lub równocześnie z procesami biologiczny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niejsze cząstki zanieczyszczeń muszą ulec koagulacji i flokulac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Koagu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dodanie do zanieczyszczonej wody koagulanta, który zawiera jony dodatnie neutralizujące ujemny ładunek cząstek zawiesiny. Dzięki temu zlikwidowane zostaje zjawisko wzajemnego odpychania się cząstek koloidal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Flokulacj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– dochodzi do niej po powolnym mieszaniu koagulanta z wodą. Tworzą się wówczas tzw. kłaczki (flocks), które opadają na dno zbior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Stopień trzeci – oczyszczanie biologiczne z usuwaniem biogenów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piera się na zachodzeniu reakcji chemicznych, w wyniku  których związki azotu i fosforu są rozkładane do prostszych postaci. Procesy te dokonują się dzięki bakteriom lub za pomocą związków chemiczny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kład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azot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tryfika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nitryfika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kład 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Calibri"/>
              </a:rPr>
              <a:t>fosfor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efosfatac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Nitryfika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Wynik działania bakterii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Nitrosomonas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Nitrobac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 N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3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4 H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2 H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+ 2 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Nitrosomon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 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+ 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2 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Nitrobac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Denitryfika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Redukcja azotu przy udziale bakterii </a:t>
            </a:r>
            <a:r>
              <a:rPr b="0" i="1" lang="pl-PL" sz="2400" spc="-1" strike="noStrike">
                <a:solidFill>
                  <a:srgbClr val="000000"/>
                </a:solidFill>
                <a:latin typeface="Calibri"/>
              </a:rPr>
              <a:t>Achromobacter, Aerobacter, Bacil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  NO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     NO     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     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2195640" y="335772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57340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5734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efosfatac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est procesem usuwania fosforu. Realizowana jest poprzez strącanie solami glinu, żelaza lub wapnem. Mogą być także wykorzystywane bakterie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inetobacter, Arthrobacter, Globiform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pień czwarty – odnowa wod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to proces, w wyniku którego otrzymuje się wodę zdatną do ponownego uży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zykładowe metody wykorzystywane w tym procesi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tra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sorpc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ymiana jonow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dwrócona osm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ktrodiali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15987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kuteczność metod oczyszczania wo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95280" y="1628640"/>
          <a:ext cx="8545680" cy="4105440"/>
        </p:xfrm>
        <a:graphic>
          <a:graphicData uri="http://schemas.openxmlformats.org/drawingml/2006/table">
            <a:tbl>
              <a:tblPr/>
              <a:tblGrid>
                <a:gridCol w="565200"/>
                <a:gridCol w="2849400"/>
                <a:gridCol w="1282680"/>
                <a:gridCol w="1282680"/>
                <a:gridCol w="1283040"/>
                <a:gridCol w="1282680"/>
              </a:tblGrid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zaj zanieczyszcz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stopn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stopn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stopn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topni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ąstki stał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puszczone substancje chemicz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ł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c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kterie chorobotwórc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ł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c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u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351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mal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ternatywne sposoby oczyszczania wo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Inne sposoby oczyszczania wody wykorzystują zdolności ekosystemów do rozkładu, mineralizacji, sorpcji i sedymentacji zanieczyszczeń. Niektóre z nich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Pola filtracyj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Stawy glonowo – bakteryj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Oczyszczalnie hydrobotaniczn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n 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zyć, czy zapobiegać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ooczyszczanie rz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dstawowe poję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osoby oczyszczania w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metody mechan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metody biolog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 metody chem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czyć czy zapobiegać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jlepszym sposobem ochrony jakości wody jest niedopuszczenie do jej zanieczyszczeni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które skutki zanieczyszczeń są nieodwracalne, np. utrata zdrowia, zanik gatunków roślin i zwierząt, trwała degradacja krajobra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prawda, że zapobieganie degradacji wód jest drogie, ale jest jednak niepomiernie tańsze od kosztów związanych z naprawą zaistniałej już sytu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ooczyszczanie rz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eczyszczenie rzek nie jest stanem nieodwracalny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zeki posiadają zdolność do tzw. samooczyszczania się, które jest procesem przekształcania związków organicznych w prostsze związki nieorganiczne przy współudziale mikroorganizmów.  Aby zachodził on prawidłowo z wody i powietrza musi być pobierany tl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y, które zachodzą podczas samooczyszczania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eralizacja substancji organiczny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bakterie tlenowe i beztlenowe. Glony i pierwotniaki dostarczają w wyniku fotosyntezy tlen do wod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dymentacja zawies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izyczny proces stopniowego opadania zanieczyszczeń i stabilizacji ich na dn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dsorpc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zatrzymanie substancji na granicy faz: stałej i ciekł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ozcieńczani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dopływ czystych wód rozcieńcza zanieczyszczenia i natlenia wod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dstawowe poję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zdatnian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przywracanie wodzie walorów pozwalających na jej spożycie bądź użytkowan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czyszczani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przywracanie wodzie takiej jakości, by mogła być zwrócona środowisku bez pogorszenia jakości tego środowis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osoby oczyszczania w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czyszczanie wody z zanieczyszczeń może zachodzić na trzy główne sposoby, zwane także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opniami oczyszczani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czyszczanie mechanicz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czyszczanie biologiczne lub chemiczn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czyszczanie biologiczne z usuwaniem substancji biogennych (związków azotu i fosforu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dnowa wo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proszczony schemat oczyszczania wody w oczyszczaln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187280" y="1557360"/>
            <a:ext cx="669780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ień pierwszy – oczyszczanie mechanicz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łuży do usuwania większych ciał pływających, łatwo opadających zawiesin, olejów, tłuszczów i cząstek o średnicy większej niż 0,1 mm. Najczęstsze procesy zachodzące w tej fazie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Cedzenie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przepływ strumienia cieczy przez sita i kratow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Flotacj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oczyszczanie wody poprzez wytworzenie piany. Tworzące ją pęcherzyki powietrza unoszą na powierzchnię zanieczyszcz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edymentacj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– opadanie cząstek zanieczyszczeń na d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ień drugi – oczyszczanie biologiczne lub chemicz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ody biologicz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olegają na rozkładzie zanieczyszczeń w procesach utleniania przy udziale mikroorganizmów.  Główne z nich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oda złoża zraszaneg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za złoże biologiczne, które pełni funkcję filtru glebowego, rozprowadzana jest zanieczyszczona woda. Bakterie tlenowe, które zasiedlają złoże, utleniają i mineralizują zanieczyszcz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oda komór osadu czynneg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zanieczyszczona woda doprowadzana do komory jest zaszczepiana osadem czynnym, na który składają się m.in. bakterie tlenowe. Intensywne mieszanie w komorach natlenia wodę i sprzyja szybszej mineralizacj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Madzia</cp:lastModifiedBy>
  <dcterms:modified xsi:type="dcterms:W3CDTF">2013-03-24T15:16:34Z</dcterms:modified>
  <cp:revision>34</cp:revision>
  <dc:subject>szablon prezentacji KPW</dc:subject>
  <dc:title>Zrównoważony rozwój</dc:title>
</cp:coreProperties>
</file>