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11.wmf" ContentType="image/x-wmf"/>
  <Override PartName="/ppt/media/image7.jpeg" ContentType="image/jpe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55DA-6B3C-4193-A619-B7D1F9255F0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2759-C6A4-4DB1-87D8-79C53E60E80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5A78A-BF98-4914-AF28-581F5205AA8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B616-6AAC-47F6-BE69-9C1D504453D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A721-725D-47D4-8944-ADACB879317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F1CB-3D23-4BB4-85F8-E87C48B581E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5ED3-AC8B-43E0-93C5-DB1F84E843D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DEEE-4745-4A15-8528-8A1D6F35959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7205-5800-47C7-942A-3CBF98B64BE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962F-D280-406D-8A8E-C7F99BCD567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192B-4981-40D0-832E-066B2CFE360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098D-EF44-45EE-B91B-0A12E37EF81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CCF2-9D0F-42F3-9E87-73760560E27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EBC1-52EB-47AA-8FB4-5D2314AE784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F4DE-FB86-41DF-8954-8CC45E6BF52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448C-25BF-4667-9DCC-9BAEAB937CA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FECB-2041-4DEA-A1A6-A0496CDDA9D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6F61-5E7A-46E9-9414-11407A4B566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9A65-BD8A-43ED-88E5-4C2858C1AA1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9279-2691-44B6-8CF8-7453552EA33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F1C0-11E4-47D2-9F9C-B2A947827F6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710F-6E14-422D-9DB0-12C29CD306F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FDCE-E23E-4104-9D08-BCDA908C4C2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2B06-206D-415C-A544-A46DFF400E7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0445-3B6E-45FE-880F-A513C152621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7CE9-5C47-490C-B0A4-75F67B76CDB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9E0F-5981-4F54-BA50-FE987646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F2C6-F84A-4656-8352-ACCAFEF9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EA15-1C2A-44D4-8CC3-12C64746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29DB-D070-4531-88C5-2593F122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DD81-4CA4-4842-96F8-6A8B24C3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F34E-BD7E-4364-97E9-46F99022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11A2-2D61-4833-8815-AD570228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D38D-8C01-452B-A884-F9AAB54F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EF77-D33A-4E69-A745-33D358BD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8580-15AB-4E90-9D36-7E2BABF4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608E-BE9F-40C8-82F3-90121594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69E8-5DED-433D-A34C-43AFC647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F9EF-1DE4-4324-9F82-D5775083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C5D2-7957-438E-9693-695458D2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DFEE-A98F-4BEB-AA82-70FA2B76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F6A5-326D-4022-8EF7-4076C0A6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B7D3-E9B5-4CD9-B740-D7DDCBF60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56D-D08D-47B6-B459-BBD67188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86A5-1F42-40C3-AF7D-FEFD8B47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0160-5DB0-43DC-972B-61A460C4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6E06-FAC7-4132-941E-0DE56020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253F-FCEB-4A2E-A2E9-50920232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AF0C-9A96-4ADF-A39D-72F27A31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9012-AADC-4451-A1D5-85EADC1D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4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E7CB-429F-4B56-B399-8947381E45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4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Obraz 8" descr="stopka_cz_b_pion.gif"/>
          <p:cNvPicPr/>
          <p:nvPr/>
        </p:nvPicPr>
        <p:blipFill>
          <a:blip r:embed="rId5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cz_b_pion.gif"/>
          <p:cNvPicPr/>
          <p:nvPr/>
        </p:nvPicPr>
        <p:blipFill>
          <a:blip r:embed="rId6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7D0A-2761-449C-909A-99BE242490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ziemianarozdrozu.pl/kalkulator" TargetMode="External"/><Relationship Id="rId3" Type="http://schemas.openxmlformats.org/officeDocument/2006/relationships/hyperlink" Target="http://ziemianarozdrozu.pl/kalkulator" TargetMode="External"/><Relationship Id="rId4" Type="http://schemas.openxmlformats.org/officeDocument/2006/relationships/hyperlink" Target="http://ziemianarozdrozu.pl/kalkulator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560" y="1628640"/>
            <a:ext cx="720108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łówne źródła zanieczyszczenia powietrza oraz mechanizm reakcji rodnikowych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Gazy cieplarni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Ziemi docier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mieniowane Słonecz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którego zakres fal obejmuje promieniowanie ultrafioletowe (UV), widzialne i podczerwone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iemia także promieniuj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le tylko promieniowaniem podczerwonym. Gdyby z obu stron proces ten nie był zakłócany, to średnia roczna temperatura na Ziemi wynosiłaby ok. -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, a takie warunki uniemożliwiłyby powstanie życia na naszej planeci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laczego tak nie je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zęść promieniowania słonecznego (głównie UV) odbijana przez warstwę ozonową, natomiast część promieniowania ziemskiego jest zatrzymywana w atmosferze. Ten proces nazywam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fektem cieplarniany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2">
            <a:alphaModFix amt="54000"/>
          </a:blip>
          <a:stretch/>
        </p:blipFill>
        <p:spPr>
          <a:xfrm>
            <a:off x="971640" y="620640"/>
            <a:ext cx="6983280" cy="5562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940360" y="3284640"/>
            <a:ext cx="187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zęść promieniowania słonecznego (głównie UV) jest odbijana dzięki warstwie ozonu w górnej części atmosfery Zie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16000" y="5493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iemia wypromieniowuje promieniowanie podczerwone, które dzięki gazom cieplarnianym jest częściowo zatrzymywane w atmosferze ziemski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 efekt cieplarniany odpowiedzialne są niektóre gazy znajdujące się w atmosferze ziemskiej. Nazywamy je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gazami cieplarnianym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. Należą do ni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ara wo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wutlenek węg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et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ęglowodory chlorowcopochodn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ęglowodorów (np. halony, freon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lenek azotu (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azy przemysłow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laczego zatem efekt cieplarniany jest niebezpieczn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kazuje się że od czasów rewolucji przemysłowej poziom stężenia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 atmosferze wzrósł o prawie 40%, a w ciągu ostatnich 100 lat temperatura na Ziemi podniosła się o 0,7°C. Wiek w którym żyjemy to najcieplejszy okres w ostatnim tysiącleciu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ędzynarodowy Zespół ds. Zmian Klimatu stwierdził, iż z 90% prawdopodobieństwem to działalność człowieka stanowi przyczynę zmian klimatycz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ekt cieplarniany jest niezbędny do życia, jednak zbyt duża koncentracja gazów cieplarnianych w atmosferze może doprowadzić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lobalnego ocieple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zego skutkiem będzie m.in. topnienie lodowców i podniesienie poziomu wó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lka fakt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Średnia temperatura Ziem wzrosła przez ostatnie 150 lat o prawie 0,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ukowcy ostrzegają, że wzrost średniej globalnej temperatury 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 spowoduje nieusuwalne szkody w większości rejonów Zie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d 1870 roku poziom mórz i oceanów podniósł się o ok. 20 cm, dziś podnosi się o ok. 3 mm roczn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dniesienie poziomu wody o pół metra oznaczałoby zalanie 500 000 obywateli Filipin, a podniesienie o metr, to utrata przez Bangladesz 17% powierzchni kraj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 niektórych krajach Afryki plony z upraw nawadnianych przez opady atmosferyczne mogą ulec obniżeniu o 50% w 2020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 następnym dziesięcioleciu nawet 175 milionów dzieci rocznie może paść ofiarą różnych chorób spowodowanych zmianami klima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stnieje możliwość, że do 2020 r. na skutek  zmian klimatu blisko 50 milionów ludzi stanie w obliczu groźby głodu, a do 2050 r. czeka to kolejne 132 miliony ludz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 powodu zmian  środowiskowych na całym świecie może pojawić się już wkrótce ok. 50 milionów uchodźców i wysiedleńców, którzy nie będą w stanie żyć w swoim kraju ze względu na głód, suszę i chorob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koło 20-30% opisanych gatunków roślin i zwierząt może być zagrożone wyginięciem, jeżeli średnia temperatura wzrośnie o więcej niż 2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C (np. blaknięcie koralowcó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 jaki sposób MY wpływamy na efekt cieplarniany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alkulator CO2: </a:t>
            </a:r>
            <a:r>
              <a:rPr b="0" lang="pl-PL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pl-PL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ziemianarozdrozu.pl</a:t>
            </a:r>
            <a:r>
              <a:rPr b="0" lang="pl-PL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/kalkul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5"/>
          <a:stretch/>
        </p:blipFill>
        <p:spPr>
          <a:xfrm>
            <a:off x="1187280" y="1557360"/>
            <a:ext cx="669780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280" y="3409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Freo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Freony, zwane też CFC (chlorofluorocarbon), to związki chemiczne będące  halogenopochodnymi metanu i etanu. Są to lotne związki, które dzięki swoim cechom takim jak trwałość i obojętność zyskały duże znaczenie w przemyśle już podczas II Wojny Światow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yły używane m.in. w aerozolach,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lekach, kosmetykach, urządzeniach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hłodniczych i lodówka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MC900356911[1]"/>
          <p:cNvPicPr/>
          <p:nvPr/>
        </p:nvPicPr>
        <p:blipFill>
          <a:blip r:embed="rId2"/>
          <a:stretch/>
        </p:blipFill>
        <p:spPr>
          <a:xfrm>
            <a:off x="755640" y="3860640"/>
            <a:ext cx="20066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 same cechy, które stanowiły o ich przydatności do przemysłu powodują jednak, że freony są bardzo niebezpieczne dla środowiska. Gromadzą się one w tzw. ozonosferze (wyższej warstwie atmosfery) i ulegają rozpadowi pod wpływem promieniowania słonecznego w zakresie U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kty rozkładu freonów reagują z ozonem powodując jego rozpad. Tworzy się w ten sposób tzw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ziura ozonow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311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Przypomnijmy jeszcze raz schemat. Do czego może prowadzić powstanie dziury ozonowej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2">
            <a:alphaModFix amt="54000"/>
          </a:blip>
          <a:stretch/>
        </p:blipFill>
        <p:spPr>
          <a:xfrm>
            <a:off x="1692360" y="1773360"/>
            <a:ext cx="5830920" cy="4645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6156360" y="3860640"/>
            <a:ext cx="187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zęść promieniowania słonecznego (głównie UV) jest odbijana dzięki warstwie ozonu w górnej części atmosfery Zie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0" y="1773360"/>
            <a:ext cx="37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iemia wypromieniowuje promieniowanie podczerwone, które dzięki gazom cieplarnianym jest częściowo zatrzymywane w atmosferze ziemskie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ład chemiczny powietr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łówne źródła zanieczyszczeń powietr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zy cieplarni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ony i ich wpływ na warstwę ozonow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chanizm reakcji rodnikowy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.Mechanizm reakcji rodnikowy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Atomy zbudowane są z jądra atomowego, wokół którego znajdują się elektrony. W cząsteczkach znajdują się wiązania elektronowe tworzone najczęściej przez parę elektronów (tzw. wiążącą parę elektronową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Jeżeli wiązanie rozpadnie się w taki sposób, że w atomie/jonie zostanie niesparowany elektron, wówczas powstają tzw.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rodni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nieważ taki układ jest niestabilny energetycznie, a atomy/jony z niesparowanym elektronem dążą do oddania lub przyjęcia jednego elektronu, dlatego rodniki są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bardzo reaktyw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pad wiązań i powstanie wolnych rodników może odbywać się m.in. pod wpływem naświetlania promieniami UV i promieniowania rentgenowski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eakcje z udziałem wolnych rodników to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reakcje łańcuchowe.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chodzą one w 3 faza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1. inicj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2. propagacj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3. terminac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rzykładem reakcji rodnikowej jest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chlorowanie meta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2160" indent="-921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Faza inicjacj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– powstanie wolnych rodnikó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800080"/>
                </a:solidFill>
                <a:latin typeface="Calibri"/>
              </a:rPr>
              <a:t>Cl - Cl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ff0000"/>
                </a:solidFill>
                <a:latin typeface="Calibri"/>
              </a:rPr>
              <a:t>Cl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+  </a:t>
            </a:r>
            <a:r>
              <a:rPr b="0" lang="pl-PL" sz="3200" spc="-1" strike="noStrike">
                <a:solidFill>
                  <a:srgbClr val="ff0000"/>
                </a:solidFill>
                <a:latin typeface="Calibri"/>
              </a:rPr>
              <a:t>Cl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3348000" y="47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492360" y="443700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4572000" y="4508640"/>
            <a:ext cx="71280" cy="7272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5508720" y="4508640"/>
            <a:ext cx="71280" cy="7272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Faza propagacj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– najdłuższa faza, w której rodnik reagując z cząsteczką produkt główny reakcji i kolejny nowy rodnik Liczba rodników w tej fazie jest stał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pl-PL" sz="3200" spc="-1" strike="noStrike">
                <a:solidFill>
                  <a:srgbClr val="ff0000"/>
                </a:solidFill>
                <a:latin typeface="Calibri"/>
              </a:rPr>
              <a:t>Cl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cc00"/>
                </a:solidFill>
                <a:latin typeface="Calibri"/>
              </a:rPr>
              <a:t>CH</a:t>
            </a:r>
            <a:r>
              <a:rPr b="0" lang="pl-PL" sz="3200" spc="-1" strike="noStrike" baseline="-25000">
                <a:solidFill>
                  <a:srgbClr val="00cc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+ H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cc00"/>
                </a:solidFill>
                <a:latin typeface="Calibri"/>
              </a:rPr>
              <a:t>CH</a:t>
            </a:r>
            <a:r>
              <a:rPr b="0" lang="pl-PL" sz="3200" spc="-1" strike="noStrike" baseline="-25000">
                <a:solidFill>
                  <a:srgbClr val="00cc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pl-PL" sz="3200" spc="-1" strike="noStrike">
                <a:solidFill>
                  <a:srgbClr val="800080"/>
                </a:solidFill>
                <a:latin typeface="Calibri"/>
              </a:rPr>
              <a:t>Cl</a:t>
            </a:r>
            <a:r>
              <a:rPr b="0" lang="pl-PL" sz="32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CH</a:t>
            </a:r>
            <a:r>
              <a:rPr b="0" lang="pl-PL" sz="3200" spc="-1" strike="noStrike" baseline="-25000">
                <a:solidFill>
                  <a:srgbClr val="1f497d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Cl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pl-PL" sz="3200" spc="-1" strike="noStrike">
                <a:solidFill>
                  <a:srgbClr val="ff0000"/>
                </a:solidFill>
                <a:latin typeface="Calibri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CH</a:t>
            </a:r>
            <a:r>
              <a:rPr b="0" lang="pl-PL" sz="3200" spc="-1" strike="noStrike" baseline="-25000">
                <a:solidFill>
                  <a:srgbClr val="1f497d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1f497d"/>
                </a:solidFill>
                <a:latin typeface="Calibri"/>
              </a:rPr>
              <a:t>Cl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pl-PL" sz="3200" spc="-1" strike="noStrike">
                <a:solidFill>
                  <a:srgbClr val="ff0000"/>
                </a:solidFill>
                <a:latin typeface="Calibri"/>
              </a:rPr>
              <a:t>Cl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ff9900"/>
                </a:solidFill>
                <a:latin typeface="Calibri"/>
              </a:rPr>
              <a:t>CH</a:t>
            </a:r>
            <a:r>
              <a:rPr b="0" lang="pl-PL" sz="3200" spc="-1" strike="noStrike" baseline="-25000">
                <a:solidFill>
                  <a:srgbClr val="ff9900"/>
                </a:solidFill>
                <a:latin typeface="Calibri"/>
              </a:rPr>
              <a:t>2</a:t>
            </a:r>
            <a:r>
              <a:rPr b="0" lang="pl-PL" sz="3200" spc="-1" strike="noStrike">
                <a:solidFill>
                  <a:srgbClr val="ff9900"/>
                </a:solidFill>
                <a:latin typeface="Calibri"/>
              </a:rPr>
              <a:t>Cl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+ HCl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ff9900"/>
                </a:solidFill>
                <a:latin typeface="Calibri"/>
              </a:rPr>
              <a:t>CH</a:t>
            </a:r>
            <a:r>
              <a:rPr b="0" lang="pl-PL" sz="3200" spc="-1" strike="noStrike" baseline="-25000">
                <a:solidFill>
                  <a:srgbClr val="ff9900"/>
                </a:solidFill>
                <a:latin typeface="Calibri"/>
              </a:rPr>
              <a:t>2</a:t>
            </a:r>
            <a:r>
              <a:rPr b="0" lang="pl-PL" sz="3200" spc="-1" strike="noStrike">
                <a:solidFill>
                  <a:srgbClr val="ff9900"/>
                </a:solidFill>
                <a:latin typeface="Calibri"/>
              </a:rPr>
              <a:t>Cl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pl-PL" sz="3200" spc="-1" strike="noStrike">
                <a:solidFill>
                  <a:srgbClr val="800080"/>
                </a:solidFill>
                <a:latin typeface="Calibri"/>
              </a:rPr>
              <a:t>Cl</a:t>
            </a:r>
            <a:r>
              <a:rPr b="0" lang="pl-PL" sz="32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pl-PL" sz="3200" spc="-1" strike="noStrike">
                <a:solidFill>
                  <a:srgbClr val="ff0000"/>
                </a:solidFill>
                <a:latin typeface="Calibri"/>
              </a:rPr>
              <a:t>Cl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t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Line 4"/>
          <p:cNvSpPr/>
          <p:nvPr/>
        </p:nvSpPr>
        <p:spPr>
          <a:xfrm>
            <a:off x="3780000" y="4221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3780000" y="472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4140360" y="530064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4211640" y="5805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3564000" y="3933720"/>
            <a:ext cx="71280" cy="7308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5653080" y="4005360"/>
            <a:ext cx="71280" cy="7308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2771640" y="4508640"/>
            <a:ext cx="71640" cy="7272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11"/>
          <p:cNvSpPr/>
          <p:nvPr/>
        </p:nvSpPr>
        <p:spPr>
          <a:xfrm>
            <a:off x="6732720" y="4508640"/>
            <a:ext cx="71280" cy="7272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3995640" y="5013360"/>
            <a:ext cx="71640" cy="7308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13"/>
          <p:cNvSpPr/>
          <p:nvPr/>
        </p:nvSpPr>
        <p:spPr>
          <a:xfrm>
            <a:off x="6084720" y="5013360"/>
            <a:ext cx="71640" cy="7308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14"/>
          <p:cNvSpPr/>
          <p:nvPr/>
        </p:nvSpPr>
        <p:spPr>
          <a:xfrm>
            <a:off x="3276720" y="5516640"/>
            <a:ext cx="71280" cy="7308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15"/>
          <p:cNvSpPr/>
          <p:nvPr/>
        </p:nvSpPr>
        <p:spPr>
          <a:xfrm>
            <a:off x="6877080" y="5587920"/>
            <a:ext cx="71280" cy="7308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Calibri"/>
              </a:rPr>
              <a:t>Faza terminacj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– następuje wówczas, gdy spotkają się ze sobą dwa rodn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cc00"/>
                </a:solidFill>
                <a:latin typeface="Calibri"/>
              </a:rPr>
              <a:t>CH</a:t>
            </a:r>
            <a:r>
              <a:rPr b="0" lang="pl-PL" sz="3200" spc="-1" strike="noStrike" baseline="-25000">
                <a:solidFill>
                  <a:srgbClr val="00cc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pl-PL" sz="3200" spc="-1" strike="noStrike">
                <a:solidFill>
                  <a:srgbClr val="ff0000"/>
                </a:solidFill>
                <a:latin typeface="Calibri"/>
              </a:rPr>
              <a:t>Cl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pl-PL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916360" y="3357720"/>
            <a:ext cx="71280" cy="7272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635280" y="3357720"/>
            <a:ext cx="71640" cy="7272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399564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. Co to jest powietrz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250920" y="1197000"/>
          <a:ext cx="8569080" cy="4940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197000"/>
                    <a:ext cx="856908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5"/>
          <p:cNvSpPr/>
          <p:nvPr/>
        </p:nvSpPr>
        <p:spPr>
          <a:xfrm>
            <a:off x="6804000" y="1628640"/>
            <a:ext cx="180036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Pozostałe gazy to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wutlenek węgl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e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ryp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odó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sen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5508720" y="1700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Główne źródła zanieczyszczeń powietrz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anieczyszczeni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wietrza są wszystkie substancje, które znajdują się w nim w ilościach większych niż ich średnia zawartość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e wszystkich rodzajów zanieczyszczeń właśnie zanieczyszczenie powietrza jes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jbardziej niebezpiecz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ponieważ może się przemieszczać na duże odległości i powodować skażenia środowiska na olbrzymim teren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n powietrza w Polsce podlega stałemu monitoringowi. Odpowiedzialne za wykonywanie pomiarów są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spektoraty Ochrony Środowisk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W zależności od kryteriów prowadzony jest monitoring różnych związków chemicznych odpowiedzialnych za zanieczyszczenie powietrz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ryterium ochrony zdrowia ludz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dwutlenek siarki, dwutlenek azotu, tlenek węgla, benzen, ozon, pyły, metale ciężkie: ołów, arsen, kadm, nikiel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ryterium ochrony rośl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dwutlenek siarki, tlenki azotu i oz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Źródła zanieczyszczeń powietrza można podzielić na dwa główne rodzaj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anieczyszczenia antropogenicz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pochodzące od człowieka i jego działalnoś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  Zanieczyszczenia natural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będące wynikiem naturalnych procesów zachodzących w środow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Zanieczyszczenia antropogenicz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d czasów rewolucji przemysłowej gwałtowne zapotrzebowanie na energię spowodowało, ż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zemys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jest jednym z głównych źródeł zanieczyszczenia powietrza. Procesem, który jest odpowiedzialny w przemyśle za produkcję największej liczby zanieczyszczeń powietrza jes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alanie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atmosfery uwalniane są w jego wyniku między innym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wutlenek siar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lenki azo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ył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tale ciężk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wiązki organicz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6" descr="MP900448679[1]"/>
          <p:cNvPicPr/>
          <p:nvPr/>
        </p:nvPicPr>
        <p:blipFill>
          <a:blip r:embed="rId2"/>
          <a:stretch/>
        </p:blipFill>
        <p:spPr>
          <a:xfrm>
            <a:off x="3924360" y="3645000"/>
            <a:ext cx="396072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anieczyszczenie powietrza to nie tylko duże fabryki! Oprócz przemysłu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hemicznego, energetycznego, rafineryjneg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td. wpływ na zanieczyszczenie powietrza mają takż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toryzacja (zanieczyszczenia komunikacyjne)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lenki azotu, tlenek węgla, węglowod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otłownie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yły, dwutlenek siar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ospodarstwa domowe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wutlenek węg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rmy zwierząt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kładowiska surowców i odpadów –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zy związane z rozkładem zanieczyszczeń stały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Zanieczyszczenia natural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ą one największymi źródłami zanieczyszczeń powietrza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oż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buchy wulkanó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ładowania atmosferycz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rocesy biologiczne (np. gnic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ietrzenie ska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ą to także jedne ze źródeł emisji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gazów cieplarnianych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MC900412342[1]"/>
          <p:cNvPicPr/>
          <p:nvPr/>
        </p:nvPicPr>
        <p:blipFill>
          <a:blip r:embed="rId2"/>
          <a:stretch/>
        </p:blipFill>
        <p:spPr>
          <a:xfrm>
            <a:off x="4859280" y="2233440"/>
            <a:ext cx="3168720" cy="25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Madzia</cp:lastModifiedBy>
  <dcterms:modified xsi:type="dcterms:W3CDTF">2013-08-24T14:20:29Z</dcterms:modified>
  <cp:revision>50</cp:revision>
  <dc:subject>szablon prezentacji KPW</dc:subject>
  <dc:title>Zrównoważony rozwój</dc:title>
</cp:coreProperties>
</file>