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6397-3DD9-491D-A9F1-8421C21C61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ruba kreska – oznacza stan, w którym znajduje się elek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D98E1-5608-4024-A4DE-034F66AD830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1 – oznacza stan podstawow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23E4-2DD3-48C5-8F60-04706985F00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D83-E628-4729-9190-7A945C79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600-81D5-4118-8227-0B43B96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02E-78A7-44D0-92E0-69235589C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752B-A3AB-4CE1-8FBB-324887BF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E2D4-A4DC-4858-9B97-235E38D5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D6AF-F2BD-47DF-B2F3-CBD91857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BA3A-CA09-40A5-80B2-6387375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428A-6613-4C1F-A07F-41BAEBC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DBD93-775F-4349-B36D-4286AE98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F757-1CA2-42A1-8C16-BF9591EB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A2F4-FEA1-41B9-A2E0-605FDD2F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2C6-B431-4602-8846-D0701E65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20C0-43A1-4207-9F29-1C3CCC7D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C308-DA88-4451-8805-BC788F23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DE81-1263-4B16-976B-2D9E487C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8364-72F0-482F-9E90-0D5C5FE8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77D0-B887-4DDA-A340-635612AF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4DC-4A87-4117-8DFD-69ED4D34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F0E-1CAF-48B9-B89C-31BEC30A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E796-5EA9-4E95-9662-D9953A61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E898-D244-4876-8EB5-6DCC333E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35-BD9C-4B57-A193-AA21C999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5B1-D850-447C-99EE-CD9BE60F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B841-1B42-4107-AFE0-22B94943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3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9758-F726-4CD5-8165-4923B8B2AD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11A-4CC1-4674-8F65-0C373C06D1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walter-fendt.de/ph14pl/bohrh_pl.htm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KORPUSKULARNO-FALOWA NATURA ŚWIATŁ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93480" y="3192120"/>
            <a:ext cx="6777000" cy="19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ZYPOMNIE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LASER</a:t>
            </a: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 - jest źródłem promieniowania elektromagnetyczneg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997000"/>
            <a:ext cx="78469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 klasycznego źródła światła różni się on zasadą działania i wynikającymi z niej właściwościami emitowanego promieniowania. Wiązka światła laserowego jest spójna. </a:t>
            </a: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łow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ASE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jest akronimem zdania w języku angielskim: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gh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plification by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imulation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sion of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diation czyli wzmocnienie światła wskutek zjawisk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misji wymuszone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285264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misja wymuszo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jest jednym z trzech procesów oddziaływania światła z materią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wyniku których zmienia się stan kwantowy atom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wa pozostałe procesy to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bsorpcj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emisja spontaniczn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86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rzy następne slajdy przedstawiają schematycznie oddziaływanie fotonu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atom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2852280"/>
            <a:ext cx="75578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bsorpcję foton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misję spontaniczną fotonu przez ato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misję wymuszoną fotonu przez at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bsorpcja fotonu w atom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chłonięcie fotonu o energii równej różnicy między poziomami E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i E</a:t>
            </a:r>
            <a:r>
              <a:rPr b="0" lang="pl-PL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  W wyniku tego atom przechodzi do stanu wzbudzonego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0920" y="4581360"/>
            <a:ext cx="5761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an energetyczny atomu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fot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E2 &gt; E1;  energie stanów ato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Group 6"/>
          <p:cNvGrpSpPr/>
          <p:nvPr/>
        </p:nvGrpSpPr>
        <p:grpSpPr>
          <a:xfrm>
            <a:off x="1979640" y="2637000"/>
            <a:ext cx="2736720" cy="1182600"/>
            <a:chOff x="1979640" y="2637000"/>
            <a:chExt cx="2736720" cy="1182600"/>
          </a:xfrm>
        </p:grpSpPr>
        <p:sp>
          <p:nvSpPr>
            <p:cNvPr id="120" name="Line 7"/>
            <p:cNvSpPr/>
            <p:nvPr/>
          </p:nvSpPr>
          <p:spPr>
            <a:xfrm>
              <a:off x="2383920" y="3577320"/>
              <a:ext cx="619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"/>
            <p:cNvSpPr/>
            <p:nvPr/>
          </p:nvSpPr>
          <p:spPr>
            <a:xfrm>
              <a:off x="4096800" y="2894400"/>
              <a:ext cx="619560" cy="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>
              <a:off x="2383920" y="2894400"/>
              <a:ext cx="61956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0"/>
            <p:cNvSpPr/>
            <p:nvPr/>
          </p:nvSpPr>
          <p:spPr>
            <a:xfrm>
              <a:off x="4096800" y="3577320"/>
              <a:ext cx="6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1"/>
            <p:cNvSpPr/>
            <p:nvPr/>
          </p:nvSpPr>
          <p:spPr>
            <a:xfrm>
              <a:off x="1979640" y="3197520"/>
              <a:ext cx="464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2"/>
            <p:cNvSpPr/>
            <p:nvPr/>
          </p:nvSpPr>
          <p:spPr>
            <a:xfrm>
              <a:off x="3270600" y="2637000"/>
              <a:ext cx="46440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3253320" y="3340080"/>
              <a:ext cx="4647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14"/>
          <p:cNvSpPr/>
          <p:nvPr/>
        </p:nvSpPr>
        <p:spPr>
          <a:xfrm>
            <a:off x="3276720" y="501336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1692360" y="522936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24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Spontaniczna emisja fotonu przez atom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om znajdujący się w stanie wzbudzonym emituje foton o energii równej różnicy między poziomam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, przechodząc do stanu podstawowego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0920" y="4581360"/>
            <a:ext cx="5761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n energetyczny atom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oto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2 &gt; E1;  energie stanów atom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3492360" y="501336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1763640" y="530064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1"/>
          <p:cNvGrpSpPr/>
          <p:nvPr/>
        </p:nvGrpSpPr>
        <p:grpSpPr>
          <a:xfrm>
            <a:off x="2124000" y="2421000"/>
            <a:ext cx="2734920" cy="1294920"/>
            <a:chOff x="2124000" y="2421000"/>
            <a:chExt cx="2734920" cy="1294920"/>
          </a:xfrm>
        </p:grpSpPr>
        <p:sp>
          <p:nvSpPr>
            <p:cNvPr id="134" name="Line 22"/>
            <p:cNvSpPr/>
            <p:nvPr/>
          </p:nvSpPr>
          <p:spPr>
            <a:xfrm>
              <a:off x="2124000" y="2651400"/>
              <a:ext cx="596520" cy="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3764880" y="3411360"/>
              <a:ext cx="59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2124000" y="3411360"/>
              <a:ext cx="59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3764880" y="2651400"/>
              <a:ext cx="59652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4411440" y="2988720"/>
              <a:ext cx="447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2952720" y="2421000"/>
              <a:ext cx="44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8"/>
            <p:cNvSpPr/>
            <p:nvPr/>
          </p:nvSpPr>
          <p:spPr>
            <a:xfrm>
              <a:off x="2977560" y="3182760"/>
              <a:ext cx="4474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Wymuszona emisja fotonu przez atom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ton o energii równej różnicy między stanami 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i E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tomu znajdującego się w stanie metatrwałym oddziałując z tym atomem wymusza emisję kolejnego fotonu o tej samej energi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4581360"/>
            <a:ext cx="5761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stan energetyczny atomu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oto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2 &gt; E1;  energie stanów atom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3492360" y="501336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1692360" y="5300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4"/>
          <p:cNvGrpSpPr/>
          <p:nvPr/>
        </p:nvGrpSpPr>
        <p:grpSpPr>
          <a:xfrm>
            <a:off x="1979640" y="2421000"/>
            <a:ext cx="2808360" cy="1294920"/>
            <a:chOff x="1979640" y="2421000"/>
            <a:chExt cx="2808360" cy="1294920"/>
          </a:xfrm>
        </p:grpSpPr>
        <p:sp>
          <p:nvSpPr>
            <p:cNvPr id="146" name="Line 15"/>
            <p:cNvSpPr/>
            <p:nvPr/>
          </p:nvSpPr>
          <p:spPr>
            <a:xfrm>
              <a:off x="2355120" y="2598120"/>
              <a:ext cx="540360" cy="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6"/>
            <p:cNvSpPr/>
            <p:nvPr/>
          </p:nvSpPr>
          <p:spPr>
            <a:xfrm>
              <a:off x="3841920" y="2598120"/>
              <a:ext cx="54036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7"/>
            <p:cNvSpPr/>
            <p:nvPr/>
          </p:nvSpPr>
          <p:spPr>
            <a:xfrm>
              <a:off x="4382640" y="2860920"/>
              <a:ext cx="405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8"/>
            <p:cNvSpPr/>
            <p:nvPr/>
          </p:nvSpPr>
          <p:spPr>
            <a:xfrm>
              <a:off x="1979640" y="2992680"/>
              <a:ext cx="405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9"/>
            <p:cNvSpPr/>
            <p:nvPr/>
          </p:nvSpPr>
          <p:spPr>
            <a:xfrm>
              <a:off x="4382640" y="3123360"/>
              <a:ext cx="405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0"/>
            <p:cNvSpPr/>
            <p:nvPr/>
          </p:nvSpPr>
          <p:spPr>
            <a:xfrm>
              <a:off x="3841920" y="3386160"/>
              <a:ext cx="540360" cy="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1"/>
            <p:cNvSpPr/>
            <p:nvPr/>
          </p:nvSpPr>
          <p:spPr>
            <a:xfrm>
              <a:off x="2355120" y="3448440"/>
              <a:ext cx="540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2"/>
            <p:cNvSpPr/>
            <p:nvPr/>
          </p:nvSpPr>
          <p:spPr>
            <a:xfrm>
              <a:off x="3128400" y="2421000"/>
              <a:ext cx="40536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23"/>
            <p:cNvSpPr/>
            <p:nvPr/>
          </p:nvSpPr>
          <p:spPr>
            <a:xfrm>
              <a:off x="3128400" y="3255120"/>
              <a:ext cx="40536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pl-P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4360" y="90756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idmo fal elektromagnetycznych – schematyczne przedstawienie zakresów długości fal dla poszczególnych ich rodzaj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wiatło widzialne stanowi tylko małą część widma fal elektromagnetycznych. Przy zmianie częstości drgań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zakresie widzialnym, światło zmienia barwę od czerwieni do fiole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274680"/>
            <a:ext cx="7931160" cy="94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dmo fal elektromagne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Symbol zastępczy zawartości 3" descr="widmo.png"/>
          <p:cNvPicPr/>
          <p:nvPr/>
        </p:nvPicPr>
        <p:blipFill>
          <a:blip r:embed="rId1"/>
          <a:stretch/>
        </p:blipFill>
        <p:spPr>
          <a:xfrm>
            <a:off x="3348000" y="1052640"/>
            <a:ext cx="29638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"/>
          <p:cNvSpPr/>
          <p:nvPr/>
        </p:nvSpPr>
        <p:spPr>
          <a:xfrm>
            <a:off x="468360" y="5269680"/>
            <a:ext cx="8424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google.pl/imgres?imgurl=http://zasoby1.open.agh.edu.pl/dydaktyka/fizyka/c_fizyka_at_i_kw/obrazki/w0101.png&amp;imgrefurl=http://zasoby1.open.agh.edu.pl/dydaktyka/fizyka/c_fizyka_at_i_kw/wyklad1.html&amp;h=1080&amp;w=779&amp;sz=52&amp;tbnid=gAbdmGQTZklexM:&amp;tbnh=90&amp;tbnw=65&amp;zoom=1&amp;usg=__mYZ2o4yq-6TBfRGdp57krkUqszI=&amp;docid=eaMd64SaocJAEM&amp;hl=pl&amp;sa=X&amp;ei=5oEeUdLHBOrE4gS4hIGYBQ&amp;sqi=2&amp;ved=0CDEQ9QEwAg&amp;dur=27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rostokąt 5"/>
          <p:cNvSpPr/>
          <p:nvPr/>
        </p:nvSpPr>
        <p:spPr>
          <a:xfrm>
            <a:off x="611280" y="5516640"/>
            <a:ext cx="80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ffffff"/>
                </a:solidFill>
                <a:latin typeface="Times New Roman"/>
                <a:ea typeface="Calibri"/>
              </a:rPr>
              <a:t>Źródło: http://www.google.pl/imgres?imgurl=http://zasoby1.open.agh.edu.pl/dydaktyka/fizyka/c_fizyka_at_i_kw/obrazki/w0101.png&amp;imgrefurl=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85800" y="692280"/>
            <a:ext cx="77724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naturze widmo ciągłe światła białego możemy obserwować jako tęczę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Źródło: fotografia J. Ślósarz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Obraz 3" descr="tecza swiatło biale1.JPG"/>
          <p:cNvPicPr/>
          <p:nvPr/>
        </p:nvPicPr>
        <p:blipFill>
          <a:blip r:embed="rId1"/>
          <a:stretch/>
        </p:blipFill>
        <p:spPr>
          <a:xfrm>
            <a:off x="1547640" y="1268280"/>
            <a:ext cx="5897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Źródła światła niespójnego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95280" y="2781360"/>
            <a:ext cx="8362800" cy="29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Światło wysyłane przez żarówkę czy świecę jest światłem niespójnym, ponieważ emisja fotonów zachodzi spontanicznie, czyli przypadkow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Światło można traktować 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 dwojaki sposób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8000" y="2876040"/>
            <a:ext cx="677880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ako rój cząstek – korpusku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ako falę elektromagnetyczn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ole tekstowe 1"/>
          <p:cNvSpPr/>
          <p:nvPr/>
        </p:nvSpPr>
        <p:spPr>
          <a:xfrm>
            <a:off x="611280" y="692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chemat doświadczenia ilustrującego różnicę pomiędzy własnościami wiązek świateł niespójnego latarki i spójnego lase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0"/>
          <p:cNvGrpSpPr/>
          <p:nvPr/>
        </p:nvGrpSpPr>
        <p:grpSpPr>
          <a:xfrm>
            <a:off x="909720" y="1351080"/>
            <a:ext cx="6686640" cy="4525560"/>
            <a:chOff x="909720" y="1351080"/>
            <a:chExt cx="6686640" cy="4525560"/>
          </a:xfrm>
        </p:grpSpPr>
        <p:sp>
          <p:nvSpPr>
            <p:cNvPr id="166" name="AutoShape 41"/>
            <p:cNvSpPr/>
            <p:nvPr/>
          </p:nvSpPr>
          <p:spPr>
            <a:xfrm rot="5400000">
              <a:off x="2154240" y="1947600"/>
              <a:ext cx="503280" cy="393840"/>
            </a:xfrm>
            <a:custGeom>
              <a:avLst/>
              <a:gdLst>
                <a:gd name="textAreaLeft" fmla="*/ 92880 w 503280"/>
                <a:gd name="textAreaRight" fmla="*/ 410400 w 503280"/>
                <a:gd name="textAreaTop" fmla="*/ 72720 h 393840"/>
                <a:gd name="textAreaBottom" fmla="*/ 321120 h 3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410" y="21600"/>
                  </a:lnTo>
                  <a:lnTo>
                    <a:pt x="17190" y="21600"/>
                  </a:lnTo>
                  <a:lnTo>
                    <a:pt x="2160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2"/>
            <p:cNvSpPr/>
            <p:nvPr/>
          </p:nvSpPr>
          <p:spPr>
            <a:xfrm>
              <a:off x="1420560" y="2018520"/>
              <a:ext cx="788400" cy="25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43"/>
            <p:cNvSpPr/>
            <p:nvPr/>
          </p:nvSpPr>
          <p:spPr>
            <a:xfrm flipV="1">
              <a:off x="2603160" y="1640520"/>
              <a:ext cx="393840" cy="2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44"/>
            <p:cNvSpPr/>
            <p:nvPr/>
          </p:nvSpPr>
          <p:spPr>
            <a:xfrm>
              <a:off x="2603160" y="2396160"/>
              <a:ext cx="39384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5"/>
            <p:cNvSpPr/>
            <p:nvPr/>
          </p:nvSpPr>
          <p:spPr>
            <a:xfrm>
              <a:off x="2603160" y="2144520"/>
              <a:ext cx="4861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46"/>
            <p:cNvSpPr/>
            <p:nvPr/>
          </p:nvSpPr>
          <p:spPr>
            <a:xfrm flipV="1">
              <a:off x="2603160" y="1892520"/>
              <a:ext cx="39384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47"/>
            <p:cNvSpPr/>
            <p:nvPr/>
          </p:nvSpPr>
          <p:spPr>
            <a:xfrm>
              <a:off x="2603160" y="2270160"/>
              <a:ext cx="39384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8"/>
            <p:cNvSpPr/>
            <p:nvPr/>
          </p:nvSpPr>
          <p:spPr>
            <a:xfrm>
              <a:off x="2997360" y="1358640"/>
              <a:ext cx="131400" cy="75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9"/>
            <p:cNvSpPr/>
            <p:nvPr/>
          </p:nvSpPr>
          <p:spPr>
            <a:xfrm>
              <a:off x="2997360" y="2183040"/>
              <a:ext cx="131400" cy="75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0"/>
            <p:cNvSpPr/>
            <p:nvPr/>
          </p:nvSpPr>
          <p:spPr>
            <a:xfrm>
              <a:off x="3522960" y="2183040"/>
              <a:ext cx="131400" cy="75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1"/>
            <p:cNvSpPr/>
            <p:nvPr/>
          </p:nvSpPr>
          <p:spPr>
            <a:xfrm>
              <a:off x="3522960" y="1351080"/>
              <a:ext cx="131400" cy="75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2"/>
            <p:cNvSpPr/>
            <p:nvPr/>
          </p:nvSpPr>
          <p:spPr>
            <a:xfrm>
              <a:off x="5099760" y="2178000"/>
              <a:ext cx="131400" cy="7549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53"/>
            <p:cNvSpPr/>
            <p:nvPr/>
          </p:nvSpPr>
          <p:spPr>
            <a:xfrm>
              <a:off x="5099760" y="1351080"/>
              <a:ext cx="131400" cy="75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54"/>
            <p:cNvSpPr/>
            <p:nvPr/>
          </p:nvSpPr>
          <p:spPr>
            <a:xfrm>
              <a:off x="7464960" y="1389600"/>
              <a:ext cx="131400" cy="35233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5"/>
            <p:cNvSpPr/>
            <p:nvPr/>
          </p:nvSpPr>
          <p:spPr>
            <a:xfrm>
              <a:off x="1420560" y="3906360"/>
              <a:ext cx="1184040" cy="227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56"/>
            <p:cNvSpPr/>
            <p:nvPr/>
          </p:nvSpPr>
          <p:spPr>
            <a:xfrm>
              <a:off x="5106240" y="4068360"/>
              <a:ext cx="131400" cy="7549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57"/>
            <p:cNvSpPr/>
            <p:nvPr/>
          </p:nvSpPr>
          <p:spPr>
            <a:xfrm>
              <a:off x="5106240" y="3233520"/>
              <a:ext cx="131400" cy="7549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58"/>
            <p:cNvSpPr/>
            <p:nvPr/>
          </p:nvSpPr>
          <p:spPr>
            <a:xfrm>
              <a:off x="2603160" y="4032000"/>
              <a:ext cx="48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59"/>
            <p:cNvSpPr/>
            <p:nvPr/>
          </p:nvSpPr>
          <p:spPr>
            <a:xfrm>
              <a:off x="4767480" y="2963880"/>
              <a:ext cx="7880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>
              <a:off x="4740480" y="4861800"/>
              <a:ext cx="788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1"/>
            <p:cNvSpPr/>
            <p:nvPr/>
          </p:nvSpPr>
          <p:spPr>
            <a:xfrm>
              <a:off x="909720" y="2773800"/>
              <a:ext cx="788040" cy="251280"/>
            </a:xfrm>
            <a:prstGeom prst="wedgeRectCallout">
              <a:avLst>
                <a:gd name="adj1" fmla="val 59907"/>
                <a:gd name="adj2" fmla="val -2436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latark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62"/>
            <p:cNvSpPr/>
            <p:nvPr/>
          </p:nvSpPr>
          <p:spPr>
            <a:xfrm>
              <a:off x="909720" y="3277080"/>
              <a:ext cx="656640" cy="251280"/>
            </a:xfrm>
            <a:prstGeom prst="wedgeRectCallout">
              <a:avLst>
                <a:gd name="adj1" fmla="val 72222"/>
                <a:gd name="adj2" fmla="val 18472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la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3"/>
            <p:cNvSpPr/>
            <p:nvPr/>
          </p:nvSpPr>
          <p:spPr>
            <a:xfrm>
              <a:off x="2486520" y="3025080"/>
              <a:ext cx="2102400" cy="251640"/>
            </a:xfrm>
            <a:prstGeom prst="wedgeRectCallout">
              <a:avLst>
                <a:gd name="adj1" fmla="val 57916"/>
                <a:gd name="adj2" fmla="val -40138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wąska wiązka światła latark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64"/>
            <p:cNvSpPr/>
            <p:nvPr/>
          </p:nvSpPr>
          <p:spPr>
            <a:xfrm>
              <a:off x="1435320" y="4248000"/>
              <a:ext cx="131040" cy="75492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5"/>
            <p:cNvSpPr/>
            <p:nvPr/>
          </p:nvSpPr>
          <p:spPr>
            <a:xfrm>
              <a:off x="1435320" y="5069520"/>
              <a:ext cx="131040" cy="7549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66"/>
            <p:cNvSpPr/>
            <p:nvPr/>
          </p:nvSpPr>
          <p:spPr>
            <a:xfrm>
              <a:off x="1960920" y="5416200"/>
              <a:ext cx="1839240" cy="460440"/>
            </a:xfrm>
            <a:prstGeom prst="wedgeRectCallout">
              <a:avLst>
                <a:gd name="adj1" fmla="val -68013"/>
                <a:gd name="adj2" fmla="val -1310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tekturki z niewielkimi  otworam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67"/>
            <p:cNvSpPr/>
            <p:nvPr/>
          </p:nvSpPr>
          <p:spPr>
            <a:xfrm>
              <a:off x="2617560" y="4409640"/>
              <a:ext cx="1839600" cy="251280"/>
            </a:xfrm>
            <a:prstGeom prst="wedgeRectCallout">
              <a:avLst>
                <a:gd name="adj1" fmla="val 59680"/>
                <a:gd name="adj2" fmla="val -1911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wiązka światła lase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68"/>
            <p:cNvSpPr/>
            <p:nvPr/>
          </p:nvSpPr>
          <p:spPr>
            <a:xfrm>
              <a:off x="6033960" y="5290560"/>
              <a:ext cx="657000" cy="251280"/>
            </a:xfrm>
            <a:prstGeom prst="wedgeRectCallout">
              <a:avLst>
                <a:gd name="adj1" fmla="val 166444"/>
                <a:gd name="adj2" fmla="val -43861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000" spc="-1" strike="noStrike">
                  <a:solidFill>
                    <a:srgbClr val="000000"/>
                  </a:solidFill>
                  <a:latin typeface="Arial"/>
                </a:rPr>
                <a:t>ekr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 falowej naturze światła świadczą zjawisk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2092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dyfrakcji – zmiana kierunku rozchodzenia się fali (nie załamania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nterferencji – nakładania się fa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olaryzacji – wybór jednego kierunku drga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062920" cy="20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 cząsteczkowej (korpuskularnej) naturze światła świadczą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jawisko fotoelektryczne zewnętrze – uwalnianie (wybijanie) elektronów z powierzchni metal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ciśnienie światła – fotony – „cząstki światła” przenoszą energię i pęd, który jest przekazywany podczas zderzenia – wywierają w ten sposób siłę na oświetlany obie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YSKRETNE STANY ENERGETYCZNE W ATOMIE WODO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3141720"/>
            <a:ext cx="77724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 teorii Bohra wynika, że elektron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 atomie wodoru krąży wokół jądra po dozwolonych orbitach o ściśle określonej energi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Odległość elektronu od jądra (protonu) wyraża wzór: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l-PL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1" lang="pl-PL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3716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mień n-tej orb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pl-P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mień pierwszej orb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 - 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numer orbity (główna liczba kwantowa);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=1,2,3,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nergia atomu wodoru – czyli układu proton-elektron opisana jest wzorem: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4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1" lang="pl-PL" sz="4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1" lang="pl-PL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3212640"/>
            <a:ext cx="770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energia dla elektronu na n-tej orbicie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l-PL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=-13,6 eV-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energia dla elektronu na pierwszej orbicie – stan o najniższej energii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Arial"/>
              </a:rPr>
              <a:t>n- </a:t>
            </a:r>
            <a:r>
              <a:rPr b="0" lang="pl-PL" sz="3000" spc="-1" strike="noStrike">
                <a:solidFill>
                  <a:srgbClr val="000000"/>
                </a:solidFill>
                <a:latin typeface="Arial"/>
              </a:rPr>
              <a:t>numer orbity (główna liczba kwantowa); n=1,2,3,…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tan podstawo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najniższa energia atomu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tan wzbudzon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stan o energii wyższej od energii stanu podstawowego.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Stan metatrwały („długożyciowy”)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elektron w tym stanie przebywa dużo dłużej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ż w „zwykłym” stanie wzbudzon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pplet;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walter-fendt.de/ph14pl/bohrh_pl.ht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0:34Z</dcterms:created>
  <dc:creator>Ministerstwo Edukacji Narodowej i Sportu</dc:creator>
  <dc:description/>
  <dc:language>en-US</dc:language>
  <cp:lastModifiedBy>Agnieszka</cp:lastModifiedBy>
  <dcterms:modified xsi:type="dcterms:W3CDTF">2013-09-17T11:33:26Z</dcterms:modified>
  <cp:revision>43</cp:revision>
  <dc:subject/>
  <dc:title>KORPUSKULARNO-FALOWA NATURA ŚWIATŁA</dc:title>
</cp:coreProperties>
</file>