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1007-8D11-4FDF-BD42-3BDF2E16E3D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BB24-347E-44C8-A411-990B5179C2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3C50-2153-4CF4-BEC9-4602CA657EB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3091-1FD8-4A90-8AE5-9A16E1C7761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97BC-18D3-4766-A2AC-1845C5D6D9A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CB04-5CC6-4E44-9F07-63573860CD5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B7E1-E5EA-4F68-A4FD-9A92FFACFA7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E031-EE2F-4E54-9315-64ECE882F76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1B46-B7C1-4408-B43F-8C6A92DD487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2408-F3C7-4E23-86DC-A0D3724CED1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F8D6-2A22-4721-B41E-D732B51BEE1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75C0-023F-4E31-9B4D-7EE922FFB19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8E8-94E5-48E3-9951-0A36166B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286-6403-4D2F-9C84-50631F01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690-F742-42B1-919B-F34363379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9B2-24E3-45E7-B7D4-698C8A2F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A9AA-7F4C-44BC-B4C9-89F7F82C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86B0-A62E-4668-8193-2973EF2E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9A1D-336B-462E-B2D9-382F15FB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CD33-D8BC-4EA3-97AF-164EE784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E948-3A7A-4048-9915-0AE8C624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8550-86E5-47B3-8B14-DC17A737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1D44-CBBE-472B-A7DA-1E78137E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5FCD-D718-4528-9CA2-2F67229F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8D6A-FA63-4B0C-87DF-2B41FFF8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6941-CFAC-44C0-9C71-9D3FBFFA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5638-184B-471C-9B26-355500E4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7A0E-3913-4075-8AC6-B20751F3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5C6B-7774-4533-BD0A-CE14B52F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25E-BC3B-4393-BD66-7C7B675E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99D-352E-4E3C-B569-37C75137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842-C5E4-4082-8745-4362EBD5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CB38-E634-479A-BF38-D029D376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4128-5687-4E89-A20A-62A6CDBB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C8B-B46E-471D-B097-3BFF5202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06D-79CA-406B-96B3-9D572839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4B37-2649-4633-8799-CE8155586F5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B0F5-A2A4-45C1-B5AC-0486ADDC0C79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ateriały pochodzenia roślinnego i zwierzęcego używane przez dawnych artyst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dr Elżbieta Ćwio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Egipt i malowidła z grobowc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raz 4" descr="malowidło przedstawiające polowanie na dzikie ptactwo.jpg"/>
          <p:cNvPicPr/>
          <p:nvPr/>
        </p:nvPicPr>
        <p:blipFill>
          <a:blip r:embed="rId1"/>
          <a:stretch/>
        </p:blipFill>
        <p:spPr>
          <a:xfrm>
            <a:off x="755640" y="1484280"/>
            <a:ext cx="3816360" cy="4811760"/>
          </a:xfrm>
          <a:prstGeom prst="rect">
            <a:avLst/>
          </a:prstGeom>
          <a:ln w="0">
            <a:noFill/>
          </a:ln>
        </p:spPr>
      </p:pic>
      <p:sp>
        <p:nvSpPr>
          <p:cNvPr id="119" name="pole tekstowe 5"/>
          <p:cNvSpPr/>
          <p:nvPr/>
        </p:nvSpPr>
        <p:spPr>
          <a:xfrm>
            <a:off x="4716360" y="2565360"/>
            <a:ext cx="4032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lowanie na ptaki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54061"/>
                </a:solidFill>
                <a:latin typeface="Calibri"/>
              </a:rPr>
              <a:t>http://goniec.com/upload/Kalendarium/kalendarium-647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łynne malowidło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„Gęsi z Meidum”datowane na około 2500 r.p.n.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4" descr="http://www.egiptoaldescubierto.com/mapa/meidum/meidum-ocas.jpg"/>
          <p:cNvPicPr/>
          <p:nvPr/>
        </p:nvPicPr>
        <p:blipFill>
          <a:blip r:embed="rId1"/>
          <a:stretch/>
        </p:blipFill>
        <p:spPr>
          <a:xfrm>
            <a:off x="2195640" y="2327400"/>
            <a:ext cx="4709880" cy="290196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3"/>
          <p:cNvSpPr/>
          <p:nvPr/>
        </p:nvSpPr>
        <p:spPr>
          <a:xfrm>
            <a:off x="468360" y="5445000"/>
            <a:ext cx="82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54061"/>
                </a:solidFill>
                <a:latin typeface="Calibri"/>
              </a:rPr>
              <a:t>http://upload.wikimedia.org/wikipedia/commons/9/9e/Meidum_geese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ęś nil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ole tekstowe 2"/>
          <p:cNvSpPr/>
          <p:nvPr/>
        </p:nvSpPr>
        <p:spPr>
          <a:xfrm>
            <a:off x="324000" y="1989000"/>
            <a:ext cx="820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Historycy sztuki podkreślają w tym malowidle nie tylko dobór kolorów, tonowanie barw, ale także precyzję, z jaką autor przedstawia gęś nilową (rysunek mógłby ilustrować podręczniki zoologii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wniki naturalne, tlenki żelaza, malachit, azury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ole tekstowe 1"/>
          <p:cNvSpPr/>
          <p:nvPr/>
        </p:nvSpPr>
        <p:spPr>
          <a:xfrm>
            <a:off x="468360" y="907920"/>
            <a:ext cx="8207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tarożytności używano związków barwiących, pochodzenia roślinnego i zwierzęcego, około 4000 lat p.n.e. w Chinach barwiono jedwab, np. zielenią chińsk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starożytnym Egipcie z roślin uzyskiwano np. indy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Fenicjanie, bazując na wiedzy od Egipcjan, używali purpury tyrskiej (barwnika zwierzęcego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zależnie rozwijała się zgłębianie tajników barwienia na kontynentach Ameryk (kultury peruwiańska i meksykańsk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rostokąt 1"/>
          <p:cNvSpPr/>
          <p:nvPr/>
        </p:nvSpPr>
        <p:spPr>
          <a:xfrm>
            <a:off x="539640" y="549360"/>
            <a:ext cx="7561440" cy="1008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ARWNIKI NATUR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rostokąt 2"/>
          <p:cNvSpPr/>
          <p:nvPr/>
        </p:nvSpPr>
        <p:spPr>
          <a:xfrm>
            <a:off x="539640" y="2637000"/>
            <a:ext cx="3095640" cy="3240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chodzenia roślin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(omówione zostaną oznaczone*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rostokąt 3"/>
          <p:cNvSpPr/>
          <p:nvPr/>
        </p:nvSpPr>
        <p:spPr>
          <a:xfrm>
            <a:off x="5003640" y="2637000"/>
            <a:ext cx="3024360" cy="3240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chodzenia zwierzęc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9" name="Łącznik prosty ze strzałką 5"/>
          <p:cNvCxnSpPr/>
          <p:nvPr/>
        </p:nvCxnSpPr>
        <p:spPr>
          <a:xfrm flipH="1">
            <a:off x="1907640" y="1700280"/>
            <a:ext cx="936000" cy="721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Łącznik prosty ze strzałką 6"/>
          <p:cNvCxnSpPr/>
          <p:nvPr/>
        </p:nvCxnSpPr>
        <p:spPr>
          <a:xfrm>
            <a:off x="5940000" y="1700280"/>
            <a:ext cx="872280" cy="72144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rostokąt 1"/>
          <p:cNvSpPr/>
          <p:nvPr/>
        </p:nvSpPr>
        <p:spPr>
          <a:xfrm>
            <a:off x="468360" y="549360"/>
            <a:ext cx="8207280" cy="561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000000"/>
                </a:solidFill>
                <a:uFillTx/>
                <a:latin typeface="Calibri"/>
              </a:rPr>
              <a:t>Nazwa gatunkowa – barwni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Alkanna tinctori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- alkanina (czerwo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Rubia tinctori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Marzanna barwiersk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)- rubilina* (czerwono-niebiesk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Curcuma long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- kurkumina (żół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Caesalpinia echinat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- brazil (czerwo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Indigofera tinctori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- indygo (niebiesk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1"/>
          <p:cNvSpPr/>
          <p:nvPr/>
        </p:nvSpPr>
        <p:spPr>
          <a:xfrm>
            <a:off x="468360" y="620640"/>
            <a:ext cx="8280360" cy="5761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Lawsonia inermis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- henna (brunatny)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Bixa orellana - anatto/orlean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pomarańczowy/fioletow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Phytolacca american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- alkiermes (szkarłatn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Alcea rosea - malwidyn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purpurow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Hematoxylum  campechianum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hematoksylina (fioletowoczarny) 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Indygo – barwnik niebiesk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s://encrypted-tbn0.gstatic.com/images?q=tbn:ANd9GcRtXPXteZUM88hAUeO4-I4LP9HEQs1-FfGK1SqxVRskP8F6zkUUaw"/>
          <p:cNvPicPr/>
          <p:nvPr/>
        </p:nvPicPr>
        <p:blipFill>
          <a:blip r:embed="rId1"/>
          <a:stretch/>
        </p:blipFill>
        <p:spPr>
          <a:xfrm>
            <a:off x="422280" y="1628640"/>
            <a:ext cx="2225520" cy="4608720"/>
          </a:xfrm>
          <a:prstGeom prst="rect">
            <a:avLst/>
          </a:prstGeom>
          <a:ln w="0">
            <a:noFill/>
          </a:ln>
        </p:spPr>
      </p:pic>
      <p:sp>
        <p:nvSpPr>
          <p:cNvPr id="135" name="Prostokąt 3"/>
          <p:cNvSpPr/>
          <p:nvPr/>
        </p:nvSpPr>
        <p:spPr>
          <a:xfrm>
            <a:off x="611280" y="5950080"/>
            <a:ext cx="62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upload.wikimedia.org/wikipedia/commons/3/3e/Indigofera_tinctoria_Blanco1.163-cropped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ole tekstowe 4"/>
          <p:cNvSpPr/>
          <p:nvPr/>
        </p:nvSpPr>
        <p:spPr>
          <a:xfrm>
            <a:off x="3915000" y="2349360"/>
            <a:ext cx="366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chodzi z indygow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Indigofera tinctoria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rwnik purpurow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ole tekstowe 4"/>
          <p:cNvSpPr/>
          <p:nvPr/>
        </p:nvSpPr>
        <p:spPr>
          <a:xfrm>
            <a:off x="3873600" y="2349360"/>
            <a:ext cx="479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chodzi z marzann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arwierskiej (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Rubia tinctorum.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Rubia tinctorum - Köhler–s Medizinal-Pflanzen-123.jpg"/>
          <p:cNvPicPr/>
          <p:nvPr/>
        </p:nvPicPr>
        <p:blipFill>
          <a:blip r:embed="rId1"/>
          <a:stretch/>
        </p:blipFill>
        <p:spPr>
          <a:xfrm>
            <a:off x="539640" y="1628640"/>
            <a:ext cx="3102120" cy="4032360"/>
          </a:xfrm>
          <a:prstGeom prst="rect">
            <a:avLst/>
          </a:prstGeom>
          <a:ln w="0">
            <a:noFill/>
          </a:ln>
        </p:spPr>
      </p:pic>
      <p:sp>
        <p:nvSpPr>
          <p:cNvPr id="140" name="Prostokąt 6"/>
          <p:cNvSpPr/>
          <p:nvPr/>
        </p:nvSpPr>
        <p:spPr>
          <a:xfrm>
            <a:off x="755640" y="551664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upload.wikimedia.org/wikipedia/commons/9/9b/Rubia_tinctorum_-_K%C3%B6hler%E2%80%93s_Medizinal-Pflanzen-123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rwnik fioleto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aematoxylum campechianum Ypey69.jpg"/>
          <p:cNvPicPr/>
          <p:nvPr/>
        </p:nvPicPr>
        <p:blipFill>
          <a:blip r:embed="rId1"/>
          <a:stretch/>
        </p:blipFill>
        <p:spPr>
          <a:xfrm>
            <a:off x="539640" y="1413000"/>
            <a:ext cx="2664000" cy="4305240"/>
          </a:xfrm>
          <a:prstGeom prst="rect">
            <a:avLst/>
          </a:prstGeom>
          <a:ln w="0">
            <a:noFill/>
          </a:ln>
        </p:spPr>
      </p:pic>
      <p:sp>
        <p:nvSpPr>
          <p:cNvPr id="143" name="Prostokąt 4"/>
          <p:cNvSpPr/>
          <p:nvPr/>
        </p:nvSpPr>
        <p:spPr>
          <a:xfrm>
            <a:off x="250920" y="573264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upload.wikimedia.org/wikipedia/commons/8/8e/Haematoxylum_campechianum_Ypey69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ole tekstowe 5"/>
          <p:cNvSpPr/>
          <p:nvPr/>
        </p:nvSpPr>
        <p:spPr>
          <a:xfrm>
            <a:off x="3728160" y="2349360"/>
            <a:ext cx="497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Hematoksylon)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Haematoxylum campechianum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07552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uga część tematu: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lastynaty: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zieło sztuki i lekcja anatomii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Barwnik brunatny (henna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t2.gstatic.com/images?q=tbn:ANd9GcTBYoT7Hmm0sxr9IRZC6ZgmzzOQwovYkdgDBoD1ISlR4pKbWerC"/>
          <p:cNvPicPr/>
          <p:nvPr/>
        </p:nvPicPr>
        <p:blipFill>
          <a:blip r:embed="rId1"/>
          <a:stretch/>
        </p:blipFill>
        <p:spPr>
          <a:xfrm>
            <a:off x="561960" y="1557360"/>
            <a:ext cx="2629080" cy="4751280"/>
          </a:xfrm>
          <a:prstGeom prst="rect">
            <a:avLst/>
          </a:prstGeom>
          <a:ln w="0">
            <a:noFill/>
          </a:ln>
        </p:spPr>
      </p:pic>
      <p:sp>
        <p:nvSpPr>
          <p:cNvPr id="147" name="pole tekstowe 3"/>
          <p:cNvSpPr/>
          <p:nvPr/>
        </p:nvSpPr>
        <p:spPr>
          <a:xfrm>
            <a:off x="3727800" y="2349360"/>
            <a:ext cx="435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chodzi z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Lawsonia inerm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Lawsonia bezbron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rostokąt 4"/>
          <p:cNvSpPr/>
          <p:nvPr/>
        </p:nvSpPr>
        <p:spPr>
          <a:xfrm>
            <a:off x="250920" y="6165720"/>
            <a:ext cx="83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http://upload.wikimedia.org/wikipedia/commons/1/15/Lawsonia_inermis_Ypey36.jp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rostokąt 1"/>
          <p:cNvSpPr/>
          <p:nvPr/>
        </p:nvSpPr>
        <p:spPr>
          <a:xfrm>
            <a:off x="468360" y="620640"/>
            <a:ext cx="8064360" cy="5761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arwniki pochodzenia zwierzęceg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koszenila np. z czerwca polskiego (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Porphyrophora polon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urpura tyryjska z rozkolcó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epia, z mątw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gromne zapotrzebowanie na  barwniki naturalne  - XV do XVIII 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ole tekstowe 2"/>
          <p:cNvSpPr/>
          <p:nvPr/>
        </p:nvSpPr>
        <p:spPr>
          <a:xfrm>
            <a:off x="395280" y="2133720"/>
            <a:ext cx="806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apotrzebowanie wpłynęło na rozwój handlu, do Europy importowane były barwniki z całego świ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Już w  XV wieku produkowano z czerwca polskiego (pluskwiak</a:t>
            </a:r>
            <a:r>
              <a:rPr b="1" i="1" lang="pl-PL" sz="2800" spc="-1" strike="noStrike">
                <a:solidFill>
                  <a:srgbClr val="000000"/>
                </a:solidFill>
                <a:latin typeface="Calibri"/>
              </a:rPr>
              <a:t> Porphyrophora polonica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), trwały, czerwony barwnik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literaturze istnieje wiele doniesień, na temat, jak eksport czerwca wpłynął na gospodarkę Rzeczypospolitej, do końca XVI wie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erwiec trwały to roślina żywicielska</a:t>
            </a:r>
            <a:r>
              <a:rPr b="0" i="1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luskwiaka (</a:t>
            </a:r>
            <a:r>
              <a:rPr b="0" i="1" lang="pl-PL" sz="4400" spc="-1" strike="noStrike">
                <a:solidFill>
                  <a:srgbClr val="000000"/>
                </a:solidFill>
                <a:latin typeface="Calibri"/>
              </a:rPr>
              <a:t>Porphyrophora polonic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zerwiec trwa&amp;lstrok;y- ro&amp;sacute;lina &amp;zdot;ywicielska pluskwiaka czerwca polskiego/ &amp;Zacute;ród&amp;lstrok;o: Wikipedia"/>
          <p:cNvPicPr/>
          <p:nvPr/>
        </p:nvPicPr>
        <p:blipFill>
          <a:blip r:embed="rId1"/>
          <a:stretch/>
        </p:blipFill>
        <p:spPr>
          <a:xfrm>
            <a:off x="549360" y="2492280"/>
            <a:ext cx="3951360" cy="3168720"/>
          </a:xfrm>
          <a:prstGeom prst="rect">
            <a:avLst/>
          </a:prstGeom>
          <a:ln w="0">
            <a:noFill/>
          </a:ln>
        </p:spPr>
      </p:pic>
      <p:sp>
        <p:nvSpPr>
          <p:cNvPr id="154" name="Prostokąt 3"/>
          <p:cNvSpPr/>
          <p:nvPr/>
        </p:nvSpPr>
        <p:spPr>
          <a:xfrm>
            <a:off x="395280" y="5877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zycieaklimat.edu.pl/_img/_pictures/1295.jpe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upload.wikimedia.org/wikipedia/commons/5/59/Polish_cochineal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Czerwce na czerwcu/ &amp;Zacute;ród&amp;lstrok;o: Wikipedia"/>
          <p:cNvPicPr/>
          <p:nvPr/>
        </p:nvPicPr>
        <p:blipFill>
          <a:blip r:embed="rId2"/>
          <a:stretch/>
        </p:blipFill>
        <p:spPr>
          <a:xfrm>
            <a:off x="5076720" y="2492280"/>
            <a:ext cx="33829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000000"/>
                </a:solidFill>
                <a:latin typeface="Calibri"/>
              </a:rPr>
              <a:t>W czerwcu czerwce na czerwcu…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(a z larw barwnik czerwony- koszenil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ole tekstowe 2"/>
          <p:cNvSpPr/>
          <p:nvPr/>
        </p:nvSpPr>
        <p:spPr>
          <a:xfrm>
            <a:off x="395280" y="2349360"/>
            <a:ext cx="8426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słowie to sformułowano gdy czerwce, pozyskane przez zbieraczy do św. Jana, zanim doszło do wykształcenia  postaci dorosłej owada, były jednym z ważniejszych towarów eksportowanych, obok soli, drewna, bursztyn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z tańszą i dającą trwalszą barwę, koszenilę z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Dactylopius cacti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(żerującego na opuncjach w Meksyku), importowaną do Europy, handel polskim czerwcem załamał si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ole tekstowe 1"/>
          <p:cNvSpPr/>
          <p:nvPr/>
        </p:nvSpPr>
        <p:spPr>
          <a:xfrm>
            <a:off x="468360" y="371628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urpurowiec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(szkarłatnik,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Purpura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), (PWN) rodzaj przodoskrzelnych  ślimaków; muszla z kolcami, ozdobna; drapieżny; w czasach starożytnych otrzymywano z wydzieliny gruczołu śluzowego cenny barwnik — purpur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s://encrypted-tbn2.gstatic.com/images?q=tbn:ANd9GcR36u1FUkfY0ilaOlw9A_rq_IACbJ6oVM6Iy2FkyaFJ6IhqC25G"/>
          <p:cNvPicPr/>
          <p:nvPr/>
        </p:nvPicPr>
        <p:blipFill>
          <a:blip r:embed="rId1"/>
          <a:stretch/>
        </p:blipFill>
        <p:spPr>
          <a:xfrm>
            <a:off x="611280" y="620640"/>
            <a:ext cx="3889440" cy="3432240"/>
          </a:xfrm>
          <a:prstGeom prst="rect">
            <a:avLst/>
          </a:prstGeom>
          <a:ln w="0">
            <a:noFill/>
          </a:ln>
        </p:spPr>
      </p:pic>
      <p:sp>
        <p:nvSpPr>
          <p:cNvPr id="160" name="Prostokąt 3"/>
          <p:cNvSpPr/>
          <p:nvPr/>
        </p:nvSpPr>
        <p:spPr>
          <a:xfrm>
            <a:off x="4572000" y="2781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http://www.gastropods.com/Shell_Images/A-B/Bolinus_brandaris_nivea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rostokąt 4"/>
          <p:cNvSpPr/>
          <p:nvPr/>
        </p:nvSpPr>
        <p:spPr>
          <a:xfrm>
            <a:off x="4716360" y="692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austellum  branda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pia barwnik z woreczka czernidłowego mątwy (Sepi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http://digital-photography-school.com/wp-content/uploads/2009/03/sepia-image-1.jpg"/>
          <p:cNvPicPr/>
          <p:nvPr/>
        </p:nvPicPr>
        <p:blipFill>
          <a:blip r:embed="rId1"/>
          <a:stretch/>
        </p:blipFill>
        <p:spPr>
          <a:xfrm>
            <a:off x="428760" y="2421000"/>
            <a:ext cx="4647960" cy="3487680"/>
          </a:xfrm>
          <a:prstGeom prst="rect">
            <a:avLst/>
          </a:prstGeom>
          <a:ln w="0">
            <a:noFill/>
          </a:ln>
        </p:spPr>
      </p:pic>
      <p:sp>
        <p:nvSpPr>
          <p:cNvPr id="164" name="Prostokąt 3"/>
          <p:cNvSpPr/>
          <p:nvPr/>
        </p:nvSpPr>
        <p:spPr>
          <a:xfrm>
            <a:off x="5292720" y="5084640"/>
            <a:ext cx="38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digital-photography-school.com/wp-content/uploads/2009/03/sepia-image-1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ruga połowa XIX wieku – rozwój chemii i barwników syntetyczny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ole tekstowe 2"/>
          <p:cNvSpPr/>
          <p:nvPr/>
        </p:nvSpPr>
        <p:spPr>
          <a:xfrm>
            <a:off x="2843280" y="2421000"/>
            <a:ext cx="5756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den z pierwszych barwników syntetycznych, fuksy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dkryty przez Polaka, Jakuba Natansona, nadaje nowy bi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barwieni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Drogie barwniki naturalne, których zawartość w materiale biologicznym jest niewielka – zastępują syntetycz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Jakub Natanson"/>
          <p:cNvPicPr/>
          <p:nvPr/>
        </p:nvPicPr>
        <p:blipFill>
          <a:blip r:embed="rId1"/>
          <a:stretch/>
        </p:blipFill>
        <p:spPr>
          <a:xfrm>
            <a:off x="468360" y="2349360"/>
            <a:ext cx="201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becnie barwniki naturalne są stosowane do barwienia żywności, leków, kosmety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ole tekstowe 2"/>
          <p:cNvSpPr/>
          <p:nvPr/>
        </p:nvSpPr>
        <p:spPr>
          <a:xfrm>
            <a:off x="468360" y="3068640"/>
            <a:ext cx="74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zatem rozszyfrujmy kilka „niepokojących” konsumentów, skrótó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100  kukurm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101  ryboflaw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120  koszeni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140  chlorof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E160a  naturalny karo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0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Podczas omawiania barwników naturalnych, poruszono tematykę  przedstawiania zwierząt w malarstwie, a w kolejnych epokach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 także człowie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ole tekstowe 1"/>
          <p:cNvSpPr/>
          <p:nvPr/>
        </p:nvSpPr>
        <p:spPr>
          <a:xfrm>
            <a:off x="395280" y="126828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Otoczenie człowieka jest związane z obfitością barw, które go fascynowały i próbował ich używać do barwienia tkanin, ale i do malowa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chowane do naszych czasów malowidła naskalne budzą podziw, nie tylko ze względu na piękno i wierność, z jaką oddają otoczenie człowieka, ale także z powodu trwałości kolorów, zachowanych przez tysiące l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Rembrant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„Lekcja anatomii doktora Tulpa”(163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4" descr="Lekcja anatomii  doktora Tulpa - Rembrandt"/>
          <p:cNvPicPr/>
          <p:nvPr/>
        </p:nvPicPr>
        <p:blipFill>
          <a:blip r:embed="rId1"/>
          <a:stretch/>
        </p:blipFill>
        <p:spPr>
          <a:xfrm>
            <a:off x="1835280" y="1773360"/>
            <a:ext cx="5113080" cy="3833640"/>
          </a:xfrm>
          <a:prstGeom prst="rect">
            <a:avLst/>
          </a:prstGeom>
          <a:ln w="0">
            <a:noFill/>
          </a:ln>
        </p:spPr>
      </p:pic>
      <p:sp>
        <p:nvSpPr>
          <p:cNvPr id="173" name="Prostokąt 5"/>
          <p:cNvSpPr/>
          <p:nvPr/>
        </p:nvSpPr>
        <p:spPr>
          <a:xfrm>
            <a:off x="539640" y="5877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www.magazynsztuki.pl/wp-content/uploads/2012/10/Rembrandt_Lekcja-anatomii-doktora-Tulpa-300x225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ascynacja anatomią – pokazy publiczne sekcji zwł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ole tekstowe 2"/>
          <p:cNvSpPr/>
          <p:nvPr/>
        </p:nvSpPr>
        <p:spPr>
          <a:xfrm>
            <a:off x="395280" y="206064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ekcje zwłok w XVII wieku traktowane były jako sensacyjne wydarzeni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na było na sekcję kupić bilety. Sala, w której odbywały się sekcje nazywana była Theatrum Anatomicum co świadczy o rozrywkowym charakterze wydarzen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przychodzono tam dla zdobycia szerokiej wiedz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Katedra Anatomii Collegium Medicum  UJ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w Krakowie, oznaczony napis nad wejściem: THEATRUM  ANATOMIC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http://www.katedra-anatomii.cm-uj.krakow.pl/sites/default/files/sky_logo.jpg"/>
          <p:cNvPicPr/>
          <p:nvPr/>
        </p:nvPicPr>
        <p:blipFill>
          <a:blip r:embed="rId1"/>
          <a:srcRect l="31967" t="27859" r="28243" b="4827"/>
          <a:stretch/>
        </p:blipFill>
        <p:spPr>
          <a:xfrm>
            <a:off x="900000" y="2421000"/>
            <a:ext cx="7417080" cy="3672000"/>
          </a:xfrm>
          <a:prstGeom prst="rect">
            <a:avLst/>
          </a:prstGeom>
          <a:ln w="0">
            <a:noFill/>
          </a:ln>
        </p:spPr>
      </p:pic>
      <p:sp>
        <p:nvSpPr>
          <p:cNvPr id="178" name="Elipsa 3"/>
          <p:cNvSpPr/>
          <p:nvPr/>
        </p:nvSpPr>
        <p:spPr>
          <a:xfrm>
            <a:off x="2771640" y="3573360"/>
            <a:ext cx="3240360" cy="93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9" name="Łącznik prosty ze strzałką 5"/>
          <p:cNvCxnSpPr/>
          <p:nvPr/>
        </p:nvCxnSpPr>
        <p:spPr>
          <a:xfrm flipH="1">
            <a:off x="5508000" y="3068280"/>
            <a:ext cx="432360" cy="5770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0" name="pole tekstowe 6"/>
          <p:cNvSpPr/>
          <p:nvPr/>
        </p:nvSpPr>
        <p:spPr>
          <a:xfrm>
            <a:off x="269640" y="6093000"/>
            <a:ext cx="881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http://upload.wikimedia.org/wikipedia/commons/0/0d/Department_of_Anatomy,_Faculty_of_Medicine,_Jagiellonian_University_%28Theatrum_Anatomicum%29,_12_Kopernika_street,_Krakow,_Poland_.jp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ole tekstowe 2"/>
          <p:cNvSpPr/>
          <p:nvPr/>
        </p:nvSpPr>
        <p:spPr>
          <a:xfrm>
            <a:off x="324000" y="620640"/>
            <a:ext cx="7880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XX wieku sekcje zwłok są przeprowadzane wyłącznie dla ścisłego grona osób zainteresowanych, lekarzy, studentów medycy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ednak w latach 90., działaniem lekarza niemiecki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uintera von Hagensa, zaczęto pokazywać ludzkie zwłoki poddane tak zwanej metodzie plastynacj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dobnie jak zwierzęta w malowidłach prehistorycznych, przedstawiane są w ruchu, ludzkie ciała poddane plastynacji, układane jako grają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koszykówkę, albo w skoku o tycz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85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d lat 90. można zobaczyć wystawy plastynatów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Kontrowersyjn&amp;aogon; wystaw&amp;eogon; obejrzymy w Krakowie od wtorku"/>
          <p:cNvPicPr/>
          <p:nvPr/>
        </p:nvPicPr>
        <p:blipFill>
          <a:blip r:embed="rId1"/>
          <a:stretch/>
        </p:blipFill>
        <p:spPr>
          <a:xfrm>
            <a:off x="1403280" y="1844640"/>
            <a:ext cx="6337440" cy="4092480"/>
          </a:xfrm>
          <a:prstGeom prst="rect">
            <a:avLst/>
          </a:prstGeom>
          <a:ln w="0">
            <a:noFill/>
          </a:ln>
        </p:spPr>
      </p:pic>
      <p:sp>
        <p:nvSpPr>
          <p:cNvPr id="184" name="Prostokąt 5"/>
          <p:cNvSpPr/>
          <p:nvPr/>
        </p:nvSpPr>
        <p:spPr>
          <a:xfrm>
            <a:off x="1727280" y="6021360"/>
            <a:ext cx="57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d.naszemiasto.pl/k/r/b3/02/5138f8796b882_g1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metodzie plastynacji </a:t>
            </a:r>
            <a:br>
              <a:rPr sz="4400"/>
            </a:br>
            <a:br>
              <a:rPr sz="4400"/>
            </a:br>
            <a:r>
              <a:rPr b="0" lang="pl-PL" sz="3200" spc="-1" strike="noStrike">
                <a:solidFill>
                  <a:srgbClr val="376092"/>
                </a:solidFill>
                <a:latin typeface="Calibri"/>
              </a:rPr>
              <a:t>dla licealistów doktor n.med. Wiesława Klimek – Piotrowska z Zakładu Anatomii Collegium Medicum Uniwersytetu Jagielloński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ole tekstowe 3"/>
          <p:cNvSpPr/>
          <p:nvPr/>
        </p:nvSpPr>
        <p:spPr>
          <a:xfrm>
            <a:off x="539640" y="3357720"/>
            <a:ext cx="828036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lastynacja jest bardzo kosztowną metodą konserwacji zwłok polegającą na zastąpieniu wody w tkankach przez silikon a następnie na utwardzeniu tych tkane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O plastynacji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r n. med. W. Klimek – Piotrowsk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rostokąt 2"/>
          <p:cNvSpPr/>
          <p:nvPr/>
        </p:nvSpPr>
        <p:spPr>
          <a:xfrm>
            <a:off x="324000" y="2205000"/>
            <a:ext cx="82803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włoki ludzkie czy zwierzęce oraz izolowane narządy, po utrwaleniu tą metodą wyglądają jak sztuczne, plastikowe ekspona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ed przystąpieniem do plastynacji zwłoki muszą być utrwalone w formalnie i wypreparowane tzn. mają mieć wygląd końcowego eksponat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ole tekstowe 1"/>
          <p:cNvSpPr/>
          <p:nvPr/>
        </p:nvSpPr>
        <p:spPr>
          <a:xfrm>
            <a:off x="324000" y="836640"/>
            <a:ext cx="8208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Zdaniem twórców plastynacji jest ona metodą utrwalenia pozwalającą na edukację szerokiego grona odbiorców a nie tylko studentów medycyn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Calibri"/>
              </a:rPr>
              <a:t>Często zadawane pytanie: czy plastynat jest wystarczającym źródłem wiedzy dla studentów medycyny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go typu eksponaty mogą być jedynie uzupełnieniem w drodze do zgłębienia tajników budowy ludzkiego ciał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395280" y="718200"/>
            <a:ext cx="8389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udent medycyny celem osiągnięcia odpowiedniego poziomu wiedzy anatomicznej musi, jak to będzie później robił podczas operacji, powoli wchodzić warstwa po warstwie aby dotrzeć do źródła chorob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usi się nauczyć, aby potem wiedzieć co po drodze może spotkać. Takiej wiedzy nie można posiąść oglądaniem plastynatów. Autopsji nie da się zastąpić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lastynacja nie jest wystarczającym źródłem wiedzy dla studentów medycyn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ole tekstowe 2"/>
          <p:cNvSpPr/>
          <p:nvPr/>
        </p:nvSpPr>
        <p:spPr>
          <a:xfrm>
            <a:off x="395280" y="105264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1"/>
          <p:cNvSpPr/>
          <p:nvPr/>
        </p:nvSpPr>
        <p:spPr>
          <a:xfrm>
            <a:off x="324000" y="861120"/>
            <a:ext cx="806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Calibri"/>
              </a:rPr>
              <a:t>Czy wystawa The Human Body World służy edukacji szerokiego grona odbiorców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iększość ludzi przychodzi na wystawę z potrzeby zaspokojenia ciekawości: jak wygląda to co normalnie jest zakryte, z potrzeby otarcia się o śmierć, z potrzeby silnych przeżyć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pominam, że sekcje zwłok w XVII wieku traktowane były jako sensacyjne wydarzeni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alowidła nask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ole tekstowe 2"/>
          <p:cNvSpPr/>
          <p:nvPr/>
        </p:nvSpPr>
        <p:spPr>
          <a:xfrm>
            <a:off x="574560" y="148428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ostały stosunkowo niedawno, przypadkowo odkryte (1940), malowidła w jaskini Lascaux (Akwitani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Jaskinia Lascaux czyli kultura i sztuka 17000 lat temu"/>
          <p:cNvPicPr/>
          <p:nvPr/>
        </p:nvPicPr>
        <p:blipFill>
          <a:blip r:embed="rId1"/>
          <a:stretch/>
        </p:blipFill>
        <p:spPr>
          <a:xfrm>
            <a:off x="1547640" y="3068640"/>
            <a:ext cx="5596200" cy="2633760"/>
          </a:xfrm>
          <a:prstGeom prst="rect">
            <a:avLst/>
          </a:prstGeom>
          <a:ln w="0">
            <a:noFill/>
          </a:ln>
        </p:spPr>
      </p:pic>
      <p:sp>
        <p:nvSpPr>
          <p:cNvPr id="102" name="pole tekstowe 4"/>
          <p:cNvSpPr/>
          <p:nvPr/>
        </p:nvSpPr>
        <p:spPr>
          <a:xfrm>
            <a:off x="179280" y="580536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76092"/>
                </a:solidFill>
                <a:latin typeface="Calibri"/>
              </a:rPr>
              <a:t>http://www.kultura.banzaj.pl/Jaskinia-Lascaux-czyli-kultura-i-sztuka-17000-lat-temu-40086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"/>
          <p:cNvSpPr/>
          <p:nvPr/>
        </p:nvSpPr>
        <p:spPr>
          <a:xfrm>
            <a:off x="324000" y="524880"/>
            <a:ext cx="83152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76092"/>
                </a:solidFill>
                <a:latin typeface="Calibri"/>
              </a:rPr>
              <a:t>Czy eksponaty z wystawy The Human Body World można nazwać sztuką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Czym jest sztuka? Trudno powiedzieć. Wg Tatarkiewicza jest odtwarzaniem rzeczy, bądź konstruowaniem form, bądź wyrażaniem przeżyć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lastynat nie jest niestety ani odtworzeniem, ani konstruowaniem formy, ani też wyrażaniem przeżyć. Jest natomiast źródłem przeżyć. Czy wszystko, co jest źródłem przeżyć, jest sztuką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parowanie w nauce anatom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ole tekstowe 2"/>
          <p:cNvSpPr/>
          <p:nvPr/>
        </p:nvSpPr>
        <p:spPr>
          <a:xfrm>
            <a:off x="539640" y="1844640"/>
            <a:ext cx="784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parowanie jest najlepszą metodą nauki anatomii danego organizm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c nie zastąpi preparowania. Już aby przeciąć skórę trzeba zgłębić tajniki położenia nerwów i naczyń znajdujących się bezpośrednio pod nią celem uniknięcia ich uszkodzen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parowanie w nauce anatom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ole tekstowe 2"/>
          <p:cNvSpPr/>
          <p:nvPr/>
        </p:nvSpPr>
        <p:spPr>
          <a:xfrm>
            <a:off x="539640" y="184464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 zdjęciu skóry czeka nas usunięcie zmiennej ilości tłuszczowej tkanki podskórnej. Następnie napotykamy białą błonę nazywaną powięzią, która pokrywa wszystkie mięśni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Rozpoczynamy swoją własną wyprawę w głąb badanego ciała, z której widoki pozostaną na zawsze w naszej pamięci. Czytanie o danej okolicy organizmu, jako jedyna forma nauki, nie daje wyobrażenia topograficzneg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parowanie w nauce anatom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ole tekstowe 2"/>
          <p:cNvSpPr/>
          <p:nvPr/>
        </p:nvSpPr>
        <p:spPr>
          <a:xfrm>
            <a:off x="539640" y="1844640"/>
            <a:ext cx="813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parowanie dodaje trójwymiarowości do zdobywanej wiedz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ak uzyskana wiedza pozwala bezpiecznie poruszać się chirurgowi w polu operacyjnym bo on wtedy wie gdzie jest i co tam jest nawet jak tego nie widać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ie ma lepszej metody na naukę anatomi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parowanie, utrwalanie,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preparaty biologiczne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romadzone dziesiątki l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ole tekstowe 2"/>
          <p:cNvSpPr/>
          <p:nvPr/>
        </p:nvSpPr>
        <p:spPr>
          <a:xfrm>
            <a:off x="324000" y="2708280"/>
            <a:ext cx="820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o wypreparowaniu tkanki i narządy zostają utrwalone, na przykład w formalinie (roztwór wodny formaldehydu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Objętość formaliny w pojemniku powinna być 10 razy większa od objętości preparatu co, zapewnia dobre utrwalenie. Preparaty formalinowe (preparaty mokre) mogą być przechowywane wiele l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uzea gromadzące preparaty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w Polsce i na świe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rostokąt 3"/>
          <p:cNvSpPr/>
          <p:nvPr/>
        </p:nvSpPr>
        <p:spPr>
          <a:xfrm>
            <a:off x="395280" y="1844640"/>
            <a:ext cx="828036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Polsce to między innymi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uzeum Katedry Anatomii Collegium Medicum Uniwersytetu Jagiellońskiego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– największe i najstarsze w Polsce muzeum anatomii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uzeum Człowieka w Paryż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uzeum Antropologii i Etnografii w Petersburg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uzeum Anatomiczne przy Katedrze Anatomii Prawidłowej w Charkowie, (gdzie zabalsamowano zwłoki Lenin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uzealnictwo anatomiczne jest związane z nauczaniem anatomii (antropologii), zoologii, histologii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ole tekstowe 2"/>
          <p:cNvSpPr/>
          <p:nvPr/>
        </p:nvSpPr>
        <p:spPr>
          <a:xfrm>
            <a:off x="324000" y="3284640"/>
            <a:ext cx="849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Muzeum Historii Naturalnej w Wiedniu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gą odbywać się zajęcia z biologii (z różnych dziedzin tej nauki). Po uprzednim uzgodnieniu tematyki, asystenc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zygotowują preparaty i materiały dydaktyczne, zajęc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ożliwe w np. języku angielskim, niemieckim dla młodzieży z całego świ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alowidła naskal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grota lascaux 1"/>
          <p:cNvPicPr/>
          <p:nvPr/>
        </p:nvPicPr>
        <p:blipFill>
          <a:blip r:embed="rId1"/>
          <a:srcRect l="0" t="10914" r="0" b="0"/>
          <a:stretch/>
        </p:blipFill>
        <p:spPr>
          <a:xfrm>
            <a:off x="1044720" y="1484280"/>
            <a:ext cx="6840360" cy="4118040"/>
          </a:xfrm>
          <a:prstGeom prst="rect">
            <a:avLst/>
          </a:prstGeom>
          <a:ln w="0">
            <a:noFill/>
          </a:ln>
        </p:spPr>
      </p:pic>
      <p:sp>
        <p:nvSpPr>
          <p:cNvPr id="105" name="Prostokąt 4"/>
          <p:cNvSpPr/>
          <p:nvPr/>
        </p:nvSpPr>
        <p:spPr>
          <a:xfrm>
            <a:off x="324000" y="609300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76092"/>
                </a:solidFill>
                <a:latin typeface="Calibri"/>
              </a:rPr>
              <a:t>http://www.kultura.banzaj.pl/Jaskinia-Lascaux-czyli-kultura-i-sztuka-17000-lat-temu-40086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zieła, jakie można tam zobaczyć, zostały namalowane około 15000-13000 r. p.n.e., czyli aż 17000 lat temu (kultura magdaleńs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rostokąt 3"/>
          <p:cNvSpPr/>
          <p:nvPr/>
        </p:nvSpPr>
        <p:spPr>
          <a:xfrm>
            <a:off x="179280" y="59500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76092"/>
                </a:solidFill>
                <a:latin typeface="Calibri"/>
              </a:rPr>
              <a:t>http://www.kultura.banzaj.pl/Jaskinia-Lascaux-czyli-kultura-i-sztuka-17000-lat-temu-40086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Obraz 4" descr="grota_lascaux_3.jpg"/>
          <p:cNvPicPr/>
          <p:nvPr/>
        </p:nvPicPr>
        <p:blipFill>
          <a:blip r:embed="rId1"/>
          <a:stretch/>
        </p:blipFill>
        <p:spPr>
          <a:xfrm>
            <a:off x="2484360" y="2565360"/>
            <a:ext cx="42721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Lascaux – korytarze jaskini </a:t>
            </a: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o długości 150 metrów, pokryte malowidła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ole tekstowe 2"/>
          <p:cNvSpPr/>
          <p:nvPr/>
        </p:nvSpPr>
        <p:spPr>
          <a:xfrm>
            <a:off x="468360" y="2349360"/>
            <a:ext cx="7991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Malowidła przedstawiają głównie zwierzęta (byki, konie, bizony, krowy, jelenie, koziorożce, a także koty). Sceny polowań lub walk. Wszystkie zwierzęta ukazane są w ruch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zadziej portretowani przez naszych praprzodków byli ludzi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Jakim barwikiem malowan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ole tekstowe 2"/>
          <p:cNvSpPr/>
          <p:nvPr/>
        </p:nvSpPr>
        <p:spPr>
          <a:xfrm>
            <a:off x="539640" y="1700280"/>
            <a:ext cx="727236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Farby z węgla drzewnego (kolory ciemne, czarny), a także mineralne, ze związków żelaza (kolory żółte i czerwo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aliza chemiczna próbek poszczególnych kolorów wykazała, że do wyrobu barwników używano głównie surowców pochodzenia mineralnego.</a:t>
            </a:r>
            <a:br>
              <a:rPr sz="3200"/>
            </a:br>
            <a:r>
              <a:rPr b="0" lang="pl-PL" sz="1600" spc="-1" strike="noStrike">
                <a:solidFill>
                  <a:srgbClr val="376092"/>
                </a:solidFill>
                <a:latin typeface="Calibri"/>
              </a:rPr>
              <a:t>(http://www.keap.umk.pl/index.ph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pajanie barwn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ole tekstowe 2"/>
          <p:cNvSpPr/>
          <p:nvPr/>
        </p:nvSpPr>
        <p:spPr>
          <a:xfrm>
            <a:off x="324000" y="184464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ubstancję spajającą barwnik wytwarzano między innymi z: wody, krwi, białka, szpiku kostnego, ptasiego guana, karuku (z wygotowanych części pęcherzy rybnych) oraz mocz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xika</cp:lastModifiedBy>
  <dcterms:modified xsi:type="dcterms:W3CDTF">2013-10-11T20:59:01Z</dcterms:modified>
  <cp:revision>40</cp:revision>
  <dc:subject/>
  <dc:title>Slajd 1</dc:title>
</cp:coreProperties>
</file>