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4759-A454-4923-A3A5-60A99ADA670C}"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ED2C-2D15-414C-9B36-F044B5C56CB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6E592-E3F9-4EEA-8857-4CFB5F9AB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40C3F-D9E0-43B7-B194-601F733A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D07C0-823B-481F-BACC-43C0606FF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09F99-E752-4C9E-8D90-CC87AE14B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F7DE95-6EF3-413D-B508-4AACF5D6E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C5AF0-5742-4E11-9EE0-B0AA6F3E21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09067E-8BD9-4C8F-8137-0D7DA5D7E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1BFEC-FFD6-4496-8D7A-139EE49C8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E41C4-30A5-4F6F-A008-0CE4B6993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98601-F737-4517-AFC6-1954A28E1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2150A-BE39-48F1-AFE3-6ABE04DF8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E542-CE9A-448B-B0FD-6E9AC1CDA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1371C-0986-44F1-9A4D-F20A71201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8EFB-36CD-4B1D-BBBC-C5B106F68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5C6595-3F7A-47A1-B773-735449861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172D5-D25D-4CCF-BA8B-0D35EA935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40C2E-E32F-4AC9-82DA-B0B454632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C555-28B2-4A71-B290-DD4314B41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486C1-CB74-4FC8-904B-3DE81F490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6917A-E6AA-4ABA-B8F8-5CCCF193F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53338-FF11-4B80-862D-E32A35AEF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98F6-0FD9-4724-8F53-9DF7A0F99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8FE7-A31B-47FA-9AA9-9DEBF547D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BE370-434A-48CC-98E0-63B07083E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A2BF7-BF98-4E71-8B50-7E1D7A7BB0EB}"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33342-A9D8-42F5-AF74-9F7903BEA6D7}"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edyczny-poznan.pl/artykul/mikromacierze-pokazuja-tajemnice-naszego-dna-176.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pfb.info.pl/files/kwartalnik/4_2008/03. zmienko-handschuh.pd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ikromacierze</a:t>
            </a:r>
            <a:br>
              <a:rPr sz="4900"/>
            </a:br>
            <a:r>
              <a:rPr b="1" lang="pl-PL" sz="4900" spc="-1" strike="noStrike">
                <a:solidFill>
                  <a:srgbClr val="000000"/>
                </a:solidFill>
                <a:latin typeface="Calibri"/>
              </a:rPr>
              <a:t>w biologii molekularnej </a:t>
            </a:r>
            <a:br>
              <a:rPr sz="4900"/>
            </a:br>
            <a:r>
              <a:rPr b="1" lang="pl-PL" sz="4900" spc="-1" strike="noStrike">
                <a:solidFill>
                  <a:srgbClr val="000000"/>
                </a:solidFill>
                <a:latin typeface="Calibri"/>
              </a:rPr>
              <a:t>i medycynie</a:t>
            </a:r>
            <a:endParaRPr b="0" lang="en-US" sz="4900" spc="-1" strike="noStrike">
              <a:solidFill>
                <a:srgbClr val="000000"/>
              </a:solidFill>
              <a:latin typeface="Calibri"/>
            </a:endParaRPr>
          </a:p>
        </p:txBody>
      </p:sp>
      <p:sp>
        <p:nvSpPr>
          <p:cNvPr id="96" name="PlaceHolder 2"/>
          <p:cNvSpPr>
            <a:spLocks noGrp="1"/>
          </p:cNvSpPr>
          <p:nvPr>
            <p:ph type="subTitle"/>
          </p:nvPr>
        </p:nvSpPr>
        <p:spPr>
          <a:xfrm>
            <a:off x="1371600" y="4292280"/>
            <a:ext cx="6400800" cy="1346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dr Elżbieta Ćwioro</a:t>
            </a:r>
            <a:endParaRPr b="0" lang="en-US" sz="3200" spc="-1" strike="noStrike">
              <a:solidFill>
                <a:srgbClr val="000000"/>
              </a:solidFill>
              <a:latin typeface="Calibri"/>
            </a:endParaRPr>
          </a:p>
        </p:txBody>
      </p:sp>
      <p:sp>
        <p:nvSpPr>
          <p:cNvPr id="97"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ożliwe zastosowanie mikromacierzy:</a:t>
            </a:r>
            <a:endParaRPr b="0" lang="en-US" sz="3200" spc="-1" strike="noStrike">
              <a:solidFill>
                <a:srgbClr val="000000"/>
              </a:solidFill>
              <a:latin typeface="Calibri"/>
            </a:endParaRPr>
          </a:p>
        </p:txBody>
      </p:sp>
      <p:sp>
        <p:nvSpPr>
          <p:cNvPr id="118" name="pole tekstowe 2"/>
          <p:cNvSpPr/>
          <p:nvPr/>
        </p:nvSpPr>
        <p:spPr>
          <a:xfrm>
            <a:off x="611280" y="1341360"/>
            <a:ext cx="813744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identyfikacja  bardzo dużej  ilości różnych bakterii i wirusów, oraz ich odmi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identyfikacja genów różnych toksyn, genów oporności na antybiotyki, a wszystko w jednym teście, w bardzo krótkim czasi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jednoczesna detekcja różnego rodzaju mikroorganizmów,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ykorzystanie do monitorowania czystości mikrobiologicznej żywności,</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etekcja patogenów np. wywołujących infekcje pokarmow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kromacierze w ginekologii i położnictwie</a:t>
            </a:r>
            <a:endParaRPr b="0" lang="en-US" sz="3200" spc="-1" strike="noStrike">
              <a:solidFill>
                <a:srgbClr val="000000"/>
              </a:solidFill>
              <a:latin typeface="Calibri"/>
            </a:endParaRPr>
          </a:p>
        </p:txBody>
      </p:sp>
      <p:sp>
        <p:nvSpPr>
          <p:cNvPr id="120" name=""/>
          <p:cNvSpPr txBox="1"/>
          <p:nvPr/>
        </p:nvSpPr>
        <p:spPr>
          <a:xfrm>
            <a:off x="468000" y="1125000"/>
            <a:ext cx="8218440" cy="5000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iagnostyka chorób genetycznych o heterogennym podłożu molekularny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adanie przyczyn wad wrodzonyc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iagnostyka prenatalna (wady wrodzone u płodu, dystrofia wewnątrzmacicz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badaniach genetycznych materiału z poronienia (zmiany genetyczne u poronionego samoistnie zarodka/płodu wykrywa się w ponad 70% poronień samoistnych),</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niepełnosprawności intelektualnej opóźnieniu rozwoju, autyzmi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pole tekstowe 3"/>
          <p:cNvSpPr/>
          <p:nvPr/>
        </p:nvSpPr>
        <p:spPr>
          <a:xfrm>
            <a:off x="700920" y="5661000"/>
            <a:ext cx="73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f497d"/>
                </a:solidFill>
                <a:latin typeface="Calibri"/>
              </a:rPr>
              <a:t>http://andrzejlipa.pl/SGGP/profilaktyka/90-mikromacierze-w-ginekologii-i-poloznictw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Spis treści</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stę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zym są mikromacier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ożliwości zastosowania mikromacierz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ole tekstowe 2"/>
          <p:cNvSpPr/>
          <p:nvPr/>
        </p:nvSpPr>
        <p:spPr>
          <a:xfrm>
            <a:off x="324000" y="836640"/>
            <a:ext cx="8739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iologia każdej komórki żywego organizmu jest determinowana wpływem własnego DN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znanie ekspresji genów nie jest możliwe bez poznania ich budowy oraz wcześniejszego ich oznaczenia, a do tego niezbędne jest posiadanie łatwego, taniego i szybkiego testu.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akim narzędziem stały się w ostatnich latach tzw. mikromacierze DNA (microarray DNA).</a:t>
            </a:r>
            <a:endParaRPr b="0" lang="en-US" sz="2000" spc="-1" strike="noStrike">
              <a:solidFill>
                <a:srgbClr val="000000"/>
              </a:solidFill>
              <a:latin typeface="Calibri"/>
            </a:endParaRPr>
          </a:p>
        </p:txBody>
      </p:sp>
      <p:sp>
        <p:nvSpPr>
          <p:cNvPr id="101" name="Prostokąt 4"/>
          <p:cNvSpPr/>
          <p:nvPr/>
        </p:nvSpPr>
        <p:spPr>
          <a:xfrm>
            <a:off x="546840" y="5516640"/>
            <a:ext cx="443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f497d"/>
                </a:solidFill>
                <a:latin typeface="Calibri"/>
              </a:rPr>
              <a:t>http://www.cancersurgery.pl/200901a03.ph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2880"/>
            <a:ext cx="4906800" cy="77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ym są mikromacierze?</a:t>
            </a:r>
            <a:endParaRPr b="0" lang="en-US" sz="2000" spc="-1" strike="noStrike">
              <a:solidFill>
                <a:srgbClr val="000000"/>
              </a:solidFill>
              <a:latin typeface="Calibri"/>
            </a:endParaRPr>
          </a:p>
        </p:txBody>
      </p:sp>
      <p:sp>
        <p:nvSpPr>
          <p:cNvPr id="103" name="PlaceHolder 2"/>
          <p:cNvSpPr>
            <a:spLocks noGrp="1"/>
          </p:cNvSpPr>
          <p:nvPr>
            <p:ph/>
          </p:nvPr>
        </p:nvSpPr>
        <p:spPr>
          <a:xfrm>
            <a:off x="323640" y="1267920"/>
            <a:ext cx="5400360" cy="5185080"/>
          </a:xfrm>
          <a:prstGeom prst="rect">
            <a:avLst/>
          </a:prstGeom>
          <a:noFill/>
          <a:ln w="0">
            <a:noFill/>
          </a:ln>
        </p:spPr>
        <p:txBody>
          <a:bodyPr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ikromacierz DNA to płytka przypominająca wyglądem szkiełko mikroskopowe – szklana lub plastikowa – z naniesionymi polami mikroskopijnej wielkości.</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la te zawierają maleńkie fragmenty DNA, reprezentujące najważniejsze części genomu człowieka. Te fragmenty DNA to sondy molekularne, rozpoznające zmiany w materiale genetycznym osoby badanej, (w badanym DNA).</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nik jest przedstawiony za pomocą raportu zawierającego listę genów, których u pacjenta</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est za dużo lub za mało.</a:t>
            </a:r>
            <a:endParaRPr b="0" lang="en-US" sz="20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1"/>
              </a:rPr>
              <a:t>http://www.medyczny-poznan.pl/artykul/mikromacierze-pokazuja-tajemnice-naszego-dna-176.html</a:t>
            </a:r>
            <a:r>
              <a:rPr b="0" lang="pl-PL" sz="1600" spc="-1" strike="noStrike">
                <a:solidFill>
                  <a:srgbClr val="1f497d"/>
                </a:solidFill>
                <a:latin typeface="Calibri"/>
              </a:rPr>
              <a:t> </a:t>
            </a:r>
            <a:endParaRPr b="0" lang="en-US" sz="16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4" name="Picture 2" descr="http://www.genesis.pl/img/imagecache/7237309faff553fe4c777b74cea21de0.jpeg"/>
          <p:cNvPicPr/>
          <p:nvPr/>
        </p:nvPicPr>
        <p:blipFill>
          <a:blip r:embed="rId2"/>
          <a:stretch/>
        </p:blipFill>
        <p:spPr>
          <a:xfrm>
            <a:off x="5867280" y="692280"/>
            <a:ext cx="2881440" cy="4402080"/>
          </a:xfrm>
          <a:prstGeom prst="rect">
            <a:avLst/>
          </a:prstGeom>
          <a:ln w="0">
            <a:noFill/>
          </a:ln>
        </p:spPr>
      </p:pic>
      <p:sp>
        <p:nvSpPr>
          <p:cNvPr id="105" name="pole tekstowe 5"/>
          <p:cNvSpPr/>
          <p:nvPr/>
        </p:nvSpPr>
        <p:spPr>
          <a:xfrm>
            <a:off x="5786640" y="5229360"/>
            <a:ext cx="334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Calibri"/>
              </a:rPr>
              <a:t>http://www.genesis.pl/aktualnosci/pokaz/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ole tekstowe 1"/>
          <p:cNvSpPr/>
          <p:nvPr/>
        </p:nvSpPr>
        <p:spPr>
          <a:xfrm>
            <a:off x="324000" y="476280"/>
            <a:ext cx="8640720" cy="625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różnia się: mikromacierze  cDNA oraz mikromacierze oligonukleotydowe, różniące się między sobą wielkością kwasu nukleinoweg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waga: w ostatnich latach przyjęła się nazwa chip DNA – dla macierzy DNA produkowanych przez pewną firmę, wykorzystujących łańcuchy o długości 20-25 nukleotydó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 mikromacierzach cDNA immobilizowane są stosunkowo długie cząsteczki DNA, co odbywa się przy użyciu urządzeń automatycznych, na powierzchni membran, szkła lub silikonu.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echnologia mikromacierzy cDNA (długość sondy 500-5000 nukleotydów) została opracowana na Uniwersytecie Stanfor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ole tekstowe 2"/>
          <p:cNvSpPr/>
          <p:nvPr/>
        </p:nvSpPr>
        <p:spPr>
          <a:xfrm>
            <a:off x="468360" y="5805360"/>
            <a:ext cx="8675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1f497d"/>
                </a:solidFill>
                <a:latin typeface="Calibri"/>
              </a:rPr>
              <a:t>http://www.pzh.gov.pl/przeglad_epimed/60-4/604_21.pdf</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ole tekstowe 1"/>
          <p:cNvSpPr/>
          <p:nvPr/>
        </p:nvSpPr>
        <p:spPr>
          <a:xfrm>
            <a:off x="395280" y="907920"/>
            <a:ext cx="8539200" cy="69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ierwsze mikromacierze DNA (tzw. chipy DNA) wyprodukowano na początku lat 90  ubiegłego wieku jako potencjalne narzędzie do sekwencjonowania DNA, detekcji mutacji i mapowania genomów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kładały się one z krótkich cząsteczek (oligomerów)  syntetyzowanych na plastikowej płytce. Ponieważ zarówno sekwencja poszczególnych oligomerów  jak również ich lokalizacja na płytce była znana, mogły one pełnić rolę sond w reakcji hybrydyzacji z mieszaniną DNA (próbki biologicznej) o nieznanej strukturze pierwszorzędowej.</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etekcję produktów hybrydyzacji umożliwiło fluorescencyjne znakowanie próbki i skanowanie płytki za pomocą czytnika laseroweg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1"/>
              </a:rPr>
              <a:t>http://www.pfb.info.pl/files/kwartalnik/4_2008/03.%20zmienko-handschuh.pdf</a:t>
            </a:r>
            <a:r>
              <a:rPr b="0" lang="pl-PL" sz="1600" spc="-1" strike="noStrike">
                <a:solidFill>
                  <a:srgbClr val="1f497d"/>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ożliwości  zastosowania mikromacierzy</a:t>
            </a:r>
            <a:endParaRPr b="0" lang="en-US" sz="3200" spc="-1" strike="noStrike">
              <a:solidFill>
                <a:srgbClr val="000000"/>
              </a:solidFill>
              <a:latin typeface="Calibri"/>
            </a:endParaRPr>
          </a:p>
        </p:txBody>
      </p:sp>
      <p:sp>
        <p:nvSpPr>
          <p:cNvPr id="110" name=""/>
          <p:cNvSpPr txBox="1"/>
          <p:nvPr/>
        </p:nvSpPr>
        <p:spPr>
          <a:xfrm>
            <a:off x="0" y="1125000"/>
            <a:ext cx="8748720" cy="55436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ainteresowanie mikromacierzami wzrosło ogromnie, gdy zorientowano się, że można je stosować do badania profilu ekspresji genów.</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statnie lata pokazują ogromny rozwój technologii, opartych  o mikromacierze DNA, czemu sprzyja miniaturyzacja  i automatyzacja.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ieustannie poszerza się zakres stosowania mikromacierzy, zatem omówienie wszystkich sposobów ich wykorzystania nie jest możliwe zakresie materiału, przewidzianego programem nauczania, więc zostaną wymienione te możliwości, które mają szczególne znaczenia dla biologii molekularnej i medycyny.</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Technika mikromacierzy została opracowana w połowie lat dziewięćdziesiątych przez Browna i współpracowników i od tamtej pory bardzo dynamicznie rozwija się</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274680"/>
            <a:ext cx="8218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Calibri"/>
              </a:rPr>
              <a:t>Mikromacierze w leczeniu nowotworów</a:t>
            </a:r>
            <a:endParaRPr b="0" lang="en-US" sz="2800" spc="-1" strike="noStrike">
              <a:solidFill>
                <a:srgbClr val="000000"/>
              </a:solidFill>
              <a:latin typeface="Calibri"/>
            </a:endParaRPr>
          </a:p>
        </p:txBody>
      </p:sp>
      <p:sp>
        <p:nvSpPr>
          <p:cNvPr id="112" name="pole tekstowe 2"/>
          <p:cNvSpPr/>
          <p:nvPr/>
        </p:nvSpPr>
        <p:spPr>
          <a:xfrm>
            <a:off x="324000" y="1125360"/>
            <a:ext cx="84960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echnika ta polega na fluoroscencyjnym znakowaniu testowego DNA, pobranego z badanej tkanki, a następnie hybrydyzacji (czyli łączeniu) z wzorcowym DNA, umieszczonym w zagłębieniach kilkucentymetrowych płytek.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zorcowe DNA zawiera znane sekwencje w postaci jednoniciowego DNA lub łańcucha oligonukleotydów tak dobrane, aby opisywały ten region, gdzie spodziewana jest mutacj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Efekt hybrydyzacji jest widzialny w mikroskopie, przy wykorzystaniu techniki laserowej, a odczytanie danych jest możliwe dzięki wykorzystaniu skomplikowanego oprogramowa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jednej płytce można ocenić ekspresję 5-30 tys. genów, a rozwój metody powoduje, że liczba ta rośnie.</a:t>
            </a:r>
            <a:endParaRPr b="0" lang="en-US" sz="2000" spc="-1" strike="noStrike">
              <a:solidFill>
                <a:srgbClr val="000000"/>
              </a:solidFill>
              <a:latin typeface="Calibri"/>
            </a:endParaRPr>
          </a:p>
        </p:txBody>
      </p:sp>
      <p:sp>
        <p:nvSpPr>
          <p:cNvPr id="113" name="pole tekstowe 3"/>
          <p:cNvSpPr/>
          <p:nvPr/>
        </p:nvSpPr>
        <p:spPr>
          <a:xfrm>
            <a:off x="684360" y="5950080"/>
            <a:ext cx="741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f497d"/>
                </a:solidFill>
                <a:latin typeface="Calibri"/>
              </a:rPr>
              <a:t>http://www.cancersurgery.pl/200901a03.php</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Calibri"/>
              </a:rPr>
              <a:t>Mikromacierze w leczeniu nowotworów</a:t>
            </a:r>
            <a:endParaRPr b="0" lang="en-US" sz="3600" spc="-1" strike="noStrike">
              <a:solidFill>
                <a:srgbClr val="000000"/>
              </a:solidFill>
              <a:latin typeface="Calibri"/>
            </a:endParaRPr>
          </a:p>
        </p:txBody>
      </p:sp>
      <p:sp>
        <p:nvSpPr>
          <p:cNvPr id="115" name="pole tekstowe 2"/>
          <p:cNvSpPr/>
          <p:nvPr/>
        </p:nvSpPr>
        <p:spPr>
          <a:xfrm>
            <a:off x="324000" y="981000"/>
            <a:ext cx="8640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omórki nowotworowe wykazują się odmiennym metabolizmem, w porównaniu do zdrowych komórek organizmu. Dzięki możliwości wykorzystania mikromacierzy można obecnie badać nie tylko mutację genów w komórkach nowotworowych, ale także ich ekspresję.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korzystuje się w tym celu mRNA, wyizolowany ze świeżego materiału tkankowego. Jednoniciowy łańcuch RNA przepisuje się w procesie odwrotnej transkrypcji na DNA w obecności znaczników, a następnie poszukuje się miejsc hybrydyzacji na macierzach DN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Uzyskuje się w ten sposób informację o ekspresji genów na poziomie RNA, co pozwala śledzić procesy metaboliczne w komórce nowotworowej.</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6" name="Prostokąt 4"/>
          <p:cNvSpPr/>
          <p:nvPr/>
        </p:nvSpPr>
        <p:spPr>
          <a:xfrm>
            <a:off x="2778840" y="6093000"/>
            <a:ext cx="443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f497d"/>
                </a:solidFill>
                <a:latin typeface="Calibri"/>
              </a:rPr>
              <a:t>http://www.cancersurgery.pl/200901a03.ph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Dawid Suder</cp:lastModifiedBy>
  <dcterms:modified xsi:type="dcterms:W3CDTF">2013-09-08T09:24:33Z</dcterms:modified>
  <cp:revision>41</cp:revision>
  <dc:subject/>
  <dc:title>Slajd 1</dc:title>
</cp:coreProperties>
</file>