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E19-F9F9-4FC5-BCA8-EF6A42728E7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EA75-A056-4100-B203-12855F0729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1AB0-8332-40CB-A467-35DEF87C106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B05-9F2E-41E1-B9D6-B90C5800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E04D-BEA3-403B-93C3-8156B86A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2CD9-D7A0-4107-9117-F8BB0045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DFAD-D088-44FB-888F-895F811C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6C1B-DCF4-431F-85E2-F0EFB796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FA83-6FA6-4115-87AB-87C5095F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AD73-CA96-4004-AED5-E9EEBF0A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8971-7136-488A-B346-7E5FCD5D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AF21-8E8C-40E7-8F9A-60947A7D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FF5A-1936-4C6A-BA3A-5027FEF7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D335-4D23-4FD6-B689-6519D71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A12-2DD1-4E7B-BA9C-8993B110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72F2-5FCB-4A24-AEA6-BD4E2A84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3A35-C83D-4CD5-AEF1-A358C862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B34B-7EF6-4618-AF7F-B6439FB2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C420-B8C7-45A2-949C-6DD3A215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994C-4EB6-4D3D-B733-8AA2046A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271A-BEAD-435B-9A92-D6EB239B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641D-4D9F-4641-836F-AEFBEDAC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041-6E5B-4A6D-8F9B-B939ADB5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A9F-0ACB-4036-A883-8C8EC061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FA4-F9C1-4E52-AFA1-B28AA00D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C34-4D55-4F56-B7C5-29FD5014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AA4-178C-476B-B56E-AE336D37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7322-4233-470B-8CEE-9A0A599F8633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754B-A1D7-44B3-A518-F2210FD29904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196640"/>
            <a:ext cx="77058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Recykling organiczn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332000" y="4221000"/>
            <a:ext cx="64008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Elżbieta Ćwi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http://www.poznan.pl/mim/public/wos/pictures.html?co=show1&amp;id=19389&amp;instance=1000&amp;parent=21563&amp;lang=pl"/>
          <p:cNvPicPr/>
          <p:nvPr/>
        </p:nvPicPr>
        <p:blipFill>
          <a:blip r:embed="rId1"/>
          <a:stretch/>
        </p:blipFill>
        <p:spPr>
          <a:xfrm>
            <a:off x="3564000" y="2708280"/>
            <a:ext cx="1904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ompost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ole tekstowe 2"/>
          <p:cNvSpPr/>
          <p:nvPr/>
        </p:nvSpPr>
        <p:spPr>
          <a:xfrm>
            <a:off x="250920" y="836640"/>
            <a:ext cx="835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ces kompostowania jest kontrolowanym, biologicznym i stabilizowaniem rozkładem substancji organicznych w warunkach tlenowych, które prowadzą do wzrostu temperatury materiału w wyniku procesów biologicz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postowanie jest zbliżone do procesów zachodzące w naturalnych ekosystemach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bumarłe organizmy roślinne, zwierzęce, organiczne  odpa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rostokąt 3"/>
          <p:cNvSpPr/>
          <p:nvPr/>
        </p:nvSpPr>
        <p:spPr>
          <a:xfrm>
            <a:off x="539640" y="3573360"/>
            <a:ext cx="7704360" cy="576360"/>
          </a:xfrm>
          <a:prstGeom prst="rect">
            <a:avLst/>
          </a:prstGeom>
          <a:noFill/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załka w dół 4"/>
          <p:cNvSpPr/>
          <p:nvPr/>
        </p:nvSpPr>
        <p:spPr>
          <a:xfrm>
            <a:off x="3995640" y="4221000"/>
            <a:ext cx="484200" cy="12668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5"/>
          <p:cNvSpPr/>
          <p:nvPr/>
        </p:nvSpPr>
        <p:spPr>
          <a:xfrm>
            <a:off x="3564000" y="4797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estruen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rostokąt 6"/>
          <p:cNvSpPr/>
          <p:nvPr/>
        </p:nvSpPr>
        <p:spPr>
          <a:xfrm>
            <a:off x="539640" y="5589720"/>
            <a:ext cx="7704360" cy="71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ole tekstowe 7"/>
          <p:cNvSpPr/>
          <p:nvPr/>
        </p:nvSpPr>
        <p:spPr>
          <a:xfrm>
            <a:off x="755640" y="5732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ste składniki mineralne, dwutlenek węgla, w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ompost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ole tekstowe 3"/>
          <p:cNvSpPr/>
          <p:nvPr/>
        </p:nvSpPr>
        <p:spPr>
          <a:xfrm>
            <a:off x="3285000" y="342900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pady  organi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lipsa 4"/>
          <p:cNvSpPr/>
          <p:nvPr/>
        </p:nvSpPr>
        <p:spPr>
          <a:xfrm>
            <a:off x="2987640" y="2276640"/>
            <a:ext cx="3456000" cy="2881080"/>
          </a:xfrm>
          <a:prstGeom prst="ellipse">
            <a:avLst/>
          </a:prstGeom>
          <a:noFill/>
          <a:ln w="76320">
            <a:solidFill>
              <a:srgbClr val="5334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załka w prawo 7"/>
          <p:cNvSpPr/>
          <p:nvPr/>
        </p:nvSpPr>
        <p:spPr>
          <a:xfrm>
            <a:off x="539640" y="1844640"/>
            <a:ext cx="3240360" cy="2160720"/>
          </a:xfrm>
          <a:prstGeom prst="righ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ikroorganizm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załka w dół 8"/>
          <p:cNvSpPr/>
          <p:nvPr/>
        </p:nvSpPr>
        <p:spPr>
          <a:xfrm>
            <a:off x="3995640" y="1268280"/>
            <a:ext cx="1081080" cy="11527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załka w prawo 9"/>
          <p:cNvSpPr/>
          <p:nvPr/>
        </p:nvSpPr>
        <p:spPr>
          <a:xfrm>
            <a:off x="6012000" y="2781360"/>
            <a:ext cx="2089080" cy="1008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ciepł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załka w dół 10"/>
          <p:cNvSpPr/>
          <p:nvPr/>
        </p:nvSpPr>
        <p:spPr>
          <a:xfrm>
            <a:off x="5364000" y="4149720"/>
            <a:ext cx="1224000" cy="17272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H2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załka w dół 11"/>
          <p:cNvSpPr/>
          <p:nvPr/>
        </p:nvSpPr>
        <p:spPr>
          <a:xfrm>
            <a:off x="2484360" y="4076640"/>
            <a:ext cx="2664000" cy="2376720"/>
          </a:xfrm>
          <a:prstGeom prst="downArrow">
            <a:avLst>
              <a:gd name="adj1" fmla="val 50000"/>
              <a:gd name="adj2" fmla="val 505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komp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12"/>
          <p:cNvSpPr/>
          <p:nvPr/>
        </p:nvSpPr>
        <p:spPr>
          <a:xfrm>
            <a:off x="186120" y="573264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 . Opracowanie włas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Rodzaje odpadów dla metod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biologicznego przetwarzania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4"/>
          <p:cNvSpPr/>
          <p:nvPr/>
        </p:nvSpPr>
        <p:spPr>
          <a:xfrm>
            <a:off x="468360" y="170028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 biologicznego przetwarzania nadają się odpady z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eśnictwa, rybołówstwa, rolnictwa, sadownictw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twórstwa drzewnego, przemysłu skórzanego, futrzarskiego, tekstylneg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ganiczne odpady przemysłu spożywczego, organiczne (wyselekcjonowane) frakcje odpadów komunal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sady ściek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Wymagania dla odpadów 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do biologicznego recykling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ole tekstowe 2"/>
          <p:cNvSpPr/>
          <p:nvPr/>
        </p:nvSpPr>
        <p:spPr>
          <a:xfrm>
            <a:off x="231840" y="1628640"/>
            <a:ext cx="8372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Odpady powinny być dokładnie scharakteryzowa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inno być znane ich pochodzenie, właściwości fizyczne,  chemiczne, biologiczne (biotoksyczność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ntrolowanie jakości surowca, który ma być poddany kompostowaniu jest najistotniejszym krokiem do otrzymania produktu końcowego (kompostu do dalszego wykorzystan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dukt końcowy (kompost) powinien być możliw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ajwyższej jakości, bezpiecznej dla środowi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Kompostowanie  przebiega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w czterech fazach (proces egzotermiczn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I fa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rostokąt 4"/>
          <p:cNvSpPr/>
          <p:nvPr/>
        </p:nvSpPr>
        <p:spPr>
          <a:xfrm>
            <a:off x="324000" y="1413000"/>
            <a:ext cx="4032000" cy="22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Faza wzrastania temperatury (mezofilna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)  trwa kilka dn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rostokąt 5"/>
          <p:cNvSpPr/>
          <p:nvPr/>
        </p:nvSpPr>
        <p:spPr>
          <a:xfrm>
            <a:off x="4788000" y="3789360"/>
            <a:ext cx="3960720" cy="23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Faza dojrzewania, następuje wychładzanie , aktywne są dżdżownice ,roztocza (makrofauna), może trwać kilka miesię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rostokąt 6"/>
          <p:cNvSpPr/>
          <p:nvPr/>
        </p:nvSpPr>
        <p:spPr>
          <a:xfrm>
            <a:off x="324000" y="3789360"/>
            <a:ext cx="4032000" cy="23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Faza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przemian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trwa  dalsze kilka tygodni. Aktywne bakterie i grzyb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Rozkładane są  trudne  materiały, celuloza, lignina, woski, żyw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Objętość odpadów  zmniejsza się wyraźn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87640" y="1413000"/>
            <a:ext cx="3956040" cy="22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Faza intensywnego kompostow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(termofilna) do kilku tygod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powstają: amoniak, CO2, wo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ole tekstowe 9"/>
          <p:cNvSpPr/>
          <p:nvPr/>
        </p:nvSpPr>
        <p:spPr>
          <a:xfrm>
            <a:off x="403200" y="630864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acowanie włas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Stopniowe zasiedlanie kompostu przez mikro i makoorganiz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lipsa 2"/>
          <p:cNvSpPr/>
          <p:nvPr/>
        </p:nvSpPr>
        <p:spPr>
          <a:xfrm>
            <a:off x="4284720" y="1341360"/>
            <a:ext cx="3743280" cy="288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bakter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lipsa 3"/>
          <p:cNvSpPr/>
          <p:nvPr/>
        </p:nvSpPr>
        <p:spPr>
          <a:xfrm>
            <a:off x="1116000" y="1916280"/>
            <a:ext cx="3672000" cy="324144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I Grzyby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Konkurują z bakteria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Zaczynają dominować, gdy masa wysusza si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lipsa 4"/>
          <p:cNvSpPr/>
          <p:nvPr/>
        </p:nvSpPr>
        <p:spPr>
          <a:xfrm>
            <a:off x="4067280" y="3213000"/>
            <a:ext cx="3529080" cy="316728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II  dżdżownice, roztocz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ole tekstowe 5"/>
          <p:cNvSpPr/>
          <p:nvPr/>
        </p:nvSpPr>
        <p:spPr>
          <a:xfrm>
            <a:off x="614520" y="623736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pracowanie włas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emperatura w kompostowani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ole tekstowe 2"/>
          <p:cNvSpPr/>
          <p:nvPr/>
        </p:nvSpPr>
        <p:spPr>
          <a:xfrm>
            <a:off x="468360" y="1700280"/>
            <a:ext cx="7920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mikrobiologicznego punktu widzenia, temperatura nie powinna przekraczać 50 – 55 stopni Celsjus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Poziom temperatury i czas utrzymywania wysokiej temperatury decyduje o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niszczeniu drobnoustrojów chorobotwórczych, które mogą być obecne w substratach przygotowanych do kompostowa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iepło wydzielane podczas kompostowania dezaktywuje enzymy mikroorganizmów, a nawet może je nieodwracalnie unieczynnić (wysokość temperatury oraz czas ekspozycj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Tlen w kompostowani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ole tekstowe 2"/>
          <p:cNvSpPr/>
          <p:nvPr/>
        </p:nvSpPr>
        <p:spPr>
          <a:xfrm>
            <a:off x="468360" y="155736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ikroorganizmy w kompostowaniu wymaga tlenu. Bez tego gazu wymierają, a ich miejsce zajmują komórki beztlenow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ężenie tlenu wewnątrz pryzm 12 – 16 proc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yzmy bogate w azot wymagają najwięcej tlenu (konieczne jest napowietrzani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Fermentacja metan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http://biogazplant.pl/media/ckuploads/2012/07/31/schemat_pl_.jpg"/>
          <p:cNvPicPr/>
          <p:nvPr/>
        </p:nvPicPr>
        <p:blipFill>
          <a:blip r:embed="rId1"/>
          <a:stretch/>
        </p:blipFill>
        <p:spPr>
          <a:xfrm>
            <a:off x="2124000" y="1197000"/>
            <a:ext cx="475956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ermentacja metanow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faza I (hydroliz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ole tekstowe 2"/>
          <p:cNvSpPr/>
          <p:nvPr/>
        </p:nvSpPr>
        <p:spPr>
          <a:xfrm>
            <a:off x="468360" y="220500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rozpuszczalne polimery są przetwarzane przez enzymy bakterii hydrolizujących (enzymy: amylaza, proteaza, lipaza), do rozpuszczalnych monomerów i dimer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wstają cukry proste, aminokwasy i kwasy tłuszczow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is tre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rys problematyki odpadów komunal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egregacja podstawą w recykling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cykling organicz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ewencja to także świadome zak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postow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ermentacja metano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mpostowanie a fermentac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ermentacja metanowa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za II (zakwaszani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ole tekstowe 2"/>
          <p:cNvSpPr/>
          <p:nvPr/>
        </p:nvSpPr>
        <p:spPr>
          <a:xfrm>
            <a:off x="539640" y="242100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rodzaju produktów tej fazy decyduje ilość wodoru, im wyższe stężenie, tym więcej powstaje mniej zredukowanych produkt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k zwane odpływy z tej fazy odznaczają się bardzo silnym zapac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Mikroorganizmy I i II fazy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to obligatoryjne i fakultatywne beztlenow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ole tekstowe 2"/>
          <p:cNvSpPr/>
          <p:nvPr/>
        </p:nvSpPr>
        <p:spPr>
          <a:xfrm>
            <a:off x="468360" y="213372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kterie fakultatywne mogą zużywać w czasie fermentacji tlen, który przedostał się tam przypadkowo, przy dozowaniu substra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kterie fakultatywne stwarzają środowisko obligatoryjnym beztlenowc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postowanie a ferment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324000" y="1484280"/>
            <a:ext cx="83516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postowanie  jest zaliczane do wysokosprawnych technologii przetwarzania odpadów od ponad 30 l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st to dominująca technologia, jeśli chodzi o praktyczne zastosowanie, a jej rozwój odpowiada współczesnemu stanowi techn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okresie od 1990 do 1999 przepustowość w Europie wzrosła z 500 do 7512 tys. to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ole tekstowe 3"/>
          <p:cNvSpPr/>
          <p:nvPr/>
        </p:nvSpPr>
        <p:spPr>
          <a:xfrm>
            <a:off x="773280" y="5877000"/>
            <a:ext cx="76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toensmeier.pl/index.php/publisher/file/action/view/frmAssetID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Kompostowanie a ferment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324000" y="1628640"/>
            <a:ext cx="864072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ermentacja w przeciwieństwie do kompostowania, była uważ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około 1995 roku za technologię niedostatecznie rozpoznaną i drogą. Większość inwestorów budowało instalacje tlenowe do przetwarzania odpadów, wybierając mniejsze ryzyko i mniejsze koszty inwestycyj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wój technologii fermentacji oraz dane eksploatacyjne uzyskiwane  z różnych instalacji, coraz dłużej eksploatowanych, pokazywały, że beztlenowa obróbka może mieć konkurencyjne koszty i godne zaufania osiągnięcia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ttp://www.toensmeier.pl/index.php/publisher/file/action/view/frmAssetID/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ole tekstowe 1"/>
          <p:cNvSpPr/>
          <p:nvPr/>
        </p:nvSpPr>
        <p:spPr>
          <a:xfrm>
            <a:off x="349200" y="1052640"/>
            <a:ext cx="847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pady organiczne stanowią 50 procent odpadów na wysypisku, przy czym, należy podkreślić, że składowanie nie jest recyklingi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ęgiel i wodór stanowią 90 procent tej masy odpadów komunalnych dlatego  podjęte są próby przekształcenia tych  odpadów tak, aby odzyskać energię – recykling materiałowy i energetycz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cykling materiałowy i energetyczny wymaga jednak  odpowiedniej, wydajnej infrastruktury, która tak dużą ilość materii doprowadzi do postaci surowców wtór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 ma też takiej ilości zakładów, które tak dużą ilość surowców wtórnych są w stanie zamienić w produkty, wyro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rostokąt 3"/>
          <p:cNvSpPr/>
          <p:nvPr/>
        </p:nvSpPr>
        <p:spPr>
          <a:xfrm>
            <a:off x="755640" y="33336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Zarys problematyki odpadów komunaln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Segregacja podstawą w recykling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ole tekstowe 2"/>
          <p:cNvSpPr/>
          <p:nvPr/>
        </p:nvSpPr>
        <p:spPr>
          <a:xfrm>
            <a:off x="324000" y="155736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Zanim odpady trafią na składowisko bądź zostaną poddane innym procesom unieszkodliwiania, posiadacz zobowiązany jest w pierwszej kolejności do poddania ich odzyskowi, w tym  biologicznemu (Art. 7 ustawy o odpadach). 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ak brzmią przepisy. W Polsce podjęto próby wprowadzenia tych przepisów do życia codziennego. Próby egzekwowania przepisów w gminach są szeroko dyskutowane, rezultat na razie jest, niestety, niewiel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kład z krajów, z którymi sąsiadujemy: brązowe lub zielone pojemniki na odpady organiczne! A zatem dokładna segregacja jest możliwa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Recykling organicz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rostokąt 3"/>
          <p:cNvSpPr/>
          <p:nvPr/>
        </p:nvSpPr>
        <p:spPr>
          <a:xfrm>
            <a:off x="324000" y="134136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ecykling organiczny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kreślony został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w ustawie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odpadach, jako obróbkę tlenową, w tym kompostowanie lub beztlenową odpadów, które ulegają rozkładowi biologicznemu w kontrolowanych warunkach,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przy wykorzystaniu mikroorganizmów,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w wyniku której powstaje materia organicz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o biologicznych metod przetwarzania odpadów należą proces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ompostowani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ermentacj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cesy mechaniczno – biologicznego przetwarzania odpadów    komunal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4"/>
          <p:cNvSpPr/>
          <p:nvPr/>
        </p:nvSpPr>
        <p:spPr>
          <a:xfrm>
            <a:off x="611280" y="6021360"/>
            <a:ext cx="66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f497d"/>
                </a:solidFill>
                <a:latin typeface="Calibri"/>
              </a:rPr>
              <a:t>http://www.rewolucjawsmieciach.pl/index.php?id=43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egregacja odpadów organicznych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 gospodarstwach dom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regiodom.pl/portal/sites/regiodom/files/images/imce/5/zestaw_do_segregacji_pod_zlewem.jpg"/>
          <p:cNvPicPr/>
          <p:nvPr/>
        </p:nvPicPr>
        <p:blipFill>
          <a:blip r:embed="rId1"/>
          <a:stretch/>
        </p:blipFill>
        <p:spPr>
          <a:xfrm>
            <a:off x="2014560" y="1773360"/>
            <a:ext cx="4789440" cy="4054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Podstawą recyklingu (organicznego) jest segregacja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us.123rf.com/400wm/400/400/jonasbsl/jonasbsl0804/jonasbsl080400004/2831837-kolorowe-pojemniki-na-smieci-do-segregacji-odpadow.jpg"/>
          <p:cNvPicPr/>
          <p:nvPr/>
        </p:nvPicPr>
        <p:blipFill>
          <a:blip r:embed="rId1"/>
          <a:stretch/>
        </p:blipFill>
        <p:spPr>
          <a:xfrm>
            <a:off x="1163520" y="1536840"/>
            <a:ext cx="6383520" cy="4217760"/>
          </a:xfrm>
          <a:prstGeom prst="rect">
            <a:avLst/>
          </a:prstGeom>
          <a:ln w="0">
            <a:noFill/>
          </a:ln>
        </p:spPr>
      </p:pic>
      <p:sp>
        <p:nvSpPr>
          <p:cNvPr id="111" name="pole tekstowe 3"/>
          <p:cNvSpPr/>
          <p:nvPr/>
        </p:nvSpPr>
        <p:spPr>
          <a:xfrm>
            <a:off x="1692360" y="587700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cztówka z  krajów zachodnich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lipsa 4"/>
          <p:cNvSpPr/>
          <p:nvPr/>
        </p:nvSpPr>
        <p:spPr>
          <a:xfrm>
            <a:off x="5003640" y="3429000"/>
            <a:ext cx="1297080" cy="1370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Udział recyklingu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 zagospodarowywaniu odpadó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ttps://encrypted-tbn0.gstatic.com/images?q=tbn:ANd9GcTpwyJAO3VthMp-n_QEsGH9YeQeYIArKDADiPIy-rErB_Z9vsZ-OQ"/>
          <p:cNvPicPr/>
          <p:nvPr/>
        </p:nvPicPr>
        <p:blipFill>
          <a:blip r:embed="rId1"/>
          <a:stretch/>
        </p:blipFill>
        <p:spPr>
          <a:xfrm>
            <a:off x="324000" y="2349360"/>
            <a:ext cx="6340320" cy="388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s://encrypted-tbn0.gstatic.com/images?q=tbn:ANd9GcShY2GnbJQ5ggwUIdSvTyit1e5COaKEWydkmtJwGVJMJV29mzFz"/>
          <p:cNvPicPr/>
          <p:nvPr/>
        </p:nvPicPr>
        <p:blipFill>
          <a:blip r:embed="rId2"/>
          <a:stretch/>
        </p:blipFill>
        <p:spPr>
          <a:xfrm>
            <a:off x="7308720" y="2708280"/>
            <a:ext cx="1366920" cy="1932120"/>
          </a:xfrm>
          <a:prstGeom prst="rect">
            <a:avLst/>
          </a:prstGeom>
          <a:ln w="0">
            <a:noFill/>
          </a:ln>
        </p:spPr>
      </p:pic>
      <p:sp>
        <p:nvSpPr>
          <p:cNvPr id="116" name="Strzałka w prawo 6"/>
          <p:cNvSpPr/>
          <p:nvPr/>
        </p:nvSpPr>
        <p:spPr>
          <a:xfrm>
            <a:off x="4859280" y="3716280"/>
            <a:ext cx="2376720" cy="3603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ole tekstowe 7"/>
          <p:cNvSpPr/>
          <p:nvPr/>
        </p:nvSpPr>
        <p:spPr>
          <a:xfrm>
            <a:off x="5219640" y="33577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tym takż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wencja to także świadome zaku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miladybea.files.wordpress.com/2012/03/recykling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248360" cy="4249800"/>
          </a:xfrm>
          <a:prstGeom prst="rect">
            <a:avLst/>
          </a:prstGeom>
          <a:ln w="0">
            <a:noFill/>
          </a:ln>
        </p:spPr>
      </p:pic>
      <p:sp>
        <p:nvSpPr>
          <p:cNvPr id="120" name="pole tekstowe 3"/>
          <p:cNvSpPr/>
          <p:nvPr/>
        </p:nvSpPr>
        <p:spPr>
          <a:xfrm>
            <a:off x="1638360" y="5300640"/>
            <a:ext cx="533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miladybea.wordpress.com/2012/03/18/nie-wyrzucaj-powietrza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DawidS28</cp:lastModifiedBy>
  <dcterms:modified xsi:type="dcterms:W3CDTF">2013-09-09T05:44:11Z</dcterms:modified>
  <cp:revision>77</cp:revision>
  <dc:subject/>
  <dc:title>Slajd 1</dc:title>
</cp:coreProperties>
</file>