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9.gif" ContentType="image/gif"/>
  <Override PartName="/ppt/media/image10.jpeg" ContentType="image/jpeg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B04B-D0D4-4123-B959-8752283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584-4FD3-4095-B46C-363B68B2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A124-B634-4252-A352-48FA772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B5A-D65A-41B2-8546-7EEEB646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410B-8DEE-4094-A8AB-6FBAF763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7E0-EDF1-4A0E-ADA2-D4CCDEA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608-A03C-42D9-A92E-DC91528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35C2-9EB4-4995-8EC9-E79B1B74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76A2-BB35-49C7-8574-100A98CB8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F760-3D94-453C-B89B-A4D7D0C6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7BD2-02D2-4829-B1DB-CA3C265C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FEA-B308-4BED-8217-20CC46A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054F-A4BE-42E3-8F95-6746DED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9737-3868-4C80-9F6C-0EF8918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AFD-A56E-440A-9302-704C9C57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84F9-DE40-40EF-B538-3D3A4FA0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F1E2-42F5-43AE-BC07-167EED11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626B-A4FF-4347-8DC0-AADFCC4B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F48E-C8A8-48CE-975C-AC5924B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6258-7547-4193-A2D1-449F6E1F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F09B-6081-419A-BEF2-874ED341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04C0-65E4-4A9A-98C0-606447BA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86E-A9BC-4A99-BAAA-01F09CCB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B57E-6939-4F16-9AD6-9A5E35E8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26C2-A025-4777-BABE-847403DA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0353-3AD1-4AC4-8A81-E00953B4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0FE9-076E-4873-93CB-7E1AFE45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BE80B-CAB3-4266-9853-9777C78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B307-1114-442A-BA68-1217A0AC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C604-97A0-47F3-BAE6-ED0776CC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36E-49C8-44A9-B4F2-9CC0A44D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7DE-0AFB-4E12-920A-96032B71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700-30B3-43B0-978C-A0106E3F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5C4-5FF9-478E-84B2-CF7B167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6AB0-F8AD-467D-BA87-F90FD681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686-BF6A-4E66-B74F-C9716C26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D72-3CB3-47EA-BFE4-E6A58CAB5723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3E1D-1676-4DD6-B3BF-1122738D4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A0B0-9454-44AD-9590-2EE87C450F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rzut bez oporu.mdl" TargetMode="External"/><Relationship Id="rId2" Type="http://schemas.openxmlformats.org/officeDocument/2006/relationships/hyperlink" Target="rzut z oporem laminarny.mdl" TargetMode="External"/><Relationship Id="rId3" Type="http://schemas.openxmlformats.org/officeDocument/2006/relationships/hyperlink" Target="rzut z oporem turbulencje.mdl" TargetMode="External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4pl/hydrostpr_pl.htm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79280" y="1989000"/>
            <a:ext cx="8785440" cy="32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iśnienie, rodzaje ciśnień. Rodzaje przepływów. Siły nośne. Opory ruchu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i sposoby ich zmniejszenia. (Formuła I, II, kolarstwo itp). Jak najlepiej dobrać strój do danej dyscypliny sportowej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468360" y="3284640"/>
            <a:ext cx="79912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Korzystając z prawa Bernoulli’ego dla laminarnego przepływu cieczy (gazu) w rurze o zmiennym przekroju (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=s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)(rys. powyżej) można napisać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/2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+ p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dzie;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gęstość cieczy (gazu),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1- wartość prędkości cieczy (gazu) w miejscu o przekroju S1,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1 - ciśnienie cieczy (gazu) w miejscu o przekroju S1,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2 - wartość prędkości cieczy (gazu) w miejscu o przekroju S2,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2 - ciśnienie cieczy (gazu) w miejscu o przekroju S2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1332000" y="404640"/>
          <a:ext cx="5756040" cy="34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04640"/>
                    <a:ext cx="5756040" cy="34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55640" y="333360"/>
            <a:ext cx="7848720" cy="28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iła nośn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– to siła działająca na ciało poruszające się w płynie, prostopadła do kierunku ruchu.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uproszczeniu powstawanie siły nośnej działającej na płaską powierzchnię s ilustruje poniższy rysunek. Struga płynu  przepływa laminarnie z różnymi prędkościami nad i pod powierzchnią s. Ponieważ:  V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ięc z zależności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/2 + p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nika, że p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&lt;p</a:t>
            </a:r>
            <a:r>
              <a:rPr b="0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iła nośna w tej sytuacji będzie różnicą sił parcia;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F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 – p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 = (p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będzie skierowana w stronę mniejszego ciśnienia (większej prędkości płynu)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3" name="Object 5"/>
          <p:cNvGraphicFramePr/>
          <p:nvPr/>
        </p:nvGraphicFramePr>
        <p:xfrm>
          <a:off x="1547640" y="2997360"/>
          <a:ext cx="5756400" cy="343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997360"/>
                    <a:ext cx="5756400" cy="34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26920" y="476280"/>
            <a:ext cx="763272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ysunek (poniżej) ilustruje tzw. siłę nośną na przykładzie skrzydła samolotu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;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http://pl.wikipedia.org/wiki/Plik:Lift-force-pl.svg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7" name="Picture 4" descr="775px-Lift-force-pl"/>
          <p:cNvPicPr/>
          <p:nvPr/>
        </p:nvPicPr>
        <p:blipFill>
          <a:blip r:embed="rId1"/>
          <a:stretch/>
        </p:blipFill>
        <p:spPr>
          <a:xfrm>
            <a:off x="684360" y="1557360"/>
            <a:ext cx="7381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39640" y="692280"/>
            <a:ext cx="77043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odatkowo przykładami powstawania (zastosowania) siły nośnej mogą być min.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tzw. liftowane piłki (tenis ziemny, tenis stołowy, piłka nożna, siatkówka)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rywanie płaskich dachów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ziałanie rozpylaczy,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działanie pompek wodnych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„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zasysanie” ludzi przez lawiny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fekt Magnusa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n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9640" y="549360"/>
            <a:ext cx="7993080" cy="48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Jeśli ruch ciała w płynie zachodzi laminarnie wówczas siły oporu są proporcjonalne do wartości prędkości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= b </a:t>
            </a:r>
            <a:r>
              <a:rPr b="1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gdzie;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b – współczynnik zależny od geometrii (rozmiarów i kształtu) ciała oraz od własności płynu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np. dla kuli F=6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pl-PL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V (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– współczynnik lepkości płynu, r = promień kuli)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Lepk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- właściwość płynów określająca ich opór stawiany poruszającym się w nich ciałom. Lepkość jest jedną z najważniejszych cech płynów. Nadpłynność oznacza zanik oporu lepkiego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Jeśli ruch ciała w płynie zachodzi turbulentnie wówczas siły oporu gwałtownie rosną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ą proporcjonalne do wyższych potęg wartości prędkości.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0000"/>
                </a:solidFill>
                <a:latin typeface="Arial"/>
                <a:ea typeface="Arial"/>
              </a:rPr>
              <a:t>Zmniejszanie oporu (w celach sportowych, motoryzacyjnych, militarnych i wielu innych dziedzinach życia) polega, w dużym uproszczeniu, na dążeniu do osiągnięcia jak najmniejszej wartości współczynnika b oraz o ile to możliwe eliminacji turbulencji na rzecz uzyskania przepływów (ruchów) laminarnych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24000" y="1254960"/>
            <a:ext cx="8353440" cy="37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pływ siły oporu na ruch ciał ilustrują przykłady trzech symulacji lotu pocisku wystrzelonego ukośnie wykonane w programie Modellu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zy braku wpływu powietrza (plik o nazwie;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zut bez oporu.md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sytuacji, gdy siła oporu jest proporcjonalna do wartości prędkości i ruch jest laminarny (plik o nazwie;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rzut z oporem laminarny.md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sytuacji, gdy siła oporu jest proporcjonalna do kwadratu wartości prędkości i ruch jest turbulentny (plik o nazwie;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rzut z oporem turbulencje.md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55640" y="981000"/>
            <a:ext cx="784872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ETODA PROJEKTÓW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ory ruchu i sposoby ich zmniejszania w wybranej dyscyplinie sportowej”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ział klasy na trzy grupy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skazanie każdej z grup dyscypliny sportowej spośród wymienionych poniżej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ścigi samochodowe,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porty wodne,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nis, piłka nożna i siatkowa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racowanie (w domu) przez każdą z grup wybranego zagadnienia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ezentacja opracowanych zagadnień (na lekcji po 10 min./grupa)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55640" y="2205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prezentacji terminem „płyn” określono ciecz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lub gazy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3"/>
          <p:cNvSpPr/>
          <p:nvPr/>
        </p:nvSpPr>
        <p:spPr>
          <a:xfrm>
            <a:off x="324000" y="907920"/>
            <a:ext cx="8497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iła parc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to siła wywierana prostopadle na powierzchnię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iśni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to stosunek siły wywieranej prostopadle na powierzchnię (siły parcia) do wielkości tej powierzchni. Na rysunku poniżej zaznaczono wektory sił działających na płaską powierzchnię s. Łączna (wypadkowa) siła parcia na powierzchn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ma wartość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iśnienie wywierane na powierzchnię s wynosi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 = F/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2556000" y="3573360"/>
          <a:ext cx="3960720" cy="24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3573360"/>
                    <a:ext cx="396072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826920" y="1773360"/>
            <a:ext cx="741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śnienie hydrostatycz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to ciśnienie panujące w spoczywającym płynie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plet;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walter-fendt.de/ph14pl/hydrostpr_pl.ht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śnienie hydrodynamiczn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to ciśnienie panujące w poruszającym się płyni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95280" y="1341360"/>
            <a:ext cx="8064360" cy="43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uc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urbulent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burzliwy) – to ruch, w którym cząsteczki płynu przemieszczają się po torach przecinających się (kolizyjnych), często wirowych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uchu turbulentnym cząsteczki zderzają się i mieszają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uc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minarn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bezwirowy) – to ruch, w którym cząsteczki płynu przemieszczają się po torach nieprzecinających się (niekolizyjnych). W ruchu laminarnym cząsteczki nie zderzają się i nie mieszają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26920" y="476280"/>
            <a:ext cx="748836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t. poniżej przedstawia przykład turbulencji tworzących się w wodzie za szybko płynącym okrętem podwodnym: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;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http://upload.wikimedia.org/wikipedia/commons/c/c5/USSQuillback.jpg 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5" descr="USSQuillback"/>
          <p:cNvPicPr/>
          <p:nvPr/>
        </p:nvPicPr>
        <p:blipFill>
          <a:blip r:embed="rId1"/>
          <a:stretch/>
        </p:blipFill>
        <p:spPr>
          <a:xfrm>
            <a:off x="2124000" y="1773360"/>
            <a:ext cx="4572000" cy="41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1484280"/>
            <a:ext cx="79930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niższy gif ilustruje przepływ laminarny (bezwirowy)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łynie.</a:t>
            </a:r>
            <a:r>
              <a:rPr b="0" lang="pl-PL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Źródło; </a:t>
            </a:r>
            <a:r>
              <a:rPr b="0" lang="pl-PL" sz="2000" spc="-1" strike="noStrike">
                <a:solidFill>
                  <a:srgbClr val="0000ff"/>
                </a:solidFill>
                <a:latin typeface="Arial"/>
              </a:rPr>
              <a:t>http://pl.wikipedia.org/wiki/Przep%C5%82yw_laminarn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3" name="Picture 6" descr="250px-Flusso_laminare"/>
          <p:cNvPicPr/>
          <p:nvPr/>
        </p:nvPicPr>
        <p:blipFill>
          <a:blip r:embed="rId1"/>
          <a:stretch/>
        </p:blipFill>
        <p:spPr>
          <a:xfrm>
            <a:off x="2916360" y="3645000"/>
            <a:ext cx="3240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324000" y="1341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4360" y="692280"/>
            <a:ext cx="799128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niżej zdjęcie ilustrujące ruch turbulentny powietrza ukazany kolorowym dymem, a utworzony przez startujący samolot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; </a:t>
            </a:r>
            <a:r>
              <a:rPr b="0" lang="pl-PL" sz="1400" spc="-1" strike="noStrike">
                <a:solidFill>
                  <a:srgbClr val="0000ff"/>
                </a:solidFill>
                <a:latin typeface="Arial"/>
              </a:rPr>
              <a:t>http://pl.wikipedia.org/wiki/Przep%C5%82yw_laminarny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4" descr="Airplane_vortex_edit"/>
          <p:cNvPicPr/>
          <p:nvPr/>
        </p:nvPicPr>
        <p:blipFill>
          <a:blip r:embed="rId1"/>
          <a:stretch/>
        </p:blipFill>
        <p:spPr>
          <a:xfrm>
            <a:off x="1763640" y="1700280"/>
            <a:ext cx="5531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539640" y="549360"/>
            <a:ext cx="7848720" cy="55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łynie,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ruszający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ię ruchem </a:t>
            </a: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laminarnym,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pełniona jest (w każdym punkcie) następująca zależność (prawo sformułowane przez Bernoulli’ego)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pl-PL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/2 + p = cons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zie;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gęstość płynu,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 – wartość prędkości płynu w rozpatrywanym miejscu,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 - ciśnienie płynu w rozpatrywanym miejscu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śli płyn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poczyw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(V = 0) wówczas iloraz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l-P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/2=0, zatem  w każdym punkcie ciśnienie ma tę samą wartość równą ciśnieniu wywieranemu na ten płyn z zewnątrz (prawo Pascala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8:46:22Z</dcterms:modified>
  <cp:revision>100</cp:revision>
  <dc:subject/>
  <dc:title>KORPUSKULARNO-FALOWA NATURA ŚWIATŁA</dc:title>
</cp:coreProperties>
</file>