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185F-2421-49A8-B02D-D182FE24814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5909-6800-4918-8C73-63B3F28A51A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71FA-99FC-4C47-BF7A-6986748EC49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DD5D-8C83-4767-AB97-B512A0D37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850D-D160-4AE7-A5E8-1DA2718E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91DD-6407-4731-ADE0-1CF008A8E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A981-8B70-4D85-B365-41F8A8FC0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0CCB-5442-4E7C-ADA7-8C6A0116E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2C72-0649-4192-92B9-1DB15E5A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BF68-630B-481B-B868-713CC11D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C175-862D-4C80-8CC0-9F5902D6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3D7F-5759-4145-8383-FF1C099C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EA2C-103F-40D9-B21F-6D6CF5D4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4739-C78E-4769-9487-B2489070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CB96-B08E-4F46-8FAF-B9ED0D69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AFFA1-7E5C-46DF-81E8-DF1AAA89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6404-EC66-4B0A-89AB-46C81EB8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0938-B4AA-4B85-95F6-7A09113B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B750-801D-4738-A130-44818ADBC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0201-757F-4BAF-B29A-7B51DD5DF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F63F-53C5-4328-961D-D4999578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C569-A467-4A4E-B249-6EC5213C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A4E5-7FD0-404C-ABBE-0FABBEA0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650C-5FFB-48D7-B0AC-AF0FAD27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4672-1CB9-4D29-821C-CC74F8ED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1271-A66A-413A-9360-0B49E213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749C-49D1-4121-A5D4-C5DB42CD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F9BC-CE02-46F6-9252-E504666BA2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9AE1-7695-49FF-A80F-25C50505DD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alibri"/>
              </a:rPr>
              <a:t>Punkt potrójny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gr inż. Magdalena Ku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 prezentacji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ny skupienia mater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zym się różnią od siebie poszczególne stany skupieni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 wynika ze sposobu ułożenia atomów w poszczególnych stanach skupieni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nkt potrójny – definicja i znaczen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ic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yk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zejścia fazow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k to możliw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Stany skupienia mater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an skupienia materi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forma, w jakiej dana substancja występuje, określająca jej właściwości fizyczne.  Między poszczególnymi stanami skupienia występują skokowe zmiany tych właściwośc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yróżniamy trzy podstawowe stany skupienia: gazowy, ciekły i stał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404640"/>
            <a:ext cx="7417080" cy="936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zym się różnią od siebie poszczególne stany skupieni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 poszczególnych stanach skupienia inne jest wzajemne ułożenie tworzących daną substancję cząstecz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iało stał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posiada uporządkowaną strukturę, poszczególne atomy ułożone są blisko siebie i nie mają wystarczająco dużo energii, aby pokonać siły przyciągania istniejące między nimi i oddalić się od pozostałych atom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iecz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atomy są w stałym kontakcie ze sobą, jednak nie jest to tak ścisłe ułożenie, jak w przypadku ciała stałego. Posiadają one więcej energii i poruszają się swobodnie względem siebie, choć wciąż nie mogą pokonać siły wzajemnego przyciąga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az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atomy poruszają się swobodnie między sobą, nie mają uporządkowanej struktury. Posiadają natomiast tyle energii, że całkowicie pokonują siły wzajemnego przyciągania i poruszając się wypełniają całą dostępną przestrzeń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Co wynika z takiego ułożenia atomów w poszczególnych stanach skupieni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iało stałe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zachowuje swój kształt, ponieważ atomy są położone bardzo blisko siebie. Z tego samego względu trudno zmniejszyć jego objętość – po prostu nie ma na to miejsc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iecz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przyjmuje kształt naczyń, w których się znajduje, jednak nie dąży do całkowitego zapełnienia tej przestrzeni. Z tego samego powodu, co w ciele stałym, trudno jest zmienić jej objętość. Dlatego mówimy o cieczach, że są trudnościśliw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Gaz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dąży do wypełnienia całej przestrzeni, w której się znajduje. Łatwo zmienić zarówno jego kształt jak i objętość, ponieważ atomy się są ze sobą sztywno połączon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. Punkt potrójny – definicja i znaczeni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unkt potrójn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stan, w którym dana substancja może znajdować się w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trzech stanach skupienia materi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które znajdują się między sobą w równowadz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kreślają go dw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metry: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iśnieni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mperatu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067280" y="3933720"/>
            <a:ext cx="1693800" cy="2374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084720" y="4078440"/>
            <a:ext cx="2087640" cy="2087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00000" y="260280"/>
            <a:ext cx="7417080" cy="1224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ykres obrazujący punkt potrój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IŚNIEN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UNKT POTRÓJN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EMPERATU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257800" cy="40370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flipH="1">
            <a:off x="3779640" y="2852640"/>
            <a:ext cx="33130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zczególne stany skupienia w zależności od warunków mogą się nawzajem w siebie przemieniać. Te przemiany nazywamy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zejściami fazowym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niższa tabela podaje nazwy procesów związanych z przejściami fazowym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24000" y="3284640"/>
            <a:ext cx="848196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ak to możliw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jłatwiej opisywane zjawisko zauważyć zimą. Woda podczas mrozów może występować na raz w trzech stanach skupienia. Swój punkt potrójny osiąga w temperaturz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0,0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 ciśnieniu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11,73 P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Gaz (para woda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Ciało stałe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(ló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Ciecz (wod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484360" y="3357720"/>
            <a:ext cx="3960720" cy="2970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547640" y="4076640"/>
            <a:ext cx="2448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932360" y="3500280"/>
            <a:ext cx="1944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5580000" y="479700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Madzia</cp:lastModifiedBy>
  <dcterms:modified xsi:type="dcterms:W3CDTF">2013-06-09T10:02:58Z</dcterms:modified>
  <cp:revision>32</cp:revision>
  <dc:subject/>
  <dc:title>Slajd 1</dc:title>
</cp:coreProperties>
</file>