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8.wmf" ContentType="image/x-wmf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E2BC-2594-4BAB-9F0D-2A57B495BEB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57A3-1097-47E0-8D2C-78DEEB9C1C9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BA57-4FCE-42F0-9E18-038126E871D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0D50-453C-431A-83B0-EA7C4212524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2102-E868-483C-AB27-59C5C897516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61C9-B3DA-4E49-B8D9-089CEF81A6E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C418-F26E-4A8D-8B08-0C493ADB075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430D-BBD2-4454-962C-08D893D17BE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1893-63F5-43B3-895F-762EA6D902D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2083-7143-476B-90F7-65F6170C144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E40A-EA87-49F8-AECB-DE52653FC46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88C0-73A6-49AF-AF6C-30E38940E49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5990-8FAE-400B-AB05-2D1A0E1F59D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7E77-979B-4B89-A5C8-E487B1EA455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6BD6-63C1-4EB8-9163-B09AF0ED865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959B-AC89-4665-94B3-C5D0EC4F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CD82-F322-4A5F-A612-DC786A64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03CA-DED8-4883-A21E-9AA5C091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097B-2D6D-45B7-9399-9F40DF93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CA84-4A0F-4753-8C1D-FD1C7BDE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8DB5-0F36-4927-B890-83363580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59C8-91A9-4560-9B34-E7886E53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690B-995E-49C4-9066-920FE451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0419-EA85-409A-94F0-605B94C9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C66F-FA06-47C7-A38A-2B9822D0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E068-6A81-4A21-8211-F0502EB7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7EFE-1ABF-421B-B873-83B90CA0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8D22-E4D7-44D0-A76E-B4F04A07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9C32-CA09-4C88-9131-96121963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3CFE-4F69-4B69-9DFD-514EF29A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577D-0023-4673-BD2A-467C85AC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6F82-DA64-4F38-AD64-1608EAD2C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3420-25B5-4FB6-8E7B-C29A5431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4658-DBC3-44A9-B15F-3CF4FDC9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CA79-F788-447F-AE27-8DA9E313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3061-9172-4BE5-8061-ACD91577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C042-5F38-4A56-8F17-BDD9F247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9EF7-3E3D-4CCC-82B4-115A66A4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9517-9AF2-4987-9EBF-21D6CC08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500F-EFE2-4AB0-9761-F4C0062EDA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0B4E-FAF9-4911-A707-710B4379D7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Składniki kosmetyków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gr inż. Magdalena Ku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Humektan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ch zadaniem jest utrzymanie wilgotności całego kosmetyku. To właśnie dzięki nim krem ma cały czas przyjemną konsystencję, a pasta do zębów nie wysycha w tub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gęstni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trzymują odpowiednią konsystencję kosmetyku. To dzięki zagęstnikom szminka nie pływa w opakowaniu,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 sztyfty nie wylewają się z pojemników. Do tego typu substancji należą np. </a:t>
            </a:r>
            <a:r>
              <a:rPr b="0" i="1" lang="pl-PL" sz="2800" spc="-1" strike="noStrike">
                <a:solidFill>
                  <a:srgbClr val="33cc33"/>
                </a:solidFill>
                <a:latin typeface="Calibri"/>
              </a:rPr>
              <a:t>Xanthan Gum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czy </a:t>
            </a:r>
            <a:r>
              <a:rPr b="0" i="1" lang="pl-PL" sz="2800" spc="-1" strike="noStrike">
                <a:solidFill>
                  <a:srgbClr val="33cc33"/>
                </a:solidFill>
                <a:latin typeface="Calibri"/>
              </a:rPr>
              <a:t>Carbomer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onserwan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pełniają bardzo ważną rolę. Ponieważ kosmetyków używa się bardzo często, są zatem narażone na regularne kontakty z różnego rodzaju drobnoustrojami przenoszonymi przez nasze dłonie i ciało. Ab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kosmetyku nie zaczęły rozwijać się mikroorganizmy, stosowane są właśnie konserwan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najpopularniejszych należą: </a:t>
            </a:r>
            <a:r>
              <a:rPr b="0" i="1" lang="pl-PL" sz="2800" spc="-1" strike="noStrike">
                <a:solidFill>
                  <a:srgbClr val="33cc33"/>
                </a:solidFill>
                <a:latin typeface="Calibri"/>
              </a:rPr>
              <a:t>Imidazolidinyl urea, Ethylparaben, Methylparaben, Iodopropynyl Butylcarbamate, Methylisothiazolinone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ro kosmetyków posiada wyciągi roślinne w swoim składzie. Warto zaznaczyć, że to rośliny były od dawna używane do pielęgnacji skóry, w związku z czym ich obecność w kosmetykach powinna być naturalną koleją rzecz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 różnych części roślin tworzy się ekstrakty, używa się także olejków eterycznych czy wosków roślinnych. Wszystkie te substancje są naturalnego pochodzenia, w związku z czym nie trzeba ich sztucznie syntetyzowa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10" descr="MP900427717[1]"/>
          <p:cNvPicPr/>
          <p:nvPr/>
        </p:nvPicPr>
        <p:blipFill>
          <a:blip r:embed="rId1"/>
          <a:stretch/>
        </p:blipFill>
        <p:spPr>
          <a:xfrm>
            <a:off x="395280" y="360684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MP900448362[1]"/>
          <p:cNvPicPr/>
          <p:nvPr/>
        </p:nvPicPr>
        <p:blipFill>
          <a:blip r:embed="rId2"/>
          <a:stretch/>
        </p:blipFill>
        <p:spPr>
          <a:xfrm>
            <a:off x="3419640" y="3716280"/>
            <a:ext cx="2106360" cy="2648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MP900427834[1]"/>
          <p:cNvPicPr/>
          <p:nvPr/>
        </p:nvPicPr>
        <p:blipFill>
          <a:blip r:embed="rId3"/>
          <a:stretch/>
        </p:blipFill>
        <p:spPr>
          <a:xfrm>
            <a:off x="6300720" y="3141720"/>
            <a:ext cx="21304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 kosmetyki, które zawierają wyłącznie naturalne składniki, to tzw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osmetyki ekologicz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które są obecnie bardzo popularne. Nie zawierają one sztucznych substancji, takich jak konserwanty, barwniki czy substancje zapachowe. W ich skład wchodzą wyłącznie naturalne wyciągi z roślin. Nie ma jednak gwarancji, że taki kosmetyk nie będzie działał uczulająco na skór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najpopularniejszych składników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uralnych kosmetyków należ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wyciąg z aloe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wyciągi zioł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algi morsk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glinka kosmetycz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2247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itaminy są niezbędne do właściwego funkcjonowania organizmu. Jest on jednak pozbawiony możliwości ich syntetyzowania. Z tego względu muszą być dostarczane                 z zewnątrz, np. jako składnik kosmetyk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Calibri"/>
              </a:rPr>
              <a:t>Przykłady zastosowania witamin w kosmety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it. 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regeneracja skóry, poprawa jej elastycznoś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it. B2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stosowana do cery trądzikow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it. B5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pielęgnacja i regeneracja paznokci i włos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it. B12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działanie antystres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it. 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działanie przeciwzmarszczkowe, przeciwłojotokowe, regenerujące i odżywiające skór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it. H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nawilżanie skóry, zmniejszanie zmarszczek                         i przebarwień, wzmacnianie włosów i paznok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które substancje zawarte w kosmetykach, aby zadziałać, muszą najpierw naruszyć strukturę tkane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ten sposób odbywa się np.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farbowanie włosów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 Farby do włosów działają od wewnątrz. Aby pigment mógł zabarwić włosy, najpierw muszą zostać otworzone łuski włosa po to, aby barwnik wniknął do środka. Do tego celu stosuje się np.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moniak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 Pigment jest transportowany do wnętrza włos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formie niewielkich cząstecze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tomiast w środku włos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worzy większ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kupienia, uniemożliwiają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dostanie się na zewnątr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5" descr="MP900382993[1]"/>
          <p:cNvPicPr/>
          <p:nvPr/>
        </p:nvPicPr>
        <p:blipFill>
          <a:blip r:embed="rId1"/>
          <a:stretch/>
        </p:blipFill>
        <p:spPr>
          <a:xfrm>
            <a:off x="4643280" y="3500280"/>
            <a:ext cx="341640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 prezentacji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 to s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smety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sada bezpiecznej produkcji kosmetyk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 czego składają się kosmetyk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dzaje substancji zawartych w kosmetyk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Kosmety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osmetyki są powszechnie używanymi substancjami służącymi do pielęgnacji, oczyszczania i upiększania naszego ciał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osmetyki mają bezpośredni kontakt z naszą skórą, dlatego składniki w nich zawarte powinny być bezpieczne i nie powodować podrażnień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osmetyki mogą występować w różnej formie, np. żelu, kremu, sprayu, emulsji, sztyftu czy proszk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8" descr="MC900217156[1]"/>
          <p:cNvPicPr/>
          <p:nvPr/>
        </p:nvPicPr>
        <p:blipFill>
          <a:blip r:embed="rId1"/>
          <a:stretch/>
        </p:blipFill>
        <p:spPr>
          <a:xfrm>
            <a:off x="7236000" y="189000"/>
            <a:ext cx="1272960" cy="151272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9"/>
          <p:cNvSpPr/>
          <p:nvPr/>
        </p:nvSpPr>
        <p:spPr>
          <a:xfrm>
            <a:off x="611280" y="476280"/>
            <a:ext cx="6192720" cy="79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Bezpieczeństw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arówno dla konsumentów jak i dla producentów kosmetyków podstawową sprawą jest to, aby były one bezpieczne w użyci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zpieczeństwo kosmetyków regulowane jest rygorystycznie przepisami praw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jważniejszą zasadą stosowaną dla przy produkcji kosmetyków jest to, że żaden kosmetyk wprowadzony do obrotu nie może zagrażać zdrowiu i życiu ludzkiem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ektóre kosmetyki posiadają certyfikaty ekologiczne, które świadczą o tym, że produkt spełnia rygorystyczne normy dotyczące jego produkcji i składnik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demeter"/>
          <p:cNvPicPr/>
          <p:nvPr/>
        </p:nvPicPr>
        <p:blipFill>
          <a:blip r:embed="rId1"/>
          <a:stretch/>
        </p:blipFill>
        <p:spPr>
          <a:xfrm>
            <a:off x="2268360" y="5157720"/>
            <a:ext cx="2133720" cy="1244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Ecocert-archipelag-piękna-naturalne-kosmetyki"/>
          <p:cNvPicPr/>
          <p:nvPr/>
        </p:nvPicPr>
        <p:blipFill>
          <a:blip r:embed="rId2"/>
          <a:stretch/>
        </p:blipFill>
        <p:spPr>
          <a:xfrm>
            <a:off x="5724360" y="4869000"/>
            <a:ext cx="1444680" cy="145548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"/>
          <p:cNvSpPr/>
          <p:nvPr/>
        </p:nvSpPr>
        <p:spPr>
          <a:xfrm>
            <a:off x="755640" y="476280"/>
            <a:ext cx="799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Z czego składają się kosmetyk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sadniczo kosmetyki składają się z dwóch rodzajów substanc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bstancje czyn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bstancje bazow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e decydują o właściwy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e wpływają na formę i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ziałaniu kosmetyku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nsystencję kosmety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ierają do głębszy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nowią główną masę prepara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rstw skó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0" descr="MC900239905[1]"/>
          <p:cNvPicPr/>
          <p:nvPr/>
        </p:nvPicPr>
        <p:blipFill>
          <a:blip r:embed="rId1"/>
          <a:stretch/>
        </p:blipFill>
        <p:spPr>
          <a:xfrm>
            <a:off x="3708360" y="3141720"/>
            <a:ext cx="1652760" cy="2376360"/>
          </a:xfrm>
          <a:prstGeom prst="rect">
            <a:avLst/>
          </a:prstGeom>
          <a:ln w="0">
            <a:noFill/>
          </a:ln>
        </p:spPr>
      </p:pic>
      <p:sp>
        <p:nvSpPr>
          <p:cNvPr id="111" name="Line 11"/>
          <p:cNvSpPr/>
          <p:nvPr/>
        </p:nvSpPr>
        <p:spPr>
          <a:xfrm>
            <a:off x="2556000" y="494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13"/>
          <p:cNvSpPr/>
          <p:nvPr/>
        </p:nvSpPr>
        <p:spPr>
          <a:xfrm flipH="1">
            <a:off x="5148000" y="4941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611280" y="476280"/>
            <a:ext cx="8137440" cy="79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. Rodzaje substancji zawartych w kosmetyk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wa głównym składnikiem wielu kosmetyków. Woda w nich występująca podlega rygorystycznym normom określającym jej czystoś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755640" y="260280"/>
            <a:ext cx="7993080" cy="115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urfaktan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o inaczej substancje powierzchniowo czynne. Charakteryzują się specyficzną budową, gdzie w jednej cząsteczce znajduje się zarówno część hydrofilowa, jak i lipofilowa. W związku z tym są bardzo dobrymi substancjami myjącymi, ponieważ mogą rozpuszczać zarówno składniki „wodolubne” jak i tłuszczow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które z nich w dużych dawkach mogą wywołać efekt podrażnienia, dlatego często stosuje się mieszankę różnych surfaktantów. Do najpospolitszych należą: </a:t>
            </a:r>
            <a:r>
              <a:rPr b="0" i="1" lang="pl-PL" sz="2800" spc="-1" strike="noStrike">
                <a:solidFill>
                  <a:srgbClr val="33cc33"/>
                </a:solidFill>
                <a:latin typeface="Calibri"/>
              </a:rPr>
              <a:t>Sodium Laureth Sulfate, Cocamidopropyl Betaine </a:t>
            </a:r>
            <a:r>
              <a:rPr b="0" i="1" lang="pl-PL" sz="2800" spc="-1" strike="noStrike">
                <a:solidFill>
                  <a:srgbClr val="33cc33"/>
                </a:solidFill>
                <a:latin typeface="Arial"/>
              </a:rPr>
              <a:t>         </a:t>
            </a:r>
            <a:r>
              <a:rPr b="0" i="1" lang="pl-PL" sz="2800" spc="-1" strike="noStrike">
                <a:solidFill>
                  <a:srgbClr val="33cc33"/>
                </a:solidFill>
                <a:latin typeface="Calibri"/>
              </a:rPr>
              <a:t>i Decyl Gluco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Emolien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ą substancjami lipofilowymi, czyli tłuszczowymi. Ich rola polega na zapobieganiu nadmiernemu parowaniu wody przez powierzchnię skóry, dzięki czemu jest ona bardziej nawilżon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elastyczna. Kosmetyk zawierający emolienty rozprowadzony na powierzchni skóry tworzy warstwę zabezpieczającą przed parowaniem wo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o ciekawe, kosmetyk nie ulega wchłonięciu przez skórę, tylko zostaje na jej powierzchni, a powłoka zabezpieczająca przed parowaniem wody z głębszych warstw skóry powstaje poprzez odparowanie wody w kosmetyku, który staje się wówczas niewyczuwaln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kładem często stosowanych emolientów są </a:t>
            </a:r>
            <a:r>
              <a:rPr b="0" i="1" lang="pl-PL" sz="2400" spc="-1" strike="noStrike">
                <a:solidFill>
                  <a:srgbClr val="33cc33"/>
                </a:solidFill>
                <a:latin typeface="Calibri"/>
              </a:rPr>
              <a:t>Octyldodecanol </a:t>
            </a:r>
            <a:r>
              <a:rPr b="0" i="1" lang="pl-PL" sz="24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0" i="1" lang="pl-PL" sz="2400" spc="-1" strike="noStrike">
                <a:solidFill>
                  <a:srgbClr val="33cc33"/>
                </a:solidFill>
                <a:latin typeface="Calibri"/>
              </a:rPr>
              <a:t>i Paraffinum Liquidu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ubstancje hydrofil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o substancje, które przyciągają wodę z otoczenia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zwiększają nawilżenie naskórka. Mogą być stosowane zarówno nisko- jak i wielkocząsteczkowe substancje hydrofilowe. Te pierwsze, dzięki niewielkim rozmiarom, są w stanie wniknąć w głąb skóry, drugie działają jedynie na jej powierzchn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tego rodzaju substancji należy np. gliceryna </a:t>
            </a:r>
            <a:r>
              <a:rPr b="0" i="1" lang="pl-PL" sz="2800" spc="-1" strike="noStrike">
                <a:solidFill>
                  <a:srgbClr val="33cc33"/>
                </a:solidFill>
                <a:latin typeface="Calibri"/>
              </a:rPr>
              <a:t>Glycerin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Madzia</cp:lastModifiedBy>
  <dcterms:modified xsi:type="dcterms:W3CDTF">2013-07-01T19:18:19Z</dcterms:modified>
  <cp:revision>88</cp:revision>
  <dc:subject/>
  <dc:title>Slajd 1</dc:title>
</cp:coreProperties>
</file>