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9DAF-7DE3-4F58-8C53-E6A2F6111AA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A15-BF74-494C-9B5C-0AE25C52FC5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28B1-8CBC-444E-83FD-95C194F69C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AB8-D1B1-4AE7-9282-49453809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868-F2BC-45B1-9B13-8BA01A2F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58D-CE22-4B46-80F2-66D3EC80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2B6-C258-4F5C-9746-4827AEAD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08C9-2063-4CFE-83C4-44E2A554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19B3-A4B3-4764-BC12-6432090E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496F-6521-4AD2-8F65-9120D6EC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2CAF-70EC-4B4F-98EF-8535429A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7885-8843-4884-A352-8550BF38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E556-8349-40CC-92CA-1D200874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55DD-F5D5-4720-9456-0A34F29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D2F-61BB-4630-A73D-DE44FC6F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561A-27AB-4309-B5AB-3D4FD2B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2EF2-0DDB-43F7-8856-F60DBFB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BC3D-F6B8-4527-9566-CAF57536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0319-FCE3-41EE-B284-B5B21219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9B73-333B-4D4C-B442-B779400C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314-482C-40B2-96A5-1904F5C7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438-FE26-497E-94C9-AA46FD59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594-7524-4693-9CDD-72485316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B97-333A-4F58-8F02-C65F5876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B6F-53A1-45CD-97A6-32226BFB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C6B-AEC4-41A9-9D54-F0CBEEC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34C-4086-4BEE-9878-785FDE79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56A7-DD86-4036-A5A6-63BE297E0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6039-862F-4E07-AE0F-EBFE0097D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Procesy chemiczne zachodzące podczas wysiłku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ecałkowite spal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dy ilość tlenu jest niewystarczająca, spalanie glukozy zaczyna przebiegać w formie niecałkowitej. Tworzony jest wówczas także kwas mlekowy, ale nie ulega on przekształceniu w kwas cytrynowy, tylko zaczyna odkładać się w mięśni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COO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5516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raz wyższe stężenie kwasu mlekowego w mięśniach powoduje uczucie bólu. Dochodzi do tego w trakcie zbyt intensywnego wysił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ff"/>
                </a:solidFill>
                <a:latin typeface="Calibri"/>
              </a:rPr>
              <a:t>Co dzieje się z nagromadzonym w mięśniach kwasem mlekowy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was mlekowy jest stosunkowo szybko usuwany z mięśni za pośrednictwem układu krwionośnego. Po przetransportowaniu go do wątroby i nerek staje się substratem w procesi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lukogenez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czyli powstawania glukozy. Ta nowopowstała glukoza jest rozprowadzana po organizmie i powtórnie może służyć za źródło ener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ykl przemian metabolicznych kwasu mlekowego został odkryty przez małżeństwo Gretę i Carla Cori, którzy otrzymali nagrodę Nobla. Od ich nazwiska cykl tych przemian nosi nazw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yklu Corich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was mle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was mlekowy zostaje prawie całkowicie usunięty z mięśni po ok. 2 godzinach od zaprzestania wysiłku fizyczn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st stosowany w przemyśle spożywcz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az chemicznym. To jemu zawdzięczam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yficzny smak kiszonych ogórkó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apus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was mlekowy oddziałuje pobudzająco na komary, z tego względu osoby w trakcie wysiłku fizycznego są bardziej narażone na ich ukąsz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2421000"/>
            <a:ext cx="1784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kwa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 należy łączyć ze sobą nagromadzenia kwasu mlekowego w mięśniach i tzw. zakwasów, czyli bólu mięśni występującego ok. 20 godzin po wzmożonym wysiłku fizycz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ól ten jest wynikiem drobnych zniszczeń w strukturze tkanki mięśniowej i nazywany je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społem opóźnionego bólu mięśnioweg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DOM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ysiłek fiz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 się dzieje w trakcie wysiłku fizy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kie są długofalowe skutki wysiłku fizy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miany zachodzące w mięśni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łkowite spalanie gluko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całkowite spalanie gluko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kw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ysiłek fiz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iedzeni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„sport to zdrowi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ie jest pustym sloganem. Przypomnij sobie maratończyka podczas biegu, zapaśnika w walce lub pływaka kończącego swój dystans na base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zy potrafisz wymienić zmiany, jakie zachodzą w ich organizmach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 czym można poznać, że ktoś jest w trakcie lub tuż po wzmożonym wysiłku fizyczny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04640"/>
            <a:ext cx="74901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 trakcie wysiłku fizy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zmożone wydzielane p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yspieszony odd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mieńce na twar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yspieszone tęt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43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tki długofal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ększy pobór tlenu dzięki zwiększeniu ilości kr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mniejszenie ilości skurczów ser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zrost masy mięśn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rawa przepływu krwi przez serce w wyniku zwiększenia jego objęto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tki długofal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zrost stężenia antyoksyda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ększa wentylacja pł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dek zmęc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większenie liczby kapilar w mięśniach szkieletowych (lepsza wymiana gazowa i metabolicz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ększa odporność organiz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Symbol zastępczy tekstu 2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Zmiany zachodzące w mięśni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y móc wykonywać ruch, a więc być aktywnym fizycznie, człowiek używa siły mięś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ęśnie z kolei potrzebują energii, aby móc wykonywać pra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ia niezbędna mięśniom pochodzi z procesu spalania glukozy, czyli cukru prostego będącego podstawowym związkiem energetycznym dla większości organiz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4640"/>
            <a:ext cx="8064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l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 spalania zakłada obecność utleniacza. Najpopularniejszym z nich jest tlen zawarty w powietr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lanie glukozy jest procesem, dzięki któremu mięśnie zyskują energię, którą zamieniają w r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przypadku, gdy do mięśni dostarczana jest wystarczająca ilość tlenu, spalanie glukozy zachodzi w sposób komplet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+ 6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ten sposób spalana jest glukoza przy wystarczającej ilości tlenu. Produktem pośrednim tych przemian jest kwas mlekowy, ale jest on szybko przekształcany w kwas cytrynowy, a dalej w wodę i dwutlenek węg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242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4-29T20:03:27Z</dcterms:modified>
  <cp:revision>15</cp:revision>
  <dc:subject/>
  <dc:title>Slajd 1</dc:title>
</cp:coreProperties>
</file>