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72EC-3F7E-4B01-BA26-40D13F19F6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126E-6E3C-4FB5-857E-97273DA44E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0FFC-479B-40EA-9720-86840F9FE3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57D-B97E-4322-95CF-A6EC88DB66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3046-DF89-4AE2-A4B0-07C1C4DFDC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49A-49B4-48F5-9A60-E7A6708325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F6E7-789B-49BF-92DA-0F9244FA56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B64-935E-4613-ABBC-5C5C67B7EF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FB6-681D-4561-8341-708B39E045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DD73-C001-4676-9D4B-7C135DF3D9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D686-BC4E-4166-8AFA-29097B2D17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7BCD-F8AC-4A84-A06D-34FCF0B561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507-DA6B-40ED-824C-D93A729567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4D6C-0E17-4D7B-A713-EB31A07EF3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35D-7BE5-4E41-A945-EA9A384A91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C844-186F-40A1-964E-026304FC96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71F-FAF3-4B6A-B560-4E2F30C23A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3305-B533-46FF-B4F9-AADCE2C982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C6B8-DF8F-4B8E-BB5D-66979F0CA4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2FD1-1EA2-46CE-9CDC-EBF1488F7E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EBB4-C551-4361-AD87-C92A9A6ABD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F19-BFC7-4A27-A2A3-EC1AD1E66A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358-1D0C-403B-B0BF-3D9653191A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F1B-DEA8-4EAF-A017-950E6A804C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32A-A2E7-4435-9CCA-4FF9E66D0E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CEB-2ECC-4B51-9F68-90CCF21220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4DE-4580-4D4F-B4DB-84C05CE2CD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BC1-0BA7-4365-A7EE-402D482128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704-792A-4A75-A066-AB10CA83BA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57E5-DECD-4C61-B508-4D266CAA4B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06A6-61B4-49D3-B039-1FEAED3042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78B-7C91-40D7-B2ED-2248340631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DCA-310F-4E53-8010-27742B09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3B4-B7FB-4305-AFE7-30AFCA75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634-7CF9-42AB-8921-13C830FF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166-5104-4EBB-9723-B6F71B9E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DF3-C4E0-47C0-A1DE-23338513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C43-4789-4531-9221-A78F7CC3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6DC-CCFD-4A6E-A2B2-DFE0EF0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0C87-9E49-4965-B2CA-76883147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E19-0C15-4D07-A31C-E3D747D1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E73-211C-4D2B-A9FE-327482E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02D-67CC-45D1-BD04-C340F2C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DEF-8437-4C53-9277-CF50CAE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2F3-13A4-475E-AFDE-C25656A0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06EA-9D46-48EA-A92D-69C455AB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757-086E-46D0-9C7A-DFF59E1F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B728-3B34-4365-8192-A56D8736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49B-5145-43C3-90DB-8A4AFA5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26B-C711-4C2C-91E5-7FF6AA0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A19-54D9-4FC6-A810-2FCD3BF4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D36-F7F1-4571-98F6-CF2FE560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C57-16EC-4845-9256-6C10F53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A75-5119-4104-B347-949301C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F55-A9EE-4423-BE42-0A4E41C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E3C-69EE-4615-A61F-4CFEC8C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A82-EC5E-4BAA-A33C-E646E3501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9AAF-F4A9-4027-BBE1-582850F5A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oztwory wodn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odzaje roztwor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tw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zywamy mieszaninę dwóch lub więcej substan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częściej jedną z substancji w roztworze nazywam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puszczalniki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dyspersyjna), a drug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stancją rozpuszczon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zdyspergowa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MP900402696[1]"/>
          <p:cNvPicPr/>
          <p:nvPr/>
        </p:nvPicPr>
        <p:blipFill>
          <a:blip r:embed="rId1"/>
          <a:stretch/>
        </p:blipFill>
        <p:spPr>
          <a:xfrm>
            <a:off x="5148360" y="2060640"/>
            <a:ext cx="35290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ztwory dzielimy 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rzeczywis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o roztwory jednorodne, których rozmiary cząsteczek substancji rozproszonej mają rozmiary mniejsze od 1 n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niewłaści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nie są całkowicie jednorodne. Wśród nich wyróżniamy m.in. Roztwory koloidalne i zawies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3816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twory koloidal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ozornie sprawiają wrażenie roztworów właściwych, jednak substancje tworzące roztwó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są zmieszane na poziomie pojedynczych cząsteczek. Rozmiary cząsteczek substancji rozproszonej wynoszą od 1 nm do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752720" cy="46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awiesin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ieszaniny niejednorodne, w których zazwyczaj cząsteczki substancji rozpuszczonej są znacznie większe od cząsteczek rozpuszczalnika i są większe niż 100 nm. Z tego powodu substancja rozpuszczona (jako cięższa) ma tendencję do opadania na dno, tj. sedymentacji. Zazwyczaj gołym można dostrzec niejednorodność zawies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Zada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klasyfikuj podane roztwory na roztwory właściwe, koloidalne i zawiesin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g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ł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wietr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a z sol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kr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gip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drożdży spożywc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enzy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arba malar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ysocjacja elektr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twory wodne substancji chemicznych możemy podzielić na dwa rodza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przewodzące prąd elektr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ie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nie przewodzące prądu elektr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go rozróżnienia dokonał w XIX wieku szwedzki chemik Svante Arrhenius, który stworzył teorię dysocjacji elektrolitycz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teorii Arrheniu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to rozpad elektrolitów na naładowane elektrycznie jony – dodatnio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kat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i ujemnie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an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twór jest elektrycznie obojętny, ponieważ suma ładunków kationów i anionów zawsze jest równa z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elektrolity nie ulegają dysocjacji elektroli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ztworach wodnych w przypadku słabych elektrolitów dysocjacja jest zawsz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cesem odwracalny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pomiędzy formą zdyscocjowaną a niezdysocjowaną zachowana jest wówczas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ównowa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ysocjacji w wodzie ulega większość kwasów i zasad, a także prawie wszystkie rozpuszczalne w wodzie s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ulega samorzutnej reakcji dysocjacji zgodnie z równani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        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czym formy zdysocjowanej jest w wodzie bardzo niewiele (zaledwie 1 zdysocjowana cząsteczka na każde 10 000 000 niezdysocjowanych!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211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421128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uszczalność substancji chemicznych w w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dzaje roztwo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 dysocjacji elektrolity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Cl                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OH                Na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2K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2A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3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851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851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851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851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c elektrolitów określ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stopień dysocjacji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y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finiuje się jako stosunek liczby cząstek, które uległy dysocjacji do całkowitej liczby cząstek wprowadzonych do roztwo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cnych elektrolit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ależą niektóre kwasy, np. HCl , HBr, HI, H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,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także zasady: wodorotlenki litowców i berylowców (z wyjątkiem wodorotlenku berylu i magnez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ównowagę reakcji dysocjacji elektrolitycznej opisuje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ła dysocjacji 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Dla substancji, których dysocjacja przebiega zgodnie z reakcj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B        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ta ma posta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[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851280" y="59500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21164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4140000" y="429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dwóch probówek wlej po 2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CuC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. Ma on niebieską barwę. Następnie do pierwszej probówki wlej ac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raz do obu probówek dolej czystej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 jest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probówki wlej 2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CoCl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Roztwór ten ma barwę czerwoną. Następnie dolej do probówki stężony kwas H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eraz dodaj to probówki w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się stał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laczego nastąpił powrót do pierwotnej bar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4. Skala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jawisk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 wod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służyło do stworzenia skali kwasowości i zasadowości roztwor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yn roztworu określa się za pomocą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ężenia jonów oksoniow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nim zawart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H = -log [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emicznie czysta woda jest pod względem odczynu neutralna. Stężenie jonów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nosi w niej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 Z powyższego wzoru wynika zatem, że jej pH wynosi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jęcie pH wprowadził duński naukowiec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sen, określając w ten sposób ujemny logarytm ze stężenia kationów wodorowych w roztw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azało się jednak, że wolne atomy wodoru nie występują w roztworach, ponieważ ulegają solwatowaniu tworząc jon oksoniowy 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zawiera wartości od 0 do 14, gdzie 0 oznacza silny odczyn kwasowy, a 14 zasa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owe wartośc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k żołądkowy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pochwy: 4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ślina: 7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ew: 7,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trzustki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żółć (wydzielina wątroby)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was akumulatorowy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ca-Cola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t: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eko: 6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dło: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68360" y="4005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8" descr="MC900433628[1]"/>
          <p:cNvPicPr/>
          <p:nvPr/>
        </p:nvPicPr>
        <p:blipFill>
          <a:blip r:embed="rId1"/>
          <a:stretch/>
        </p:blipFill>
        <p:spPr>
          <a:xfrm>
            <a:off x="5364000" y="1484280"/>
            <a:ext cx="261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hemiczn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oznaczania pH służą wskaźniki kwasowości. Są to substancje, które w zależności od odczynu roztworu w którym się znajdują, przyjmują różne barwy. Pokazuje to poniższa tab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7345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mow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rócz substancji chemicznych, dostępnych w zasadzie wyłącznie w laboratorium, rolę wskaźników kwasowości mogą z powodzeniem pełnić ogólnie dostępne substancje, takie j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par z czarnej herbat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odczynie kwaśnym ma barwę słomkową, w zasadowym – ciemnobrąz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e bura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silnie zasadowy zmienia ich kolor z czerwonego na niebie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eżyny i czarne porzecz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kwaśnym kolor niebieski, w zasadowym fiolet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urr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 pH ok. 7,4 – kolor żółty. Powyżej 8,6 – czerw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łatki pelargoni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kwaśny – kolor czerwony, roztwór zasadowy – niebie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a kapust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zasadowym zmienia barwę na zielo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Zaparz w około 0,5 litra mocnej, czarnej herbaty. Następnie rozlej napar w równych ilościach do dwóch naczyń. Do pierwszego z nich dodaj łyżeczkę kwasu cytrynowego, do drugiego sody oczyszczo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Rozpuszczalność substancji chemicznych w wodz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symalną ilość substancji, jaką można rozpuścić w danej temperaturze i pod stałym ciśnieniem w 100 g rozpuszczalnika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puszczaln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twór, który osiągnął swoją maksymalną rozpuszczalność,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em nasyco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derwij w główki czerwonej kapusty 5 liści i posiekaj je na drobne paski. Następnie włóż je do garnka i zalej wodą tak, by przykryła liście. Całość gotuj przez około 15 minut, a następnie odstaw do ostygnięcia. Po przecedzeniu otrzymasz roztwór, który należy rozlać w równej ilości do dwóch naczy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pierwszego z nich dodaj łyżeczkę sody oczyszczonej, do drugiego łyżeczkę oc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puszczalność substancji zależy od jej rodzaju i tempera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la różnych substancji wyznaczono tzw. krzywe rozpuszczalności, czyli wykresy obrazujące zależność pomiędzy rozpuszczalnością danej substancji w wodzie a temperatur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zwyczaj rozpuszczalność ciał stałych i cieczy wzrasta wraz ze wzrostem temperatury, natomiast rozpuszczalność gazów male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 dwóch naczyń wlej po 200 ml wody gazowanej. Jedno naczynie postaw na palniku i zacznij je podgrzewać, drugie pozostaw w normalnych warun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Z którego naczynia szybciej ulatnia się gaz zawarty w wodz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elu określenia, czy dana substancja jest łatwo- czy trudnorozpuszczalna w wodzie stworzon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abele rozpuszczalnośc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Zawierają one informacje dotyczące soli i wodorotle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odczytać z tabeli informację dotyczącą rozpuszczalności danej substancji w wodzie, należy odnaleźć na skrzyżowaniu wiersza i kolumny właściwych jonów symbol, wskazujący na jej rozpuszczalnoś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orzystając ze szkolnej tabeli rozpuszczalności wymień 5 substancji, które łatwo rozpuszczają się w wodzie, oraz 5 trudnorozpuszczalnych. Czy stosujesz te substancje w życiu codzien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788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celu identyfikacji składników nieznanych mieszanin substancji chemicznych przeprowadza się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izę jakościową jonó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ega ona na wykonaniu w odpowiedniej kolejności szeregu reakcji chemicznych, w wyniku których powstają barwne roztwory, wydzielają się gazy lub wytrącają się osady umożliwiające identyfikację poszczególnych j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jony usystematyzowane są w grupy, dla których opisane s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kcje charakterysty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możliwiające ich wykry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MP900426563[1]"/>
          <p:cNvPicPr/>
          <p:nvPr/>
        </p:nvPicPr>
        <p:blipFill>
          <a:blip r:embed="rId1"/>
          <a:stretch/>
        </p:blipFill>
        <p:spPr>
          <a:xfrm>
            <a:off x="4932360" y="134136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y umiejętnie korzystać z tablicy rozpuszczalności wykonaj reakcje charakterystyczne dla I grupy katio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I grupie znajdują się kationy: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Hg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Pb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czynnikiem grupowym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o stężeniu 2 mol/d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w próbce obecne są kationy I grupy, strącany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ały osad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ntyfikacji poszczególnych kationów dokonuje się w reakcji z wodnym roztworem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33:46Z</dcterms:modified>
  <cp:revision>55</cp:revision>
  <dc:subject/>
  <dc:title>Slajd 1</dc:title>
</cp:coreProperties>
</file>