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60C-7981-43B0-A6DA-0D20684A91E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EA1C-9DB0-47DA-B215-84732ED26E3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2E5-E81A-427E-B39F-0A5EA9E9E7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AF9A-50B1-40E4-8F59-191BD60199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B80-54C0-429F-BB4F-2C15774074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5A0-8150-4165-9FB7-35FA591755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7FCE-741A-4D5B-891C-2FF579E913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80F1-DF0F-4891-9951-AFCDE01817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3386-546D-4BF2-A18A-6B3255CD89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A54A-8AB5-49F4-83FA-D4893413BF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DED7-3EAE-4FD3-A331-A24E2CBD33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0319-6D7A-4D46-A0F1-BCF39F0B86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0B5-EF4B-4940-8E5C-06FFDC0F23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EAB2-B0A7-4047-91FD-E51855375E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9800-E0C2-405D-BDB0-319B731352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21DB-7418-4DE5-88B6-9466DF1907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3CA1-1193-4686-860B-97E13B24A6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5AE-71A8-4F3C-935B-01FC4E7527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2ACC-A221-4832-A343-36C306D44D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3480-9F64-43F5-BD25-03C1CD069C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8CB-BE6F-47F4-BA72-25EA5DA520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3B2-31DA-4CBF-BC97-82D3AED885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AD49-45B1-4667-9656-913F0B3380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022B-04D1-40FA-AFEE-11ECB47D3A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8679-AB32-4AB1-8458-634CCBA417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9595-5803-468A-AE74-8D7D39EC26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75AF-B154-48C6-A16B-30EF1C21C5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B4A-2460-4A39-AEEA-96DBBE48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348-D35A-4FEB-B606-F985812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026-B114-480C-AB0B-204D6CA1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FB7-79A6-4D5D-B8D5-6490B087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411C-1119-4270-850B-FE3D1E18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2752-BEB6-4C9F-B552-719FE4C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18CB-7CEC-411B-B29F-DB98CFBF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C5DA-33EC-47AD-9750-6AD102AA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6C63-6958-4157-8BC3-786B1317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5AFD-B28B-4892-8312-A774988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4546-EE84-4AD7-B5A9-4472ADD2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4E4-9EC8-41FA-A353-0830461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276-6829-4BD6-B7EA-878DEB7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FCA-A450-4CA3-85DB-FAD84A4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3B93-2EDE-4A4A-96D0-2E431FE6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BDE8-239C-41C2-8399-F4508892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CED0-2BDD-4A1E-A047-699F4737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BE1-363E-4282-B550-B357D164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251-4214-4322-A3BF-7446ACF2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029-6AE3-4240-A4C6-EF36C17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C2D-7F46-4A14-8676-A6738D17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F0F-65B3-4F8A-B762-D3F502AC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F39-0390-49AC-9BA1-BC3D6E4B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435-A9AB-4EBD-8871-DDC1427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473-D275-48A9-8191-8D754E6F3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2107-513E-47D8-86DE-9CB100F02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Budowa i właściwości wod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stawowe rodzaje wiązań chemi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kowalencyjne niespolaryzow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ą w wyniku połączenia się atomów, których różnica elektroujemności jest niewielka (max. 0,4). Wspólna para elektronów znajduje się w równej odległości między dwoma atom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kowalencyjne spolaryzow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e w wyniku połączenia się atomów, których różnica elektroujemności wynosi od 0,5 do 1,7. W tym przypadku wspólna para elektronowa przesunięta jest w stronę atomu o wyższej elektroujemnoś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jon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e wówczas, gdy różnica elektroujemności między poszczególnymi atomami jest bardzo duża (powyżej  1,7). Wówczas elektrony się nie uwspólniają, tylko część z nich dołącza się do drugiego atomu, który staje się anionem (naładowany ujemnie). Drugi jest kationem (naładowany dodatnio) i tworzą wspólny związek jonowy na zasadzie wzajemnego przyciągania elektrostatyczn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 podstawie tych informacji zastanów się, jakie wiązanie występuje w cząsteczce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może Ci w tym układ okresowy pierwiastków w podaną elektroujemnością każdego z n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08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008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ązania w cząsteczce wody s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ązaniami kowalencyjnymi spolaryzowany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onieważ tlen posiada wyższą od wodoru elektroujemność, zatem elektrony tworzące wiązanie są przesunięte w jego kierunku. Wokół atomu tlenu gromadzi się ładunek ujemny (tak wpływa bliska obecność elektronów), zaś wokół atomów wodoru ładunek dodat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związku z tym cząsteczka wody posiada moment dipolowy i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pol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owa cząsteczki wody jest nieliniowa, a kąt w wiązaniu wodór – tlen – wodór wynosi niecałe 10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Nad atomem tlenu gromadzi się ładunek ujemny, natomiast nad atomami wodoru – dodatni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Zastanów się jaki ma to wpływ na inne substancje, które znajdą się w wodzie jak i na samą wod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3322800"/>
            <a:ext cx="360036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obraźcie sobie substancję, która zbudowana jest z jonów (dodatnich kationów i ujemnych anionów). Jej uproszczony schemat przedstawia poniższy rysu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 jaki sposób na taką substancję będzie wpływała woda? Czy będzie ona jej dobrym rozpuszczalniki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714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nieważ woda je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po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est zate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brym rozpuszczalnikiem związków jonowych i polarny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ynika to zarówno z nieliniowej struktury cząsteczki wody jak i z obecności trwałego momentu dipolowego. Wyjaśnia to poniższy sche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69166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ulega także procesow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ocja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zyli wiązan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ząsteczek wody za pomocą wiązań wodorowych. Jest on następstwem ich specyficznej bud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2473200"/>
            <a:ext cx="66247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oda ulega takż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utodysocja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jednak jest to proces na tyle słaby, że stężenie formy zdysocjowanej jest pomijalne. Reakcja ta przebiega w następujący sposó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           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jon hydroniowy        jon oksoni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chemicznie czystej wodzie stężenie jonów hydroniowego i oksoniowego wynoszą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cność tych jonów jednak decyduje                             o właściwościach wody związanych z rozpuszczaniem innych substancji polarnych i jon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067280" y="2205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406692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jest jedną z najbardziej rozpowszechnionych substancji na świecie. Ciało człowieka składa się           z około 70 % wody. Jest ona siedliskiem życia wielu organizmów, a także substratem w wielu reakcjach. Jest niezbędna do tego, aby na Ziemi mogło istnieć życ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łowiek dziennie powinien wypijać około 2 litrów wody. W związku z tym cała populacja ludzka, zamieszkująca naszą planetę powinna każdego dnia spożywać łącznie około 14 miliardów litrów wod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Właściwości w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eźcie teraz do ręki naczynie z wodą i przyjrzyjcie jej się uważnie. Co możecie o niej powiedzieć na pierwszy rzut o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 zapac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ejrzy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łynny stan sku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jest lep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ubstancja, która występuje 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zech stanach skupie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iało stałe (lód), ciecz (woda) i gaz (para wod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MC900441750[1]"/>
          <p:cNvPicPr/>
          <p:nvPr/>
        </p:nvPicPr>
        <p:blipFill>
          <a:blip r:embed="rId1"/>
          <a:stretch/>
        </p:blipFill>
        <p:spPr>
          <a:xfrm>
            <a:off x="4788000" y="177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jako źródło ży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jako substancja chemic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łaściwości w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P900427792[1]"/>
          <p:cNvPicPr/>
          <p:nvPr/>
        </p:nvPicPr>
        <p:blipFill>
          <a:blip r:embed="rId1"/>
          <a:stretch/>
        </p:blipFill>
        <p:spPr>
          <a:xfrm>
            <a:off x="5219640" y="3429000"/>
            <a:ext cx="2876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cechuje się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malną rozszerzalnością temperaturow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iększość substancji wraz ze wzrostem temperatury zwiększa swoją objętość,           a zmniejsza ją, gdy temperatura sp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natomiast zmniejsza swoją objętość ze spadkiem temperatury, jednak tylko do osiągnięci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Od tej wartości jej objętość zaczyna rosnąć. W podanej temperaturze gęstość wody jest najwięks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 myślisz, w jaki sposób jest wykorzystywana ta specyficzna właściwość wo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Łatwo możemy zaobserwować tę właściwość wystawiając pełną wody i zakręconą butelkę na mró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niej ludzie wykorzystywali fakt, że woda poniżej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zwiększa swoją objętość do rozłupywania skał. W szczeliny wlewano wodę, która zamarzając na mrozie odrywała od siebie poszczególne skalne blo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MC900241311[1]"/>
          <p:cNvPicPr/>
          <p:nvPr/>
        </p:nvPicPr>
        <p:blipFill>
          <a:blip r:embed="rId1"/>
          <a:stretch/>
        </p:blipFill>
        <p:spPr>
          <a:xfrm>
            <a:off x="6659640" y="5013360"/>
            <a:ext cx="1817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da posiada także największ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pięcie powierzchniow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Jest ono wynikie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hez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zyli wewnętrznych oddziaływań między cząsteczkami wody, stanowiącymi o spójności tych cząstecz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 możemy to zaobserwować i do czego ta właściwość wody może być przydatn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lewając powoli wody do szklanki zauważymy, że część wody wystaje poza górną krawędź naczynia, tworząc tzw. menisk wypukły. Wynika to właśnie z siły wzajemnego przyciągania cząsteczek wody, które są w stanie utrzymać pewną jej ilość ponad szklan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łaściwość ta przydaje się między innymi drobnemu owadowi – nartnikowi – który potrafi poruszać się po powierzchni wody odbijając się od niej cały czas utrzymując się nad wod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potrafi wytworzyć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brzymie ciśnien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 porach i naczyniach roś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zemu może ono służyć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kiełkującym nasieniu ciśnienie może wynosić kilkaset atmosfer. Tak olbrzymie ciśnienie powoduje, że młoda siewka bez problemu potrafi przebić się przez asfa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za tym ciśnienie wody wykorzystywane jest chociażby w procesach cięcia. Stosowana jest technologia cięcia różnych materiałów za pomocą strumienia wody, który pod wysokim ciśnieniem jest w stanie zastąpić narzędzia tną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MC900383120[1]"/>
          <p:cNvPicPr/>
          <p:nvPr/>
        </p:nvPicPr>
        <p:blipFill>
          <a:blip r:embed="rId1"/>
          <a:stretch/>
        </p:blipFill>
        <p:spPr>
          <a:xfrm>
            <a:off x="7731000" y="5300640"/>
            <a:ext cx="12304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 j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ściśliw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Oznacza to, że pod wpływem wywieranego na nią ciśnienia nie zmienia swojej objęt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o czego może być wykorzystywana ta właściwość wo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łaśnie ta cecha wody wykorzystywana jest chociażby w przypadku hamulców hydraulicznych. Woda znajdująca się w przewodach hamulcowych pod wpływem ucisku nie zmienia swojej objętości, tzn. nie można jej ścisnąć. Dzięki temu dociska i powoduje przesunięcie elementów hamując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MC900439791[1]"/>
          <p:cNvPicPr/>
          <p:nvPr/>
        </p:nvPicPr>
        <p:blipFill>
          <a:blip r:embed="rId1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da ma wyjątkowo wysoką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jemność ciepl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Oznacza to, że aby zmienić jej temperaturę o jeden stopień, potrzeba bardzo wiele ciepł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W jaki sposób wykorzystywana jest ta właściwość wod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ewno każdy miał okazję dotknąć w zimie gorącego kaloryfera. Wykorzystuje on właśnie tę właściwość wody,            o której mówimy. W jego wnętrzu znajduje się woda, która podgrzana do wysokiej temperatury dzięki wysokiej pojemności cieplnej potrafi ją także długo zach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rza i oceany są naturalnymi rezerwuara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iepła, które łagodzą klimat. Wynika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nie z opisanej powyżej właściwości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MC900078783[1]"/>
          <p:cNvPicPr/>
          <p:nvPr/>
        </p:nvPicPr>
        <p:blipFill>
          <a:blip r:embed="rId1"/>
          <a:stretch/>
        </p:blipFill>
        <p:spPr>
          <a:xfrm>
            <a:off x="6659640" y="4076640"/>
            <a:ext cx="205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oda jako źródło ży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mia nazywana jest często Błękitną Planet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laczego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MP900430849[1]"/>
          <p:cNvPicPr/>
          <p:nvPr/>
        </p:nvPicPr>
        <p:blipFill>
          <a:blip r:embed="rId1"/>
          <a:stretch/>
        </p:blipFill>
        <p:spPr>
          <a:xfrm>
            <a:off x="2340000" y="2781360"/>
            <a:ext cx="4608360" cy="33814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5"/>
          <p:cNvSpPr/>
          <p:nvPr/>
        </p:nvSpPr>
        <p:spPr>
          <a:xfrm>
            <a:off x="755640" y="333360"/>
            <a:ext cx="777708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zeczywiście, nasza planeta widziana z Kosmosu wyróżnia się swoim błękitnym kolorem. Pochodzi on od wody, która pochłania światło widzialne w zakresie barwy czerwonej stukrotnie silniej niż błękit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oda zajmuje około 71 % powierzchni Ziemi. Gdyby zamknąć ją całą w kuli, to miałaby ona średnicę 1385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alibri"/>
              </a:rPr>
              <a:t>Czy to dużo, czy ma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obraźcie sobie, że średnica Ziemi wynosi 12 748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Wykonajcie z gazet jej model, a następnie model „kuli wody” w skali 1:100 000 000 i porównajcie je ze sob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ala 1:100 000 000 oznacza, że 1 cm w modelu odpowiada 100 000 000 cm w rzeczywist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km = 100 00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km = 1000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nika z tego, że 1 cm w modelu odpowiada 1000 km                 w rzeczywist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tem 12 748 km w modelu będzie mierzyło okoł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2,7 cm, a 1385 km – ok. 1,4 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Calibri"/>
              </a:rPr>
              <a:t>Odpowiedzcie teraz na pytanie, czy zasoby wody na naszej planecie się duże, czy mał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132000" y="1413000"/>
            <a:ext cx="719280" cy="1439640"/>
          </a:xfrm>
          <a:custGeom>
            <a:avLst/>
            <a:gdLst>
              <a:gd name="textAreaLeft" fmla="*/ 0 w 719280"/>
              <a:gd name="textAreaRight" fmla="*/ 259560 w 719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zego szukają naukowcy na innych planetach rozważając możliwość istnienia na nich życ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zywiście szukają WODY! W 2008 roku odkryto wodę na Marsie, a w następnym roku na Księżyc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MP900401287[1]"/>
          <p:cNvPicPr/>
          <p:nvPr/>
        </p:nvPicPr>
        <p:blipFill>
          <a:blip r:embed="rId1"/>
          <a:stretch/>
        </p:blipFill>
        <p:spPr>
          <a:xfrm>
            <a:off x="2124000" y="14130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Ziemi pierwsze żywe organizmy powstały      w wodzie. Wskazuje to, jak ważne dla rozwoju życia jest środowisko wod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ym z pierwszych czworonogów była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chtiosteg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Była to forma przejściowa między rybami a płazami. Jako jeden z pierwszych gatunków zwierząt opuściła siedlisko wodne        i „wyszła na ląd”. Miało to miejsce około 380 mln lat te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Woda jako substancja chemi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ększość z Was na pewno wie, jaki wzór chemiczny ma woda.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rzypomnijmy go za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a atomy wodoru, jeden atom tl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84360" y="333360"/>
            <a:ext cx="784836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omy w związkach chemicznych połączone są za pomocą wiązań chemicznych. Polegają  one na połączeniu się niesparowanych elektronów leżących na ostatniej powłoce każdego atomu w ten sposób, że tworzą one wspólne pary elektronow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ązania chemiczne różnią się między sobą pod względem lokalizacji w cząsteczce uwspólnionej już pary elektronów, tworzących to wią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10-21T18:49:46Z</dcterms:modified>
  <cp:revision>92</cp:revision>
  <dc:subject/>
  <dc:title>Slajd 1</dc:title>
</cp:coreProperties>
</file>