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0636-FE54-4680-9545-6DEB325C0C7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5454-4EE8-42BF-BBB2-900C02C9AF0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8DF1-F813-4CA0-BF20-255D482B903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E2B3-8557-48F6-A141-B18AFD4B09A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EF4B-C040-4311-BCFA-92EDA9216AF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wnętrzna warstwa mózgu to pień mózgu. Pobudza najbardziej podstawowe czynności organizmu, jak oddychanie czy krążeni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Środkowa warstwa mózgu, to układ limbiczny. Odpowiada za to, co przeżywam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ewnętrzna, czyli kora, to nasze przemyślane działan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7929-E005-4AFB-BECE-741DC0DD7D0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ło emocji skonstruował w 1980 roku amerykański psycholog Roberta Plutchik – schemat obejmuje 8 emocji podstawowych (gniew, strach, smutek, obrzydzenie, zaskoczenie, przewidywanie, zaufanie i radość). Emocje te pozwalają definiować emocje złoż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AD5B-F231-4491-9E23-29461BDEC1F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kład limbiczny w całości uważany jest za zespół ośrodków, kontrolujących zachowania emocjonalne. Środkowa warstwa mózgu złożona jest z wielu elementów m.in.: wzgórza, przez które przechodzą wszystkie docierające do nas wrażenia, ciała migdałowatego, które uruchamia reakcję emocjonaln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odźce pochodzące z układu limbicznego powodują aktywizację innej części mózgu – podwzgórza, które zawiera ważne ośrodki kierujące reakcjami emocjonalnym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ewne zespoły zachowania, charakterystyczne dla takich stanów jak lęk i gniew można wywołać drażniąc określone części podwzgórza. U zwierząt pozbawionych kory mózgu, z zachowanym podwzgórzem, występują, nawet pod wpływem minimalnych bodźców, zespoły zmian somatycznych i wegetatywnych, charakterystycznych dla gwałtownych stanów emocjonalnych. Napady te nie pojawiają się, jeśli wraz z korą mózgu zostanie usunięte podwzgórze. U chorych z zespołami podwzgórzowymi stwierdza się często zmienność nastroju i nadmierną drażliwość. Ponadto mogą występować napady przymusowego płaczu lub śmiechu jak również napady nieuzasadnionej wściekłośc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AFF7-A2FE-475A-A876-99DA05FB305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F038-1A39-4251-B0CE-2EDC7E7454B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6F6D-9F6A-4AF9-82CC-560FA16E0D0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803B-AF2F-4CEB-9CCF-DBF9AFF6FE3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4859-D755-4418-B78D-71489639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476C-C516-41DF-B491-111908FA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826-8AD2-4B60-9206-E5026561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B84E-49C6-494A-9D8B-B934A9F2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C300-00D9-48AC-8B11-1861664B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6377-A63D-4026-8DAF-09B3C130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BF3A-61E2-4593-A0E1-406C53CF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037D-A550-4A7C-B82B-B3167B60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E104-C771-44B9-A9C8-8D575DA2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611F-E321-4224-8EA2-189F4336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6151-3317-4188-AEC9-D6CC5312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55FD-6607-4F56-A273-DC6345B8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D883-B4E0-48CE-95FC-2F0E02C4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4FFB-123E-44D1-BCA9-8772F1E6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ACF7-2F0C-44D7-9841-CF052C9A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070D-5DC2-4050-9A81-29FDC572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1FD4-9193-4E1E-8B5A-79280628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474A-D289-4ADE-946E-917D4B32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931F-62C2-450D-A630-334EE4E1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7ECD-0EB9-428C-BBB9-4EFE8E6E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DE90-7598-4AB3-A097-4E9C46FC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A692-D074-499D-B1E8-6557B11B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8466-3F9E-4BA6-B4AA-FD35D237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F019-B6D6-490A-914B-D29734BA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50A5-FBE4-4076-B28E-39D121EAD3A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989C-5556-43BF-8FB4-DD6E54A1D0B1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zdrowymozg.pl/wp-content/uploads/2013/03/brain_by_kanasta1975-d4nus66.pn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ytuł 1"/>
          <p:cNvSpPr/>
          <p:nvPr/>
        </p:nvSpPr>
        <p:spPr>
          <a:xfrm>
            <a:off x="1187280" y="1125360"/>
            <a:ext cx="7345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c00000"/>
                </a:solidFill>
                <a:latin typeface="Calibri"/>
              </a:rPr>
              <a:t>Wyrażanie emocji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http://fc04.deviantart.net/fs71/i/2012/339/f/2/face_emotions_study_by_robedirobrob-d5n59lj.jpg"/>
          <p:cNvPicPr/>
          <p:nvPr/>
        </p:nvPicPr>
        <p:blipFill>
          <a:blip r:embed="rId1"/>
          <a:stretch/>
        </p:blipFill>
        <p:spPr>
          <a:xfrm>
            <a:off x="1116000" y="2133720"/>
            <a:ext cx="64944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000000"/>
                </a:solidFill>
                <a:latin typeface="Calibri"/>
              </a:rPr>
              <a:t>Dziękuję za uwagę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rostokąt 1"/>
          <p:cNvSpPr/>
          <p:nvPr/>
        </p:nvSpPr>
        <p:spPr>
          <a:xfrm>
            <a:off x="395280" y="333360"/>
            <a:ext cx="8280360" cy="52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66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▪ 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ózg człowie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▪ 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arstwy mózg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▪ 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ło emoc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▪ 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zęści mózgu odpowiedzialne za emoc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▪ 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▪ 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łowa klucz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ytuł 1"/>
          <p:cNvSpPr/>
          <p:nvPr/>
        </p:nvSpPr>
        <p:spPr>
          <a:xfrm>
            <a:off x="4716360" y="3908520"/>
            <a:ext cx="4427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ytuł 1"/>
          <p:cNvSpPr/>
          <p:nvPr/>
        </p:nvSpPr>
        <p:spPr>
          <a:xfrm>
            <a:off x="0" y="404640"/>
            <a:ext cx="590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Calibri"/>
              </a:rPr>
              <a:t>Mózg człowiek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780000" y="1341360"/>
            <a:ext cx="5364000" cy="57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jbardziej złożony narzą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nacznie bardziej pofałdowan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  niż mózgi innych ssakó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kłada się z 4 płató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ciągu 2 mln lat prawie potroił swoją masę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jlepiej chroniona i strzeżona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część 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rganizmu –posiada zabezpieczenie z czaszk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średni mózg Homo sapiens został wyliczon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 na 1350 mililitró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ziała na zasadzie przekazywania sygnałów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 elektrycznych z szybkością błyskawic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4" descr="http://zdrowymozg.pl/wp-content/uploads/2013/03/brain_by_kanasta1975-d4nus66.png"/>
          <p:cNvPicPr/>
          <p:nvPr/>
        </p:nvPicPr>
        <p:blipFill>
          <a:blip r:embed="rId1"/>
          <a:stretch/>
        </p:blipFill>
        <p:spPr>
          <a:xfrm>
            <a:off x="0" y="2133720"/>
            <a:ext cx="3591000" cy="27082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9"/>
          <p:cNvSpPr/>
          <p:nvPr/>
        </p:nvSpPr>
        <p:spPr>
          <a:xfrm>
            <a:off x="324000" y="5373720"/>
            <a:ext cx="32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zdrowymozg.pl/wp-content/uploads/2013/03/brain_by_kanasta1975-d4nus66.png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ytuł 1"/>
          <p:cNvSpPr/>
          <p:nvPr/>
        </p:nvSpPr>
        <p:spPr>
          <a:xfrm>
            <a:off x="-181080" y="4046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c00000"/>
                </a:solidFill>
                <a:latin typeface="Calibri"/>
              </a:rPr>
              <a:t>Warstwy mózg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93236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http://www.historiasztuki.com.pl/ilustracje/film/Plutchik-wheel.jpg"/>
          <p:cNvPicPr/>
          <p:nvPr/>
        </p:nvPicPr>
        <p:blipFill>
          <a:blip r:embed="rId1"/>
          <a:stretch/>
        </p:blipFill>
        <p:spPr>
          <a:xfrm>
            <a:off x="3132000" y="83664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06" name="Prostokąt 1"/>
          <p:cNvSpPr/>
          <p:nvPr/>
        </p:nvSpPr>
        <p:spPr>
          <a:xfrm>
            <a:off x="324000" y="399960"/>
            <a:ext cx="48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10253f"/>
                </a:solidFill>
                <a:latin typeface="Calibri"/>
              </a:rPr>
              <a:t>Koło emocj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1979640" y="1230480"/>
            <a:ext cx="6192720" cy="5267160"/>
          </a:xfrm>
          <a:prstGeom prst="rect">
            <a:avLst/>
          </a:prstGeom>
          <a:ln w="0">
            <a:noFill/>
          </a:ln>
        </p:spPr>
      </p:pic>
      <p:sp>
        <p:nvSpPr>
          <p:cNvPr id="108" name="Tytuł 1"/>
          <p:cNvSpPr/>
          <p:nvPr/>
        </p:nvSpPr>
        <p:spPr>
          <a:xfrm>
            <a:off x="4716360" y="3908520"/>
            <a:ext cx="4427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ytuł 1"/>
          <p:cNvSpPr/>
          <p:nvPr/>
        </p:nvSpPr>
        <p:spPr>
          <a:xfrm>
            <a:off x="441360" y="260280"/>
            <a:ext cx="788364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76092"/>
                </a:solidFill>
                <a:latin typeface="Calibri"/>
              </a:rPr>
              <a:t>Części mózgu odpowiedzialn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76092"/>
                </a:solidFill>
                <a:latin typeface="Calibri"/>
              </a:rPr>
              <a:t>za emocj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796000" y="6021360"/>
            <a:ext cx="3056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http://www.vismaya-maitreya.pl/ch40c2.jpg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ytuł 1"/>
          <p:cNvSpPr/>
          <p:nvPr/>
        </p:nvSpPr>
        <p:spPr>
          <a:xfrm>
            <a:off x="4716360" y="3908520"/>
            <a:ext cx="4427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539640" y="39996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755640" y="1916280"/>
            <a:ext cx="712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azarus, R. S.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Emotion and Adaptation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New York, Oxford University Press, 199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asquera R., Manstead, A. S. R. i Fischer, A. H.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The role of honour in emotional reactions to bleoffences.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Cognition and Emotion, 16 (1), 143 – 163, 200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oleman D.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Inteligencja Emocjonalna,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znań, 199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tradowski J.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Głowa nie od parady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Wprost 20/20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rzegorek J., Jerzmanowski A., Spalik K., Staroń K.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Biologi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WSiP, Warszawa, 20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ytuł 1"/>
          <p:cNvSpPr/>
          <p:nvPr/>
        </p:nvSpPr>
        <p:spPr>
          <a:xfrm>
            <a:off x="4716360" y="3908520"/>
            <a:ext cx="4427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50920" y="189000"/>
            <a:ext cx="5976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Calibri"/>
              </a:rPr>
              <a:t>Materiały on-line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31720" y="1844640"/>
            <a:ext cx="770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ttp://1.bp.blogspot.com/_UNpL6gDn2rY/TNmWMu-FV2I/AAAAAAAAAKM/Rg2kIgiHk_U/s320/Reptilian+brain+-+1.gif  trzy warstw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ttp://fc04.deviantart.net/fs71/i/2012/339/f/2/face_emotions_study_by_robedirobrob-d5n59lj.jpg zdjęcie emoc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ttp://www.historiasztuki.com.pl/strony/015-00-00-FILM-LID.html koło emocj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ytuł 1"/>
          <p:cNvSpPr/>
          <p:nvPr/>
        </p:nvSpPr>
        <p:spPr>
          <a:xfrm>
            <a:off x="4716360" y="3908520"/>
            <a:ext cx="4427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ytuł 1"/>
          <p:cNvSpPr/>
          <p:nvPr/>
        </p:nvSpPr>
        <p:spPr>
          <a:xfrm>
            <a:off x="0" y="476280"/>
            <a:ext cx="66596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000000"/>
                </a:solidFill>
                <a:latin typeface="Calibri"/>
              </a:rPr>
              <a:t>Słowa kluczow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484360" y="1628640"/>
            <a:ext cx="3960720" cy="36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móz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emocj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ewoluc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Kotowicz Grzegorz</cp:lastModifiedBy>
  <dcterms:modified xsi:type="dcterms:W3CDTF">2013-08-11T09:46:20Z</dcterms:modified>
  <cp:revision>345</cp:revision>
  <dc:subject/>
  <dc:title>Slajd 1</dc:title>
</cp:coreProperties>
</file>