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84A-33D3-4607-90AE-0F4742D9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A6B-2F3D-4CAF-AB53-127A9342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B5D-9A0E-4C66-90FF-2209AC04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34A-6260-497E-BA74-85507ECE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C46D-C5A1-425D-AE9D-259D6479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8C31-B2BD-4D1A-8BBB-41B4C5DC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5BA9-6669-4785-AF78-751DF034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7A60-28D1-4834-9C50-A322D2A6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02B8-8AE3-426B-A136-12471415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A844-AA93-46BB-B315-2AD60567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DDC3-9DA4-4D5A-B453-68424A0E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418-4A9A-441D-8124-B9ADB474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BA89-EFAB-41E4-AE50-A1FBE36F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E725-3F18-4076-B0AD-D4D7F2B8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153C-54D0-4EB4-84B2-95F7B126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E0E4-0469-4724-8AF0-6A4B6596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2CC2-D15C-4586-A87E-5485383E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DE84A-96D8-4886-BA4F-6253CA94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CA895-D915-4A12-A298-EE05A4E7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F5CD4-697B-45F1-9F70-9CB72E43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37A3E-7FDF-430A-9357-AAC3D86D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51B0E-1F7C-4035-9E4C-0B14D7A9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CC9-7F59-4BA2-B638-D924250B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13CA-5949-4D4C-AC71-9F1C76D4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2480-6301-4BA2-875E-A48FF0F8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510CA-2E99-4DD7-A6A7-C999AB78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B66C5-8600-4F63-9904-DF36F691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53E22-1DC2-4CAD-B261-C67F9BE1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5A002-AE8B-4A6E-B84E-FCD9AE41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952FE-BAFD-4277-A353-C8FE5A7D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CD6-41F8-46F0-BD4A-28D0F7A7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49E-CD01-4C21-AA8B-B42FC119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055-4DCA-4A32-8968-4716AFD2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E40-C50F-42D7-8817-066F67E6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FBF-2D47-4C12-B43F-DB9B2B90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5F4-3635-4F29-960F-E8FCB3DC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4936-5DD9-4F70-B477-92D75E36485E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C43F-6BF9-469D-943C-010E8EA064E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86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87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B84B-18F0-4D9D-BF32-1DEFE044BF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79280" y="1989000"/>
            <a:ext cx="8785440" cy="32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aszyny proste. Dźwignia jedno i dwustronna. Równia pochyła. Maszyny proste a zasada zachowania energii. Praca i moc. Stany przeciążenia i niedociążenia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Budowa i zastosowanie maszyn prostych: dźwignie, równia pochyła. Zasada zachowania energii. Definicja pracy i mocy. Pojęcie stanów przeciążenia i niedociążenia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684360" y="620640"/>
          <a:ext cx="5756040" cy="58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20640"/>
                    <a:ext cx="575604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4"/>
          <p:cNvSpPr/>
          <p:nvPr/>
        </p:nvSpPr>
        <p:spPr>
          <a:xfrm>
            <a:off x="4572000" y="1700280"/>
            <a:ext cx="3889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a tarczy wagi sprężynowej zaznaczono położenie wskazówki (ciężar ciała) gdy winda pozostawała w spoczynku lub poruszała się rucham jednostajnym). Waga wskazuje wartość N (siły napięcia linki, na której zawieszono przedmiot o ciężarze mg). Wartość przyspieszenia windy oznaczono a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95280" y="1125360"/>
            <a:ext cx="82090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tan niedociążenia - to stan, w którym wartości sił nacisku pomiędzy elementami danego układu, powstałe na skutek sił zewnętrznych działających na układ, są mniejsze od wartości sił ciężkości, jakie działają na elementy układu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astępny slajd przedstawi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tan niedociążen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w windzie. Z sytuacją taką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&lt; mg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) mamy do czynienia wówczas, gdy winda porusza się tak, że wektor jej przyspieszenia (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) ma zwrot w dół i wartość z przedziału; 0&lt;a&lt;g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g - wartość przyspieszenia ziemskiego, m - masa ciała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 Przyspieszenie windy ma zwrot w dół gdy ta porusza się coraz szybciej w dół (rozpędza się) lub coraz wolniej w górę (hamuje)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dy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= g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my do czynienia ze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nem nieważkości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 = 0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324000" y="907920"/>
          <a:ext cx="5756040" cy="572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07920"/>
                    <a:ext cx="5756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"/>
          <p:cNvSpPr/>
          <p:nvPr/>
        </p:nvSpPr>
        <p:spPr>
          <a:xfrm>
            <a:off x="4788000" y="1628640"/>
            <a:ext cx="38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a tarczy wagi sprężynowej zaznaczono położenie wskazówki (ciężar ciała) gdy winda pozostawała w spoczynku lub poruszała się rucham jednostajnym). Waga wskazuje wartość N (siły napięcia linki, na której zawieszono przedmiot o ciężarze mg). Wartość przyspieszenia windy oznaczono;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684360" y="620640"/>
            <a:ext cx="81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oment siły  – M = rFsi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gdzie: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 – odległość od osi obrotu (punktu odniesienia) do punktu zaczepienia siły (wartość wektora ramienia siły), F – wartość siły, α- kąt między wektorami r i F. Wektor momentu siły jest wektorem osiowym, zaczepiony jest w punkcie zaczepienia wektora r, a jego kierunek jest prostopadły do płaszczyzny wyznaczonej przez wektory r i F, a zwrot ustala się z reguły śruby prawoskrętnej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1476360" y="2549520"/>
          <a:ext cx="6515280" cy="404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549520"/>
                    <a:ext cx="651528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4000" y="692280"/>
            <a:ext cx="82994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źwignia jednostronna - maszyna prosta, stosowana do uzyskania działania większej siły w wyniku działania siły mniejszej. Dźwignia jednostronna to sztywna belka podparta na jednym z końców (osi przechodzącej przez jeden z jej końców). Zaznaczone odległości r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i r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to tzw. ramiona sił o wartościach odpowiednio F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i F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1403280" y="2133720"/>
          <a:ext cx="5756400" cy="34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133720"/>
                    <a:ext cx="575640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39640" y="692280"/>
            <a:ext cx="813600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źwignia dwustronna – maszyna prosta, stosowana do uzyskania działania większej siły w wyniku działania siły mniejszej. Dźwignia dwustronna to sztywna belka podparta w punkcie pomiędzy jej końcami  (osi obrotu przechodzącej przez belkę w punkcie pomiędzy jej końcami). Zaznaczone odległości r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i r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to tzw. ramiona sił o wartościach odpowiednio F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i F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693800" y="1711440"/>
          <a:ext cx="5756400" cy="34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3800" y="1711440"/>
                    <a:ext cx="575640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250920" y="1989000"/>
            <a:ext cx="8497800" cy="30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by dźwignia była w równowadze momenty sił 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i 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względem punktu podparcia muszą  mieć te same wartości ponieważ ich zwroty są przeciwne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= 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68360" y="765000"/>
            <a:ext cx="828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ównia pochyła – maszyna prosta, stosowana (rysunek poniżej) do unoszenia ciężkich ciał za pomocą siły (o wartości F) mniejszej od wartości ich ciężaru (mg)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gdzie: m - masa ciała, g - wartość przyspieszenie ziemskiego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403280" y="1916280"/>
          <a:ext cx="5756400" cy="34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16280"/>
                    <a:ext cx="575640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250920" y="2060640"/>
            <a:ext cx="84978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astępny slajd przedstawia trwający niecałe 6 min. film ilustrujący zastosowanie maszyn prostych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Żródło;  </a:t>
            </a:r>
            <a:r>
              <a:rPr b="0" lang="pl-PL" sz="1800" spc="-1" strike="noStrike">
                <a:solidFill>
                  <a:srgbClr val="4f81bd"/>
                </a:solidFill>
                <a:latin typeface="Arial"/>
                <a:ea typeface="Arial"/>
              </a:rPr>
              <a:t>http://www.youtube.com/watch?v=cvaUqc_Lyic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7" name="Prezentacja - Fizyka - Maszyny Proste_(ALLConverter).wmv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128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68360" y="1052640"/>
            <a:ext cx="8207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tany przeciążenia – to stan, w którym wartości sił nacisku pomiędzy elementami danego układu, powstałe na skutek sił zewnętrznych działających na układ, są większe od wartości sił ciężkości, jakie działają na elementy układu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astępny slajd przedstawia stan przeciążenia w windzie. Z sytuacją taką ( N&gt; mg) mamy do czynienia wówczas, gdy winda porusza się tak, że wektor jej przyspieszenia (a) ma zwrot w górę (g - wartość przyspieszenia ziemskiego, m - masa ciała). Przyspieszenie windy ma zwrot w górę, gdy ta porusza się coraz szybciej w górę (rozpędza się) lub coraz wolniej w dół (hamuje)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0:34Z</dcterms:created>
  <dc:creator>Ministerstwo Edukacji Narodowej i Sportu</dc:creator>
  <dc:description/>
  <dc:language>en-US</dc:language>
  <cp:lastModifiedBy>Agnieszka</cp:lastModifiedBy>
  <dcterms:modified xsi:type="dcterms:W3CDTF">2013-09-17T19:28:04Z</dcterms:modified>
  <cp:revision>93</cp:revision>
  <dc:subject/>
  <dc:title>KORPUSKULARNO-FALOWA NATURA ŚWIATŁA</dc:title>
</cp:coreProperties>
</file>