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BEA-2983-48B8-BBB0-914437ACAF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ADC6-1442-42FA-8E98-AA434FEA69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4D19-E685-42B8-9EE4-199803887D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DAC3-ED3E-433B-B508-78506F3F08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2D7A-7678-408B-8527-D311AE3589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B13-AEE7-4E39-927D-5E276DF238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5D44-8FE5-4116-B43B-A4607509B9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C9B-A79B-4419-BB60-C6BB2329E3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41E-7717-46DE-A676-E932DD70DA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4A3-107F-455D-907E-D64252E28A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EB5-EAC6-407B-A5DB-A48A65C8BF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03AD-5AEE-438C-BA79-7B6034E270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3E6-F8B3-4D46-8F34-08754FA331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C01-BCB4-4B03-91F9-8226B86F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D33-CDE2-44C7-88F4-0D6EAD4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C11-E81E-44AA-99CE-F0E91AB7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315-E9C6-48CB-A583-B7EBC518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C18A-1B25-4425-BE98-A34329CB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3283-640D-4ECD-B5DD-C366BFBB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D35C-CED4-41DA-993A-7EC09B51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0BA5-62BC-4AE3-A60E-EF796DBB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B60E-037D-449D-B3D9-DB78823D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F4E-59F9-4DBE-82FF-A826376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0B65-C9AA-4C5A-B25C-D5DFF55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AF8-3C8B-4C68-92DD-4B472C62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583A-173B-4902-B791-DE16541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6E39-91CA-4EE9-8CE1-6C4C390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D103-2294-4E46-B97F-891FDAE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F6A7-3C90-4F92-81FD-A7B30164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F260-EC01-4D8A-9A6F-3D1B3999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79A-B676-4B85-9072-3E00595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8B1-387C-4142-ABB7-46617C3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BDD-9232-44C0-A9A6-EC00609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CC2-51F0-4887-A196-245A76B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0C0-B93C-4FDD-ABB2-40BDB07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588-4C8B-4163-B03F-B6BEB91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C3B-023B-4341-84BD-730C10F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DD2D-D43F-48A2-9511-36F13F42C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4794-99C5-4F8C-BA50-20C8812C9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Kanony piękn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eoria doboru płc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XX wieku zaczęło się kształtować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iologi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podejście do wzorców pięk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70-tych zaczęła rozwijać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a doboru płcioweg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a jako teoria naukowa została zaakceptowana dopiero           w latach 80-t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ała ona dać odpowied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fakt wykształca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niektóre osobniki ce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niżających przystosowanie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odowis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np. jaskrawe barw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tóre są prowokujące dla drapieżnik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MP900403200[1]"/>
          <p:cNvPicPr/>
          <p:nvPr/>
        </p:nvPicPr>
        <p:blipFill>
          <a:blip r:embed="rId1"/>
          <a:stretch/>
        </p:blipFill>
        <p:spPr>
          <a:xfrm>
            <a:off x="4643280" y="3068640"/>
            <a:ext cx="3959280" cy="2637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9"/>
          <p:cNvSpPr/>
          <p:nvPr/>
        </p:nvSpPr>
        <p:spPr>
          <a:xfrm>
            <a:off x="900000" y="404640"/>
            <a:ext cx="748980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ku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982 Malte Andersso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dowodnił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oru płcioweg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na przykładzie ptaków z rodziny wikłaczowatych. Okazuje się, że samice o wiele częściej wybierały sam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długimi ogonami, co jest cechą drugorzędn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ęki wykształceniu charakterystycznych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rugo-        i trzeciorzędnych ce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osobniki mogą w ten sposób niejako „zareklamować” swoje wal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ór płciowy wskazuje na pewne preferencje poszczególnych osobników w obrębie gatunku. Można stwierdzić, że pewne cechy po prostu „bardziej się podobają”. Jest t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alny wymiar pięk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y wpływa na dobór naturalny                     i podtrzymanie gatun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godnie z teorią doboru naturalnego zostały także określone preferencje człowieka co do wyglądu. Preferowane s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etria cia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ższy wzrost (u mężczyz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znaki młod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ka proporcja talii do bioder (u kobi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raźne cechy płci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ładka skó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cechy świadczą o dobrym zdrowiu i tzw. „dobrych genach”, dają zatem szansę na zdrowe potomstwo. Cechy te zostały ukształtowane w wyniku ewolucji i postrzeganie ich przez człowieka jako atrakcyjnych, czyli po prostu pięknych, jest elementem doboru płciowego, z którego często nie zdajemy sobie spra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P900448532[1]"/>
          <p:cNvPicPr/>
          <p:nvPr/>
        </p:nvPicPr>
        <p:blipFill>
          <a:blip r:embed="rId1"/>
          <a:stretch/>
        </p:blipFill>
        <p:spPr>
          <a:xfrm>
            <a:off x="5796000" y="1484280"/>
            <a:ext cx="30956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cja pięk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ękno na przestrzeni wie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ony pięk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a doboru płci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Definicja pięk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 bardzo dawna człowiek podświadomie dążył do piękna, które zawsze było kategorią estetyczną wywołując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zytyw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kojarzenia. Można powiedzieć, że piękno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yrażeniem dob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zczególnie w czasach starożytnych to stwierdzenie nabierało szerszego konteks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MC900036378[1]"/>
          <p:cNvPicPr/>
          <p:nvPr/>
        </p:nvPicPr>
        <p:blipFill>
          <a:blip r:embed="rId1"/>
          <a:stretch/>
        </p:blipFill>
        <p:spPr>
          <a:xfrm>
            <a:off x="6300720" y="1916280"/>
            <a:ext cx="267336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iękno na przestrzeni dziej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starożytności piękno było tożsame                z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konałości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Dotyczyło nie tylko kategorii estetycznych, ale również moral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agorejczycy uważali, że piękno wynika głównie z zachowani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rmonii i symet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Było to podejście matematyczne do kwestii kanonów pięk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ług starożytnych uczonych piękno wyrażało się m.in. w zachowaniu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or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Kanony pięk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ękno próbowano nazywać i systematyzować.        W ten sposób powstały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no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tóre były zbiorem reguł i zasad tworzenia sztuki (w bardzo szerokim aspekc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dzie odczuwali potrzebę określenia doskonałości, chociaż nigdy nie udało się stworzyć jednej definicji pięk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chowało się sporo dzieł, których autorzy podejmowali problematykę określenia reguł rządzących sztuk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V wieku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stworzył rysunek człowieka wpisany w okrąg i kwadrat. Obecnie znany jest on jako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złowiek witruwiańs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ponieważ miał być ilustracją do dzieł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ruwiusza           „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O architekturze ksiąg dziesięcioro”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ym podnosił temat kanonów pięk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ysunek przedstawia idealną wg. Witruwiusza postać człowieka, którego wysokość równa jest rozstawowi jego ram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schowek01zzzz"/>
          <p:cNvPicPr/>
          <p:nvPr/>
        </p:nvPicPr>
        <p:blipFill>
          <a:blip r:embed="rId1"/>
          <a:stretch/>
        </p:blipFill>
        <p:spPr>
          <a:xfrm>
            <a:off x="4500720" y="1268280"/>
            <a:ext cx="43923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la starożytnych bardzo ważne były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proporcje ciał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liklet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ludzkiego ci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izyp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9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ludzkiego ciał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itruwiusz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10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ciała. Oprócz tego inne wymiary ciała ludzkiego także dają się opisać matematycznie, np. długość mierzona od nadgarstka do łokcia jest długością stopy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ążenia do sformalizowania i ścisłego określenia tego, „co jest piękne, a co nie jest” były na tyle silne, że część reguł zostało spisa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ten sposób powstały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dlinni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czyli wytyczne opisujące reguły tworzenia ik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linniki zawierały wzornik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óre były uznawane za kan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róćcie uwagę, że wyobraż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ch samych postaci na ikon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o siebie bardzo podob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taka sama poza, strój i kolory)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ikona"/>
          <p:cNvPicPr/>
          <p:nvPr/>
        </p:nvPicPr>
        <p:blipFill>
          <a:blip r:embed="rId1"/>
          <a:stretch/>
        </p:blipFill>
        <p:spPr>
          <a:xfrm>
            <a:off x="5867280" y="2492280"/>
            <a:ext cx="2617920" cy="3529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79600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kona Matki Bożej z Dzieciątk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ony piękna obowiązywały do czasów współczesnych, chociaż zmieniały się               w różnych epokach i kręgach kultu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czasach współczesnych artyści zarzucili tworzenie według kanonów, niejednokrotnie zupełnie się im sprzeciwiają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ękno przestało by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ożsamiane wyłącz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jednym, oficjaln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owiązującym wzo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huj"/>
          <p:cNvPicPr/>
          <p:nvPr/>
        </p:nvPicPr>
        <p:blipFill>
          <a:blip r:embed="rId1"/>
          <a:stretch/>
        </p:blipFill>
        <p:spPr>
          <a:xfrm>
            <a:off x="5867280" y="3068640"/>
            <a:ext cx="2544840" cy="3097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867280" y="6165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.Picasso „Kobieta płacząca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29T22:17:05Z</dcterms:modified>
  <cp:revision>76</cp:revision>
  <dc:subject/>
  <dc:title>Slajd 1</dc:title>
</cp:coreProperties>
</file>