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C04A-6B6C-4628-A889-AA80DD9A1BD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5E01-31B9-4F3D-BBF3-BD8C0011A2D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AE11-4B90-42C0-AEC6-656E52887D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921-2BF0-4501-94EB-B423673D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217-6FDD-41D6-9D35-8D255DEF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FAC-ABC8-4348-AED2-4673F7E3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229-3573-4DB6-A62C-4D185991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4673-CE5F-4AA7-A803-430D1962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09BB-8902-4059-90F8-1C50BFD1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ACAC-EF31-436F-A579-F2FB9B65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7D35-5151-45F7-A026-C4EF4FE1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298D-2F32-4AB1-ADD5-1405BDEB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CB88-3FB5-4478-A2A7-4D2D791A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6857-1608-4160-A85A-0CF34697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68B-2363-44EA-A3AF-08D9DCB0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7AEC-4679-4461-BED1-D2CFA3E2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143F-687D-4433-9C59-5842599F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D953-A116-4F29-BF8A-CB02DDFB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EDE4-80A7-4F27-A58B-B5BBD1F1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0BFA-DEAA-4E02-B7A7-A4B01628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427-7828-43DA-A0C3-31A4D64F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ED5-77AD-4FB3-9A59-59CC96A7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75D-C508-487B-A292-97F324BD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4CE-9344-4513-92F6-BD5091A5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BF2-7551-4C30-98D6-434C985A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E21-B33D-4658-A713-D6490663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BC0-BCF7-4B9D-8125-654E2FF8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54D7-A2E4-45ED-8369-E9893C704C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419F-BADD-4E75-B336-62213F154F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Rzeźbotwórcza działalność rzek i morza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oralow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budowane są przez koralowce tworzą tzw. rafy koralowe. Z tego względu występują jedynie w ciepłych i płytkich wodach (dostęp światła). Rafy koralowe zatrzymują fale morskie, które kierują się w stronę brzegu. Rafy koralowe należą do najbogatszych pod względem bioróżnorodności ekosystemów świata! Występują np. wzdłuż wschodniego wybrzeża Austral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morzynow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występują w strefie tropikalnej i tworzone są przez tzw. lasy namorzynowe, które są przystosowane do życia w strefie pływów morskich. Podczas przypływu korzenie drzew tworzących te lasy są zatopione w wodzie, natomiast podczas odpływu korzenie są odsłonięte tworząc plątaninę, która chroni brzeg przed kolejną falą przypływ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Rzeźbotwórcza działalność rz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zeki, podobnie jak morza, są czynnikiem kształtującym rzeźbę terenu. Ich zakres oddziaływania jest jednak inny, ponieważ przepływają przez lądy żłobiąc w nich stosunkowo wąskie „wstęgi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zeki na całej swojej długości zmieniają swój charakter. W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órnym bieg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najbliżej źródła) dolina rzeczna jest zazwyczaj najwęższa i woda płynie tam najszybciej. Z tego powodu przeważającym rodzajem działalności jest ta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rozj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środkowym bieg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lina rzeczna się poszerza, by w dolnym biegu całkowicie spowolnić, niejednokrotnie tworząc tzw. rozlewiska. Dominującym typem działalności rzek w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lnym bieg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e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kumulacj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476280"/>
            <a:ext cx="813600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ziałalność erozyj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górnym biegu rzeki koryto jest stosunkowo wąskie a prąd na tyle silny, że niesiony przez wody materiał skalny nie zdąży się osadzić na dnie. Przeciwnie – siła spadku wody i jej uderzenie o brzeg jest na tyle mocne, że powoduje jego podmywanie. Również tarcie wody o dno jest przyczyną pogłębiania koryta rze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Symbol zastępczy tekstu 2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511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rozja wgłęb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najsilniejsza jest tam, gdzie rzeka ma największy spadek. Długotrwałym efektem erozji wgłębnej jest powstawanie głębokich dolin V-kształtnych i kanionów. Jednym z najbardziej znanych przykładów tej działalności jest Wielki Kanion Colorado w U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rozja bocz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występuje najczęściej w środkowym lub dolnym biegu rzeki. Polega na podcinaniu jednego z brzegów rzeki, wskutek czego tworzą się meandry (zakola rzeczne). Gdy zostaną odcięte od głównego nurtu rzeki, wówczas powstają tzw. starorzecza. Ten typ erozji można obserwować np. nad Biebrz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rozja wstecz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ten ciekawy tym erozji występuje najczęściej w dwóch przypadkach: przy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źródłach rzek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wodospada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źródł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w miejscu, w którym woda wypływa na powierzchnię ziemi tworzy się zagłębienie, które jest podcinane pod wpływem ciśnienia wypływającej wody. W efekcie źródło „cofa się” w stronę działu wodnego, co może doprowadzić do zjawiska kaptażu, czyli przejęcia wód wypływających w danego źródła przez inne znajdujące się po przeciwnej stronie wododziału. Takie zjawisko zachodzi m.in. w Bieszczadach (rzeka Udava po słowackiej stronie podcina główny wododział karpacki, by „przejąć” wody Solink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odospad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woda spadająca z progu tworzącego wodospad tworzy u jego podstawy niszę, która wraz z upływem czasu poszerza się w głąb skały, prowadząc w efekcie do oberwania progu i „cofnięcia się” wodospad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Symbol zastępczy tekstu 2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403884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ełomy rzeczne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– niezwykle malownicze formy ukształtowania terenu występujące w miejscach, gdzie rzeka pokonuje przeszkodę terenową (np. pasmo górskie). W tym miejscu jest ona najczęściej bardzo wąska, a jej nurt jest rwący. Przełomy charakteryzują się stromymi zboczami dolin, którymi rzeka „przedziera się” przez dany teren. Przykładem jest przełom Dunajca w Pienin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ziałalność akumulacyj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środkowym i dolnym biegu rzek, gdzie spadek jest mniejszy, a nurt zwalnia, pojawiają się dobre warunki do tego, by niesiony przez wody materiał osadził się na dnie lub brzegach. W ten sposób realizowana jest działalność akumulacyjna rzek, a naniesiony przez wody materiał nazywany je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uwiam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Symbol zastępczy tekstu 2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40388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elt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– powstają przy ujściu rzek, które posiadają  wysoką zdolność transportową (rzeki górskie) do rzek o mniejszej zdolności (nizinnych) lub do morza. Osady niesione przez rzekę odkładają się w formie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stożka napływoweg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który staje się przeszkodą dla płynącej wody i powoduje dalsze odkładanie się aluwiów.  Delta ma kształt trójkątny, zwężający się w kierunku rzeki nanoszącej osady. Przykładem tej formy akumulacji jest np. Delta Ni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asy zalew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te formy powstają wskutek naniesienia materiału na tereny nadrzeczne po powodziach. Występują powszechnie w dolinach rzecznych, tworząc płaskie przestrzenie wzdłuż głównego koryta rzeki. Ponieważ proces powstawania terasy jest cykliczny, może występować kilka jej poziomów oddzielonych od siebie prog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asy zalewowe to najczęściej tereny podmokłe lub zabagnione. Spotyka się na nich także torfowis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zeźbotwórcza działalność mó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erozyjna mó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akumulacyjna mó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zeźbotwórcza działalność rz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erozyjna rz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akumulacyjna rz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Rzeźbotwórcza działalność mór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y morskie mogą oddziaływać na rzeźbę terenu wówczas, gdy stykają się z lądem. Ma to miejsce w wąskim pasie tzw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ybrzeż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y wody uderzające o wybrzeża kształtują jego rzeźbę w dwojaki sposób. Mogą swoją siłą niszczyć i wyżłabiać ląd, ale mogą również nanosić materiał budujący nowe for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niszcząca nosi nazwę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erozj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dującą zaś nazywamy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akumulacj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76280"/>
            <a:ext cx="813600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ziałalność erozyj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 typ działalności przeważa wśród tzw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ybrzeży wysoki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Fale morskie uderzając o brzeg niszczą go i podmywają tworząc jednocześnie tzw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iszę abrazyjn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Brzeg cofa się tworząc urozmaiconą linię brzegową, w której nie brakuje zatok i półwysp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Symbol zastępczy tekstu 2" descr=""/>
          <p:cNvPicPr/>
          <p:nvPr/>
        </p:nvPicPr>
        <p:blipFill>
          <a:blip r:embed="rId1"/>
          <a:stretch/>
        </p:blipFill>
        <p:spPr>
          <a:xfrm>
            <a:off x="4572000" y="2381400"/>
            <a:ext cx="40384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y wybrzeży wysoki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lmatyński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ten typ wybrzeża wykształca się wówczas, gdy wody morskie zalewają łańcuchy górskie ułożone równolegle do wybrzeża. Występuje ono np. w Chorwa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iasow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ten typ wybrzeża powstaje także poprzez zalanie wodami morskimi łańcuchów górskich, jednak ustawionych do wybrzeża prostopadle. Przykładem jest południowo – zachodnie wybrzeże Irland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imanowe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nazwa pochodzi od zatok zamykanych przez piaszczyste wały, które nazywane są limanami. Powstają one wówczas, gdy ujścia rzek są zatapiane i odcinane półkolistymi piaszczystymi zakosami. Takie wybrzeża występują np. nad Morzem Czarn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iordowe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wykształcają się wskutek zalania przez wody morskie U-kształtnych górskich dolin. Fiordy wcinają się głęboko w ląd tworząc sieć wąskich i krętych zatok. Typowym przykładem reprezentującym ten typ wybrzeża jest np. Norweg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zkierow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ten typ wybrzeża tworzą liczne niewielkie wysepki rozsiane na styku lądu z morzem. Jest to wynik zalania terenu, na którym powszechne są formy polodowcowe. Takie wybrzeża występują np. w Szwe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ff"/>
                </a:solidFill>
                <a:latin typeface="Calibri"/>
              </a:rPr>
              <a:t>Odnajdź na mapie wymienione miejsca i przyjrzyj się uważnie linii brzegowej. Została ona ukształtowana poprzez działalność erozyjną morz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ziałalność akumulacyj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 typ działalności przeważa wśród tzw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ybrzeży niskich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le uderzające o brzeg tracą swoją prędkość, a co za tym idzie także siłę, w wyniku tarcie o płytkie dno morskie. Dzięki temu materiał niesiony przez wody morskie osiada i wybrzeże jest „nadbudowywane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Symbol zastępczy tekstu 2" descr=""/>
          <p:cNvPicPr/>
          <p:nvPr/>
        </p:nvPicPr>
        <p:blipFill>
          <a:blip r:embed="rId1"/>
          <a:stretch/>
        </p:blipFill>
        <p:spPr>
          <a:xfrm>
            <a:off x="4648320" y="2511360"/>
            <a:ext cx="40384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y wybrzeży niski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ierzejow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tworzone jest wówczas, gdy fale morskie uderzają o ląd ukośnie. Niesiony przez wody morskie materiał akumuluje się  w postaci piaszczystego wału (tzw. mierzei) powoli odcinając przybrzeżny fragment wód od otwartego morza. Przykładem jest np. Mierzeja Wiślana w Pols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gunow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jest efektem nanoszenia piasku blisko brzegu, w wyniku czego powstają liczne wysepki odcinające płytkie zatoki (tzw. laguny) od otwartego morza. Ten typ wybrzeża występuje np. w Wene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6-09T10:07:04Z</dcterms:modified>
  <cp:revision>32</cp:revision>
  <dc:subject/>
  <dc:title>Slajd 1</dc:title>
</cp:coreProperties>
</file>