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3918-8A1A-48A7-A693-6E3C251F867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9548-0EBC-401E-BC7E-F62370B809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953D-23EC-4048-BF5A-B1A665BA4A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E81-8B2D-46F0-950D-0AE4D4CE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1A0-E011-4C1F-9925-204677CE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866-D62D-47A7-B20B-85F5563C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1F8-DAB0-4708-A91E-9606F467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128C-2E6C-40E3-A849-0C2DF963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75BA-4047-4EF2-AC81-00EF41C4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CFC1-B368-4824-9EDE-A2FA41B8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376B-22B9-4383-9A71-6AF24576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0441-DD99-44C7-930E-0ADE7BD7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3F4E-4536-4455-92F7-30BCBF00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18B9-E923-44D7-A61C-0939CC71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25C-C2E7-4D37-9FF0-BAFAC40D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1D3B-31C6-44D5-AABF-F5636616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09C1-55C9-4A54-A27C-0C61C887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DC44-D689-404F-BAC2-96EB1BF8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D328-48FF-44F2-96B5-C1C25619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B146-A82B-4F78-87BB-17A14D5A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AF6-199F-4B99-A8C0-51EAEEF6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2E5-1668-45F8-ACBF-124E25DF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5E7-CE1F-4A84-9BBE-D41C8386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1DA-4D63-41C1-854F-ED850514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28B-E43F-4562-BC69-DD843C56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FF7-81F0-43E8-9972-8806A482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EB7-D9C8-4B92-AD0D-98F77B2B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201D-2BF7-496D-B484-2FB64810743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F6CD-8628-4DE5-B726-44CBD75515A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ole tekstowe 1" descr=""/>
          <p:cNvPicPr/>
          <p:nvPr/>
        </p:nvPicPr>
        <p:blipFill>
          <a:blip r:embed="rId1"/>
          <a:stretch/>
        </p:blipFill>
        <p:spPr>
          <a:xfrm>
            <a:off x="573120" y="2041560"/>
            <a:ext cx="8064360" cy="1103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H:\KPW\20PO\Materiały\Duchenne-FacialExpressions Mix.png"/>
          <p:cNvPicPr/>
          <p:nvPr/>
        </p:nvPicPr>
        <p:blipFill>
          <a:blip r:embed="rId2"/>
          <a:stretch/>
        </p:blipFill>
        <p:spPr>
          <a:xfrm>
            <a:off x="971640" y="3284640"/>
            <a:ext cx="71438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ymbol zastępczy zawartości 2"/>
          <p:cNvSpPr/>
          <p:nvPr/>
        </p:nvSpPr>
        <p:spPr>
          <a:xfrm>
            <a:off x="1042920" y="2349360"/>
            <a:ext cx="69836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dzaje mięśni mimicznych twa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nerwienie mięśni mimicznych twa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oksyny a mięśnie mimicz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ytuł 1"/>
          <p:cNvSpPr/>
          <p:nvPr/>
        </p:nvSpPr>
        <p:spPr>
          <a:xfrm>
            <a:off x="539640" y="1052640"/>
            <a:ext cx="8218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ymbol zastępczy zawartości 2"/>
          <p:cNvSpPr/>
          <p:nvPr/>
        </p:nvSpPr>
        <p:spPr>
          <a:xfrm>
            <a:off x="3564000" y="1700280"/>
            <a:ext cx="5256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ęśnie mimiczne twarzy odpowiedzialne są za ruch skóry twarz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z z narządem mowy odgrywają znaczącą rolę w ekspresji emocji takich, jak śmiech, płacz czy zdziwien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nadto wykonują czynności takie jak: mruganie, ruchy policzków podczas przyjmowania jedzenia, kształtowanie kęsów czy gwizdan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ytuł 1"/>
          <p:cNvSpPr/>
          <p:nvPr/>
        </p:nvSpPr>
        <p:spPr>
          <a:xfrm>
            <a:off x="45720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ięśnie mimiczne twar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H:\KPW\20PO\Materiały\Mięśnie twarzy.png"/>
          <p:cNvPicPr/>
          <p:nvPr/>
        </p:nvPicPr>
        <p:blipFill>
          <a:blip r:embed="rId1"/>
          <a:stretch/>
        </p:blipFill>
        <p:spPr>
          <a:xfrm>
            <a:off x="-396720" y="1844640"/>
            <a:ext cx="463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ymbol zastępczy zawartości 2"/>
          <p:cNvSpPr/>
          <p:nvPr/>
        </p:nvSpPr>
        <p:spPr>
          <a:xfrm>
            <a:off x="3564000" y="1628640"/>
            <a:ext cx="5256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dzaj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sklepienia czasz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otoczenia szpary pow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otoczenia szpary 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otoczenia nozd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małżowiny us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ytuł 1"/>
          <p:cNvSpPr/>
          <p:nvPr/>
        </p:nvSpPr>
        <p:spPr>
          <a:xfrm>
            <a:off x="45720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ięśnie mimiczne twar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H:\KPW\20PO\Materiały\Mięśnie twarzy.png"/>
          <p:cNvPicPr/>
          <p:nvPr/>
        </p:nvPicPr>
        <p:blipFill>
          <a:blip r:embed="rId1"/>
          <a:stretch/>
        </p:blipFill>
        <p:spPr>
          <a:xfrm>
            <a:off x="-396720" y="1844640"/>
            <a:ext cx="4638600" cy="34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:\KPW\20PO\Materiały\M Sklepienia czaszki.png"/>
          <p:cNvPicPr/>
          <p:nvPr/>
        </p:nvPicPr>
        <p:blipFill>
          <a:blip r:embed="rId2"/>
          <a:stretch/>
        </p:blipFill>
        <p:spPr>
          <a:xfrm>
            <a:off x="-396720" y="1836720"/>
            <a:ext cx="4608360" cy="3433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H:\KPW\20PO\Materiały\M Szpary powiek.png"/>
          <p:cNvPicPr/>
          <p:nvPr/>
        </p:nvPicPr>
        <p:blipFill>
          <a:blip r:embed="rId3"/>
          <a:stretch/>
        </p:blipFill>
        <p:spPr>
          <a:xfrm>
            <a:off x="-396720" y="1857240"/>
            <a:ext cx="4608360" cy="343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:\KPW\20PO\Materiały\M otoczenia szpary ust.png"/>
          <p:cNvPicPr/>
          <p:nvPr/>
        </p:nvPicPr>
        <p:blipFill>
          <a:blip r:embed="rId4"/>
          <a:stretch/>
        </p:blipFill>
        <p:spPr>
          <a:xfrm>
            <a:off x="-387360" y="1857240"/>
            <a:ext cx="4608360" cy="343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:\KPW\20PO\Materiały\M otoczenia nozdrzy.png"/>
          <p:cNvPicPr/>
          <p:nvPr/>
        </p:nvPicPr>
        <p:blipFill>
          <a:blip r:embed="rId5"/>
          <a:stretch/>
        </p:blipFill>
        <p:spPr>
          <a:xfrm>
            <a:off x="-374760" y="1851120"/>
            <a:ext cx="4608720" cy="343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:\KPW\20PO\Materiały\M Małżowiny usznej.png"/>
          <p:cNvPicPr/>
          <p:nvPr/>
        </p:nvPicPr>
        <p:blipFill>
          <a:blip r:embed="rId6"/>
          <a:stretch/>
        </p:blipFill>
        <p:spPr>
          <a:xfrm>
            <a:off x="-396720" y="1849320"/>
            <a:ext cx="46083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indefinite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indefinite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ymbol zastępczy zawartości 2"/>
          <p:cNvSpPr/>
          <p:nvPr/>
        </p:nvSpPr>
        <p:spPr>
          <a:xfrm>
            <a:off x="3564000" y="1700280"/>
            <a:ext cx="5256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erw sterujący mięśniami mimicznymi twarzy nazywa się nerwem twarzow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różnych chorób lub urazów, może dojść do porażenia nerwu twarz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jawem porażenia nerwu jest bezwład wybranej partii mięśni twarzow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ytuł 1"/>
          <p:cNvSpPr/>
          <p:nvPr/>
        </p:nvSpPr>
        <p:spPr>
          <a:xfrm>
            <a:off x="45720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ięśnie mimiczne twar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File:Cranial nerve VII.svg"/>
          <p:cNvPicPr/>
          <p:nvPr/>
        </p:nvPicPr>
        <p:blipFill>
          <a:blip r:embed="rId1"/>
          <a:stretch/>
        </p:blipFill>
        <p:spPr>
          <a:xfrm>
            <a:off x="250920" y="1844640"/>
            <a:ext cx="2927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ymbol zastępczy zawartości 2"/>
          <p:cNvSpPr/>
          <p:nvPr/>
        </p:nvSpPr>
        <p:spPr>
          <a:xfrm>
            <a:off x="900000" y="2901960"/>
            <a:ext cx="748836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oksyna botulinowa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lub inaczej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jad kiełbasian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 jest neurotoksyną i jedną z najbardziej trujących toksy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st produkowana przez beztlenowe bakteri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lostridium botulinu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i może naturalnie występować w niewłaściwie przechowywanej żywn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trucie nią prowadzi do porażenia różnych grup mięśni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 w konsekwencji może doprowadzić do śmier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ytuł 1"/>
          <p:cNvSpPr/>
          <p:nvPr/>
        </p:nvSpPr>
        <p:spPr>
          <a:xfrm>
            <a:off x="46836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oksyna botulin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D:\KPW\20PO\Materiały\toxic.png"/>
          <p:cNvPicPr/>
          <p:nvPr/>
        </p:nvPicPr>
        <p:blipFill>
          <a:blip r:embed="rId1"/>
          <a:stretch/>
        </p:blipFill>
        <p:spPr>
          <a:xfrm>
            <a:off x="3691080" y="1197000"/>
            <a:ext cx="13856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D:\KPW\20PO\Materiały\green-drugs-biohazard-chemical-poison-syringe-HD-Wallpapers.jpg"/>
          <p:cNvPicPr/>
          <p:nvPr/>
        </p:nvPicPr>
        <p:blipFill>
          <a:blip r:embed="rId1"/>
          <a:srcRect l="0" t="17181" r="5382" b="29992"/>
          <a:stretch/>
        </p:blipFill>
        <p:spPr>
          <a:xfrm>
            <a:off x="0" y="1341360"/>
            <a:ext cx="4716360" cy="1481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KPW\20PO\Materiały\botox.gif"/>
          <p:cNvPicPr/>
          <p:nvPr/>
        </p:nvPicPr>
        <p:blipFill>
          <a:blip r:embed="rId2"/>
          <a:stretch/>
        </p:blipFill>
        <p:spPr>
          <a:xfrm>
            <a:off x="6630840" y="4437000"/>
            <a:ext cx="1254240" cy="1671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D:\KPW\20PO\Materiały\Dysport.jpg"/>
          <p:cNvPicPr/>
          <p:nvPr/>
        </p:nvPicPr>
        <p:blipFill>
          <a:blip r:embed="rId3"/>
          <a:stretch/>
        </p:blipFill>
        <p:spPr>
          <a:xfrm>
            <a:off x="7740720" y="4438800"/>
            <a:ext cx="647640" cy="1590480"/>
          </a:xfrm>
          <a:prstGeom prst="rect">
            <a:avLst/>
          </a:prstGeom>
          <a:ln w="0">
            <a:noFill/>
          </a:ln>
        </p:spPr>
      </p:pic>
      <p:sp>
        <p:nvSpPr>
          <p:cNvPr id="119" name="Symbol zastępczy zawartości 2"/>
          <p:cNvSpPr/>
          <p:nvPr/>
        </p:nvSpPr>
        <p:spPr>
          <a:xfrm>
            <a:off x="468360" y="2924280"/>
            <a:ext cx="67896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kładowe zastosowanie toksyny botulinowej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eczenie kurczów mięś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eczenie ze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eczenie nadmiernego łzawienia lub poc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medycynie estetyc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ałanie toksyny botulinowej ma charakter  tymczasowy (ok. 3 - 6 miesię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ytuł 1"/>
          <p:cNvSpPr/>
          <p:nvPr/>
        </p:nvSpPr>
        <p:spPr>
          <a:xfrm>
            <a:off x="468360" y="260280"/>
            <a:ext cx="8218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oksyna botulinowa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tosow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ymbol zastępczy zawartości 2"/>
          <p:cNvSpPr/>
          <p:nvPr/>
        </p:nvSpPr>
        <p:spPr>
          <a:xfrm>
            <a:off x="2268360" y="1700280"/>
            <a:ext cx="5616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ięśnie mimiczne twar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rażenie nerwu twarz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ksyna botulino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d kiełbas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H:\KPW\20PO\Materiały\Funny man.png"/>
          <p:cNvPicPr/>
          <p:nvPr/>
        </p:nvPicPr>
        <p:blipFill>
          <a:blip r:embed="rId1"/>
          <a:stretch/>
        </p:blipFill>
        <p:spPr>
          <a:xfrm>
            <a:off x="539640" y="2206800"/>
            <a:ext cx="280836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ymbol zastępczy zawartości 2"/>
          <p:cNvSpPr/>
          <p:nvPr/>
        </p:nvSpPr>
        <p:spPr>
          <a:xfrm>
            <a:off x="428760" y="1305000"/>
            <a:ext cx="8218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natomia człowieka”, Tom I,  A, Bochenek, M. Reicher, Państwowy Zakład Wydawnictw Lekarskich, Warszawa 1989, Wydanie X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écanisme de la Physionomie Humai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”, Guillaume Duchenne,  Cambrige University Press, 199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gazyn Lekarza Okulisty”, Wydawnictwo BiOS, Numer (2)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nerwtwarzowy.republika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s://commons.wikimedia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AiG</cp:lastModifiedBy>
  <dcterms:modified xsi:type="dcterms:W3CDTF">2013-08-17T15:23:06Z</dcterms:modified>
  <cp:revision>138</cp:revision>
  <dc:subject>szablon prezentacji KPW</dc:subject>
  <dc:title>Zrównoważony rozwój</dc:title>
</cp:coreProperties>
</file>