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BF3C-1D82-4430-930D-39A50281BAA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FDB0-6CA5-41EE-A2B6-201892FACB1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5096-543E-4CFE-A7B0-4791BBFF7D4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E565-6A64-4165-9B57-CE2E507A550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1068-FDB0-4890-839F-A8D8ABE42B8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8782-15CA-4EEE-B96C-4E833D4797D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7426-BC9B-4F9E-AC8F-E34BD731788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632B-2420-4C2F-8237-EBA539278ED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F51D-9741-4BF1-8E07-DE017C79D14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3AFA-7C90-4155-9AA0-92D5FA66080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F8B8-DCB1-43F6-BB2E-61A874A4E5A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69F2-B44B-4C2D-8E9E-F13892A012E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D086-B6CD-47D9-90A2-65FC829588A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BCE6-AC6C-427E-A068-0D5C2A3A681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331F-8625-4B13-A7EF-524A4E5458B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4974-1A22-4B0A-A2C8-B7E3308BA57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7607E-B587-4C0D-85BB-F13D8989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588D8-B565-4443-BD7F-F224054E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46310-D2CB-45CC-B61D-86F150696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D1AD5-9238-4250-8A74-3067FB3D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AA390-FFC1-428F-8066-7252CE624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4BDD0-09AB-42A3-B32D-61BD5828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7ABE7-06AB-45DD-80AF-E6FB2ABC1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5F7DE-0086-454F-91B8-ADD30F15C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15676-625D-4718-A0AA-428EE024C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F6DF-9A05-4F8C-9419-1C49D5892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22FAE-6FC1-4BE5-8FA1-1D8C3A3E5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C240-F1EE-4B90-A575-1C3E8F351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1F20B-9FCE-4324-A0DE-BCACD19FB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8EA70-07EF-4956-8215-4382FA44A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98B1F-57F2-46FC-AD0E-59DBA5284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D9299-50AA-4F62-A537-9ED3EEC3F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03802-8618-43B1-8BDC-A64FCFCF5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E3398-5755-4B39-9A58-18572A0EA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423F-7118-49EB-B581-A0D094F8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23DCA-EE7E-4B6E-B1F9-7D1DF6DD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259D-CAF2-4090-A00F-A852D913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B89A-96C8-49E4-8128-8FA2D2CC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326F-645D-47F9-A339-1A53E122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D5BA-E05A-4056-A50C-B0EB618E4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03CB-B898-4EB2-98EF-E9810338F7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F41F-1B46-4D1E-B7BD-EE0C93381B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Historyczne teorie budowy Wszechświata</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765000"/>
            <a:ext cx="8229600" cy="489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Calibri"/>
              </a:rPr>
              <a:t>Eudoksos z Knido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st twórcą systemu sfer homocentrycznych, zgodnie z którym wokół centralnie położonej Ziemi znajduje się 27 sfer, na których położone są planety i gwiazdy. Teoria Eudoksosa zakładała, że planety zachowują stałą odległość od Ziemi.</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599840"/>
            <a:ext cx="8229600" cy="4853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Arystotele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edług niego dookoła Ziemi krążyć miały sfery zbudowane z kryształu, na których umiejscowione były planety i gwiazdy. Oprócz tego Arystoteles twierdził, że wszystko, co znajduje się w Kosmosie, zbudowane jest z pięciu substancji: wody, ognia, powietrza, ziemi i eteru.</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Ptolemeusz</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go teoria obowiązywała aż do XVI wieku. Zgodnie z nią planety poruszały się po epicyklach wyznaczonych przez koliste deferenty – orbity dookoła Ziemi (lub  wzdłuż innych epicykli zgodnie ze ściśle określonymi regułami).</a:t>
            </a:r>
            <a:endParaRPr b="0" lang="en-US" sz="2400" spc="-1" strike="noStrike">
              <a:solidFill>
                <a:srgbClr val="000000"/>
              </a:solidFill>
              <a:latin typeface="Calibri"/>
            </a:endParaRPr>
          </a:p>
        </p:txBody>
      </p:sp>
      <p:pic>
        <p:nvPicPr>
          <p:cNvPr id="122" name="Picture 4" descr="MC900353611[1]"/>
          <p:cNvPicPr/>
          <p:nvPr/>
        </p:nvPicPr>
        <p:blipFill>
          <a:blip r:embed="rId1"/>
          <a:stretch/>
        </p:blipFill>
        <p:spPr>
          <a:xfrm>
            <a:off x="2050920" y="189000"/>
            <a:ext cx="135576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333000"/>
            <a:ext cx="8229600" cy="579276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Europa w XVI wieku</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ikołaj Kopernik</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onał on olbrzymiego przełomu w astronomii. Przede wszystkim usunął Ziemię z centralnego punktu, a wstawił w to miejsce Słońce. Założył jednak błędnie, że wszystkie planety poruszają się ruchem jednostajnym, co było pozostałością po dotychczas obowiązujących teoriach geocentrycznych.</a:t>
            </a:r>
            <a:endParaRPr b="0" lang="en-US" sz="3200" spc="-1" strike="noStrike">
              <a:solidFill>
                <a:srgbClr val="000000"/>
              </a:solidFill>
              <a:latin typeface="Calibri"/>
            </a:endParaRPr>
          </a:p>
        </p:txBody>
      </p:sp>
      <p:pic>
        <p:nvPicPr>
          <p:cNvPr id="125" name="Picture 4" descr="MC900083185[1]"/>
          <p:cNvPicPr/>
          <p:nvPr/>
        </p:nvPicPr>
        <p:blipFill>
          <a:blip r:embed="rId1"/>
          <a:stretch/>
        </p:blipFill>
        <p:spPr>
          <a:xfrm>
            <a:off x="5940360" y="476280"/>
            <a:ext cx="1819440" cy="180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28760" y="571320"/>
            <a:ext cx="8229600" cy="57927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Johannes Kepler</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zupełnił teorię Kopernika wprowadzając do niej założenie, że planety poruszają się po elipsoidalnych orbitach ze zmienną prędkością. Wykorzystując teorię grawitacji Newtona oraz znakomite wyniki doświadczeń Tychona Brahe sformułował swoje własne prawa dotyczące ruchu planet wokół Słońca.</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Giordano Bruno</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wierdził, że przestrzeń kosmiczna jest nieskończona, w związku z tym może pomieścić nieskończoną ilość gwiazd i planet podobnych do Ziemi. Został spalony na stosie przez Inkwizycję.</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260280"/>
            <a:ext cx="8229600" cy="586584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Współczesna teoria budowy Wszechświata</a:t>
            </a:r>
            <a:endParaRPr b="0" lang="en-US" sz="40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cnie model budowy Wszechświata jest wzbogacony o ogólną teorię względności opracowaną przez Alberta Einstein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godnie z nią otaczająca na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zasoprzestrzeń jes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akrzywiona w wyniku działania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rawitacji, a Wszechświat</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ale się rozszerza. </a:t>
            </a:r>
            <a:endParaRPr b="0" lang="en-US" sz="3200" spc="-1" strike="noStrike">
              <a:solidFill>
                <a:srgbClr val="000000"/>
              </a:solidFill>
              <a:latin typeface="Calibri"/>
            </a:endParaRPr>
          </a:p>
        </p:txBody>
      </p:sp>
      <p:pic>
        <p:nvPicPr>
          <p:cNvPr id="130" name="Picture 4" descr="MP900400992[1]"/>
          <p:cNvPicPr/>
          <p:nvPr/>
        </p:nvPicPr>
        <p:blipFill>
          <a:blip r:embed="rId1"/>
          <a:stretch/>
        </p:blipFill>
        <p:spPr>
          <a:xfrm>
            <a:off x="468360" y="3213000"/>
            <a:ext cx="2244600" cy="2808360"/>
          </a:xfrm>
          <a:prstGeom prst="rect">
            <a:avLst/>
          </a:prstGeom>
          <a:ln w="0">
            <a:noFill/>
          </a:ln>
        </p:spPr>
      </p:pic>
      <p:sp>
        <p:nvSpPr>
          <p:cNvPr id="131" name="Rectangle 6"/>
          <p:cNvSpPr/>
          <p:nvPr/>
        </p:nvSpPr>
        <p:spPr>
          <a:xfrm>
            <a:off x="684360" y="333360"/>
            <a:ext cx="770400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 to jest Wszechświat</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czne modele Wszechświata</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ologia hindusk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y Babilon</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a Grecj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ropa w XVI wieku</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spółczesna teoria budowy Wszechświata</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Co to jest Wszechświat?</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d najdawniejszych czasów ludzie chcieli poznać to, co ich otacza. Fascynowała ich przyroda, ale także to, czego nie mogli zobaczyć z bliska, czyli </a:t>
            </a:r>
            <a:r>
              <a:rPr b="0" lang="en-US" sz="2800" spc="-1" strike="noStrike">
                <a:solidFill>
                  <a:srgbClr val="000000"/>
                </a:solidFill>
                <a:latin typeface="Arial"/>
              </a:rPr>
              <a:t>K</a:t>
            </a:r>
            <a:r>
              <a:rPr b="0" lang="en-US" sz="2800" spc="-1" strike="noStrike">
                <a:solidFill>
                  <a:srgbClr val="000000"/>
                </a:solidFill>
                <a:latin typeface="Calibri"/>
              </a:rPr>
              <a:t>osmos.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la człowieka pierwotnego jego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Arial"/>
              </a:rPr>
              <a:t>K</a:t>
            </a:r>
            <a:r>
              <a:rPr b="0" lang="en-US" sz="2800" spc="-1" strike="noStrike">
                <a:solidFill>
                  <a:srgbClr val="000000"/>
                </a:solidFill>
                <a:latin typeface="Calibri"/>
              </a:rPr>
              <a:t>osmosem było najbliższe mu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otoczenie. Dopiero z czasem ludzi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zaczęli dostrzegać gwiazdy i inn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iała niebieskie. </a:t>
            </a:r>
            <a:endParaRPr b="0" lang="en-US" sz="2800" spc="-1" strike="noStrike">
              <a:solidFill>
                <a:srgbClr val="000000"/>
              </a:solidFill>
              <a:latin typeface="Calibri"/>
            </a:endParaRPr>
          </a:p>
        </p:txBody>
      </p:sp>
      <p:pic>
        <p:nvPicPr>
          <p:cNvPr id="101" name="Picture 5" descr="MC900436672[1]"/>
          <p:cNvPicPr/>
          <p:nvPr/>
        </p:nvPicPr>
        <p:blipFill>
          <a:blip r:embed="rId1"/>
          <a:stretch/>
        </p:blipFill>
        <p:spPr>
          <a:xfrm>
            <a:off x="468360" y="3789360"/>
            <a:ext cx="2160720" cy="2043000"/>
          </a:xfrm>
          <a:prstGeom prst="rect">
            <a:avLst/>
          </a:prstGeom>
          <a:ln w="0">
            <a:noFill/>
          </a:ln>
        </p:spPr>
      </p:pic>
      <p:sp>
        <p:nvSpPr>
          <p:cNvPr id="102" name="Rectangle 6"/>
          <p:cNvSpPr/>
          <p:nvPr/>
        </p:nvSpPr>
        <p:spPr>
          <a:xfrm>
            <a:off x="684360" y="476280"/>
            <a:ext cx="770400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0" y="333000"/>
            <a:ext cx="8686800" cy="5792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stronomią zajmowali się już mieszkańcy starożytnego Egiptu i Mezopotamii. Już 3 tysiące lat przed naszą erą ustalono, że rok trwa 365 dni. Obserwując gołym okiem gwiazdy udało się także nazwać pierwsze gwiazdozbior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u ówczesnych uczonych próbowało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ciec, jak zbudowany jest Wszechświ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Żadnemu z nich nie przyszło zapewne na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yśl, że kiedyś człowiek stanie na </a:t>
            </a:r>
            <a:r>
              <a:rPr b="0" lang="pl-PL" sz="3200" spc="-1" strike="noStrike">
                <a:solidFill>
                  <a:srgbClr val="000000"/>
                </a:solidFill>
                <a:latin typeface="Arial"/>
              </a:rPr>
              <a:t>K</a:t>
            </a:r>
            <a:r>
              <a:rPr b="0" lang="pl-PL" sz="3200" spc="-1" strike="noStrike">
                <a:solidFill>
                  <a:srgbClr val="000000"/>
                </a:solidFill>
                <a:latin typeface="Calibri"/>
              </a:rPr>
              <a:t>siężycu!</a:t>
            </a:r>
            <a:endParaRPr b="0" lang="en-US" sz="3200" spc="-1" strike="noStrike">
              <a:solidFill>
                <a:srgbClr val="000000"/>
              </a:solidFill>
              <a:latin typeface="Calibri"/>
            </a:endParaRPr>
          </a:p>
        </p:txBody>
      </p:sp>
      <p:pic>
        <p:nvPicPr>
          <p:cNvPr id="105" name="Picture 7" descr="MC900438714[1]"/>
          <p:cNvPicPr/>
          <p:nvPr/>
        </p:nvPicPr>
        <p:blipFill>
          <a:blip r:embed="rId1"/>
          <a:stretch/>
        </p:blipFill>
        <p:spPr>
          <a:xfrm>
            <a:off x="6948360" y="2637000"/>
            <a:ext cx="205128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Historyczne modele Wszechświata</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Mitologia hindusk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najstarszych wyobrażeń Kosmosu znajdują się te, o których mówi mitologia hinduska. Zgodnie z nią wiele wszechświatów zostało stworzonych podczas wydechu Mahawisznu – pana czasu i natury. Są one niszczone podczas jego wdechu i ten proces powtarza się wielokrotnie. </a:t>
            </a:r>
            <a:endParaRPr b="0" lang="en-US" sz="3200" spc="-1" strike="noStrike">
              <a:solidFill>
                <a:srgbClr val="000000"/>
              </a:solidFill>
              <a:latin typeface="Calibri"/>
            </a:endParaRPr>
          </a:p>
        </p:txBody>
      </p:sp>
      <p:sp>
        <p:nvSpPr>
          <p:cNvPr id="108" name="Rectangle 4"/>
          <p:cNvSpPr/>
          <p:nvPr/>
        </p:nvSpPr>
        <p:spPr>
          <a:xfrm>
            <a:off x="684360" y="476280"/>
            <a:ext cx="784836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692280"/>
            <a:ext cx="8229600" cy="54338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Starożytny Babil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dna z pierwszych teorii opisujących budowę Kosmosu powstała w starożytnym Babilonie. Zgodnie z nią Ziemia miała być półkulą, nad którą znajdowało się niebo, po którym za dnia wędrowało Słońce. Nocą natomiast przebywało ono pod Ziemią – w Krainie Zmarł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333000"/>
            <a:ext cx="8229600" cy="604836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1" lang="pl-PL" sz="2800" spc="-1" strike="noStrike">
                <a:solidFill>
                  <a:srgbClr val="000000"/>
                </a:solidFill>
                <a:latin typeface="Calibri"/>
              </a:rPr>
              <a:t>Starożytna Grecja</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awie wszyscy wielcy filozofowie greccy zajmowali się konstruowaniem poglądów na temat budowy Wszechświata. </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Tales z Miletu</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edług niego Ziemia była tarczą, która pływała po olbrzymim oceanie, natomiast wszystkie ciała niebieskie każdego dnia odbywały wędrówkę w głąb tego oceanu, aby kolejnego dnia pojawić się nad Ziemią.</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ales twierdził także, że wszystkie spotykane na Ziemi substancje pochodzą od wody i są jedną z jej for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itagoras</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z ze swoimi uczniami odkrył, że Ziemia nie musi być płaskim dyskiem, tylko jest kulą. Według nich Ziemia była centrum Kosmosu otoczonym przez sfery niebieskie, na których znajdowały się planety. Na najbardziej zewnętrznej sferze umiejscowione były stałe gwiazdy </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la Pitagorasa i jego uczniów wszelkie substancje istniejące na Ziemi były tylko formą liczb. Na tej podstawie powstała także teoria harmonii sfer.</a:t>
            </a:r>
            <a:endParaRPr b="0" lang="en-US" sz="2400" spc="-1" strike="noStrike">
              <a:solidFill>
                <a:srgbClr val="000000"/>
              </a:solidFill>
              <a:latin typeface="Calibri"/>
            </a:endParaRPr>
          </a:p>
        </p:txBody>
      </p:sp>
      <p:pic>
        <p:nvPicPr>
          <p:cNvPr id="115" name="Picture 4" descr="MC900353608[1]"/>
          <p:cNvPicPr/>
          <p:nvPr/>
        </p:nvPicPr>
        <p:blipFill>
          <a:blip r:embed="rId1"/>
          <a:stretch/>
        </p:blipFill>
        <p:spPr>
          <a:xfrm>
            <a:off x="1908000" y="189000"/>
            <a:ext cx="15465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oria harmonii sfer</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tagorejczycy uznawali, że każda z planet znajdujących się na sferach otaczających Ziemię wydaje osobliwy dźwięk o określonej częstotliwości. Zakładali oni, że planety położone są względem siebie w taki sposób, iż ich odległości spełniają odpowiednie stosunki liczbowe. Zgodnie z tym założeniem dźwięki wydawane przez poszczególne planety doskonale się uzupełniały, podobnie jak dźwięki na pięciolinii. Efektem tego miała być niesłyszalna dla ucha ludzkiego muzyka, którą miał rozbrzmiewać cały Kosmos w idealnej harmon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5-13T19:37:33Z</dcterms:modified>
  <cp:revision>61</cp:revision>
  <dc:subject/>
  <dc:title>Slajd 1</dc:title>
</cp:coreProperties>
</file>