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E379-47A5-4724-BFD0-B5BDBF7F7F5E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6366-F426-4C3C-B1BA-3F858134E77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B1AE-6F7B-485B-8462-45A8EB3325C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5E972-63C2-4696-A4B8-6AB1D39ABE8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256C-E3AB-4C8F-B148-1B70E4BA4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812B-651C-4136-9888-21991700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6D3F-7D8F-4EAE-BD38-71539A0BB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8E04-479E-43AB-8F7B-52129E611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696FF-8FBA-46CF-A5B9-F9D171B73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DBB2-99B9-4981-BAC8-A1C8E79E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CFC8-F7E5-41E2-A127-601156BD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1A7A-E343-4E16-85B6-FD88FE1E7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C5E3-35EC-4522-8124-9342C56D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3AE6-7539-4CAF-8695-4E97654F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7218-2708-40CB-8AA2-BC95BB19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B035-CF81-4941-AC6E-782FA075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D52D-3366-42E5-BF5F-C670738F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C644-D3AC-41A8-A914-00699F47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F11D-CBEA-44A2-B38B-11DEF452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7926-17B5-4AE8-846A-2C7DCC0BD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6636-6142-4575-9199-93AE79FE6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2F78-CF56-4E7E-8933-A22348F1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1CCC-9C14-4388-B7CC-E4DD7A1A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31AF-CEB5-431C-AF44-BACC0A4B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5B33-36B9-4BBC-882C-22EEE678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0417-F111-4476-B06E-BF2372EE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9309-816D-4470-89BC-5F9EAE5C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C0B5-38CD-433F-A3F3-8CAF4F5C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F73A-5113-4614-8B41-04673B8BB51B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D253-1EC1-4272-92F9-89580AC67A45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795672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Szyszynka i melatonina</a:t>
            </a:r>
            <a:br>
              <a:rPr sz="4900"/>
            </a:b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 w cyklach okołodobowych</a:t>
            </a:r>
            <a:br>
              <a:rPr sz="4900"/>
            </a:b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 i okołorocznych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8728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dr Elżbieta Ćwior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alszy rozwój badań nad melatoniną nastąpił w latach siedemdziesiątych, po wprowadzeniu odkrytej przez Rosalin Yellow, radioimmunologicznej metody oznaczania hormonów (RIA). Od tego czasu możliwe było mierzenie stężenia hormonu w krwi, w samej szyszynce i w tkankach organizm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zyszyn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Symbol zastępczy zawartości 3" descr="szyszynka.jpg"/>
          <p:cNvPicPr/>
          <p:nvPr/>
        </p:nvPicPr>
        <p:blipFill>
          <a:blip r:embed="rId1"/>
          <a:srcRect l="52051" t="52471" r="0" b="0"/>
          <a:stretch/>
        </p:blipFill>
        <p:spPr>
          <a:xfrm>
            <a:off x="2124000" y="1700280"/>
            <a:ext cx="4464000" cy="3344760"/>
          </a:xfrm>
          <a:prstGeom prst="rect">
            <a:avLst/>
          </a:prstGeom>
          <a:ln w="0">
            <a:noFill/>
          </a:ln>
        </p:spPr>
      </p:pic>
      <p:sp>
        <p:nvSpPr>
          <p:cNvPr id="123" name="Prostokąt 3"/>
          <p:cNvSpPr/>
          <p:nvPr/>
        </p:nvSpPr>
        <p:spPr>
          <a:xfrm>
            <a:off x="611280" y="5805360"/>
            <a:ext cx="820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https://encrypted-tbn0.gstatic.com/images?q=tbn:ANd9GcTobiIBVs8iZ9qnwuuu0qkB2sAFL5AvB-NCz9Ugl306gj0Ko1B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zyszynka – umiejscowienie gruczoł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8" descr="https://encrypted-tbn0.gstatic.com/images?q=tbn:ANd9GcQJWBg9Sv2XH2zjrPjVY2fnFWZx0KNnl5_jDjqaYZFrFDkZTXPC"/>
          <p:cNvPicPr/>
          <p:nvPr/>
        </p:nvPicPr>
        <p:blipFill>
          <a:blip r:embed="rId1"/>
          <a:stretch/>
        </p:blipFill>
        <p:spPr>
          <a:xfrm>
            <a:off x="108000" y="1460520"/>
            <a:ext cx="5759280" cy="4776840"/>
          </a:xfrm>
          <a:prstGeom prst="rect">
            <a:avLst/>
          </a:prstGeom>
          <a:ln w="0">
            <a:noFill/>
          </a:ln>
        </p:spPr>
      </p:pic>
      <p:pic>
        <p:nvPicPr>
          <p:cNvPr id="126" name="Prostokąt 7" descr=""/>
          <p:cNvPicPr/>
          <p:nvPr/>
        </p:nvPicPr>
        <p:blipFill>
          <a:blip r:embed="rId2"/>
          <a:stretch/>
        </p:blipFill>
        <p:spPr>
          <a:xfrm>
            <a:off x="4322880" y="5638680"/>
            <a:ext cx="4613040" cy="854280"/>
          </a:xfrm>
          <a:prstGeom prst="rect">
            <a:avLst/>
          </a:prstGeom>
          <a:ln w="0">
            <a:noFill/>
          </a:ln>
        </p:spPr>
      </p:pic>
      <p:sp>
        <p:nvSpPr>
          <p:cNvPr id="127" name="pole tekstowe 4"/>
          <p:cNvSpPr/>
          <p:nvPr/>
        </p:nvSpPr>
        <p:spPr>
          <a:xfrm>
            <a:off x="5517360" y="2133720"/>
            <a:ext cx="157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zyszyn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zyszynka u człowie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611280" y="1574640"/>
            <a:ext cx="799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 człowieka jest niewielkim gruczołem (ok. 170 mg), w części nadwzgórza, (międzymózgowie), objęta miękką oponą mózgu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życiu płodowym rozwija się ze sklepienia międzymózgowia. Składa się z komórek PINEALOCYTÓW, oraz z komórek śródmiąż-szowych. Unerwiona adrenergicznie (zakończenia włókien współczulnych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zyszynka u niższych kręgowców jest ważną, światłoczułą strukturą (</a:t>
            </a:r>
            <a:r>
              <a:rPr b="1" lang="pl-PL" sz="2800" spc="-1" strike="noStrike" u="sng">
                <a:solidFill>
                  <a:srgbClr val="000000"/>
                </a:solidFill>
                <a:uFillTx/>
                <a:latin typeface="Calibri"/>
              </a:rPr>
              <a:t>bezpośrednio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odbierającą bodźce świetlne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 ssaków </a:t>
            </a:r>
            <a:r>
              <a:rPr b="1" i="1" lang="pl-PL" sz="2800" spc="-1" strike="noStrike">
                <a:solidFill>
                  <a:srgbClr val="000000"/>
                </a:solidFill>
                <a:latin typeface="Calibri"/>
              </a:rPr>
              <a:t>nie odbiera bezpośrednio bodźców świetlnych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, ale bodziec świetlny osiąga szyszynkę drogą nerwow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zyszynka w filogenez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ole tekstowe 2"/>
          <p:cNvSpPr/>
          <p:nvPr/>
        </p:nvSpPr>
        <p:spPr>
          <a:xfrm>
            <a:off x="539640" y="1197000"/>
            <a:ext cx="8353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zyszynka ma długą drogę ewolucyjną, w czasie której ulega przekształceniu jej struktur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 wszystkich kręgowców rozwój ontogenetyczny szyszynki zaczyna się od wytworzenia uwypuklenia stropu trzeciej komory mózgu (Korf i Oksche, 1981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szyszynce ryb i płazów, pośród komórek budujących narząd, występują typowe komórki fotoreceptorowe, których budowa morfologiczna zbliżona jest do komórek światłoczułych siatkówki oka. Zatem ich szyszynka BEZPOŚREDNIO odbiera bodźce świetl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zyszynka w filogenez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procesie ewolucji gruczołu, typowe receptory obecne u zmiennocieplnych, zostały stopniowo zastępowane przez pinealocyty (bez światłoczułego segmentu zewnętrznego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inealocyty występują u ssaków i nie mają już zdolności bezpośredniego odbierania bodźca świetlnego. Bodziec świetlny, odbierany fotoreceptorami (oczy) dociera do szyszynki ssaków droga nerwow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egar biologiczny ssakó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ole tekstowe 2"/>
          <p:cNvSpPr/>
          <p:nvPr/>
        </p:nvSpPr>
        <p:spPr>
          <a:xfrm>
            <a:off x="468360" y="1844640"/>
            <a:ext cx="8207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ytm uwalniania melatoniny wyzwalany jest u ssaków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rzez zegar biologiczny (oscylator), który u tej gromady zlokalizowany jest w SCN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(jądro nadskrzyżowaniowe podwzgórz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roga światła do szyszynki u ssaków przebiega zatem przez SCN, dalej PVN (jądro przykomorowe) oraz słupy boczne szyjne rdzenia (SCG) aż do szyszynki, (co przedstawia schematycznie kolejny slajd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roga światła do szyszynki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 ssaków (pośrednia – nerwowa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4" descr="zegary_w_mozgu"/>
          <p:cNvPicPr/>
          <p:nvPr/>
        </p:nvPicPr>
        <p:blipFill>
          <a:blip r:embed="rId1"/>
          <a:srcRect l="33419" t="55082" r="3036" b="1607"/>
          <a:stretch/>
        </p:blipFill>
        <p:spPr>
          <a:xfrm>
            <a:off x="539640" y="1557360"/>
            <a:ext cx="5184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roga światła do szyszynki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 ssaków (pośrednia – nerwowa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zyszynka (drogą nerwową), otrzymuje zatem dwie informacj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nformacja o świetle               informacja o braku światł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rostokąt 3"/>
          <p:cNvSpPr/>
          <p:nvPr/>
        </p:nvSpPr>
        <p:spPr>
          <a:xfrm>
            <a:off x="539640" y="4221000"/>
            <a:ext cx="3024360" cy="158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l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rostokąt 4"/>
          <p:cNvSpPr/>
          <p:nvPr/>
        </p:nvSpPr>
        <p:spPr>
          <a:xfrm>
            <a:off x="5292720" y="4221000"/>
            <a:ext cx="2951280" cy="15843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</a:rPr>
              <a:t>da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755640" y="2252520"/>
            <a:ext cx="7488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e względu na swoją nieparzystość i centralną lokalizację w obrębie struktur mózgowych, od najdawniejszych czasów wzbudzała zainteresowanie  człowie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azywano ją trzecim okiem boga Siwy. W Księdze Mądrości opisywana była jako siedlisko energii witalnej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zyszynka to jeden z najwcześniej opisanych gruczołów dokrewnych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353440" cy="208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libri"/>
              </a:rPr>
              <a:t>Informacja - ciemnoś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95280" y="2204640"/>
            <a:ext cx="8353440" cy="4248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Calibri"/>
              </a:rPr>
              <a:t>Główny hormon szyszynki – </a:t>
            </a:r>
            <a:r>
              <a:rPr b="1" lang="pl-PL" sz="2800" spc="-1" strike="noStrike">
                <a:solidFill>
                  <a:srgbClr val="ffffff"/>
                </a:solidFill>
                <a:latin typeface="Calibri"/>
              </a:rPr>
              <a:t>MELATONINA</a:t>
            </a:r>
            <a:r>
              <a:rPr b="0" lang="pl-PL" sz="2800" spc="-1" strike="noStrike">
                <a:solidFill>
                  <a:srgbClr val="ffffff"/>
                </a:solidFill>
                <a:latin typeface="Calibri"/>
              </a:rPr>
              <a:t>, to cząsteczka, której budowa chemiczna nie uległa zmianie podczas ewolucj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Calibri"/>
              </a:rPr>
              <a:t>Melatonina nazywana jest „</a:t>
            </a:r>
            <a:r>
              <a:rPr b="1" lang="pl-PL" sz="2800" spc="-1" strike="noStrike">
                <a:solidFill>
                  <a:srgbClr val="ffffff"/>
                </a:solidFill>
                <a:latin typeface="Calibri"/>
              </a:rPr>
              <a:t>hormonem ciemności</a:t>
            </a:r>
            <a:r>
              <a:rPr b="0" lang="pl-PL" sz="2800" spc="-1" strike="noStrike">
                <a:solidFill>
                  <a:srgbClr val="ffffff"/>
                </a:solidFill>
                <a:latin typeface="Calibri"/>
              </a:rPr>
              <a:t>”, gdyż jest związkiem, którego warunkowana światłem (brakiem światła) biosynteza, ma miejsce wyłącznie podczas fazy ciemnej cyklu doboweg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rostokąt 5"/>
          <p:cNvSpPr/>
          <p:nvPr/>
        </p:nvSpPr>
        <p:spPr>
          <a:xfrm>
            <a:off x="4716360" y="260280"/>
            <a:ext cx="4103640" cy="61214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synte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rostokąt 3"/>
          <p:cNvSpPr/>
          <p:nvPr/>
        </p:nvSpPr>
        <p:spPr>
          <a:xfrm>
            <a:off x="539640" y="260280"/>
            <a:ext cx="4176720" cy="6121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4" descr="szyszynka2"/>
          <p:cNvPicPr/>
          <p:nvPr/>
        </p:nvPicPr>
        <p:blipFill>
          <a:blip r:embed="rId1"/>
          <a:srcRect l="0" t="4471" r="1464" b="4211"/>
          <a:stretch/>
        </p:blipFill>
        <p:spPr>
          <a:xfrm>
            <a:off x="1258920" y="1413000"/>
            <a:ext cx="6541920" cy="4032000"/>
          </a:xfrm>
          <a:prstGeom prst="rect">
            <a:avLst/>
          </a:prstGeom>
          <a:ln w="0">
            <a:noFill/>
          </a:ln>
        </p:spPr>
      </p:pic>
      <p:sp>
        <p:nvSpPr>
          <p:cNvPr id="149" name="pole tekstowe 4"/>
          <p:cNvSpPr/>
          <p:nvPr/>
        </p:nvSpPr>
        <p:spPr>
          <a:xfrm>
            <a:off x="5008320" y="566100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Wi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ynteza i uwalnianie melatoni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ole tekstowe 2"/>
          <p:cNvSpPr/>
          <p:nvPr/>
        </p:nvSpPr>
        <p:spPr>
          <a:xfrm>
            <a:off x="611280" y="1628640"/>
            <a:ext cx="8281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harakterystyczny, przedstawiony na wykresie, (poprzedni slajd), nocny model uwalniania melatoniny, jest obecny u wszystkich kręgowców – bez względu na zajmowane stanowisko w systematyce świata zwierzęcego, jak i typ lokomotorycznej aktywności (dziennej lub nocnej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Rytmiczne uwalnianie melatoni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ole tekstowe 2"/>
          <p:cNvSpPr/>
          <p:nvPr/>
        </p:nvSpPr>
        <p:spPr>
          <a:xfrm>
            <a:off x="539640" y="1916280"/>
            <a:ext cx="8136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Regularne zmiany stężenia melatoniny w krwi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, które u wszystkich zwierząt, bez względu na rodzaj aktywności (nocnej, dziennej), zawsze podczas dnia jest niskie, a nocą wysokie,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są chemicznym sygnałem wewnątrz organizmu o zmieniającym się fotoperiodzi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Rytmiczne uwalnianie melatoni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ole tekstowe 2"/>
          <p:cNvSpPr/>
          <p:nvPr/>
        </p:nvSpPr>
        <p:spPr>
          <a:xfrm>
            <a:off x="611280" y="2133720"/>
            <a:ext cx="7705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elatonina uwalniana do krążenia (rytmicznie), osiąga każdą tkankę, gdyż charakteryzuje się ogromną łatwością penetracji komórki, a jej stężenie wewnątrzkomórkowe jest często większe, niż w płynach ustrojowy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(Karasek, 1996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ole tekstowe 3"/>
          <p:cNvSpPr/>
          <p:nvPr/>
        </p:nvSpPr>
        <p:spPr>
          <a:xfrm>
            <a:off x="496080" y="5661000"/>
            <a:ext cx="76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Karasek, M. (1996). Melatonina: znaczenie kliniczne i perspektywy zastosowan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terapeutycznego. Folia Medica Lodziensia, 23: 145 – 15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Rytmiczne uwalnianie melatoni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ole tekstowe 2"/>
          <p:cNvSpPr/>
          <p:nvPr/>
        </p:nvSpPr>
        <p:spPr>
          <a:xfrm>
            <a:off x="468360" y="1341360"/>
            <a:ext cx="8136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kołodobowe zmiany tego chemicznego przekaźnika, jakim jest melatonina, synchronizują do zmieniającego się fotoperiodu różne funkcje organizmu, takie jak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etaboliz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ermoregulac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dpornoś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egulacja okołodobowych rytmów wielu hormon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ezonowość w aktywności  zwierzą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ole tekstowe 2"/>
          <p:cNvSpPr/>
          <p:nvPr/>
        </p:nvSpPr>
        <p:spPr>
          <a:xfrm>
            <a:off x="539640" y="1844640"/>
            <a:ext cx="7993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nieważ okołodobowe i roczne zmiany fotoperiodu powtarzają się cyklicznie, są dla wielu gatunków sygnałem zewnętrznym, pozwalającym synchronizować procesy zachodzące w organizmie z warunkami otoczen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zwala to zwierzętom na fizjologiczne dostosowanie się do snu zimowego, estywacji, przebiegu rui i w odpowiednim czasie – przyjścia na świat potomstwa, np. na wiosnę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miana ekspozycji na światł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rostokąt 2"/>
          <p:cNvSpPr/>
          <p:nvPr/>
        </p:nvSpPr>
        <p:spPr>
          <a:xfrm>
            <a:off x="395280" y="1557360"/>
            <a:ext cx="8353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Ekspozycja danego osobnika na światło w nocy powoduje przesunięcia faz rytmu wydzielania melatoniny, nie wpływając jednocześnie na długość cyklu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topień przesunięcia faz zależy przede wszystkim od czasu trwania bodźca świetlnego, a także od jego natężenia oraz wrażliwości tkankowej, gatunkowej i osobniczej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rostokąt 3"/>
          <p:cNvSpPr/>
          <p:nvPr/>
        </p:nvSpPr>
        <p:spPr>
          <a:xfrm>
            <a:off x="611280" y="580536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academia.pan.pl/pdf/czas_str.%2024-27_nowak.pd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burzony zegar biologicz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http://cf.ltkcdn.net/sleep/images/std/120636-425x282-Manwithglobesleeping.jpg"/>
          <p:cNvPicPr/>
          <p:nvPr/>
        </p:nvPicPr>
        <p:blipFill>
          <a:blip r:embed="rId1"/>
          <a:stretch/>
        </p:blipFill>
        <p:spPr>
          <a:xfrm>
            <a:off x="539640" y="3164040"/>
            <a:ext cx="3873600" cy="2571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https://encrypted-tbn0.gstatic.com/images?q=tbn:ANd9GcTdIAyCFasi1xN7HF-HbS_RMqTzW2xJcPlXHiDFGYH9JuMurAd-"/>
          <p:cNvPicPr/>
          <p:nvPr/>
        </p:nvPicPr>
        <p:blipFill>
          <a:blip r:embed="rId2"/>
          <a:stretch/>
        </p:blipFill>
        <p:spPr>
          <a:xfrm>
            <a:off x="7308720" y="3429000"/>
            <a:ext cx="1052640" cy="1816200"/>
          </a:xfrm>
          <a:prstGeom prst="rect">
            <a:avLst/>
          </a:prstGeom>
          <a:ln w="0">
            <a:noFill/>
          </a:ln>
        </p:spPr>
      </p:pic>
      <p:sp>
        <p:nvSpPr>
          <p:cNvPr id="167" name="Prostokąt 4"/>
          <p:cNvSpPr/>
          <p:nvPr/>
        </p:nvSpPr>
        <p:spPr>
          <a:xfrm>
            <a:off x="611280" y="5805360"/>
            <a:ext cx="72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70c0"/>
                </a:solidFill>
                <a:latin typeface="Calibri"/>
              </a:rPr>
              <a:t>http://images.sciencedaily.com/2010/11/101124171538-large.jpg</a:t>
            </a:r>
            <a:br>
              <a:rPr sz="1600"/>
            </a:br>
            <a:r>
              <a:rPr b="0" lang="pl-PL" sz="1600" spc="-1" strike="noStrike">
                <a:solidFill>
                  <a:srgbClr val="0070c0"/>
                </a:solidFill>
                <a:latin typeface="Calibri"/>
              </a:rPr>
              <a:t>http://images.smh.com.au/2011/03/23/2247803/art_Sleeping-Airport-420x0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6" descr="https://encrypted-tbn3.gstatic.com/images?q=tbn:ANd9GcS_IAglgvWWHyeJWNcYFru1wOVNr9b6FABaT8eqF3ZReD8kDS2a"/>
          <p:cNvPicPr/>
          <p:nvPr/>
        </p:nvPicPr>
        <p:blipFill>
          <a:blip r:embed="rId3"/>
          <a:stretch/>
        </p:blipFill>
        <p:spPr>
          <a:xfrm>
            <a:off x="4716360" y="3200400"/>
            <a:ext cx="2106720" cy="2530440"/>
          </a:xfrm>
          <a:prstGeom prst="rect">
            <a:avLst/>
          </a:prstGeom>
          <a:ln w="0">
            <a:noFill/>
          </a:ln>
        </p:spPr>
      </p:pic>
      <p:sp>
        <p:nvSpPr>
          <p:cNvPr id="169" name="pole tekstowe 7"/>
          <p:cNvSpPr/>
          <p:nvPr/>
        </p:nvSpPr>
        <p:spPr>
          <a:xfrm>
            <a:off x="468360" y="1341360"/>
            <a:ext cx="820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burzenie to dotyczy zdrowych osób i jest wynikiem szybkich zmian stref czasowych, przy podróżowaniu samolotem. Również towarzyszy osobom, pracującym w systemie zmian (np. tydzień noc/drugi tydzień dzień i tak naprzemienni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zybkie przemieszczanie się 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a endogenne ryt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8" descr="https://encrypted-tbn3.gstatic.com/images?q=tbn:ANd9GcSHZ3RXVbB1UJ-t8ez3bAiQ2u6b8UwXWrHvnzpavEBnTX_E3_lKdQ"/>
          <p:cNvPicPr/>
          <p:nvPr/>
        </p:nvPicPr>
        <p:blipFill>
          <a:blip r:embed="rId1"/>
          <a:stretch/>
        </p:blipFill>
        <p:spPr>
          <a:xfrm>
            <a:off x="1979640" y="2060640"/>
            <a:ext cx="4803840" cy="3024000"/>
          </a:xfrm>
          <a:prstGeom prst="rect">
            <a:avLst/>
          </a:prstGeom>
          <a:ln w="0">
            <a:noFill/>
          </a:ln>
        </p:spPr>
      </p:pic>
      <p:sp>
        <p:nvSpPr>
          <p:cNvPr id="172" name="Prostokąt 7"/>
          <p:cNvSpPr/>
          <p:nvPr/>
        </p:nvSpPr>
        <p:spPr>
          <a:xfrm>
            <a:off x="468360" y="5661000"/>
            <a:ext cx="79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70c0"/>
                </a:solidFill>
                <a:latin typeface="Calibri"/>
              </a:rPr>
              <a:t>http://www.transamericaviajes.com/admin/imgnot/noticia_163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Arial"/>
              </a:rPr>
              <a:t>Starożytni anatomowie przypisywali jej wiele ról, miedzy innymi kontrolera elementów duchowych, przepływających przez komory mózg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Arial"/>
              </a:rPr>
              <a:t>Rene Descartes uważał, że przez szyszynkę przemawia ludzka dusz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Jet lag syndro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2" descr="http://dougbelshaw.com/blog/wp-content/uploads/2010/01/jet_lag.jpg"/>
          <p:cNvPicPr/>
          <p:nvPr/>
        </p:nvPicPr>
        <p:blipFill>
          <a:blip r:embed="rId1"/>
          <a:stretch/>
        </p:blipFill>
        <p:spPr>
          <a:xfrm>
            <a:off x="684360" y="1341360"/>
            <a:ext cx="5688000" cy="4956120"/>
          </a:xfrm>
          <a:prstGeom prst="rect">
            <a:avLst/>
          </a:prstGeom>
          <a:ln w="0">
            <a:noFill/>
          </a:ln>
        </p:spPr>
      </p:pic>
      <p:sp>
        <p:nvSpPr>
          <p:cNvPr id="175" name="Prostokąt 3"/>
          <p:cNvSpPr/>
          <p:nvPr/>
        </p:nvSpPr>
        <p:spPr>
          <a:xfrm>
            <a:off x="6516720" y="5013360"/>
            <a:ext cx="2411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244583"/>
                </a:solidFill>
                <a:latin typeface="Calibri"/>
              </a:rPr>
              <a:t>http://dougbelshaw.com/blog/wp-content/uploads/2010/01/jet_lag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iosynteza melatoniny (*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ole tekstowe 2"/>
          <p:cNvSpPr/>
          <p:nvPr/>
        </p:nvSpPr>
        <p:spPr>
          <a:xfrm>
            <a:off x="395280" y="1773360"/>
            <a:ext cx="8497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Biosynteza tej aminy indolowej rozpoczyna się   przemianą tryptofanu, aminokwasu pochodzącego z krwi, do 5 – hydroksytryptofan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astępnym etapem jest dekarboksylacja 5-hydroksytryptofanu  do serotoniny, w obecności enzymu (dekarboksylazy 5-hydroksytryptofanu)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aktywowana głównie dobowymi zmianami natężenia światł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ynteza melatoniny (I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2" descr="http://www.phmd.pl/images/ryciny/20100119121735.jpg"/>
          <p:cNvPicPr/>
          <p:nvPr/>
        </p:nvPicPr>
        <p:blipFill>
          <a:blip r:embed="rId1"/>
          <a:srcRect l="0" t="0" r="0" b="62824"/>
          <a:stretch/>
        </p:blipFill>
        <p:spPr>
          <a:xfrm>
            <a:off x="324000" y="1413000"/>
            <a:ext cx="6769080" cy="4706640"/>
          </a:xfrm>
          <a:prstGeom prst="rect">
            <a:avLst/>
          </a:prstGeom>
          <a:ln w="0">
            <a:noFill/>
          </a:ln>
        </p:spPr>
      </p:pic>
      <p:sp>
        <p:nvSpPr>
          <p:cNvPr id="180" name="Prostokąt 4"/>
          <p:cNvSpPr/>
          <p:nvPr/>
        </p:nvSpPr>
        <p:spPr>
          <a:xfrm>
            <a:off x="1403280" y="1773360"/>
            <a:ext cx="1513080" cy="431640"/>
          </a:xfrm>
          <a:prstGeom prst="rect">
            <a:avLst/>
          </a:prstGeom>
          <a:noFill/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Łącznik prosty 8"/>
          <p:cNvSpPr/>
          <p:nvPr/>
        </p:nvSpPr>
        <p:spPr>
          <a:xfrm flipV="1">
            <a:off x="2124000" y="1341000"/>
            <a:ext cx="0" cy="35892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trzałka w prawo 9"/>
          <p:cNvSpPr/>
          <p:nvPr/>
        </p:nvSpPr>
        <p:spPr>
          <a:xfrm>
            <a:off x="2124000" y="1341360"/>
            <a:ext cx="2879640" cy="71640"/>
          </a:xfrm>
          <a:prstGeom prst="rightArrow">
            <a:avLst>
              <a:gd name="adj1" fmla="val 50000"/>
              <a:gd name="adj2" fmla="val 49873"/>
            </a:avLst>
          </a:prstGeom>
          <a:solidFill>
            <a:srgbClr val="fe8637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ole tekstowe 10"/>
          <p:cNvSpPr/>
          <p:nvPr/>
        </p:nvSpPr>
        <p:spPr>
          <a:xfrm>
            <a:off x="5019120" y="1197000"/>
            <a:ext cx="370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elatonina powsta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 przekształcone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enzymatyczni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aminokwasu tryptofan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ynteza melatoniny (II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2" descr="http://www.phmd.pl/images/ryciny/20100119121735.jpg"/>
          <p:cNvPicPr/>
          <p:nvPr/>
        </p:nvPicPr>
        <p:blipFill>
          <a:blip r:embed="rId1"/>
          <a:srcRect l="0" t="22076" r="0" b="40748"/>
          <a:stretch/>
        </p:blipFill>
        <p:spPr>
          <a:xfrm>
            <a:off x="611280" y="1773360"/>
            <a:ext cx="57974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ynteza melatoniny (III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2" descr="http://www.phmd.pl/images/ryciny/20100119121735.jpg"/>
          <p:cNvPicPr/>
          <p:nvPr/>
        </p:nvPicPr>
        <p:blipFill>
          <a:blip r:embed="rId1"/>
          <a:srcRect l="0" t="44148" r="0" b="0"/>
          <a:stretch/>
        </p:blipFill>
        <p:spPr>
          <a:xfrm>
            <a:off x="684360" y="1341360"/>
            <a:ext cx="4824360" cy="5040360"/>
          </a:xfrm>
          <a:prstGeom prst="rect">
            <a:avLst/>
          </a:prstGeom>
          <a:ln w="0">
            <a:noFill/>
          </a:ln>
        </p:spPr>
      </p:pic>
      <p:sp>
        <p:nvSpPr>
          <p:cNvPr id="188" name="Prostokąt 3"/>
          <p:cNvSpPr/>
          <p:nvPr/>
        </p:nvSpPr>
        <p:spPr>
          <a:xfrm>
            <a:off x="684360" y="5229360"/>
            <a:ext cx="4032000" cy="1224000"/>
          </a:xfrm>
          <a:prstGeom prst="rect">
            <a:avLst/>
          </a:prstGeom>
          <a:noFill/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Nazwa gruczołu: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laczego szyszynk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zeprowadzane sekcje mózgu (zwierząt i ludzi), wykonywane np. przez greckiego lekarza, Klaudiusza Galena (130 – 200 r. n.e.), dostarczały materiału, który po raz pierwszy był opisywan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68000" y="1557360"/>
            <a:ext cx="803916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e względu na charakterystyczny w u niektórych kręgowców kształt, przypominający szyszkę sosnową, został ten gruczoł przez Galena nazwany szyszynką (ang. pineal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ole tekstowe 5"/>
          <p:cNvSpPr/>
          <p:nvPr/>
        </p:nvSpPr>
        <p:spPr>
          <a:xfrm>
            <a:off x="553320" y="4508640"/>
            <a:ext cx="4571280" cy="825480"/>
          </a:xfrm>
          <a:prstGeom prst="rect">
            <a:avLst/>
          </a:prstGeom>
          <a:noFill/>
          <a:ln w="38160">
            <a:solidFill>
              <a:srgbClr val="8621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Ten maleńki gruczoł (szyszynk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tylko kształtem przypomina szyszk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trzałka w prawo 6"/>
          <p:cNvSpPr/>
          <p:nvPr/>
        </p:nvSpPr>
        <p:spPr>
          <a:xfrm>
            <a:off x="5292720" y="4797360"/>
            <a:ext cx="977760" cy="216000"/>
          </a:xfrm>
          <a:prstGeom prst="rightArrow">
            <a:avLst>
              <a:gd name="adj1" fmla="val 50000"/>
              <a:gd name="adj2" fmla="val 49961"/>
            </a:avLst>
          </a:prstGeom>
          <a:gradFill rotWithShape="0">
            <a:gsLst>
              <a:gs pos="0">
                <a:srgbClr val="961100"/>
              </a:gs>
              <a:gs pos="100000">
                <a:srgbClr val="c91700"/>
              </a:gs>
            </a:gsLst>
            <a:lin ang="16200000"/>
          </a:gradFill>
          <a:ln w="9360">
            <a:solidFill>
              <a:srgbClr val="b32811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upa 7"/>
          <p:cNvGrpSpPr/>
          <p:nvPr/>
        </p:nvGrpSpPr>
        <p:grpSpPr>
          <a:xfrm>
            <a:off x="6443640" y="3970440"/>
            <a:ext cx="1763640" cy="1979640"/>
            <a:chOff x="6443640" y="3970440"/>
            <a:chExt cx="1763640" cy="1979640"/>
          </a:xfrm>
        </p:grpSpPr>
        <p:pic>
          <p:nvPicPr>
            <p:cNvPr id="106" name="Picture 4" descr="https://encrypted-tbn3.gstatic.com/images?q=tbn:ANd9GcQ93jS1RvTrbTnVwxJ0rCMdV8KQebvv4fBBvNOqZH7zDyUZRIoRDg"/>
            <p:cNvPicPr/>
            <p:nvPr/>
          </p:nvPicPr>
          <p:blipFill>
            <a:blip r:embed="rId1"/>
            <a:stretch/>
          </p:blipFill>
          <p:spPr>
            <a:xfrm>
              <a:off x="6443640" y="3970440"/>
              <a:ext cx="1763640" cy="1979640"/>
            </a:xfrm>
            <a:prstGeom prst="rect">
              <a:avLst/>
            </a:prstGeom>
            <a:ln w="57240">
              <a:solidFill>
                <a:srgbClr val="862110"/>
              </a:solidFill>
              <a:miter/>
            </a:ln>
          </p:spPr>
        </p:pic>
        <p:pic>
          <p:nvPicPr>
            <p:cNvPr id="107" name="Picture 6" descr="http://images42.fotosik.pl/765/9dc596d27e31fc83m.jpg"/>
            <p:cNvPicPr/>
            <p:nvPr/>
          </p:nvPicPr>
          <p:blipFill>
            <a:blip r:embed="rId2"/>
            <a:stretch/>
          </p:blipFill>
          <p:spPr>
            <a:xfrm>
              <a:off x="6444000" y="3970800"/>
              <a:ext cx="1743120" cy="1944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szyszynka1"/>
          <p:cNvPicPr/>
          <p:nvPr/>
        </p:nvPicPr>
        <p:blipFill>
          <a:blip r:embed="rId1"/>
          <a:srcRect l="0" t="0" r="6028" b="2318"/>
          <a:stretch/>
        </p:blipFill>
        <p:spPr>
          <a:xfrm>
            <a:off x="468360" y="1969920"/>
            <a:ext cx="3325680" cy="41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7"/>
          <p:cNvSpPr/>
          <p:nvPr/>
        </p:nvSpPr>
        <p:spPr>
          <a:xfrm>
            <a:off x="4284720" y="2133720"/>
            <a:ext cx="446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artezjańskie „trzecie oko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chodzące z XVII wieku rysunki (Rene Descartes), pokazują dostrzeżoną przez filozofa zależność, między fotoreceptorami (oczy) a tajemniczą wówczas strukturą mózgu (szyszynk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ole tekstowe 3"/>
          <p:cNvSpPr/>
          <p:nvPr/>
        </p:nvSpPr>
        <p:spPr>
          <a:xfrm>
            <a:off x="250920" y="260280"/>
            <a:ext cx="828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zyszynka przedstawion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zkicem Kartezjusza (1596 – 1650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Elipsa 4"/>
          <p:cNvSpPr/>
          <p:nvPr/>
        </p:nvSpPr>
        <p:spPr>
          <a:xfrm>
            <a:off x="971640" y="2565360"/>
            <a:ext cx="504720" cy="50328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rostokąt 5"/>
          <p:cNvSpPr/>
          <p:nvPr/>
        </p:nvSpPr>
        <p:spPr>
          <a:xfrm>
            <a:off x="395280" y="6165720"/>
            <a:ext cx="85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http://archiwum.wiz.pl/images/duze/1996/09/96091901.GI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ierwsze naukowe doniesienia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 szyszy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ole tekstowe 2"/>
          <p:cNvSpPr/>
          <p:nvPr/>
        </p:nvSpPr>
        <p:spPr>
          <a:xfrm>
            <a:off x="684360" y="1628640"/>
            <a:ext cx="770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ierwszymi doniesieniami naukowymi o fizjologicznej roli szyszynki, były wnioski wyciągnięte z obserwacji klinicznych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ykazano, że guz na szyszynce u dwóch młodych chłopców, spowodował przyspieszenie ich dojrzewania płciowego (Askanazy, 1906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óźniejsze zabiegi pinealektomii (usunięcia operacyjnego szyszynki u szczurów), potwierdziły obserwacje klinicz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a przełomie XIX/XX wieku powstała hipoteza o hamującym wpływie szyszynki na czynności gruczołów płciowych, która była jedynym doniesieniem naukowym o fizjologicznej roli tego narząd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zełomowe odkrycie w badaniach nad szyszynk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ole tekstowe 2"/>
          <p:cNvSpPr/>
          <p:nvPr/>
        </p:nvSpPr>
        <p:spPr>
          <a:xfrm>
            <a:off x="611280" y="1628640"/>
            <a:ext cx="8281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dkryciem tym było wyodrębnienie z niej substancji, która miała właściwości zmieniania zabarwienia skóry żaby (z ciemnego na jasne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wiązek ten został wyizolowany przez Lernera, w 1958 roku, odkrywca nazwał go – melatoniną, ze względu na działanie na komórki barwnikowe skóry (melanocyty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Dawid Suder</cp:lastModifiedBy>
  <dcterms:modified xsi:type="dcterms:W3CDTF">2013-09-08T16:07:06Z</dcterms:modified>
  <cp:revision>107</cp:revision>
  <dc:subject/>
  <dc:title>Slajd 1</dc:title>
</cp:coreProperties>
</file>