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7BE2-D910-4FD2-8922-092B3E5E67C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5CD6-0831-437D-830E-5BD8E1918A1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DF8C-F800-48CA-AB43-BC02C21E03B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A077-6B36-4F16-8EB5-3F8C48696F4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EC4B-A7AE-446D-9200-93B1EED7239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E47A-B8B9-4126-9FA6-5FFEFFB51BD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1141-CD24-4FAF-825C-59E7D6EB494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D49E-8AC1-4AF5-9D1B-50E90BF0146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2CA1-D0AA-48EA-8284-111193838D1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95F4-F228-4D48-82DC-5F4F61461A6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CC27-BC28-45D4-89FD-0043172D61C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3E5E-47C2-43B6-A265-91592A885AF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F290-17C3-4EE7-8830-0DBB9CDE58B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B0A2-F8F8-4729-BF33-F4589CEE172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B604-BA82-4F6E-8F6D-661B9702A3A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DB4B-72B6-47A1-9120-C1BCE674606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A193-A8C3-473E-8006-E7C1C6C08A7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23BC-9EE2-49E2-ADA3-A2C4483CDDF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5CB3-2FAF-413E-9739-0AE1871B092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D298-0B34-4582-962E-3336E1864C5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58BB-F196-4B59-89B3-EE4066CB5EA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4B06-B35B-49B3-8F74-A1D757F71E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DB8B-FFD2-49B8-8086-6BF80D4B724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B96A-6FE8-472C-9781-A30D8C8EA49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500CF-78B2-42ED-8166-BDE5A0F2F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1E862-866B-4041-A6B3-FB3ECE9D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58F6-EDE8-4376-87FC-43B215427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C6AF8-36FD-4369-9367-FAEBC22E0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DDECD-0C66-4D97-B0FD-6BE2F8162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6B4FD-264C-4470-BBF8-65BEE99A4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6C58D-8722-4FE7-B1F7-B97C75B01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76466-B762-48A2-81FA-EDD28B3A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9DAE6-E7BA-451E-A75D-F481FF599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8C1D1-D9E1-4BB7-9F71-3DCD815B9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26DCD-F48A-4338-9C83-83303DE29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1BEB-E14E-4497-AE8E-C251CE20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4FD60-F359-4AF5-B6DD-30AEBBABF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EA9C5-D0E4-452F-9A86-CD5B11791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33F72-F14C-487F-993B-27DD104D0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3C2B5-7228-400E-9FE4-4A6CA9E91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C4C71-7116-468C-9FCB-CADD03C60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C7EE9-CC53-4918-A3CB-7E486B1FD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D7127-8F6B-4E64-A122-3219E4153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5366-8E5E-43D3-8D88-06227978A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3CEB-1485-4E4B-8A78-7B539047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0DA5-724E-4BA7-8CE4-7C3E48B1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091E-F1FB-4268-A83E-A14C2245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5A20-AC3E-4521-8D7D-A4C596D6F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1F19-3458-48C2-B103-AD32CB6939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EFF8-0B86-4B1F-A7ED-D7CDBDDB5D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Napoje gazowane</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kładniki wody mineralnej</a:t>
            </a:r>
            <a:endParaRPr b="0" lang="en-US" sz="4400" spc="-1" strike="noStrike">
              <a:solidFill>
                <a:srgbClr val="000000"/>
              </a:solidFill>
              <a:latin typeface="Calibri"/>
            </a:endParaRPr>
          </a:p>
        </p:txBody>
      </p:sp>
      <p:sp>
        <p:nvSpPr>
          <p:cNvPr id="122"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ało człowieka złożone jest z wielu pierwiastków. Ich obecność odgrywa kluczową rolę w stymulacji procesów zachodzących w organizmie. Najczęściej występują one w postaci jonów. Ogromne znaczenie mają kationy K</a:t>
            </a:r>
            <a:r>
              <a:rPr b="0" lang="pl-PL" sz="1800" spc="-1" strike="noStrike" baseline="30000">
                <a:solidFill>
                  <a:srgbClr val="000000"/>
                </a:solidFill>
                <a:latin typeface="Calibri"/>
              </a:rPr>
              <a:t>+</a:t>
            </a:r>
            <a:r>
              <a:rPr b="0" lang="pl-PL" sz="1800" spc="-1" strike="noStrike">
                <a:solidFill>
                  <a:srgbClr val="000000"/>
                </a:solidFill>
                <a:latin typeface="Calibri"/>
              </a:rPr>
              <a:t>, Na</a:t>
            </a:r>
            <a:r>
              <a:rPr b="0" lang="pl-PL" sz="1800" spc="-1" strike="noStrike" baseline="30000">
                <a:solidFill>
                  <a:srgbClr val="000000"/>
                </a:solidFill>
                <a:latin typeface="Calibri"/>
              </a:rPr>
              <a:t>+</a:t>
            </a:r>
            <a:r>
              <a:rPr b="0" lang="pl-PL" sz="1800" spc="-1" strike="noStrike">
                <a:solidFill>
                  <a:srgbClr val="000000"/>
                </a:solidFill>
                <a:latin typeface="Calibri"/>
              </a:rPr>
              <a:t>, Ca</a:t>
            </a:r>
            <a:r>
              <a:rPr b="0" lang="pl-PL" sz="1800" spc="-1" strike="noStrike" baseline="30000">
                <a:solidFill>
                  <a:srgbClr val="000000"/>
                </a:solidFill>
                <a:latin typeface="Calibri"/>
              </a:rPr>
              <a:t>2+</a:t>
            </a:r>
            <a:r>
              <a:rPr b="0" lang="pl-PL" sz="1800" spc="-1" strike="noStrike">
                <a:solidFill>
                  <a:srgbClr val="000000"/>
                </a:solidFill>
                <a:latin typeface="Calibri"/>
              </a:rPr>
              <a:t>, Mg</a:t>
            </a:r>
            <a:r>
              <a:rPr b="0" lang="pl-PL" sz="1800" spc="-1" strike="noStrike" baseline="30000">
                <a:solidFill>
                  <a:srgbClr val="000000"/>
                </a:solidFill>
                <a:latin typeface="Calibri"/>
              </a:rPr>
              <a:t>2+</a:t>
            </a:r>
            <a:r>
              <a:rPr b="0" lang="pl-PL" sz="1800" spc="-1" strike="noStrike">
                <a:solidFill>
                  <a:srgbClr val="000000"/>
                </a:solidFill>
                <a:latin typeface="Calibri"/>
              </a:rPr>
              <a:t> których źródłem jest woda mineralna. Postać jonowa pierwiastków w wodzie jest łatwo przyswajalna przez organizm człowieka.</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a</a:t>
            </a:r>
            <a:r>
              <a:rPr b="0" lang="pl-PL" sz="1800" spc="-1" strike="noStrike" baseline="30000">
                <a:solidFill>
                  <a:srgbClr val="000000"/>
                </a:solidFill>
                <a:latin typeface="Calibri"/>
              </a:rPr>
              <a:t>2+</a:t>
            </a:r>
            <a:r>
              <a:rPr b="0" lang="pl-PL" sz="1800" spc="-1" strike="noStrike">
                <a:solidFill>
                  <a:srgbClr val="000000"/>
                </a:solidFill>
                <a:latin typeface="Calibri"/>
              </a:rPr>
              <a:t> - jest podstawowym składnikiem układu kostnego, niezbędnym dla prawidłowego funkcjonowania serca, uczestniczy w utrzymaniu równowagi kwasowo-zasadowej organizmu oraz posiada właściwości przeciwzapalne.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g</a:t>
            </a:r>
            <a:r>
              <a:rPr b="0" lang="pl-PL" sz="1800" spc="-1" strike="noStrike" baseline="30000">
                <a:solidFill>
                  <a:srgbClr val="000000"/>
                </a:solidFill>
                <a:latin typeface="Calibri"/>
              </a:rPr>
              <a:t>2+ </a:t>
            </a:r>
            <a:r>
              <a:rPr b="0" lang="pl-PL" sz="1800" spc="-1" strike="noStrike">
                <a:solidFill>
                  <a:srgbClr val="000000"/>
                </a:solidFill>
                <a:latin typeface="Calibri"/>
              </a:rPr>
              <a:t>- spowalnia proces starzenia oraz działa przeciwstresowo. Utrzymuje pobudliwość tkanki mięśniowej oraz nerwowej i z tego powodu jest szczególnie ważny podczas wysiłku fizycznego i umysłowego.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t>
            </a:r>
            <a:r>
              <a:rPr b="0" lang="pl-PL" sz="1800" spc="-1" strike="noStrike" baseline="30000">
                <a:solidFill>
                  <a:srgbClr val="000000"/>
                </a:solidFill>
                <a:latin typeface="Calibri"/>
              </a:rPr>
              <a:t>+ </a:t>
            </a:r>
            <a:r>
              <a:rPr b="0" lang="pl-PL" sz="1800" spc="-1" strike="noStrike">
                <a:solidFill>
                  <a:srgbClr val="000000"/>
                </a:solidFill>
                <a:latin typeface="Calibri"/>
              </a:rPr>
              <a:t>- utrzymuje równowagę kwasowo-zasadową organizmu, bierze udział w przewodnictwie nerwowym, reguluje kurczliwość mięśni oraz usuwa nadmiar wody i sodu z organizmu.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a:t>
            </a:r>
            <a:r>
              <a:rPr b="0" lang="pl-PL" sz="1800" spc="-1" strike="noStrike" baseline="30000">
                <a:solidFill>
                  <a:srgbClr val="000000"/>
                </a:solidFill>
                <a:latin typeface="Calibri"/>
              </a:rPr>
              <a:t>+</a:t>
            </a:r>
            <a:r>
              <a:rPr b="0" lang="pl-PL" sz="1800" spc="-1" strike="noStrike">
                <a:solidFill>
                  <a:srgbClr val="000000"/>
                </a:solidFill>
                <a:latin typeface="Calibri"/>
              </a:rPr>
              <a:t> - chroni przed nadmierną utratą wody i reguluje bilans wodny w organizmie, reguluje sprawność układu mięśniowo-nerwowego. Ma działanie alkalizujące. </a:t>
            </a:r>
            <a:endParaRPr b="0" lang="en-US" sz="1800" spc="-1" strike="noStrike">
              <a:solidFill>
                <a:srgbClr val="000000"/>
              </a:solidFill>
              <a:latin typeface="Calibri"/>
            </a:endParaRPr>
          </a:p>
        </p:txBody>
      </p:sp>
      <p:pic>
        <p:nvPicPr>
          <p:cNvPr id="123" name="Picture 20"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rzecenianie znaczenia wody mineralnej jako źródła minerałów. Poniżej przedstawiono przeciętne dzienne zapotrzebowane na niektóre, zawarte w wodze minerały: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ń – 10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gnez – 32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tas – 47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ód – 1500 mg/dzień</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zestawienia wynika, że aby zapewnić odpowiedni poziom magnezu należałoby wypić około 14 litrów Nałęczowianki lub 2,5 litrów Muszynianki dziennie. Taki sam efekt przyniesie zjedzenie 150 gram (jedna porcja) kaszy gryczanej. Analogicznie, aby zaspokoić dzienne zapotrzebowanie na wapń należy wypić około 9 litrów Nałęczowianki, 5 litrów Muszynianki lub zjeść jedną porcję (100g) sera żółtego.</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zypadku wody źródlanej ilości te wynosiły by dziesiątki litrów.</a:t>
            </a:r>
            <a:endParaRPr b="0" lang="en-US" sz="2000" spc="-1" strike="noStrike">
              <a:solidFill>
                <a:srgbClr val="000000"/>
              </a:solidFill>
              <a:latin typeface="Calibri"/>
            </a:endParaRPr>
          </a:p>
        </p:txBody>
      </p:sp>
      <p:pic>
        <p:nvPicPr>
          <p:cNvPr id="126"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icie dużych ilości wód wysokozmineralizowanych, ponieważ często zawierają one duże ilości innych biopierwiastków, takich jak lit, jodki, fluorki, cynk czy żelazo. Pierwiastki te są potrzebne organizmowi, jednakże zbyt duża ich ilość może akumulować się w organizmie.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lecznicza w żadnym przypadku nie jest przeznaczona do regularnego spożywania przez osoby zdrowe. Z wody takiej należy korzystać po uprzedniej konsultacji z lekarzem. Przykładem są wody arsenowe, których użycie w określonych przypadkach ma działanie lecznicze, jednak w dużej dawce arsen jest toksyczny.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u dietetyków radzi, aby regularnie pić wodę źródlaną lub niskozmineralizowaną, a po wysoko mineralną sięgać od czasu do czasu, na przykład w okresach wzmożonego wysiłku. </a:t>
            </a:r>
            <a:endParaRPr b="0" lang="en-US" sz="2000" spc="-1" strike="noStrike">
              <a:solidFill>
                <a:srgbClr val="000000"/>
              </a:solidFill>
              <a:latin typeface="Calibri"/>
            </a:endParaRPr>
          </a:p>
        </p:txBody>
      </p:sp>
      <p:pic>
        <p:nvPicPr>
          <p:cNvPr id="129" name="Picture 6"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podczas diety</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czasie stosowania każdej diety niezwykle ważne jest picie dużych ilości wody – minimum 1,5 – 2 litry dziennie. Woda oczyszcza organizm z toksyn powstałych w procesie spalania zmagazynowanych w organizmie tłuszczów oraz, zapełniając żołądek, zmniejsza uczucie głodu.</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łędna jest obiegowa opinia, że nie należy pić wody gazowanej w czasie stosowania diety. Dwutlenek węgla zawarty w wodzie nie ma wystarczająco dużej energii, aby rozciągnąć żołądek człowieka. Dodatkowo woda nasycona CO</a:t>
            </a:r>
            <a:r>
              <a:rPr b="0" lang="en-US" sz="2000" spc="-1" strike="noStrike" baseline="-25000">
                <a:solidFill>
                  <a:srgbClr val="000000"/>
                </a:solidFill>
                <a:latin typeface="Calibri"/>
              </a:rPr>
              <a:t>2</a:t>
            </a:r>
            <a:r>
              <a:rPr b="0" lang="en-US" sz="2000" spc="-1" strike="noStrike">
                <a:solidFill>
                  <a:srgbClr val="000000"/>
                </a:solidFill>
                <a:latin typeface="Calibri"/>
              </a:rPr>
              <a:t> ma kwaskowaty, orzeźwiający smak, co sprawia, że łatwiej jest wypić „dzienną normę” wody w czasie trwania diety.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waskowaty smak wody gazowanej jest spowodowany tym, że część dwutlenku węgla tworzy w wodzie kwas węglowy. Kwas węglowy z kolei podrażnia błonę śluzową żołądka zwiększając wydzielanie soków trawiennych, co z kolei wspomaga odchudzanie.</a:t>
            </a:r>
            <a:endParaRPr b="0" lang="en-US" sz="2000" spc="-1" strike="noStrike">
              <a:solidFill>
                <a:srgbClr val="000000"/>
              </a:solidFill>
              <a:latin typeface="Calibri"/>
            </a:endParaRPr>
          </a:p>
        </p:txBody>
      </p:sp>
      <p:pic>
        <p:nvPicPr>
          <p:cNvPr id="132"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oda gazowana i niegazowana</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adniczo woda gazowana od niegazowanej różni się jedynie zawartością dwutlenku węgla, który jest wszechobecny w organizmie człowieka i ma na niego neutralny wpływ.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jwiększą wadą wody zawierającej dwutlenek węgla jest obniżenie jej poziomu pH (zakwaszenie). Regularne picie takiej wody grozi zakwaszeniem całego organizmu.  Najczęstszymi objawami zakwaszenia organizmu są bóle i zawroty głowy, ogólne osłabienie oraz problemy z cerą takie jak trądzik czy sucha skóra.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rew człowieka ma współczynnik pH równy 7,36 dlatego spożywana na co dzień woda powinna posiadać pH przynajmniej 7.4.</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gazowana u wielu osób wywołuje wzdęcia, gdyż część dwutlenku węgla uwalniana jest w żołądku, a reszta w jelitach.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Picture 4" descr="MP900321111[1]"/>
          <p:cNvPicPr/>
          <p:nvPr/>
        </p:nvPicPr>
        <p:blipFill>
          <a:blip r:embed="rId1"/>
          <a:stretch/>
        </p:blipFill>
        <p:spPr>
          <a:xfrm>
            <a:off x="7751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orowęglan w wodzie</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niemal każdej wodzie mineralnej jednym z podstawowych składników jest anion wodorowęglanowy,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Zapis chemiczny powstawania wodorowęglanu wygląda następująco: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H</a:t>
            </a:r>
            <a:r>
              <a:rPr b="0" lang="en-US" sz="2000" spc="-1" strike="noStrike" baseline="-25000">
                <a:solidFill>
                  <a:srgbClr val="000000"/>
                </a:solidFill>
                <a:latin typeface="Calibri"/>
              </a:rPr>
              <a:t>2</a:t>
            </a:r>
            <a:r>
              <a:rPr b="0" lang="en-US" sz="2000" spc="-1" strike="noStrike">
                <a:solidFill>
                  <a:srgbClr val="000000"/>
                </a:solidFill>
                <a:latin typeface="Calibri"/>
              </a:rPr>
              <a:t>O + CO</a:t>
            </a:r>
            <a:r>
              <a:rPr b="0" lang="en-US" sz="2000" spc="-1" strike="noStrike" baseline="-25000">
                <a:solidFill>
                  <a:srgbClr val="000000"/>
                </a:solidFill>
                <a:latin typeface="Calibri"/>
              </a:rPr>
              <a:t>2</a:t>
            </a:r>
            <a:r>
              <a:rPr b="0" lang="en-US" sz="2000" spc="-1" strike="noStrike">
                <a:solidFill>
                  <a:srgbClr val="000000"/>
                </a:solidFill>
                <a:latin typeface="Calibri"/>
              </a:rPr>
              <a:t> →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 H</a:t>
            </a:r>
            <a:r>
              <a:rPr b="0" lang="en-US" sz="2000" spc="-1" strike="noStrike" baseline="-25000">
                <a:solidFill>
                  <a:srgbClr val="000000"/>
                </a:solidFill>
                <a:latin typeface="Calibri"/>
              </a:rPr>
              <a:t>3</a:t>
            </a:r>
            <a:r>
              <a:rPr b="0" lang="en-US" sz="2000" spc="-1" strike="noStrike">
                <a:solidFill>
                  <a:srgbClr val="000000"/>
                </a:solidFill>
                <a:latin typeface="Calibri"/>
              </a:rPr>
              <a:t>O</a:t>
            </a:r>
            <a:r>
              <a:rPr b="0" lang="en-US" sz="2000" spc="-1" strike="noStrike" baseline="30000">
                <a:solidFill>
                  <a:srgbClr val="000000"/>
                </a:solidFill>
                <a:latin typeface="Calibri"/>
              </a:rPr>
              <a:t>+</a:t>
            </a:r>
            <a:endParaRPr b="0" lang="en-US" sz="2000" spc="-1" strike="noStrike">
              <a:solidFill>
                <a:srgbClr val="000000"/>
              </a:solidFill>
              <a:latin typeface="Calibri"/>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o dużej zawartości anionów wodorowęglanowych ma kwasowy odczyn i może wpływać na zwiększenie zakwaszenia organizmu. Jeżeli woda zawiera jony, które ją alkalizują, to wówczas sprzyja ona odkwaszeniu i oczyszczeniu organizmu z toksyn, w tym także z metali ciężkich.  Neutralizuje soki żołądkowe i działa przeciwzapalnie. Polecana jest również osobom cierpiącym na cukrzycę.</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8" name="Picture 9"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w pełni zrozumieć szkodliwość picia napojów gazowanych typu Cola należy przeanalizować ich skład.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ukier</a:t>
            </a:r>
            <a:r>
              <a:rPr b="0" lang="pl-PL" sz="2000" spc="-1" strike="noStrike">
                <a:solidFill>
                  <a:srgbClr val="000000"/>
                </a:solidFill>
                <a:latin typeface="Calibri"/>
              </a:rPr>
              <a:t> – jedna puszka Coli (0,33 litra) zawiera około 10 łyżeczek cukru. Jest to mniej więcej pokrycie całego dziennego zapotrzebowania na cukier.   Aby tak duże stężenie cukru nie wywoływało odruchu wymiotnego stosuje się kwas fosforowy neutralizujący mdły smak. Tak dużą ilość cukru dodaje się celem podniesienia poziomu serotoniny, która z kolei wpływa na wytwarzanie endorfin czyli tzw. hormonów szczęścia. Nadmierna ich produkcja podczas spożywania Coli powoduje, że pijący odczuwa przyjemność i zadowolenie, a w dłuższej perspektywie uzależnia się od tego typu słodkich napojów. W napojach typu Cola Light cukier zastąpiony jest aspartamem.</a:t>
            </a:r>
            <a:endParaRPr b="0" lang="en-US" sz="2000" spc="-1" strike="noStrike">
              <a:solidFill>
                <a:srgbClr val="000000"/>
              </a:solidFill>
              <a:latin typeface="Calibri"/>
            </a:endParaRPr>
          </a:p>
        </p:txBody>
      </p:sp>
      <p:pic>
        <p:nvPicPr>
          <p:cNvPr id="141"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506880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was fosforowy</a:t>
            </a:r>
            <a:r>
              <a:rPr b="0" lang="pl-PL" sz="2000" spc="-1" strike="noStrike">
                <a:solidFill>
                  <a:srgbClr val="000000"/>
                </a:solidFill>
                <a:latin typeface="Calibri"/>
              </a:rPr>
              <a:t> – Napoje typu Cola czasem nazywane są żartobliwie „odrdzewiaczem”. Paradoksalnie nazwa ta jest trafna, gdyż kwas fosforowy (V) ma właśnie takie zastosowanie w przemyśle. Używa się go do produkcji fosolu czyli preparatu do odrdzewiania stali. Stosuje się go również do odkamieniania armatury, jako płynu do wytrawiania powłok przed lutowaniem oraz do produkcji nawozów sztucznych. W Coli jest stosowany jako tzw. regulator kwasowośc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tosowanie kwasu fosforowego (V) w Coli znacznie zwiększa jej zastosowanie. Dzięki niemu możemy przy pomocy puszki Coli: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wać rdzę z metalowych powierzchni, odkręcić zardzewiałe śruby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łatwo wyczyścić przypalone naczynia i pozbyć się z nich kamienia (wystarczy zagotować w nich odpowiednią ilość Coli)</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tłuste plamy z ubrania (działa jak odplamiacz)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gumę do żucia z włosów lub ubrani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4"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feina</a:t>
            </a:r>
            <a:r>
              <a:rPr b="0" lang="en-US" sz="2000" spc="-1" strike="noStrike">
                <a:solidFill>
                  <a:srgbClr val="000000"/>
                </a:solidFill>
                <a:latin typeface="Calibri"/>
              </a:rPr>
              <a:t> – Z założenia, przeznaczeniem napojów typu Cola miało być pobudzenie organizmu do działania. Założenie to pierwotnie realizowane było poprzez zastosowanie dwóch substancji: kokainy jako wyciągu z liści Coki oraz kofeiny z orzeszków Coli. Pierwsze wersje Coli zawierały około 9 mg/l czystej kokainy. Obecnie niedozwolone jest stosowanie kokainy w żywności, dlatego też Cola zawiera jedynie kofeinę. Dodać należy, że mało kto ogranicza się do wypicia jednej szklanki Coli dziennie. Zazwyczaj ilości te są znacznie większe. Pomimo mniejszej zawartości kofeiny w Coli niż w kawie, jej sumaryczna ilość wypijana przez młodych ludzi bywa niekiedy znacznie większ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feina ma negatywny wpływ na układ sercowo-naczyniowy oraz  ośrodkowy układ nerwowy. Powoduje problemy ze snem. Kofeina jest szczególnie niebezpieczna dla kobiet w ciąży oraz dla dzieci.</a:t>
            </a:r>
            <a:endParaRPr b="0" lang="en-US" sz="2000" spc="-1" strike="noStrike">
              <a:solidFill>
                <a:srgbClr val="000000"/>
              </a:solidFill>
              <a:latin typeface="Calibri"/>
            </a:endParaRPr>
          </a:p>
        </p:txBody>
      </p:sp>
      <p:pic>
        <p:nvPicPr>
          <p:cNvPr id="147"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za wyżej wymienionymi składnikami napoje typu Cola zawierają barwniki (karmel), aromaty, konserwanty (benzoesan sodu) oraz dwutlenek węgla.</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e spożycie Coli grozi następującymi konsekwencjam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większenie ryzyka chorób serca i cukrzycy</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płukiwanie z organizmu wapnia, magnezu i żelaz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yłość, nadwag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ozja szkliwa nazębnego</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lemy ze snem</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8"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599840"/>
            <a:ext cx="8229600" cy="4853160"/>
          </a:xfrm>
          <a:prstGeom prst="rect">
            <a:avLst/>
          </a:prstGeom>
          <a:noFill/>
          <a:ln w="0">
            <a:noFill/>
          </a:ln>
        </p:spPr>
        <p:txBody>
          <a:bodyPr anchor="t">
            <a:normAutofit/>
          </a:bodyPr>
          <a:p>
            <a:pPr marL="457200" indent="-4572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wodociągow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flu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chl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ozonowan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Woda z butelki</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ładniki wody mineralnej</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ędy i mity o wodzie</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podczas diety</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gazowana i niegaz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orowęglan w wodzie</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Napoje typu Col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Napoje energetyzujące</a:t>
            </a:r>
            <a:endParaRPr b="0" lang="en-US" sz="1800" spc="-1" strike="noStrike">
              <a:solidFill>
                <a:srgbClr val="000000"/>
              </a:solidFill>
              <a:latin typeface="Calibri"/>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5" descr="MP900430477[1]"/>
          <p:cNvPicPr/>
          <p:nvPr/>
        </p:nvPicPr>
        <p:blipFill>
          <a:blip r:embed="rId1"/>
          <a:stretch/>
        </p:blipFill>
        <p:spPr>
          <a:xfrm>
            <a:off x="4284720" y="1341360"/>
            <a:ext cx="4319640" cy="431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2" name="PlaceHolder 2"/>
          <p:cNvSpPr>
            <a:spLocks noGrp="1"/>
          </p:cNvSpPr>
          <p:nvPr>
            <p:ph/>
          </p:nvPr>
        </p:nvSpPr>
        <p:spPr>
          <a:xfrm>
            <a:off x="457200" y="1599840"/>
            <a:ext cx="8229600" cy="514188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mimo, iż na rynku dostępnych jest bardzo dużo napojów energetyzujących, ich skład jest zbliżony. Podstawę stanowią niemal zawsze dwa składniki: kofeina oraz tauryna. Niektóre napoje zawierają również dodatek guarany, zwany naturalną kofeiną. Celem napojów energetyzujących jest pobudzenie organizmu do działania. Stosuje się je powszechnie w sytuacjach wyczerpania i zmęczeni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ekawostką jest, iż nieprzyjemny, chemiczny smak powyższych napojów stanowi ich element marketingowy. Jego celem jest stworzenie sztucznego wrażenia, że konsument pije coś o nadzwyczajnie silnym działaniu na organizm – niemal lek. Tauryna z kofeiną wcale nie muszą tak smakować, równie dobrze „energy drink” mógłby mieć smak soku owocowego!</a:t>
            </a:r>
            <a:endParaRPr b="0" lang="en-US" sz="2000" spc="-1" strike="noStrike">
              <a:solidFill>
                <a:srgbClr val="000000"/>
              </a:solidFill>
              <a:latin typeface="Calibri"/>
            </a:endParaRPr>
          </a:p>
        </p:txBody>
      </p:sp>
      <p:pic>
        <p:nvPicPr>
          <p:cNvPr id="153"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lasycznych „energy drinkach” zawartość kofeiny jest większa niż w Coli czy nawet kawie. Kofeina jest substancją o działaniu uzależniającym fizycznie. Jest w stanie wywołać w organizmie zespół abstynencyjny, który przejawia się zmęczeniem, brakiem koncentracji, bólem głowy oraz ogólnie złym samopoczuciem. Kolejną cechą kofeiny jest to, że po dłuższym okresie przyjmowania powoduje przyzwyczajenie organizmu, a przez to osłabienie reakcji na kofeinę. Człowiek wówczas zaczyna pić napoje zawierające kofeinę tylko po to, aby móc w miarę normalnie funkcjonować.</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przyśpiesza regenerację mięśni poprzez wspomaganie procesów utleniania. Jest ona naturalnie produkowana w organizmie człowieka, jednak w znacznie mniejszych ilościa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picie napoju energetyzującego utrzymuje organizm człowieka w stanie pobudzenia, zmusza go do spalania rezerw energii, a więc naturalnym jest uczucie całkowitego wyczerpania, gdy napój przestanie działać. </a:t>
            </a:r>
            <a:endParaRPr b="0" lang="en-US" sz="2000" spc="-1" strike="noStrike">
              <a:solidFill>
                <a:srgbClr val="000000"/>
              </a:solidFill>
              <a:latin typeface="Calibri"/>
            </a:endParaRPr>
          </a:p>
        </p:txBody>
      </p:sp>
      <p:pic>
        <p:nvPicPr>
          <p:cNvPr id="156"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ałanie „energy drinków” oparte jest na podniesieniu ciśnienia krwi i przyśpieszeniu akcji serca, dlatego ich spożycie grozi poważnymi chorobami układu krążenia, a przez olbrzymią zawartość chemicznych dodatków może wywoływać problemy z wątrobą.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przez dużą zawartość kwasów, przeciętne pH napojów energetyzujących waha się w przedziale 3,0 – 3,5. Skutkiem tego jest zakwaszenie organizmu, nadkwaśność i częste zgagi oraz choroby układu pokarmowego.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i kofeina mają dodatkowo działanie odwadniające organizm oraz powodują szybką utratę niektórych pierwiastków, takich jak sód. Ogromnym błędem jest mylenie napojów energetyzujących z napojami izotonicznymi przeznaczonymi dla sportowców. Stosowanie tych pierwszych w czasie długotrwałego wysiłku fizycznego może doprowadzić do zasłabnięcia, omdleń a w skrajnych przypadkach nawet do śmieci sportowca!</a:t>
            </a:r>
            <a:endParaRPr b="0" lang="en-US" sz="2000" spc="-1" strike="noStrike">
              <a:solidFill>
                <a:srgbClr val="000000"/>
              </a:solidFill>
              <a:latin typeface="Calibri"/>
            </a:endParaRPr>
          </a:p>
        </p:txBody>
      </p:sp>
      <p:pic>
        <p:nvPicPr>
          <p:cNvPr id="159"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wodociągowa</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w sieci wodociągowej uzdatniona jest do potrzeb komunalnych poprzez zastosowanie szeregu czynności oczyszczających. Najistotniejszym etapem jest proces dezynfekcji, mający na celu zniszczenie drobnoustrojów i ich form przetrwalnikowych w wodzie.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szechnie stosuje się trzy metody dezynfekcji wody:</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owanie</a:t>
            </a:r>
            <a:endParaRPr b="0" lang="en-US" sz="2000" spc="-1" strike="noStrike">
              <a:solidFill>
                <a:srgbClr val="000000"/>
              </a:solidFill>
              <a:latin typeface="Calibri"/>
            </a:endParaRPr>
          </a:p>
        </p:txBody>
      </p:sp>
      <p:pic>
        <p:nvPicPr>
          <p:cNvPr id="102" name="Picture 4" descr="MC900441753[1]"/>
          <p:cNvPicPr/>
          <p:nvPr/>
        </p:nvPicPr>
        <p:blipFill>
          <a:blip r:embed="rId1"/>
          <a:stretch/>
        </p:blipFill>
        <p:spPr>
          <a:xfrm>
            <a:off x="4932360" y="350028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4" name="PlaceHolder 2"/>
          <p:cNvSpPr>
            <a:spLocks noGrp="1"/>
          </p:cNvSpPr>
          <p:nvPr>
            <p:ph/>
          </p:nvPr>
        </p:nvSpPr>
        <p:spPr>
          <a:xfrm>
            <a:off x="456840" y="1600200"/>
            <a:ext cx="821844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luor jako pierwiastek podawany w odpowiednich ilościach jest niezbędny dla właściwego rozwoju zębów oraz kości. Jest jednym z dziesięciu mikroelementów niezbędnych do życia człowieka. Zapotrzebowanie organizmu na fluor waha się w granicach 1-1,5 mg/dzień. Dawka toksyczna fluoru to ilość powyżej 20 mg. Fluor wykazuje silne działanie utleniające stąd jego zastosowanie do uzdatniania wody.</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czątek dodawania fluoru do wody sięga roku 1930. Zauważono wówczas, że w miejscach na świecie, w których woda pitna zawiera naturalny fluorek, występuje znacznie mniejszy odsetek próchnicy zębów. W 1945 rozpoczęto dodawanie fluoru w ujęciach wody pitnej. Celem utrzymania właściwości aseptycznych wody w sieci wodociągowej konieczne jest zastosowanie stężenia 0,7 do 1,1 mg fluoru na litr wody. Istotnym jest fakt, iż gotowanie wody nie jest w stanie pozbawić jej fluoru.  </a:t>
            </a:r>
            <a:endParaRPr b="0" lang="en-US" sz="2000" spc="-1" strike="noStrike">
              <a:solidFill>
                <a:srgbClr val="000000"/>
              </a:solidFill>
              <a:latin typeface="Calibri"/>
            </a:endParaRPr>
          </a:p>
        </p:txBody>
      </p:sp>
      <p:pic>
        <p:nvPicPr>
          <p:cNvPr id="105"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 w stanie wolnym jest silnie trującym gazem. Zarówno fluor pierwiastkowy jak i jony fluorkowe są bardzo silnie toksyczne. Między innymi hamują oddychanie tkankowe oraz syntezę hormonów. Niektóre związki fluoru powodują głęboką martwicę tkanek. Podczas drugiej wojny światowej Niemcy prowadzili eksperymenty z fluorem w obozach koncentracyjnych. Odkryli, że dodawanie dużych dawek fluoru do wody pitnej powoduje, iż więźniowie są bardziej ulegli i podatni na manipulację. Obecnie fluor jest jednym z głównych składników leków psychotropowych. Znajduje się również w tak zwanej „tabletce gwałt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Polsce zaprzestano fluorowania wody kilkanaście lat temu, jednakże naturalny średni poziom fluorków w wodzie wodociągowej waha się w granicach 0,2 do 0,5 mg/l w zależności od region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jwiększymi źródłami fluoru są: woda wodociągowa, herbata, ryby a także soja. Fluor wchłaniany jest także z pasty do zębów (niemal każda pasta zawiera obecnie fluor). Powszechność fluoru wokół nas niesie ze sobą poważne ryzyko jego przedawkowania. </a:t>
            </a:r>
            <a:endParaRPr b="0" lang="en-US" sz="2000" spc="-1" strike="noStrike">
              <a:solidFill>
                <a:srgbClr val="000000"/>
              </a:solidFill>
              <a:latin typeface="Calibri"/>
            </a:endParaRPr>
          </a:p>
        </p:txBody>
      </p:sp>
      <p:pic>
        <p:nvPicPr>
          <p:cNvPr id="108"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w stanie wolnym - podobnie jak fluor - jest silnie trującym gazem. Chlor jest mocnym utleniaczem, stosuje się go jako środek wybielający i dezynfekujący między innymi w środkach do czyszczenia toalet oraz do uzdatniania wody. Normy dopuszczają maksymalne stężenie chloru w wodzie na poziomie 0,3 mg/l. Co ciekawe, woda o takiej zawartości chloru użyta w akwarium spowoduje śmierć rybek!</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jest bardzo dobrym środkiem zapewniającym sterylność systemu wodociągowego. Niestety do dnia dzisiejszego nie wynaleziono lepszej metody na utrzymanie aseptyki wodociągów i dlatego jest obecnie powszechnie stosowany niemal w każdej stacji uzdatniania wody. Istotne jest jednak, czy chlor wykorzystuje się jedynie do utrzymania wodociągów czy jako dezynfekant wody na etapie jej uzdatniania. </a:t>
            </a:r>
            <a:endParaRPr b="0" lang="en-US" sz="2000" spc="-1" strike="noStrike">
              <a:solidFill>
                <a:srgbClr val="000000"/>
              </a:solidFill>
              <a:latin typeface="Calibri"/>
            </a:endParaRPr>
          </a:p>
        </p:txBody>
      </p:sp>
      <p:pic>
        <p:nvPicPr>
          <p:cNvPr id="111"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organizmie człowieka chlor niszczy bakterie systemu pokarmowego, co może prowadzić do upośledzenia przyswajania pokarmów, a w konsekwencji do alergii pokarmowych. Długotrwałe przyjmowanie małych dawek chloru może doprowadzić do zaburzeń pokarmowych oraz do pojawienia się owrzodzenia, co może skutkować nawet uszkodzeniem jelit człowiek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dczas pierwszej wojny światowej chlor był stosowany jako gaz bojowy.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ozonowana</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posiada około 50 razy lepsze właściwości bakteriobójcze niż chlor. Niestety, zarówno w warunkach atmosferycznych jak i w wodzie jest nietrwały, bardzo szybko rozpada się do postaci zwykłego tlenu O</a:t>
            </a:r>
            <a:r>
              <a:rPr b="0" lang="en-US" sz="2000" spc="-1" strike="noStrike" baseline="-25000">
                <a:solidFill>
                  <a:srgbClr val="000000"/>
                </a:solidFill>
                <a:latin typeface="Calibri"/>
              </a:rPr>
              <a:t>2</a:t>
            </a:r>
            <a:r>
              <a:rPr b="0" lang="en-US" sz="2000" spc="-1" strike="noStrike">
                <a:solidFill>
                  <a:srgbClr val="000000"/>
                </a:solidFill>
                <a:latin typeface="Calibri"/>
              </a:rPr>
              <a:t>. Powoduje to, że woda poddana procesowi ozonowania pozostaje aseptyczna przez krótki czas, po którym narażona jest  na kolejne skażenie bakteriami. Dlatego stosowanie ozonu nie może całkowicie wyeliminować chloru z wody w sieciach wodociągowych, ale znacznie zmniejsza jego ilość do wartości niezbędnej do utrzymania sterylności instalacji wodociągowej.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ze względu na swoją nietrwałość w wodzie, jest neutralny dla organizmu człowiek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poddana procesowi ozonowania jest oczyszczona ze szkodliwych substancji, jednak zawiera rozpuszczone sole wapnia, magnezu oraz innych związków. Ozonowanie wody nie usuwa z niej pierwiastków mineralnych.   </a:t>
            </a:r>
            <a:endParaRPr b="0" lang="en-US" sz="2000" spc="-1" strike="noStrike">
              <a:solidFill>
                <a:srgbClr val="000000"/>
              </a:solidFill>
              <a:latin typeface="Calibri"/>
            </a:endParaRPr>
          </a:p>
        </p:txBody>
      </p:sp>
      <p:pic>
        <p:nvPicPr>
          <p:cNvPr id="117"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z butelki</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godnie z rozporządzeniem Ministra Zdrowia w Polsce produkowane i sprzedawane są cztery rodzaje wód. Są to:</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źródlana – woda niskozmineralizowana, zawierająca </a:t>
            </a:r>
            <a:r>
              <a:rPr b="0" lang="pl-PL" sz="2000" spc="-1" strike="noStrike">
                <a:solidFill>
                  <a:srgbClr val="000000"/>
                </a:solidFill>
                <a:latin typeface="Calibri"/>
              </a:rPr>
              <a:t>	</a:t>
            </a:r>
            <a:r>
              <a:rPr b="0" lang="pl-PL" sz="2000" spc="-1" strike="noStrike">
                <a:solidFill>
                  <a:srgbClr val="000000"/>
                </a:solidFill>
                <a:latin typeface="Calibri"/>
              </a:rPr>
              <a:t>poniżej 1000 mg składników mineralnych w 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mineralna – Woda wysoko- lub </a:t>
            </a:r>
            <a:r>
              <a:rPr b="0" lang="pl-PL" sz="2000" spc="-1" strike="noStrike">
                <a:solidFill>
                  <a:srgbClr val="000000"/>
                </a:solidFill>
                <a:latin typeface="Calibri"/>
              </a:rPr>
              <a:t>	</a:t>
            </a:r>
            <a:r>
              <a:rPr b="0" lang="pl-PL" sz="2000" spc="-1" strike="noStrike">
                <a:solidFill>
                  <a:srgbClr val="000000"/>
                </a:solidFill>
                <a:latin typeface="Calibri"/>
              </a:rPr>
              <a:t>średniozmineralizowana, zawierająca powyżej 1000 mg składników w </a:t>
            </a:r>
            <a:r>
              <a:rPr b="0" lang="pl-PL" sz="2000" spc="-1" strike="noStrike">
                <a:solidFill>
                  <a:srgbClr val="000000"/>
                </a:solidFill>
                <a:latin typeface="Calibri"/>
              </a:rPr>
              <a:t>	</a:t>
            </a:r>
            <a:r>
              <a:rPr b="0" lang="pl-PL" sz="2000" spc="-1" strike="noStrike">
                <a:solidFill>
                  <a:srgbClr val="000000"/>
                </a:solidFill>
                <a:latin typeface="Calibri"/>
              </a:rPr>
              <a:t>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lecznicza – pochodząca ze specjalnych źródeł </a:t>
            </a:r>
            <a:r>
              <a:rPr b="0" lang="pl-PL" sz="2000" spc="-1" strike="noStrike">
                <a:solidFill>
                  <a:srgbClr val="000000"/>
                </a:solidFill>
                <a:latin typeface="Calibri"/>
              </a:rPr>
              <a:t>	</a:t>
            </a:r>
            <a:r>
              <a:rPr b="0" lang="pl-PL" sz="2000" spc="-1" strike="noStrike">
                <a:solidFill>
                  <a:srgbClr val="000000"/>
                </a:solidFill>
                <a:latin typeface="Calibri"/>
              </a:rPr>
              <a:t>leczniczych, zawierających co najmniej jeden składnik leczniczy w ilości </a:t>
            </a:r>
            <a:r>
              <a:rPr b="0" lang="pl-PL" sz="2000" spc="-1" strike="noStrike">
                <a:solidFill>
                  <a:srgbClr val="000000"/>
                </a:solidFill>
                <a:latin typeface="Calibri"/>
              </a:rPr>
              <a:t>	</a:t>
            </a:r>
            <a:r>
              <a:rPr b="0" lang="pl-PL" sz="2000" spc="-1" strike="noStrike">
                <a:solidFill>
                  <a:srgbClr val="000000"/>
                </a:solidFill>
                <a:latin typeface="Calibri"/>
              </a:rPr>
              <a:t>znacząco wpływającej na funkcjonowanie organizmu człowieka.</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stołowa – nie jest wodą naturalną czyli powstaje w wyniku </a:t>
            </a:r>
            <a:r>
              <a:rPr b="0" lang="pl-PL" sz="2000" spc="-1" strike="noStrike">
                <a:solidFill>
                  <a:srgbClr val="000000"/>
                </a:solidFill>
                <a:latin typeface="Calibri"/>
              </a:rPr>
              <a:t>	</a:t>
            </a:r>
            <a:r>
              <a:rPr b="0" lang="pl-PL" sz="2000" spc="-1" strike="noStrike">
                <a:solidFill>
                  <a:srgbClr val="000000"/>
                </a:solidFill>
                <a:latin typeface="Calibri"/>
              </a:rPr>
              <a:t>ingerencji człowieka, na przykład poprzez zmieszanie wody źródlanej ze </a:t>
            </a:r>
            <a:r>
              <a:rPr b="0" lang="pl-PL" sz="2000" spc="-1" strike="noStrike">
                <a:solidFill>
                  <a:srgbClr val="000000"/>
                </a:solidFill>
                <a:latin typeface="Calibri"/>
              </a:rPr>
              <a:t>	</a:t>
            </a:r>
            <a:r>
              <a:rPr b="0" lang="pl-PL" sz="2000" spc="-1" strike="noStrike">
                <a:solidFill>
                  <a:srgbClr val="000000"/>
                </a:solidFill>
                <a:latin typeface="Calibri"/>
              </a:rPr>
              <a:t>składnikami mineralnymi lub wodą mineralną.  </a:t>
            </a:r>
            <a:endParaRPr b="0" lang="en-US" sz="2000" spc="-1" strike="noStrike">
              <a:solidFill>
                <a:srgbClr val="000000"/>
              </a:solidFill>
              <a:latin typeface="Calibri"/>
            </a:endParaRPr>
          </a:p>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8-24T14:08:03Z</dcterms:modified>
  <cp:revision>42</cp:revision>
  <dc:subject/>
  <dc:title>Slajd 1</dc:title>
</cp:coreProperties>
</file>