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9F851-7D6E-458B-B2D2-0B675A171C0A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2297A-7BC9-44A8-A47A-9FC6A0CB08A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116A4-0064-4E10-8E1C-2BD4E0AE4D6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83A21-C37F-46B0-9621-5A8E72754B8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7474D-8BA5-45F4-B566-F3A792BD347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BA498-A48E-474C-98D2-7E67DCE7051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EC05F-995F-445A-84D7-AC8E5E68A5D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0AAF2-CFDE-43B7-8231-25B448580BB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949EA-523C-43D4-AFF8-E75915509D4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B9D15-3F88-47EC-99C6-CADAEBD14A5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22B3A-CDDA-4829-8E49-917E26D418D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55FF1-D38B-4544-A930-618345B0225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2E4FC-C1FD-4C84-8253-1C6D9F3DA0D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E61AF-E300-4C7F-A997-B439EC8367F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9854D-87A8-415E-8430-AA2C0FA0829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01DEB-4BC8-42CC-B1D9-BCADE756974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18D55-5CA3-424D-9952-10E4BF25073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57333-ACDF-495D-B494-646C0570EA9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0E4A9-7B37-47C1-B632-8E42B089491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E7C43-E1E5-48E9-B5E8-54D8F387B0E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4ABFE-201B-4EB4-82C0-FB7363B69B4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52811-748F-4029-990E-7C2DC060F64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77A0E-D09C-494A-A218-1FB9158F3F4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8231D-C691-4B01-BC17-D628AA64235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3428A-8343-422C-AEA9-82126186C5A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CA224-AD02-417E-ABBB-561333D6658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213EF-3218-4ABB-A905-8EE3D57D7B6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E01C5-3D66-4081-9CA5-B6F22193CB9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0BDCB-09D8-467C-B34A-5330A9D48D5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0F80A-7D32-46FB-9082-F0366629101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B55AA-E208-4626-A82B-88FF8CA103B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61340-2A85-4921-8F9F-1B35E1B3738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63B5F-86AA-41C3-8A3A-8318D2A1BA4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70AE4-E8F6-4E0C-BF52-C4BFE77196A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928A4-8DE6-4FEA-A225-942EF6BB1B4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75A3B-8C84-48F1-9D1C-DAB8DDCC9ED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B9F6-526F-47F0-9779-C68EC47E7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1307-F968-4138-B80E-CF42A162D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B9FE-15A5-4328-A49C-4BBDC9DE4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2A29-7396-4915-B8D1-6FC9AA9D0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E6A36-4275-4756-B39D-3F5D514AB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58811-DD86-4179-B865-E9A2F6B79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A478E-71D7-40DD-880B-4781DBD0C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0FCE8-3051-4AEA-A9E4-53E4CEDD3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9E196-CE28-4822-9339-A1B783B75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436F2-18FF-4B43-BD10-D84A70BE4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C6D29-7BB2-4BB1-911A-2949D1A9B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B65D-F279-48B2-AA56-0B6DAB9EA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2B689-A66D-470C-953A-D80790226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FCA85-B892-4501-8B42-B4EE5A2C1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C15EA-2C2E-44E2-B915-A5BB0A576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DCBFF-7A84-49DE-B322-21B2F3788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F4AE5-F62C-4481-ACBF-E26A4B0AB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3D6E-81E5-485D-8B9B-585AE0C8A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052D-1AB4-45E2-BA5B-C468DC3DF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4E69-1E8C-4D22-9972-A967D0F75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C4D1-A102-4F8A-81E9-F930883B8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7D9E-187C-4D9B-8EC5-1544DACAA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C831-9223-4010-A555-F973E383C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BD95-3699-4E7D-9AEC-170184995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77E15-0052-4437-A347-7998ECF5A4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A8588-52FA-4631-BA17-25516E1396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6000" y="1591920"/>
            <a:ext cx="7956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Calibri"/>
              </a:rPr>
              <a:t>Witaminy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gr inż. Magdalena Ku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amina B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ff"/>
                </a:solidFill>
                <a:latin typeface="Calibri"/>
              </a:rPr>
              <a:t>Kwas pantotenow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Bierze udział w syntezie białek, węglowodanów oraz tłuszczó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Dobrze wpływa na napięcie skóry oraz jej pigmentacj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Jej obecność reguluję pracę układu naczyniowego zapobiegając przemęczeni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ystępuje w wątrobie, mleku, rybach, pestkach słonecznika, pomarańczach i Yerba m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4" descr="MP900422363[1]"/>
          <p:cNvPicPr/>
          <p:nvPr/>
        </p:nvPicPr>
        <p:blipFill>
          <a:blip r:embed="rId1"/>
          <a:stretch/>
        </p:blipFill>
        <p:spPr>
          <a:xfrm>
            <a:off x="6227640" y="260280"/>
            <a:ext cx="2627280" cy="17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amina B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ff"/>
                </a:solidFill>
                <a:latin typeface="Calibri"/>
              </a:rPr>
              <a:t>Pirydoksy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Ma wpływ na układ krążenia (reguluję racę serca, wpływa na ciśnienie krwi) oraz na wchłanianie magnez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Uczestniczy w metabolizmie aminokwasó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pływa łagodząco na zespół napięcia przedmiesiączkoweg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Istotna dla przekazywania impulsów między komórkami nerwowym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Jej źródłem są ryby, jaja, warzywa skrobiowe, produkty pełnozbożowe i bana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4" descr="MP900177942[1]"/>
          <p:cNvPicPr/>
          <p:nvPr/>
        </p:nvPicPr>
        <p:blipFill>
          <a:blip r:embed="rId1"/>
          <a:stretch/>
        </p:blipFill>
        <p:spPr>
          <a:xfrm>
            <a:off x="6227640" y="333360"/>
            <a:ext cx="254952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amina B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ff"/>
                </a:solidFill>
                <a:latin typeface="Calibri"/>
              </a:rPr>
              <a:t>Kwas foliowy, witamina M, witamina B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Syntetyzowany jest przez bakterie jelitow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Zalecane jest jej przyjmowanie szczególnie kobietom spodziewającym się dziecka, aby zapobiec uszkodzeniu cewy nerwowej u noworod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Reguluje funkcjonowanie układu pokarmoweg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Ma działanie antykancerogenne oraz wpływa na dojrzewanie krwinek w szpiku kostny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ażna w tworzeniu kwasów nukleinow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ystępuje także z zielonych warzywach, żółtku jaj, drożdżach i morela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5" descr="MP900144270[1]"/>
          <p:cNvPicPr/>
          <p:nvPr/>
        </p:nvPicPr>
        <p:blipFill>
          <a:blip r:embed="rId1"/>
          <a:stretch/>
        </p:blipFill>
        <p:spPr>
          <a:xfrm>
            <a:off x="7164360" y="0"/>
            <a:ext cx="16257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amina B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Kobalami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erze udział w procesach krwiotwórczych w szpiku kostny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guluje działanie układu nerwoweg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erze udział w metabolizmie tłuszczów, białek, węglowodanów, a także w syntezie kwasów nukleinowy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żna przy tworzeniu nowych komórek i przekazywaniu do nich informacji genetyczne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kże syntetyzowana przez florę jelitową. Oprócz tego bogate w tę witaminę są nabiał, nerki, wątroba i mięs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4" descr="MP900424401[1]"/>
          <p:cNvPicPr/>
          <p:nvPr/>
        </p:nvPicPr>
        <p:blipFill>
          <a:blip r:embed="rId1"/>
          <a:stretch/>
        </p:blipFill>
        <p:spPr>
          <a:xfrm>
            <a:off x="6877080" y="0"/>
            <a:ext cx="14778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amina 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Kwas askorbinow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ie ma wpływu na ryzyko pojawienia się przeziębienia w zwykłych warunka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orzystnie wpływ na stan jamy ustnej, zębów i dziąse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spomaga proces gojenia się r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guluje zdolność organizmu do przyswajania żelaz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ej źródłem jest kiszona kapusta, cytrusy, porzeczka, natka pietruszki i truskawk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5" descr="MP900387874[1]"/>
          <p:cNvPicPr/>
          <p:nvPr/>
        </p:nvPicPr>
        <p:blipFill>
          <a:blip r:embed="rId1"/>
          <a:stretch/>
        </p:blipFill>
        <p:spPr>
          <a:xfrm>
            <a:off x="6300720" y="333360"/>
            <a:ext cx="2519280" cy="17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amina 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Kalcyfer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est wytwarzana w skórze pod wpływem promieniowania U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uluje proces wchłaniania wapnia, potasu i fosfo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dpowiedzialna za właściwy rozwój kości i zębó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ej źródłem jest nabiał, ryby i wątrob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4" descr="MP900424387[1]"/>
          <p:cNvPicPr/>
          <p:nvPr/>
        </p:nvPicPr>
        <p:blipFill>
          <a:blip r:embed="rId1"/>
          <a:stretch/>
        </p:blipFill>
        <p:spPr>
          <a:xfrm>
            <a:off x="6227640" y="333360"/>
            <a:ext cx="2556000" cy="16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amina 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ff"/>
                </a:solidFill>
                <a:latin typeface="Calibri"/>
              </a:rPr>
              <a:t>Tokofer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Nazywana „witaminą młodości”, ponieważ ma silne właściwości przeciwutleniające oraz wpływa na właściwy stan błon komórkowy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pływa także na odpowiednie funkcjonowanie układu krążen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ystępuje w nabiale, kiełkach pszenicy, zielonych warzywach i razowym pieczyw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4" descr="MP900448293[1]"/>
          <p:cNvPicPr/>
          <p:nvPr/>
        </p:nvPicPr>
        <p:blipFill>
          <a:blip r:embed="rId1"/>
          <a:stretch/>
        </p:blipFill>
        <p:spPr>
          <a:xfrm>
            <a:off x="6877080" y="0"/>
            <a:ext cx="1515960" cy="22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amina 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Biotyna, witamina B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czestniczy w wytwarzaniu kwasów tłuszczowy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dpowiedzialna za właściwy stan włosów, skóry i paznok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awarta w drożdżach, jajach, wątrobie, orzechach, czekoladzie i pomidor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4" descr="MP900400597[1]"/>
          <p:cNvPicPr/>
          <p:nvPr/>
        </p:nvPicPr>
        <p:blipFill>
          <a:blip r:embed="rId1"/>
          <a:stretch/>
        </p:blipFill>
        <p:spPr>
          <a:xfrm>
            <a:off x="6804000" y="0"/>
            <a:ext cx="1704960" cy="21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amina 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Filochin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ytwarzana przez florę jelitow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ej główna rola polega na regulowaniu procesów krzepnięcia krw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pływa także na budowę tkanki kostnej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ej źródłem są głównie zielone warzywa, wątroba zwierzęca i rośliny strączkow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4" descr="MP900448460[1]"/>
          <p:cNvPicPr/>
          <p:nvPr/>
        </p:nvPicPr>
        <p:blipFill>
          <a:blip r:embed="rId1"/>
          <a:stretch/>
        </p:blipFill>
        <p:spPr>
          <a:xfrm>
            <a:off x="6372360" y="333360"/>
            <a:ext cx="238752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amina P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Niacyna, kwas nikotynowy, witamin B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iezbędna do prawidłowego działania mózg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wiązana z wytwarzaniem hormonów płciowy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maga utrzymać właściwy poziom cholesterolu, a także wspomaga spalanie węglowodanów i tłuszczów w organizm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żna dla naprawy uszkodzonych informacji genetyczny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ystępuje w wątrobie zwierzęcej, nabiale, mięsie, zielonych warzywach i ziemniaka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4" descr="MP900426575[1]"/>
          <p:cNvPicPr/>
          <p:nvPr/>
        </p:nvPicPr>
        <p:blipFill>
          <a:blip r:embed="rId1"/>
          <a:stretch/>
        </p:blipFill>
        <p:spPr>
          <a:xfrm>
            <a:off x="6516720" y="189000"/>
            <a:ext cx="2232000" cy="14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an prezentacj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2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zęść pierwsz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2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2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 Co to są witamin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2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 Podział witam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2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 Charakterystyka poszczególny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2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amin oraz ich wpływ n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2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izm człowie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2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2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zęść drug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2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2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kutki niedoboru witam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5" descr="MP900448418[1]"/>
          <p:cNvPicPr/>
          <p:nvPr/>
        </p:nvPicPr>
        <p:blipFill>
          <a:blip r:embed="rId1"/>
          <a:stretch/>
        </p:blipFill>
        <p:spPr>
          <a:xfrm>
            <a:off x="5651640" y="1341360"/>
            <a:ext cx="29764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oniec części pierwszej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zęść drug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kutki niedoboru witam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amina 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zienne zapotrzebowanie na witaminę A to ok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 m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dla dorosłego człowieka. Ilość tę zapewnia zjedzenie połowy surowej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archewk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lub ok. 30 g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ątróbk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iedobór tej witaminy powoduje tzw. kurzą ślepotę, a także łuszczenie się naskórka oraz powtarzające się infekcj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amina B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zienne zapotrzebowanie na witaminę B1 to ok.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,2 m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la dorosłego człowieka. Ilość tę zapewnia zjedzenie 300 g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łatków owsianyc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lub 1 kg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hleb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Zapotrzebowanie wzrasta u kobiet karmiących piersią oraz przy wzmożonym wysiłku fizyczny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iedobór tej witaminy powoduje osłabienie mięśni i degenerację stawów, a także zaburzenia krążenia. Brak tej witaminy może prowadzić również do zachorowań na chorobę beri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ri, której skutkiem jest porażenie i zanik mięśn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amina B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zienne zapotrzebowanie na witaminę B2 to ok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,5 m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dla dorosłego człowieka. Ilość tę zapewnia zjedzenie ok. 50 g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ątróbk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lub wypicie 1 litra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lek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iedobór tej witaminy powoduje łojotokowe zapalenie skóry, powstawanie zajadów, a także nadwrażliwość na światło połączone z zapaleniem spojówe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amina B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zienne zapotrzebowanie na witaminę B5 to ok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6 m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dla dorosłego człowieka. Ilość tę zapewnia zjedzenie 350 g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ąki sojowej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lub ok. 100 g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ątróbk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iedobór tej witaminy powoduje zaburzenia czucia, przedwczesne siwienie, problemy z koncentracją i zmęczenie. Brak tej witaminy może prowadzić do uszkodzenia nadnercz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amina B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zienne zapotrzebowanie na witaminę B6 to ok. 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1,6 mg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dla dorosłego człowieka. Ilość tę zapewnia zjedzenie ok. 300 g 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wątróbki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lub 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makreli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Niedobór tej witaminy powoduje zaburzenia układu nerwowego (np. drgawki), matowienie skóry, zmęczenie i rozdrażnienie, a także stany zapalne skóry i objawy anemi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amina B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Dzienne zapotrzebowanie na witaminę B11 to ok.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0,3 mg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dla dorosłego człowieka. Ilość tę zapewnia zjedzenie 800 g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zielonych warzyw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lub ok. 200 g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wątróbki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Niedobór tej witaminy powoduje wrodzone wady płodu (np. rozszczep kręgosłupa), zwiększa ryzyko poronienia oraz chorób sercowo-naczyniowych, jest przyczyną zaburzeń w układzie pokarmowy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amina B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Dzienne zapotrzebowanie na witaminę B12 to ok.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3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µ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dla dorosłego człowieka. Ilość tę zapewnia zjedzenie ok. 30 g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wątróbki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lub 50 g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ryby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. Jest magazynowana w wątrobie, a na jej niedobory narażone są w zasadzie wyłącznie osoby ściśle stosujące się do zasad diety wegetariańskiej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Niedobór tej witaminy powoduje anemię oraz uszkodzenia układu nerwowego, takie jak stwardnienie rozsian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amina 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zienne zapotrzebowanie na witaminę C to ok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80 m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dla dorosłego człowieka. Ilość tę zapewnia zjedzenie 1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zerwonej papryk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lub 20 g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zarnej porzeczk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iedobór tej witaminy jest przyczyną zachorowania na szkorbut (choroby dziąseł), obniżenia odporności organizmu, pękania naczyń krwionośnych i niewłaściwego zrastania się kości w przypadku urazó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zęść pierwsz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amina 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Dzienne zapotrzebowanie na witaminę D to ok.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5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µ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dla dorosłego człowieka. Zapotrzebowanie to jest na tyle małe, że prawie w pełni zaspokaja je nasłonecznienie. Nagromadzona w organizmie witamina D jest wykorzystywana w okresach jej mniejszej produkcj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Niedobów tej witaminy powoduje krzywicę, a także wypadanie zębów, powiększenie stawów i osłabienie mięśn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amina 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Dzienne zapotrzebowanie na witaminę E to ok.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12 mg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dla dorosłego człowieka. Ilość tę zapewnia zjedzenie m.in. 200 g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kiełków pszeni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Niedobór tej witaminy wpływa na zwiększenie ryzyka poronienia, dystrofie mięśniowe i zaburzenia płodności. Może powodować także zaburzenia wzrostu oraz ogólne zmęczenie i osłabien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amina 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zienne zapotrzebowanie na witaminę H to ok. 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80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µ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dla dorosłego człowieka.  Jest produkowana przez mikroflorę jelitow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Niedobór tej witaminy powoduje wypadanie włosów, rozdwajanie paznokci, przetłuszczanie skóry, a także wpływa na podwyższony poziom cholesterolu we krw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amina 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zienne zapotrzebowanie na witaminę K to ok. 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70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µ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dla dorosłego człowieka. Jest ono na tyle małe, że pokrywane jest całkowicie podczas stosowania normalnej, zdrowej diety, w której obecne są warzywa ziel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Niedobór tej witaminy powoduje zaburzenia procesu krzepnięcia krwi oraz krwawien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amina P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zienne zapotrzebowanie na witaminę PP to ok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7 m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dla dorosłego człowieka. Ilość tę zapewnia zjedzenie 0,5 kg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ięs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lub ok. 100 g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ątróbk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iedobór tej witaminy powoduje stany zapalne skóry, biegunki, zaburzenia psychiczne. Brak tej witaminy jest także przyczyną zachorowania na pelagrę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. Co to są witami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Nazwa witamina pochodzi z języka łacińskiego. </a:t>
            </a:r>
            <a:r>
              <a:rPr b="0" i="1" lang="pl-PL" sz="2800" spc="-1" strike="noStrike">
                <a:solidFill>
                  <a:srgbClr val="00cc00"/>
                </a:solidFill>
                <a:latin typeface="Calibri"/>
              </a:rPr>
              <a:t>Vita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oznacza życie, natomiast </a:t>
            </a:r>
            <a:r>
              <a:rPr b="0" i="1" lang="pl-PL" sz="2800" spc="-1" strike="noStrike">
                <a:solidFill>
                  <a:srgbClr val="00cc00"/>
                </a:solidFill>
                <a:latin typeface="Calibri"/>
              </a:rPr>
              <a:t>amina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odnosi się do grupy aminowej, którą posiadała pierwsza odkryta witamina – B1. Dokonał tego polski uczony – Kazimierz Funk – na początku XX wiek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itaminy są grupą organicznych związków chemicznych niezbędnych do prawidłowego funkcjonowania organizmów żywyc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ełnią funkcje regulacyjne – uczestniczą w procesach metabolicznych jako koenzym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rganizm człowieka potrzebuje ich niewielką ilość, ale ponieważ nie potrafi ich sam wytworzyć, należy je dostarczać wraz z pożywieni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611280" y="333360"/>
            <a:ext cx="7848360" cy="93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. Podział witam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taminy dzielimy na dwie grupy: rozpuszczalne w tłuszczach i rozpuszczalne w wodzi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Witaminy rozpuszczalne w tłuszczach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, D, E, 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Witaminy te mogą być gromadzone w organizmach żywych, szczególnie w tkance tłuszczowej i wątrobie. Należy pamiętać, że nadmiar niektórych witamin także n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 jest zdrow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prowadzi do tzw. hiperwitaminoz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Witaminy rozpuszczalne w wodzi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itaminy grupy B, C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Te witaminy są szybko wypłukiwane z organizmów żywych i aby zachować zdrowie należy ich ciągle dostarczać w niewielkich ilościac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611280" y="333360"/>
            <a:ext cx="7848360" cy="93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3. Charakterystyka poszczególnych witami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aminy dostarczane są do organizmów żywych w różny sposób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 pokarmem jako witaminy (mogą być składnikami pożywienia lub dostarczane jako syntetyczne suplementy diet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ako prowitaminy, czyli związki, które w organizmach są przekształcane w witamin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yntezowane przez florę bakteryjną jel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611280" y="260280"/>
            <a:ext cx="784836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amina 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ff"/>
                </a:solidFill>
                <a:latin typeface="Calibri"/>
              </a:rPr>
              <a:t>Retinol, akseroft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ażna dla odbierania bodźców wzrokowych, ponieważ jej pochodna wchodzi w skład rodopsyny, odpowiedzialnej za wrażliwość pręcików oka na światł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Reguluje i wspomaga właściwe funkcjonowanie tkanki nabłonkowej i skó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ełni funkcję regulacyjną w tkance kostne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Źródłem witaminy A jest wątroba zwierzęca, a także marchew, brokuł, dynia, nabia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4" descr="MP900387875[1]"/>
          <p:cNvPicPr/>
          <p:nvPr/>
        </p:nvPicPr>
        <p:blipFill>
          <a:blip r:embed="rId1"/>
          <a:stretch/>
        </p:blipFill>
        <p:spPr>
          <a:xfrm>
            <a:off x="6156360" y="189000"/>
            <a:ext cx="273672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amina B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Tiami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guluje przemianę węglowodanów w organizmie (a więc pozyskiwanie energi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pływa pozytywnie na gojenie się ran, a także ma właściwości przeciwbólow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żna jest dla prawidłowego wzrostu, karmienia piersią oraz płodności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ecna m.in. w otrębach zbożowych, roślinach strączkowych, orzechach i wątrobie zwierzęce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9" descr="MP900313734[1]"/>
          <p:cNvPicPr/>
          <p:nvPr/>
        </p:nvPicPr>
        <p:blipFill>
          <a:blip r:embed="rId1"/>
          <a:stretch/>
        </p:blipFill>
        <p:spPr>
          <a:xfrm>
            <a:off x="6084720" y="333360"/>
            <a:ext cx="284328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amina B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Ryboflaw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pływa pozytywnie na działanie układu nerwowe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prawia działanie błon śluzowych, a także współuczestniczy w tworzeniu hemoglobin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zięki jej obecności dochodzi do szybszego gojenia się r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ej źródłem są ryby, nabiał, a także zielone warzywa, grzyby i kaw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5" descr="MP900407089[1]"/>
          <p:cNvPicPr/>
          <p:nvPr/>
        </p:nvPicPr>
        <p:blipFill>
          <a:blip r:embed="rId1"/>
          <a:stretch/>
        </p:blipFill>
        <p:spPr>
          <a:xfrm>
            <a:off x="6948360" y="260280"/>
            <a:ext cx="15559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Madzia</cp:lastModifiedBy>
  <dcterms:modified xsi:type="dcterms:W3CDTF">2013-08-24T14:40:15Z</dcterms:modified>
  <cp:revision>44</cp:revision>
  <dc:subject/>
  <dc:title>Slajd 1</dc:title>
</cp:coreProperties>
</file>