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9E74-4647-42CD-B405-01DBB30EA87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0EEE-2145-443B-8494-3E9CEB7CBC9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8EA0-8870-4A83-AD1C-8E2AE41DDBC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3655-79AE-4FC1-B2CB-79FF4C9C0FE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11A4-5D54-46D6-A0AB-0D8CE15F908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1ECD-A8E1-44E0-977C-F3F7C45F0D0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CB53-A348-4448-B601-BA72D48B3D0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947D-6059-4E48-951F-0044EBB1E13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DC9F-BF03-40DF-83AD-916EA622032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41C8-486A-4CEB-80DC-7F4DF6DE30F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888F-DBD8-46AF-A07C-37479D8AFD6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3B40-4F03-45C4-9CBF-C1B1B0C14C0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5F59-2258-404F-8E64-ADFD9B13E1C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34C3-31CE-4FF0-B162-2EF9B7B38EA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67F3-6E0E-4F17-B30B-46CD8322A46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EFF0-B6EE-4374-A327-773EC774DB8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CA2E-7363-41E9-BF9B-18DB06D8B34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5A28-B184-476F-9E11-39996861A44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7D41-C629-4892-B9BC-1B9D409FFCF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41CF-F860-4323-A40E-3592898394A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25AA-523E-4782-BA6A-DC522DE9B51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A0C3-5EAE-47B1-AF2A-4F69B49D968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1CCF-8C7D-4FCB-95AB-B4368F40C6F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BC36-C894-492A-9D3D-6896AD646D2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BFB6-E38C-4CC2-95ED-614B43305CA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C46E-C84B-4EFF-ABFF-ED862AC670E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DD7F-FF97-4523-90CB-40E79553A78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5DE1-E929-430A-AC05-DC04589FB14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E838-CC04-46EE-A6BC-AE3FE95BBFC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ED38-875A-4A1C-B9EF-E49447B0F00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8587-108C-4D17-82A9-87A1C237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D7B-FDC5-4CAF-850F-21C86EFB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9EB-A649-4409-B65D-0616115A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8B0E-23BE-4008-82F3-B53B97B9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8BF-3D5C-463C-8AA3-DD3D310B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6119-EB04-491A-9427-E2A54028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821-CA3A-472C-8C44-A09E411E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9181-1463-4E8F-BEED-79F9B471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657-204D-49F2-A1D6-DB48A90E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02B-2566-486D-882E-C9694C20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2FC-35EA-4027-9816-B3221EE8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3405-BCBE-4AD0-9EE7-9428C6E8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EB7D-0E4C-4973-83AD-A41F7EB4EA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5560" y="1285920"/>
            <a:ext cx="65516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6000" spc="-1" strike="noStrike">
                <a:solidFill>
                  <a:srgbClr val="4a452a"/>
                </a:solidFill>
                <a:latin typeface="Calibri"/>
              </a:rPr>
              <a:t>Rachuba czasu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2428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4a452a"/>
                </a:solidFill>
                <a:latin typeface="Calibri"/>
              </a:rPr>
              <a:t>przeliczanie czasów: czas słoneczny, strefowy, urzędo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Users\AiG\Desktop\Ula\zdjęcia\zegar słoneczny.jpg"/>
          <p:cNvPicPr/>
          <p:nvPr/>
        </p:nvPicPr>
        <p:blipFill>
          <a:blip r:embed="rId3"/>
          <a:stretch/>
        </p:blipFill>
        <p:spPr>
          <a:xfrm>
            <a:off x="5572080" y="3429000"/>
            <a:ext cx="3000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1213920"/>
            <a:ext cx="7715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Międzynarodowa linia zmiany dat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37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38" name="Tytuł 1"/>
          <p:cNvSpPr/>
          <p:nvPr/>
        </p:nvSpPr>
        <p:spPr>
          <a:xfrm>
            <a:off x="642960" y="2071800"/>
            <a:ext cx="771516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Biegnie częściowo wzdłuż południka 180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a częściowo w jego sąsiedztw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Przekaraczający tę linię mają obowiązek zmienić datę o jeden dzień w swoich rachunk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podróżując z zachodu na wschód przez dwa dni pozostają przy tej samej dac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podróżując ze wschodu na zachód muszą wyrwać jedną extra kartkę z kalendarza.</a:t>
            </a: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771516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kłady na obliczenie różnicy czasu słonecznego na podstawie różnicy długości geograficznej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42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43" name="Tytuł 1"/>
          <p:cNvSpPr/>
          <p:nvPr/>
        </p:nvSpPr>
        <p:spPr>
          <a:xfrm>
            <a:off x="785880" y="2857680"/>
            <a:ext cx="77151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4a452a"/>
                </a:solidFill>
                <a:latin typeface="Calibri"/>
              </a:rPr>
              <a:t>Etapy rozwiązywania zadan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1. Narysowanie schematu i wpisanie da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2. Obliczenie różnicy długości geograficzn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46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857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Jeżeli miasta leżą na dwóch różnych półkulach dodajesz stopni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2"/>
          <p:cNvGrpSpPr/>
          <p:nvPr/>
        </p:nvGrpSpPr>
        <p:grpSpPr>
          <a:xfrm>
            <a:off x="2071440" y="1143000"/>
            <a:ext cx="6715440" cy="3572280"/>
            <a:chOff x="2071440" y="1143000"/>
            <a:chExt cx="6715440" cy="3572280"/>
          </a:xfrm>
        </p:grpSpPr>
        <p:sp>
          <p:nvSpPr>
            <p:cNvPr id="149" name="Text Box 3"/>
            <p:cNvSpPr/>
            <p:nvPr/>
          </p:nvSpPr>
          <p:spPr>
            <a:xfrm>
              <a:off x="6508440" y="2797920"/>
              <a:ext cx="2278440" cy="57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+ 3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= 4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AutoShape 4"/>
            <p:cNvCxnSpPr/>
            <p:nvPr/>
          </p:nvCxnSpPr>
          <p:spPr>
            <a:xfrm>
              <a:off x="2071440" y="4703040"/>
              <a:ext cx="4336920" cy="122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151" name="AutoShape 5"/>
            <p:cNvCxnSpPr/>
            <p:nvPr/>
          </p:nvCxnSpPr>
          <p:spPr>
            <a:xfrm>
              <a:off x="3593160" y="1831320"/>
              <a:ext cx="25200" cy="2884320"/>
            </a:xfrm>
            <a:prstGeom prst="straightConnector1">
              <a:avLst/>
            </a:prstGeom>
            <a:ln w="22320">
              <a:solidFill>
                <a:srgbClr val="c00000"/>
              </a:solidFill>
              <a:miter/>
            </a:ln>
          </p:spPr>
        </p:cxnSp>
        <p:cxnSp>
          <p:nvCxnSpPr>
            <p:cNvPr id="152" name="AutoShape 6"/>
            <p:cNvCxnSpPr/>
            <p:nvPr/>
          </p:nvCxnSpPr>
          <p:spPr>
            <a:xfrm>
              <a:off x="2729160" y="1816200"/>
              <a:ext cx="25200" cy="28850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153" name="AutoShape 7"/>
            <p:cNvCxnSpPr/>
            <p:nvPr/>
          </p:nvCxnSpPr>
          <p:spPr>
            <a:xfrm>
              <a:off x="5337000" y="1831320"/>
              <a:ext cx="25200" cy="288432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sp>
          <p:nvSpPr>
            <p:cNvPr id="154" name="Text Box 8"/>
            <p:cNvSpPr/>
            <p:nvPr/>
          </p:nvSpPr>
          <p:spPr>
            <a:xfrm>
              <a:off x="3382560" y="1143000"/>
              <a:ext cx="567000" cy="57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pl-PL" sz="1800" spc="-1" strike="noStrike" baseline="30000">
                  <a:solidFill>
                    <a:srgbClr val="ff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>
              <a:off x="2336400" y="1143000"/>
              <a:ext cx="1103760" cy="57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"/>
            <p:cNvSpPr/>
            <p:nvPr/>
          </p:nvSpPr>
          <p:spPr>
            <a:xfrm>
              <a:off x="5027400" y="1143000"/>
              <a:ext cx="1103040" cy="57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59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680" y="4857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Jeżeli miasta leżą na tej samej półkuli odejmujesz stopni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Group 22"/>
          <p:cNvGrpSpPr/>
          <p:nvPr/>
        </p:nvGrpSpPr>
        <p:grpSpPr>
          <a:xfrm>
            <a:off x="785520" y="1428840"/>
            <a:ext cx="2927520" cy="3365280"/>
            <a:chOff x="785520" y="1428840"/>
            <a:chExt cx="2927520" cy="3365280"/>
          </a:xfrm>
        </p:grpSpPr>
        <p:cxnSp>
          <p:nvCxnSpPr>
            <p:cNvPr id="162" name="AutoShape 23"/>
            <p:cNvCxnSpPr/>
            <p:nvPr/>
          </p:nvCxnSpPr>
          <p:spPr>
            <a:xfrm>
              <a:off x="785520" y="4134960"/>
              <a:ext cx="2927880" cy="936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163" name="AutoShape 24"/>
            <p:cNvCxnSpPr/>
            <p:nvPr/>
          </p:nvCxnSpPr>
          <p:spPr>
            <a:xfrm>
              <a:off x="1610640" y="1951560"/>
              <a:ext cx="19080" cy="219276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164" name="AutoShape 25"/>
            <p:cNvCxnSpPr/>
            <p:nvPr/>
          </p:nvCxnSpPr>
          <p:spPr>
            <a:xfrm>
              <a:off x="2252880" y="1940400"/>
              <a:ext cx="19080" cy="219312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165" name="AutoShape 26"/>
            <p:cNvCxnSpPr/>
            <p:nvPr/>
          </p:nvCxnSpPr>
          <p:spPr>
            <a:xfrm>
              <a:off x="2912760" y="1951560"/>
              <a:ext cx="19080" cy="2192760"/>
            </a:xfrm>
            <a:prstGeom prst="straightConnector1">
              <a:avLst/>
            </a:prstGeom>
            <a:ln w="22320">
              <a:solidFill>
                <a:srgbClr val="c00000"/>
              </a:solidFill>
              <a:miter/>
            </a:ln>
          </p:spPr>
        </p:cxnSp>
        <p:sp>
          <p:nvSpPr>
            <p:cNvPr id="166" name="Text Box 27"/>
            <p:cNvSpPr/>
            <p:nvPr/>
          </p:nvSpPr>
          <p:spPr>
            <a:xfrm>
              <a:off x="1509480" y="4354200"/>
              <a:ext cx="1701720" cy="439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- 1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= 1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8"/>
            <p:cNvSpPr/>
            <p:nvPr/>
          </p:nvSpPr>
          <p:spPr>
            <a:xfrm>
              <a:off x="1274400" y="1428840"/>
              <a:ext cx="766800" cy="439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9"/>
            <p:cNvSpPr/>
            <p:nvPr/>
          </p:nvSpPr>
          <p:spPr>
            <a:xfrm>
              <a:off x="1987560" y="1428840"/>
              <a:ext cx="824400" cy="439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0"/>
            <p:cNvSpPr/>
            <p:nvPr/>
          </p:nvSpPr>
          <p:spPr>
            <a:xfrm>
              <a:off x="2682000" y="1428840"/>
              <a:ext cx="823680" cy="439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800" spc="-1" strike="noStrike">
                  <a:solidFill>
                    <a:srgbClr val="c00000"/>
                  </a:solidFill>
                  <a:latin typeface="Times New Roman"/>
                </a:rPr>
                <a:t>0</a:t>
              </a:r>
              <a:r>
                <a:rPr b="1" lang="pl-PL" sz="1800" spc="-1" strike="noStrike" baseline="30000">
                  <a:solidFill>
                    <a:srgbClr val="c0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31"/>
          <p:cNvGrpSpPr/>
          <p:nvPr/>
        </p:nvGrpSpPr>
        <p:grpSpPr>
          <a:xfrm>
            <a:off x="4929120" y="1428840"/>
            <a:ext cx="2927880" cy="3309840"/>
            <a:chOff x="4929120" y="1428840"/>
            <a:chExt cx="2927880" cy="3309840"/>
          </a:xfrm>
        </p:grpSpPr>
        <p:grpSp>
          <p:nvGrpSpPr>
            <p:cNvPr id="171" name="Group 32"/>
            <p:cNvGrpSpPr/>
            <p:nvPr/>
          </p:nvGrpSpPr>
          <p:grpSpPr>
            <a:xfrm>
              <a:off x="4929120" y="1428840"/>
              <a:ext cx="2927880" cy="2714400"/>
              <a:chOff x="4929120" y="1428840"/>
              <a:chExt cx="2927880" cy="2714400"/>
            </a:xfrm>
          </p:grpSpPr>
          <p:cxnSp>
            <p:nvCxnSpPr>
              <p:cNvPr id="172" name="AutoShape 33"/>
              <p:cNvCxnSpPr/>
              <p:nvPr/>
            </p:nvCxnSpPr>
            <p:spPr>
              <a:xfrm>
                <a:off x="4929120" y="4134240"/>
                <a:ext cx="2928240" cy="9360"/>
              </a:xfrm>
              <a:prstGeom prst="straightConnector1">
                <a:avLst/>
              </a:prstGeom>
              <a:ln w="22320">
                <a:solidFill>
                  <a:srgbClr val="000000"/>
                </a:solidFill>
                <a:miter/>
                <a:tailEnd len="lg" type="stealth" w="lg"/>
              </a:ln>
            </p:spPr>
          </p:cxnSp>
          <p:cxnSp>
            <p:nvCxnSpPr>
              <p:cNvPr id="173" name="AutoShape 34"/>
              <p:cNvCxnSpPr/>
              <p:nvPr/>
            </p:nvCxnSpPr>
            <p:spPr>
              <a:xfrm>
                <a:off x="5754600" y="1951200"/>
                <a:ext cx="18720" cy="2192040"/>
              </a:xfrm>
              <a:prstGeom prst="straightConnector1">
                <a:avLst/>
              </a:prstGeom>
              <a:ln w="22320">
                <a:solidFill>
                  <a:srgbClr val="c00000"/>
                </a:solidFill>
                <a:miter/>
              </a:ln>
            </p:spPr>
          </p:cxnSp>
          <p:cxnSp>
            <p:nvCxnSpPr>
              <p:cNvPr id="174" name="AutoShape 35"/>
              <p:cNvCxnSpPr/>
              <p:nvPr/>
            </p:nvCxnSpPr>
            <p:spPr>
              <a:xfrm>
                <a:off x="6396480" y="1940760"/>
                <a:ext cx="18720" cy="2192400"/>
              </a:xfrm>
              <a:prstGeom prst="straightConnector1">
                <a:avLst/>
              </a:prstGeom>
              <a:ln w="22320">
                <a:solidFill>
                  <a:srgbClr val="000000"/>
                </a:solidFill>
                <a:miter/>
              </a:ln>
            </p:spPr>
          </p:cxnSp>
          <p:cxnSp>
            <p:nvCxnSpPr>
              <p:cNvPr id="175" name="AutoShape 36"/>
              <p:cNvCxnSpPr/>
              <p:nvPr/>
            </p:nvCxnSpPr>
            <p:spPr>
              <a:xfrm>
                <a:off x="7056360" y="1951200"/>
                <a:ext cx="19080" cy="2192040"/>
              </a:xfrm>
              <a:prstGeom prst="straightConnector1">
                <a:avLst/>
              </a:prstGeom>
              <a:ln w="22320">
                <a:solidFill>
                  <a:srgbClr val="000000"/>
                </a:solidFill>
                <a:miter/>
              </a:ln>
            </p:spPr>
          </p:cxnSp>
          <p:sp>
            <p:nvSpPr>
              <p:cNvPr id="176" name="Text Box 37"/>
              <p:cNvSpPr/>
              <p:nvPr/>
            </p:nvSpPr>
            <p:spPr>
              <a:xfrm>
                <a:off x="5596560" y="1428840"/>
                <a:ext cx="423720" cy="439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1" lang="pl-PL" sz="1800" spc="-1" strike="noStrike" baseline="30000">
                    <a:solidFill>
                      <a:srgbClr val="ff0000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38"/>
              <p:cNvSpPr/>
              <p:nvPr/>
            </p:nvSpPr>
            <p:spPr>
              <a:xfrm>
                <a:off x="6131160" y="1428840"/>
                <a:ext cx="824040" cy="439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000000"/>
                    </a:solidFill>
                    <a:latin typeface="Calibri"/>
                  </a:rPr>
                  <a:t>15</a:t>
                </a:r>
                <a:r>
                  <a:rPr b="1" lang="pl-PL" sz="1800" spc="-1" strike="noStrike" baseline="30000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pl-PL" sz="18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39"/>
              <p:cNvSpPr/>
              <p:nvPr/>
            </p:nvSpPr>
            <p:spPr>
              <a:xfrm>
                <a:off x="6825240" y="1428840"/>
                <a:ext cx="824040" cy="439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000000"/>
                    </a:solidFill>
                    <a:latin typeface="Calibri"/>
                  </a:rPr>
                  <a:t>30</a:t>
                </a:r>
                <a:r>
                  <a:rPr b="1" lang="pl-PL" sz="1800" spc="-1" strike="noStrike" baseline="30000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pl-PL" sz="18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 Box 40"/>
            <p:cNvSpPr/>
            <p:nvPr/>
          </p:nvSpPr>
          <p:spPr>
            <a:xfrm>
              <a:off x="5596920" y="4298760"/>
              <a:ext cx="1701720" cy="439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- 1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= 1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82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4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pl-PL" sz="2400" spc="-1" strike="noStrike">
                <a:solidFill>
                  <a:srgbClr val="4a452a"/>
                </a:solidFill>
                <a:latin typeface="Calibri"/>
              </a:rPr>
              <a:t>Etapy rozwiązywania zadania cd :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3.  Zamiana różnicy długości geograficznej na różnicę                                           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ową (1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= 4 min.; mnożenie otrzymanego wyniku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rzez 4 min.)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4. Obliczenie godziny:</a:t>
            </a:r>
            <a:br>
              <a:rPr sz="2400"/>
            </a:b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  określenie kierunku jednego miejsca względem                 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drugiego. Jeśli miejsce, którego czas obliczasz leży na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wschód od miejsca z zaznaczonym czasem dodajesz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różnicę czasu, jeśli leży na zachód odejmujesz różnicę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u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86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kładowe zadanie: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571680" y="1619280"/>
            <a:ext cx="89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I. Podaj godzinę czasu słonecznego panującego w Moskwie (37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E),  jeżeli w Tokio (140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E) jest godzina 21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00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czasu słoneczn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8"/>
          <p:cNvGrpSpPr/>
          <p:nvPr/>
        </p:nvGrpSpPr>
        <p:grpSpPr>
          <a:xfrm>
            <a:off x="785880" y="2857680"/>
            <a:ext cx="6786360" cy="3286080"/>
            <a:chOff x="785880" y="2857680"/>
            <a:chExt cx="6786360" cy="3286080"/>
          </a:xfrm>
        </p:grpSpPr>
        <p:cxnSp>
          <p:nvCxnSpPr>
            <p:cNvPr id="191" name="AutoShape 19"/>
            <p:cNvCxnSpPr/>
            <p:nvPr/>
          </p:nvCxnSpPr>
          <p:spPr>
            <a:xfrm>
              <a:off x="2461320" y="5569920"/>
              <a:ext cx="4869360" cy="122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192" name="AutoShape 18"/>
            <p:cNvCxnSpPr/>
            <p:nvPr/>
          </p:nvCxnSpPr>
          <p:spPr>
            <a:xfrm>
              <a:off x="4580640" y="3370680"/>
              <a:ext cx="19440" cy="21992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193" name="AutoShape 17"/>
            <p:cNvCxnSpPr/>
            <p:nvPr/>
          </p:nvCxnSpPr>
          <p:spPr>
            <a:xfrm>
              <a:off x="3363480" y="3370680"/>
              <a:ext cx="19440" cy="2199960"/>
            </a:xfrm>
            <a:prstGeom prst="straightConnector1">
              <a:avLst/>
            </a:prstGeom>
            <a:ln w="22320">
              <a:solidFill>
                <a:srgbClr val="c00000"/>
              </a:solidFill>
              <a:miter/>
            </a:ln>
          </p:spPr>
        </p:cxnSp>
        <p:cxnSp>
          <p:nvCxnSpPr>
            <p:cNvPr id="194" name="AutoShape 16"/>
            <p:cNvCxnSpPr/>
            <p:nvPr/>
          </p:nvCxnSpPr>
          <p:spPr>
            <a:xfrm>
              <a:off x="6354720" y="3370680"/>
              <a:ext cx="19080" cy="21992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sp>
          <p:nvSpPr>
            <p:cNvPr id="195" name="Text Box 15"/>
            <p:cNvSpPr/>
            <p:nvPr/>
          </p:nvSpPr>
          <p:spPr>
            <a:xfrm>
              <a:off x="3214440" y="2857680"/>
              <a:ext cx="430560" cy="441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r>
                <a:rPr b="1" lang="pl-PL" sz="1800" spc="-1" strike="noStrike" baseline="30000">
                  <a:solidFill>
                    <a:srgbClr val="ff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4"/>
            <p:cNvSpPr/>
            <p:nvPr/>
          </p:nvSpPr>
          <p:spPr>
            <a:xfrm>
              <a:off x="4119480" y="2857680"/>
              <a:ext cx="838080" cy="441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37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5986440" y="2868840"/>
              <a:ext cx="837360" cy="441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4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2"/>
            <p:cNvSpPr/>
            <p:nvPr/>
          </p:nvSpPr>
          <p:spPr>
            <a:xfrm>
              <a:off x="4417200" y="5641200"/>
              <a:ext cx="429840" cy="441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1"/>
            <p:cNvSpPr/>
            <p:nvPr/>
          </p:nvSpPr>
          <p:spPr>
            <a:xfrm>
              <a:off x="5857920" y="5643720"/>
              <a:ext cx="958680" cy="44136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1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>
              <a:off x="6734160" y="5702400"/>
              <a:ext cx="838080" cy="441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[CZAS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785880" y="2868840"/>
              <a:ext cx="2253960" cy="513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[DŁUGOŚĆ GEOGRAFICZNA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itle 24"/>
          <p:cNvSpPr/>
          <p:nvPr/>
        </p:nvSpPr>
        <p:spPr>
          <a:xfrm>
            <a:off x="214200" y="2571840"/>
            <a:ext cx="7048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262626"/>
                </a:solidFill>
                <a:latin typeface="Calibri"/>
              </a:rPr>
              <a:t>1.</a:t>
            </a:r>
            <a:br>
              <a:rPr sz="2400"/>
            </a:b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05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21"/>
          <p:cNvSpPr/>
          <p:nvPr/>
        </p:nvSpPr>
        <p:spPr>
          <a:xfrm>
            <a:off x="428760" y="1612440"/>
            <a:ext cx="814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2. 140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– 37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= 103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3. 103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x 4 min. = 412 min. = 6 godz. 52 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4. 21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00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– 6 godz. 52 min. = 14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Odpowiedź: Jeżeli w Tokio jest godzina 21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00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czasu słonecznego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        to w Moskwie mamy 14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08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czasu słoneczn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11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3"/>
          <a:stretch/>
        </p:blipFill>
        <p:spPr>
          <a:xfrm>
            <a:off x="2071800" y="2036880"/>
            <a:ext cx="5072040" cy="3814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58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5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62626"/>
                </a:solidFill>
                <a:latin typeface="Calibri"/>
              </a:rPr>
              <a:t>II.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Na zamieszczonej poniżej mapie Europy zaznaczono następujące stolice: Lizbona, Warszawa, Moskwa. W której z nich jest godzina </a:t>
            </a:r>
            <a:r>
              <a:rPr b="1" lang="pl-PL" sz="1600" spc="-1" strike="noStrike">
                <a:solidFill>
                  <a:srgbClr val="4a452a"/>
                </a:solidFill>
                <a:latin typeface="Calibri"/>
              </a:rPr>
              <a:t>13</a:t>
            </a:r>
            <a:r>
              <a:rPr b="1" lang="pl-PL" sz="1600" spc="-1" strike="noStrike" baseline="30000">
                <a:solidFill>
                  <a:srgbClr val="4a452a"/>
                </a:solidFill>
                <a:latin typeface="Calibri"/>
              </a:rPr>
              <a:t>04</a:t>
            </a:r>
            <a:r>
              <a:rPr b="1" lang="pl-PL" sz="1600" spc="-1" strike="noStrike">
                <a:solidFill>
                  <a:srgbClr val="4a452a"/>
                </a:solidFill>
                <a:latin typeface="Calibri"/>
              </a:rPr>
              <a:t> czasu miejscowego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w chwili górowania Słońca w Warszawie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16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2"/>
          <p:cNvGrpSpPr/>
          <p:nvPr/>
        </p:nvGrpSpPr>
        <p:grpSpPr>
          <a:xfrm>
            <a:off x="357120" y="1571760"/>
            <a:ext cx="7215120" cy="3857040"/>
            <a:chOff x="357120" y="1571760"/>
            <a:chExt cx="7215120" cy="3857040"/>
          </a:xfrm>
        </p:grpSpPr>
        <p:sp>
          <p:nvSpPr>
            <p:cNvPr id="218" name="Text Box 3"/>
            <p:cNvSpPr/>
            <p:nvPr/>
          </p:nvSpPr>
          <p:spPr>
            <a:xfrm>
              <a:off x="2991240" y="4903560"/>
              <a:ext cx="854280" cy="525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b0f0"/>
                  </a:solidFill>
                  <a:latin typeface="Calibri"/>
                </a:rPr>
                <a:t>   </a:t>
              </a:r>
              <a:r>
                <a:rPr b="1" lang="pl-PL" sz="1800" spc="-1" strike="noStrike">
                  <a:solidFill>
                    <a:srgbClr val="00b0f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AutoShape 4"/>
            <p:cNvCxnSpPr/>
            <p:nvPr/>
          </p:nvCxnSpPr>
          <p:spPr>
            <a:xfrm flipV="1">
              <a:off x="2464560" y="4800960"/>
              <a:ext cx="4735440" cy="14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20" name="AutoShape 5"/>
            <p:cNvCxnSpPr/>
            <p:nvPr/>
          </p:nvCxnSpPr>
          <p:spPr>
            <a:xfrm>
              <a:off x="4066920" y="2183400"/>
              <a:ext cx="20880" cy="261936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cxnSp>
          <p:nvCxnSpPr>
            <p:cNvPr id="221" name="AutoShape 6"/>
            <p:cNvCxnSpPr/>
            <p:nvPr/>
          </p:nvCxnSpPr>
          <p:spPr>
            <a:xfrm>
              <a:off x="3318480" y="2183400"/>
              <a:ext cx="20880" cy="2620080"/>
            </a:xfrm>
            <a:prstGeom prst="straightConnector1">
              <a:avLst/>
            </a:prstGeom>
            <a:ln w="22320">
              <a:solidFill>
                <a:srgbClr val="00b0f0"/>
              </a:solidFill>
              <a:miter/>
            </a:ln>
          </p:spPr>
        </p:cxnSp>
        <p:cxnSp>
          <p:nvCxnSpPr>
            <p:cNvPr id="222" name="AutoShape 7"/>
            <p:cNvCxnSpPr/>
            <p:nvPr/>
          </p:nvCxnSpPr>
          <p:spPr>
            <a:xfrm>
              <a:off x="5275800" y="2182320"/>
              <a:ext cx="20880" cy="261936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sp>
          <p:nvSpPr>
            <p:cNvPr id="223" name="Text Box 8"/>
            <p:cNvSpPr/>
            <p:nvPr/>
          </p:nvSpPr>
          <p:spPr>
            <a:xfrm>
              <a:off x="3904200" y="1587960"/>
              <a:ext cx="476640" cy="525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pl-PL" sz="1800" spc="-1" strike="noStrike" baseline="30000">
                  <a:solidFill>
                    <a:srgbClr val="ff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9"/>
            <p:cNvSpPr/>
            <p:nvPr/>
          </p:nvSpPr>
          <p:spPr>
            <a:xfrm>
              <a:off x="2868480" y="1587960"/>
              <a:ext cx="1035720" cy="525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800" spc="-1" strike="noStrike">
                  <a:solidFill>
                    <a:srgbClr val="00b0f0"/>
                  </a:solidFill>
                  <a:latin typeface="Calibri"/>
                </a:rPr>
                <a:t>8</a:t>
              </a:r>
              <a:r>
                <a:rPr b="1" lang="pl-PL" sz="1800" spc="-1" strike="noStrike" baseline="30000">
                  <a:solidFill>
                    <a:srgbClr val="00b0f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b0f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0"/>
            <p:cNvSpPr/>
            <p:nvPr/>
          </p:nvSpPr>
          <p:spPr>
            <a:xfrm>
              <a:off x="4574880" y="1587960"/>
              <a:ext cx="1506240" cy="525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1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1"/>
            <p:cNvSpPr/>
            <p:nvPr/>
          </p:nvSpPr>
          <p:spPr>
            <a:xfrm>
              <a:off x="4637160" y="4903560"/>
              <a:ext cx="1132560" cy="525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2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2"/>
            <p:cNvSpPr/>
            <p:nvPr/>
          </p:nvSpPr>
          <p:spPr>
            <a:xfrm>
              <a:off x="6659280" y="4903560"/>
              <a:ext cx="912960" cy="452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[CZAS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3"/>
            <p:cNvSpPr/>
            <p:nvPr/>
          </p:nvSpPr>
          <p:spPr>
            <a:xfrm>
              <a:off x="357120" y="1571760"/>
              <a:ext cx="2495880" cy="611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[DŁUGOŚĆ GEOGRAFICZNA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9" name="AutoShape 14"/>
            <p:cNvCxnSpPr/>
            <p:nvPr/>
          </p:nvCxnSpPr>
          <p:spPr>
            <a:xfrm>
              <a:off x="6350400" y="2182320"/>
              <a:ext cx="20880" cy="2619360"/>
            </a:xfrm>
            <a:prstGeom prst="straightConnector1">
              <a:avLst/>
            </a:prstGeom>
            <a:ln w="22320">
              <a:solidFill>
                <a:srgbClr val="92d050"/>
              </a:solidFill>
              <a:miter/>
            </a:ln>
          </p:spPr>
        </p:cxnSp>
        <p:sp>
          <p:nvSpPr>
            <p:cNvPr id="230" name="Text Box 15"/>
            <p:cNvSpPr/>
            <p:nvPr/>
          </p:nvSpPr>
          <p:spPr>
            <a:xfrm>
              <a:off x="5693040" y="1587960"/>
              <a:ext cx="1506240" cy="525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92d050"/>
                  </a:solidFill>
                  <a:latin typeface="Calibri"/>
                </a:rPr>
                <a:t>37</a:t>
              </a:r>
              <a:r>
                <a:rPr b="1" lang="pl-PL" sz="1800" spc="-1" strike="noStrike" baseline="30000">
                  <a:solidFill>
                    <a:srgbClr val="92d05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92d05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6"/>
            <p:cNvSpPr/>
            <p:nvPr/>
          </p:nvSpPr>
          <p:spPr>
            <a:xfrm>
              <a:off x="6025320" y="4903560"/>
              <a:ext cx="854640" cy="525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pl-PL" sz="1800" spc="-1" strike="noStrike">
                  <a:solidFill>
                    <a:srgbClr val="92d05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itle 24"/>
          <p:cNvSpPr/>
          <p:nvPr/>
        </p:nvSpPr>
        <p:spPr>
          <a:xfrm>
            <a:off x="0" y="1285920"/>
            <a:ext cx="7048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262626"/>
                </a:solidFill>
                <a:latin typeface="Calibri"/>
              </a:rPr>
              <a:t>1.</a:t>
            </a:r>
            <a:br>
              <a:rPr sz="2400"/>
            </a:b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35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85880" y="1357200"/>
            <a:ext cx="7929360" cy="378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2. Obliczenie różnicy długości geograficznej:</a:t>
            </a:r>
            <a:br>
              <a:rPr sz="2000"/>
            </a:b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         obliczenia dla Lizbo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obliczenia dla Moskw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</a:t>
            </a: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a.  21</a:t>
            </a:r>
            <a:r>
              <a:rPr b="0" lang="pl-PL" sz="2000" spc="-1" strike="noStrike" baseline="30000">
                <a:solidFill>
                  <a:srgbClr val="548dd4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 + 8 </a:t>
            </a:r>
            <a:r>
              <a:rPr b="0" lang="pl-PL" sz="2000" spc="-1" strike="noStrike" baseline="30000">
                <a:solidFill>
                  <a:srgbClr val="548dd4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 = 29</a:t>
            </a:r>
            <a:r>
              <a:rPr b="0" lang="pl-PL" sz="2000" spc="-1" strike="noStrike" baseline="30000">
                <a:solidFill>
                  <a:srgbClr val="548dd4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pl-PL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b. 37</a:t>
            </a:r>
            <a:r>
              <a:rPr b="0" lang="pl-PL" sz="2000" spc="-1" strike="noStrike" baseline="30000">
                <a:solidFill>
                  <a:srgbClr val="9bbb59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 – 21</a:t>
            </a:r>
            <a:r>
              <a:rPr b="0" lang="pl-PL" sz="2000" spc="-1" strike="noStrike" baseline="30000">
                <a:solidFill>
                  <a:srgbClr val="9bbb59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 = 16</a:t>
            </a:r>
            <a:r>
              <a:rPr b="0" lang="pl-PL" sz="2000" spc="-1" strike="noStrike" baseline="30000">
                <a:solidFill>
                  <a:srgbClr val="9bbb59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br>
              <a:rPr sz="2000"/>
            </a:b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3. Zamiana różnicy długości geograficznej na różnicę czasową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a.  29</a:t>
            </a:r>
            <a:r>
              <a:rPr b="0" lang="pl-PL" sz="2000" spc="-1" strike="noStrike" baseline="30000">
                <a:solidFill>
                  <a:srgbClr val="548dd4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 x 4 min. = 116 min.            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b. 16</a:t>
            </a:r>
            <a:r>
              <a:rPr b="0" lang="pl-PL" sz="2000" spc="-1" strike="noStrike" baseline="30000">
                <a:solidFill>
                  <a:srgbClr val="9bbb59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 x 4 min. = 64 min</a:t>
            </a:r>
            <a:br>
              <a:rPr sz="2000"/>
            </a:b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                = 1 godz. 56 min.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                                 = 1 godz. 4 min.</a:t>
            </a:r>
            <a:br>
              <a:rPr sz="2000"/>
            </a:b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4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  <a:ea typeface="Calibri"/>
              </a:rPr>
              <a:t>.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Obliczenie godziny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a.12</a:t>
            </a:r>
            <a:r>
              <a:rPr b="0" lang="pl-PL" sz="2000" spc="-1" strike="noStrike" baseline="30000">
                <a:solidFill>
                  <a:srgbClr val="548dd4"/>
                </a:solidFill>
                <a:latin typeface="Calibri"/>
                <a:ea typeface="Calibri"/>
              </a:rPr>
              <a:t>00</a:t>
            </a: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 – 1 godz. 56min. = </a:t>
            </a:r>
            <a:r>
              <a:rPr b="1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10</a:t>
            </a:r>
            <a:r>
              <a:rPr b="1" lang="pl-PL" sz="2000" spc="-1" strike="noStrike" baseline="30000">
                <a:solidFill>
                  <a:srgbClr val="548dd4"/>
                </a:solidFill>
                <a:latin typeface="Calibri"/>
                <a:ea typeface="Calibri"/>
              </a:rPr>
              <a:t>04         </a:t>
            </a:r>
            <a:r>
              <a:rPr b="1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      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b. 12</a:t>
            </a:r>
            <a:r>
              <a:rPr b="0" lang="pl-PL" sz="2000" spc="-1" strike="noStrike" baseline="30000">
                <a:solidFill>
                  <a:srgbClr val="9bbb59"/>
                </a:solidFill>
                <a:latin typeface="Calibri"/>
                <a:ea typeface="Calibri"/>
              </a:rPr>
              <a:t>00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 + 1 godz. 4 min. = </a:t>
            </a:r>
            <a:r>
              <a:rPr b="1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13</a:t>
            </a:r>
            <a:r>
              <a:rPr b="1" lang="pl-PL" sz="2000" spc="-1" strike="noStrike" baseline="30000">
                <a:solidFill>
                  <a:srgbClr val="9bbb59"/>
                </a:solidFill>
                <a:latin typeface="Calibri"/>
                <a:ea typeface="Calibri"/>
              </a:rPr>
              <a:t>04</a:t>
            </a:r>
            <a:br>
              <a:rPr sz="2000"/>
            </a:br>
            <a:br>
              <a:rPr sz="2000"/>
            </a:b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Odpowiedź: W chwili górowania Słońca w Warszawie, godzina           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         13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04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czasu miejscowego  jest w Moskw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99760" y="1213920"/>
            <a:ext cx="65516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8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br>
              <a:rPr sz="6000"/>
            </a:b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57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  <p:sp>
        <p:nvSpPr>
          <p:cNvPr id="58" name="Tytuł 1"/>
          <p:cNvSpPr/>
          <p:nvPr/>
        </p:nvSpPr>
        <p:spPr>
          <a:xfrm>
            <a:off x="285840" y="1857240"/>
            <a:ext cx="835812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 słoneczn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 strefow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 urzędow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międzynarodowa linia zmiany da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rzykłady na obliczenie różnicy czasu słonecznego                                      na podstawie różnicy długości geograficz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rzykłady na przeliczanie czasu słonecznego na urzędowy                        i odwrotn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bibliograf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słowa kluczow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39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42960" y="1143000"/>
            <a:ext cx="757224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kłady na przeliczanie czasu słonecznego na urzędowy i odwrot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22"/>
          <p:cNvSpPr/>
          <p:nvPr/>
        </p:nvSpPr>
        <p:spPr>
          <a:xfrm>
            <a:off x="714240" y="2214720"/>
            <a:ext cx="750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4a452a"/>
                </a:solidFill>
                <a:latin typeface="Calibri"/>
              </a:rPr>
              <a:t>Etapy rozwiazywania zadan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1. Określenie w której strefie czasowej danego dnia   znajduje się miejscowość z podanym cz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2. Narysowanie schematu i wpisanie da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3. Obliczenie różnicy długości geograficz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Jeżeli miasta leżą na dwóch różnych półkulach dodajesz         stopnie. Jeśli na tej samej półkuli odejmujesz stop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44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22"/>
          <p:cNvSpPr/>
          <p:nvPr/>
        </p:nvSpPr>
        <p:spPr>
          <a:xfrm>
            <a:off x="785880" y="1214280"/>
            <a:ext cx="7500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4a452a"/>
                </a:solidFill>
                <a:latin typeface="Calibri"/>
              </a:rPr>
              <a:t>Etapy rozwiazywania zadania cd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4. Zamiana różnicy długości geograficznej na różnicę       czasową (1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= 4 min.; mnożenie otrzymanego wyniku przez 4 mi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5. Obliczenie godz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-  określenie kierunku jednego miejsca względem             drugie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- jeśli miejsce, którego czas obliczasz leży na wschód od  miejsca ze zaznaczonym czasem dodajesz różnicę czasu, jeśli leży na zachód odejmujesz różnicę czas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48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kładowe zadanie: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714240" y="2487600"/>
            <a:ext cx="80726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I. Oblicz, która godzina czasu słonecznego jest w Pekinie  (116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E) jeżeli w Warszawie (21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E) jest 14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15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czasu urzędowego w dniu 16 lip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4a452a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1. Latem w Warszawie obowiązuje czas wschodnioeuropejski dlatego zadanie należy  policzyć względem południka 30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55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642960" y="1000080"/>
            <a:ext cx="80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2.  Rysuję schemat i zapisuję da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"/>
          <p:cNvGrpSpPr/>
          <p:nvPr/>
        </p:nvGrpSpPr>
        <p:grpSpPr>
          <a:xfrm>
            <a:off x="1571400" y="2071800"/>
            <a:ext cx="5715360" cy="4071600"/>
            <a:chOff x="1571400" y="2071800"/>
            <a:chExt cx="5715360" cy="4071600"/>
          </a:xfrm>
        </p:grpSpPr>
        <p:sp>
          <p:nvSpPr>
            <p:cNvPr id="260" name="Text Box 19"/>
            <p:cNvSpPr/>
            <p:nvPr/>
          </p:nvSpPr>
          <p:spPr>
            <a:xfrm>
              <a:off x="1571760" y="3904200"/>
              <a:ext cx="1514520" cy="168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            </a:t>
              </a: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Warszawa      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               </a:t>
              </a: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16 VI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            </a:t>
              </a: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czas letn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8"/>
            <p:cNvSpPr/>
            <p:nvPr/>
          </p:nvSpPr>
          <p:spPr>
            <a:xfrm>
              <a:off x="5698440" y="5508720"/>
              <a:ext cx="8766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2" name="AutoShape 17"/>
            <p:cNvCxnSpPr/>
            <p:nvPr/>
          </p:nvCxnSpPr>
          <p:spPr>
            <a:xfrm flipV="1">
              <a:off x="1571400" y="5477760"/>
              <a:ext cx="5715720" cy="216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63" name="AutoShape 16"/>
            <p:cNvCxnSpPr/>
            <p:nvPr/>
          </p:nvCxnSpPr>
          <p:spPr>
            <a:xfrm>
              <a:off x="1910160" y="2704680"/>
              <a:ext cx="21960" cy="277596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264" name="AutoShape 15"/>
            <p:cNvCxnSpPr/>
            <p:nvPr/>
          </p:nvCxnSpPr>
          <p:spPr>
            <a:xfrm>
              <a:off x="2706120" y="2701080"/>
              <a:ext cx="21960" cy="2777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265" name="AutoShape 14"/>
            <p:cNvCxnSpPr/>
            <p:nvPr/>
          </p:nvCxnSpPr>
          <p:spPr>
            <a:xfrm>
              <a:off x="5971320" y="2703240"/>
              <a:ext cx="21960" cy="27766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sp>
          <p:nvSpPr>
            <p:cNvPr id="266" name="Text Box 13"/>
            <p:cNvSpPr/>
            <p:nvPr/>
          </p:nvSpPr>
          <p:spPr>
            <a:xfrm>
              <a:off x="1699920" y="2071800"/>
              <a:ext cx="489240" cy="556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2"/>
            <p:cNvSpPr/>
            <p:nvPr/>
          </p:nvSpPr>
          <p:spPr>
            <a:xfrm>
              <a:off x="2266920" y="2071800"/>
              <a:ext cx="919080" cy="471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1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1"/>
            <p:cNvSpPr/>
            <p:nvPr/>
          </p:nvSpPr>
          <p:spPr>
            <a:xfrm>
              <a:off x="5221800" y="2071800"/>
              <a:ext cx="1545480" cy="556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16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2042640" y="5586480"/>
              <a:ext cx="1162800" cy="556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14: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0" name="AutoShape 9"/>
            <p:cNvCxnSpPr/>
            <p:nvPr/>
          </p:nvCxnSpPr>
          <p:spPr>
            <a:xfrm>
              <a:off x="3183840" y="2704320"/>
              <a:ext cx="21960" cy="2777400"/>
            </a:xfrm>
            <a:prstGeom prst="straightConnector1">
              <a:avLst/>
            </a:prstGeom>
            <a:ln w="22320">
              <a:solidFill>
                <a:srgbClr val="c00000"/>
              </a:solidFill>
              <a:miter/>
            </a:ln>
          </p:spPr>
        </p:cxnSp>
        <p:sp>
          <p:nvSpPr>
            <p:cNvPr id="271" name="Text Box 8"/>
            <p:cNvSpPr/>
            <p:nvPr/>
          </p:nvSpPr>
          <p:spPr>
            <a:xfrm>
              <a:off x="2857680" y="2071800"/>
              <a:ext cx="956520" cy="47196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800" spc="-1" strike="noStrike">
                  <a:solidFill>
                    <a:srgbClr val="c00000"/>
                  </a:solidFill>
                  <a:latin typeface="Calibri"/>
                </a:rPr>
                <a:t>30</a:t>
              </a:r>
              <a:r>
                <a:rPr b="1" lang="pl-PL" sz="1800" spc="-1" strike="noStrike" baseline="30000">
                  <a:solidFill>
                    <a:srgbClr val="c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c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7"/>
            <p:cNvSpPr/>
            <p:nvPr/>
          </p:nvSpPr>
          <p:spPr>
            <a:xfrm>
              <a:off x="2629440" y="5583960"/>
              <a:ext cx="108612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14: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5905440" y="3733920"/>
              <a:ext cx="150120" cy="1206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5"/>
            <p:cNvSpPr/>
            <p:nvPr/>
          </p:nvSpPr>
          <p:spPr>
            <a:xfrm>
              <a:off x="6126480" y="3603600"/>
              <a:ext cx="1092240" cy="556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Peki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4"/>
            <p:cNvSpPr/>
            <p:nvPr/>
          </p:nvSpPr>
          <p:spPr>
            <a:xfrm>
              <a:off x="2629440" y="3733920"/>
              <a:ext cx="150120" cy="1206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3"/>
            <p:cNvSpPr/>
            <p:nvPr/>
          </p:nvSpPr>
          <p:spPr>
            <a:xfrm>
              <a:off x="2727720" y="3507120"/>
              <a:ext cx="548640" cy="228960"/>
            </a:xfrm>
            <a:custGeom>
              <a:avLst/>
              <a:gdLst>
                <a:gd name="textAreaLeft" fmla="*/ 95760 w 548640"/>
                <a:gd name="textAreaRight" fmla="*/ 397800 w 548640"/>
                <a:gd name="textAreaTop" fmla="*/ 30600 h 228960"/>
                <a:gd name="textAreaBottom" fmla="*/ 198360 h 22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2"/>
            <p:cNvSpPr/>
            <p:nvPr/>
          </p:nvSpPr>
          <p:spPr>
            <a:xfrm>
              <a:off x="2729880" y="5248800"/>
              <a:ext cx="546480" cy="228960"/>
            </a:xfrm>
            <a:custGeom>
              <a:avLst/>
              <a:gdLst>
                <a:gd name="textAreaLeft" fmla="*/ 95400 w 546480"/>
                <a:gd name="textAreaRight" fmla="*/ 396360 w 546480"/>
                <a:gd name="textAreaTop" fmla="*/ 30600 h 228960"/>
                <a:gd name="textAreaBottom" fmla="*/ 198360 h 22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961452"/>
                  <a:lnTo>
                    <a:pt x="21280" y="15385"/>
                  </a:lnTo>
                  <a:lnTo>
                    <a:pt x="17280" y="21600"/>
                  </a:lnTo>
                  <a:lnTo>
                    <a:pt x="12640" y="15385"/>
                  </a:lnTo>
                  <a:lnTo>
                    <a:pt x="14800" y="15385"/>
                  </a:lnTo>
                  <a:arcTo wR="7560" hR="21600" stAng="-2438548" swAng="-2604017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80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0"/>
          <p:cNvSpPr/>
          <p:nvPr/>
        </p:nvSpPr>
        <p:spPr>
          <a:xfrm>
            <a:off x="500040" y="1285920"/>
            <a:ext cx="8358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3. Obliczam różnicę długości geograficzne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116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– 30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= 86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4. Zamieniam różnicę długości geograficznej na różnicę cz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86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x 4 min. = 344 min. = 5h 44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Różnica czasu wynosi 5 godzin 44 minu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5. Obliczam czas w Pekinie i zapisuję wy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Pekin leży na wschód od Warszawy więc jest tam późni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14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15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+ 5 godz. 44min. = 19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Odpowiedź: Jeśli w Warszawie 16 lipca jest godzina 14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15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czasu urzędowego,                                   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       to w Pekinie jest godzina 19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59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czasu słonecznego 16 lip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86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kładowe zadanie: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642960" y="2000160"/>
            <a:ext cx="80722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II. W Krakowie (20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E) 20 sierpnia  jest godzina 12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00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czasu    słonecznego. Którą godzinę wskazuje   zegar wiszący               na ścian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Sformułowanie: zegar wiszący na ścianie wskazuje, że chodzi nam o czas urzędow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1. Latem w Krakowie obowiązuje czas wschodnioeuropejski dlatego zadanie   należy policzyć względem południka 30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95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kładowe zadanie: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0" y="1714680"/>
            <a:ext cx="80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2. Rysuję schemat i zapisuję da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2"/>
          <p:cNvGrpSpPr/>
          <p:nvPr/>
        </p:nvGrpSpPr>
        <p:grpSpPr>
          <a:xfrm>
            <a:off x="2428560" y="2286000"/>
            <a:ext cx="4715280" cy="3986280"/>
            <a:chOff x="2428560" y="2286000"/>
            <a:chExt cx="4715280" cy="3986280"/>
          </a:xfrm>
        </p:grpSpPr>
        <p:sp>
          <p:nvSpPr>
            <p:cNvPr id="303" name="Text Box 35"/>
            <p:cNvSpPr/>
            <p:nvPr/>
          </p:nvSpPr>
          <p:spPr>
            <a:xfrm>
              <a:off x="4715280" y="5715000"/>
              <a:ext cx="955080" cy="55728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4" name="AutoShape 34"/>
            <p:cNvCxnSpPr/>
            <p:nvPr/>
          </p:nvCxnSpPr>
          <p:spPr>
            <a:xfrm>
              <a:off x="2428560" y="5625360"/>
              <a:ext cx="4715640" cy="10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305" name="AutoShape 33"/>
            <p:cNvCxnSpPr/>
            <p:nvPr/>
          </p:nvCxnSpPr>
          <p:spPr>
            <a:xfrm>
              <a:off x="2797920" y="2846880"/>
              <a:ext cx="23760" cy="2777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306" name="AutoShape 32"/>
            <p:cNvCxnSpPr/>
            <p:nvPr/>
          </p:nvCxnSpPr>
          <p:spPr>
            <a:xfrm>
              <a:off x="5057280" y="2844360"/>
              <a:ext cx="23760" cy="2777400"/>
            </a:xfrm>
            <a:prstGeom prst="straightConnector1">
              <a:avLst/>
            </a:prstGeom>
            <a:ln w="22320">
              <a:solidFill>
                <a:srgbClr val="00b050"/>
              </a:solidFill>
              <a:miter/>
            </a:ln>
          </p:spPr>
        </p:cxnSp>
        <p:sp>
          <p:nvSpPr>
            <p:cNvPr id="307" name="Text Box 31"/>
            <p:cNvSpPr/>
            <p:nvPr/>
          </p:nvSpPr>
          <p:spPr>
            <a:xfrm>
              <a:off x="2643120" y="2286000"/>
              <a:ext cx="533160" cy="428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30"/>
            <p:cNvSpPr/>
            <p:nvPr/>
          </p:nvSpPr>
          <p:spPr>
            <a:xfrm>
              <a:off x="3857400" y="2286000"/>
              <a:ext cx="100152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29"/>
            <p:cNvSpPr/>
            <p:nvPr/>
          </p:nvSpPr>
          <p:spPr>
            <a:xfrm>
              <a:off x="4501080" y="2286000"/>
              <a:ext cx="1684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b050"/>
                  </a:solidFill>
                  <a:latin typeface="Calibri"/>
                </a:rPr>
                <a:t>30</a:t>
              </a:r>
              <a:r>
                <a:rPr b="1" lang="pl-PL" sz="1800" spc="-1" strike="noStrike" baseline="30000">
                  <a:solidFill>
                    <a:srgbClr val="00b05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b05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28"/>
            <p:cNvSpPr/>
            <p:nvPr/>
          </p:nvSpPr>
          <p:spPr>
            <a:xfrm>
              <a:off x="3643200" y="5715000"/>
              <a:ext cx="1183680" cy="55728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12: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27"/>
            <p:cNvSpPr/>
            <p:nvPr/>
          </p:nvSpPr>
          <p:spPr>
            <a:xfrm>
              <a:off x="4167360" y="3647520"/>
              <a:ext cx="163800" cy="1206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26"/>
            <p:cNvSpPr/>
            <p:nvPr/>
          </p:nvSpPr>
          <p:spPr>
            <a:xfrm>
              <a:off x="3467880" y="3418200"/>
              <a:ext cx="774360" cy="698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Krakó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20.VII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25"/>
            <p:cNvSpPr/>
            <p:nvPr/>
          </p:nvSpPr>
          <p:spPr>
            <a:xfrm>
              <a:off x="4265640" y="3418200"/>
              <a:ext cx="814680" cy="228960"/>
            </a:xfrm>
            <a:custGeom>
              <a:avLst/>
              <a:gdLst>
                <a:gd name="textAreaLeft" fmla="*/ 142560 w 814680"/>
                <a:gd name="textAreaRight" fmla="*/ 590760 w 814680"/>
                <a:gd name="textAreaTop" fmla="*/ 30600 h 228960"/>
                <a:gd name="textAreaBottom" fmla="*/ 198360 h 22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24"/>
            <p:cNvSpPr/>
            <p:nvPr/>
          </p:nvSpPr>
          <p:spPr>
            <a:xfrm>
              <a:off x="4265640" y="5392440"/>
              <a:ext cx="814680" cy="228960"/>
            </a:xfrm>
            <a:custGeom>
              <a:avLst/>
              <a:gdLst>
                <a:gd name="textAreaLeft" fmla="*/ 142560 w 814680"/>
                <a:gd name="textAreaRight" fmla="*/ 590760 w 814680"/>
                <a:gd name="textAreaTop" fmla="*/ 30600 h 228960"/>
                <a:gd name="textAreaBottom" fmla="*/ 198360 h 22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62309"/>
                  <a:lnTo>
                    <a:pt x="21158" y="14324"/>
                  </a:lnTo>
                  <a:lnTo>
                    <a:pt x="17280" y="21600"/>
                  </a:lnTo>
                  <a:lnTo>
                    <a:pt x="12518" y="14324"/>
                  </a:lnTo>
                  <a:lnTo>
                    <a:pt x="14678" y="14324"/>
                  </a:lnTo>
                  <a:arcTo wR="7560" hR="21600" stAng="-2737691" swAng="-2304874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5" name="AutoShape 23"/>
            <p:cNvCxnSpPr/>
            <p:nvPr/>
          </p:nvCxnSpPr>
          <p:spPr>
            <a:xfrm>
              <a:off x="4242600" y="2844360"/>
              <a:ext cx="23760" cy="2777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318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0"/>
          <p:cNvSpPr/>
          <p:nvPr/>
        </p:nvSpPr>
        <p:spPr>
          <a:xfrm>
            <a:off x="500040" y="1857240"/>
            <a:ext cx="8072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3. Obliczam różnicę długości geograficznej wynikającą z obowiązującego   czasu wschodnioeuropejskiego: 30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– 20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= 10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4. Zamieniam różnicę długości geograficznej na różnicę czas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10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x 4 min. = 4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5.Obliczam czas urzędowy:  12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00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+ 40min. = 12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Odpowiedź:  Zegar wiszący na ścianie w Krakowie wskazuje godzinę 12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40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324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42960" y="14284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ytuł 1"/>
          <p:cNvSpPr/>
          <p:nvPr/>
        </p:nvSpPr>
        <p:spPr>
          <a:xfrm>
            <a:off x="285840" y="2214720"/>
            <a:ext cx="88581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Borkowski K. M.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Astronomia a technika atomowa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[w:]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Postępy Astronomii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, t. 43, zeszyt 1, 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Borkowski K. M.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Astronomiczne obliczenia nie tylko dla geografów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, UMK, Toruń, 19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Borkowski K. M.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Na co dzień i w astronomii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[w:]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Postępy Astronomii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, t.42, zeszyt 1, 19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Borkowski K. M.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Zmierzyć nieuchwytne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[w:]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Postępy Astronomii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, t. 40, zeszyt 2, 19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Mostowski J., Natorf W., Tomaszewska N.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Fizyka i astronomia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, WSiP, Warszawa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Opolski A. 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Astronomiczne podstawy geografii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, PWN, Warszawa, 19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Piskorz S. , Zając S.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Geografia Świata i Polski - podręcznik do szkoły średniej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, WSiP, Warszawa, 19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329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42960" y="135720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łowa kluczowe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ytuł 1"/>
          <p:cNvSpPr/>
          <p:nvPr/>
        </p:nvSpPr>
        <p:spPr>
          <a:xfrm>
            <a:off x="285840" y="2214720"/>
            <a:ext cx="88581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rachuba czas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 słoneczn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 strefow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 urzędow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międzynarodowa linia zmiany da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2200"/>
            </a:b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071720"/>
            <a:ext cx="850104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as słoneczny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(mejscowy, lokalny):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14240" y="2428920"/>
            <a:ext cx="80726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6560" indent="-457200"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czas wynikający bezpośrednio z pozycji     Słońca na niebi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-457200"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miejscowości położone na tym samym południku mają ten sam czas słonecz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63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2600" y="999720"/>
            <a:ext cx="77151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ależność między długością geograficzną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a czasem słonecznym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67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2"/>
          <p:cNvGrpSpPr/>
          <p:nvPr/>
        </p:nvGrpSpPr>
        <p:grpSpPr>
          <a:xfrm>
            <a:off x="1928880" y="2071800"/>
            <a:ext cx="5338800" cy="3571560"/>
            <a:chOff x="1928880" y="2071800"/>
            <a:chExt cx="5338800" cy="3571560"/>
          </a:xfrm>
        </p:grpSpPr>
        <p:cxnSp>
          <p:nvCxnSpPr>
            <p:cNvPr id="69" name="AutoShape 3"/>
            <p:cNvCxnSpPr/>
            <p:nvPr/>
          </p:nvCxnSpPr>
          <p:spPr>
            <a:xfrm>
              <a:off x="2539440" y="2999880"/>
              <a:ext cx="19080" cy="2219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70" name="AutoShape 4"/>
            <p:cNvCxnSpPr/>
            <p:nvPr/>
          </p:nvCxnSpPr>
          <p:spPr>
            <a:xfrm>
              <a:off x="3618720" y="2999880"/>
              <a:ext cx="19080" cy="2219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71" name="AutoShape 5"/>
            <p:cNvCxnSpPr/>
            <p:nvPr/>
          </p:nvCxnSpPr>
          <p:spPr>
            <a:xfrm>
              <a:off x="4680000" y="2999880"/>
              <a:ext cx="19080" cy="2219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72" name="AutoShape 6"/>
            <p:cNvCxnSpPr/>
            <p:nvPr/>
          </p:nvCxnSpPr>
          <p:spPr>
            <a:xfrm>
              <a:off x="5724000" y="2999880"/>
              <a:ext cx="19080" cy="2219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73" name="AutoShape 7"/>
            <p:cNvCxnSpPr/>
            <p:nvPr/>
          </p:nvCxnSpPr>
          <p:spPr>
            <a:xfrm>
              <a:off x="6811920" y="2999880"/>
              <a:ext cx="19080" cy="2219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sp>
          <p:nvSpPr>
            <p:cNvPr id="74" name="Text Box 8"/>
            <p:cNvSpPr/>
            <p:nvPr/>
          </p:nvSpPr>
          <p:spPr>
            <a:xfrm>
              <a:off x="2006280" y="2576520"/>
              <a:ext cx="96624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9"/>
            <p:cNvSpPr/>
            <p:nvPr/>
          </p:nvSpPr>
          <p:spPr>
            <a:xfrm>
              <a:off x="3084480" y="2543040"/>
              <a:ext cx="96660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1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0"/>
            <p:cNvSpPr/>
            <p:nvPr/>
          </p:nvSpPr>
          <p:spPr>
            <a:xfrm>
              <a:off x="4112640" y="2576520"/>
              <a:ext cx="96624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1"/>
            <p:cNvSpPr/>
            <p:nvPr/>
          </p:nvSpPr>
          <p:spPr>
            <a:xfrm>
              <a:off x="5153400" y="2543040"/>
              <a:ext cx="96660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3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2"/>
            <p:cNvSpPr/>
            <p:nvPr/>
          </p:nvSpPr>
          <p:spPr>
            <a:xfrm>
              <a:off x="6214680" y="2576520"/>
              <a:ext cx="96624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4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3"/>
            <p:cNvSpPr/>
            <p:nvPr/>
          </p:nvSpPr>
          <p:spPr>
            <a:xfrm>
              <a:off x="1928880" y="5272560"/>
              <a:ext cx="100620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1:5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4"/>
            <p:cNvSpPr/>
            <p:nvPr/>
          </p:nvSpPr>
          <p:spPr>
            <a:xfrm>
              <a:off x="3044520" y="5305680"/>
              <a:ext cx="100656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1:5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5"/>
            <p:cNvSpPr/>
            <p:nvPr/>
          </p:nvSpPr>
          <p:spPr>
            <a:xfrm>
              <a:off x="4112640" y="5305680"/>
              <a:ext cx="100620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2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6"/>
            <p:cNvSpPr/>
            <p:nvPr/>
          </p:nvSpPr>
          <p:spPr>
            <a:xfrm>
              <a:off x="5153400" y="5305680"/>
              <a:ext cx="100656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2: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7"/>
            <p:cNvSpPr/>
            <p:nvPr/>
          </p:nvSpPr>
          <p:spPr>
            <a:xfrm>
              <a:off x="6214680" y="5305680"/>
              <a:ext cx="100620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2: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AutoShape 18"/>
            <p:cNvCxnSpPr/>
            <p:nvPr/>
          </p:nvCxnSpPr>
          <p:spPr>
            <a:xfrm flipH="1">
              <a:off x="1974600" y="2410560"/>
              <a:ext cx="5293440" cy="1080"/>
            </a:xfrm>
            <a:prstGeom prst="straightConnector1">
              <a:avLst/>
            </a:prstGeom>
            <a:ln w="22320">
              <a:solidFill>
                <a:srgbClr val="ffc000"/>
              </a:solidFill>
              <a:miter/>
              <a:tailEnd len="lg" type="stealth" w="lg"/>
            </a:ln>
          </p:spPr>
        </p:cxnSp>
        <p:sp>
          <p:nvSpPr>
            <p:cNvPr id="85" name="Text Box 19"/>
            <p:cNvSpPr/>
            <p:nvPr/>
          </p:nvSpPr>
          <p:spPr>
            <a:xfrm>
              <a:off x="3170880" y="2071800"/>
              <a:ext cx="3450600" cy="271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c000"/>
                  </a:solidFill>
                  <a:latin typeface="Calibri"/>
                </a:rPr>
                <a:t>                 </a:t>
              </a:r>
              <a:r>
                <a:rPr b="1" lang="pl-PL" sz="1400" spc="-1" strike="noStrike">
                  <a:solidFill>
                    <a:srgbClr val="ffc000"/>
                  </a:solidFill>
                  <a:latin typeface="Calibri"/>
                </a:rPr>
                <a:t>Pozorny ruch Słoń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9680" y="1356840"/>
            <a:ext cx="7715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APAMIĘTAJ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89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90" name="Tytuł 1"/>
          <p:cNvSpPr/>
          <p:nvPr/>
        </p:nvSpPr>
        <p:spPr>
          <a:xfrm>
            <a:off x="500040" y="2428920"/>
            <a:ext cx="77151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pełen obrót Ziemi to 360</a:t>
            </a:r>
            <a:r>
              <a:rPr b="0" lang="pl-PL" sz="26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 = 24 godziny różnicy czasu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obrót Ziemi o 15</a:t>
            </a:r>
            <a:r>
              <a:rPr b="0" lang="pl-PL" sz="26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 dł. geogr. = 1 godzina różnicy czasu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obrót Ziemi o 1</a:t>
            </a:r>
            <a:r>
              <a:rPr b="0" lang="pl-PL" sz="26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 dł. geogr. = 4 minuty różnicy czas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4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071720"/>
            <a:ext cx="850104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as strefowy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71360" y="2143080"/>
            <a:ext cx="80722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03280" indent="-457200"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to czas dla każdej strefy obejmującej            15</a:t>
            </a:r>
            <a:r>
              <a:rPr b="0" lang="pl-PL" sz="32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 długości geograficznej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3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3280" indent="-457200"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strefach bezpośrednio ze sobą    sąsiadujących czasy strefowe różnią się              o jedną godzin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32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32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32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32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3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95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4240" y="999720"/>
            <a:ext cx="77155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asięg trzech stref czasowych występujących         w Europi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99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50"/>
          <p:cNvGrpSpPr/>
          <p:nvPr/>
        </p:nvGrpSpPr>
        <p:grpSpPr>
          <a:xfrm>
            <a:off x="1857240" y="2286000"/>
            <a:ext cx="5978160" cy="3602160"/>
            <a:chOff x="1857240" y="2286000"/>
            <a:chExt cx="5978160" cy="3602160"/>
          </a:xfrm>
        </p:grpSpPr>
        <p:cxnSp>
          <p:nvCxnSpPr>
            <p:cNvPr id="101" name="AutoShape 51"/>
            <p:cNvCxnSpPr/>
            <p:nvPr/>
          </p:nvCxnSpPr>
          <p:spPr>
            <a:xfrm flipH="1">
              <a:off x="2248200" y="2680200"/>
              <a:ext cx="10440" cy="25898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102" name="AutoShape 52"/>
            <p:cNvCxnSpPr/>
            <p:nvPr/>
          </p:nvCxnSpPr>
          <p:spPr>
            <a:xfrm flipH="1">
              <a:off x="3074040" y="2682360"/>
              <a:ext cx="11160" cy="2589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" name="AutoShape 53"/>
            <p:cNvCxnSpPr/>
            <p:nvPr/>
          </p:nvCxnSpPr>
          <p:spPr>
            <a:xfrm flipH="1">
              <a:off x="3844080" y="2680200"/>
              <a:ext cx="10440" cy="25898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104" name="AutoShape 54"/>
            <p:cNvCxnSpPr/>
            <p:nvPr/>
          </p:nvCxnSpPr>
          <p:spPr>
            <a:xfrm flipH="1">
              <a:off x="4617720" y="2682360"/>
              <a:ext cx="10440" cy="2589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" name="AutoShape 55"/>
            <p:cNvCxnSpPr/>
            <p:nvPr/>
          </p:nvCxnSpPr>
          <p:spPr>
            <a:xfrm flipH="1">
              <a:off x="5434200" y="2680200"/>
              <a:ext cx="10440" cy="25898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106" name="AutoShape 56"/>
            <p:cNvCxnSpPr/>
            <p:nvPr/>
          </p:nvCxnSpPr>
          <p:spPr>
            <a:xfrm flipH="1">
              <a:off x="6216840" y="2682360"/>
              <a:ext cx="10440" cy="2589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7" name="AutoShape 57"/>
            <p:cNvCxnSpPr/>
            <p:nvPr/>
          </p:nvCxnSpPr>
          <p:spPr>
            <a:xfrm flipV="1">
              <a:off x="2258640" y="3932280"/>
              <a:ext cx="1588320" cy="10080"/>
            </a:xfrm>
            <a:prstGeom prst="straightConnector1">
              <a:avLst/>
            </a:prstGeom>
            <a:ln w="19080">
              <a:solidFill>
                <a:srgbClr val="0070c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8" name="AutoShape 58"/>
            <p:cNvCxnSpPr/>
            <p:nvPr/>
          </p:nvCxnSpPr>
          <p:spPr>
            <a:xfrm>
              <a:off x="3856680" y="3934440"/>
              <a:ext cx="1588320" cy="7920"/>
            </a:xfrm>
            <a:prstGeom prst="straightConnector1">
              <a:avLst/>
            </a:prstGeom>
            <a:ln w="15840">
              <a:solidFill>
                <a:srgbClr val="0070c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9" name="AutoShape 59"/>
            <p:cNvCxnSpPr/>
            <p:nvPr/>
          </p:nvCxnSpPr>
          <p:spPr>
            <a:xfrm flipV="1">
              <a:off x="5434200" y="3924720"/>
              <a:ext cx="1588320" cy="10080"/>
            </a:xfrm>
            <a:prstGeom prst="straightConnector1">
              <a:avLst/>
            </a:prstGeom>
            <a:ln w="19080">
              <a:solidFill>
                <a:srgbClr val="0070c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10" name="Text Box 60"/>
            <p:cNvSpPr/>
            <p:nvPr/>
          </p:nvSpPr>
          <p:spPr>
            <a:xfrm>
              <a:off x="1999440" y="2286000"/>
              <a:ext cx="977040" cy="39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r>
                <a:rPr b="1" lang="pl-PL" sz="1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30’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AutoShape 61"/>
            <p:cNvCxnSpPr/>
            <p:nvPr/>
          </p:nvCxnSpPr>
          <p:spPr>
            <a:xfrm flipH="1">
              <a:off x="7011360" y="2680200"/>
              <a:ext cx="10440" cy="25898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sp>
          <p:nvSpPr>
            <p:cNvPr id="112" name="Text Box 62"/>
            <p:cNvSpPr/>
            <p:nvPr/>
          </p:nvSpPr>
          <p:spPr>
            <a:xfrm>
              <a:off x="2813400" y="2288160"/>
              <a:ext cx="11401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1" lang="pl-PL" sz="1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3"/>
            <p:cNvSpPr/>
            <p:nvPr/>
          </p:nvSpPr>
          <p:spPr>
            <a:xfrm>
              <a:off x="3431880" y="2288160"/>
              <a:ext cx="97704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r>
                <a:rPr b="1" lang="pl-PL" sz="1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30’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4"/>
            <p:cNvSpPr/>
            <p:nvPr/>
          </p:nvSpPr>
          <p:spPr>
            <a:xfrm>
              <a:off x="4165920" y="2288160"/>
              <a:ext cx="126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r>
                <a:rPr b="1" lang="pl-PL" sz="1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65"/>
            <p:cNvSpPr/>
            <p:nvPr/>
          </p:nvSpPr>
          <p:spPr>
            <a:xfrm>
              <a:off x="4954680" y="2286000"/>
              <a:ext cx="164664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r>
                <a:rPr b="1" lang="pl-PL" sz="1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30’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66"/>
            <p:cNvSpPr/>
            <p:nvPr/>
          </p:nvSpPr>
          <p:spPr>
            <a:xfrm>
              <a:off x="5869440" y="2288160"/>
              <a:ext cx="97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r>
                <a:rPr b="1" lang="pl-PL" sz="1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67"/>
            <p:cNvSpPr/>
            <p:nvPr/>
          </p:nvSpPr>
          <p:spPr>
            <a:xfrm>
              <a:off x="6601680" y="2288160"/>
              <a:ext cx="1233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37</a:t>
              </a:r>
              <a:r>
                <a:rPr b="1" lang="pl-PL" sz="1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30’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68"/>
            <p:cNvSpPr/>
            <p:nvPr/>
          </p:nvSpPr>
          <p:spPr>
            <a:xfrm>
              <a:off x="2639520" y="3191400"/>
              <a:ext cx="97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pl-PL" sz="1400" spc="-1" strike="noStrike">
                  <a:solidFill>
                    <a:srgbClr val="0070c0"/>
                  </a:solidFill>
                  <a:latin typeface="Calibri"/>
                </a:rPr>
                <a:t>12: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69"/>
            <p:cNvSpPr/>
            <p:nvPr/>
          </p:nvSpPr>
          <p:spPr>
            <a:xfrm>
              <a:off x="4165920" y="3191400"/>
              <a:ext cx="97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pl-PL" sz="1400" spc="-1" strike="noStrike">
                  <a:solidFill>
                    <a:srgbClr val="0070c0"/>
                  </a:solidFill>
                  <a:latin typeface="Calibri"/>
                </a:rPr>
                <a:t>13: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70"/>
            <p:cNvSpPr/>
            <p:nvPr/>
          </p:nvSpPr>
          <p:spPr>
            <a:xfrm>
              <a:off x="5783040" y="3191400"/>
              <a:ext cx="97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pl-PL" sz="1400" spc="-1" strike="noStrike">
                  <a:solidFill>
                    <a:srgbClr val="0070c0"/>
                  </a:solidFill>
                  <a:latin typeface="Calibri"/>
                </a:rPr>
                <a:t>14: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1"/>
            <p:cNvSpPr/>
            <p:nvPr/>
          </p:nvSpPr>
          <p:spPr>
            <a:xfrm>
              <a:off x="1857240" y="5346000"/>
              <a:ext cx="255168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             </a:t>
              </a:r>
              <a:r>
                <a:rPr b="1" lang="pl-PL" sz="1200" spc="-1" strike="noStrike">
                  <a:solidFill>
                    <a:srgbClr val="000000"/>
                  </a:solidFill>
                  <a:latin typeface="Calibri"/>
                </a:rPr>
                <a:t>czas uniwersal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2"/>
            <p:cNvSpPr/>
            <p:nvPr/>
          </p:nvSpPr>
          <p:spPr>
            <a:xfrm>
              <a:off x="3431880" y="5346000"/>
              <a:ext cx="255204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pl-PL" sz="1200" spc="-1" strike="noStrike">
                  <a:solidFill>
                    <a:srgbClr val="000000"/>
                  </a:solidFill>
                  <a:latin typeface="Calibri"/>
                </a:rPr>
                <a:t>czas środkowo -                 europejs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73"/>
            <p:cNvSpPr/>
            <p:nvPr/>
          </p:nvSpPr>
          <p:spPr>
            <a:xfrm>
              <a:off x="5051520" y="5346000"/>
              <a:ext cx="255204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200" spc="-1" strike="noStrike">
                  <a:solidFill>
                    <a:srgbClr val="000000"/>
                  </a:solidFill>
                  <a:latin typeface="Calibri"/>
                </a:rPr>
                <a:t>czas wschodnio -                 europejs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07172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as urzędowy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pl-PL" sz="2500" spc="-1" strike="noStrike">
                <a:solidFill>
                  <a:srgbClr val="000000"/>
                </a:solidFill>
                <a:latin typeface="Calibri"/>
              </a:rPr>
              <a:t>oficjalny, ustawowy, dekretowy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71360" y="2214720"/>
            <a:ext cx="80722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6560" indent="-457200"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czas umowny stosowany na określonym obszarze na podstawie zarządzenia władz państwowych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-457200"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przypadku tego czasu granicami stref czasowych są granice administracyj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28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9680" y="1213920"/>
            <a:ext cx="7715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APAMIĘTAJ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32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33" name="Tytuł 1"/>
          <p:cNvSpPr/>
          <p:nvPr/>
        </p:nvSpPr>
        <p:spPr>
          <a:xfrm>
            <a:off x="928800" y="2428920"/>
            <a:ext cx="77151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Polska leży na dwóch strefach czasu: środkowoeuropejskiej                                      i wschodnioeuropejskie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w Polsce i prawie całej Europie  obowiązuje czas urzędowy zwany    czasem letnim i zimowy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CZAS ZIMOWY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– czas południka </a:t>
            </a: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15</a:t>
            </a:r>
            <a:r>
              <a:rPr b="1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E (środkowoeuropejski)         (UT + 1h)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następuje w ostatnią niedziele październik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CZAS LETNI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– czas południka </a:t>
            </a: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30</a:t>
            </a:r>
            <a:r>
              <a:rPr b="1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E (wschodnioeuropejski)                 (UT + 2h)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następuje w ostatnią niedziele mar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iG</cp:lastModifiedBy>
  <dcterms:modified xsi:type="dcterms:W3CDTF">2013-09-03T16:54:47Z</dcterms:modified>
  <cp:revision>134</cp:revision>
  <dc:subject/>
  <dc:title>Slajd 1</dc:title>
</cp:coreProperties>
</file>