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4F22-8D0C-497F-892E-0B6FEEBA3C2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95AD-5B40-4531-B8A3-6829887BC9C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C062-DFE9-43A6-96D9-78F32743975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0581-C7AD-4869-8EF8-5B314F69741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61B5-0C59-4CE0-97B8-23AE07A3921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C662-19DF-4C96-ADB9-ECD80CD8863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B154-2CA9-4511-9484-5AC5C9BC9A3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6106-D4E0-4A8C-B257-7384C3755DC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C811-8FF8-4698-B38D-F9A881304A2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A3FD-373D-47FA-BEA1-6D67B6DB86C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0DB5-6398-47AA-A4BD-87D0A0C720E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F674-F36C-407C-8C52-5FA984922D4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5E55-D613-4C8B-9874-034054429FB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DCF7-D608-4617-9F41-6C3293255D0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6F1F-43B1-4AE9-834C-9D221271BD5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8EEA-171F-46D3-8F32-0EF25E4C784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D3D1-DF32-4BD0-891B-D5D64673247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4CBB-0D38-4EE3-A53D-FB03EA46B3E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2EAA-9E19-4270-A278-69843236B9A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6C5F-445C-4C28-897B-42EF9AC458E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457F-9938-470D-85F0-73185FB54E7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A897-2761-45CD-975D-41B880EB4EF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A791-C396-4C61-9FBD-FB684D94DB8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6AC2-6925-4902-91F9-5AFAAB57EE0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F5D7-4096-4CA0-A404-A740AA7EA37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746B-E1DA-48B0-8D0C-D109FD6CE57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A284-C8B4-4635-A56E-CD171E4959F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43EB-0862-4AE6-A569-F59992B880A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8465-C96E-401E-87BF-91198BA1B23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4BEC-EDCB-49BB-BE1D-5D46111A993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7605-92C5-4287-9CE9-A0978DBAD49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03CB-4818-4B15-BEC3-1682F028BE0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A46C-E74A-4653-BF17-932CE1873F0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EFA7-AEE6-4427-8085-FBFDF3076E0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47C4-1AA7-40C3-A492-87113015A24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9317-BFEA-4958-A01F-4E4B9083AD4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BCF0-3191-4C4F-8C7B-4492BC7CC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8C99-A316-4276-9B06-944B3C57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1BF9-F78D-4D66-A2F4-814B6E8F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D9B4-F391-4826-A113-A6EB175EB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6CBA-183F-4474-B207-C3D77295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2F3D-E594-4D13-A4AB-02A112AE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8F2B-1578-4B57-B717-CA14EBAA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359E-E3A6-434A-BC89-6BD7F255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2359-A1D9-46D7-8B4B-8731456D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FF71-E29B-4493-A9D7-F2BF42E1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5FFE-E98C-4ADB-8248-30E247E0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41CE-11CA-424F-9842-FB71CECF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948A-AE96-4002-98C3-8976C640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134A-D224-42BF-B5FC-8F4A4B69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ADCD-D17C-4629-B7C3-27A0E664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AEA1-4714-49A9-B453-736389A6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3B41-2937-403D-97F5-E0C0F93C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658F-AED0-4B07-842A-7B4A237B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DCE7-9162-4F6A-BA72-0E189283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FCE3-B7B5-4BF9-83B6-11121702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35DD-F980-4DF0-82FD-ECDAF3AF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5946-0F04-4B78-BCD2-343C848C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1625-5179-4F89-9B8B-E707E439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8FC7-6D53-400D-A41C-ADB65D74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D03C-B80F-4042-A30F-A92CCA8340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7AC3-5DF2-4CA6-9637-60A1066FEA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Witaminy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gr inż. Magdalena Ku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Calibri"/>
              </a:rPr>
              <a:t>Kwas pantotenow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ierze udział w syntezie białek, węglowodanów oraz tłuszcz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brze wpływa na napięcie skóry oraz jej pigmentacj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j obecność reguluję pracę układu naczyniowego zapobiegając przemęczeni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stępuje w wątrobie, mleku, rybach, pestkach słonecznika, pomarańczach i Yerba 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MP900422363[1]"/>
          <p:cNvPicPr/>
          <p:nvPr/>
        </p:nvPicPr>
        <p:blipFill>
          <a:blip r:embed="rId1"/>
          <a:stretch/>
        </p:blipFill>
        <p:spPr>
          <a:xfrm>
            <a:off x="6227640" y="260280"/>
            <a:ext cx="262728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Calibri"/>
              </a:rPr>
              <a:t>Pirydoksy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a wpływ na układ krążenia (reguluję racę serca, wpływa na ciśnienie krwi) oraz na wchłanianie magnez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czestniczy w metabolizmie aminokwas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pływa łagodząco na zespół napięcia przedmiesiączkow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stotna dla przekazywania impulsów między komórkami nerwowy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j źródłem są ryby, jaja, warzywa skrobiowe, produkty pełnozbożowe i ban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MP900177942[1]"/>
          <p:cNvPicPr/>
          <p:nvPr/>
        </p:nvPicPr>
        <p:blipFill>
          <a:blip r:embed="rId1"/>
          <a:stretch/>
        </p:blipFill>
        <p:spPr>
          <a:xfrm>
            <a:off x="6227640" y="333360"/>
            <a:ext cx="25495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Calibri"/>
              </a:rPr>
              <a:t>Kwas foliowy, witamina M, witamina B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yntetyzowany jest przez bakterie jelit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lecane jest jej przyjmowanie szczególnie kobietom spodziewającym się dziecka, aby zapobiec uszkodzeniu cewy nerwowej u noworod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eguluje funkcjonowanie układu pokarmow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a działanie antykancerogenne oraz wpływa na dojrzewanie krwinek w szpiku kostn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ażna w tworzeniu kwasów nukleinow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stępuje także z zielonych warzywach, żółtku jaj, drożdżach i morel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MP900144270[1]"/>
          <p:cNvPicPr/>
          <p:nvPr/>
        </p:nvPicPr>
        <p:blipFill>
          <a:blip r:embed="rId1"/>
          <a:stretch/>
        </p:blipFill>
        <p:spPr>
          <a:xfrm>
            <a:off x="7164360" y="0"/>
            <a:ext cx="16257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Kobalam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erze udział w procesach krwiotwórczych w szpiku kostn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uje działanie układu nerwow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erze udział w metabolizmie tłuszczów, białek, węglowodanów, a także w syntezie kwasów nukleinow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żna przy tworzeniu nowych komórek i przekazywaniu do nich informacji genetyczn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że syntetyzowana przez florę jelitową. Oprócz tego bogate w tę witaminę są nabiał, nerki, wątroba i mię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MP900424401[1]"/>
          <p:cNvPicPr/>
          <p:nvPr/>
        </p:nvPicPr>
        <p:blipFill>
          <a:blip r:embed="rId1"/>
          <a:stretch/>
        </p:blipFill>
        <p:spPr>
          <a:xfrm>
            <a:off x="6877080" y="0"/>
            <a:ext cx="14778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Kwas askorbinow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e ma wpływu na ryzyko pojawienia się przeziębienia w zwykłych warunk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orzystnie wpływ na stan jamy ustnej, zębów i dziąse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spomaga proces gojenia się r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uje zdolność organizmu do przyswajania żela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ej źródłem jest kiszona kapusta, cytrusy, porzeczka, natka pietruszki i truskaw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MP900387874[1]"/>
          <p:cNvPicPr/>
          <p:nvPr/>
        </p:nvPicPr>
        <p:blipFill>
          <a:blip r:embed="rId1"/>
          <a:stretch/>
        </p:blipFill>
        <p:spPr>
          <a:xfrm>
            <a:off x="6300720" y="333360"/>
            <a:ext cx="251928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Kalcyf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st wytwarzana w skórze pod wpływem promieniowania U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uje proces wchłaniania wapnia, potasu i fosf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powiedzialna za właściwy rozwój kości i zęb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j źródłem jest nabiał, ryby i wątrob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MP900424387[1]"/>
          <p:cNvPicPr/>
          <p:nvPr/>
        </p:nvPicPr>
        <p:blipFill>
          <a:blip r:embed="rId1"/>
          <a:stretch/>
        </p:blipFill>
        <p:spPr>
          <a:xfrm>
            <a:off x="6227640" y="333360"/>
            <a:ext cx="255600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ff"/>
                </a:solidFill>
                <a:latin typeface="Calibri"/>
              </a:rPr>
              <a:t>Tokof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zywana „witaminą młodości”, ponieważ ma silne właściwości przeciwutleniające oraz wpływa na właściwy stan błon komórkow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pływa także na odpowiednie funkcjonowanie układu krąże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stępuje w nabiale, kiełkach pszenicy, zielonych warzywach i razowym pieczyw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MP900448293[1]"/>
          <p:cNvPicPr/>
          <p:nvPr/>
        </p:nvPicPr>
        <p:blipFill>
          <a:blip r:embed="rId1"/>
          <a:stretch/>
        </p:blipFill>
        <p:spPr>
          <a:xfrm>
            <a:off x="6877080" y="0"/>
            <a:ext cx="151596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iotyna, witamina B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czestniczy w wytwarzaniu kwasów tłuszczow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powiedzialna za właściwy stan włosów, skóry i paznok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warta w drożdżach, jajach, wątrobie, orzechach, czekoladzie i pomidor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MP900400597[1]"/>
          <p:cNvPicPr/>
          <p:nvPr/>
        </p:nvPicPr>
        <p:blipFill>
          <a:blip r:embed="rId1"/>
          <a:stretch/>
        </p:blipFill>
        <p:spPr>
          <a:xfrm>
            <a:off x="6804000" y="0"/>
            <a:ext cx="170496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Filochin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ytwarzana przez florę jelitow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j główna rola polega na regulowaniu procesów krzepnięcia krw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pływa także na budowę tkanki kostn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j źródłem są głównie zielone warzywa, wątroba zwierzęca i rośliny strączkow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MP900448460[1]"/>
          <p:cNvPicPr/>
          <p:nvPr/>
        </p:nvPicPr>
        <p:blipFill>
          <a:blip r:embed="rId1"/>
          <a:stretch/>
        </p:blipFill>
        <p:spPr>
          <a:xfrm>
            <a:off x="6372360" y="333360"/>
            <a:ext cx="23875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Niacyna, kwas nikotynowy, witamin B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ezbędna do prawidłowego działania mózg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wiązana z wytwarzaniem hormonów płciow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maga utrzymać właściwy poziom cholesterolu, a także wspomaga spalanie węglowodanów i tłuszczów w organizm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żna dla naprawy uszkodzonych informacji genetycz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ystępuje w wątrobie zwierzęcej, nabiale, mięsie, zielonych warzywach i ziemniak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MP900426575[1]"/>
          <p:cNvPicPr/>
          <p:nvPr/>
        </p:nvPicPr>
        <p:blipFill>
          <a:blip r:embed="rId1"/>
          <a:stretch/>
        </p:blipFill>
        <p:spPr>
          <a:xfrm>
            <a:off x="6516720" y="189000"/>
            <a:ext cx="223200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zęść pierwsz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Co to są witamin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Podział wita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Charakterystyka poszczegól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amin oraz ich wpływ 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m człowie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zęść drug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tki niedoboru wita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MP900448418[1]"/>
          <p:cNvPicPr/>
          <p:nvPr/>
        </p:nvPicPr>
        <p:blipFill>
          <a:blip r:embed="rId1"/>
          <a:stretch/>
        </p:blipFill>
        <p:spPr>
          <a:xfrm>
            <a:off x="5651640" y="1341360"/>
            <a:ext cx="29764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niec części pierwszej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zęść dru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tki niedoboru witam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zienne zapotrzebowanie na witaminę A to ok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 m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la dorosłego człowieka. Ilość tę zapewnia zjedzenie połowy surowej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rchewk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ub ok. 30 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ątróbk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edobór tej witaminy powoduje tzw. kurzą ślepotę, a także łuszczenie się naskórka oraz powtarzające się infekc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zienne zapotrzebowanie na witaminę B1 to ok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,2 m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la dorosłego człowieka. Ilość tę zapewnia zjedzenie 300 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łatków owsiany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ub 1 k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leb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Zapotrzebowanie wzrasta u kobiet karmiących piersią oraz przy wzmożonym wysiłku fizyczny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edobór tej witaminy powoduje osłabienie mięśni i degenerację stawów, a także zaburzenia krążenia. Brak tej witaminy może prowadzić również do zachorowań na chorobę beri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ri, której skutkiem jest porażenie i zanik mięśn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zienne zapotrzebowanie na witaminę B2 to ok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,5 m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la dorosłego człowieka. Ilość tę zapewnia zjedzenie ok. 50 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ątróbk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ub wypicie 1 litr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lek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edobór tej witaminy powoduje łojotokowe zapalenie skóry, powstawanie zajadów, a także nadwrażliwość na światło połączone z zapaleniem spojów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zienne zapotrzebowanie na witaminę B5 to ok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 m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la dorosłego człowieka. Ilość tę zapewnia zjedzenie 350 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ąki sojowej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ub ok. 100 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ątróbk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edobór tej witaminy powoduje zaburzenia czucia, przedwczesne siwienie, problemy z koncentracją i zmęczenie. Brak tej witaminy może prowadzić do uszkodzenia nadnercz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zienne zapotrzebowanie na witaminę B6 to ok.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1,6 mg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dla dorosłego człowieka. Ilość tę zapewnia zjedzenie ok. 300 g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wątróbki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lub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kreli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dobór tej witaminy powoduje zaburzenia układu nerwowego (np. drgawki), matowienie skóry, zmęczenie i rozdrażnienie, a także stany zapalne skóry i objawy anemi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zienne zapotrzebowanie na witaminę B11 to ok.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0,3 mg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dla dorosłego człowieka. Ilość tę zapewnia zjedzenie 800 g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zielonych warzyw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lub ok. 200 g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ątróbk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dobór tej witaminy powoduje wrodzone wady płodu (np. rozszczep kręgosłupa), zwiększa ryzyko poronienia oraz chorób sercowo-naczyniowych, jest przyczyną zaburzeń w układzie pokarmowy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zienne zapotrzebowanie na witaminę B12 to ok.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µ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dla dorosłego człowieka. Ilość tę zapewnia zjedzenie ok. 30 g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ątróbk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lub 50 g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ryby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. Jest magazynowana w wątrobie, a na jej niedobory narażone są w zasadzie wyłącznie osoby ściśle stosujące się do zasad diety wegetariańskie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dobór tej witaminy powoduje anemię oraz uszkodzenia układu nerwowego, takie jak stwardnienie rozsia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zienne zapotrzebowanie na witaminę C to ok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 m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la dorosłego człowieka. Ilość tę zapewnia zjedzenie 1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zerwonej papryk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ub 20 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zarnej porzeczk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edobór tej witaminy jest przyczyną zachorowania na szkorbut (choroby dziąseł), obniżenia odporności organizmu, pękania naczyń krwionośnych i niewłaściwego zrastania się kości w przypadku uraz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zęść pierws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zienne zapotrzebowanie na witaminę D to ok.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µ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dla dorosłego człowieka. Zapotrzebowanie to jest na tyle małe, że prawie w pełni zaspokaja je nasłonecznienie. Nagromadzona w organizmie witamina D jest wykorzystywana w okresach jej mniejszej produkcj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dobów tej witaminy powoduje krzywicę, a także wypadanie zębów, powiększenie stawów i osłabienie mięśn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zienne zapotrzebowanie na witaminę E to ok.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12 mg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dla dorosłego człowieka. Ilość tę zapewnia zjedzenie m.in. 200 g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kiełków pszen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dobór tej witaminy wpływa na zwiększenie ryzyka poronienia, dystrofie mięśniowe i zaburzenia płodności. Może powodować także zaburzenia wzrostu oraz ogólne zmęczenie i osłabie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zienne zapotrzebowanie na witaminę H to ok.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80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µ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dla dorosłego człowieka.  Jest produkowana przez mikroflorę jelitow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dobór tej witaminy powoduje wypadanie włosów, rozdwajanie paznokci, przetłuszczanie skóry, a także wpływa na podwyższony poziom cholesterolu we krw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zienne zapotrzebowanie na witaminę K to ok.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70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µ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dla dorosłego człowieka. Jest ono na tyle małe, że pokrywane jest całkowicie podczas stosowania normalnej, zdrowej diety, w której obecne są warzywa ziel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dobór tej witaminy powoduje zaburzenia procesu krzepnięcia krwi oraz krwawi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zienne zapotrzebowanie na witaminę PP to ok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7 m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la dorosłego człowieka. Ilość tę zapewnia zjedzenie 0,5 k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ęs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ub ok. 100 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ątróbk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edobór tej witaminy powoduje stany zapalne skóry, biegunki, zaburzenia psychiczne. Brak tej witaminy jest także przyczyną zachorowania na pelagr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Co to są witam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zwa witamina pochodzi z języka łacińskiego. </a:t>
            </a:r>
            <a:r>
              <a:rPr b="0" i="1" lang="pl-PL" sz="2800" spc="-1" strike="noStrike">
                <a:solidFill>
                  <a:srgbClr val="00cc00"/>
                </a:solidFill>
                <a:latin typeface="Calibri"/>
              </a:rPr>
              <a:t>Vit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oznacza życie, natomiast </a:t>
            </a:r>
            <a:r>
              <a:rPr b="0" i="1" lang="pl-PL" sz="2800" spc="-1" strike="noStrike">
                <a:solidFill>
                  <a:srgbClr val="00cc00"/>
                </a:solidFill>
                <a:latin typeface="Calibri"/>
              </a:rPr>
              <a:t>amin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odnosi się do grupy aminowej, którą posiadała pierwsza odkryta witamina – B1. Dokonał tego polski uczony – Kazimierz Funk – na początku XX wiek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itaminy są grupą organicznych związków chemicznych niezbędnych do prawidłowego funkcjonowania organizmów żyw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ełnią funkcje regulacyjne – uczestniczą w procesach metabolicznych jako koenzym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rganizm człowieka potrzebuje ich niewielką ilość, ale ponieważ nie potrafi ich sam wytworzyć, należy je dostarczać wraz z pożywieni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611280" y="333360"/>
            <a:ext cx="784836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Podział witam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aminy dzielimy na dwie grupy: rozpuszczalne w tłuszczach i rozpuszczalne w wodz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itaminy rozpuszczalne w tłuszcza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, D, E, 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Witaminy te mogą być gromadzone w organizmach żywych, szczególnie w tkance tłuszczowej i wątrobie. Należy pamiętać, że nadmiar niektórych witamin także n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 jest zdrow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prowadzi do tzw. hiperwitaminoz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itaminy rozpuszczalne w wodzi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itaminy grupy B, 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e witaminy są szybko wypłukiwane z organizmów żywych i aby zachować zdrowie należy ich ciągle dostarczać w niewielkich ilościa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11280" y="333360"/>
            <a:ext cx="784836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. Charakterystyka poszczególnych witam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aminy dostarczane są do organizmów żywych w różny sposób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 pokarmem jako witaminy (mogą być składnikami pożywienia lub dostarczane jako syntetyczne suplementy die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ko prowitaminy, czyli związki, które w organizmach są przekształcane w witami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ntezowane przez florę bakteryjną jel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11280" y="260280"/>
            <a:ext cx="784836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Calibri"/>
              </a:rPr>
              <a:t>Retinol, akseroft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ażna dla odbierania bodźców wzrokowych, ponieważ jej pochodna wchodzi w skład rodopsyny, odpowiedzialnej za wrażliwość pręcików oka na światł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eguluje i wspomaga właściwe funkcjonowanie tkanki nabłonkowej i skó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ełni funkcję regulacyjną w tkance kostn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Źródłem witaminy A jest wątroba zwierzęca, a także marchew, brokuł, dynia, nabia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MP900387875[1]"/>
          <p:cNvPicPr/>
          <p:nvPr/>
        </p:nvPicPr>
        <p:blipFill>
          <a:blip r:embed="rId1"/>
          <a:stretch/>
        </p:blipFill>
        <p:spPr>
          <a:xfrm>
            <a:off x="6156360" y="189000"/>
            <a:ext cx="273672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iam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uje przemianę węglowodanów w organizmie (a więc pozyskiwanie energi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pływa pozytywnie na gojenie się ran, a także ma właściwości przeciwból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żna jest dla prawidłowego wzrostu, karmienia piersią oraz płodnośc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ecna m.in. w otrębach zbożowych, roślinach strączkowych, orzechach i wątrobie zwierzęc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9" descr="MP900313734[1]"/>
          <p:cNvPicPr/>
          <p:nvPr/>
        </p:nvPicPr>
        <p:blipFill>
          <a:blip r:embed="rId1"/>
          <a:stretch/>
        </p:blipFill>
        <p:spPr>
          <a:xfrm>
            <a:off x="6084720" y="333360"/>
            <a:ext cx="28432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Ryboflaw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pływa pozytywnie na działanie układu nerwowe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rawia działanie błon śluzowych, a także współuczestniczy w tworzeniu hemoglobi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zięki jej obecności dochodzi do szybszego gojenia się r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j źródłem są ryby, nabiał, a także zielone warzywa, grzyby i kaw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MP900407089[1]"/>
          <p:cNvPicPr/>
          <p:nvPr/>
        </p:nvPicPr>
        <p:blipFill>
          <a:blip r:embed="rId1"/>
          <a:stretch/>
        </p:blipFill>
        <p:spPr>
          <a:xfrm>
            <a:off x="6948360" y="260280"/>
            <a:ext cx="15559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Madzia</cp:lastModifiedBy>
  <dcterms:modified xsi:type="dcterms:W3CDTF">2013-08-24T14:40:15Z</dcterms:modified>
  <cp:revision>44</cp:revision>
  <dc:subject/>
  <dc:title>Slajd 1</dc:title>
</cp:coreProperties>
</file>