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623-CDC8-441A-B47D-BE80BB2139E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DB0-8A3B-4B39-B928-DEAC684EDA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6FB2-3E49-4ABE-A0BB-F5F62E8FBA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506-7D08-4E37-B797-D20ED2D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972-1355-4D47-A482-F5D53DB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E59-D669-461D-B078-3C0C51D1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53B-F31D-4EF8-B21D-0D3405BE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F54F-7635-4EF5-86DF-80ADAD38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5DCF-73B3-44E6-BF2D-25C29FB0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A6D6-A900-4030-BB31-A200D03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2CA-4D63-4D4A-9D77-AE4A7F21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D6AE-FB42-4739-A395-AE553CA9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FBC3-249B-434B-8142-F4B287A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A753-BFB2-45B8-B082-49049426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532-A38C-41A6-8434-4BB9C9C3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857-0A8F-4C38-81FC-B363D94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385A-3E2F-4317-99E0-E1DF9A54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7CD-AFC0-4EA4-BBB8-2DD1C8AC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F9F5-82F8-4C2B-924F-23781279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BAA8-BB32-41F3-9110-077B0BA9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572-E5F2-44DC-B73C-2B36A861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4F8-F044-42F9-9930-503478C9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085-2DC1-43F2-BA97-228BDB20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38E-8A57-4CCA-B748-3C4868D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EF5-6ADC-42AC-9B8C-B4B94344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F49-DBA4-4CCB-8CE6-69BF749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4CA-222D-44CA-937C-1DE52F8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17B-4824-4DBC-A83E-C4AEA1CC5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0A2A-B25C-4F79-B827-B5C4C7E14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rocesy chemiczne zachodzące podczas wysiłku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ecałkowite spal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dy ilość tlenu jest niewystarczająca, spalanie glukozy zaczyna przebiegać w formie niecałkowitej. Tworzony jest wówczas także kwas mlekowy, ale nie ulega on przekształceniu w kwas cytrynowy, tylko zaczyna odkładać się w mięśni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COO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551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raz wyższe stężenie kwasu mlekowego w mięśniach powoduje uczucie bólu. Dochodzi do tego w trakcie zbyt intensywnego wysił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Calibri"/>
              </a:rPr>
              <a:t>Co dzieje się z nagromadzonym w mięśniach kwasem mlekowy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s mlekowy jest stosunkowo szybko usuwany z mięśni za pośrednictwem układu krwionośnego. Po przetransportowaniu go do wątroby i nerek staje się substratem w proces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lukogenez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czyli powstawania glukozy. Ta nowopowstała glukoza jest rozprowadzana po organizmie i powtórnie może służyć za źródło ener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ykl przemian metabolicznych kwasu mlekowego został odkryty przez małżeństwo Gretę i Carla Cori, którzy otrzymali nagrodę Nobla. Od ich nazwiska cykl tych przemian nosi nazw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yklu Coric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as mle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as mlekowy zostaje prawie całkowicie usunięty z mięśni po ok. 2 godzinach od zaprzestania wysiłku fizyczn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st stosowany w przemyśle spożywcz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z chemicznym. To jemu zawdzięczam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yficzny smak kiszonych ogórkó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apus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as mlekowy oddziałuje pobudzająco na komary, z tego względu osoby w trakcie wysiłku fizycznego są bardziej narażone na ich ukąs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2421000"/>
            <a:ext cx="1784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kwa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 należy łączyć ze sobą nagromadzenia kwasu mlekowego w mięśniach i tzw. zakwasów, czyli bólu mięśni występującego ok. 20 godzin po wzmożonym wysiłku fizycz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ól ten jest wynikiem drobnych zniszczeń w strukturze tkanki mięśniowej i nazywany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społem opóźnionego bólu mięśnioweg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OM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ysiłek fiz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 się dzieje w trakcie wysiłku fiz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kie są długofalowe skutki wysiłku fiz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miany zachodzące w mięśni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łkowite spalanie gluko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całkowite spalanie gluko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kw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ysiłek fiz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iedzeni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sport to zdrowi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ie jest pustym sloganem. Przypomnij sobie maratończyka podczas biegu, zapaśnika w walce lub pływaka kończącego swój dystans na base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y potrafisz wymienić zmiany, jakie zachodzą w ich organizmach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 czym można poznać, że ktoś jest w trakcie lub tuż po wzmożonym wysiłku fizyczn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4640"/>
            <a:ext cx="74901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 trakcie wysiłku fizy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zmożone wydzielane p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spieszony odd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mieńce na twar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spieszone tęt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43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tki długofal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y pobór tlenu dzięki zwiększeniu ilości kr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mniejszenie ilości skurczów ser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rost masy mięśn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rawa przepływu krwi przez serce w wyniku zwiększenia jego objęto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tki długofal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rost stężenia antyoksyda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a wentylacja pł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dek zmęc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większenie liczby kapilar w mięśniach szkieletowych (lepsza wymiana gazowa i metabolicz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a odporność organiz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Symbol zastępczy tekstu 2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Zmiany zachodzące w mięśn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 móc wykonywać ruch, a więc być aktywnym fizycznie, człowiek używa siły mięś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ęśnie z kolei potrzebują energii, aby móc wykonywać pra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ia niezbędna mięśniom pochodzi z procesu spalania glukozy, czyli cukru prostego będącego podstawowym związkiem energetycznym dla większości organiz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4640"/>
            <a:ext cx="8064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l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 spalania zakłada obecność utleniacza. Najpopularniejszym z nich jest tlen zawarty w powietr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lanie glukozy jest procesem, dzięki któremu mięśnie zyskują energię, którą zamieniają w r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przypadku, gdy do mięśni dostarczana jest wystarczająca ilość tlenu, spalanie glukozy zachodzi w sposób komplet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+ 6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ten sposób spalana jest glukoza przy wystarczającej ilości tlenu. Produktem pośrednim tych przemian jest kwas mlekowy, ale jest on szybko przekształcany w kwas cytrynowy, a dalej w wodę i dwutlenek wę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242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4-29T20:03:27Z</dcterms:modified>
  <cp:revision>15</cp:revision>
  <dc:subject/>
  <dc:title>Slajd 1</dc:title>
</cp:coreProperties>
</file>