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2.jpeg" ContentType="image/jpeg"/>
  <Override PartName="/ppt/media/image13.png" ContentType="image/png"/>
  <Override PartName="/ppt/media/image17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5.jpeg" ContentType="image/jpe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png" ContentType="image/pn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825D1-2FDE-429C-B34B-379C002894BD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4449B-25EF-4FC9-99F2-56F827905E7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418C1-BFE4-46D4-87C7-E91E13A0A69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FC5B5-E224-4515-871F-8484CA4DCCB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95FE3-07A4-4EBF-9E0B-C84F38B387D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68A44-7975-4CE7-AA5F-C1485943751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C37DC-644C-4C71-AA6F-44454BDE6BE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A48ED-856B-479F-AD66-C6844D13D2A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CB3D3-0007-4D96-AC6E-97626162067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DDA5A-C2FA-44F8-9D79-8F43839319F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12F4E-E1CC-4D82-94FD-10DA9B3774F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3B3FA-8352-4DCB-8E3E-25AACD145C5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97C61-0406-48C3-A8CB-34B027BEB3D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2764E-B807-4537-A1BD-28CD28CA36C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0B3DD-4EF9-43FA-8C17-53CF41F9577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91FB4-65E3-498C-8205-E89CF07ECB7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DC16A-9DEC-4436-9C59-10A493A973D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5F84A-47E3-4306-A3C3-F40F0F45FF8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7A7A1-A2C7-44CE-ADA2-168EEA1E459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6E343-73A8-4EBF-B8BF-F90176565DA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F7DF9-B228-4AF6-8AC7-69462FEE8DE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9A8DC-431B-4F81-9EED-EF4AB321409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BA0B0-3393-4A50-B287-D650BF40749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F8C00-E472-450C-8D34-534EC8DC547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21866-43AD-480C-AB89-E08AC26C867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F8D09-5ACC-4E06-A550-28E3EA01C24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D8516-851C-4DED-83E1-F8AFBB81AFB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D442-E919-4940-981A-6563AB31C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0B45-3337-4F67-88F8-A81ABBC47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195F-6046-4003-B8E9-2E24F5548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9A2E-3772-4339-991A-4C1022A48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1B079-B1CA-451B-A3D3-53D363FDB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6AC35-61A4-427C-B34A-40DE6E42F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4068C-714A-49C1-BB31-6FEDE3910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5DD9D-780D-4703-9120-A467557D1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A4B65-7669-4523-B097-8CB51FBDE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B2584-DAB4-4F4D-9927-CCE50AE90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0766B-9FAF-4E7E-9441-28FE97A3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73EA-64C8-4875-8061-FEA1B4980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C0618-DB39-4AAF-8851-AB58CDB2D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F219A-DAA2-4E45-B6BE-EDAB796F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3D17F-CCE4-43A0-B1F3-394ACF835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AEB18-14B0-41E4-A206-19B114329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32764-7401-4A13-8EFB-45A21EB5B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1C3D-13AE-425F-BF18-D68382141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266F-3F5E-4911-A386-1C5C4E769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A020-27C5-49FF-A9A4-4B73BC8EE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CF86-8D30-43D4-A64A-33B60DAB3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F99F-8F17-4E59-87CC-6DB3AEBD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BFE8-8B89-49E9-AAFA-B25127E0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4113-CF56-4F78-A11D-0ED6E108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39613-DF2F-4446-BB60-1F96F35DDA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A0E5F-9259-4E4D-B4A3-CCE85351EF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6000" y="159192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Calibri"/>
              </a:rPr>
              <a:t>Budowa i właściwości wody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gr inż. Magdalena Ku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dstawowe rodzaje wiązań chemiczny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iązanie kowalencyjne niespolaryzowa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wstają w wyniku połączenia się atomów, których różnica elektroujemności jest niewielka (max. 0,4). Wspólna para elektronów znajduje się w równej odległości między dwoma atomam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iązanie kowalencyjne spolaryzowa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wstaje w wyniku połączenia się atomów, których różnica elektroujemności wynosi od 0,5 do 1,7. W tym przypadku wspólna para elektronowa przesunięta jest w stronę atomu o wyższej elektroujemnośc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iązanie jonow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wstaje wówczas, gdy różnica elektroujemności między poszczególnymi atomami jest bardzo duża (powyżej  1,7). Wówczas elektrony się nie uwspólniają, tylko część z nich dołącza się do drugiego atomu, który staje się anionem (naładowany ujemnie). Drugi jest kationem (naładowany dodatnio) i tworzą wspólny związek jonowy na zasadzie wzajemnego przyciągania elektrostatyczneg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Na podstawie tych informacji zastanów się, jakie wiązanie występuje w cząsteczce wod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może Ci w tym układ okresowy pierwiastków w podaną elektroujemnością każdego z ni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808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830088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ązania w cząsteczce wody są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iązaniami kowalencyjnymi spolaryzowany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Ponieważ tlen posiada wyższą od wodoru elektroujemność, zatem elektrony tworzące wiązanie są przesunięte w jego kierunku. Wokół atomu tlenu gromadzi się ładunek ujemny (tak wpływa bliska obecność elektronów), zaś wokół atomów wodoru ładunek dodatn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 związku z tym cząsteczka wody posiada moment dipolowy i jest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ipole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Budowa cząsteczki wody jest nieliniowa, a kąt w wiązaniu wodór – tlen – wodór wynosi niecałe 105</a:t>
            </a:r>
            <a:r>
              <a:rPr b="0" lang="pl-PL" sz="24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. Nad atomem tlenu gromadzi się ładunek ujemny, natomiast nad atomami wodoru – dodatni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Zastanów się jaki ma to wpływ na inne substancje, które znajdą się w wodzie jak i na samą wodę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105</a:t>
            </a:r>
            <a:r>
              <a:rPr b="0" lang="pl-PL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340000" y="3322800"/>
            <a:ext cx="3600360" cy="21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yobraźcie sobie substancję, która zbudowana jest z jonów (dodatnich kationów i ujemnych anionów). Jej uproszczony schemat przedstawia poniższy rysune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W jaki sposób na taką substancję będzie wpływała woda? Czy będzie ona jej dobrym rozpuszczalnikie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6" descr=""/>
          <p:cNvPicPr/>
          <p:nvPr/>
        </p:nvPicPr>
        <p:blipFill>
          <a:blip r:embed="rId1"/>
          <a:stretch/>
        </p:blipFill>
        <p:spPr>
          <a:xfrm>
            <a:off x="3059280" y="2421000"/>
            <a:ext cx="27144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nieważ woda jest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ipole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jest zatem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obrym rozpuszczalnikiem związków jonowych i polarnyc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Wynika to zarówno z nieliniowej struktury cząsteczki wody jak i z obecności trwałego momentu dipolowego. Wyjaśnia to poniższy schem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971640" y="2997360"/>
            <a:ext cx="691668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da ulega także procesowi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socjacj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czyli wiązani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ząsteczek wody za pomocą wiązań wodorowych. Jest on następstwem ich specyficznej budow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116000" y="2473200"/>
            <a:ext cx="6624720" cy="34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oda ulega także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autodysocjacji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, jednak jest to proces na tyle słaby, że stężenie formy zdysocjowanej jest pomijalne. Reakcja ta przebiega w następujący sposób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 + H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             H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pl-PL" sz="2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+ OH</a:t>
            </a:r>
            <a:r>
              <a:rPr b="0" lang="pl-PL" sz="28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baseline="30000">
                <a:solidFill>
                  <a:srgbClr val="000000"/>
                </a:solidFill>
                <a:latin typeface="Calibri"/>
              </a:rPr>
              <a:t>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baseline="30000">
                <a:solidFill>
                  <a:srgbClr val="000000"/>
                </a:solidFill>
                <a:latin typeface="Calibri"/>
              </a:rPr>
              <a:t>                                                                    </a:t>
            </a:r>
            <a:r>
              <a:rPr b="0" lang="pl-PL" sz="2800" spc="-1" strike="noStrike" baseline="30000">
                <a:solidFill>
                  <a:srgbClr val="000000"/>
                </a:solidFill>
                <a:latin typeface="Calibri"/>
              </a:rPr>
              <a:t>jon hydroniowy        jon oksoniow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 chemicznie czystej wodzie stężenie jonów hydroniowego i oksoniowego wynoszą 10</a:t>
            </a:r>
            <a:r>
              <a:rPr b="0" lang="pl-PL" sz="2800" spc="-1" strike="noStrike" baseline="30000">
                <a:solidFill>
                  <a:srgbClr val="000000"/>
                </a:solidFill>
                <a:latin typeface="Calibri"/>
              </a:rPr>
              <a:t>-7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mol/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becność tych jonów jednak decyduje                             o właściwościach wody związanych z rozpuszczaniem innych substancji polarnych i jonowyc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Line 4"/>
          <p:cNvSpPr/>
          <p:nvPr/>
        </p:nvSpPr>
        <p:spPr>
          <a:xfrm>
            <a:off x="4067280" y="220500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Line 5"/>
          <p:cNvSpPr/>
          <p:nvPr/>
        </p:nvSpPr>
        <p:spPr>
          <a:xfrm flipH="1">
            <a:off x="4066920" y="234936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792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da jest jedną z najbardziej rozpowszechnionych substancji na świecie. Ciało człowieka składa się           z około 70 % wody. Jest ona siedliskiem życia wielu organizmów, a także substratem w wielu reakcjach. Jest niezbędna do tego, aby na Ziemi mogło istnieć życi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792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792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złowiek dziennie powinien wypijać około 2 litrów wody. W związku z tym cała populacja ludzka, zamieszkująca naszą planetę powinna każdego dnia spożywać łącznie około 14 miliardów litrów wody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. Właściwości wo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Weźcie teraz do ręki naczynie z wodą i przyjrzyjcie jej się uważnie. Co możecie o niej powiedzieć na pierwszy rzut oka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zbarw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z zapach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zejrzys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łynny stan skupien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ie jest lep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substancja, która występuje w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rzech stanach skupieni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ciało stałe (lód), ciecz (woda) i gaz (para wodna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4" descr="MC900441750[1]"/>
          <p:cNvPicPr/>
          <p:nvPr/>
        </p:nvPicPr>
        <p:blipFill>
          <a:blip r:embed="rId1"/>
          <a:stretch/>
        </p:blipFill>
        <p:spPr>
          <a:xfrm>
            <a:off x="4788000" y="177336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an prezentacj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da jako źródło życ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da jako substancja chemicz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łaściwości w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5" descr="MP900427792[1]"/>
          <p:cNvPicPr/>
          <p:nvPr/>
        </p:nvPicPr>
        <p:blipFill>
          <a:blip r:embed="rId1"/>
          <a:stretch/>
        </p:blipFill>
        <p:spPr>
          <a:xfrm>
            <a:off x="5219640" y="3429000"/>
            <a:ext cx="287676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da cechuje się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omalną rozszerzalnością temperaturową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Większość substancji wraz ze wzrostem temperatury zwiększa swoją objętość,           a zmniejsza ją, gdy temperatura spad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da natomiast zmniejsza swoją objętość ze spadkiem temperatury, jednak tylko do osiągnięcia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. Od tej wartości jej objętość zaczyna rosnąć. W podanej temperaturze gęstość wody jest największ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Jak myślisz, w jaki sposób jest wykorzystywana ta specyficzna właściwość wod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Łatwo możemy zaobserwować tę właściwość wystawiając pełną wody i zakręconą butelkę na mróz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wniej ludzie wykorzystywali fakt, że woda poniżej 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 zwiększa swoją objętość do rozłupywania skał. W szczeliny wlewano wodę, która zamarzając na mrozie odrywała od siebie poszczególne skalne blok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6" descr="MC900241311[1]"/>
          <p:cNvPicPr/>
          <p:nvPr/>
        </p:nvPicPr>
        <p:blipFill>
          <a:blip r:embed="rId1"/>
          <a:stretch/>
        </p:blipFill>
        <p:spPr>
          <a:xfrm>
            <a:off x="6659640" y="5013360"/>
            <a:ext cx="18176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da posiada także największ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apięcie powierzchniow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Jest ono wynikiem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kohezj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czyli wewnętrznych oddziaływań między cząsteczkami wody, stanowiącymi o spójności tych cząstecze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Jak możemy to zaobserwować i do czego ta właściwość wody może być przydatna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lewając powoli wody do szklanki zauważymy, że część wody wystaje poza górną krawędź naczynia, tworząc tzw. menisk wypukły. Wynika to właśnie z siły wzajemnego przyciągania cząsteczek wody, które są w stanie utrzymać pewną jej ilość ponad szklank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łaściwość ta przydaje się między innymi drobnemu owadowi – nartnikowi – który potrafi poruszać się po powierzchni wody odbijając się od niej cały czas utrzymując się nad wod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da potrafi wytworzyć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lbrzymie ciśnieni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 porach i naczyniach rośli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Czemu może ono służyć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 kiełkującym nasieniu ciśnienie może wynosić kilkaset atmosfer. Tak olbrzymie ciśnienie powoduje, że młoda siewka bez problemu potrafi przebić się przez asfal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za tym ciśnienie wody wykorzystywane jest chociażby w procesach cięcia. Stosowana jest technologia cięcia różnych materiałów za pomocą strumienia wody, który pod wysokim ciśnieniem jest w stanie zastąpić narzędzia tną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4" descr="MC900383120[1]"/>
          <p:cNvPicPr/>
          <p:nvPr/>
        </p:nvPicPr>
        <p:blipFill>
          <a:blip r:embed="rId1"/>
          <a:stretch/>
        </p:blipFill>
        <p:spPr>
          <a:xfrm>
            <a:off x="7731000" y="5300640"/>
            <a:ext cx="1230480" cy="12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da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ie jes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ściśliw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Oznacza to, że pod wpływem wywieranego na nią ciśnienia nie zmienia swojej objętośc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Do czego może być wykorzystywana ta właściwość wod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łaśnie ta cecha wody wykorzystywana jest chociażby w przypadku hamulców hydraulicznych. Woda znajdująca się w przewodach hamulcowych pod wpływem ucisku nie zmienia swojej objętości, tzn. nie można jej ścisnąć. Dzięki temu dociska i powoduje przesunięcie elementów hamującyc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5" descr="MC900439791[1]"/>
          <p:cNvPicPr/>
          <p:nvPr/>
        </p:nvPicPr>
        <p:blipFill>
          <a:blip r:embed="rId1"/>
          <a:stretch/>
        </p:blipFill>
        <p:spPr>
          <a:xfrm>
            <a:off x="7308720" y="5022720"/>
            <a:ext cx="1835280" cy="18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oda ma wyjątkowo wysoką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pojemność cieplną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. Oznacza to, że aby zmienić jej temperaturę o jeden stopień, potrzeba bardzo wiele ciepł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W jaki sposób wykorzystywana jest ta właściwość wod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 pewno każdy miał okazję dotknąć w zimie gorącego kaloryfera. Wykorzystuje on właśnie tę właściwość wody,            o której mówimy. W jego wnętrzu znajduje się woda, która podgrzana do wysokiej temperatury dzięki wysokiej pojemności cieplnej potrafi ją także długo zachować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Morza i oceany są naturalnymi rezerwuaram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ciepła, które łagodzą klimat. Wynika t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łaśnie z opisanej powyżej właściwości wod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6" descr="MC900078783[1]"/>
          <p:cNvPicPr/>
          <p:nvPr/>
        </p:nvPicPr>
        <p:blipFill>
          <a:blip r:embed="rId1"/>
          <a:stretch/>
        </p:blipFill>
        <p:spPr>
          <a:xfrm>
            <a:off x="6659640" y="4076640"/>
            <a:ext cx="2052720" cy="24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. Woda jako źródło życ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iemia nazywana jest często Błękitną Planet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Dlaczego?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4" descr="MP900430849[1]"/>
          <p:cNvPicPr/>
          <p:nvPr/>
        </p:nvPicPr>
        <p:blipFill>
          <a:blip r:embed="rId1"/>
          <a:stretch/>
        </p:blipFill>
        <p:spPr>
          <a:xfrm>
            <a:off x="2340000" y="2781360"/>
            <a:ext cx="4608360" cy="338148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5"/>
          <p:cNvSpPr/>
          <p:nvPr/>
        </p:nvSpPr>
        <p:spPr>
          <a:xfrm>
            <a:off x="755640" y="333360"/>
            <a:ext cx="7777080" cy="1008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Rzeczywiście, nasza planeta widziana z Kosmosu wyróżnia się swoim błękitnym kolorem. Pochodzi on od wody, która pochłania światło widzialne w zakresie barwy czerwonej stukrotnie silniej niż błękitnej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oda zajmuje około 71 % powierzchni Ziemi. Gdyby zamknąć ją całą w kuli, to miałaby ona średnicę 1385 k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Calibri"/>
              </a:rPr>
              <a:t>Czy to dużo, czy mał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yobraźcie sobie, że średnica Ziemi wynosi 12 748 k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ff"/>
                </a:solidFill>
                <a:latin typeface="Calibri"/>
              </a:rPr>
              <a:t>Wykonajcie z gazet jej model, a następnie model „kuli wody” w skali 1:100 000 000 i porównajcie je ze sob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kala 1:100 000 000 oznacza, że 1 cm w modelu odpowiada 100 000 000 cm w rzeczywistośc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1 m = 100 c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1 km = 100 000 c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1 km = 1000 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ynika z tego, że 1 cm w modelu odpowiada 1000 km                 w rzeczywistośc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atem 12 748 km w modelu będzie mierzyło okoł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12,7 cm, a 1385 km – ok. 1,4 c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Calibri"/>
              </a:rPr>
              <a:t>Odpowiedzcie teraz na pytanie, czy zasoby wody na naszej planecie się duże, czy mał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AutoShape 4"/>
          <p:cNvSpPr/>
          <p:nvPr/>
        </p:nvSpPr>
        <p:spPr>
          <a:xfrm>
            <a:off x="3132000" y="1413000"/>
            <a:ext cx="719280" cy="1439640"/>
          </a:xfrm>
          <a:custGeom>
            <a:avLst/>
            <a:gdLst>
              <a:gd name="textAreaLeft" fmla="*/ 0 w 719280"/>
              <a:gd name="textAreaRight" fmla="*/ 259560 w 719280"/>
              <a:gd name="textAreaTop" fmla="*/ 37440 h 1439640"/>
              <a:gd name="textAreaBottom" fmla="*/ 14022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Czego szukają naukowcy na innych planetach rozważając możliwość istnienia na nich życia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czywiście szukają WODY! W 2008 roku odkryto wodę na Marsie, a w następnym roku na Księżyc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5" descr="MP900401287[1]"/>
          <p:cNvPicPr/>
          <p:nvPr/>
        </p:nvPicPr>
        <p:blipFill>
          <a:blip r:embed="rId1"/>
          <a:stretch/>
        </p:blipFill>
        <p:spPr>
          <a:xfrm>
            <a:off x="2124000" y="1413000"/>
            <a:ext cx="468000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a Ziemi pierwsze żywe organizmy powstały      w wodzie. Wskazuje to, jak ważne dla rozwoju życia jest środowisko wod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Jednym z pierwszych czworonogów była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Ichtiostega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. Była to forma przejściowa między rybami a płazami. Jako jeden z pierwszych gatunków zwierząt opuściła siedlisko wodne        i „wyszła na ląd”. Miało to miejsce około 380 mln lat tem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2. Woda jako substancja chemiczn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ększość z Was na pewno wie, jaki wzór chemiczny ma woda.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Przypomnijmy go zate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5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wa atomy wodoru, jeden atom tlen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AutoShape 4"/>
          <p:cNvSpPr/>
          <p:nvPr/>
        </p:nvSpPr>
        <p:spPr>
          <a:xfrm>
            <a:off x="684360" y="333360"/>
            <a:ext cx="7848360" cy="1008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Atomy w związkach chemicznych połączone są za pomocą wiązań chemicznych. Polegają  one na połączeniu się niesparowanych elektronów leżących na ostatniej powłoce każdego atomu w ten sposób, że tworzą one wspólne pary elektronow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iązania chemiczne różnią się między sobą pod względem lokalizacji w cząsteczce uwspólnionej już pary elektronów, tworzących to wiązani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Madzia</cp:lastModifiedBy>
  <dcterms:modified xsi:type="dcterms:W3CDTF">2013-10-21T18:49:46Z</dcterms:modified>
  <cp:revision>92</cp:revision>
  <dc:subject/>
  <dc:title>Slajd 1</dc:title>
</cp:coreProperties>
</file>