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A4FC-4235-478B-A5AD-426B7229362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18E6-5C09-4A44-BBD2-433541F0C5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8822-E989-431E-8C00-5333139811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CF37-CE0E-4B05-A4EB-BDE9DE9F83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EFB0-06EB-47AF-8EBE-0A677B6BB7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7188-8028-4615-879A-4EE236D3A21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B5FB-06C9-470B-9706-41B7EBFB9F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FAF9-B02A-409D-BB27-1E3044CB07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9388-747F-410D-97C2-36DF83B1C9B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0694-5B0B-45BE-B797-E7F78EF62E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E1C2-B6AB-4C35-A783-ED927646F8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751D-F0DC-4073-9741-1F7D8D4D9C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247C-D7A0-41BB-9A3B-C4A07AE926E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B631-EEEF-47F8-9E56-0C123A4150C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1942-8B36-4F3E-A2E1-9066FA6D21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F500-8E99-456F-9E43-5B8BB29E9F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F995-1162-4CF9-8DF7-C635B436D8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9CB5-AEE4-4B20-9B1D-20EB860F925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7850-6889-43A4-B9B7-8A1E02FCADB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07DA-8EED-4A05-994A-368D00F3EB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E787-9DEE-4F7E-ACB1-3E0D65A4447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17ED-1AB7-4A24-BB2B-CCFB774C6D3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5C74-5FC5-4D04-A40B-6434DCF1D6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19F0-12EF-4611-A996-43592EF783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AB40-27FA-4BCA-B20B-6D6389EBCC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F8C6-F0DA-49D2-A9D9-2719F67386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1CF0-62D0-4D14-BA28-2057FFFFCD0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F68B-6B26-4548-95BB-1D5C9BCFBB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A095-506D-4E4D-A782-4C37816829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B8C9-30F6-4B2A-A7AD-FE51271ACE0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AF08-D7D1-4E08-B9EA-FB3BF7E9EAE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AF63-EDAA-4CCB-AB0F-43EAF17984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F43-2A39-4AE8-9E25-6B061AFF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CA9-F27A-48C5-8B93-DFA354B2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8BC-05F4-47D3-B9FE-C4C98F4A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727-8126-4D21-9B2F-F67D63B1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F9F9-AD90-4014-BF56-DC532561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FD22-C56B-43C6-9DAB-91826D21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6D4C-7DE1-4393-9837-D7CD69EC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6736-BAC0-440F-BFF8-C6548897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9CAE-BFF0-4062-BE58-B69AFBF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E243-9B08-446D-8C4F-072ED094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F10C-3E6A-4738-965F-1B556DE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2E0-B446-41B7-9CD0-5679B562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5858-C24A-41FA-906A-A51259D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9A9A-DF30-458E-A64D-47D6669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C010-2E32-4EDB-93DA-3677BDB8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7BB6-A1ED-4FEA-8CAA-723435D1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1889-C858-4535-80D1-6DE1678E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110-5697-423A-B298-2FB8B9CE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5B8-E327-438A-A209-C46F8F44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497-C44D-4DAD-A12C-987012FA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BEE-6CF8-43A2-8952-BB867E31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751-F788-4B5F-AAC9-2E7C81D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AA5-CD9D-4161-B9FC-72918EAD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6FC-446B-4C79-ADC7-18D4E48D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30E7-1BBC-403E-86EF-F31F39C95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19A-30A8-4F67-B31D-14AD2BB54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Roztwory wodn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ok. 1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roztworu zawierającego jony Hg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daj taką samą ilość HCl o stężeniu 2mol/d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wynik reakcji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i dają kationy I grupy. Aby zidentyfikować je między sobą wykonaj drugą część doświad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Następnie dodaj to tego roztworu 3-krotną objętość wodnego roztworu NH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teraz wynik reakcj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 reakcji daje kation Hg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Jest to dla niego reakcja specyficz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3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ok. 1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roztworu zawierającego jony Pb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daj taką samą ilość HCl o stężeniu 2mol/d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wynik reakcji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i dają kationy I grupy. Aby zidentyfikować je między sobą wykonaj drugą część doświad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Następnie dodaj to tego roztworu 3-krotną objętość wodnego roztworu NH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teraz wynik reakcj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 reakcji daje kation Pb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2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Jest to dla niego reakcja specyficz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Rodzaje roztwor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ztw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azywamy mieszaninę dwóch lub więcej substan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częściej jedną z substancji w roztworze nazywam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zpuszczalniki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aza dyspersyjna), a drugą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stancją rozpuszczon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aza zdyspergowa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MP900402696[1]"/>
          <p:cNvPicPr/>
          <p:nvPr/>
        </p:nvPicPr>
        <p:blipFill>
          <a:blip r:embed="rId1"/>
          <a:stretch/>
        </p:blipFill>
        <p:spPr>
          <a:xfrm>
            <a:off x="5148360" y="2060640"/>
            <a:ext cx="352908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oztwory dzielimy 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twory rzeczywis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to roztwory jednorodne, których rozmiary cząsteczek substancji rozproszonej mają rozmiary mniejsze od 1 n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twory niewłaści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nie są całkowicie jednorodne. Wśród nich wyróżniamy m.in. Roztwory koloidalne i zawiesi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38163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oztwory koloidaln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pozornie sprawiają wrażenie roztworów właściwych, jednak substancje tworzące roztwó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są zmieszane na poziomie pojedynczych cząsteczek. Rozmiary cząsteczek substancji rozproszonej wynoszą od 1 nm do 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752720" cy="46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awiesin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ieszaniny niejednorodne, w których zazwyczaj cząsteczki substancji rozpuszczonej są znacznie większe od cząsteczek rozpuszczalnika i są większe niż 100 nm. Z tego powodu substancja rozpuszczona (jako cięższa) ma tendencję do opadania na dno, tj. sedymentacji. Zazwyczaj gołym można dostrzec niejednorodność zawies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Zada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klasyfikuj podane roztwory na roztwory właściwe, koloidalne i zawiesin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gł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ł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wietr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oda z sol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kr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odny roztwór gip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odny roztwór drożdży spożywcz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enzy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arba malar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Dysocjacja elektrolity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twory wodne substancji chemicznych możemy podzielić na dwa rodzaj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lektrolit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czyli przewodzące prąd elektr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ieelektrolit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czyli nie przewodzące prądu elektry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go rozróżnienia dokonał w XIX wieku szwedzki chemik Svante Arrhenius, który stworzył teorię dysocjacji elektrolitycz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g. teorii Arrhenius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ysocjacja elektrolityczn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to rozpad elektrolitów na naładowane elektrycznie jony – dodatnio naładowan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kation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i ujemnie naładowane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anion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twór jest elektrycznie obojętny, ponieważ suma ładunków kationów i anionów zawsze jest równa z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elektrolity nie ulegają dysocjacji elektrolitycz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oztworach wodnych w przypadku słabych elektrolitów dysocjacja jest zawsz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cesem odwracalny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a pomiędzy formą zdyscocjowaną a niezdysocjowaną zachowana jest wówczas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ównowag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ysocjacji w wodzie ulega większość kwasów i zasad, a także prawie wszystkie rozpuszczalne w wodzie s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da ulega samorzutnej reakcji dysocjacji zgodnie z równani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+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        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 czym formy zdysocjowanej jest w wodzie bardzo niewiele (zaledwie 1 zdysocjowana cząsteczka na każde 10 000 000 niezdysocjowanych!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21164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5"/>
          <p:cNvSpPr/>
          <p:nvPr/>
        </p:nvSpPr>
        <p:spPr>
          <a:xfrm flipH="1">
            <a:off x="421128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puszczalność substancji chemicznych w wodz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dzaje roztwor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ysocjacja elektrolityc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ala p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kład dysocjacji elektrolityczn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Cl                H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Cl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OH                Na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 2K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2Al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3SO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851280" y="17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3851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385128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3851280" y="49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c elektrolitów określa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stopień dysocjacji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tóry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finiuje się jako stosunek liczby cząstek, które uległy dysocjacji do całkowitej liczby cząstek wprowadzonych do roztwor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cnych elektrolitów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należą niektóre kwasy, np. HCl , HBr, HI, HN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,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a także zasady: wodorotlenki litowców i berylowców (z wyjątkiem wodorotlenku berylu i magnez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ównowagę reakcji dysocjacji elektrolitycznej opisuje tzw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ała dysocjacji K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Dla substancji, których dysocjacja przebiega zgodnie z reakcj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B        A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ała ta ma posta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[A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][B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[AB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3851280" y="59500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21164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4140000" y="429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o dwóch probówek wlej po 2 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CuC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. Ma on niebieską barwę. Następnie do pierwszej probówki wlej ac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ą barwę ma obecnie roztwór w pierwszej probów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raz do obu probówek dolej czystej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i jest wynik doświadcz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probówki wlej 2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CoCl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Roztwór ten ma barwę czerwoną. Następnie dolej do probówki stężony kwas HC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ą barwę ma obecnie roztwór w pierwszej probówc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eraz dodaj to probówki w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Co się stał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laczego nastąpił powrót do pierwotnej barw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4. Skala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jawisko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utodysocjacji wod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posłużyło do stworzenia skali kwasowości i zasadowości roztwor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czyn roztworu określa się za pomocą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tężenia jonów oksoniow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 nim zawart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H = -log [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emicznie czysta woda jest pod względem odczynu neutralna. Stężenie jonów 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ynosi w niej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ol/l. Z powyższego wzoru wynika zatem, że jej pH wynosi 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jęcie pH wprowadził duński naukowiec 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n 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nsen, określając w ten sposób ujemny logarytm ze stężenia kationów wodorowych w roztwo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azało się jednak, że wolne atomy wodoru nie występują w roztworach, ponieważ ulegają solwatowaniu tworząc jon oksoniowy H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ala pH zawiera wartości od 0 do 14, gdzie 0 oznacza silny odczyn kwasowy, a 14 zasad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owe wartości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k żołądkowy: 2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dzielina pochwy: 4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ślina: 7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rew: 7,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dzielina trzustki: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żółć (wydzielina wątroby):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was akumulatorowy: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ca-Cola: 2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et: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leko: 6,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dło: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468360" y="4005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8" descr="MC900433628[1]"/>
          <p:cNvPicPr/>
          <p:nvPr/>
        </p:nvPicPr>
        <p:blipFill>
          <a:blip r:embed="rId1"/>
          <a:stretch/>
        </p:blipFill>
        <p:spPr>
          <a:xfrm>
            <a:off x="5364000" y="1484280"/>
            <a:ext cx="2610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hemiczne wskaźniki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oznaczania pH służą wskaźniki kwasowości. Są to substancje, które w zależności od odczynu roztworu w którym się znajdują, przyjmują różne barwy. Pokazuje to poniższa tab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3860640"/>
            <a:ext cx="7345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omowe wskaźniki 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prócz substancji chemicznych, dostępnych w zasadzie wyłącznie w laboratorium, rolę wskaźników kwasowości mogą z powodzeniem pełnić ogólnie dostępne substancje, takie j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par z czarnej herbat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 odczynie kwaśnym ma barwę słomkową, w zasadowym – ciemnobrąz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erwone burak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oztwór silnie zasadowy zmienia ich kolor z czerwonego na niebies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Jeżyny i czarne porzeczk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 roztworze kwaśnym kolor niebieski, w zasadowym fiolet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urr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rzy pH ok. 7,4 – kolor żółty. Powyżej 8,6 – czerw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łatki pelargoni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oztwór kwaśny – kolor czerwony, roztwór zasadowy – niebie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erwona kapust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w roztworze zasadowym zmienia barwę na zielo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Zaparz w około 0,5 litra mocnej, czarnej herbaty. Następnie rozlej napar w równych ilościach do dwóch naczyń. Do pierwszego z nich dodaj łyżeczkę kwasu cytrynowego, do drugiego sody oczyszczo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Jaką barwą mają oba roztw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o oznacza wynik doświadczen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Jakie może być zastosowanie tego doświadczenia w gospodarstwie domowy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Rozpuszczalność substancji chemicznych w wodz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symalną ilość substancji, jaką można rozpuścić w danej temperaturze i pod stałym ciśnieniem w 100 g rozpuszczalnika nazywam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puszczalności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ztwór, który osiągnął swoją maksymalną rozpuszczalność, nazywam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ztworem nasyco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116000" y="260280"/>
            <a:ext cx="705636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derwij w główki czerwonej kapusty 5 liści i posiekaj je na drobne paski. Następnie włóż je do garnka i zalej wodą tak, by przykryła liście. Całość gotuj przez około 15 minut, a następnie odstaw do ostygnięcia. Po przecedzeniu otrzymasz roztwór, który należy rozlać w równej ilości do dwóch naczy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o pierwszego z nich dodaj łyżeczkę sody oczyszczonej, do drugiego łyżeczkę oc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ą barwą mają oba roztwor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 oznacza wynik doświadczen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ie może być zastosowanie tego doświadczenia w gospodarstwie domowy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zpuszczalność substancji zależy od jej rodzaju i tempera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la różnych substancji wyznaczono tzw. krzywe rozpuszczalności, czyli wykresy obrazujące zależność pomiędzy rozpuszczalnością danej substancji w wodzie a temperatur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zwyczaj rozpuszczalność ciał stałych i cieczy wzrasta wraz ze wzrostem temperatury, natomiast rozpuszczalność gazów male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o dwóch naczyń wlej po 200 ml wody gazowanej. Jedno naczynie postaw na palniku i zacznij je podgrzewać, drugie pozostaw w normalnych warun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Z którego naczynia szybciej ulatnia się gaz zawarty w wodz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 czym to świadcz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celu określenia, czy dana substancja jest łatwo- czy trudnorozpuszczalna w wodzie stworzono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abele rozpuszczalnośc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Zawierają one informacje dotyczące soli i wodorotlenk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by odczytać z tabeli informację dotyczącą rozpuszczalności danej substancji w wodzie, należy odnaleźć na skrzyżowaniu wiersza i kolumny właściwych jonów symbol, wskazujący na jej rozpuszczalnoś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Korzystając ze szkolnej tabeli rozpuszczalności wymień 5 substancji, które łatwo rozpuszczają się w wodzie, oraz 5 trudnorozpuszczalnych. Czy stosujesz te substancje w życiu codzienny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788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celu identyfikacji składników nieznanych mieszanin substancji chemicznych przeprowadza się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izę jakościową jonó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ega ona na wykonaniu w odpowiedniej kolejności szeregu reakcji chemicznych, w wyniku których powstają barwne roztwory, wydzielają się gazy lub wytrącają się osady umożliwiające identyfikację poszczególnych jon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zczególne jony usystematyzowane są w grupy, dla których opisane są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kcje charakterystycz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możliwiające ich wykry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MP900426563[1]"/>
          <p:cNvPicPr/>
          <p:nvPr/>
        </p:nvPicPr>
        <p:blipFill>
          <a:blip r:embed="rId1"/>
          <a:stretch/>
        </p:blipFill>
        <p:spPr>
          <a:xfrm>
            <a:off x="4932360" y="1341360"/>
            <a:ext cx="3959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by umiejętnie korzystać z tablicy rozpuszczalności wykonaj reakcje charakterystyczne dla I grupy kation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I grupie znajdują się kationy: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1" lang="pl-PL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, Hg</a:t>
            </a:r>
            <a:r>
              <a:rPr b="1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l-PL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, Pb</a:t>
            </a:r>
            <a:r>
              <a:rPr b="1" lang="pl-PL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czynnikiem grupowym jest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o stężeniu 2 mol/dm</a:t>
            </a:r>
            <a:r>
              <a:rPr b="0" lang="pl-PL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żeli w próbce obecne są kationy I grupy, strącany jest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iały osad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dentyfikacji poszczególnych kationów dokonuje się w reakcji z wodnym roztworem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pl-PL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Doświadczeni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Do ok. 1 c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roztworu zawierającego jony Ag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dodaj taką samą ilość HCl o stężeniu 2mol/dm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wynik reakcji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i dają kationy I grupy. Aby zidentyfikować je między sobą wykonaj drugą część doświad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Następnie dodaj to tego roztworu 3-krotną objętość wodnego roztworu NH</a:t>
            </a:r>
            <a:r>
              <a:rPr b="0" lang="pl-PL" sz="2400" spc="-1" strike="noStrike" baseline="-25000">
                <a:solidFill>
                  <a:srgbClr val="0000ff"/>
                </a:solidFill>
                <a:latin typeface="Calibri"/>
              </a:rPr>
              <a:t>3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jaki jest teraz wynik reakcj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Taki wynik reakcji daje kation Ag</a:t>
            </a:r>
            <a:r>
              <a:rPr b="0" lang="pl-PL" sz="2400" spc="-1" strike="noStrike" baseline="30000">
                <a:solidFill>
                  <a:srgbClr val="0000ff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. Jest to dla niego reakcja specyficz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8-24T14:33:46Z</dcterms:modified>
  <cp:revision>55</cp:revision>
  <dc:subject/>
  <dc:title>Slajd 1</dc:title>
</cp:coreProperties>
</file>