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32D-1015-4AE8-A82B-D460292D3BE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EDEC-3DE0-4C47-9594-4C9BB941755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EF6-BF54-47C5-9E59-2F0A0E84F2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7D9-E010-41E9-9CBA-354643CF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DB3-079B-4E59-8F97-22EABA03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216-CE78-4A06-8C76-9CE7969E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8B9-4E60-4FDE-AA21-153FE2F7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115B-4805-401C-9B9B-3C5F7F4A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05E1-0B14-4ADD-8971-52D248B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573-4089-4E61-82F5-50DA7C23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6CA-2ADF-4EB6-8040-5DC6E4A0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B641-1746-43CE-9BE2-9DDB0C8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1DF1-6DC5-45AF-A3E9-E8272424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608A-3553-4E61-941D-B109B98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5C9-A881-4EFF-AD48-E102BB5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9A98-A371-48CB-9D05-B0A48F3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FB2-13A5-4967-9BA9-93906F62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906C-D383-42CD-B926-8FFDFA1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B63-6C9F-4A61-9355-52EDA330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D1FD-BDA6-4CC3-9603-0D8DDA9F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C1E-5BA2-4DA8-9081-48D8FD65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7DA-6B8A-4D6E-B442-0E03DB18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3F0-F88F-4C04-9738-AFCB6F66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913-7FA6-44AC-B4F2-3984755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5AC-E0A2-4C19-9E4F-D708B28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B45-0645-4AD6-97E8-280F00D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BCA-B800-4F99-9661-46F2831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36E8-A007-4477-8BD5-2457F7183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BDD-FFA4-4EF0-8CB5-BD451FBD6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y skupienia mater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zym się różnią od siebie poszczególne stany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 wynika ze sposobu ułożenia atomów w poszczególnych stanach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nkt potrójny – definicja i znacze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k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zejścia faz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k to możliw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Stany skupienia mate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 skupienia mate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forma, w jakiej dana substancja występuje, określająca jej właściwości fizyczne.  Między poszczególnymi stanami skupienia występują skokowe zmiany tych właściw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różniamy trzy podstawowe stany skupienia: gazowy, ciekły i stał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04640"/>
            <a:ext cx="74170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zym się różnią od siebie poszczególne stany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poszczególnych stanach skupienia inne jest wzajemne ułożenie tworzących daną substancję cząstecz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ało stał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posiada uporządkowaną strukturę, poszczególne atomy ułożone są blisko siebie i nie mają wystarczająco dużo energii, aby pokonać siły przyciągania istniejące między nimi i oddalić się od pozostałych atom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ie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atomy są w stałym kontakcie ze sobą, jednak nie jest to tak ścisłe ułożenie, jak w przypadku ciała stałego. Posiadają one więcej energii i poruszają się swobodnie względem siebie, choć wciąż nie mogą pokonać siły wzajemnego przyciąg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a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atomy poruszają się swobodnie między sobą, nie mają uporządkowanej struktury. Posiadają natomiast tyle energii, że całkowicie pokonują siły wzajemnego przyciągania i poruszając się wypełniają całą dostępną przestrze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o wynika z takiego ułożenia atomów w poszczególnych stanach skupi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ało stał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zachowuje swój kształt, ponieważ atomy są położone bardzo blisko siebie. Z tego samego względu trudno zmniejszyć jego objętość – po prostu nie ma na to miejs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ec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yjmuje kształt naczyń, w których się znajduje, jednak nie dąży do całkowitego zapełnienia tej przestrzeni. Z tego samego powodu, co w ciele stałym, trudno jest zmienić jej objętość. Dlatego mówimy o cieczach, że są trudnościśli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az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ąży do wypełnienia całej przestrzeni, w której się znajduje. Łatwo zmienić zarówno jego kształt jak i objętość, ponieważ atomy się są ze sobą sztywno połączo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Punkt potrójny – definicja i znacze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tan, w którym dana substancja może znajdować się w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zech stanach skupienia mate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które znajdują się między sobą w równowad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reślają go d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ry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śnieni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era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67280" y="3933720"/>
            <a:ext cx="1693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84720" y="4078440"/>
            <a:ext cx="2087640" cy="2087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260280"/>
            <a:ext cx="741708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ykres obrazujący punkt potrój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ŚNI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NKT POTRÓJ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ERA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257800" cy="4037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3779640" y="2852640"/>
            <a:ext cx="3313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zczególne stany skupienia w zależności od warunków mogą się nawzajem w siebie przemieniać. Te przemiany nazywam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zejściami fazowym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niższa tabela podaje nazwy procesów związanych z przejściami fazowy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481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k to możli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łatwiej opisywane zjawisko zauważyć zimą. Woda podczas mrozów może występować na raz w trzech stanach skupienia. Swój punkt potrójny osiąga w temperaturz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,0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iśnieniu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11,73 P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az (para wod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iało stałe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ló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iecz (wo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47640" y="407664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932360" y="3500280"/>
            <a:ext cx="194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580000" y="4797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09T10:02:58Z</dcterms:modified>
  <cp:revision>32</cp:revision>
  <dc:subject/>
  <dc:title>Slajd 1</dc:title>
</cp:coreProperties>
</file>