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8DDC-6D03-4503-A7CE-62A8987FEBA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27F-9812-465D-A224-89E8D91C77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D4E-883E-4F08-9A6C-A24EB4EF0F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2EF-0B69-4D52-93EC-F63B8ABC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57B-CFAA-46B5-BCD7-2304ACD4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005-C5FA-4573-921F-CF72BA47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B66-E6E8-4E5C-BB25-0155732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C1B-149B-4D33-8C22-353AD18A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F87C-A6B7-432E-8D1D-FE7EAFB6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7D66-8C02-435A-BF36-6D577E69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500C-ED13-4F9B-B936-7EA429A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8FC9-C935-4988-A539-64C21E73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1FA2-4ECF-4BFE-B2DF-666CD3E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79E3-9781-412C-9D6D-93AB749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61E-33A7-4829-8297-A6090826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D080-05DB-465C-90CC-419A19D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D97-D8AA-4CA2-8A42-377E096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315F-5EE1-4541-AEB0-6681548A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BEA1-8542-4A97-A66A-4617487A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80D6-46D6-4A43-BC14-54B46544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2B6-79CF-40B4-AD6F-D89ED07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F68-4AC6-4C73-9218-41919EF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D6C-CFC2-47C8-97BD-72D15CC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988-F67A-487C-849E-0F80362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E6D-0BF9-419A-A23E-E2CD122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3B5-BC2D-4433-B6B6-07E12AC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EFF-B781-436C-AEF7-DBFB5EC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5BB2-6582-4337-903A-30803D130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DC2A-D625-48C6-8B08-AD7DB0EA5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zeźbotwórcza działalność rzek i morz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ral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budowane są przez koralowce tworzą tzw. rafy koralowe. Z tego względu występują jedynie w ciepłych i płytkich wodach (dostęp światła). Rafy koralowe zatrzymują fale morskie, które kierują się w stronę brzegu. Rafy koralowe należą do najbogatszych pod względem bioróżnorodności ekosystemów świata! Występują np. wzdłuż wschodniego wybrzeża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morzynow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ystępują w strefie tropikalnej i tworzone są przez tzw. lasy namorzynowe, które są przystosowane do życia w strefie pływów morskich. Podczas przypływu korzenie drzew tworzących te lasy są zatopione w wodzie, natomiast podczas odpływu korzenie są odsłonięte tworząc plątaninę, która chroni brzeg przed kolejną falą przypływ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zeźbotwórcza działalność r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, podobnie jak morza, są czynnikiem kształtującym rzeźbę terenu. Ich zakres oddziaływania jest jednak inny, ponieważ przepływają przez lądy żłobiąc w nich stosunkowo wąskie „wstęg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zeki na całej swojej długości zmieniają swój charakter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ór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najbliżej źródła) dolina rzeczna jest zazwyczaj najwęższa i woda płynie tam najszybciej. Z tego powodu przeważającym rodzajem działalności jest t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oz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środkow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lina rzeczna się poszerza, by w dolnym biegu całkowicie spowolnić, niejednokrotnie tworząc tzw. rozlewiska. Dominującym typem działalności rzek 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lnym bieg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e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kumulacj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górnym biegu rzeki koryto jest stosunkowo wąskie a prąd na tyle silny, że niesiony przez wody materiał skalny nie zdąży się osadzić na dnie. Przeciwnie – siła spadku wody i jej uderzenie o brzeg jest na tyle mocne, że powoduje jego podmywanie. Również tarcie wody o dno jest przyczyną pogłębiania koryta rze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ymbol zastępczy tekstu 2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11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głęb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najsilniejsza jest tam, gdzie rzeka ma największy spadek. Długotrwałym efektem erozji wgłębnej jest powstawanie głębokich dolin V-kształtnych i kanionów. Jednym z najbardziej znanych przykładów tej działalności jest Wielki Kanion Colorado w U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bo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ystępuje najczęściej w środkowym lub dolnym biegu rzeki. Polega na podcinaniu jednego z brzegów rzeki, wskutek czego tworzą się meandry (zakola rzeczne). Gdy zostaną odcięte od głównego nurtu rzeki, wówczas powstają tzw. starorzecza. Ten typ erozji można obserwować np. nad Biebrz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rozja wstecz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ciekawy tym erozji występuje najczęściej w dwóch przypadkach: przy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ch rze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wodospada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źród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w miejscu, w którym woda wypływa na powierzchnię ziemi tworzy się zagłębienie, które jest podcinane pod wpływem ciśnienia wypływającej wody. W efekcie źródło „cofa się” w stronę działu wodnego, co może doprowadzić do zjawiska kaptażu, czyli przejęcia wód wypływających w danego źródła przez inne znajdujące się po przeciwnej stronie wododziału. Takie zjawisko zachodzi m.in. w Bieszczadach (rzeka Udava po słowackiej stronie podcina główny wododział karpacki, by „przejąć” wody Solink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odospa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woda spadająca z progu tworzącego wodospad tworzy u jego podstawy niszę, która wraz z upływem czasu poszerza się w głąb skały, prowadząc w efekcie do oberwania progu i „cofnięcia się” wodospa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Symbol zastępczy tekstu 2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łomy rzeczn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niezwykle malownicze formy ukształtowania terenu występujące w miejscach, gdzie rzeka pokonuje przeszkodę terenową (np. pasmo górskie). W tym miejscu jest ona najczęściej bardzo wąska, a jej nurt jest rwący. Przełomy charakteryzują się stromymi zboczami dolin, którymi rzeka „przedziera się” przez dany teren. Przykładem jest przełom Dunajca w Pienin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środkowym i dolnym biegu rzek, gdzie spadek jest mniejszy, a nurt zwalnia, pojawiają się dobre warunki do tego, by niesiony przez wody materiał osadził się na dnie lub brzegach. W ten sposób realizowana jest działalność akumulacyjna rzek, a naniesiony przez wody materiał nazywany je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uwia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tekstu 2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elt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powstają przy ujściu rzek, które posiadają  wysoką zdolność transportową (rzeki górskie) do rzek o mniejszej zdolności (nizinnych) lub do morza. Osady niesione przez rzekę odkładają się w formi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tożka napływ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który staje się przeszkodą dla płynącej wody i powoduje dalsze odkładanie się aluwiów.  Delta ma kształt trójkątny, zwężający się w kierunku rzeki nanoszącej osady. Przykładem tej formy akumulacji jest np. Delta Ni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rasy zalew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e formy powstają wskutek naniesienia materiału na tereny nadrzeczne po powodziach. Występują powszechnie w dolinach rzecznych, tworząc płaskie przestrzenie wzdłuż głównego koryta rzeki. Ponieważ proces powstawania terasy jest cykliczny, może występować kilka jej poziomów oddzielonych od siebie prog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sy zalewowe to najczęściej tereny podmokłe lub zabagnione. Spotyka się na nich także torfowi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mó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zeźbotwórcza działalność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eroz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akumulacyjna r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Rzeźbotwórcza działalność mór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y morskie mogą oddziaływać na rzeźbę terenu wówczas, gdy stykają się z lądem. Ma to miejsce w wąskim pasie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ybrzeż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y wody uderzające o wybrzeża kształtują jego rzeźbę w dwojaki sposób. Mogą swoją siłą niszczyć i wyżłabiać ląd, ale mogą również nanosić materiał budujący nowe for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ziałalność niszcząca nosi nazwę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erozj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dującą zaś nazywamy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kumulacj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76280"/>
            <a:ext cx="813600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eroz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wysok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Fale morskie uderzając o brzeg niszczą go i podmywają tworząc jednocześnie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iszę abrazyjn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Brzeg cofa się tworząc urozmaiconą linię brzegową, w której nie brakuje zatok i półwysp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Symbol zastępczy tekstu 2" descr=""/>
          <p:cNvPicPr/>
          <p:nvPr/>
        </p:nvPicPr>
        <p:blipFill>
          <a:blip r:embed="rId1"/>
          <a:stretch/>
        </p:blipFill>
        <p:spPr>
          <a:xfrm>
            <a:off x="4572000" y="238140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wyso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lmatyńsk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wykształca się wówczas, gdy wody morskie zalewają łańcuchy górskie ułożone równolegle do wybrzeża. Występuje ono np. w Chorw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ias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en typ wybrzeża powstaje także poprzez zalanie wodami morskimi łańcuchów górskich, jednak ustawionych do wybrzeża prostopadle. Przykładem jest południowo – zachodnie wybrzeże Irland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man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nazwa pochodzi od zatok zamykanych przez piaszczyste wały, które nazywane są limanami. Powstają one wówczas, gdy ujścia rzek są zatapiane i odcinane półkolistymi piaszczystymi zakosami. Takie wybrzeża występują np. nad Morzem Czar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iordowe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wykształcają się wskutek zalania przez wody morskie U-kształtnych górskich dolin. Fiordy wcinają się głęboko w ląd tworząc sieć wąskich i krętych zatok. Typowym przykładem reprezentującym ten typ wybrzeża jest np. Norweg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kierow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ten typ wybrzeża tworzą liczne niewielkie wysepki rozsiane na styku lądu z morzem. Jest to wynik zalania terenu, na którym powszechne są formy polodowcowe. Takie wybrzeża występują np. w Szwe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ff"/>
                </a:solidFill>
                <a:latin typeface="Calibri"/>
              </a:rPr>
              <a:t>Odnajdź na mapie wymienione miejsca i przyjrzyj się uważnie linii brzegowej. Została ona ukształtowana poprzez działalność erozyjną mor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ziałalność akumul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 typ działalności przeważa wśród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ybrzeży niskich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ale uderzające o brzeg tracą swoją prędkość, a co za tym idzie także siłę, w wyniku tarcie o płytkie dno morskie. Dzięki temu materiał niesiony przez wody morskie osiada i wybrzeże jest „nadbudowywane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Symbol zastępczy tekstu 2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y wybrzeży niski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ierzej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tworzone jest wówczas, gdy fale morskie uderzają o ląd ukośnie. Niesiony przez wody morskie materiał akumuluje się  w postaci piaszczystego wału (tzw. mierzei) powoli odcinając przybrzeżny fragment wód od otwartego morza. Przykładem jest np. Mierzeja Wiślana w Pols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gunow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jest efektem nanoszenia piasku blisko brzegu, w wyniku czego powstają liczne wysepki odcinające płytkie zatoki (tzw. laguny) od otwartego morza. Ten typ wybrzeża występuje np. w Wene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7:04Z</dcterms:modified>
  <cp:revision>32</cp:revision>
  <dc:subject/>
  <dc:title>Slajd 1</dc:title>
</cp:coreProperties>
</file>