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DC1-C99D-4B08-9941-4294AE6E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B12-4629-43CA-912D-4D2B3E3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4B8-E4CF-4FB6-B499-EA98729E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68C-6876-4E7C-9E75-8663447A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BC3-3007-4112-A856-F887C82B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291C-2A7E-44F3-B686-33305614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3EB-41B4-4D3F-8FBD-5A5D734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9A7A-7CFC-48C8-9D6A-4BE40BAE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8B2-A882-436D-9996-9A13D4EA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71D2-2E73-4208-AD05-2CFF6201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FA9D-CEEC-4334-976A-E7B353F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4B6-E5EA-4748-8246-F258DD8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9255-C326-4857-9DC4-DF9D740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C38-65DA-4427-A629-0DFB2F1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24B3-D30E-4E60-8C55-4CAC3257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45E9-EDF7-41FD-940E-A2EC6CE1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461A-A061-4949-B883-6A9AC86D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55CC-C035-40B8-98DA-4E6C65BA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10C3-F6E0-462F-8E7A-99DCF956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80E9-6D9C-4E43-AB66-CDA59B6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5BC9-4682-4D11-A29B-7D523664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6BA7-F645-4953-B769-51BF12F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096-C53C-408F-82A9-1BBC15D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4934-AA4A-46C0-B13A-428E08AD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3DEF-1649-491E-BB39-8F9CF882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E587-4239-4B42-9BE2-1DAF5DE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0E82-F84E-458E-B679-853547DE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A4EA-35CC-4467-A163-C3B5543E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28DA-AFC8-4F60-9A95-68BEFB4B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9547-C120-4114-8F4E-904EC95F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E7D-2E66-4C5A-8C5E-5ADEC6B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8FB-8EF4-4942-AEBE-1E2D1B26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B76-24C4-458A-AF70-661D331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345-15EB-4B6B-8E67-0F8ABC7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F1D-EEF1-4CC7-8FD5-00A5C64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134-C869-4130-A7D7-983CBCD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136-9689-4A84-86E6-86871BB154D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F8CD-4141-40C7-81C3-422A86D63EC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7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EFB2-6B58-4157-BB27-E60E24C812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8544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szyny proste. Dźwignia jedno i dwustronna. Równia pochyła. Maszyny proste a zasada zachowania energii. Praca i moc. Stany przeciążenia i niedociąże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udowa i zastosowanie maszyn prostych: dźwignie, równia pochyła. Zasada zachowania energii. Definicja pracy i mocy. Pojęcie stanów przeciążenia i niedociąże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684360" y="620640"/>
          <a:ext cx="575604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57560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4572000" y="1700280"/>
            <a:ext cx="3889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 tarczy wagi sprężynowej zaznaczono położenie wskazówki (ciężar ciała) gdy winda pozostawała w spoczynku lub poruszała się rucham jednostajnym). Waga wskazuje wartość N (siły napięcia linki, na której zawieszono przedmiot o ciężarze mg). Wartość przyspieszenia windy oznaczono a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5280" y="1125360"/>
            <a:ext cx="82090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 niedociążenia - to stan, w którym wartości sił nacisku pomiędzy elementami danego układu, powstałe na skutek sił zewnętrznych działających na układ, są mniejsze od wartości sił ciężkości, jakie działają na elementy układu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 niedociąż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w windzie. Z sytuacją taką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&lt; m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 mamy do czynienia wówczas, gdy winda porusza się tak, że wektor jej przyspieszenia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 ma zwrot w dół i wartość z przedziału; 0&lt;a&lt;g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g - wartość przyspieszenia ziemskiego, m - masa ciała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 Przyspieszenie windy ma zwrot w dół gdy ta porusza się coraz szybciej w dół (rozpędza się) lub coraz wolniej w górę (hamuje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dy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= g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my do czynienia ze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em nieważkości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 = 0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324000" y="907920"/>
          <a:ext cx="5756040" cy="57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5756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"/>
          <p:cNvSpPr/>
          <p:nvPr/>
        </p:nvSpPr>
        <p:spPr>
          <a:xfrm>
            <a:off x="4788000" y="162864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 tarczy wagi sprężynowej zaznaczono położenie wskazówki (ciężar ciała) gdy winda pozostawała w spoczynku lub poruszała się rucham jednostajnym). Waga wskazuje wartość N (siły napięcia linki, na której zawieszono przedmiot o ciężarze mg). Wartość przyspieszenia windy oznaczono;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62064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oment siły  – M = rFsi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dzie: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 – odległość od osi obrotu (punktu odniesienia) do punktu zaczepienia siły (wartość wektora ramienia siły), F – wartość siły, α- kąt między wektorami r i F. Wektor momentu siły jest wektorem osiowym, zaczepiony jest w punkcie zaczepienia wektora r, a jego kierunek jest prostopadły do płaszczyzny wyznaczonej przez wektory r i F, a zwrot ustala się z reguły śruby prawoskrętnej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476360" y="2549520"/>
          <a:ext cx="6515280" cy="40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49520"/>
                    <a:ext cx="6515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692280"/>
            <a:ext cx="8299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źwignia jednostronna - maszyna prosta, stosowana do uzyskania działania większej siły w wyniku działania siły mniejszej. Dźwignia jednostronna to sztywna belka podparta na jednym z końców (osi przechodzącej przez jeden z jej końców). Zaznaczone odległośc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to tzw. ramiona sił o wartościach odpowiednio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1403280" y="213372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3372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692280"/>
            <a:ext cx="8136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źwignia dwustronna – maszyna prosta, stosowana do uzyskania działania większej siły w wyniku działania siły mniejszej. Dźwignia dwustronna to sztywna belka podparta w punkcie pomiędzy jej końcami  (osi obrotu przechodzącej przez belkę w punkcie pomiędzy jej końcami). Zaznaczone odległośc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to tzw. ramiona sił o wartościach odpowiednio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693800" y="171144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71144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1989000"/>
            <a:ext cx="8497800" cy="30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by dźwignia była w równowadze momenty sił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względem punktu podparcia muszą  mieć te same wartości ponieważ ich zwroty są przeciwn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68360" y="76500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ównia pochyła – maszyna prosta, stosowana (rysunek poniżej) do unoszenia ciężkich ciał za pomocą siły (o wartości F) mniejszej od wartości ich ciężaru (mg)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dzie: m - masa ciała, g - wartość przyspieszenie ziemskiego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403280" y="191628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250920" y="2060640"/>
            <a:ext cx="8497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trwający niecałe 6 min. film ilustrujący zastosowanie maszyn prostych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Żródło;  </a:t>
            </a:r>
            <a:r>
              <a:rPr b="0" lang="pl-PL" sz="1800" spc="-1" strike="noStrike">
                <a:solidFill>
                  <a:srgbClr val="4f81bd"/>
                </a:solidFill>
                <a:latin typeface="Arial"/>
                <a:ea typeface="Arial"/>
              </a:rPr>
              <a:t>http://www.youtube.com/watch?v=cvaUqc_Lyic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" name="Prezentacja - Fizyka - Maszyny Proste_(ALLConverter).wmv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128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68360" y="1052640"/>
            <a:ext cx="8207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y przeciążenia – to stan, w którym wartości sił nacisku pomiędzy elementami danego układu, powstałe na skutek sił zewnętrznych działających na układ, są większe od wartości sił ciężkości, jakie działają na elementy układu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stan przeciążenia w windzie. Z sytuacją taką ( N&gt; mg) mamy do czynienia wówczas, gdy winda porusza się tak, że wektor jej przyspieszenia (a) ma zwrot w górę (g - wartość przyspieszenia ziemskiego, m - masa ciała). Przyspieszenie windy ma zwrot w górę, gdy ta porusza się coraz szybciej w górę (rozpędza się) lub coraz wolniej w dół (hamuje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9:28:04Z</dcterms:modified>
  <cp:revision>93</cp:revision>
  <dc:subject/>
  <dc:title>KORPUSKULARNO-FALOWA NATURA ŚWIATŁA</dc:title>
</cp:coreProperties>
</file>