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C8C9-1787-4402-88DA-5FEB89519E9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8EE-60C6-4463-8A59-F244ACA2D5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24E8-B76C-45CC-8CB1-EED0FFB57D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B3F-9BD9-447D-BD71-5B063D3D79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F72-658D-4F9F-885E-A6B60C32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ED5-6E9B-403E-9012-CB49B6B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92F-FC18-4565-88AB-AC0444E1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03C-1E05-4FC2-B135-C88F9512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21E-6B35-40E3-9D9B-870D6C44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C86-7457-4531-B143-DE71DF1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AAED-86AB-493E-A6F5-A45B783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3C23-B759-453C-AA40-2227D624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FE53-9DC6-4B81-B978-397E584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75C7-836F-489A-A682-DD6D5D5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E58-6B35-4C40-907F-E3B0AC7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DE6-D30E-4A70-B7D1-B2C9B05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383D-07F3-4F20-B633-3E72021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F957-C534-43D0-9A66-A4F437F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785-4CF9-4C5E-BB11-7BCACDA8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D688-0110-43F7-B87A-B1995332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46C-1F43-4062-BF4E-321B1DC0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60C-C356-430A-943D-7F1AB94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310-8DCF-45B9-A8AF-E803FDF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557-3864-433A-9578-D8ACFCE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1EB-6AFB-4776-BDC2-51B5D994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84B-CE39-45FC-B325-BC98055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1D7-F08F-4133-A981-B21023B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482-D649-4588-A5E6-4D98CA7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4127-4BBD-4953-9B04-C8EF057D376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242-31B5-46E2-B131-BA6BF5DF4DB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zyszynka i melatonin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w cyklach okołodobowych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i okołoroczny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lszy rozwój badań nad melatoniną nastąpił w latach siedemdziesiątych, po wprowadzeniu odkrytej przez Rosalin Yellow, radioimmunologicznej metody oznaczania hormonów (RIA). Od tego czasu możliwe było mierzenie stężenia hormonu w krwi, w samej szyszynce i w tkankach organ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Symbol zastępczy zawartości 3" descr="szyszynka.jpg"/>
          <p:cNvPicPr/>
          <p:nvPr/>
        </p:nvPicPr>
        <p:blipFill>
          <a:blip r:embed="rId1"/>
          <a:srcRect l="52051" t="52471" r="0" b="0"/>
          <a:stretch/>
        </p:blipFill>
        <p:spPr>
          <a:xfrm>
            <a:off x="2124000" y="1700280"/>
            <a:ext cx="4464000" cy="334476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3"/>
          <p:cNvSpPr/>
          <p:nvPr/>
        </p:nvSpPr>
        <p:spPr>
          <a:xfrm>
            <a:off x="611280" y="5805360"/>
            <a:ext cx="82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s://encrypted-tbn0.gstatic.com/images?q=tbn:ANd9GcTobiIBVs8iZ9qnwuuu0qkB2sAFL5AvB-NCz9Ugl306gj0Ko1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– umiejscowienie grucz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https://encrypted-tbn0.gstatic.com/images?q=tbn:ANd9GcQJWBg9Sv2XH2zjrPjVY2fnFWZx0KNnl5_jDjqaYZFrFDkZTXPC"/>
          <p:cNvPicPr/>
          <p:nvPr/>
        </p:nvPicPr>
        <p:blipFill>
          <a:blip r:embed="rId1"/>
          <a:stretch/>
        </p:blipFill>
        <p:spPr>
          <a:xfrm>
            <a:off x="108000" y="1460520"/>
            <a:ext cx="5759280" cy="4776840"/>
          </a:xfrm>
          <a:prstGeom prst="rect">
            <a:avLst/>
          </a:prstGeom>
          <a:ln w="0">
            <a:noFill/>
          </a:ln>
        </p:spPr>
      </p:pic>
      <p:pic>
        <p:nvPicPr>
          <p:cNvPr id="126" name="Prostokąt 7" descr=""/>
          <p:cNvPicPr/>
          <p:nvPr/>
        </p:nvPicPr>
        <p:blipFill>
          <a:blip r:embed="rId2"/>
          <a:stretch/>
        </p:blipFill>
        <p:spPr>
          <a:xfrm>
            <a:off x="4322880" y="5638680"/>
            <a:ext cx="4613040" cy="8542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4"/>
          <p:cNvSpPr/>
          <p:nvPr/>
        </p:nvSpPr>
        <p:spPr>
          <a:xfrm>
            <a:off x="5517360" y="213372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u człowie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1280" y="157464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człowieka jest niewielkim gruczołem (ok. 170 mg), w części nadwzgórza, (międzymózgowie), objęta miękką oponą mózg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życiu płodowym rozwija się ze sklepienia międzymózgowia. Składa się z komórek PINEALOCYTÓW, oraz z komórek śródmiąż-szowych. Unerwiona adrenergicznie (zakończenia włókien współczulnych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u niższych kręgowców jest ważną, światłoczułą strukturą (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bezpośredni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bierającą bodźce świetl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ssaków </a:t>
            </a: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nie odbiera bezpośrednio bodźców świetl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ale bodziec świetlny osiąga szyszynkę drogą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2"/>
          <p:cNvSpPr/>
          <p:nvPr/>
        </p:nvSpPr>
        <p:spPr>
          <a:xfrm>
            <a:off x="539640" y="11970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ma długą drogę ewolucyjną, w czasie której ulega przekształceniu jej strukt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wszystkich kręgowców rozwój ontogenetyczny szyszynki zaczyna się od wytworzenia uwypuklenia stropu trzeciej komory mózgu (Korf i Oksche, 198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yszynce ryb i płazów, pośród komórek budujących narząd, występują typowe komórki fotoreceptorowe, których budowa morfologiczna zbliżona jest do komórek światłoczułych siatkówki oka. Zatem ich szyszynka BEZPOŚREDNIO odbiera bodźce świet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rocesie ewolucji gruczołu, typowe receptory obecne u zmiennocieplnych, zostały stopniowo zastępowane przez pinealocyty (bez światłoczułego segmentu zewnętrzneg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nealocyty występują u ssaków i nie mają już zdolności bezpośredniego odbierania bodźca świetlnego. Bodziec świetlny, odbierany fotoreceptorami (oczy) dociera do szyszynki ssaków droga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gar biologiczny ssa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2"/>
          <p:cNvSpPr/>
          <p:nvPr/>
        </p:nvSpPr>
        <p:spPr>
          <a:xfrm>
            <a:off x="468360" y="184464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ytm uwalniania melatoniny wyzwalany jest u ssakó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z zegar biologiczny (oscylator), który u tej gromady zlokalizowany jest w SCN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jądro nadskrzyżowaniowe podwzgórz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oga światła do szyszynki u ssaków przebiega zatem przez SCN, dalej PVN (jądro przykomorowe) oraz słupy boczne szyjne rdzenia (SCG) aż do szyszynki, (co przedstawia schematycznie kolejny slaj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zegary_w_mozgu"/>
          <p:cNvPicPr/>
          <p:nvPr/>
        </p:nvPicPr>
        <p:blipFill>
          <a:blip r:embed="rId1"/>
          <a:srcRect l="33419" t="55082" r="3036" b="1607"/>
          <a:stretch/>
        </p:blipFill>
        <p:spPr>
          <a:xfrm>
            <a:off x="539640" y="1557360"/>
            <a:ext cx="51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(drogą nerwową), otrzymuje zatem dwie informacj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ja o świetle               informacja o braku świat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rostokąt 3"/>
          <p:cNvSpPr/>
          <p:nvPr/>
        </p:nvSpPr>
        <p:spPr>
          <a:xfrm>
            <a:off x="539640" y="4221000"/>
            <a:ext cx="30243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ostokąt 4"/>
          <p:cNvSpPr/>
          <p:nvPr/>
        </p:nvSpPr>
        <p:spPr>
          <a:xfrm>
            <a:off x="5292720" y="4221000"/>
            <a:ext cx="2951280" cy="1584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55640" y="225252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swoją nieparzystość i centralną lokalizację w obrębie struktur mózgowych, od najdawniejszych czasów wzbudzała zainteresowanie 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ywano ją trzecim okiem boga Siwy. W Księdze Mądrości opisywana była jako siedlisko energii wital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to jeden z najwcześniej opisanych gruczołów dokrewnyc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Informacja - ciemnoś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204640"/>
            <a:ext cx="8353440" cy="4248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Główny hormon szyszynki – 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MELATONINA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, to cząsteczka, której budowa chemiczna nie uległa zmianie podczas ewolucj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Melatonina nazywana jest „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hormonem ciemności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”, gdyż jest związkiem, którego warunkowana światłem (brakiem światła) biosynteza, ma miejsce wyłącznie podczas fazy ciemnej cyklu dobow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rostokąt 5"/>
          <p:cNvSpPr/>
          <p:nvPr/>
        </p:nvSpPr>
        <p:spPr>
          <a:xfrm>
            <a:off x="4716360" y="260280"/>
            <a:ext cx="4103640" cy="6121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ynt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3"/>
          <p:cNvSpPr/>
          <p:nvPr/>
        </p:nvSpPr>
        <p:spPr>
          <a:xfrm>
            <a:off x="539640" y="260280"/>
            <a:ext cx="4176720" cy="612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szyszynka2"/>
          <p:cNvPicPr/>
          <p:nvPr/>
        </p:nvPicPr>
        <p:blipFill>
          <a:blip r:embed="rId1"/>
          <a:srcRect l="0" t="4471" r="1464" b="4211"/>
          <a:stretch/>
        </p:blipFill>
        <p:spPr>
          <a:xfrm>
            <a:off x="1258920" y="1413000"/>
            <a:ext cx="6541920" cy="403200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5008320" y="5661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i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i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611280" y="162864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styczny, przedstawiony na wykresie, (poprzedni slajd), nocny model uwalniania melatoniny, jest obecny u wszystkich kręgowców – bez względu na zajmowane stanowisko w systematyce świata zwierzęcego, jak i typ lokomotorycznej aktywności (dziennej lub nocne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2"/>
          <p:cNvSpPr/>
          <p:nvPr/>
        </p:nvSpPr>
        <p:spPr>
          <a:xfrm>
            <a:off x="539640" y="191628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gularne zmiany stężenia melatoniny w krw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e u wszystkich zwierząt, bez względu na rodzaj aktywności (nocnej, dziennej), zawsze podczas dnia jest niskie, a nocą wysokie,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ą chemicznym sygnałem wewnątrz organizmu o zmieniającym się fotoperiodz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611280" y="21337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uwalniana do krążenia (rytmicznie), osiąga każdą tkankę, gdyż charakteryzuje się ogromną łatwością penetracji komórki, a jej stężenie wewnątrzkomórkowe jest często większe, niż w płynach ustrojow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Karasek, 199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496080" y="5661000"/>
            <a:ext cx="76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arasek, M. (1996). Melatonina: znaczenie kliniczne i perspektywy zastosow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erapeutycznego. Folia Medica Lodziensia, 23: 145 – 1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2"/>
          <p:cNvSpPr/>
          <p:nvPr/>
        </p:nvSpPr>
        <p:spPr>
          <a:xfrm>
            <a:off x="468360" y="13413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kołodobowe zmiany tego chemicznego przekaźnika, jakim jest melatonina, synchronizują do zmieniającego się fotoperiodu różne funkcje organizmu, takie j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aboliz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moregul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porn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acja okołodobowych rytmów wielu hormon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zonowość w aktywności  zwierzą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539640" y="184464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nieważ okołodobowe i roczne zmiany fotoperiodu powtarzają się cyklicznie, są dla wielu gatunków sygnałem zewnętrznym, pozwalającym synchronizować procesy zachodzące w organizmie z warunkami otoc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zwala to zwierzętom na fizjologiczne dostosowanie się do snu zimowego, estywacji, przebiegu rui i w odpowiednim czasie – przyjścia na świat potomstwa, np. na wiosn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iana ekspozycji na świat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rostokąt 2"/>
          <p:cNvSpPr/>
          <p:nvPr/>
        </p:nvSpPr>
        <p:spPr>
          <a:xfrm>
            <a:off x="395280" y="155736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kspozycja danego osobnika na światło w nocy powoduje przesunięcia faz rytmu wydzielania melatoniny, nie wpływając jednocześnie na długość cyk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opień przesunięcia faz zależy przede wszystkim od czasu trwania bodźca świetlnego, a także od jego natężenia oraz wrażliwości tkankowej, gatunkowej i osobnicz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rostokąt 3"/>
          <p:cNvSpPr/>
          <p:nvPr/>
        </p:nvSpPr>
        <p:spPr>
          <a:xfrm>
            <a:off x="61128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academia.pan.pl/pdf/czas_str.%2024-27_nowak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y zegar biolog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cf.ltkcdn.net/sleep/images/std/120636-425x282-Manwithglobesleeping.jpg"/>
          <p:cNvPicPr/>
          <p:nvPr/>
        </p:nvPicPr>
        <p:blipFill>
          <a:blip r:embed="rId1"/>
          <a:stretch/>
        </p:blipFill>
        <p:spPr>
          <a:xfrm>
            <a:off x="539640" y="3164040"/>
            <a:ext cx="387360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s://encrypted-tbn0.gstatic.com/images?q=tbn:ANd9GcTdIAyCFasi1xN7HF-HbS_RMqTzW2xJcPlXHiDFGYH9JuMurAd-"/>
          <p:cNvPicPr/>
          <p:nvPr/>
        </p:nvPicPr>
        <p:blipFill>
          <a:blip r:embed="rId2"/>
          <a:stretch/>
        </p:blipFill>
        <p:spPr>
          <a:xfrm>
            <a:off x="7308720" y="3429000"/>
            <a:ext cx="1052640" cy="18162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4"/>
          <p:cNvSpPr/>
          <p:nvPr/>
        </p:nvSpPr>
        <p:spPr>
          <a:xfrm>
            <a:off x="611280" y="580536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ciencedaily.com/2010/11/101124171538-large.jpg</a:t>
            </a:r>
            <a:br>
              <a:rPr sz="1600"/>
            </a:b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mh.com.au/2011/03/23/2247803/art_Sleeping-Airport-420x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https://encrypted-tbn3.gstatic.com/images?q=tbn:ANd9GcS_IAglgvWWHyeJWNcYFru1wOVNr9b6FABaT8eqF3ZReD8kDS2a"/>
          <p:cNvPicPr/>
          <p:nvPr/>
        </p:nvPicPr>
        <p:blipFill>
          <a:blip r:embed="rId3"/>
          <a:stretch/>
        </p:blipFill>
        <p:spPr>
          <a:xfrm>
            <a:off x="4716360" y="3200400"/>
            <a:ext cx="2106720" cy="253044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68360" y="1341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burzenie to dotyczy zdrowych osób i jest wynikiem szybkich zmian stref czasowych, przy podróżowaniu samolotem. Również towarzyszy osobom, pracującym w systemie zmian (np. tydzień noc/drugi tydzień dzień i tak naprzemienn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bkie przemieszczanie się 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endogenne ryt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https://encrypted-tbn3.gstatic.com/images?q=tbn:ANd9GcSHZ3RXVbB1UJ-t8ez3bAiQ2u6b8UwXWrHvnzpavEBnTX_E3_lKdQ"/>
          <p:cNvPicPr/>
          <p:nvPr/>
        </p:nvPicPr>
        <p:blipFill>
          <a:blip r:embed="rId1"/>
          <a:stretch/>
        </p:blipFill>
        <p:spPr>
          <a:xfrm>
            <a:off x="1979640" y="2060640"/>
            <a:ext cx="4803840" cy="3024000"/>
          </a:xfrm>
          <a:prstGeom prst="rect">
            <a:avLst/>
          </a:prstGeom>
          <a:ln w="0">
            <a:noFill/>
          </a:ln>
        </p:spPr>
      </p:pic>
      <p:sp>
        <p:nvSpPr>
          <p:cNvPr id="172" name="Prostokąt 7"/>
          <p:cNvSpPr/>
          <p:nvPr/>
        </p:nvSpPr>
        <p:spPr>
          <a:xfrm>
            <a:off x="468360" y="56610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www.transamericaviajes.com/admin/imgnot/noticia_163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Starożytni anatomowie przypisywali jej wiele ról, miedzy innymi kontrolera elementów duchowych, przepływających przez komory móz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ne Descartes uważał, że przez szyszynkę przemawia ludzka du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t lag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dougbelshaw.com/blog/wp-content/uploads/2010/01/jet_lag.jpg"/>
          <p:cNvPicPr/>
          <p:nvPr/>
        </p:nvPicPr>
        <p:blipFill>
          <a:blip r:embed="rId1"/>
          <a:stretch/>
        </p:blipFill>
        <p:spPr>
          <a:xfrm>
            <a:off x="684360" y="1341360"/>
            <a:ext cx="5688000" cy="495612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6516720" y="5013360"/>
            <a:ext cx="24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44583"/>
                </a:solidFill>
                <a:latin typeface="Calibri"/>
              </a:rPr>
              <a:t>http://dougbelshaw.com/blog/wp-content/uploads/2010/01/jet_la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osynteza melatoniny (*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395280" y="1773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osynteza tej aminy indolowej rozpoczyna się   przemianą tryptofanu, aminokwasu pochodzącego z krwi, do 5 – hydroksytryptofa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stępnym etapem jest dekarboksylacja 5-hydroksytryptofanu  do serotoniny, w obecności enzymu (dekarboksylazy 5-hydroksytryptofanu)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ktywowana głównie dobowymi zmianami natężenia świat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www.phmd.pl/images/ryciny/20100119121735.jpg"/>
          <p:cNvPicPr/>
          <p:nvPr/>
        </p:nvPicPr>
        <p:blipFill>
          <a:blip r:embed="rId1"/>
          <a:srcRect l="0" t="0" r="0" b="62824"/>
          <a:stretch/>
        </p:blipFill>
        <p:spPr>
          <a:xfrm>
            <a:off x="324000" y="1413000"/>
            <a:ext cx="6769080" cy="4706640"/>
          </a:xfrm>
          <a:prstGeom prst="rect">
            <a:avLst/>
          </a:prstGeom>
          <a:ln w="0">
            <a:noFill/>
          </a:ln>
        </p:spPr>
      </p:pic>
      <p:sp>
        <p:nvSpPr>
          <p:cNvPr id="180" name="Prostokąt 4"/>
          <p:cNvSpPr/>
          <p:nvPr/>
        </p:nvSpPr>
        <p:spPr>
          <a:xfrm>
            <a:off x="1403280" y="1773360"/>
            <a:ext cx="1513080" cy="43164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Łącznik prosty 8"/>
          <p:cNvSpPr/>
          <p:nvPr/>
        </p:nvSpPr>
        <p:spPr>
          <a:xfrm flipV="1">
            <a:off x="2124000" y="1341000"/>
            <a:ext cx="0" cy="3589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załka w prawo 9"/>
          <p:cNvSpPr/>
          <p:nvPr/>
        </p:nvSpPr>
        <p:spPr>
          <a:xfrm>
            <a:off x="2124000" y="1341360"/>
            <a:ext cx="2879640" cy="71640"/>
          </a:xfrm>
          <a:prstGeom prst="rightArrow">
            <a:avLst>
              <a:gd name="adj1" fmla="val 50000"/>
              <a:gd name="adj2" fmla="val 49873"/>
            </a:avLst>
          </a:prstGeom>
          <a:solidFill>
            <a:srgbClr val="fe8637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10"/>
          <p:cNvSpPr/>
          <p:nvPr/>
        </p:nvSpPr>
        <p:spPr>
          <a:xfrm>
            <a:off x="5019120" y="1197000"/>
            <a:ext cx="37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pows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przekształc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zymatyczn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minokwasu tryptofa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www.phmd.pl/images/ryciny/20100119121735.jpg"/>
          <p:cNvPicPr/>
          <p:nvPr/>
        </p:nvPicPr>
        <p:blipFill>
          <a:blip r:embed="rId1"/>
          <a:srcRect l="0" t="22076" r="0" b="40748"/>
          <a:stretch/>
        </p:blipFill>
        <p:spPr>
          <a:xfrm>
            <a:off x="611280" y="1773360"/>
            <a:ext cx="579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phmd.pl/images/ryciny/20100119121735.jpg"/>
          <p:cNvPicPr/>
          <p:nvPr/>
        </p:nvPicPr>
        <p:blipFill>
          <a:blip r:embed="rId1"/>
          <a:srcRect l="0" t="44148" r="0" b="0"/>
          <a:stretch/>
        </p:blipFill>
        <p:spPr>
          <a:xfrm>
            <a:off x="684360" y="1341360"/>
            <a:ext cx="4824360" cy="504036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3"/>
          <p:cNvSpPr/>
          <p:nvPr/>
        </p:nvSpPr>
        <p:spPr>
          <a:xfrm>
            <a:off x="684360" y="5229360"/>
            <a:ext cx="4032000" cy="1224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zwa gruczołu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czego szyszyn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prowadzane sekcje mózgu (zwierząt i ludzi), wykonywane np. przez greckiego lekarza, Klaudiusza Galena (130 – 200 r. n.e.), dostarczały materiału, który po raz pierwszy był opisyw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000" y="1557360"/>
            <a:ext cx="8039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charakterystyczny w u niektórych kręgowców kształt, przypominający szyszkę sosnową, został ten gruczoł przez Galena nazwany szyszynką (ang. pine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5"/>
          <p:cNvSpPr/>
          <p:nvPr/>
        </p:nvSpPr>
        <p:spPr>
          <a:xfrm>
            <a:off x="553320" y="4508640"/>
            <a:ext cx="4571280" cy="825480"/>
          </a:xfrm>
          <a:prstGeom prst="rect">
            <a:avLst/>
          </a:prstGeom>
          <a:noFill/>
          <a:ln w="381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n maleńki gruczoł (szyszyn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ylko kształtem przypomina szyszk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załka w prawo 6"/>
          <p:cNvSpPr/>
          <p:nvPr/>
        </p:nvSpPr>
        <p:spPr>
          <a:xfrm>
            <a:off x="5292720" y="4797360"/>
            <a:ext cx="977760" cy="216000"/>
          </a:xfrm>
          <a:prstGeom prst="right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961100"/>
              </a:gs>
              <a:gs pos="100000">
                <a:srgbClr val="c91700"/>
              </a:gs>
            </a:gsLst>
            <a:lin ang="16200000"/>
          </a:gradFill>
          <a:ln w="9360">
            <a:solidFill>
              <a:srgbClr val="b3281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upa 7"/>
          <p:cNvGrpSpPr/>
          <p:nvPr/>
        </p:nvGrpSpPr>
        <p:grpSpPr>
          <a:xfrm>
            <a:off x="6443640" y="3970440"/>
            <a:ext cx="1763640" cy="1979640"/>
            <a:chOff x="6443640" y="3970440"/>
            <a:chExt cx="1763640" cy="1979640"/>
          </a:xfrm>
        </p:grpSpPr>
        <p:pic>
          <p:nvPicPr>
            <p:cNvPr id="106" name="Picture 4" descr="https://encrypted-tbn3.gstatic.com/images?q=tbn:ANd9GcQ93jS1RvTrbTnVwxJ0rCMdV8KQebvv4fBBvNOqZH7zDyUZRIoRDg"/>
            <p:cNvPicPr/>
            <p:nvPr/>
          </p:nvPicPr>
          <p:blipFill>
            <a:blip r:embed="rId1"/>
            <a:stretch/>
          </p:blipFill>
          <p:spPr>
            <a:xfrm>
              <a:off x="6443640" y="3970440"/>
              <a:ext cx="1763640" cy="1979640"/>
            </a:xfrm>
            <a:prstGeom prst="rect">
              <a:avLst/>
            </a:prstGeom>
            <a:ln w="57240">
              <a:solidFill>
                <a:srgbClr val="862110"/>
              </a:solidFill>
              <a:miter/>
            </a:ln>
          </p:spPr>
        </p:pic>
        <p:pic>
          <p:nvPicPr>
            <p:cNvPr id="107" name="Picture 6" descr="http://images42.fotosik.pl/765/9dc596d27e31fc83m.jpg"/>
            <p:cNvPicPr/>
            <p:nvPr/>
          </p:nvPicPr>
          <p:blipFill>
            <a:blip r:embed="rId2"/>
            <a:stretch/>
          </p:blipFill>
          <p:spPr>
            <a:xfrm>
              <a:off x="6444000" y="3970800"/>
              <a:ext cx="174312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szyszynka1"/>
          <p:cNvPicPr/>
          <p:nvPr/>
        </p:nvPicPr>
        <p:blipFill>
          <a:blip r:embed="rId1"/>
          <a:srcRect l="0" t="0" r="6028" b="2318"/>
          <a:stretch/>
        </p:blipFill>
        <p:spPr>
          <a:xfrm>
            <a:off x="468360" y="1969920"/>
            <a:ext cx="3325680" cy="41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4284720" y="2133720"/>
            <a:ext cx="44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ezjańskie „trzecie ok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ące z XVII wieku rysunki (Rene Descartes), pokazują dostrzeżoną przez filozofa zależność, między fotoreceptorami (oczy) a tajemniczą wówczas strukturą mózgu (szyszyn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250920" y="26028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przedstawio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kicem Kartezjusza (1596 – 165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4"/>
          <p:cNvSpPr/>
          <p:nvPr/>
        </p:nvSpPr>
        <p:spPr>
          <a:xfrm>
            <a:off x="971640" y="2565360"/>
            <a:ext cx="50472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rostokąt 5"/>
          <p:cNvSpPr/>
          <p:nvPr/>
        </p:nvSpPr>
        <p:spPr>
          <a:xfrm>
            <a:off x="395280" y="6165720"/>
            <a:ext cx="85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://archiwum.wiz.pl/images/duze/1996/09/96091901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e naukowe doniesieni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szyszy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2"/>
          <p:cNvSpPr/>
          <p:nvPr/>
        </p:nvSpPr>
        <p:spPr>
          <a:xfrm>
            <a:off x="684360" y="162864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erwszymi doniesieniami naukowymi o fizjologicznej roli szyszynki, były wnioski wyciągnięte z obserwacji klinicz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ano, że guz na szyszynce u dwóch młodych chłopców, spowodował przyspieszenie ich dojrzewania płciowego (Askanazy, 190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óźniejsze zabiegi pinealektomii (usunięcia operacyjnego szyszynki u szczurów), potwierdziły obserwacje klini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przełomie XIX/XX wieku powstała hipoteza o hamującym wpływie szyszynki na czynności gruczołów płciowych, która była jedynym doniesieniem naukowym o fizjologicznej roli tego narzą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łomowe odkrycie w badaniach nad szyszynk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"/>
          <p:cNvSpPr/>
          <p:nvPr/>
        </p:nvSpPr>
        <p:spPr>
          <a:xfrm>
            <a:off x="611280" y="1628640"/>
            <a:ext cx="82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kryciem tym było wyodrębnienie z niej substancji, która miała właściwości zmieniania zabarwienia skóry żaby (z ciemnego na jas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iązek ten został wyizolowany przez Lernera, w 1958 roku, odkrywca nazwał go – melatoniną, ze względu na działanie na komórki barwnikowe skóry (melanocy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Dawid Suder</cp:lastModifiedBy>
  <dcterms:modified xsi:type="dcterms:W3CDTF">2013-09-08T16:07:06Z</dcterms:modified>
  <cp:revision>107</cp:revision>
  <dc:subject/>
  <dc:title>Slajd 1</dc:title>
</cp:coreProperties>
</file>