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16E9-34BF-443A-8F10-806F479F700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971-2E3C-417B-858B-C2E1B6EF34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4D3A-8EA1-4F1A-A872-1612E8A84C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FDA-CB97-4475-891E-688662C2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786-A242-4FB4-B48A-58FA9EE0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AEE-BA8A-4195-9150-B9C698D5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BC0-C5D0-4207-B6CA-761A2041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082-2A0E-4885-B8BB-EF235E2F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FF8E-BB43-474C-9040-1BBE9667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D8C4-7D15-4320-ABFC-176CB11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C3E2-0F1B-453F-8849-BAA44E0A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ACD9-C565-40BD-BC46-D691AB82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B388-4005-4917-91E9-DECE147E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29DE-1408-4697-843F-E1BEEA86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EDE-2CFD-4F34-9F1B-56E416CB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3456-52DD-421C-B45A-89CF3E76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D9F5-462C-40ED-8CF6-8F684A7D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18CA-8A68-4714-8BAF-3D908A6E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2355-DF42-4C2D-B5A8-ED51687A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9862-BEE3-42B3-B83A-D6CDA418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109-B67D-464D-9E76-FE7E876B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E12-5FE8-49B7-8929-C7F68C93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ED1-3F58-4237-8946-7513F802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87C-4EF3-46DD-9BCB-87E9D05C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DFF-D005-4C0A-A201-755CA8E8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C94-1C33-4910-B646-46FE5C43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E9A-D279-411A-BFE1-71F9996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D406-D635-4FC9-AEA4-B7A5DE124F7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F65-E589-4A4C-901E-3FD7FB6AC6E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ole tekstowe 1" descr=""/>
          <p:cNvPicPr/>
          <p:nvPr/>
        </p:nvPicPr>
        <p:blipFill>
          <a:blip r:embed="rId1"/>
          <a:stretch/>
        </p:blipFill>
        <p:spPr>
          <a:xfrm>
            <a:off x="573120" y="2041560"/>
            <a:ext cx="8064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H:\KPW\20PO\Materiały\Duchenne-FacialExpressions Mix.png"/>
          <p:cNvPicPr/>
          <p:nvPr/>
        </p:nvPicPr>
        <p:blipFill>
          <a:blip r:embed="rId2"/>
          <a:stretch/>
        </p:blipFill>
        <p:spPr>
          <a:xfrm>
            <a:off x="971640" y="3284640"/>
            <a:ext cx="7143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ymbol zastępczy zawartości 2"/>
          <p:cNvSpPr/>
          <p:nvPr/>
        </p:nvSpPr>
        <p:spPr>
          <a:xfrm>
            <a:off x="1042920" y="2349360"/>
            <a:ext cx="6983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dzaje mięśni mimicznych twa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erwienie mięśni mimicznych twa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oksyny a mięśnie mimi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ytuł 1"/>
          <p:cNvSpPr/>
          <p:nvPr/>
        </p:nvSpPr>
        <p:spPr>
          <a:xfrm>
            <a:off x="539640" y="1052640"/>
            <a:ext cx="8218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ymbol zastępczy zawartości 2"/>
          <p:cNvSpPr/>
          <p:nvPr/>
        </p:nvSpPr>
        <p:spPr>
          <a:xfrm>
            <a:off x="3564000" y="1700280"/>
            <a:ext cx="5256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śnie mimiczne twarzy odpowiedzialne są za ruch skóry twarz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z z narządem mowy odgrywają znaczącą rolę w ekspresji emocji takich, jak śmiech, płacz czy zdziwie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adto wykonują czynności takie jak: mruganie, ruchy policzków podczas przyjmowania jedzenia, kształtowanie kęsów czy gwizda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ytuł 1"/>
          <p:cNvSpPr/>
          <p:nvPr/>
        </p:nvSpPr>
        <p:spPr>
          <a:xfrm>
            <a:off x="45720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H:\KPW\20PO\Materiały\Mięśnie twarzy.png"/>
          <p:cNvPicPr/>
          <p:nvPr/>
        </p:nvPicPr>
        <p:blipFill>
          <a:blip r:embed="rId1"/>
          <a:stretch/>
        </p:blipFill>
        <p:spPr>
          <a:xfrm>
            <a:off x="-396720" y="1844640"/>
            <a:ext cx="46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ymbol zastępczy zawartości 2"/>
          <p:cNvSpPr/>
          <p:nvPr/>
        </p:nvSpPr>
        <p:spPr>
          <a:xfrm>
            <a:off x="3564000" y="1628640"/>
            <a:ext cx="5256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dza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sklepienia czasz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otoczenia szpary pow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otoczenia szpary 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otoczenia nozd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małżowiny us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ytuł 1"/>
          <p:cNvSpPr/>
          <p:nvPr/>
        </p:nvSpPr>
        <p:spPr>
          <a:xfrm>
            <a:off x="45720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:\KPW\20PO\Materiały\Mięśnie twarzy.png"/>
          <p:cNvPicPr/>
          <p:nvPr/>
        </p:nvPicPr>
        <p:blipFill>
          <a:blip r:embed="rId1"/>
          <a:stretch/>
        </p:blipFill>
        <p:spPr>
          <a:xfrm>
            <a:off x="-396720" y="1844640"/>
            <a:ext cx="463860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:\KPW\20PO\Materiały\M Sklepienia czaszki.png"/>
          <p:cNvPicPr/>
          <p:nvPr/>
        </p:nvPicPr>
        <p:blipFill>
          <a:blip r:embed="rId2"/>
          <a:stretch/>
        </p:blipFill>
        <p:spPr>
          <a:xfrm>
            <a:off x="-396720" y="1836720"/>
            <a:ext cx="4608360" cy="3433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:\KPW\20PO\Materiały\M Szpary powiek.png"/>
          <p:cNvPicPr/>
          <p:nvPr/>
        </p:nvPicPr>
        <p:blipFill>
          <a:blip r:embed="rId3"/>
          <a:stretch/>
        </p:blipFill>
        <p:spPr>
          <a:xfrm>
            <a:off x="-396720" y="1857240"/>
            <a:ext cx="4608360" cy="343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:\KPW\20PO\Materiały\M otoczenia szpary ust.png"/>
          <p:cNvPicPr/>
          <p:nvPr/>
        </p:nvPicPr>
        <p:blipFill>
          <a:blip r:embed="rId4"/>
          <a:stretch/>
        </p:blipFill>
        <p:spPr>
          <a:xfrm>
            <a:off x="-387360" y="1857240"/>
            <a:ext cx="4608360" cy="343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:\KPW\20PO\Materiały\M otoczenia nozdrzy.png"/>
          <p:cNvPicPr/>
          <p:nvPr/>
        </p:nvPicPr>
        <p:blipFill>
          <a:blip r:embed="rId5"/>
          <a:stretch/>
        </p:blipFill>
        <p:spPr>
          <a:xfrm>
            <a:off x="-374760" y="1851120"/>
            <a:ext cx="4608720" cy="343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:\KPW\20PO\Materiały\M Małżowiny usznej.png"/>
          <p:cNvPicPr/>
          <p:nvPr/>
        </p:nvPicPr>
        <p:blipFill>
          <a:blip r:embed="rId6"/>
          <a:stretch/>
        </p:blipFill>
        <p:spPr>
          <a:xfrm>
            <a:off x="-396720" y="1849320"/>
            <a:ext cx="46083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indefinite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ymbol zastępczy zawartości 2"/>
          <p:cNvSpPr/>
          <p:nvPr/>
        </p:nvSpPr>
        <p:spPr>
          <a:xfrm>
            <a:off x="3564000" y="1700280"/>
            <a:ext cx="5256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erw sterujący mięśniami mimicznymi twarzy nazywa się nerwem twarz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różnych chorób lub urazów, może dojść do porażenia nerwu twarz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jawem porażenia nerwu jest bezwład wybranej partii mięśni twarz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ytuł 1"/>
          <p:cNvSpPr/>
          <p:nvPr/>
        </p:nvSpPr>
        <p:spPr>
          <a:xfrm>
            <a:off x="45720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File:Cranial nerve VII.svg"/>
          <p:cNvPicPr/>
          <p:nvPr/>
        </p:nvPicPr>
        <p:blipFill>
          <a:blip r:embed="rId1"/>
          <a:stretch/>
        </p:blipFill>
        <p:spPr>
          <a:xfrm>
            <a:off x="250920" y="1844640"/>
            <a:ext cx="2927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zawartości 2"/>
          <p:cNvSpPr/>
          <p:nvPr/>
        </p:nvSpPr>
        <p:spPr>
          <a:xfrm>
            <a:off x="900000" y="2901960"/>
            <a:ext cx="74883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oksyna botulinowa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lub inaczej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jad kiełbasia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 jest neurotoksyną i jedną z najbardziej trujących toksy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produkowana przez beztlenowe bakteri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lostridium botulinu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i może naturalnie występować w niewłaściwie przechowywanej żywn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trucie nią prowadzi do porażenia różnych grup mięśni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 w konsekwencji może doprowadzić do śmier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ytuł 1"/>
          <p:cNvSpPr/>
          <p:nvPr/>
        </p:nvSpPr>
        <p:spPr>
          <a:xfrm>
            <a:off x="46836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D:\KPW\20PO\Materiały\toxic.png"/>
          <p:cNvPicPr/>
          <p:nvPr/>
        </p:nvPicPr>
        <p:blipFill>
          <a:blip r:embed="rId1"/>
          <a:stretch/>
        </p:blipFill>
        <p:spPr>
          <a:xfrm>
            <a:off x="3691080" y="1197000"/>
            <a:ext cx="13856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KPW\20PO\Materiały\green-drugs-biohazard-chemical-poison-syringe-HD-Wallpapers.jpg"/>
          <p:cNvPicPr/>
          <p:nvPr/>
        </p:nvPicPr>
        <p:blipFill>
          <a:blip r:embed="rId1"/>
          <a:srcRect l="0" t="17181" r="5382" b="29992"/>
          <a:stretch/>
        </p:blipFill>
        <p:spPr>
          <a:xfrm>
            <a:off x="0" y="1341360"/>
            <a:ext cx="4716360" cy="1481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KPW\20PO\Materiały\botox.gif"/>
          <p:cNvPicPr/>
          <p:nvPr/>
        </p:nvPicPr>
        <p:blipFill>
          <a:blip r:embed="rId2"/>
          <a:stretch/>
        </p:blipFill>
        <p:spPr>
          <a:xfrm>
            <a:off x="6630840" y="4437000"/>
            <a:ext cx="1254240" cy="16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D:\KPW\20PO\Materiały\Dysport.jpg"/>
          <p:cNvPicPr/>
          <p:nvPr/>
        </p:nvPicPr>
        <p:blipFill>
          <a:blip r:embed="rId3"/>
          <a:stretch/>
        </p:blipFill>
        <p:spPr>
          <a:xfrm>
            <a:off x="7740720" y="4438800"/>
            <a:ext cx="647640" cy="1590480"/>
          </a:xfrm>
          <a:prstGeom prst="rect">
            <a:avLst/>
          </a:prstGeom>
          <a:ln w="0">
            <a:noFill/>
          </a:ln>
        </p:spPr>
      </p:pic>
      <p:sp>
        <p:nvSpPr>
          <p:cNvPr id="119" name="Symbol zastępczy zawartości 2"/>
          <p:cNvSpPr/>
          <p:nvPr/>
        </p:nvSpPr>
        <p:spPr>
          <a:xfrm>
            <a:off x="468360" y="2924280"/>
            <a:ext cx="678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kładowe zastosowanie toksyny botulinow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czenie kurczów mięś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czenie ze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czenie nadmiernego łzawienia lub poc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medycynie estety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ałanie toksyny botulinowej ma charakter  tymczasowy (ok. 3 - 6 miesię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ytuł 1"/>
          <p:cNvSpPr/>
          <p:nvPr/>
        </p:nvSpPr>
        <p:spPr>
          <a:xfrm>
            <a:off x="468360" y="260280"/>
            <a:ext cx="8218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osow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zawartości 2"/>
          <p:cNvSpPr/>
          <p:nvPr/>
        </p:nvSpPr>
        <p:spPr>
          <a:xfrm>
            <a:off x="2268360" y="1700280"/>
            <a:ext cx="5616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rażenie nerwu twarz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ksyna botulin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d kiełbas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H:\KPW\20PO\Materiały\Funny man.png"/>
          <p:cNvPicPr/>
          <p:nvPr/>
        </p:nvPicPr>
        <p:blipFill>
          <a:blip r:embed="rId1"/>
          <a:stretch/>
        </p:blipFill>
        <p:spPr>
          <a:xfrm>
            <a:off x="539640" y="2206800"/>
            <a:ext cx="280836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zawartości 2"/>
          <p:cNvSpPr/>
          <p:nvPr/>
        </p:nvSpPr>
        <p:spPr>
          <a:xfrm>
            <a:off x="428760" y="1305000"/>
            <a:ext cx="8218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atomia człowieka”, Tom I,  A, Bochenek, M. Reicher, Państwowy Zakład Wydawnictw Lekarskich, Warszawa 1989, Wydanie X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écanisme de la Physionomie Humai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”, Guillaume Duchenne,  Cambrige University Press, 19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 Lekarza Okulisty”, Wydawnictwo BiOS, Numer (2)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nerwtwarzowy.republika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s://commons.wikimedia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AiG</cp:lastModifiedBy>
  <dcterms:modified xsi:type="dcterms:W3CDTF">2013-08-17T15:23:06Z</dcterms:modified>
  <cp:revision>138</cp:revision>
  <dc:subject>szablon prezentacji KPW</dc:subject>
  <dc:title>Zrównoważony rozwój</dc:title>
</cp:coreProperties>
</file>