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E39-DB80-4DCB-B402-7413B525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320-803F-4DA6-B3AC-A72CA188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1AA-02AB-4888-B6D3-A69C26A9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741-CEA8-4D27-AB01-327D10D5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1D69-0EE6-4804-9FBD-718BF1CC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95EE-E719-4D6D-8A83-CD70F33C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C6F9-73EB-4603-AAFE-5F1576E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D09E-AE8B-4DE7-87BB-2483E867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90BC-B2DA-4B5B-BF0A-0C4BBC1B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E1C0-8692-41AD-BD32-F4F0CB37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4255-B221-472E-B393-50348F2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2FC-D7E7-4888-A0EC-16CA5C52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11CA-285B-4036-A690-68434A9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7FD5-18A3-40A0-8663-543AE8E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B156-C931-4D8E-9C8A-CD682837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46D6-CE44-400C-A69F-B423107D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90C2-502A-4AB5-A6FB-EFD5B1AC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A936-80E4-4DF6-87AF-D81944FC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6DCF-11A4-4200-8642-C9F97DDD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29E9-209C-4238-97D9-B14A2FBF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16D0-114C-41FC-BB53-F85A5B4A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72C0-7872-46AA-AA66-7889B583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B3C-E581-4EE8-A9BA-0ED77F2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DFD4-63C9-41B5-9C0F-4014D1DA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E26E-14AD-46A8-8BAD-48AA60C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A88A-C122-4F9A-BDCB-E8C1B625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AF03-64B8-47B6-B20B-4E340956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2AEA-3218-4644-9CBE-CBD19672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C543B-D6E1-47DD-A83C-64D66F7B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5144-F67A-4DFD-8E5E-E7F11F19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F80-6C15-4146-B269-06FA7C08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1DA-832E-42C6-955E-CCB55F87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D8B-9C18-4FF7-ABE1-1DCCE1A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920-CF9A-4202-AB84-2D1E388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DB7-2D7B-4C4E-BC13-DFF91D6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EEF-05F8-4F53-8297-34BEE05F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D6B1-51B7-4177-8F1E-699A8C12BC6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1E95-7C95-411B-B859-57C1E998700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87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80C6-BE2F-4E34-A6CD-F41A6E5F93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785440" cy="32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aszyny proste. Dźwignia jedno i dwustronna. Równia pochyła. Maszyny proste a zasada zachowania energii. Praca i moc. Stany przeciążenia i niedociąże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udowa i zastosowanie maszyn prostych: dźwignie, równia pochyła. Zasada zachowania energii. Definicja pracy i mocy. Pojęcie stanów przeciążenia i niedociąże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684360" y="620640"/>
          <a:ext cx="575604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20640"/>
                    <a:ext cx="575604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4"/>
          <p:cNvSpPr/>
          <p:nvPr/>
        </p:nvSpPr>
        <p:spPr>
          <a:xfrm>
            <a:off x="4572000" y="1700280"/>
            <a:ext cx="3889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 tarczy wagi sprężynowej zaznaczono położenie wskazówki (ciężar ciała) gdy winda pozostawała w spoczynku lub poruszała się rucham jednostajnym). Waga wskazuje wartość N (siły napięcia linki, na której zawieszono przedmiot o ciężarze mg). Wartość przyspieszenia windy oznaczono a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95280" y="1125360"/>
            <a:ext cx="82090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n niedociążenia - to stan, w którym wartości sił nacisku pomiędzy elementami danego układu, powstałe na skutek sił zewnętrznych działających na układ, są mniejsze od wartości sił ciężkości, jakie działają na elementy układu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stępny slajd przedstawi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n niedociąże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w windzie. Z sytuacją taką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&lt; mg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) mamy do czynienia wówczas, gdy winda porusza się tak, że wektor jej przyspieszenia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) ma zwrot w dół i wartość z przedziału; 0&lt;a&lt;g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g - wartość przyspieszenia ziemskiego, m - masa ciała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 Przyspieszenie windy ma zwrot w dół gdy ta porusza się coraz szybciej w dół (rozpędza się) lub coraz wolniej w górę (hamuje)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dy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= g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my do czynienia ze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em nieważkości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 = 0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324000" y="907920"/>
          <a:ext cx="5756040" cy="572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5756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"/>
          <p:cNvSpPr/>
          <p:nvPr/>
        </p:nvSpPr>
        <p:spPr>
          <a:xfrm>
            <a:off x="4788000" y="162864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 tarczy wagi sprężynowej zaznaczono położenie wskazówki (ciężar ciała) gdy winda pozostawała w spoczynku lub poruszała się rucham jednostajnym). Waga wskazuje wartość N (siły napięcia linki, na której zawieszono przedmiot o ciężarze mg). Wartość przyspieszenia windy oznaczono;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84360" y="620640"/>
            <a:ext cx="81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oment siły  – M = rFsi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dzie: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 – odległość od osi obrotu (punktu odniesienia) do punktu zaczepienia siły (wartość wektora ramienia siły), F – wartość siły, α- kąt między wektorami r i F. Wektor momentu siły jest wektorem osiowym, zaczepiony jest w punkcie zaczepienia wektora r, a jego kierunek jest prostopadły do płaszczyzny wyznaczonej przez wektory r i F, a zwrot ustala się z reguły śruby prawoskrętnej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1476360" y="2549520"/>
          <a:ext cx="6515280" cy="40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49520"/>
                    <a:ext cx="6515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692280"/>
            <a:ext cx="82994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źwignia jednostronna - maszyna prosta, stosowana do uzyskania działania większej siły w wyniku działania siły mniejszej. Dźwignia jednostronna to sztywna belka podparta na jednym z końców (osi przechodzącej przez jeden z jej końców). Zaznaczone odległośc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to tzw. ramiona sił o wartościach odpowiednio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1403280" y="213372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3372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9640" y="692280"/>
            <a:ext cx="81360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źwignia dwustronna – maszyna prosta, stosowana do uzyskania działania większej siły w wyniku działania siły mniejszej. Dźwignia dwustronna to sztywna belka podparta w punkcie pomiędzy jej końcami  (osi obrotu przechodzącej przez belkę w punkcie pomiędzy jej końcami). Zaznaczone odległośc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r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to tzw. ramiona sił o wartościach odpowiednio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i F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693800" y="171144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171144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1989000"/>
            <a:ext cx="8497800" cy="30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by dźwignia była w równowadze momenty sił 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i 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względem punktu podparcia muszą  mieć te same wartości ponieważ ich zwroty są przeciwn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= F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68360" y="765000"/>
            <a:ext cx="828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ównia pochyła – maszyna prosta, stosowana (rysunek poniżej) do unoszenia ciężkich ciał za pomocą siły (o wartości F) mniejszej od wartości ich ciężaru (mg)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gdzie: m - masa ciała, g - wartość przyspieszenie ziemskiego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403280" y="191628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1628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250920" y="2060640"/>
            <a:ext cx="84978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stępny slajd przedstawia trwający niecałe 6 min. film ilustrujący zastosowanie maszyn prostych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Żródło;  </a:t>
            </a:r>
            <a:r>
              <a:rPr b="0" lang="pl-PL" sz="1800" spc="-1" strike="noStrike">
                <a:solidFill>
                  <a:srgbClr val="4f81bd"/>
                </a:solidFill>
                <a:latin typeface="Arial"/>
                <a:ea typeface="Arial"/>
              </a:rPr>
              <a:t>http://www.youtube.com/watch?v=cvaUqc_Lyic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7" name="Prezentacja - Fizyka - Maszyny Proste_(ALLConverter).wmv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128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68360" y="1052640"/>
            <a:ext cx="8207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tany przeciążenia – to stan, w którym wartości sił nacisku pomiędzy elementami danego układu, powstałe na skutek sił zewnętrznych działających na układ, są większe od wartości sił ciężkości, jakie działają na elementy układu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astępny slajd przedstawia stan przeciążenia w windzie. Z sytuacją taką ( N&gt; mg) mamy do czynienia wówczas, gdy winda porusza się tak, że wektor jej przyspieszenia (a) ma zwrot w górę (g - wartość przyspieszenia ziemskiego, m - masa ciała). Przyspieszenie windy ma zwrot w górę, gdy ta porusza się coraz szybciej w górę (rozpędza się) lub coraz wolniej w dół (hamuje)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gnieszka</cp:lastModifiedBy>
  <dcterms:modified xsi:type="dcterms:W3CDTF">2013-09-17T19:28:04Z</dcterms:modified>
  <cp:revision>93</cp:revision>
  <dc:subject/>
  <dc:title>KORPUSKULARNO-FALOWA NATURA ŚWIATŁA</dc:title>
</cp:coreProperties>
</file>