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6E60-6C91-436E-B49D-3D94A4F06AC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621B-770B-4E76-8A2C-EC67822B811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C786-7F7D-4B09-A5DD-C6F53966CE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CD2C-52A7-4499-ACD9-9B6163409C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147-2E2B-4226-B082-952FABCC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B91-3F73-49AF-910F-A41D81F2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81B-488C-4F3A-AFB6-164AC1A0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81D-05C5-4DAB-B457-E427B60D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6739-5ECB-4CF6-AE21-D6D80955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47E0-2FC2-4183-A58A-5550F3C5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D258-6A3E-458A-A09D-637E2E2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69E3-09E3-49A8-86E0-670B2AEA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B0C6-68C0-43AA-BA3E-47E034B4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FB5E-4B77-4BC8-8945-A58FD1FA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884D-8951-49D6-B76C-F48EC94D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D6E-1EEA-47A5-A3AF-180AE9E6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8643-64CE-4E19-8487-9210EE50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0C62-1DD7-4900-82FF-40057647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5C87-E463-4A6D-A8E0-06A668C1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7CAA-C0B4-4EEC-B919-3BB599CA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6C53-B82C-45EB-861C-CE22D8E9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6B2-A336-407C-A4D4-5168BD30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39D-B3E3-4D85-84C3-4D3D9184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5B6-B3A0-4B1E-86C4-7F703738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CC3-BEB9-4EF6-BC0D-1A91FE71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1F1-4150-4CEE-8168-6919A9E0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B56-4189-407B-89A8-7E1AF55A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15F-135A-4178-B13F-2CC519EF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8F08-6E92-4418-A887-F8EDD213679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1437-7346-4FE2-A02C-10D90B23B4B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95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Szyszynka i melatonina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 w cyklach okołodobowych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 i okołorocznych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87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Elżbieta Ćwio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alszy rozwój badań nad melatoniną nastąpił w latach siedemdziesiątych, po wprowadzeniu odkrytej przez Rosalin Yellow, radioimmunologicznej metody oznaczania hormonów (RIA). Od tego czasu możliwe było mierzenie stężenia hormonu w krwi, w samej szyszynce i w tkankach organizm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Symbol zastępczy zawartości 3" descr="szyszynka.jpg"/>
          <p:cNvPicPr/>
          <p:nvPr/>
        </p:nvPicPr>
        <p:blipFill>
          <a:blip r:embed="rId1"/>
          <a:srcRect l="52051" t="52471" r="0" b="0"/>
          <a:stretch/>
        </p:blipFill>
        <p:spPr>
          <a:xfrm>
            <a:off x="2124000" y="1700280"/>
            <a:ext cx="4464000" cy="3344760"/>
          </a:xfrm>
          <a:prstGeom prst="rect">
            <a:avLst/>
          </a:prstGeom>
          <a:ln w="0">
            <a:noFill/>
          </a:ln>
        </p:spPr>
      </p:pic>
      <p:sp>
        <p:nvSpPr>
          <p:cNvPr id="123" name="Prostokąt 3"/>
          <p:cNvSpPr/>
          <p:nvPr/>
        </p:nvSpPr>
        <p:spPr>
          <a:xfrm>
            <a:off x="611280" y="5805360"/>
            <a:ext cx="82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https://encrypted-tbn0.gstatic.com/images?q=tbn:ANd9GcTobiIBVs8iZ9qnwuuu0qkB2sAFL5AvB-NCz9Ugl306gj0Ko1B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– umiejscowienie gruczoł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https://encrypted-tbn0.gstatic.com/images?q=tbn:ANd9GcQJWBg9Sv2XH2zjrPjVY2fnFWZx0KNnl5_jDjqaYZFrFDkZTXPC"/>
          <p:cNvPicPr/>
          <p:nvPr/>
        </p:nvPicPr>
        <p:blipFill>
          <a:blip r:embed="rId1"/>
          <a:stretch/>
        </p:blipFill>
        <p:spPr>
          <a:xfrm>
            <a:off x="108000" y="1460520"/>
            <a:ext cx="5759280" cy="4776840"/>
          </a:xfrm>
          <a:prstGeom prst="rect">
            <a:avLst/>
          </a:prstGeom>
          <a:ln w="0">
            <a:noFill/>
          </a:ln>
        </p:spPr>
      </p:pic>
      <p:pic>
        <p:nvPicPr>
          <p:cNvPr id="126" name="Prostokąt 7" descr=""/>
          <p:cNvPicPr/>
          <p:nvPr/>
        </p:nvPicPr>
        <p:blipFill>
          <a:blip r:embed="rId2"/>
          <a:stretch/>
        </p:blipFill>
        <p:spPr>
          <a:xfrm>
            <a:off x="4322880" y="5638680"/>
            <a:ext cx="4613040" cy="85428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4"/>
          <p:cNvSpPr/>
          <p:nvPr/>
        </p:nvSpPr>
        <p:spPr>
          <a:xfrm>
            <a:off x="5517360" y="2133720"/>
            <a:ext cx="15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u człowie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11280" y="157464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 człowieka jest niewielkim gruczołem (ok. 170 mg), w części nadwzgórza, (międzymózgowie), objęta miękką oponą mózg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życiu płodowym rozwija się ze sklepienia międzymózgowia. Składa się z komórek PINEALOCYTÓW, oraz z komórek śródmiąż-szowych. Unerwiona adrenergicznie (zakończenia włókien współczulnych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 u niższych kręgowców jest ważną, światłoczułą strukturą (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bezpośrednio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odbierającą bodźce świetl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 ssaków </a:t>
            </a: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nie odbiera bezpośrednio bodźców świetln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ale bodziec świetlny osiąga szyszynkę drogą nerwow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w filogene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2"/>
          <p:cNvSpPr/>
          <p:nvPr/>
        </p:nvSpPr>
        <p:spPr>
          <a:xfrm>
            <a:off x="539640" y="119700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 ma długą drogę ewolucyjną, w czasie której ulega przekształceniu jej struktu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 wszystkich kręgowców rozwój ontogenetyczny szyszynki zaczyna się od wytworzenia uwypuklenia stropu trzeciej komory mózgu (Korf i Oksche, 198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zyszynce ryb i płazów, pośród komórek budujących narząd, występują typowe komórki fotoreceptorowe, których budowa morfologiczna zbliżona jest do komórek światłoczułych siatkówki oka. Zatem ich szyszynka BEZPOŚREDNIO odbiera bodźce świetl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w filogene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rocesie ewolucji gruczołu, typowe receptory obecne u zmiennocieplnych, zostały stopniowo zastępowane przez pinealocyty (bez światłoczułego segmentu zewnętrzneg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inealocyty występują u ssaków i nie mają już zdolności bezpośredniego odbierania bodźca świetlnego. Bodziec świetlny, odbierany fotoreceptorami (oczy) dociera do szyszynki ssaków droga nerwow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egar biologiczny ssa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2"/>
          <p:cNvSpPr/>
          <p:nvPr/>
        </p:nvSpPr>
        <p:spPr>
          <a:xfrm>
            <a:off x="468360" y="1844640"/>
            <a:ext cx="820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ytm uwalniania melatoniny wyzwalany jest u ssaków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z zegar biologiczny (oscylator), który u tej gromady zlokalizowany jest w SCN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jądro nadskrzyżowaniowe podwzgórz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oga światła do szyszynki u ssaków przebiega zatem przez SCN, dalej PVN (jądro przykomorowe) oraz słupy boczne szyjne rdzenia (SCG) aż do szyszynki, (co przedstawia schematycznie kolejny slaj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światła do szyszynki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 ssaków (pośrednia – nerwo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zegary_w_mozgu"/>
          <p:cNvPicPr/>
          <p:nvPr/>
        </p:nvPicPr>
        <p:blipFill>
          <a:blip r:embed="rId1"/>
          <a:srcRect l="33419" t="55082" r="3036" b="1607"/>
          <a:stretch/>
        </p:blipFill>
        <p:spPr>
          <a:xfrm>
            <a:off x="539640" y="1557360"/>
            <a:ext cx="518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światła do szyszynki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 ssaków (pośrednia – nerwow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yszynka (drogą nerwową), otrzymuje zatem dwie informacj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formacja o świetle               informacja o braku świat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rostokąt 3"/>
          <p:cNvSpPr/>
          <p:nvPr/>
        </p:nvSpPr>
        <p:spPr>
          <a:xfrm>
            <a:off x="539640" y="4221000"/>
            <a:ext cx="302436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rostokąt 4"/>
          <p:cNvSpPr/>
          <p:nvPr/>
        </p:nvSpPr>
        <p:spPr>
          <a:xfrm>
            <a:off x="5292720" y="4221000"/>
            <a:ext cx="2951280" cy="1584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</a:rPr>
              <a:t>d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755640" y="2252520"/>
            <a:ext cx="748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e względu na swoją nieparzystość i centralną lokalizację w obrębie struktur mózgowych, od najdawniejszych czasów wzbudzała zainteresowanie  człowie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zywano ją trzecim okiem boga Siwy. W Księdze Mądrości opisywana była jako siedlisko energii wital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to jeden z najwcześniej opisanych gruczołów dokrewnych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53440" cy="20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Informacja - ciemnoś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2204640"/>
            <a:ext cx="8353440" cy="4248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Główny hormon szyszynki – </a:t>
            </a: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MELATONINA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, to cząsteczka, której budowa chemiczna nie uległa zmianie podczas ewolucj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Melatonina nazywana jest „</a:t>
            </a:r>
            <a:r>
              <a:rPr b="1" lang="pl-PL" sz="2800" spc="-1" strike="noStrike">
                <a:solidFill>
                  <a:srgbClr val="ffffff"/>
                </a:solidFill>
                <a:latin typeface="Calibri"/>
              </a:rPr>
              <a:t>hormonem ciemności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”, gdyż jest związkiem, którego warunkowana światłem (brakiem światła) biosynteza, ma miejsce wyłącznie podczas fazy ciemnej cyklu dobow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rostokąt 5"/>
          <p:cNvSpPr/>
          <p:nvPr/>
        </p:nvSpPr>
        <p:spPr>
          <a:xfrm>
            <a:off x="4716360" y="260280"/>
            <a:ext cx="4103640" cy="6121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synt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3"/>
          <p:cNvSpPr/>
          <p:nvPr/>
        </p:nvSpPr>
        <p:spPr>
          <a:xfrm>
            <a:off x="539640" y="260280"/>
            <a:ext cx="4176720" cy="612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szyszynka2"/>
          <p:cNvPicPr/>
          <p:nvPr/>
        </p:nvPicPr>
        <p:blipFill>
          <a:blip r:embed="rId1"/>
          <a:srcRect l="0" t="4471" r="1464" b="4211"/>
          <a:stretch/>
        </p:blipFill>
        <p:spPr>
          <a:xfrm>
            <a:off x="1258920" y="1413000"/>
            <a:ext cx="6541920" cy="403200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4"/>
          <p:cNvSpPr/>
          <p:nvPr/>
        </p:nvSpPr>
        <p:spPr>
          <a:xfrm>
            <a:off x="5008320" y="5661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i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i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611280" y="162864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akterystyczny, przedstawiony na wykresie, (poprzedni slajd), nocny model uwalniania melatoniny, jest obecny u wszystkich kręgowców – bez względu na zajmowane stanowisko w systematyce świata zwierzęcego, jak i typ lokomotorycznej aktywności (dziennej lub nocnej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tmiczne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2"/>
          <p:cNvSpPr/>
          <p:nvPr/>
        </p:nvSpPr>
        <p:spPr>
          <a:xfrm>
            <a:off x="539640" y="191628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egularne zmiany stężenia melatoniny w krw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które u wszystkich zwierząt, bez względu na rodzaj aktywności (nocnej, dziennej), zawsze podczas dnia jest niskie, a nocą wysokie,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ą chemicznym sygnałem wewnątrz organizmu o zmieniającym się fotoperiodz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tmiczne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2"/>
          <p:cNvSpPr/>
          <p:nvPr/>
        </p:nvSpPr>
        <p:spPr>
          <a:xfrm>
            <a:off x="611280" y="21337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tonina uwalniana do krążenia (rytmicznie), osiąga każdą tkankę, gdyż charakteryzuje się ogromną łatwością penetracji komórki, a jej stężenie wewnątrzkomórkowe jest często większe, niż w płynach ustrojowy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Karasek, 199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3"/>
          <p:cNvSpPr/>
          <p:nvPr/>
        </p:nvSpPr>
        <p:spPr>
          <a:xfrm>
            <a:off x="496080" y="5661000"/>
            <a:ext cx="76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arasek, M. (1996). Melatonina: znaczenie kliniczne i perspektywy zastosow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terapeutycznego. Folia Medica Lodziensia, 23: 145 – 15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ytmiczne uwalnianie melaton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2"/>
          <p:cNvSpPr/>
          <p:nvPr/>
        </p:nvSpPr>
        <p:spPr>
          <a:xfrm>
            <a:off x="468360" y="134136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kołodobowe zmiany tego chemicznego przekaźnika, jakim jest melatonina, synchronizują do zmieniającego się fotoperiodu różne funkcje organizmu, takie j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taboliz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rmoregul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porn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gulacja okołodobowych rytmów wielu hormon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zonowość w aktywności  zwierzą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539640" y="184464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nieważ okołodobowe i roczne zmiany fotoperiodu powtarzają się cyklicznie, są dla wielu gatunków sygnałem zewnętrznym, pozwalającym synchronizować procesy zachodzące w organizmie z warunkami otocz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zwala to zwierzętom na fizjologiczne dostosowanie się do snu zimowego, estywacji, przebiegu rui i w odpowiednim czasie – przyjścia na świat potomstwa, np. na wiosn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miana ekspozycji na świat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rostokąt 2"/>
          <p:cNvSpPr/>
          <p:nvPr/>
        </p:nvSpPr>
        <p:spPr>
          <a:xfrm>
            <a:off x="395280" y="155736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kspozycja danego osobnika na światło w nocy powoduje przesunięcia faz rytmu wydzielania melatoniny, nie wpływając jednocześnie na długość cyk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opień przesunięcia faz zależy przede wszystkim od czasu trwania bodźca świetlnego, a także od jego natężenia oraz wrażliwości tkankowej, gatunkowej i osobnicz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rostokąt 3"/>
          <p:cNvSpPr/>
          <p:nvPr/>
        </p:nvSpPr>
        <p:spPr>
          <a:xfrm>
            <a:off x="611280" y="580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academia.pan.pl/pdf/czas_str.%2024-27_nowak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burzony zegar biologi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cf.ltkcdn.net/sleep/images/std/120636-425x282-Manwithglobesleeping.jpg"/>
          <p:cNvPicPr/>
          <p:nvPr/>
        </p:nvPicPr>
        <p:blipFill>
          <a:blip r:embed="rId1"/>
          <a:stretch/>
        </p:blipFill>
        <p:spPr>
          <a:xfrm>
            <a:off x="539640" y="3164040"/>
            <a:ext cx="3873600" cy="2571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s://encrypted-tbn0.gstatic.com/images?q=tbn:ANd9GcTdIAyCFasi1xN7HF-HbS_RMqTzW2xJcPlXHiDFGYH9JuMurAd-"/>
          <p:cNvPicPr/>
          <p:nvPr/>
        </p:nvPicPr>
        <p:blipFill>
          <a:blip r:embed="rId2"/>
          <a:stretch/>
        </p:blipFill>
        <p:spPr>
          <a:xfrm>
            <a:off x="7308720" y="3429000"/>
            <a:ext cx="1052640" cy="1816200"/>
          </a:xfrm>
          <a:prstGeom prst="rect">
            <a:avLst/>
          </a:prstGeom>
          <a:ln w="0">
            <a:noFill/>
          </a:ln>
        </p:spPr>
      </p:pic>
      <p:sp>
        <p:nvSpPr>
          <p:cNvPr id="167" name="Prostokąt 4"/>
          <p:cNvSpPr/>
          <p:nvPr/>
        </p:nvSpPr>
        <p:spPr>
          <a:xfrm>
            <a:off x="611280" y="580536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70c0"/>
                </a:solidFill>
                <a:latin typeface="Calibri"/>
              </a:rPr>
              <a:t>http://images.sciencedaily.com/2010/11/101124171538-large.jpg</a:t>
            </a:r>
            <a:br>
              <a:rPr sz="1600"/>
            </a:br>
            <a:r>
              <a:rPr b="0" lang="pl-PL" sz="1600" spc="-1" strike="noStrike">
                <a:solidFill>
                  <a:srgbClr val="0070c0"/>
                </a:solidFill>
                <a:latin typeface="Calibri"/>
              </a:rPr>
              <a:t>http://images.smh.com.au/2011/03/23/2247803/art_Sleeping-Airport-420x0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6" descr="https://encrypted-tbn3.gstatic.com/images?q=tbn:ANd9GcS_IAglgvWWHyeJWNcYFru1wOVNr9b6FABaT8eqF3ZReD8kDS2a"/>
          <p:cNvPicPr/>
          <p:nvPr/>
        </p:nvPicPr>
        <p:blipFill>
          <a:blip r:embed="rId3"/>
          <a:stretch/>
        </p:blipFill>
        <p:spPr>
          <a:xfrm>
            <a:off x="4716360" y="3200400"/>
            <a:ext cx="2106720" cy="2530440"/>
          </a:xfrm>
          <a:prstGeom prst="rect">
            <a:avLst/>
          </a:prstGeom>
          <a:ln w="0">
            <a:noFill/>
          </a:ln>
        </p:spPr>
      </p:pic>
      <p:sp>
        <p:nvSpPr>
          <p:cNvPr id="169" name="pole tekstowe 7"/>
          <p:cNvSpPr/>
          <p:nvPr/>
        </p:nvSpPr>
        <p:spPr>
          <a:xfrm>
            <a:off x="468360" y="1341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burzenie to dotyczy zdrowych osób i jest wynikiem szybkich zmian stref czasowych, przy podróżowaniu samolotem. Również towarzyszy osobom, pracującym w systemie zmian (np. tydzień noc/drugi tydzień dzień i tak naprzemienn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bkie przemieszczanie się 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endogenne ryt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https://encrypted-tbn3.gstatic.com/images?q=tbn:ANd9GcSHZ3RXVbB1UJ-t8ez3bAiQ2u6b8UwXWrHvnzpavEBnTX_E3_lKdQ"/>
          <p:cNvPicPr/>
          <p:nvPr/>
        </p:nvPicPr>
        <p:blipFill>
          <a:blip r:embed="rId1"/>
          <a:stretch/>
        </p:blipFill>
        <p:spPr>
          <a:xfrm>
            <a:off x="1979640" y="2060640"/>
            <a:ext cx="4803840" cy="3024000"/>
          </a:xfrm>
          <a:prstGeom prst="rect">
            <a:avLst/>
          </a:prstGeom>
          <a:ln w="0">
            <a:noFill/>
          </a:ln>
        </p:spPr>
      </p:pic>
      <p:sp>
        <p:nvSpPr>
          <p:cNvPr id="172" name="Prostokąt 7"/>
          <p:cNvSpPr/>
          <p:nvPr/>
        </p:nvSpPr>
        <p:spPr>
          <a:xfrm>
            <a:off x="468360" y="566100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70c0"/>
                </a:solidFill>
                <a:latin typeface="Calibri"/>
              </a:rPr>
              <a:t>http://www.transamericaviajes.com/admin/imgnot/noticia_163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Starożytni anatomowie przypisywali jej wiele ról, miedzy innymi kontrolera elementów duchowych, przepływających przez komory mózg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Arial"/>
              </a:rPr>
              <a:t>Rene Descartes uważał, że przez szyszynkę przemawia ludzka dus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et lag syndr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dougbelshaw.com/blog/wp-content/uploads/2010/01/jet_lag.jpg"/>
          <p:cNvPicPr/>
          <p:nvPr/>
        </p:nvPicPr>
        <p:blipFill>
          <a:blip r:embed="rId1"/>
          <a:stretch/>
        </p:blipFill>
        <p:spPr>
          <a:xfrm>
            <a:off x="684360" y="1341360"/>
            <a:ext cx="5688000" cy="495612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6516720" y="5013360"/>
            <a:ext cx="241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44583"/>
                </a:solidFill>
                <a:latin typeface="Calibri"/>
              </a:rPr>
              <a:t>http://dougbelshaw.com/blog/wp-content/uploads/2010/01/jet_lag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osynteza melatoniny (*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"/>
          <p:cNvSpPr/>
          <p:nvPr/>
        </p:nvSpPr>
        <p:spPr>
          <a:xfrm>
            <a:off x="395280" y="1773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osynteza tej aminy indolowej rozpoczyna się   przemianą tryptofanu, aminokwasu pochodzącego z krwi, do 5 – hydroksytryptofa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stępnym etapem jest dekarboksylacja 5-hydroksytryptofanu  do serotoniny, w obecności enzymu (dekarboksylazy 5-hydroksytryptofanu)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ktywowana głównie dobowymi zmianami natężenia światł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toniny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http://www.phmd.pl/images/ryciny/20100119121735.jpg"/>
          <p:cNvPicPr/>
          <p:nvPr/>
        </p:nvPicPr>
        <p:blipFill>
          <a:blip r:embed="rId1"/>
          <a:srcRect l="0" t="0" r="0" b="62824"/>
          <a:stretch/>
        </p:blipFill>
        <p:spPr>
          <a:xfrm>
            <a:off x="324000" y="1413000"/>
            <a:ext cx="6769080" cy="4706640"/>
          </a:xfrm>
          <a:prstGeom prst="rect">
            <a:avLst/>
          </a:prstGeom>
          <a:ln w="0">
            <a:noFill/>
          </a:ln>
        </p:spPr>
      </p:pic>
      <p:sp>
        <p:nvSpPr>
          <p:cNvPr id="180" name="Prostokąt 4"/>
          <p:cNvSpPr/>
          <p:nvPr/>
        </p:nvSpPr>
        <p:spPr>
          <a:xfrm>
            <a:off x="1403280" y="1773360"/>
            <a:ext cx="1513080" cy="43164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Łącznik prosty 8"/>
          <p:cNvSpPr/>
          <p:nvPr/>
        </p:nvSpPr>
        <p:spPr>
          <a:xfrm flipV="1">
            <a:off x="2124000" y="1341000"/>
            <a:ext cx="0" cy="3589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załka w prawo 9"/>
          <p:cNvSpPr/>
          <p:nvPr/>
        </p:nvSpPr>
        <p:spPr>
          <a:xfrm>
            <a:off x="2124000" y="1341360"/>
            <a:ext cx="2879640" cy="71640"/>
          </a:xfrm>
          <a:prstGeom prst="rightArrow">
            <a:avLst>
              <a:gd name="adj1" fmla="val 50000"/>
              <a:gd name="adj2" fmla="val 49873"/>
            </a:avLst>
          </a:prstGeom>
          <a:solidFill>
            <a:srgbClr val="fe8637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10"/>
          <p:cNvSpPr/>
          <p:nvPr/>
        </p:nvSpPr>
        <p:spPr>
          <a:xfrm>
            <a:off x="5019120" y="1197000"/>
            <a:ext cx="37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latonina pows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 przekształco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zymatyczn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minokwasu tryptofa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toniny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http://www.phmd.pl/images/ryciny/20100119121735.jpg"/>
          <p:cNvPicPr/>
          <p:nvPr/>
        </p:nvPicPr>
        <p:blipFill>
          <a:blip r:embed="rId1"/>
          <a:srcRect l="0" t="22076" r="0" b="40748"/>
          <a:stretch/>
        </p:blipFill>
        <p:spPr>
          <a:xfrm>
            <a:off x="611280" y="1773360"/>
            <a:ext cx="5797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ynteza melatoniny (I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phmd.pl/images/ryciny/20100119121735.jpg"/>
          <p:cNvPicPr/>
          <p:nvPr/>
        </p:nvPicPr>
        <p:blipFill>
          <a:blip r:embed="rId1"/>
          <a:srcRect l="0" t="44148" r="0" b="0"/>
          <a:stretch/>
        </p:blipFill>
        <p:spPr>
          <a:xfrm>
            <a:off x="684360" y="1341360"/>
            <a:ext cx="4824360" cy="5040360"/>
          </a:xfrm>
          <a:prstGeom prst="rect">
            <a:avLst/>
          </a:prstGeom>
          <a:ln w="0">
            <a:noFill/>
          </a:ln>
        </p:spPr>
      </p:pic>
      <p:sp>
        <p:nvSpPr>
          <p:cNvPr id="188" name="Prostokąt 3"/>
          <p:cNvSpPr/>
          <p:nvPr/>
        </p:nvSpPr>
        <p:spPr>
          <a:xfrm>
            <a:off x="684360" y="5229360"/>
            <a:ext cx="4032000" cy="12240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zwa gruczołu: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laczego szyszyn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prowadzane sekcje mózgu (zwierząt i ludzi), wykonywane np. przez greckiego lekarza, Klaudiusza Galena (130 – 200 r. n.e.), dostarczały materiału, który po raz pierwszy był opisywa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000" y="1557360"/>
            <a:ext cx="80391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e względu na charakterystyczny w u niektórych kręgowców kształt, przypominający szyszkę sosnową, został ten gruczoł przez Galena nazwany szyszynką (ang. pinea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5"/>
          <p:cNvSpPr/>
          <p:nvPr/>
        </p:nvSpPr>
        <p:spPr>
          <a:xfrm>
            <a:off x="553320" y="4508640"/>
            <a:ext cx="4571280" cy="825480"/>
          </a:xfrm>
          <a:prstGeom prst="rect">
            <a:avLst/>
          </a:prstGeom>
          <a:noFill/>
          <a:ln w="38160">
            <a:solidFill>
              <a:srgbClr val="862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n maleńki gruczoł (szyszyn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ylko kształtem przypomina szyszk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załka w prawo 6"/>
          <p:cNvSpPr/>
          <p:nvPr/>
        </p:nvSpPr>
        <p:spPr>
          <a:xfrm>
            <a:off x="5292720" y="4797360"/>
            <a:ext cx="977760" cy="216000"/>
          </a:xfrm>
          <a:prstGeom prst="rightArrow">
            <a:avLst>
              <a:gd name="adj1" fmla="val 50000"/>
              <a:gd name="adj2" fmla="val 49961"/>
            </a:avLst>
          </a:prstGeom>
          <a:gradFill rotWithShape="0">
            <a:gsLst>
              <a:gs pos="0">
                <a:srgbClr val="961100"/>
              </a:gs>
              <a:gs pos="100000">
                <a:srgbClr val="c91700"/>
              </a:gs>
            </a:gsLst>
            <a:lin ang="16200000"/>
          </a:gradFill>
          <a:ln w="9360">
            <a:solidFill>
              <a:srgbClr val="b3281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upa 7"/>
          <p:cNvGrpSpPr/>
          <p:nvPr/>
        </p:nvGrpSpPr>
        <p:grpSpPr>
          <a:xfrm>
            <a:off x="6443640" y="3970440"/>
            <a:ext cx="1763640" cy="1979640"/>
            <a:chOff x="6443640" y="3970440"/>
            <a:chExt cx="1763640" cy="1979640"/>
          </a:xfrm>
        </p:grpSpPr>
        <p:pic>
          <p:nvPicPr>
            <p:cNvPr id="106" name="Picture 4" descr="https://encrypted-tbn3.gstatic.com/images?q=tbn:ANd9GcQ93jS1RvTrbTnVwxJ0rCMdV8KQebvv4fBBvNOqZH7zDyUZRIoRDg"/>
            <p:cNvPicPr/>
            <p:nvPr/>
          </p:nvPicPr>
          <p:blipFill>
            <a:blip r:embed="rId1"/>
            <a:stretch/>
          </p:blipFill>
          <p:spPr>
            <a:xfrm>
              <a:off x="6443640" y="3970440"/>
              <a:ext cx="1763640" cy="1979640"/>
            </a:xfrm>
            <a:prstGeom prst="rect">
              <a:avLst/>
            </a:prstGeom>
            <a:ln w="57240">
              <a:solidFill>
                <a:srgbClr val="862110"/>
              </a:solidFill>
              <a:miter/>
            </a:ln>
          </p:spPr>
        </p:pic>
        <p:pic>
          <p:nvPicPr>
            <p:cNvPr id="107" name="Picture 6" descr="http://images42.fotosik.pl/765/9dc596d27e31fc83m.jpg"/>
            <p:cNvPicPr/>
            <p:nvPr/>
          </p:nvPicPr>
          <p:blipFill>
            <a:blip r:embed="rId2"/>
            <a:stretch/>
          </p:blipFill>
          <p:spPr>
            <a:xfrm>
              <a:off x="6444000" y="3970800"/>
              <a:ext cx="1743120" cy="194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szyszynka1"/>
          <p:cNvPicPr/>
          <p:nvPr/>
        </p:nvPicPr>
        <p:blipFill>
          <a:blip r:embed="rId1"/>
          <a:srcRect l="0" t="0" r="6028" b="2318"/>
          <a:stretch/>
        </p:blipFill>
        <p:spPr>
          <a:xfrm>
            <a:off x="468360" y="1969920"/>
            <a:ext cx="3325680" cy="41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4284720" y="2133720"/>
            <a:ext cx="44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rtezjańskie „trzecie ok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chodzące z XVII wieku rysunki (Rene Descartes), pokazują dostrzeżoną przez filozofa zależność, między fotoreceptorami (oczy) a tajemniczą wówczas strukturą mózgu (szyszynk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3"/>
          <p:cNvSpPr/>
          <p:nvPr/>
        </p:nvSpPr>
        <p:spPr>
          <a:xfrm>
            <a:off x="250920" y="26028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yszynka przedstawio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kicem Kartezjusza (1596 – 165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ipsa 4"/>
          <p:cNvSpPr/>
          <p:nvPr/>
        </p:nvSpPr>
        <p:spPr>
          <a:xfrm>
            <a:off x="971640" y="2565360"/>
            <a:ext cx="504720" cy="50328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rostokąt 5"/>
          <p:cNvSpPr/>
          <p:nvPr/>
        </p:nvSpPr>
        <p:spPr>
          <a:xfrm>
            <a:off x="395280" y="6165720"/>
            <a:ext cx="85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http://archiwum.wiz.pl/images/duze/1996/09/96091901.G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ierwsze naukowe doniesieni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szyszy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2"/>
          <p:cNvSpPr/>
          <p:nvPr/>
        </p:nvSpPr>
        <p:spPr>
          <a:xfrm>
            <a:off x="684360" y="162864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ierwszymi doniesieniami naukowymi o fizjologicznej roli szyszynki, były wnioski wyciągnięte z obserwacji kliniczny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kazano, że guz na szyszynce u dwóch młodych chłopców, spowodował przyspieszenie ich dojrzewania płciowego (Askanazy, 190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óźniejsze zabiegi pinealektomii (usunięcia operacyjnego szyszynki u szczurów), potwierdziły obserwacje klini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przełomie XIX/XX wieku powstała hipoteza o hamującym wpływie szyszynki na czynności gruczołów płciowych, która była jedynym doniesieniem naukowym o fizjologicznej roli tego narzą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łomowe odkrycie w badaniach nad szyszynk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2"/>
          <p:cNvSpPr/>
          <p:nvPr/>
        </p:nvSpPr>
        <p:spPr>
          <a:xfrm>
            <a:off x="611280" y="1628640"/>
            <a:ext cx="828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kryciem tym było wyodrębnienie z niej substancji, która miała właściwości zmieniania zabarwienia skóry żaby (z ciemnego na jas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wiązek ten został wyizolowany przez Lernera, w 1958 roku, odkrywca nazwał go – melatoniną, ze względu na działanie na komórki barwnikowe skóry (melanocy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Dawid Suder</cp:lastModifiedBy>
  <dcterms:modified xsi:type="dcterms:W3CDTF">2013-09-08T16:07:06Z</dcterms:modified>
  <cp:revision>107</cp:revision>
  <dc:subject/>
  <dc:title>Slajd 1</dc:title>
</cp:coreProperties>
</file>