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0246-9667-42E9-87B0-DC055494E41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7466-8B30-40D4-A1DE-C7092AC9658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2E79-272E-43B6-8D79-86EA30D278E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3C2C-4558-431F-A117-3D84C5CA0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92A6-8FC8-4360-9419-256E183C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13A5-435F-4AE7-9EEF-4109239D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8A4B-B0CF-4465-B5CB-FDBE504DD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F336-D5B7-4991-AE67-28A21DAF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AD08-0E80-46B4-92E5-B5627875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EB6E-7748-42C2-AE30-B451E9B1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2CD2-D681-4C87-A8C9-ACC7D0D3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1DC4-85AD-4799-A4D1-A8084B5F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92FF-3BED-4C35-92A0-52C2D4F0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AC35-8B40-4685-B435-E8191D64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7512-E268-4B44-9754-C26F44F4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6143-EE43-463D-9CC6-2F47F3BB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14E5-E0C7-4EC0-A1A5-16CA42FE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F0C9-0620-499C-8986-2B960BF1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B318-2156-4AC1-BF9C-883111949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6825-EAFB-49B4-B2ED-45F416DA6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3963-0269-4F2E-B589-8C7C9338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A658-A2AC-4E67-9025-CC373157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0FFB-35D7-4507-9DEA-B5D6AD01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7BAE-3A64-4D55-94CD-A0382050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ED05-CFD6-4AD2-877C-69BE31B6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E7C9-9FEB-4E06-9A85-3AA0F3AD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D246-D58D-41AD-867D-364E9F67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E095-9398-4EE6-9CE9-A9550A4F6D54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45" name="Obraz 8" descr="stopka_cz_b_pion.gif"/>
          <p:cNvPicPr/>
          <p:nvPr/>
        </p:nvPicPr>
        <p:blipFill>
          <a:blip r:embed="rId4"/>
          <a:stretch/>
        </p:blipFill>
        <p:spPr>
          <a:xfrm>
            <a:off x="0" y="587700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cz_b_pion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75C7-2DDF-4EA0-829B-F38031F2C403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ole tekstowe 1" descr=""/>
          <p:cNvPicPr/>
          <p:nvPr/>
        </p:nvPicPr>
        <p:blipFill>
          <a:blip r:embed="rId1"/>
          <a:stretch/>
        </p:blipFill>
        <p:spPr>
          <a:xfrm>
            <a:off x="573120" y="2041560"/>
            <a:ext cx="8064360" cy="1103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H:\KPW\20PO\Materiały\Duchenne-FacialExpressions Mix.png"/>
          <p:cNvPicPr/>
          <p:nvPr/>
        </p:nvPicPr>
        <p:blipFill>
          <a:blip r:embed="rId2"/>
          <a:stretch/>
        </p:blipFill>
        <p:spPr>
          <a:xfrm>
            <a:off x="971640" y="3284640"/>
            <a:ext cx="714384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91440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ymbol zastępczy zawartości 2"/>
          <p:cNvSpPr/>
          <p:nvPr/>
        </p:nvSpPr>
        <p:spPr>
          <a:xfrm>
            <a:off x="1042920" y="2349360"/>
            <a:ext cx="69836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odzaje mięśni mimicznych twarz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nerwienie mięśni mimicznych twarz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oksyny a mięśnie mimicz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łowa kluczow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ytuł 1"/>
          <p:cNvSpPr/>
          <p:nvPr/>
        </p:nvSpPr>
        <p:spPr>
          <a:xfrm>
            <a:off x="539640" y="1052640"/>
            <a:ext cx="8218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ymbol zastępczy zawartości 2"/>
          <p:cNvSpPr/>
          <p:nvPr/>
        </p:nvSpPr>
        <p:spPr>
          <a:xfrm>
            <a:off x="3564000" y="1700280"/>
            <a:ext cx="5256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ięśnie mimiczne twarzy odpowiedzialne są za ruch skóry twarz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wraz z narządem mowy odgrywają znaczącą rolę w ekspresji emocji takich, jak śmiech, płacz czy zdziwien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nadto wykonują czynności takie jak: mruganie, ruchy policzków podczas przyjmowania jedzenia, kształtowanie kęsów czy gwizdan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ytuł 1"/>
          <p:cNvSpPr/>
          <p:nvPr/>
        </p:nvSpPr>
        <p:spPr>
          <a:xfrm>
            <a:off x="457200" y="26028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ięśnie mimiczne twarz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H:\KPW\20PO\Materiały\Mięśnie twarzy.png"/>
          <p:cNvPicPr/>
          <p:nvPr/>
        </p:nvPicPr>
        <p:blipFill>
          <a:blip r:embed="rId1"/>
          <a:stretch/>
        </p:blipFill>
        <p:spPr>
          <a:xfrm>
            <a:off x="-396720" y="1844640"/>
            <a:ext cx="46386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ymbol zastępczy zawartości 2"/>
          <p:cNvSpPr/>
          <p:nvPr/>
        </p:nvSpPr>
        <p:spPr>
          <a:xfrm>
            <a:off x="3564000" y="1628640"/>
            <a:ext cx="52560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odzaj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Mięśnie sklepienia czasz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Mięśnie otoczenia szpary powi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Mięśnie otoczenia szpary u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Mięśnie otoczenia nozdrz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Arial"/>
              </a:rPr>
              <a:t>Mięśnie małżowiny uszn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ytuł 1"/>
          <p:cNvSpPr/>
          <p:nvPr/>
        </p:nvSpPr>
        <p:spPr>
          <a:xfrm>
            <a:off x="457200" y="26028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ięśnie mimiczne twarz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H:\KPW\20PO\Materiały\Mięśnie twarzy.png"/>
          <p:cNvPicPr/>
          <p:nvPr/>
        </p:nvPicPr>
        <p:blipFill>
          <a:blip r:embed="rId1"/>
          <a:stretch/>
        </p:blipFill>
        <p:spPr>
          <a:xfrm>
            <a:off x="-396720" y="1844640"/>
            <a:ext cx="4638600" cy="3456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H:\KPW\20PO\Materiały\M Sklepienia czaszki.png"/>
          <p:cNvPicPr/>
          <p:nvPr/>
        </p:nvPicPr>
        <p:blipFill>
          <a:blip r:embed="rId2"/>
          <a:stretch/>
        </p:blipFill>
        <p:spPr>
          <a:xfrm>
            <a:off x="-396720" y="1836720"/>
            <a:ext cx="4608360" cy="3433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H:\KPW\20PO\Materiały\M Szpary powiek.png"/>
          <p:cNvPicPr/>
          <p:nvPr/>
        </p:nvPicPr>
        <p:blipFill>
          <a:blip r:embed="rId3"/>
          <a:stretch/>
        </p:blipFill>
        <p:spPr>
          <a:xfrm>
            <a:off x="-396720" y="1857240"/>
            <a:ext cx="4608360" cy="3435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H:\KPW\20PO\Materiały\M otoczenia szpary ust.png"/>
          <p:cNvPicPr/>
          <p:nvPr/>
        </p:nvPicPr>
        <p:blipFill>
          <a:blip r:embed="rId4"/>
          <a:stretch/>
        </p:blipFill>
        <p:spPr>
          <a:xfrm>
            <a:off x="-387360" y="1857240"/>
            <a:ext cx="4608360" cy="3435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H:\KPW\20PO\Materiały\M otoczenia nozdrzy.png"/>
          <p:cNvPicPr/>
          <p:nvPr/>
        </p:nvPicPr>
        <p:blipFill>
          <a:blip r:embed="rId5"/>
          <a:stretch/>
        </p:blipFill>
        <p:spPr>
          <a:xfrm>
            <a:off x="-374760" y="1851120"/>
            <a:ext cx="4608720" cy="3433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H:\KPW\20PO\Materiały\M Małżowiny usznej.png"/>
          <p:cNvPicPr/>
          <p:nvPr/>
        </p:nvPicPr>
        <p:blipFill>
          <a:blip r:embed="rId6"/>
          <a:stretch/>
        </p:blipFill>
        <p:spPr>
          <a:xfrm>
            <a:off x="-396720" y="1849320"/>
            <a:ext cx="460836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5" dur="indefinite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5" dur="indefinite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6" dur="indefinite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4" dur="indefinite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5" dur="indefinite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6" dur="indefinite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5" dur="indefinite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6" dur="indefinite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indefinite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5" dur="indefinite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" dur="indefinite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ymbol zastępczy zawartości 2"/>
          <p:cNvSpPr/>
          <p:nvPr/>
        </p:nvSpPr>
        <p:spPr>
          <a:xfrm>
            <a:off x="3564000" y="1700280"/>
            <a:ext cx="5256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erw sterujący mięśniami mimicznymi twarzy nazywa się nerwem twarzowy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wyniku różnych chorób lub urazów, może dojść do porażenia nerwu twarzow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bjawem porażenia nerwu jest bezwład wybranej partii mięśni twarzowyc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ytuł 1"/>
          <p:cNvSpPr/>
          <p:nvPr/>
        </p:nvSpPr>
        <p:spPr>
          <a:xfrm>
            <a:off x="457200" y="26028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ięśnie mimiczne twarz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File:Cranial nerve VII.svg"/>
          <p:cNvPicPr/>
          <p:nvPr/>
        </p:nvPicPr>
        <p:blipFill>
          <a:blip r:embed="rId1"/>
          <a:stretch/>
        </p:blipFill>
        <p:spPr>
          <a:xfrm>
            <a:off x="250920" y="1844640"/>
            <a:ext cx="29271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ymbol zastępczy zawartości 2"/>
          <p:cNvSpPr/>
          <p:nvPr/>
        </p:nvSpPr>
        <p:spPr>
          <a:xfrm>
            <a:off x="900000" y="2901960"/>
            <a:ext cx="748836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Toksyna botulinowa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lub inaczej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jad kiełbasiany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) jest neurotoksyną i jedną z najbardziej trujących toksy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Jest produkowana przez beztlenowe bakterie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lostridium botulinum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i może naturalnie występować w niewłaściwie przechowywanej żywnoś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trucie nią prowadzi do porażenia różnych grup mięśni,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 w konsekwencji może doprowadzić do śmier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ytuł 1"/>
          <p:cNvSpPr/>
          <p:nvPr/>
        </p:nvSpPr>
        <p:spPr>
          <a:xfrm>
            <a:off x="468360" y="26028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oksyna botulin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D:\KPW\20PO\Materiały\toxic.png"/>
          <p:cNvPicPr/>
          <p:nvPr/>
        </p:nvPicPr>
        <p:blipFill>
          <a:blip r:embed="rId1"/>
          <a:stretch/>
        </p:blipFill>
        <p:spPr>
          <a:xfrm>
            <a:off x="3691080" y="1197000"/>
            <a:ext cx="13856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D:\KPW\20PO\Materiały\green-drugs-biohazard-chemical-poison-syringe-HD-Wallpapers.jpg"/>
          <p:cNvPicPr/>
          <p:nvPr/>
        </p:nvPicPr>
        <p:blipFill>
          <a:blip r:embed="rId1"/>
          <a:srcRect l="0" t="17181" r="5382" b="29992"/>
          <a:stretch/>
        </p:blipFill>
        <p:spPr>
          <a:xfrm>
            <a:off x="0" y="1341360"/>
            <a:ext cx="4716360" cy="1481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D:\KPW\20PO\Materiały\botox.gif"/>
          <p:cNvPicPr/>
          <p:nvPr/>
        </p:nvPicPr>
        <p:blipFill>
          <a:blip r:embed="rId2"/>
          <a:stretch/>
        </p:blipFill>
        <p:spPr>
          <a:xfrm>
            <a:off x="6630840" y="4437000"/>
            <a:ext cx="1254240" cy="1671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D:\KPW\20PO\Materiały\Dysport.jpg"/>
          <p:cNvPicPr/>
          <p:nvPr/>
        </p:nvPicPr>
        <p:blipFill>
          <a:blip r:embed="rId3"/>
          <a:stretch/>
        </p:blipFill>
        <p:spPr>
          <a:xfrm>
            <a:off x="7740720" y="4438800"/>
            <a:ext cx="647640" cy="1590480"/>
          </a:xfrm>
          <a:prstGeom prst="rect">
            <a:avLst/>
          </a:prstGeom>
          <a:ln w="0">
            <a:noFill/>
          </a:ln>
        </p:spPr>
      </p:pic>
      <p:sp>
        <p:nvSpPr>
          <p:cNvPr id="119" name="Symbol zastępczy zawartości 2"/>
          <p:cNvSpPr/>
          <p:nvPr/>
        </p:nvSpPr>
        <p:spPr>
          <a:xfrm>
            <a:off x="468360" y="2924280"/>
            <a:ext cx="67896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ykładowe zastosowanie toksyny botulinowej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leczenie kurczów mięś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leczenie ze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leczenie nadmiernego łzawienia lub poce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medycynie estetyczn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ziałanie toksyny botulinowej ma charakter  tymczasowy (ok. 3 - 6 miesięc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ytuł 1"/>
          <p:cNvSpPr/>
          <p:nvPr/>
        </p:nvSpPr>
        <p:spPr>
          <a:xfrm>
            <a:off x="468360" y="260280"/>
            <a:ext cx="82184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oksyna botulinowa</a:t>
            </a:r>
            <a:br>
              <a:rPr sz="44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stosowa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łowa klucz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ymbol zastępczy zawartości 2"/>
          <p:cNvSpPr/>
          <p:nvPr/>
        </p:nvSpPr>
        <p:spPr>
          <a:xfrm>
            <a:off x="2268360" y="1700280"/>
            <a:ext cx="561672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ięśnie mimiczne twarz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rażenie nerwu twarzow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oksyna botulinow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ad kiełbasi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H:\KPW\20PO\Materiały\Funny man.png"/>
          <p:cNvPicPr/>
          <p:nvPr/>
        </p:nvPicPr>
        <p:blipFill>
          <a:blip r:embed="rId1"/>
          <a:stretch/>
        </p:blipFill>
        <p:spPr>
          <a:xfrm>
            <a:off x="539640" y="2206800"/>
            <a:ext cx="280836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ymbol zastępczy zawartości 2"/>
          <p:cNvSpPr/>
          <p:nvPr/>
        </p:nvSpPr>
        <p:spPr>
          <a:xfrm>
            <a:off x="428760" y="1305000"/>
            <a:ext cx="82184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natomia człowieka”, Tom I,  A, Bochenek, M. Reicher, Państwowy Zakład Wydawnictw Lekarskich, Warszawa 1989, Wydanie X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écanisme de la Physionomie Humain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”, Guillaume Duchenne,  Cambrige University Press, 199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agazyn Lekarza Okulisty”, Wydawnictwo BiOS, Numer (2)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www.nerwtwarzowy.republika.p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s://commons.wikimedia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16:24:23Z</dcterms:created>
  <dc:creator>Iwona</dc:creator>
  <dc:description/>
  <dc:language>en-US</dc:language>
  <cp:lastModifiedBy>AiG</cp:lastModifiedBy>
  <dcterms:modified xsi:type="dcterms:W3CDTF">2013-08-17T15:23:06Z</dcterms:modified>
  <cp:revision>138</cp:revision>
  <dc:subject>szablon prezentacji KPW</dc:subject>
  <dc:title>Zrównoważony rozwój</dc:title>
</cp:coreProperties>
</file>